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6EB-28A4-4A0F-9BCB-A2FF4014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69D-428D-49EC-B6AA-B9A22D1F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F0B-0047-4D67-9C14-4585C611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C96-14D9-4210-8FBA-F1A04BC8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17E-622B-484A-9048-B90D3469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638-BB86-4D89-B375-F5C6097E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C76-3D50-46C9-8F08-B06283A3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A0B-7E68-4BC9-9D3A-28C6F7B6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35280" y="274320"/>
            <a:ext cx="685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291-FBA8-4F7C-84FA-ECB49AC8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4CC-A7C6-41C2-856D-EAFFBB6E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BA9-64A1-4B36-8B18-20357034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173-D774-4624-85C3-77EDB4DD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F9CD-6EFC-41C4-B97F-C8AE628E047F}" type="datetime">
              <a:rPr b="0" lang="en-GB" sz="1400" spc="-1" strike="noStrike">
                <a:solidFill>
                  <a:srgbClr val="333399"/>
                </a:solidFill>
                <a:latin typeface="Arial"/>
              </a:rPr>
              <a:t>29/07/26</a:t>
            </a:fld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</a:t>
            </a:r>
            <a:fld id="{C5D7F124-AD41-4C09-8A3A-0946C6C80F20}" type="datetime10">
              <a:rPr b="0" lang="en-GB" sz="1400" spc="-1" strike="noStrike">
                <a:solidFill>
                  <a:srgbClr val="333399"/>
                </a:solidFill>
                <a:latin typeface="Arial"/>
              </a:rPr>
              <a:t>08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8D60-311B-4F8B-B656-28D25D3278D2}" type="slidenum">
              <a:rPr b="0" lang="it-IT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www.jedit.org/" TargetMode="External"/><Relationship Id="rId3" Type="http://schemas.openxmlformats.org/officeDocument/2006/relationships/hyperlink" Target="http://www.eclipse.org/" TargetMode="External"/><Relationship Id="rId4" Type="http://schemas.openxmlformats.org/officeDocument/2006/relationships/hyperlink" Target="http://www.mindview.net/Books/TIJ" TargetMode="External"/><Relationship Id="rId5" Type="http://schemas.openxmlformats.org/officeDocument/2006/relationships/hyperlink" Target="http://www.cs.princeton.edu/introcs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50920" y="0"/>
          <a:ext cx="5143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143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Arial"/>
              </a:rPr>
              <a:t>Java Refresh Exercis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Object Oriented Programming with Java: an introduction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Raffaele Montella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University of Naples “Parthenope”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ook at the Cod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Each statement line ends with a semicolon ; as in C/C++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Each code block is inside curly brackets {,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Variables defined inside a code block are local to i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Java is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not positional</a:t>
            </a: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carrige return and space sequences outside quotes are ignored: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class HelloWorld { public static void main(String[] args) { System.out.println(“Hello World!”);}}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is a correct code, but very hard to be managed by humans!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28640"/>
            <a:ext cx="457200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24720" y="2708280"/>
            <a:ext cx="61128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05000"/>
            <a:ext cx="457200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6000" y="1844640"/>
            <a:ext cx="50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213000"/>
            <a:ext cx="50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1D2-39FA-4EFD-8027-F767D5E2BD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87579-393D-441A-B076-5B574F4D2D60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m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C++ style comment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this is a single line slash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slash C++ style commen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C style comment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* this are few comment lines in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a C style fashion */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Javadoc auto documentation comments</a:t>
            </a:r>
            <a:br>
              <a:rPr sz="1600"/>
            </a:br>
            <a:br>
              <a:rPr sz="16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**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* @params args Command Line Arguments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**/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	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ore information about Javadoc later in this lesso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28640"/>
            <a:ext cx="457200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932000" y="1125360"/>
            <a:ext cx="43164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C43-A536-4280-B55C-28852D5ADE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55965-5AE0-43CB-926E-BB38163CE145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ackages and Namespa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classes definitions are grouped into namespaced packages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Packages stored in compressed zip or jar (Java ARchive) files must be specified in the CLASSPATH environment variable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Namespaces are used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o avoid omonimous class ambiguity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o produce better cod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1" lang="it-IT" sz="2000" spc="-1" strike="noStrike">
                <a:solidFill>
                  <a:srgbClr val="0000cc"/>
                </a:solidFill>
                <a:latin typeface="Courier New"/>
              </a:rPr>
              <a:t>import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statement imports a package namespace: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// Imports all namespaces in java.io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// Imports the specified namespace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import java.io.InputStreamReader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357-D9B7-4846-95B4-316003B419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E6899-B647-4C35-9C29-13768717CA90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imitive Typ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 Java primitive types are similar to their C counterparts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int num1=0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float num2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num2=5.3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double num3=10.0;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boolean condition=true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 variable can b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clared and assigned a value in two different steps…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or in one statement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ny variable specified as </a:t>
            </a:r>
            <a:r>
              <a:rPr b="1" lang="it-IT" sz="2000" spc="-1" strike="noStrike">
                <a:solidFill>
                  <a:srgbClr val="0000cc"/>
                </a:solidFill>
                <a:latin typeface="Courier New"/>
              </a:rPr>
              <a:t>final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is considered as a constant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final double pi=3.1415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829-7AC6-411F-B077-73F8C2842F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B3F8A-A867-45C5-AD62-ADFA97413C36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1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Type, compile and run the HelloWorld.java program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1E5-A026-4CC9-8256-3B5BC85BDA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E6FB4-D503-4F90-9995-5F63A064E072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1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File: HelloWorld.jav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HelloWorld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“Hello World!”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EF4-E0AA-4D6C-B023-BA5CDE737A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FE984-E3A6-4E3A-82DB-DBFF99327674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Defining a Clas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skeleton of a Java program is the class definit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One file can contain more than one class definit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Only </a:t>
            </a: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ne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ublic class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can be defined for each .java fil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Nested classes are allowed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 class can extends another one by inheritanc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57360"/>
            <a:ext cx="4500720" cy="79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866920" y="1484280"/>
            <a:ext cx="36036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628640"/>
            <a:ext cx="4464000" cy="44830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File HelloWorld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demo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lass B extend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lass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565360"/>
            <a:ext cx="4500720" cy="7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219280" y="2565360"/>
            <a:ext cx="289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292360" y="3429000"/>
            <a:ext cx="289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012000" y="4149720"/>
            <a:ext cx="28872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5363640" y="4508640"/>
            <a:ext cx="289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573360"/>
            <a:ext cx="450072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81360"/>
            <a:ext cx="4500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373720"/>
            <a:ext cx="4500720" cy="719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2708280"/>
            <a:ext cx="36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9F2-0A28-4232-BF84-4323786CE6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C0014-C4FD-4ED8-9000-38E91956E5C6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 class represents an abstract data typ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 class is an object generalizat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n object is an instance of a specific clas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2800"/>
            </a:b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myComputingMachine object is an instance of the ComputingMachine class of object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class is the ‘idea’, the general model, of an objec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5C1-7979-4232-B835-D4BDF35D42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BEFC1-F85A-4513-9ADE-523ABEA2D359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bjec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 object stores some data (its state);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rovides methods to access and manipulate that data (its behavior);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Represents an individual unit (its identity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 example: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computing machine object…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8E9-269C-46FA-9905-EE5E5D12AB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8CC18-6342-4B0A-A9B4-5A2C10B5EB3A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6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The ComputingMachine Objec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state of a computing machine might be characterized by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type of CPU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number of CPU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speed of each CPU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e can communicate with the computing machine and do something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e can identify a computing machine by its fully qualified domain name or IP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2A8-EC0D-4ACA-9B47-CAB772836A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677BA-C0A8-4CC4-9FF4-EE0A245F837F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troduction to Java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HelloWorld program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ode featur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omment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Packages and Namespac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OOP Basics: Classes, Objects, Methods and Attribut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Primitive and Class Typ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Loops and Condition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Exception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put / Outpu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cumentatio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D57-FFD1-4226-B57B-FD97E17D12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4F92C-FE15-4009-A679-B87F53A3D410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The Computing Machine Cla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Coding the ComputingMachine class in Java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File: ComputingMachine.java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Using the ComputingMachine class in Java:</a:t>
            </a:r>
            <a:br>
              <a:rPr sz="1800"/>
            </a:br>
            <a:br>
              <a:rPr sz="18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mputingMachine myCM=new ComputingMachine()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myCM.fqdn=“193.205.230.114”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double myResult = myCM.doSomething(14.5f, 40.85f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2565360"/>
            <a:ext cx="1511280" cy="719280"/>
          </a:xfrm>
          <a:prstGeom prst="wedgeRectCallout">
            <a:avLst>
              <a:gd name="adj1" fmla="val -71430"/>
              <a:gd name="adj2" fmla="val -65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ass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276640"/>
            <a:ext cx="4753080" cy="1223640"/>
          </a:xfrm>
          <a:prstGeom prst="wedgeRectCallout">
            <a:avLst>
              <a:gd name="adj1" fmla="val -57046"/>
              <a:gd name="adj2" fmla="val -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utingMachine class is public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mplemented in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utingMachine.j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2637000"/>
            <a:ext cx="2521080" cy="649080"/>
          </a:xfrm>
          <a:prstGeom prst="wedgeRectCallout">
            <a:avLst>
              <a:gd name="adj1" fmla="val -85328"/>
              <a:gd name="adj2" fmla="val -5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4221000"/>
            <a:ext cx="2520720" cy="609840"/>
          </a:xfrm>
          <a:prstGeom prst="wedgeRectCallout">
            <a:avLst>
              <a:gd name="adj1" fmla="val -67004"/>
              <a:gd name="adj2" fmla="val -1403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BCC-3E9C-40D3-BF84-5A9BC918E7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C945E-E23B-4AC9-AE28-27E1B7522E68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OOP Basics: </a:t>
            </a:r>
            <a:br>
              <a:rPr sz="3600"/>
            </a:b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Access Specifi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ttributes and methods can be declared with the following access specifier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ccessible  both inside and outside the clas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ccessible only inside the clas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: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ccessible inside the class and inside derived classes, but not outsi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192-6E3B-405F-89E6-DD925BF209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534D2-678D-47F6-92DA-C07E85F5DA1E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Attribut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stores the object stat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both primitive and abstract data typ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defined as static</a:t>
            </a:r>
            <a:br>
              <a:rPr sz="2400"/>
            </a:b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(shared between all object instances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class ComputingMachine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rivate float cpuLoad;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atic int count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84360" y="1916280"/>
            <a:ext cx="1295640" cy="43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4076640"/>
            <a:ext cx="2879640" cy="64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7800" y="1916280"/>
            <a:ext cx="2735280" cy="43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3645000"/>
            <a:ext cx="2879640" cy="43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2349360"/>
            <a:ext cx="863640" cy="35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4724280"/>
            <a:ext cx="302436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8BA-7420-488A-8893-FC361F55BCE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8785D-3916-4201-90E7-4AE3300E6F45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OOP Basics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Method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re functions acting on the object behaviour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qualified as public, private and protected like attribut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can be defined as static</a:t>
            </a:r>
            <a:br>
              <a:rPr sz="2400"/>
            </a:b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(allowing the invocation by statically used objects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class ComputingMachine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return result;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rivate void updateCPULoad() {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...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92360" y="1989000"/>
            <a:ext cx="86364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68360" y="4581360"/>
            <a:ext cx="3585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7640" y="1989000"/>
            <a:ext cx="1008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68360" y="5300640"/>
            <a:ext cx="36036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0FE-4E9B-4AC3-B06A-0DA90631FB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C0859-A7FB-420A-8634-A05EBF787D39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Constructo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s a special method invoked when the object is instanced using the </a:t>
            </a:r>
            <a:r>
              <a:rPr b="1" lang="it-IT" sz="2000" spc="-1" strike="noStrike">
                <a:solidFill>
                  <a:srgbClr val="0000cc"/>
                </a:solidFill>
                <a:latin typeface="Courier New"/>
              </a:rPr>
              <a:t>new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opera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name of the constructor must be the same of the clas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 java there is no destructor counterpart as in C++</a:t>
            </a:r>
            <a:br>
              <a:rPr sz="2000"/>
            </a:b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(except the finalize method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lass ComputingMachine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mputingMachine()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qdn=“0.0.0.0”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pyType=“Unknown”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puSpeed=0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puCount=0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95280" y="2133720"/>
            <a:ext cx="734544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68360" y="349992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339640" y="4149720"/>
            <a:ext cx="36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9470-3950-4830-9DA2-09B26D90D7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78477-AE94-4F55-BA1C-8D86CFE02895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Main Method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s the entry point for a Java progra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terfaces the program with the command line shell throw parameters and returned value </a:t>
            </a:r>
            <a:br>
              <a:rPr sz="1800"/>
            </a:b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(using System.exit(..)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ny public class can have one main method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he main method MUST be defined as public AND static so the JVM can execute it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For class testing purposes I suggest to write a main method for each class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80000" y="1628640"/>
            <a:ext cx="4464000" cy="20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// A very simple HelloWorld Java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class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System.out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28640"/>
            <a:ext cx="457200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2708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133720"/>
            <a:ext cx="4572000" cy="100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244000" y="2060640"/>
            <a:ext cx="57600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57720"/>
            <a:ext cx="4572000" cy="50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1341360"/>
            <a:ext cx="28872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093080" y="1773360"/>
            <a:ext cx="28728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005360"/>
            <a:ext cx="4572000" cy="93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292720" y="278100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198900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DF0-F7FE-40B4-9022-1130AA5225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8DFA4-020A-4BCC-8A20-02FBD9E70734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lass Typ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re considered as reference to object instance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omputingMachine myCM;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yCM is a reference to an object belonging to ComputingMachine class:</a:t>
            </a:r>
            <a:br>
              <a:rPr sz="1600"/>
            </a:b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yCM is not the objec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We can use only static attributes and methods of ComputingMachine clas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constructor is not invoke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Have to be first declared and then instanced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myCM=new ComputingMachine();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yCM references to an instance of a ComputingMachine objec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ComputingMachine constructor is invoke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We can use any kind of attributes and methods (both static and not static)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There is no destructor:</a:t>
            </a:r>
            <a:br>
              <a:rPr sz="1600"/>
            </a:br>
            <a:r>
              <a:rPr b="0" lang="it-IT" sz="1600" spc="-1" strike="noStrike">
                <a:solidFill>
                  <a:srgbClr val="cc0000"/>
                </a:solidFill>
                <a:latin typeface="Arial"/>
              </a:rPr>
              <a:t>the Java garbage collector frees automatically allocated, but unreferenced object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70A-94B9-4674-A872-A3B3F507DF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3F343-3751-47CF-800F-F1DF241DC8F3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2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Implement the ComputingMachine class in the file named ComputingMachine.java</a:t>
            </a:r>
            <a:br>
              <a:rPr sz="3200"/>
            </a:b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Modify the HelloWorld main method to show the result of the ComputerMachine doSomething method invocatio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E8C-16F7-4F39-94B9-567285F23BD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CD82F-C127-4F5E-8E9B-B31D0D355A26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2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File: ComputingMachine.java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Attributes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500"/>
            </a:b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Methods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// File: Exercise2.java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class Exercise2 {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ComputingMachine cm = new ComputingMachine();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double r = cm.doSomething(3.5,2.7);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System.out.println(“doSomething=” + r);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232-EFDD-49AA-8720-26E891924F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D70CB-61BD-4106-A97E-3C464F7D8982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lasses for Primitive Typ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or each primitive type there is a predefined wrapper clas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Boolea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Static members for primitive types operation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Parsin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o string conversion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3429000"/>
            <a:ext cx="6337440" cy="720720"/>
          </a:xfrm>
          <a:prstGeom prst="wedgeRectCallout">
            <a:avLst>
              <a:gd name="adj1" fmla="val -53379"/>
              <a:gd name="adj2" fmla="val 211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yearOfBirth=“1972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ge=2005-Integer.parseInt(yearOfBirt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3213000"/>
            <a:ext cx="6337440" cy="936720"/>
          </a:xfrm>
          <a:prstGeom prst="wedgeRectCallout">
            <a:avLst>
              <a:gd name="adj1" fmla="val -22694"/>
              <a:gd name="adj2" fmla="val 213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myAge = a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“I’m ” + my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“ years old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7F2-3E97-4D84-BE0D-D7496ADBA93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56758-624C-4E38-9714-2860D5F3ADAF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Java world (1/2)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Java was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eveloped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at Sun Microsystems in the first part of ’90s with the following goal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ne languag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ne binary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More architecture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he same  running application!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Java compiler produces a “bytecode” binary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bytecode binary is executed by a virtual machine (JVM, Java Virtual Machine)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A9F-1423-467E-A3F3-8BEDEEFC99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5D6BF-39CF-4EB5-AE6F-C8F4A8A8E4A8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String clas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Is a class with a special behaviour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Strings are used as primitive typ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new operator is not need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ring s1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1 = “ISS on Grid Computing 2005”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ring s2 = “”;          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tring s3 = “Hello”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String concatenation is done with the + opera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1 = s2 + “ there!”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tring s3 = “number “+1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D41-C3FA-4D88-A601-1F4194B061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F31BC-8F2C-46C9-AD4B-FE2152AC877A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tring class method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e String class is provided by power manipulation methods: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nt len = s1.length(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nt comp = s1.compareTo(s2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boolean eq = s1.equals(s3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int p = s1.indexOf(“&lt;form”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String[] astrParts=s1.split(“,”)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24360" y="2060640"/>
            <a:ext cx="4968720" cy="609480"/>
          </a:xfrm>
          <a:prstGeom prst="wedgeRectCallout">
            <a:avLst>
              <a:gd name="adj1" fmla="val -44634"/>
              <a:gd name="adj2" fmla="val 12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he number of chars belonging to the string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4508640"/>
            <a:ext cx="5041800" cy="936360"/>
          </a:xfrm>
          <a:prstGeom prst="wedgeRectCallout">
            <a:avLst>
              <a:gd name="adj1" fmla="val 9476"/>
              <a:gd name="adj2" fmla="val -99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s the string s1 with s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turned value is the same of the strcmp C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3357720"/>
            <a:ext cx="4968720" cy="609480"/>
          </a:xfrm>
          <a:prstGeom prst="wedgeRectCallout">
            <a:avLst>
              <a:gd name="adj1" fmla="val 47861"/>
              <a:gd name="adj2" fmla="val 111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s the string s1 with s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rue if s1==s3, false other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5516640"/>
            <a:ext cx="4969080" cy="609480"/>
          </a:xfrm>
          <a:prstGeom prst="wedgeRectCallout">
            <a:avLst>
              <a:gd name="adj1" fmla="val 10064"/>
              <a:gd name="adj2" fmla="val -147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the index of the first occurrence of the “&lt;form” string in s1, -1 if the string isn’t in s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3357720"/>
            <a:ext cx="3313080" cy="1008000"/>
          </a:xfrm>
          <a:prstGeom prst="wedgeRectCallout">
            <a:avLst>
              <a:gd name="adj1" fmla="val -39699"/>
              <a:gd name="adj2" fmla="val 115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s the string s1 in an array of Strings using the specified separator “,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B67C-8517-4631-9284-CA5A9C47820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F19F0-C501-4546-9E1B-D31A35202D23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Array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an be declared and instantiated using the new operator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array elements values can be assigned in a separate step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[] a1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1 = new int[5]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double[] a2 = new double[10]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2[0] = 1.0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lements can be initialized when the array is declared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tring[] colors = {“red”,”blue”,”green”}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len = colors.length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length of an array is stored in the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class attribute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58B-FD4A-41B4-A54C-6A1928AB125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F9FC0-F654-4CAB-AAD0-69564DA05ED0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mmand Line Argu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re passed to the main method using an array of string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ShowArguments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int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.length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[0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[1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args[2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1EB-83BD-4307-A9D8-4072F07D7D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527E3-B238-4009-8A1C-CA2674E329AC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Loop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oops are implemented in the same way as in C/C++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for(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et_index_variable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loop_condition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teration_alteration_to_index) {…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while (condition) {…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do {…} while (condition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or (a=0;a&lt;args.length:a++) System.out.println(args[a]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119-2BF5-4210-816B-4C2CA72BE2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E150E-A272-4106-A9B3-2D544C4ABC9C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3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Modify the HelloWorld program to show each argument passed in separate rows on the console window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32E-7719-4AB0-8BDE-4A8D7D6899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BF3DD-12EF-46A0-B7C3-5C7A865CC4F0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3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File Exercise3.jav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Exercise3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or(int i=0;i&lt;args.length;i++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i+”:”+args[i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77F-C1F7-443C-AC9B-D8F41A81ED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338CF-3136-42EF-A087-B03A888A1205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ndi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if –else  statement is the same as in C/C++ and can take three form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(condition)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(condition){…} else 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(condition1)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seif (condition2)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se{…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here a condition can be formed using the comparative and logical operators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==, &gt;, &lt;, &gt;=, &lt;=, !=, &amp;&amp;, ||)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3AE-AC32-4D8B-93E6-D0E54CC1BF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A56D0-76A5-4C6F-BCC5-15B94040C08E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4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Modify the previous exercise to accept just and only 3 parameters on the command line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471-DCD1-4735-BA96-6D606D066D3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262B4-F521-4790-9A43-02119DD22274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4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File Exercise4.jav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Exercise4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f (args.length==3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or(int i=0;i&lt;args.length;i++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i+”:”+args[i]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E21-BC73-48AE-8E60-EF58A8BBBB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D6035-53F8-49A2-A6CA-C9567FB3538D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Java world (2/2)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JVM abstracts the real machin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same compiled code can be executed on different hardware and software architectures each provided by a JVM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Java is freely downloadable from Sun websit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Development Kit (JDK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Runtime Environment (JRE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JDK &amp; JRE are not Open Source, but an Open Source implementation is avalaiable (Kaffe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3FB-8196-4BAA-A944-D181AE56A2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06BC7-0C71-406F-82F5-E85D3C93F6D4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onverting strings to numb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ll text input is treated as a string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ny number must be converted to their primitive type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is can be done using static methods contained in the classes corresponding to each primitive type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String number_string = “1.5”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double number = Double.parseDouble(number_string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String number_string2 = “10”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number2 = Integer.parseInt(number_string2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t run-time there is the possibility that the String variable may not contain the string representation of a number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ather than leaving the program to crash, this possibility is managed by enclosing the conversion in a try-catch statement to handle an exceptional condition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8D3-3D8D-4F49-A5CF-98ECBCF3157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6B6B7-1E26-4239-8973-0F1BDC98B7BC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OOP Basics: Excep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term exception is shorthand for the phrase "exceptional event.“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finition: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n exception is an event that occurs during the execution of a program that disrupts the normal instructions flow.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Java has an efficient way to catch and manage exceptions derived as an evolution of C++ fashion.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6D0-85C1-41EC-A44B-C71F16B86A6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59201-5BE9-4CD3-8790-3B6A37F33F78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atch them all!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The try/catch construct permits to catch exceptions thrown inside a code block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lock of cod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catch (Exception ex) {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xception manager code block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If inside the try block of code an exception rises, is executed the code inside the catch block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2CD-67DA-4490-9B81-41F94F9018E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CF64A-5908-4EE0-A424-AD610A6C5B47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ample: string to numbe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hen the conversion fails an exception of type NumberFormatException is thrown by the parse method and the program jumps to the statements in the catch block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number = Double.parseDouble(number_string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atch(NumberFormatException nfe)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err.println(“Error in converting to double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exit(1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the catch block does not include a statement for the program to exit, the program will continue with any statements that come after it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rror messages are printed using the standard error stream System.err rather than System.out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is is useful when the program output is redirected to a file. 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024-8D72-4C8C-8F9B-A334FE1701A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D6972-E647-462A-A8A3-87119121174C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5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Java adder program accepting operands on command line and displaying the result on the console window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A30-2E95-4474-83CD-B339379BC06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67FB1-A963-4472-8466-B12E2DE9CD7F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5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File Exercise5.jav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class Exercise5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double r=0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for(int i=0;i&lt;args.length;i++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r=r+Double.parseDouble(args[i]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 (NumberFormatException nfe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args[i] +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 “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s not a valid operand!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“Result=“+r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B21-3135-42D9-AA41-81EFA02C700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281DD-0EFD-4B23-B1DD-4D6FA81C3062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Stack Trac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The stack trace output is a very useful feature used to discover the position of a runtime error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Example: string to number conversion excep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 Test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double d = Double.parseDouble(args[0]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out.println(d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Passing the value ‘foo’ as argument (foo is not convertible to double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Exception in thread "main" java.lang.NumberFormatException: For input string: “foo"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at sun.misc.FloatingDecimal.readJavaFormatString(FloatingDecimal.java:1224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at java.lang.Double.parseDouble(Double.java:482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at Test.main(Test.java:4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0F4-A832-48FA-B33A-8AAFFE2F1BC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4BDF8-05D4-431D-BCAF-638B1A6BBE4D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Input and output stream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 previous examples inputs have been performed via the command line arguments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ow we will read the input from the console using the stream System.i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put and output streams allow the use of file redirecting with Java programs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2D2-8D72-42C6-911D-5F92224365C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7478C-E4F0-42B4-8188-00D510C81D7B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input strea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ystem.in can only read bytes.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ystem.in is used to initialize an InputStreamReader objec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InputStreamReader object is passed as argument to the BufferedReader object constructor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 line of text can be read using the BufferedReader method readLine(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nputStreamReader isr = new InputStreamReader(System.in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BufferedReader br = new BufferedReader(isr)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tring name = br.readLine();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435-BE67-481C-BF92-2295B9B5BF5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B2D9D-8BA9-4448-BD37-448F55F0F1E0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Input stream excep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/O problems can occur when trying to perform the reading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readLine() method throws a IOExceptio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The read operation must be enclosed in an appropriate try-catch block.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fter all input is read from the stream it should be closed using br.close(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C1A-F734-46E3-9964-4CF540EA4E3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72B36-26C5-4B94-8D67-F426BEDA33E7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Java Features (1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Simple and powerful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use of best practices and design patterns is suggest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Secur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The executable code is very far from the real machin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Object Oriented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In Java everything is an object: from the ‘main class’ to ‘Integer’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Robust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No pointers allowed, only referenc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Strongly typ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FB3-C92D-440F-90E4-4BED249062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35BBE-4857-4476-9534-A8663D17C1FA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xample: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Read input stream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 class ReadInputStream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 static void main()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ry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putStreamReader isr = new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putStreamReader(System.in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ufferedReader br = new BufferedReader(isr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tring name = br.readLine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r.close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out.println(name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atch(IOException ioe)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System.err.println(“Error in reading name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Courier New"/>
              </a:rPr>
              <a:t>System.exit(1</a:t>
            </a:r>
            <a:r>
              <a:rPr b="1" lang="en-GB" sz="1600" spc="-1" strike="noStrike">
                <a:solidFill>
                  <a:srgbClr val="0000cc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122-3B81-4659-8701-4CBE4CC5C15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7472E-DD4C-47C4-A487-0F18CF9310C2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Manage multiple excep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he following not trivial example points out the multiple exception management tecnique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lock of cod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 (IOException exIO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atch input output exception block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 (ArithmeticException exAr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atch arithmetic exception block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finall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n any case do something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Different exception types are handled in separate catch block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The finally clause specifies a block of code executed in any cas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82A-EBFC-48C5-ABDD-765717D4ED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E08C6-EC80-4A08-8F38-F493A2B16975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6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Java adder program accepting 2 operands from the standard input and showing the output on the console window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Remember to manage both NumberFormatException and IOException!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574-86EC-434F-9D23-C9600E1E1EC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D2656-A7CB-4ED5-8E85-B5A7A64C3F6C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6 (1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// Exercise6.java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public class Exercise6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private double getOperand(String prompt)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double operand=0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System.out.print(prompt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BufferedReader br = new BufferedReader(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new InputStreamReader(System.in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operand = Double.parseDouble(br.readLine(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 catch (IOException exIO)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System.out.println(exIO.getMessage(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 catch (NumberFormatException exNF) {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System.out.println(exIO.getMessage())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return operand;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2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cc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E1F-B652-43F9-8233-024CA294B13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CF19B-E99D-4132-BBA0-DD0A135DBD1C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6 (2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Exercse6 e6 = new Exercise6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double a = e6.getOperand(“A: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double b = e6.getOperand(“B: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double sum = a + b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System.out.println(“A+B=“+sum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EE2-AC81-45F2-8709-FF3C4EDAF85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CB0AC-92B7-4E12-A4F4-3836DFFCEE0E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output strea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Output to the console can be handled in a similar way using the stream System.out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stream can be converted to a OutputStreamReader object and then to a PrintWriter object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PrintWriter class has the methods print() and println() for printing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However, this is unecessary because, the stream System.out already has methods println() and print()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Solution 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OutputStreamReader osw = new OutputStreamReader(System.out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rintWriter pw = new PrintWriter(osw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w.println(“Hello World!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Solution 2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“Hello World!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F18-CF36-4B7B-9CAA-73830BB2D9C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9A347-ACC2-4EE2-9B9F-6B3BA39D7ABF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Reading and Writing fi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ather than read the inputs from a file using a stream, a file can be read directly programmatically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ilar to streams, a FileReader object, which reads characters, can be created using the name of the input file and this is used to initialize a BufferedReader object for reading a line of text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FileReader fr = new FileReader(“filename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ufferedReader br = new BufferedReader(fr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tring name = br.readLin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r.clos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atch(IOException ioe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“Error reading name”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A55-E8A6-44B4-9E75-633B76FEACD4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717AF-7D45-4C11-9CE0-13AEBCD59331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File Troub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previous code is enough to read from a file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t does not provide any useful information on the source of an I/O problem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input file does not exist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input filename does not refer to a file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permissions on the file are such the file cannot be read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file is empty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file contains not enough data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lmost all of these events can be tested using a File object,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2F0-0ABC-4E33-A32C-D41FE862BF6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10CA4-493E-4B9B-B597-30C5ED5B0D53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The File Objec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ile inFile = new File(“filenam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!inFile.exists()) throw new IOException(“Input file does not exist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!inFile.isFile()) throw new IOException(“Input file is not a fil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!inFile.canRead()) throw new IOException(“Cannot read input fil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if(inFile.length() == 0) throw new IOException(“Input file is empty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ileReader fr = new FileReader(inFile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BufferedReader br = new BufferedReader(fr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tring name = br.readLine(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fr.close(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atch(IOException ioe) {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err.println(“Error reading name”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err.println(ioe.getMessage()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System.exit(1)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The File methods exists(), isFile() etc do not automatically throw an IOExecep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If a problem is detected an exception can be thrown.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 FileReader object can also be created using a File object..</a:t>
            </a:r>
            <a:r>
              <a:rPr b="0" lang="it-IT" sz="1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5BB-DA31-4E8E-B7AC-E2623610D9C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5BA7C-3B58-4EF5-857B-09564D571794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Writing Fi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riting to a file follows a similar pattern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File outFile = new File(“filename”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if(!outFile.createNewFile())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throw new IOException(“Output file already exists.“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FileWriter fw = new FileWriter(outFile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rintWriter pw = new PrintWriter(fw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w.println(name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Courier New"/>
              </a:rPr>
              <a:t>pw.close();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is code is enclosed in a suitable try-catch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 new file is created for the output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an existing file is to be used, the File method canWrite() can be used to check that the file is writeable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e statemen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FileWriter fw = new FileWriter(outFile,true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ll cause output to be appended to the file.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AB2-F52F-46A5-8035-2DF747B8DC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CB0F5-2C3A-4DFF-93CC-E73B7149E8EE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Java Features (2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teractive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Graphical User Interfac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Multithread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Networking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Architecture independent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Everything runs inside the virtual machin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same binary code runs on Linux, Mac-OS, Windows, etc…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Interpreted, but “high performance”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The bytecode is easy to translate into machine cod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Just in time compilers can improve this featur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cc"/>
                </a:solidFill>
                <a:latin typeface="Arial"/>
              </a:rPr>
              <a:t>NB: high performance, but not so high for high performance computing!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Easy to learn: I will demonstrate it…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FCD-B717-4AE2-BCA0-7AE65FCC13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2FF4B-7F6C-48DC-86C9-5CD4DCAF94FC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7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Java program reading a text file, showing it line by line on the console window and then write it on another file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Get input and output filenames from the comand line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116-981B-4C95-8C4A-EBE2F3A1A82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0F2E1-8576-419F-A7FB-9A2E22923CC8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7 (1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// Exercise7.jav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import java.io.*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class Exercise7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ufferedReader br=new BufferedReader(new FileReader(args[0])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rintWriter pw=new PrintWriter(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new FileWriter( args[1] 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tring in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while (in = br.readLine() != null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in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w.println(in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2B2-2AA3-4842-87E3-908B1FC6814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8FB05-5A8F-4907-BC01-3B3EE9DAEBC3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7 (2/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w.clos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(IOException ex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ex.getMessage()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br.close(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catch(IOException ex)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System.out.println(ex.getMessage())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D39-BECA-4BCD-891D-284A175AA6C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4400C-A31A-4A9D-A439-49A91916CCF4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Document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Html pages of API documentation can be automatically generated from the source code using documentation comments that are included in the program and the javadoc tool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comments are of the form /** comment */ and appear (immediately) before: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class definition,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attribute declaration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finitions of the constructor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finitions of methods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comments should describe the class, attributes and methods without detailing the implementation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mplementation details can be added using  // or /* comments */.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74C-C283-4B97-A800-04884E62BE8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DCE91-2FEB-4428-A571-E5FB0071621A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Class Com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The </a:t>
            </a: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ComputingMachin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lass is a grid computing nod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author R. Montell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version 0.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s with all document comments it must be placed immediately before the declaration/definition it is describing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f an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impor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statement is placed between ‘*/’ and ‘public ..’ the comment will not be found by the javadoc tool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comment begins with a brief description of the class and is followed by two tagged comments.: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uthor’,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version’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06F-5022-491B-A7B3-28A4BBA1481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67106-095E-47C7-9B62-DAAB949F3DDE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Attribute Com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Fully Qualified Domain Name *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The type of CPU as vendor and/or model */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Both public and private attributes and methods can be commente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With default javadoc settings only public methods and attributes are published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A28-438E-46A4-9F4D-7F8D3D0E1C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184D4-5475-45D6-9D0D-597663CA569B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Constructor and</a:t>
            </a:r>
            <a:br>
              <a:rPr sz="3200"/>
            </a:b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Methods Commen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/** Do a very computing intensive task: the su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param a the first operand of sum operatio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param b the second operand of sum operatio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 @return the sum of a and b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*/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format for constructors and methods is to start with a brief description followed by the tagged parameter comment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 methods which return a value, a tagged return comment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return tagged comment is avoided in the case of void method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E72-2CD1-4AD5-AEE6-A87B5C13D4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37353-B349-41F7-9A89-1108B086BC03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oducing Document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Generating the html documentation is straightforward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e command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javadoc ComputingMachine.jav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ll generate the file ComputingMachine.html containing the class documentation and additional html files giving information on class hierarchy and including a help guide and an index of methods and classes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This command uses the default settings and will only document public attributes, constructors and methods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ivate class members can be included using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javadoc –private ComputingMachine.java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If the documentation comments are omitted, the html file will still be generated but without any description of the class or  of  its members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B0D-85E6-4A30-9528-654214A1D21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03FCF-2243-4BE0-BD78-7F1BFDEB3806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Exercise 8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Write a documented version of ComputingMachine class implementation and generate both public and private HTML documentatio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85E-B724-401D-836B-54390F2DBC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836BE-9870-416E-8729-504E50D8252D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Solution 8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The 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ComputingMachine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class is a grid computing node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author R. Montella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version 0.1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/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class ComputingMachine {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Fully Qualified Domain Name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fqdn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The type of CPU as vendor and/or model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String cpuType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Number of  CPUs in SMP nodes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int cpuCount;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CPU speed */</a:t>
            </a: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float cpuSpeed;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/** Do a very computing intensive task: the sum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param a the first operand of sum opera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param b the second operand of sum opera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 @return the sum of a and b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*/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public double doSomething(double a, double b) {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double result=a+b;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  return result;  </a:t>
            </a:r>
            <a:br>
              <a:rPr sz="1400"/>
            </a:b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97A-41E9-4636-B942-C7ABE2E54CD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520E1-959B-456B-8825-70355720D549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Java@Work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What you need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Java Development Ki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 text edi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vi or notepad are enough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jEdit is a dedicated editor (developed in Java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Netbeans and Eclipse are powerful, free and very cool (IDE, Integrated Development Environment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Commercial tools: JBuilder, IBM Visual Age for Java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 book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Thinking in Java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” by </a:t>
            </a:r>
            <a:r>
              <a:rPr b="0" i="1" lang="it-IT" sz="1800" spc="-1" strike="noStrike">
                <a:solidFill>
                  <a:srgbClr val="0000cc"/>
                </a:solidFill>
                <a:latin typeface="Arial"/>
              </a:rPr>
              <a:t>Bruce Eckel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(freely downloadabl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ll needed files are on the ISSGC05 repository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919-D428-4107-A14C-9B6E98DCF5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9B467-E425-4011-B241-E35D40D5246E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Link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Java Development Ki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ava.sun.com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jEdi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jedit.or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Eclips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clipse.org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Thinking in Java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indview.net/Books/TIJ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An online cours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cs.princeton.edu/introcs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0" y="-2700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E22-1B79-4154-85EE-D70C1C5B77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36434-E39C-4732-B1A6-2FE0595CE8EB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Hello World!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e break the process of programming in Java into three steps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reate the program by typing it into a text editor and saving it to a file named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HelloWorld.jav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vi HelloWorld.jav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mpile it by typing in the terminal window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javac HelloWorld.java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un (or execute) it by typing in the terminal window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java HelloWorl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269-14F3-4D73-B43F-ED67714FD6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03498-24A0-4CE9-A548-8383C755EA8C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HelloWorld.java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Java public classes are implemented in a file named as the clas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Any Java public class can contain one main method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Here you are the HelloWorld.java fil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// A very simple HelloWorld Java code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blic class HelloWorld {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System.out.println("Hello World!");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94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ational Summer School on Grid Computing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E9E-1B51-4E6B-8634-F15E484936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DF085-EB27-4956-84B9-685768058240}" type="datetime8">
              <a:rPr lang="en-US"/>
              <a:t>07/29/26 08: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8:23:28Z</dcterms:created>
  <dc:creator>Roger Rabbit</dc:creator>
  <dc:description/>
  <dc:language>en-US</dc:language>
  <cp:lastModifiedBy>Roger Rabbit</cp:lastModifiedBy>
  <dcterms:modified xsi:type="dcterms:W3CDTF">2005-07-11T12:01:03Z</dcterms:modified>
  <cp:revision>112</cp:revision>
  <dc:subject/>
  <dc:title>Java Primer and Renewal</dc:title>
</cp:coreProperties>
</file>