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5"/>
          </p:nvPr>
        </p:nvSpPr>
        <p:spPr>
          <a:xfrm>
            <a:off x="3827160" y="-36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26B-D379-491F-A846-FBB4BD3C104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1080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4280" y="4687560"/>
            <a:ext cx="5405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7"/>
          </p:nvPr>
        </p:nvSpPr>
        <p:spPr>
          <a:xfrm>
            <a:off x="3827160" y="9372240"/>
            <a:ext cx="29257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A5D-88CC-4F04-AECB-68825FC300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972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3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this is very artificial example, e.g. there is a standard for date representation which should be used  rather than a US date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9FAA-A6D7-4520-86DC-39554DC9E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8972-252A-42BC-8817-CBD0BBAD1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E5A2-ABA9-44ED-B16F-921BB58E7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E007-7827-43BC-973E-575534A1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AC84-0A42-44F2-A5F1-37DEF0719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FBE72-F228-42EE-BE23-D9E75A5565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F16B-F56E-4729-9DF4-EA290AEBBE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E58AB-1A40-420D-B7B1-AEEFDD4864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8781-119D-4B98-85B6-3C93483FB0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A87F-6175-4040-8071-EDF800C6E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D840-7255-4462-9CE3-C0067A2AF2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F60E-6C37-414D-BFB8-C91088C5C8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B3474-137F-4513-9825-047F9BFA7E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05D4C-89AD-4A32-9417-306007ABC1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3AC4F-3090-429D-9B53-0C1F51CAE3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EB7D-F2B8-4F82-8046-CD61C31909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154A2-E1D8-4326-A5C6-897025835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B77F-8F10-4584-8561-4D00699B69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A9CA-669B-4257-B9B6-22D9445CE0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49E1-3FCE-42E1-ACEC-64E9D401E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12E5-E4A1-4A2A-A3C6-E527F9732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23F3-4755-4D7B-9984-B47B9906F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A753-EA71-4DB0-AB8F-9B0E51CDC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15B8-11BB-4AF9-AE10-55B148ABF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A6C0-4EE8-476D-B1FB-77762BA0D23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ftr" idx="3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X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4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29B-E8AA-4919-87F6-A12141282C59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109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" y="6576840"/>
            <a:ext cx="22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Arial"/>
              </a:rPr>
              <a:t>ISSGC’05 – June 2005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108320" y="5703840"/>
            <a:ext cx="133200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3.org/TR/REC-xml-names" TargetMode="External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5680" y="2493720"/>
            <a:ext cx="69883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2b519a"/>
                </a:solidFill>
                <a:latin typeface="Arial"/>
              </a:rPr>
              <a:t>ISSGC’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b519a"/>
                </a:solidFill>
                <a:latin typeface="Arial"/>
              </a:rPr>
              <a:t>XML documents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983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Richard Hopkins, 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National e-Science Centre, Edinburgh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June 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55440"/>
            <a:ext cx="8589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ain structure of documen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rolog – like headers; usualy standard and un-interest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lement – the actual document – recursively has nested elemen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Immediately following the prolo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05560" indent="-2055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iscellaneou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white space and “supplementals” allowed throughout with some restric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-17136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Supplemental –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Com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44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ocessing Instruction (PI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1680" y="4373640"/>
            <a:ext cx="6165720" cy="20260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 version=“1.0”  encoding=“UTF-8”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!- - This is an example XML document - -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?xml-stylesheet  type=“text/ccs”  href=“greet.ccs”  ?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voice&gt; …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45400" y="4460760"/>
            <a:ext cx="212760" cy="1009800"/>
          </a:xfrm>
          <a:custGeom>
            <a:avLst/>
            <a:gdLst>
              <a:gd name="textAreaLeft" fmla="*/ 0 w 212760"/>
              <a:gd name="textAreaRight" fmla="*/ 76680 w 2127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13720" y="5732640"/>
            <a:ext cx="285840" cy="539640"/>
          </a:xfrm>
          <a:custGeom>
            <a:avLst/>
            <a:gdLst>
              <a:gd name="textAreaLeft" fmla="*/ 0 w 285840"/>
              <a:gd name="textAreaRight" fmla="*/ 103320 w 285840"/>
              <a:gd name="textAreaTop" fmla="*/ 14040 h 539640"/>
              <a:gd name="textAreaBottom" fmla="*/ 5256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36640" y="478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5faf"/>
                </a:solidFill>
                <a:latin typeface="Verdana"/>
              </a:rPr>
              <a:t>prolo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59680" y="5668920"/>
            <a:ext cx="106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Root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00" y="44402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PI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080" y="4568760"/>
            <a:ext cx="44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9840" y="4732200"/>
            <a:ext cx="441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73640"/>
            <a:ext cx="13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44480" y="4928760"/>
            <a:ext cx="63828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FBD9-07F5-4D21-B902-298F8843A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Principal element structure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tart Tag – &lt;…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of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Zero or more attribu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ach a name-value pai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niquely named; 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199880" indent="-1713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Order insignifica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ntent – possibly nested </a:t>
            </a:r>
            <a:r>
              <a:rPr b="0" lang="en-US" sz="1800" spc="-1" strike="noStrike" u="sng">
                <a:solidFill>
                  <a:srgbClr val="00338f"/>
                </a:solidFill>
                <a:uFillTx/>
                <a:latin typeface="Arial"/>
              </a:rPr>
              <a:t>element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, and other thing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End Tag - &lt;/ … 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ame – MUST be same name as in matching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ike HTML – but stricter – must have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760" y="1471680"/>
            <a:ext cx="6611760" cy="1277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6000" y="15987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66000" y="24019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66000" y="2001960"/>
            <a:ext cx="88920" cy="27756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560"/>
              <a:gd name="textAreaBottom" fmla="*/ 27036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00920" y="154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1640" y="2332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01640" y="19540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835560" y="939960"/>
            <a:ext cx="142920" cy="789120"/>
          </a:xfrm>
          <a:custGeom>
            <a:avLst/>
            <a:gdLst>
              <a:gd name="textAreaLeft" fmla="*/ 0 w 142920"/>
              <a:gd name="textAreaRight" fmla="*/ 51480 w 14292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7600" y="833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603520" y="171000"/>
            <a:ext cx="142920" cy="2327400"/>
          </a:xfrm>
          <a:custGeom>
            <a:avLst/>
            <a:gdLst>
              <a:gd name="textAreaLeft" fmla="*/ 0 w 142920"/>
              <a:gd name="textAreaRight" fmla="*/ 51480 w 142920"/>
              <a:gd name="textAreaTop" fmla="*/ 60480 h 2327400"/>
              <a:gd name="textAreaBottom" fmla="*/ 22669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5244120" y="563760"/>
            <a:ext cx="150840" cy="1549440"/>
          </a:xfrm>
          <a:custGeom>
            <a:avLst/>
            <a:gdLst>
              <a:gd name="textAreaLeft" fmla="*/ 0 w 150840"/>
              <a:gd name="textAreaRight" fmla="*/ 54360 w 150840"/>
              <a:gd name="textAreaTop" fmla="*/ 40320 h 1549440"/>
              <a:gd name="textAreaBottom" fmla="*/ 15091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9"/>
                </a:lnTo>
                <a:cubicBezTo>
                  <a:pt x="10800" y="9939"/>
                  <a:pt x="16200" y="10839"/>
                  <a:pt x="21600" y="10839"/>
                </a:cubicBezTo>
                <a:cubicBezTo>
                  <a:pt x="16200" y="10839"/>
                  <a:pt x="10800" y="11739"/>
                  <a:pt x="10800" y="1263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6400" y="8334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4880" y="8334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Attribute: name-value pair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3A4B-2717-4EEB-8994-362CBDE153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45600" y="1661760"/>
            <a:ext cx="858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-value pair that is included in the start tag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 is part of specific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Value may also be part of a specific language – QName – qualified nam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More properly the above might b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Type =“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Style=“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”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starts to get convoluted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ecessary for designing for multi-lingual documents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5760" y="1047600"/>
            <a:ext cx="8737560" cy="4503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      customerType=“trade”            dateStyle=“US”&gt; ….   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ED89-01B2-49D3-9E65-88ED20C76A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ty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3486240"/>
            <a:ext cx="85899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mpty Element Tag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horthand for element with no cont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just attributes perhap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dicated by    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&gt;     not    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ame as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 accNo=“17-36-2”  terms=“days31”&gt;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account 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76640" y="1312920"/>
            <a:ext cx="5505120" cy="2056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6920" y="134460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1320" y="2911320"/>
            <a:ext cx="88920" cy="277920"/>
          </a:xfrm>
          <a:custGeom>
            <a:avLst/>
            <a:gdLst>
              <a:gd name="textAreaLeft" fmla="*/ 0 w 88920"/>
              <a:gd name="textAreaRight" fmla="*/ 32040 w 8892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00840" y="1724040"/>
            <a:ext cx="192240" cy="1069920"/>
          </a:xfrm>
          <a:custGeom>
            <a:avLst/>
            <a:gdLst>
              <a:gd name="textAreaLeft" fmla="*/ 0 w 192240"/>
              <a:gd name="textAreaRight" fmla="*/ 69480 w 192240"/>
              <a:gd name="textAreaTop" fmla="*/ 27720 h 1069920"/>
              <a:gd name="textAreaBottom" fmla="*/ 10422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81840" y="128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Start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5400" y="2898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End 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54280" y="2084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1800" y="2013120"/>
            <a:ext cx="183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Empty Elem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25faf"/>
                </a:solidFill>
                <a:latin typeface="Arial"/>
              </a:rPr>
              <a:t>Ta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85120" y="2100240"/>
            <a:ext cx="196920" cy="263520"/>
          </a:xfrm>
          <a:custGeom>
            <a:avLst/>
            <a:gdLst>
              <a:gd name="textAreaLeft" fmla="*/ 0 w 196920"/>
              <a:gd name="textAreaRight" fmla="*/ 70920 w 196920"/>
              <a:gd name="textAreaTop" fmla="*/ 6840 h 263520"/>
              <a:gd name="textAreaBottom" fmla="*/ 256680 h 26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A378B-979D-45D2-8863-A7996C27D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sted El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5600" y="3968640"/>
            <a:ext cx="85899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ccount and Items are child elements –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on-unique nam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order is signific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his is not a usual programming language configur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est if each compound item is eith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tructure (Struct) – uniquely 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rray – multiple same-named compon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8920" y="1103400"/>
            <a:ext cx="5227560" cy="21020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ustomerType=“trade” dateStyle=“US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No=“17-36-2” terms=“days3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5840" y="1112760"/>
            <a:ext cx="2831040" cy="26902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ccoun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.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tems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tem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addr&gt;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addr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4200" y="1298520"/>
            <a:ext cx="0" cy="2059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88080" y="15922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8080" y="19000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8080" y="3354480"/>
            <a:ext cx="55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43880" y="2023920"/>
            <a:ext cx="0" cy="760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54680" y="276372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4680" y="247320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218268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023E-BB18-49D8-8329-B75E5F411B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Character  (Simple) 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45600" y="3195720"/>
            <a:ext cx="8589960" cy="32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0000"/>
                </a:solidFill>
                <a:latin typeface="Arial"/>
              </a:rPr>
              <a:t>&lt;price&gt; 17.35 &lt;/price&gt;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is an element with just character dat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A simple valu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ll simple values are text strings, but may have particular syntax and interpretation as decimal, integer, date, …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3240" y="1128600"/>
            <a:ext cx="8074080" cy="1923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ccount accNo=“17-36-2” terms=“days31”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/29/0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pric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173.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/pr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&lt;/item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C2E20-0C34-4392-85E7-C1C440060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4175280"/>
            <a:ext cx="8888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Will use XML a lot  - Schemas, Soap messages, WSDLs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o use clearer/briefer notatio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xtual – direct translation to actual XM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Generally will use indentation to indicat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bbreviate End Tags to just &lt;/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lways have to actually put name in end tag !!!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ree diagram – to emphasise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840" y="907920"/>
            <a:ext cx="7935840" cy="31114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nvoice customerType=“trade” dateStyle=“US”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ice currency=“Euro”&gt;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3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Code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-23-57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4/04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&gt; &lt;/&gt; &lt;/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000" y="1119240"/>
            <a:ext cx="0" cy="2168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840" y="1098720"/>
            <a:ext cx="23652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13651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6600" y="276552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3294000"/>
            <a:ext cx="28728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76680"/>
            <a:ext cx="0" cy="1681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1362240"/>
            <a:ext cx="0" cy="108252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" y="165096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560" y="192240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2082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246528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560" y="3305160"/>
            <a:ext cx="0" cy="46836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560" y="3579840"/>
            <a:ext cx="4161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730A1-FA34-4FAF-A8A9-8495ED716F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- NAME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32080" y="2475000"/>
            <a:ext cx="5911920" cy="328680"/>
          </a:xfrm>
          <a:prstGeom prst="leftArrow">
            <a:avLst>
              <a:gd name="adj1" fmla="val 50000"/>
              <a:gd name="adj2" fmla="val 44967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9D95-7CD9-41C1-A141-0197926EF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5600" y="2948040"/>
            <a:ext cx="858996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 namespace (= “language”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fines a collection of names (a vocabulary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For UK : {address, county, postCode, …. }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sually has an associated syntax (e.g. Schema definition)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ddress = … county, postCode, …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Syntax may be available to S/W processing i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mplies a semantics – the (programmer writing) S/W processing a UK:address knows what it mea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rovides a unique prefix for disambiguating names from different originator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UK vs. US vs. I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7080" y="923760"/>
            <a:ext cx="8889840" cy="1869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voice&gt;                                                 &lt;!-- INT = International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-&gt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delivery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oun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post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billingAddress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…&lt;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INT</a:t>
            </a:r>
            <a:r>
              <a:rPr b="1" lang="en-GB" sz="1800" spc="-1" strike="noStrike">
                <a:solidFill>
                  <a:srgbClr val="305ba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05ba9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f1a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f1a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3E282-2240-4BD7-B39B-BA04547791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Na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o get uniqueness of namespace name, use a URI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postCode is really 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HTTP://www.UKstandards.org/Web/XMLForms:postCode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       (mythical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The URI </a:t>
            </a:r>
            <a:r>
              <a:rPr b="0" lang="en-GB" sz="2000" spc="-1" strike="noStrike" u="sng">
                <a:solidFill>
                  <a:srgbClr val="00338f"/>
                </a:solidFill>
                <a:uFillTx/>
                <a:latin typeface="Arial"/>
              </a:rPr>
              <a:t>might</a:t>
            </a: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 be a real URL, for accessing the syntax definition, documentation, ….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But it may be just an identifier within the internet domain owned by the namespace owner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0E15C-9A7C-4A5E-938C-88D4CE247B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oals –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General appreciation of XML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ufficient detail to understand WSDLs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–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835360"/>
            <a:ext cx="6132600" cy="328680"/>
          </a:xfrm>
          <a:prstGeom prst="leftArrow">
            <a:avLst>
              <a:gd name="adj1" fmla="val 50000"/>
              <a:gd name="adj2" fmla="val 46645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B2877-CE50-49B8-85A7-B9BF157D3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UK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 is really 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www.UKstandards.org/Web/XMLForms</a:t>
            </a:r>
            <a:r>
              <a:rPr b="0" lang="en-GB" sz="1900" spc="-1" strike="noStrike">
                <a:solidFill>
                  <a:srgbClr val="2b519a"/>
                </a:solidFill>
                <a:latin typeface="Arial"/>
              </a:rPr>
              <a:t>:postCode</a:t>
            </a:r>
            <a:r>
              <a:rPr b="1" lang="en-GB" sz="19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t HTTP://www.UKstandards.org/Web/XML/Forms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postCode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ediously long to use throughout th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Outside XML name syntax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Namespaces are not part of XM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supplementary standard </a:t>
            </a:r>
            <a:r>
              <a:rPr b="0" lang="en-GB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w3.org/TR/REC-xml-names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A W3C recommendation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In an XML docu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declare a namespace prefix, as an attribute of an ele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xmlns: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=“HTTP://www.UKstandards.org/Web/XML/Forms”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then use that for names in that namespace - UK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UK: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post code is called a 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QName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(qualified nam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64FF7-BDB0-451A-B3F7-83EE72FB29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 Prefix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3703680"/>
            <a:ext cx="858996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Namespace declaration occurs as an attribute of an elem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i.e. within a start ta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cope is from beginning of  that start tag to matching end ta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Excluding scope of nested re-declarations of same prefix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an declare a default namespac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0000"/>
                </a:solidFill>
                <a:latin typeface="Arial"/>
              </a:rPr>
              <a:t>xlmns=“www/3”</a:t>
            </a: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 – this is the name space for all un-qualified names in the scope of this declaration, eg. Stree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8f"/>
                </a:solidFill>
                <a:latin typeface="Arial"/>
              </a:rPr>
              <a:t>But no defaulting for attributes – if no prefix, no namespa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120" y="1158840"/>
            <a:ext cx="7926480" cy="26067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xlmns:BF=“www/1”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xlmns:UK=“www/2”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xmlns=“www/3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                                               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delivery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ress&gt; …&lt;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tre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…&lt;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unty&gt;…&lt;/&gt; &lt;U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tCode&gt;…&lt;/&gt;&lt;/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: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lling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xlmns:US=“www. …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addres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gt; …&lt;street&gt;…&lt;/&gt; …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st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    &lt;</a:t>
            </a:r>
            <a:r>
              <a:rPr b="1" lang="en-GB" sz="1600" spc="-1" strike="noStrike">
                <a:solidFill>
                  <a:srgbClr val="00ff00"/>
                </a:solidFill>
                <a:latin typeface="Arial"/>
              </a:rPr>
              <a:t>US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ff00"/>
                </a:solidFill>
                <a:latin typeface="Arial"/>
              </a:rPr>
              <a:t>zi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gt;…&lt;/&gt; &lt;/&gt;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…. &lt;/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BF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:invo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&gt;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000" y="939960"/>
            <a:ext cx="78120" cy="204480"/>
          </a:xfrm>
          <a:custGeom>
            <a:avLst/>
            <a:gdLst/>
            <a:ahLst/>
            <a:rect l="l" t="t" r="r" b="b"/>
            <a:pathLst>
              <a:path w="49" h="129">
                <a:moveTo>
                  <a:pt x="49" y="0"/>
                </a:moveTo>
                <a:lnTo>
                  <a:pt x="0" y="129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9360" y="949320"/>
            <a:ext cx="2286000" cy="2689200"/>
          </a:xfrm>
          <a:custGeom>
            <a:avLst/>
            <a:gdLst/>
            <a:ahLst/>
            <a:rect l="l" t="t" r="r" b="b"/>
            <a:pathLst>
              <a:path w="1446" h="1541">
                <a:moveTo>
                  <a:pt x="1446" y="117"/>
                </a:moveTo>
                <a:lnTo>
                  <a:pt x="1422" y="0"/>
                </a:lnTo>
                <a:lnTo>
                  <a:pt x="0" y="0"/>
                </a:lnTo>
                <a:lnTo>
                  <a:pt x="6" y="1507"/>
                </a:lnTo>
                <a:lnTo>
                  <a:pt x="919" y="1541"/>
                </a:lnTo>
                <a:lnTo>
                  <a:pt x="919" y="1412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8680" y="1795320"/>
            <a:ext cx="554040" cy="14616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332000" y="2481120"/>
            <a:ext cx="2023920" cy="41940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55920" y="2509920"/>
            <a:ext cx="922320" cy="39996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4320" y="2479680"/>
            <a:ext cx="2527200" cy="411120"/>
          </a:xfrm>
          <a:prstGeom prst="line">
            <a:avLst/>
          </a:prstGeom>
          <a:ln w="255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94200" y="1469880"/>
            <a:ext cx="3530520" cy="487440"/>
          </a:xfrm>
          <a:custGeom>
            <a:avLst/>
            <a:gdLst/>
            <a:ahLst/>
            <a:rect l="l" t="t" r="r" b="b"/>
            <a:pathLst>
              <a:path w="2224" h="307">
                <a:moveTo>
                  <a:pt x="2224" y="0"/>
                </a:moveTo>
                <a:lnTo>
                  <a:pt x="110" y="152"/>
                </a:lnTo>
                <a:lnTo>
                  <a:pt x="0" y="307"/>
                </a:ln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8680" y="2448000"/>
            <a:ext cx="554040" cy="145800"/>
          </a:xfrm>
          <a:custGeom>
            <a:avLst/>
            <a:gdLst/>
            <a:ahLst/>
            <a:rect l="l" t="t" r="r" b="b"/>
            <a:pathLst>
              <a:path w="349" h="92">
                <a:moveTo>
                  <a:pt x="0" y="92"/>
                </a:moveTo>
                <a:lnTo>
                  <a:pt x="349" y="86"/>
                </a:lnTo>
                <a:lnTo>
                  <a:pt x="343" y="0"/>
                </a:ln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BD086-52AB-47A9-9151-B4A2DECD2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-formed and Val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Well-forme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XML syntax, e.g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tart and end tags nest properly with matching nam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b519a"/>
                </a:solidFill>
                <a:uFillTx/>
                <a:latin typeface="Arial"/>
              </a:rPr>
              <a:t>Valid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means it conforms to the syntax defined by the namespaces used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an’t check this without a definition of that syntax –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Normally a Schem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TD (document Type Definitions) – deprecate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thers type definition syste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some more sophisticated than Schema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87755-1E9B-47E4-BFC6-E5D16F6661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EN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0B1A7-6C12-4AB8-BE26-B126D655CB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arkup Langua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20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rkup” means document is an intermixing o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Content – the actual information to be conveyed - payload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Markup – information about the conten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22/10/1946&lt;/date&gt;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gt; … &lt;/date&gt;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 markup – says that the content is a dat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Self-describing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ate</a:t>
            </a: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 is part of a markup vocabulary – 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8f"/>
                </a:solidFill>
                <a:latin typeface="Arial"/>
              </a:rPr>
              <a:t>a collection of keywords used to identify syntax and semantics of constructs in an XML documen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0216E-0BE8-4C16-904C-C098E091A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= e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X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tensible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M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rkup </a:t>
            </a:r>
            <a:r>
              <a:rPr b="1" lang="en-GB" sz="1800" spc="-1" strike="noStrike" u="sng">
                <a:solidFill>
                  <a:srgbClr val="2b519a"/>
                </a:solidFill>
                <a:uFillTx/>
                <a:latin typeface="Arial"/>
              </a:rPr>
              <a:t>L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xtensible” means the markup vocabulary is not fix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pare with similar NON-extensible languag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HTML (Hypertext Markup Language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ixed markup vocabulary  e.g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is a paragraph. I like it.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This is &lt;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another &lt;/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&gt; paragraph &lt;/p&gt;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presentation </a:t>
            </a:r>
            <a:r>
              <a:rPr b="1" lang="en-GB" sz="1800" spc="-1" strike="noStrike" u="sng">
                <a:solidFill>
                  <a:srgbClr val="00338f"/>
                </a:solidFill>
                <a:uFillTx/>
                <a:latin typeface="Arial"/>
              </a:rPr>
              <a:t>language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for describing how a document should be presented for human consumption –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is a paragraph. I like it.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paragraph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HTML the language is fixed and implicit in the fact that this is an HTML document – single-language docu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XML requires explicit definition of the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One document can combine multiple language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11E59-AE2E-47B3-B23C-85E88E209B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-lingual 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680" y="3494160"/>
            <a:ext cx="900432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Forms:Invoice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n Invoice construct within the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BusinessForms (mythica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language defining structure of business document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For business interoperabilit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Doesn’t prescribe the language of individual items such as dat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aken from separate languages 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notations:dat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Language names are actually universally unique URIs – www.DesperatelyTryingToStandardise.org/BusinessForms -  see lat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040" y="895320"/>
            <a:ext cx="8666280" cy="25628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3AE9-8781-413D-8E13-65B8B071A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lingual  Pros  &amp; 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600" y="2914560"/>
            <a:ext cx="858996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Separation of concerns – Design Factoring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Desig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chase order structure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2b0000"/>
                </a:solidFill>
                <a:latin typeface="Arial"/>
              </a:rPr>
              <a:t>date format etc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are independent concern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Re-use of language definitions, e.g. date formats in many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Extensibility – Purchase order accommodates new product identification schemes (e.g. ISBN for book sto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Of course, only works if both ends “understand” all languages used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Makes things more complex –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Creating and identifying the langu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040" y="895320"/>
            <a:ext cx="8666280" cy="193068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product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Code&gt;123-768-25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quantity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los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..&gt;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&lt;/..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188D8-6E21-400A-807B-2D52F46A6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s of XML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07560"/>
            <a:ext cx="87980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undamental Standard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E.g. SOAP - the language for soap messag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ap-envelope:head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ap-envelope:bod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 soap message is an XML document and its parts are identified using this vocabulary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Goal is a factoring that gives pick-and-mix of combinable standard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Associated with any WS standard will be a Schema definition of its XML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Community convention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Perhaps, our BusinessForms languag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alised Data Struc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Java configuration table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Specific Application Languag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Program:parameter1</a:t>
            </a: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8f"/>
                </a:solidFill>
                <a:latin typeface="Arial"/>
              </a:rPr>
              <a:t>The language used in invoking particular operations of a web servic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9797D-2FA1-423D-AB12-0BB7E86BB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&amp; Machine Orien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94080" y="987120"/>
            <a:ext cx="46418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Human read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ort of - OK with decent editor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s de-buggab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Important for meta-data documents,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E.g. WSD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hine process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Self description enable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General tools for producing and consuming XML document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Verbos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OK except for large data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8f"/>
                </a:solidFill>
                <a:latin typeface="Arial"/>
              </a:rPr>
              <a:t>Messages may have attachments not in XML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1040" y="895320"/>
            <a:ext cx="3929040" cy="55152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How it really look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Invoic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/22/2004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USnotations: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dat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3-768-252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businessForms:barCod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product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.53               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metricMeasures:kilos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quantity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/ businessForms:Invoice</a:t>
            </a:r>
            <a:r>
              <a:rPr b="0" lang="en-GB" sz="18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AE34-39BF-4CC3-88F1-E86A503C4C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– DETAILE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Detailed XML Format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8f"/>
                </a:solidFill>
                <a:latin typeface="Arial"/>
              </a:rPr>
              <a:t>Namespaces</a:t>
            </a:r>
            <a:r>
              <a:rPr b="1" lang="en-US" sz="18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2109960"/>
            <a:ext cx="5008680" cy="328320"/>
          </a:xfrm>
          <a:prstGeom prst="leftArrow">
            <a:avLst>
              <a:gd name="adj1" fmla="val 50000"/>
              <a:gd name="adj2" fmla="val 38138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2EDD8-4164-441F-8B48-FC133E2C3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1:59:54Z</dcterms:created>
  <dc:creator>Richard Hopkins</dc:creator>
  <dc:description/>
  <dc:language>en-US</dc:language>
  <cp:lastModifiedBy>Richard Hopkins</cp:lastModifiedBy>
  <dcterms:modified xsi:type="dcterms:W3CDTF">2005-07-11T09:39:16Z</dcterms:modified>
  <cp:revision>100</cp:revision>
  <dc:subject/>
  <dc:title>XML</dc:title>
</cp:coreProperties>
</file>