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45A-F449-4C65-BA1D-2F66D880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4F2-B06A-47A3-9284-85675B93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EC6-FE3E-46A3-8B25-ED83BAE8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149-E4F0-45C6-93A2-40CBE254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28E-0E74-4387-A650-CDD48718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DE8-5FF0-4F93-A1FF-1BC964F7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101-E6A4-4235-B0F6-191E6D90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FF4-D3DB-4023-BACA-405FF517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5280" y="27432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EFA-3703-4081-AC47-2498F5E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502-2FAD-4BB6-B2F6-AE2A4C24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D6C-9874-42B1-8D21-A29C119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193-E893-46D8-AB78-5F19AE46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5063-ABA6-4467-A5AE-68BB31E15429}" type="datetime">
              <a:rPr b="0" lang="en-GB" sz="1400" spc="-1" strike="noStrike">
                <a:solidFill>
                  <a:srgbClr val="333399"/>
                </a:solidFill>
                <a:latin typeface="Arial"/>
              </a:rPr>
              <a:t>29/07/26</a:t>
            </a:fld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fld id="{D82DCF53-7B09-40D1-8B1E-23C2BF5437BE}" type="datetime10">
              <a:rPr b="0" lang="en-GB" sz="1400" spc="-1" strike="noStrike">
                <a:solidFill>
                  <a:srgbClr val="333399"/>
                </a:solidFill>
                <a:latin typeface="Arial"/>
              </a:rPr>
              <a:t>18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C400-5361-4155-B8F4-2CBD644A7CED}" type="slidenum">
              <a:rPr b="0" lang="it-IT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www.jedit.org/" TargetMode="External"/><Relationship Id="rId3" Type="http://schemas.openxmlformats.org/officeDocument/2006/relationships/hyperlink" Target="http://www.eclipse.org/" TargetMode="External"/><Relationship Id="rId4" Type="http://schemas.openxmlformats.org/officeDocument/2006/relationships/hyperlink" Target="http://www.mindview.net/Books/TIJ" TargetMode="External"/><Relationship Id="rId5" Type="http://schemas.openxmlformats.org/officeDocument/2006/relationships/hyperlink" Target="http://www.cs.princeton.edu/introcs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0920" y="0"/>
          <a:ext cx="5143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143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Java Refresh Exercis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bject Oriented Programming with Java: an introductio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Raffaele Montell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University of Naples “Parthenope”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ook at the Cod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ach statement line ends with a semicolon ; as in C/C++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ach code block is inside curly brackets {,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Variables defined inside a code block are local to i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ava is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not positional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arrige return and space sequences outside quotes are ignored: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class HelloWorld { public static void main(String[] args) { System.out.println(“Hello World!”);}}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is a correct code, but very hard to be managed by humans!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28640"/>
            <a:ext cx="457200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24720" y="2708280"/>
            <a:ext cx="61128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5000"/>
            <a:ext cx="457200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6000" y="1844640"/>
            <a:ext cx="50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213000"/>
            <a:ext cx="50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E16-18FE-48E2-9668-F87245C952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BCF2D-7D6F-49E9-AB86-2EC3E52B656C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++ style comment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this is a single line slash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slash C++ style commen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 style comment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* this are few comment lines in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a C style fashion */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avadoc auto documentation comments</a:t>
            </a:r>
            <a:br>
              <a:rPr sz="1600"/>
            </a:br>
            <a:br>
              <a:rPr sz="16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**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* @params args Command Line Argument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**/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	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ore information about Javadoc later in this lesso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28640"/>
            <a:ext cx="457200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932000" y="1125360"/>
            <a:ext cx="43164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57A-84F1-418B-AFE3-2F49ECB3B1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E4333-58A2-4F4B-BD44-976B7C435F5C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ackages and Namespa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classes definitions are grouped into namespaced packages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ackages stored in compressed zip or jar (Java ARchive) files must be specified in the CLASSPATH environment variable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Namespaces are used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o avoid omonimous class ambiguity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o produce better c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import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statement imports a package namespace: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Imports all namespaces in java.io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Imports the specified namespac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mport java.io.InputStreamReade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365-99C2-49E0-A342-AA934E8E53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AD5F9-1365-48F4-880E-37DB09F7265E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imitive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primitive types are similar to their C counterparts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nt num1=0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float num2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num2=5.3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double num3=10.0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boolean condition=tru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 variable can b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clared and assigned a value in two different steps…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r in one statemen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ny variable specified as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final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is considered as a constant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final double pi=3.1415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00F-4ADD-46D1-89E0-F0EBA06850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6A45E-DB32-4535-9077-62120BCF016F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Type, compile and run the HelloWorld.java program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822-9C0A-4300-88A8-FC88EC0E6A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4C51B-EC26-49ED-8F34-64C02479E00A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: HelloWorld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HelloWorld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“Hello World!”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BAF-33BC-46F0-82E3-4730B971C6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8C5E8-ED8F-45E1-94E4-86C4A461055B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Defining a Cla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keleton of a Java program is the class defini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ne file can contain more than one class defini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nly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ublic class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can be defined for each .java fi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Nested classes are allowe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 class can extends another one by inheritanc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57360"/>
            <a:ext cx="4500720" cy="79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866920" y="1484280"/>
            <a:ext cx="36036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628640"/>
            <a:ext cx="4464000" cy="4483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File HelloWorld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demo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B extend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565360"/>
            <a:ext cx="4500720" cy="7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219280" y="256536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292360" y="342900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012000" y="4149720"/>
            <a:ext cx="28872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363640" y="450864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573360"/>
            <a:ext cx="450072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81360"/>
            <a:ext cx="4500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373720"/>
            <a:ext cx="4500720" cy="71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270828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B5E-DDD8-4F64-97D1-FCAA8CCF00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12EB1-0FD0-4E9A-A6F9-ECFFE1880263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 class represents an abstract data typ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 class is an object generaliza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n object is an instance of a specific clas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2800"/>
            </a:b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myComputingMachine object is an instance of the ComputingMachine class of obj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class is the ‘idea’, the general model, of an objec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DF6-E06B-4DD9-B50B-2B85951E18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04AB7-5138-4D6A-A7A8-B833C64D91D8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bjec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 object stores some data (its state)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vides methods to access and manipulate that data (its behavior)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epresents an individual unit (its identity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example: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computing machine object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0C7-4A2E-45E8-B46B-E3B017D1EB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2AAD8-DACF-40E1-985B-B88383DF31FA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6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he ComputingMachine Objec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state of a computing machine might be characterized by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type of CPU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number of CPU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peed of each CPU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can communicate with the computing machine and do something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can identify a computing machine by its fully qualified domain name or IP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F92-7399-4E6C-8A68-323D4306A7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F7638-73EA-466B-BC08-BFA4E579D502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troduction to Jav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HelloWorld program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ode featur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omment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ackages and Namespac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OOP Basics: Classes, Objects, Methods and Attribut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rimitive and Class Typ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Loops and Condition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Exception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put / Outpu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4B6-A1C1-49B3-8287-7017C6B9E5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A2FF2-529A-43EF-A779-95E9DC413D66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he Computing Machine Cla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ding the ComputingMachine class in Java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File: ComputingMachine.java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Using the ComputingMachine class in Java:</a:t>
            </a:r>
            <a:br>
              <a:rPr sz="1800"/>
            </a:br>
            <a:br>
              <a:rPr sz="18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 myCM=new ComputingMachine()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myCM.fqdn=“193.205.230.114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 myResult = myCM.doSomething(14.5f, 40.85f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2565360"/>
            <a:ext cx="1511280" cy="719280"/>
          </a:xfrm>
          <a:prstGeom prst="wedgeRectCallout">
            <a:avLst>
              <a:gd name="adj1" fmla="val -71430"/>
              <a:gd name="adj2" fmla="val -65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s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753080" cy="1223640"/>
          </a:xfrm>
          <a:prstGeom prst="wedgeRectCallout">
            <a:avLst>
              <a:gd name="adj1" fmla="val -57046"/>
              <a:gd name="adj2" fmla="val -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utingMachine class is public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mplemented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utingMachine.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2637000"/>
            <a:ext cx="2521080" cy="649080"/>
          </a:xfrm>
          <a:prstGeom prst="wedgeRectCallout">
            <a:avLst>
              <a:gd name="adj1" fmla="val -85328"/>
              <a:gd name="adj2" fmla="val -5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4221000"/>
            <a:ext cx="2520720" cy="609840"/>
          </a:xfrm>
          <a:prstGeom prst="wedgeRectCallout">
            <a:avLst>
              <a:gd name="adj1" fmla="val -67004"/>
              <a:gd name="adj2" fmla="val -140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A0B-BF76-473E-8599-D40F14B29B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3E09E-24A4-4CEE-8D16-045FBAD51A42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OP Basics: </a:t>
            </a:r>
            <a:br>
              <a:rPr sz="3600"/>
            </a:b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ccess Specifi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ttributes and methods can be declared with the following access specifier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 both inside and outside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only inside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inside the class and inside derived classes, but not outsi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BFE-545A-4F24-B663-83E96C9B7D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CCD32-7B24-410D-BAF8-D12197039CDC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tores the object stat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both primitive and abstract data typ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defined as static</a:t>
            </a:r>
            <a:br>
              <a:rPr sz="2400"/>
            </a:b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shared between all object instances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vate float cpuLoad;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atic int coun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84360" y="1916280"/>
            <a:ext cx="1295640" cy="43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076640"/>
            <a:ext cx="2879640" cy="64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7800" y="1916280"/>
            <a:ext cx="2735280" cy="43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645000"/>
            <a:ext cx="2879640" cy="43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2349360"/>
            <a:ext cx="86364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724280"/>
            <a:ext cx="3024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066-6D54-4183-AFD0-F1DDF19A13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D19D8-73E1-4A2D-9EC8-1F47984CDCD1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re functions acting on the object behaviour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qualified as public, private and protected like attribut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defined as static</a:t>
            </a:r>
            <a:br>
              <a:rPr sz="2400"/>
            </a:b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allowing the invocation by statically used objects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return result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vate void updateCPULoad()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...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92360" y="1989000"/>
            <a:ext cx="86364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8360" y="4581360"/>
            <a:ext cx="3585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1989000"/>
            <a:ext cx="1008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68360" y="5300640"/>
            <a:ext cx="360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053-F299-4984-A759-3F789A538D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794BA-E1D4-468A-841C-749C84CE76EC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Constructo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s a special method invoked when the object is instanced using the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new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opera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name of the constructor must be the same of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there is no destructor counterpart as in C++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(except the finalize method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(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qdn=“0.0.0.0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yType=“Unknown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uSpeed=0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uCount=0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5280" y="2133720"/>
            <a:ext cx="7345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68360" y="349992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339640" y="414972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392-5DCC-436B-9EF0-E93E71D4AA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770A3-D0D3-4CD2-B315-FA01F6AE6061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Main Method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s the entry point for a Java progra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faces the program with the command line shell throw parameters and returned value </a:t>
            </a:r>
            <a:br>
              <a:rPr sz="1800"/>
            </a:b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(using System.exit(..)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ny public class can have one main method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main method MUST be defined as public AND static so the JVM can execute i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For class testing purposes I suggest to write a main method for each class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28640"/>
            <a:ext cx="457200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708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133720"/>
            <a:ext cx="4572000" cy="10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244000" y="2060640"/>
            <a:ext cx="57600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57720"/>
            <a:ext cx="4572000" cy="50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341360"/>
            <a:ext cx="28872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93080" y="1773360"/>
            <a:ext cx="28728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005360"/>
            <a:ext cx="457200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278100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198900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45E-052F-4489-91D6-78B48D2DED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B33F1-0F66-48E6-9E5C-19C0EA8EC631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re considered as reference to object instance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omputingMachine myCM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is a reference to an object belonging to ComputingMachine class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is not the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We can use only static attributes and methods of ComputingMachine clas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constructor is not invoke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Have to be first declared and then instanced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myCM=new ComputingMachine()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references to an instance of a ComputingMachine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ComputingMachine constructor is invoke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We can use any kind of attributes and methods (both static and not static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There is no destructor: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the Java garbage collector frees automatically allocated, but unreferenced object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216-15B1-42E6-AF1F-1671FD61CB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D96FA-B092-4181-B7DC-6875B79EFD07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Implement the ComputingMachine class in the file named ComputingMachine.java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HelloWorld main method to show the result of the ComputerMachine doSomething method invocatio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4C6-80F0-48F8-AAAF-97234D0D63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92D42-CC83-4A13-815A-D489FEB978A4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File: ComputingMachine.java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500"/>
            </a:b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File: Exercise2.java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class Exercise2 {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ComputingMachine cm = new ComputingMachine(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double r = cm.doSomething(3.5,2.7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System.out.println(“doSomething=” + r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BF3-D9F4-4638-81B5-A1376CCB09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9AEFA-D78F-41D7-B079-A8CD8DE10DA2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es for Primitive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r each primitive type there is a predefined wrapper clas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Static members for primitive types operation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o string conversio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3429000"/>
            <a:ext cx="6337440" cy="720720"/>
          </a:xfrm>
          <a:prstGeom prst="wedgeRectCallout">
            <a:avLst>
              <a:gd name="adj1" fmla="val -53379"/>
              <a:gd name="adj2" fmla="val 211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earOfBirth=“1972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ge=2005-Integer.parseInt(yearOfBir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3213000"/>
            <a:ext cx="6337440" cy="936720"/>
          </a:xfrm>
          <a:prstGeom prst="wedgeRectCallout">
            <a:avLst>
              <a:gd name="adj1" fmla="val -22694"/>
              <a:gd name="adj2" fmla="val 2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yAge = a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“I’m ” + my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“ years ol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9D8-9CB9-4ACC-BC6F-CFC939435C2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F3B05-B89B-4F5F-83FE-709B65F7B90C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Java world (1/2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ava wa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veloped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at Sun Microsystems in the first part of ’90s with the following goal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 languag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 binar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ore architectur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he same  running application!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Java compiler produces a “bytecode” binary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bytecode binary is executed by a virtual machine (JVM, Java Virtual Machine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8FE-E8F1-4220-880C-F52615412F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DDD43-792A-473F-AB61-B884278E0625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String cla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s a class with a special behaviour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ings are used as primitive typ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new operator is not need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1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1 = “ISS on Grid Computing 2005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2 = “”;         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3 = “Hello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ing concatenation is done with the + opera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1 = s2 + “ there!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tring s3 = “number “+1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661-C1EA-4C06-8D52-E79186CAE3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85FC4-BD15-44A6-B03A-1EAE86D66468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tring class method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String class is provided by power manipulation method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len = s1.length(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comp = s1.compareTo(s2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boolean eq = s1.equals(s3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p = s1.indexOf(“&lt;form”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tring[] astrParts=s1.split(“,”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24360" y="2060640"/>
            <a:ext cx="4968720" cy="609480"/>
          </a:xfrm>
          <a:prstGeom prst="wedgeRectCallout">
            <a:avLst>
              <a:gd name="adj1" fmla="val -44634"/>
              <a:gd name="adj2" fmla="val 12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number of chars belonging to the string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508640"/>
            <a:ext cx="5041800" cy="936360"/>
          </a:xfrm>
          <a:prstGeom prst="wedgeRectCallout">
            <a:avLst>
              <a:gd name="adj1" fmla="val 9476"/>
              <a:gd name="adj2" fmla="val -99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s the string s1 with s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turned value is the same of the strcmp C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357720"/>
            <a:ext cx="4968720" cy="609480"/>
          </a:xfrm>
          <a:prstGeom prst="wedgeRectCallout">
            <a:avLst>
              <a:gd name="adj1" fmla="val 47861"/>
              <a:gd name="adj2" fmla="val 111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s the string s1 with s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rue if s1==s3, false other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5516640"/>
            <a:ext cx="4969080" cy="609480"/>
          </a:xfrm>
          <a:prstGeom prst="wedgeRectCallout">
            <a:avLst>
              <a:gd name="adj1" fmla="val 10064"/>
              <a:gd name="adj2" fmla="val -147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index of the first occurrence of the “&lt;form” string in s1, -1 if the string isn’t in s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3357720"/>
            <a:ext cx="3313080" cy="1008000"/>
          </a:xfrm>
          <a:prstGeom prst="wedgeRectCallout">
            <a:avLst>
              <a:gd name="adj1" fmla="val -39699"/>
              <a:gd name="adj2" fmla="val 115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s the string s1 in an array of Strings using the specified separator “,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CC3-9DB6-462C-B37A-65F8CE6AF7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488A8-5EAB-4D58-B4BA-3392C3B605AD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an be declared and instantiated using the new operato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array elements values can be assigned in a separate step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[] a1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1 = new int[5]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uble[] a2 = new double[10]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2[0] = 1.0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lements can be initialized when the array is declare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tring[] colors = {“red”,”blue”,”green”}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len = colors.length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length of an array is stored in the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class attribute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87A-1BC0-4D4D-9804-88995B08A9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43C57-FB6E-4DA4-AAB9-96BED296F89D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mmand Line Argu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re passed to the main method using an array of string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ShowArguments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int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.length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0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1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2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8B3-D7E0-4FEF-A70E-62B6788308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593BD-003B-4860-A241-F9D3B7AA571F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Loop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oops are implemented in the same way as in C/C++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or(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et_index_variable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loop_condition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teration_alteration_to_index) {…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while (condition) {…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do {…} while (conditio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or (a=0;a&lt;args.length:a++) System.out.println(args[a]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066-8BE3-4023-972F-45BFA6E634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E4EC2-4150-4BAE-B24C-631B0FA611E8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HelloWorld program to show each argument passed in separate rows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518-3320-43DD-A2B0-E50B3975A9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3A726-369B-48BE-A2B4-B9757266E362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 Exercise3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Exercise3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(int i=0;i&lt;args.length;i++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i+”:”+args[i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455-971B-432C-8FF3-28CD629ED2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9C2A0-C76B-4BB4-800D-D08A0C8AA44F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ndi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if –else  statement is the same as in C/C++ and can take three form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){…} else 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1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seif (condition2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se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here a condition can be formed using the comparative and logical operators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==, &gt;, &lt;, &gt;=, &lt;=, !=, &amp;&amp;, ||)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A1F-22F9-481C-BABC-25BCA9FCAB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62DC6-9B21-4C20-8F28-A8913282013B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previous exercise to accept just and only 3 parameters on the command lin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0FE-4032-460A-999D-CDD260A89C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170A9-9B43-403F-92F7-388933AC77F6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 Exercise4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Exercise4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args.length==3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(int i=0;i&lt;args.length;i++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i+”:”+args[i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C7E-2E0F-4F94-BD43-DA63E5FE90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1404B-C54D-45CB-A71E-F649D454B4E1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Java world (2/2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JVM abstracts the real machin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ame compiled code can be executed on different hardware and software architectures each provided by a JV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ava is freely downloadable from Sun websit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Development Kit (JDK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Runtime Environment (JRE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DK &amp; JRE are not Open Source, but an Open Source implementation is avalaiable (Kaffe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176-7657-44BB-B509-B0A4089282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67328-2724-4B85-9E37-D8B83B9BF7DC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nverting strings to numb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ll text input is treated as a str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ny number must be converted to their primitive typ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is can be done using static methods contained in the classes corresponding to each primitive typ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tring number_string = “1.5”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double number = Double.parseDouble(number_string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tring number_string2 = “10”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number2 = Integer.parseInt(number_string2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t run-time there is the possibility that the String variable may not contain the string representation of a number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ather than leaving the program to crash, this possibility is managed by enclosing the conversion in a try-catch statement to handle an exceptional condition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AF9-1D15-4FBB-8CA5-ED8CD87092F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96AC9-41F6-4240-BDBA-DA2C213DF7D9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OP Basics: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term exception is shorthand for the phrase "exceptional event.“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finition: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 exception is an event that occurs during the execution of a program that disrupts the normal instructions flow.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Java has an efficient way to catch and manage exceptions derived as an evolution of C++ fashion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FD9-EB31-4C16-A773-D88323A4B3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0BCBC-0B57-4773-B426-964775D69870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atch them all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try/catch construct permits to catch exceptions thrown inside a code block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lock of cod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catch (Exception ex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xception manager code bloc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f inside the try block of code an exception rises, is executed the code inside the catch block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E7C-AAF5-4344-AAC3-65DCB41C97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5962F-58B6-4462-92BF-1DA97AC7011E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ample: string to numbe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n the conversion fails an exception of type NumberFormatException is thrown by the parse method and the program jumps to the statements in the catch block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number = Double.parseDouble(number_string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atch(NumberFormatException nfe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rr.println(“Error in converting to doubl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xit(1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the catch block does not include a statement for the program to exit, the program will continue with any statements that come after i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rror messages are printed using the standard error stream System.err rather than System.out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is useful when the program output is redirected to a file. 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F65-A987-4BB3-9BFC-C23EF1402F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A1DD7-DA94-4E47-B9B8-78B451EABAC2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adder program accepting operands on command line and displaying the result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08D-5AAC-48B7-A79A-9639820ED8B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CA483-ED96-4620-991D-27D2CDD3C5C0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File Exercise5.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Exercise5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double r=0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or(int i=0;i&lt;args.length;i++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r=r+Double.parseDouble(args[i]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NumberFormatException nfe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args[i] +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 “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s not a valid operan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Result=“+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88D-C247-44F5-AC21-BE599B1265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92244-556A-438D-8007-E84D9506B182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Stack Trac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The stack trace output is a very useful feature used to discover the position of a runtime error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Example: string to number conversion excep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Test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 d = Double.parseDouble(args[0]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out.println(d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Passing the value ‘foo’ as argument (foo is not convertible to double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Exception in thread "main" java.lang.NumberFormatException: For input string: “foo"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sun.misc.FloatingDecimal.readJavaFormatString(FloatingDecimal.java:1224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java.lang.Double.parseDouble(Double.java:482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Test.main(Test.java:4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A57-FD80-4D76-92C3-09434C6EBB1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FA723-BD0E-46C3-B009-12E2B138A2CB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Input and output stream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previous examples inputs have been performed via the command line argument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ow we will read the input from the console using the stream System.i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put and output streams allow the use of file redirecting with Java program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CA3-033B-4CC8-A2AE-ABA9183139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31567-F44E-49BA-B8C0-70AA437D3576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input stre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ystem.in can only read bytes.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ystem.in is used to initialize an InputStreamReader objec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InputStreamReader object is passed as argument to the BufferedReader object constructor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line of text can be read using the BufferedReader method readLine(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putStreamReader isr = new InputStreamReader(System.in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BufferedReader br = new BufferedReader(isr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tring name = br.readLine()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BB1-02D8-43F4-B179-33E00033E1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0C6B4-D7B1-4EA6-BB8A-B2A9813D3C09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Input stream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/O problems can occur when trying to perform the reading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readLine() method throws a IOExcep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read operation must be enclosed in an appropriate try-catch block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fter all input is read from the stream it should be closed using br.close(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BDF-5010-4746-B01F-C43BE39062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F57CF-3901-4981-AE61-B7A3AF64B743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 Features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imple and powerful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use of best practices and design patterns is suggest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ecur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executable code is very far from the real machin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bject Oriented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everything is an object: from the ‘main class’ to ‘Integer’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Robust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No pointers allowed, only referenc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ongly typ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AF3-369D-4331-88E6-DE02E493CA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99237-AA84-4D4D-8B43-C8606FF85EC2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Read input stream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class ReadInputStream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static void main(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ry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putStreamReader isr = new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putStreamReader(System.in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ufferedReader br = new BufferedReader(isr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out.println(nam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atch(IOException ioe)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rr.println(“Error in reading nam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Courier New"/>
              </a:rPr>
              <a:t>System.exit(1</a:t>
            </a:r>
            <a:r>
              <a:rPr b="1" lang="en-GB" sz="1600" spc="-1" strike="noStrike">
                <a:solidFill>
                  <a:srgbClr val="0000cc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684-8C57-40A0-84EC-9C469B91CA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54F05-26E7-4359-9BC4-5E226F1928C0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Manage multiple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following not trivial example points out the multiple exception management tecniqu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lock of c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IOException exIO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 input output exception blo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ArithmeticException exAr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 arithmetic exception blo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finall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n any case do something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Different exception types are handled in separate catch block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finally clause specifies a block of code executed in any cas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54B-FB3D-464F-B951-82C5B5334D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77853-EE6F-4F35-A44B-F8602C3F205F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6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adder program accepting 2 operands from the standard input and showing the output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Remember to manage both NumberFormatException and IOException!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D15-E12E-401A-A862-30FB5EBAB3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A6F5B-6D24-4C1A-8940-A9093C656140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6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// Exercise6.java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public class Exercise6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private double getOperand(String prompt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double operand=0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(prompt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BufferedReader br = new BufferedReader(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new InputStreamReader(System.in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operand = Double.parseDouble(br.readLin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 catch (IOException exIO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ln(exIO.getMessag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 catch (NumberFormatException exNF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ln(exIO.getMessag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return operand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cc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B7E-2DED-4C68-8E53-C6A3E01415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B7B47-5B58-472D-8A7F-18D18381134F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6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Exercse6 e6 = new Exercise6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a = e6.getOperand(“A: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b = e6.getOperand(“B: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sum = a + b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System.out.println(“A+B=“+sum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B63-D32B-4A5D-8AD7-DE24C154A7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3F49D-8AAC-4992-A298-5B10968D3470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output stre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utput to the console can be handled in a similar way using the stream System.ou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stream can be converted to a OutputStreamReader object and then to a PrintWriter objec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PrintWriter class has the methods print() and println() for print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However, this is unecessary because, the stream System.out already has methods println() and print()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Solution 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OutputStreamReader osw = new OutputStreamReader(System.out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rintWriter pw = new PrintWriter(osw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println(“Hello Worl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Solution 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Hello Worl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000-8E91-4A9D-AA26-A53DF062EF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E9081-6AE7-4A60-93A8-5F099E589404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Reading and Writing fi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ather than read the inputs from a file using a stream, a file can be read directly programmatically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ilar to streams, a FileReader object, which reads characters, can be created using the name of the input file and this is used to initialize a BufferedReader object for reading a line of text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ileReader fr = new FileReader(“filename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ufferedReader br = new BufferedReader(f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(IOException ioe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Error reading name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32F-7E3C-493E-981F-76B9CC1F5282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C67BD-AE30-4CB2-99C2-991B6E51C183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File Troub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previous code is enough to read from a file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t does not provide any useful information on the source of an I/O problem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input file does not exist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input filename does not refer to a file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permissions on the file are such the file cannot be read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le is empty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le contains not enough data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lmost all of these events can be tested using a File object,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5CB-D468-449B-9F71-EB243E8313B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18D75-72F8-4E80-B2F5-C817B433D4EF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File Objec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ile inFile = new File(“filenam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exists()) throw new IOException(“Input file does not exist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isFile()) throw new IOException(“Input file is not a fil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canRead()) throw new IOException(“Cannot read input fil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inFile.length() == 0) throw new IOException(“Input file is empty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ileReader fr = new FileReader(inFile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BufferedReader br = new BufferedReader(fr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r.close(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atch(IOException ioe)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rr.println(“Error reading nam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rr.println(ioe.getMessage()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xit(1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The File methods exists(), isFile() etc do not automatically throw an IOExecep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If a problem is detected an exception can be thrown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 FileReader object can also be created using a File object..</a:t>
            </a: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F24-35DF-4F8E-B914-935C4F4E846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A3C6E-80E3-4230-895C-7DB7B2EEFF9F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Writing Fi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riting to a file follows a similar pattern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File outFile = new File(“filenam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if(!outFile.createNewFile())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throw new IOException(“Output file already exists.“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FileWriter fw = new FileWriter(outFil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ntWriter pw = new PrintWriter(fw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w.println(nam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w.clos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code is enclosed in a suitable try-catch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 new file is created for the output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an existing file is to be used, the File method canWrite() can be used to check that the file is writeable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e statemen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ileWriter fw = new FileWriter(outFile,true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ll cause output to be appended to the file.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012-D46E-4B45-B9D6-08DCB3E234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A90E1-8D78-4F0F-9E04-A8BDC05E31C4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 Features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activ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Graphical User Interfac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ultithrea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Networking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rchitecture independent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verything runs inside the virtual machin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same binary code runs on Linux, Mac-OS, Windows, etc…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preted, but “high performance”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bytecode is easy to translate into machine cod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ust in time compilers can improve this featur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NB: high performance, but not so high for high performance computing!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Easy to learn: I will demonstrate it…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0E1-DADC-4702-9446-187A77E220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09CE4-D6EE-4A6F-854A-E6DD54427CFD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7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program reading a text file, showing it line by line on the console window and then write it on another fil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Get input and output filenames from the comand lin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E51-81A0-4246-A279-0D1E7F75C09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E4FF0-40A0-4565-840B-A1C97E276C1B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7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Exercise7.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Exercise7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ufferedReader br=new BufferedReader(new FileReader(args[0]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rintWriter pw=new PrintWriter(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new FileWriter( args[1] 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tring i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while (in = br.readLine() != null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i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println(i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014-E47D-4C77-8FC2-961DDCC77B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F2B3B-D5B7-413A-B21B-9AEAB624A764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7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(IOException ex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ex.getMessage(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(IOException ex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ex.getMessage(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875-165D-4E34-8D0E-0FAB31693BA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01BF9-5CF5-4789-863B-3D8D13FB77D5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Html pages of API documentation can be automatically generated from the source code using documentation comments that are included in the program and the javadoc tool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comments are of the form /** comment */ and appear (immediately) before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class definition,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attribute declaration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finitions of the constructor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finitions of methods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comments should describe the class, attributes and methods without detailing the implementation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mplementation details can be added using  // or /* comments */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B3D-F45D-4C3A-B193-2BCE191A5CD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CFBA9-92C3-466C-8313-44690C0226F2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 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The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omputingMachin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lass is a grid computing n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author R. Montell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version 0.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 with all document comments it must be placed immediately before the declaration/definition it is describ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f an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impor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statement is placed between ‘*/’ and ‘public ..’ the comment will not be found by the javadoc tool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comment begins with a brief description of the class and is followed by two tagged comments.: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uthor’,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ersion’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A61-3F36-4973-9E6C-1F7B246C3E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9D229-1E4A-4435-8E77-86A55173A87E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ttribute 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Fully Qualified Domain Name 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The type of CPU as vendor and/or model 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Both public and private attributes and methods can be commente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ith default javadoc settings only public methods and attributes are published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A93-89D6-4B71-B94F-915A8FFAA8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A44AA-8AE6-432D-B1C3-9ECD7B7D1BE1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onstructor and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Methods Commen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Do a very computing intensive task: the su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param a the first operand of sum opera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param b the second operand of sum opera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return the sum of a and b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/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format for constructors and methods is to start with a brief description followed by the tagged parameter comment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 methods which return a value, a tagged return commen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return tagged comment is avoided in the case of void method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E0A-BC25-4AA8-9A4D-65AB6D8334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A8CF7-8491-40C2-9182-7A2F1BF08738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ducing Document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Generating the html documentation is straightforward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e comman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javadoc ComputingMachine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ll generate the file ComputingMachine.html containing the class documentation and additional html files giving information on class hierarchy and including a help guide and an index of methods and classe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command uses the default settings and will only document public attributes, constructors and method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ivate class members can be included using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javadoc –private ComputingMachine.jav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the documentation comments are omitted, the html file will still be generated but without any description of the class or  of  its member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A74-6ADA-44AA-967A-347406100F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70889-365D-45BA-A32F-63DDC5FEE441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8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documented version of ComputingMachine class implementation and generate both public and private HTML documentatio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030-71F1-49B7-91CD-DA593F59119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AFD74-93F1-4F2C-A8F9-FFACE311E481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8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The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class is a grid computing nod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author R. Montella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version 0.1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/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Fully Qualified Domain Name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The type of CPU as vendor and/or model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Number of  CPUs in SMP nodes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CPU speed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Do a very computing intensive task: the sum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param a the first operand of sum opera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param b the second operand of sum opera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return the sum of a and b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/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2DB-A224-4338-BD94-7BD2F960249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82F82-0CF7-490D-A2ED-E498E90BBE39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@Work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What you need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Development Ki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 text edi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vi or notepad are enough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jEdit is a dedicated editor (developed in Java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Netbeans and Eclipse are powerful, free and very cool (IDE, Integrated Development Environment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mmercial tools: JBuilder, IBM Visual Age for 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 book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Thinking in Java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” by </a:t>
            </a:r>
            <a:r>
              <a:rPr b="0" i="1" lang="it-IT" sz="1800" spc="-1" strike="noStrike">
                <a:solidFill>
                  <a:srgbClr val="0000cc"/>
                </a:solidFill>
                <a:latin typeface="Arial"/>
              </a:rPr>
              <a:t>Bruce Eckel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(freely downloadabl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ll needed files are on the ISSGC05 repository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578-3C98-4BF6-8042-90CE78CEDC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10C0A-4355-438F-B038-AD492D87952B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Link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ava Development Ki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va.sun.co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Edi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jedit.or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clipse.or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inking in Jav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indview.net/Books/TIJ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n online cours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cs.princeton.edu/introcs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8D5-4CD0-444D-B467-29FD499287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0D263-F063-44E7-9DB2-B7745AD6EA1D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Hello World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e break the process of programming in Java into three step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reate the program by typing it into a text editor and saving it to a file named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HelloWorld.jav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vi HelloWorld.jav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mpile it by typing in the terminal window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javac HelloWorld.jav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un (or execute) it by typing in the terminal window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java HelloWorl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832-AEF7-4C61-B4AB-312D240B2E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E12F7-39AA-42F6-AD7F-DC61C7C555C8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HelloWorld.jav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ava public classes are implemented in a file named as the clas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ny Java public class can contain one main metho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Here you are the HelloWorld.java fil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A very simple HelloWorld Java co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 class HelloWorld {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System.out.println("Hello World!"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354-3D84-44A5-BD0D-13F7C6F739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5CCB1-F0CE-44EC-A271-F5094495B379}" type="datetime8">
              <a:rPr lang="en-US"/>
              <a:t>07/29/26 18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8:23:28Z</dcterms:created>
  <dc:creator>Roger Rabbit</dc:creator>
  <dc:description/>
  <dc:language>en-US</dc:language>
  <cp:lastModifiedBy>Roger Rabbit</cp:lastModifiedBy>
  <dcterms:modified xsi:type="dcterms:W3CDTF">2005-07-11T12:01:03Z</dcterms:modified>
  <cp:revision>112</cp:revision>
  <dc:subject/>
  <dc:title>Java Primer and Renewal</dc:title>
</cp:coreProperties>
</file>