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89BC-703E-48F5-86E1-7F59E897752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092B-A089-4BF0-84A9-E7EC7563E9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3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this is very artificial example, e.g. there is a standard for date representation which should be used  rather than a US date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8CB4-F155-48C8-9ABE-39280C21E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11940-B248-455B-8014-7E128A8E1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BBE8-43C0-4A73-8FB4-64FB73C34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6AF7-8814-4D9B-93F2-631BB1A83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477D-4809-49AF-8A82-0C139E179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36562-858E-4B6B-9E0D-843C8ACC76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6925A-EE08-4CDA-8E34-E9EA3497D1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529F1-2F7D-40BF-99CA-2E19101158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9011E-95CC-4887-8A3C-C2D0B99DCF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7A674-67BC-4295-B602-713E6635D8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12F1-0D63-478F-8799-E0F91886F9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BC0C2-AAE0-425E-A6E8-EFBBF69981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0EA5B-3921-4610-AEF2-7CB84CE108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FE9B4-C53B-452D-B0F1-356E6B7C11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1F3EA-AEC3-4706-A7AF-18CAFA7DB8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0E1E1-112E-4B1E-B157-DAF3DAC049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CEC20-BF67-4589-9CCB-F66AEAA1CA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A5DBF-C3C3-470C-98CE-F062C3E0F8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A1EF-C9E5-497D-8933-83543D47C0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800B-596D-4185-814A-69C98244F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FD90-C822-453E-8AD6-6C916BA89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F810-3268-48A6-9EA1-B13C37695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6F82-3277-4846-85FE-7E90EFBB9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F2C85-394D-4191-8741-A4A94A359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17A6-3396-4F0E-906C-5293569BB78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X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779F-771A-4555-A78A-60076A79E6C9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3.org/TR/REC-xml-names" TargetMode="External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document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600" y="955440"/>
            <a:ext cx="8589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ain structure of document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log – like headers; usualy standard and un-interest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– the actual document – recursively has nested eleme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mmediately following the prolo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iscellaneou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white space and “supplementals” allowed throughout with some restric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upplemental –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Com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ocessing Instruction (PI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1680" y="4373640"/>
            <a:ext cx="6165720" cy="2026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“1.0”  encoding=“UTF-8”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- - This is an example XML document - -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-stylesheet  type=“text/ccs”  href=“greet.ccs” 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voice&gt; …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45400" y="4460760"/>
            <a:ext cx="212760" cy="1009800"/>
          </a:xfrm>
          <a:custGeom>
            <a:avLst/>
            <a:gdLst>
              <a:gd name="textAreaLeft" fmla="*/ 0 w 212760"/>
              <a:gd name="textAreaRight" fmla="*/ 76680 w 2127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13720" y="5732640"/>
            <a:ext cx="285840" cy="539640"/>
          </a:xfrm>
          <a:custGeom>
            <a:avLst/>
            <a:gdLst>
              <a:gd name="textAreaLeft" fmla="*/ 0 w 285840"/>
              <a:gd name="textAreaRight" fmla="*/ 103320 w 285840"/>
              <a:gd name="textAreaTop" fmla="*/ 14040 h 539640"/>
              <a:gd name="textAreaBottom" fmla="*/ 5256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36640" y="478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prolo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59680" y="5668920"/>
            <a:ext cx="106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oo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7800" y="44402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I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3080" y="456876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69840" y="4732200"/>
            <a:ext cx="44136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273640"/>
            <a:ext cx="13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44480" y="4928760"/>
            <a:ext cx="63828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65FDC-275B-4B0B-BF40-B1587A6AED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incipal element structur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art Tag – &lt;…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of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Zero or more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a name-value pair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quely named; 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rder insignifica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tent – possibly nested </a:t>
            </a:r>
            <a:r>
              <a:rPr b="0" lang="en-US" sz="1800" spc="-1" strike="noStrike" u="sng">
                <a:solidFill>
                  <a:srgbClr val="00338f"/>
                </a:solidFill>
                <a:uFillTx/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, and other thing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nd Tag - &lt;/ … 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– MUST be same name as in matching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ike HTML – but stricter – must have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5760" y="1471680"/>
            <a:ext cx="6611760" cy="1277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6000" y="15987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66000" y="24019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66000" y="20019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00920" y="1541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01640" y="2332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01640" y="1954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835560" y="939960"/>
            <a:ext cx="142920" cy="78912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89120"/>
              <a:gd name="textAreaBottom" fmla="*/ 76860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7600" y="833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603520" y="171000"/>
            <a:ext cx="142920" cy="2327400"/>
          </a:xfrm>
          <a:custGeom>
            <a:avLst/>
            <a:gdLst>
              <a:gd name="textAreaLeft" fmla="*/ 0 w 142920"/>
              <a:gd name="textAreaRight" fmla="*/ 51480 w 142920"/>
              <a:gd name="textAreaTop" fmla="*/ 60480 h 2327400"/>
              <a:gd name="textAreaBottom" fmla="*/ 22669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5244120" y="563760"/>
            <a:ext cx="150840" cy="1549440"/>
          </a:xfrm>
          <a:custGeom>
            <a:avLst/>
            <a:gdLst>
              <a:gd name="textAreaLeft" fmla="*/ 0 w 150840"/>
              <a:gd name="textAreaRight" fmla="*/ 54360 w 150840"/>
              <a:gd name="textAreaTop" fmla="*/ 40320 h 1549440"/>
              <a:gd name="textAreaBottom" fmla="*/ 150912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26400" y="833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4880" y="8334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: name-value pai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225E0-79E1-4493-8443-D32BD23D22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1661760"/>
            <a:ext cx="8589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-value pair that is included in the start tag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 is part of specific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may also be part of a specific language – QName – qualified 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ore properly the above might b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Type =“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d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Style=“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”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tarts to get convoluted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ecessary for designing for multi-lingual documents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5760" y="1047600"/>
            <a:ext cx="8737560" cy="450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 ….  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E01A-1919-4FA8-844D-D8008D6874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ty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3486240"/>
            <a:ext cx="858996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mpty Element Tag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orthand for element with no cont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ust attributes perhap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dicated by   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&gt;     not    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me a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&gt;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account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6640" y="1312920"/>
            <a:ext cx="5505120" cy="2056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6920" y="134460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61320" y="29113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00840" y="1724040"/>
            <a:ext cx="192240" cy="1069920"/>
          </a:xfrm>
          <a:custGeom>
            <a:avLst/>
            <a:gdLst>
              <a:gd name="textAreaLeft" fmla="*/ 0 w 192240"/>
              <a:gd name="textAreaRight" fmla="*/ 69480 w 192240"/>
              <a:gd name="textAreaTop" fmla="*/ 27720 h 1069920"/>
              <a:gd name="textAreaBottom" fmla="*/ 10422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1840" y="128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5400" y="28987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54280" y="20844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1800" y="2013120"/>
            <a:ext cx="1831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mpty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85120" y="2100240"/>
            <a:ext cx="196920" cy="263520"/>
          </a:xfrm>
          <a:custGeom>
            <a:avLst/>
            <a:gdLst>
              <a:gd name="textAreaLeft" fmla="*/ 0 w 196920"/>
              <a:gd name="textAreaRight" fmla="*/ 70920 w 196920"/>
              <a:gd name="textAreaTop" fmla="*/ 6840 h 263520"/>
              <a:gd name="textAreaBottom" fmla="*/ 2566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20E22-EFD6-445C-9696-6667E2D936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sted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5600" y="3968640"/>
            <a:ext cx="85899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ccount and Items are child element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on-unique nam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order is significa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is not a usual programming language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est if each compound item is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tructure (Struct) – uniquely 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rray – multiple same-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8920" y="1103400"/>
            <a:ext cx="5227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ustomerType=“trade” dateStyle=“US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No=“17-36-2” terms=“days3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5840" y="1112760"/>
            <a:ext cx="2831040" cy="269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tems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4200" y="1298520"/>
            <a:ext cx="0" cy="2059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88080" y="15922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8080" y="19000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88080" y="33544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43880" y="2023920"/>
            <a:ext cx="0" cy="760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54680" y="276372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54680" y="247320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54680" y="218268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D7D53-9938-400A-B20E-4B54D0B52A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Character  (Simple) 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5600" y="3195720"/>
            <a:ext cx="858996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0000"/>
                </a:solidFill>
                <a:latin typeface="Arial"/>
              </a:rPr>
              <a:t>&lt;price&gt; 17.35 &lt;/price&gt;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is an element with just character dat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A simple valu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l simple values are text strings, but may have particular syntax and interpretation as decimal, integer, date, …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3240" y="1128600"/>
            <a:ext cx="8074080" cy="1923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7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0/29/0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173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65824-C0CF-4CBF-8608-666866F5B3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4175280"/>
            <a:ext cx="8888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ill use XML a lot  - Schemas, Soap messages, WSDL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use clearer/briefer not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xtual – direct translation to actual XM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nerally will use indentation to indicat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bbreviate End Tags to just &lt;/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lways have to actually put name in end tag !!!!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ree diagram – to emphasis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907920"/>
            <a:ext cx="7935840" cy="3111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ice currency=“Euro”&gt;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3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Cod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-23-57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1000" y="1119240"/>
            <a:ext cx="0" cy="2168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840" y="109872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6600" y="136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6600" y="2765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6600" y="329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3560" y="2776680"/>
            <a:ext cx="0" cy="168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" y="1362240"/>
            <a:ext cx="0" cy="1082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560" y="165096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" y="192240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560" y="22082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3560" y="246528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560" y="3305160"/>
            <a:ext cx="0" cy="468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3560" y="35798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CEB05-7B09-4A7E-93ED-762D8C78AB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-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32080" y="2475000"/>
            <a:ext cx="5911920" cy="328680"/>
          </a:xfrm>
          <a:prstGeom prst="leftArrow">
            <a:avLst>
              <a:gd name="adj1" fmla="val 50000"/>
              <a:gd name="adj2" fmla="val 44967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CCEE8-6E9E-4633-B778-5178AEAE8B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2948040"/>
            <a:ext cx="858996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space (= “language”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fines a collection of names (a vocabul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UK : {address, county, postCode, ….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has an associated syntax (e.g. Schema definition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ddress = … county, postCode,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yntax may be available to S/W proces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mplies a semantics – the (programmer writing) S/W processing a UK:address knows what it mea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vides a unique prefix for disambiguating names from different originator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K vs. US vs. 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7080" y="923760"/>
            <a:ext cx="8889840" cy="1869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voice&gt;                                                 &lt;!-- INT = International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-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livery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un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post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billing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907E9-39BE-494E-A8F5-0CC0669C15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Na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o get uniqueness of namespace name, use a URI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postCode is really 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HTTP://www.UKstandards.org/Web/XMLForms:postCode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       (mythical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The URI </a:t>
            </a: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migh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be a real URL, for accessing the syntax definition, documentation, …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But it may be just an identifier within the internet domain owned by the namespace owner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DFC49-E835-4D38-B5BB-F6B55C89DE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83536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23FC7-2896-4280-AF5B-D8FB4F128E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UK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 is really 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www.UKstandards.org/Web/XMLForms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t HTTP://www.UKstandards.org/Web/XML/Form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ostCode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ediously long to use throughout th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Outside XML name syntax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amespaces are not part of XM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supplementary standard </a:t>
            </a:r>
            <a:r>
              <a:rPr b="0" lang="en-GB" sz="18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ww.w3.org/TR/REC-xml-names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W3C recommend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 an XML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clare a namespace prefix, as an attribute of an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xmlns: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=“HTTP://www.UKstandards.org/Web/XML/Forms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n use that for names in that namespace - U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 code is called a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Nam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(qualified nam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A9859-2DA2-4DA5-A926-90B80E44E0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 Decla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3703680"/>
            <a:ext cx="858996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space declaration occurs as an attribute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.e. within a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cope is from beginning of  that start tag to matching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xcluding scope of nested re-declarations of same prefix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an declare a defaul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xlmns=“www/3”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this is the name space for all un-qualified names in the scope of this declaration, eg. Stree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 defaulting for attributes – if no prefix, no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4120" y="1158840"/>
            <a:ext cx="7926480" cy="260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xlmns:BF=“www/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xlmns:UK=“www/2”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xmlns=“www/3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                                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delivery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ress&gt; …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nty&gt;…&lt;/&gt; &lt;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Code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illing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xlmns:US=“www. …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 …&lt;street&gt;…&lt;/&gt; …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invo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000" y="939960"/>
            <a:ext cx="78120" cy="204480"/>
          </a:xfrm>
          <a:custGeom>
            <a:avLst/>
            <a:gdLst/>
            <a:ahLst/>
            <a:rect l="l" t="t" r="r" b="b"/>
            <a:pathLst>
              <a:path w="49" h="129">
                <a:moveTo>
                  <a:pt x="49" y="0"/>
                </a:moveTo>
                <a:lnTo>
                  <a:pt x="0" y="129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9360" y="949320"/>
            <a:ext cx="2286000" cy="2689200"/>
          </a:xfrm>
          <a:custGeom>
            <a:avLst/>
            <a:gdLst/>
            <a:ahLst/>
            <a:rect l="l" t="t" r="r" b="b"/>
            <a:pathLst>
              <a:path w="1446" h="1541">
                <a:moveTo>
                  <a:pt x="1446" y="117"/>
                </a:moveTo>
                <a:lnTo>
                  <a:pt x="1422" y="0"/>
                </a:lnTo>
                <a:lnTo>
                  <a:pt x="0" y="0"/>
                </a:lnTo>
                <a:lnTo>
                  <a:pt x="6" y="1507"/>
                </a:lnTo>
                <a:lnTo>
                  <a:pt x="919" y="1541"/>
                </a:lnTo>
                <a:lnTo>
                  <a:pt x="919" y="1412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8680" y="1795320"/>
            <a:ext cx="554040" cy="14616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332000" y="2481120"/>
            <a:ext cx="2023920" cy="41940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55920" y="2509920"/>
            <a:ext cx="922320" cy="39996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4320" y="2479680"/>
            <a:ext cx="2527200" cy="41112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94200" y="1469880"/>
            <a:ext cx="3530520" cy="487440"/>
          </a:xfrm>
          <a:custGeom>
            <a:avLst/>
            <a:gdLst/>
            <a:ahLst/>
            <a:rect l="l" t="t" r="r" b="b"/>
            <a:pathLst>
              <a:path w="2224" h="307">
                <a:moveTo>
                  <a:pt x="2224" y="0"/>
                </a:moveTo>
                <a:lnTo>
                  <a:pt x="110" y="152"/>
                </a:lnTo>
                <a:lnTo>
                  <a:pt x="0" y="307"/>
                </a:ln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8680" y="2448000"/>
            <a:ext cx="554040" cy="14580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C7B8D-9CDD-416C-854A-34A38882F1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ll-formed and Val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Well-forme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XML syntax, e.g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rt and end tags nest properly with matching nam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Vali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syntax defined by the namespaces u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an’t check this without a definition of that syntax –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rmally a Schem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TD (document Type Definitions) – deprecat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thers type definition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some more sophisticated than Schema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46DF2-2194-40F9-A185-ABDED3F126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EN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BAD48-01CB-490F-9439-BBF7F6D96E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Markup Languag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rkup” means document is an intermixing o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Content – the actual information to be conveyed - payloa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Markup – information about the conten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22/10/1946&lt;/date&gt;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 … &lt;/date&gt;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 markup – says that the content is a dat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elf-describing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part of a markup vocabulary –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 collection of keywords used to identify syntax and semantics of constructs in an XML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02558-9646-4D90-B6A8-C255B1092B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xtensible” means the markup vocabulary is not fix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pare with similar NON-extensible languag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TML (Hypertext Markup Languag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ixed markup vocabulary  e.g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is a paragraph. I like it.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is 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another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paragraph &lt;/p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esentation </a:t>
            </a:r>
            <a:r>
              <a:rPr b="1" lang="en-GB" sz="1800" spc="-1" strike="noStrike" u="sng">
                <a:solidFill>
                  <a:srgbClr val="00338f"/>
                </a:solidFill>
                <a:uFillTx/>
                <a:latin typeface="Arial"/>
              </a:rPr>
              <a:t>language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for describing how a document should be presented for human consumption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a paragraph. I like it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noth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paragraph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HTML the language is fixed and implicit in the fact that this is an HTML document – single-languag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requires explicit definition of th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ne document can combine multiple langu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2AD37-16E6-474C-BBB7-614A9F75A3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lingual 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9680" y="3494160"/>
            <a:ext cx="900432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Forms:Invoi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Invoice construct within the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sinessForms (mythica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language defining structure of business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business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oesn’t prescribe the language of individual items such as da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aken from separate languages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notations:da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Language names are actually universally unique URIs – www.DesperatelyTryingToStandardise.org/BusinessForms -  see lat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1040" y="895320"/>
            <a:ext cx="8666280" cy="2562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F7183-725E-41E4-8B55-214F205F3E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lingual  Pros  &amp; C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paration of concerns – Design Factor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ig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chase order structure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date format etc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re independent concer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-use of language definitions, e.g. date formats in many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tensibility – Purchase order accommodates new product identification schemes (e.g. ISBN for book stor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f course, only works if both ends “understand” all languages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kes things more complex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reating and identifying the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1040" y="895320"/>
            <a:ext cx="8666280" cy="1930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BBB64-E5A0-4397-8DD3-C9C47BA447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XML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5600" y="907560"/>
            <a:ext cx="879804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Fundamental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. SOAP - the language for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ap-envelope:head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ap-envelope: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soap message is an XML document and its parts are identified using this vocabula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oal is a factoring that gives pick-and-mix of combinabl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ssociated with any WS standard will be a Schema definition of its XML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munity conven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erhaps, our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alised Data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Java configuration t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fic Application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Program:parameter1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e language used in invoking particular operations of a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292A6-9228-44C9-8D1C-B718351F03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&amp; Machine Oriente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94080" y="987120"/>
            <a:ext cx="46418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Human read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ort of - OK with decent editor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s de-buggabl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mportant for meta-data documents,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chine process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elf description enabl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General tools for producing and consuming XML docum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Verbos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OK except for large data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Messages may have attachments not in 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1040" y="895320"/>
            <a:ext cx="3929040" cy="5515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w it really look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3-768-252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 businessForms:Invoice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BBA33-8C03-4C0C-A165-2616553AAD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– DETAILED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35320" y="2109960"/>
            <a:ext cx="5008680" cy="328320"/>
          </a:xfrm>
          <a:prstGeom prst="leftArrow">
            <a:avLst>
              <a:gd name="adj1" fmla="val 50000"/>
              <a:gd name="adj2" fmla="val 38138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2DA1A-9799-4CA3-80AF-AB84C9B734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09:39:16Z</dcterms:modified>
  <cp:revision>100</cp:revision>
  <dc:subject/>
  <dc:title>XML</dc:title>
</cp:coreProperties>
</file>