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3.wmf" ContentType="image/x-wmf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896B-1A22-4A5A-A3B2-0414A56BB1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88CE-7E94-4F94-93CF-AB1AE5981E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2162-330A-4964-92C1-5B5164CB8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724A-ED76-45E2-99C5-B47AC503D9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82B1-ECA4-4D11-ABD1-0B374F334F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5BF4-E589-4181-9151-46658493EE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826D-654C-45F4-8DBC-35E51CC986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67CA-9B0A-493C-A220-2027AA2A3A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3154-18E6-48F7-B5E1-1F1DD71AD2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1AFF-6F6E-4080-9D31-DAE8851961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94F2-8EF2-486D-8425-CE4220D0B3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A6B7-F795-4D3E-B29F-537D4EB0E3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E76FD-2903-43C6-A35E-2BD03B01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43A4-2B88-4B53-A4CE-6F8A7885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996A9-44D8-46D6-8C89-FC5EF387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25723-025B-4698-94EE-4D4E6B6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61C8-AC12-4967-8242-7C759AB3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305DC-5D66-44D8-868E-1234FE3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5C91-C22A-4013-94C3-6B8E3BC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B1C3-6252-4D99-8870-201192A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D334E-767D-4836-9F60-3DB1EA8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D6263-3B56-45AA-A6C1-1214A088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FABE2-52EC-4D67-8706-5EFC5E50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8086B-459B-4AA6-93E8-4BD6B794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398BA-2803-48CB-A7C3-935700B6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6CDAD-E073-4FC0-A55A-95839933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DFFA4-040F-454C-B8B8-D7369F8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B4F93-A7EF-4D99-99F3-FE3A6C92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395D7-4E62-4F07-AC09-D15D648F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B6D56-0115-4421-8146-902E379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FBF18-9EE9-441B-911E-4BC7EC4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DE120-8FD4-4E2C-A7D9-B7F3A9E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5CE4-3345-44D9-A5B3-923C1C7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90479-830C-49AB-9B1B-A567CC8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4AE42-D047-42CD-99CB-8E17497E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5777B-1C1D-48D8-937E-29C0DEBF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6880" y="6629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ffcc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International Summer School on Grid Computing, Vico Equense, 16 July 2005 - </a:t>
            </a:r>
            <a:fld id="{8A4D3810-372C-4C79-A63A-50B5D049F0C8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icrosoft Sans Serif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con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20619e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Thir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our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if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ix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ven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13720"/>
            <a:ext cx="9144000" cy="7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110360" y="6224760"/>
            <a:ext cx="925560" cy="47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-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765920" y="503280"/>
            <a:ext cx="133200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1258920" y="624996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6237360"/>
            <a:ext cx="720072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4273560" y="6335640"/>
            <a:ext cx="1200240" cy="34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12760" y="65134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107F-46C5-4FEF-8B4E-D18053907674}" type="slidenum">
              <a:rPr b="1" lang="en-GB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58B-FCD1-4603-800C-9CCDEC882329}" type="slidenum"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9814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3805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425F-6E1A-45D7-8BF4-E0DDCDBAB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48E-71F1-470F-A325-F56E5E3FD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9000" y="1523880"/>
            <a:ext cx="5486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7160" y="45720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ternational Summer School on Grid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Vico Equense, 16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Jul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532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590920"/>
            <a:ext cx="467352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oday’s Wealth of Data: Are we ready for its challenges?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Malcolm Atkinson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Director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National e-Science Centre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www.nesc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16680" y="1390680"/>
            <a:ext cx="35715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660240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GSA-DAI Downloads R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72200" y="721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1080" y="1989000"/>
            <a:ext cx="34192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90 downloads since Dec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ual user downloads not search engine craw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Does not include downloads as part of GT3.2 and GT4 rel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of 1212 registered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0 (Ja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5 (Feb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0 (Apr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5 (Ju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0 (Jul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1 (Feb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4.0 (May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61640" y="5877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t 17/5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60" y="5157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interest from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embers of staff starting May 2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1960" y="450720"/>
            <a:ext cx="75103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Goals for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22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m to deliver application mechanisms tha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et the data requirements of Grid application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unctionality, performance and reliabil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Reduce development cost of data-centric Grid applic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Provide consistent interfaces to data resourc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able and supportable by database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 base for developing higher-level servi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ata fed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istributed query process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visualis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1960" y="458640"/>
            <a:ext cx="75103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re features of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 framework for building ap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relational, xml and some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ySQL, Oracle, DB2, SQL Server, Postgres, XIndice, CSV, EMB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delivery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OAP, FTP, GridFTP, HTTP, files, email, inter-serv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transfo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XSLT, ZIP, GZi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message level security using X5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lient Toolkit library for application develo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mprehensive documentation and tuto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ly ext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trength is in customising out-of-box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fficient client-server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inimise number of messages exchan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ne request abstracts multiple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 unnecessary data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ve computation to th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tilise third-party deli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pply transforms (e.g., compres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uild on existing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lling-in gaps where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 not virtualise underlying data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sers must know where to target que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dular and customis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to accommodate stronger secu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nnot anticipate all desired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tivity = unit of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low users to add their 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common access vie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ardless of underlying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verything looks like a database” metaph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cess mechanism common to all cli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s well with other Grid softw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GSA, WSRF and OMII compli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on’t tie you to storage infra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You Might Not Want To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slower than direct connection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compared to JDB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hould improve with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ility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ly but not completely kn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pend on type of use (e.g. delivery mechanis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planning to use one type of data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don’t care about interoperability with other Gri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an overkill in that c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24360" y="3139920"/>
            <a:ext cx="302400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Mobi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342900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D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371628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OGSA-D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20000" y="1700280"/>
            <a:ext cx="1728720" cy="22334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1125360"/>
            <a:ext cx="31687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2560" y="177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DataService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0628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14440" y="681120"/>
            <a:ext cx="124956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82600"/>
            <a:ext cx="914400" cy="62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78936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est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9079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13372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24720" y="242100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1700280"/>
            <a:ext cx="43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372360" y="3500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63640" y="2276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17800" y="205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7800" y="277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7480" y="39337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–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erform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4724280"/>
            <a:ext cx="2735280" cy="165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Servic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1440" y="4933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-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0720" y="55897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144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465300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sponse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4221000"/>
            <a:ext cx="2592360" cy="144720"/>
          </a:xfrm>
          <a:custGeom>
            <a:avLst/>
            <a:gdLst/>
            <a:ahLst/>
            <a:rect l="l" t="t" r="r" b="b"/>
            <a:pathLst>
              <a:path w="1633" h="91">
                <a:moveTo>
                  <a:pt x="0" y="0"/>
                </a:moveTo>
                <a:lnTo>
                  <a:pt x="1633" y="0"/>
                </a:lnTo>
                <a:lnTo>
                  <a:pt x="1633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556000" y="443700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4360" y="429264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136" y="499"/>
                </a:moveTo>
                <a:lnTo>
                  <a:pt x="136" y="0"/>
                </a:lnTo>
                <a:lnTo>
                  <a:pt x="635" y="0"/>
                </a:lnTo>
                <a:lnTo>
                  <a:pt x="635" y="499"/>
                </a:lnTo>
                <a:lnTo>
                  <a:pt x="771" y="635"/>
                </a:lnTo>
                <a:lnTo>
                  <a:pt x="0" y="635"/>
                </a:lnTo>
                <a:lnTo>
                  <a:pt x="136" y="4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1640" y="4363920"/>
            <a:ext cx="649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mput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&amp;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torag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465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150192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27400" y="1971720"/>
            <a:ext cx="14144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551664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72360" y="609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24360" y="1341360"/>
            <a:ext cx="93528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5640" y="4005360"/>
            <a:ext cx="93492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2682720"/>
            <a:ext cx="180036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gg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344680" y="3166560"/>
            <a:ext cx="1201680" cy="4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57280" y="1933560"/>
            <a:ext cx="121464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Microsoft Sans Serif"/>
              </a:rPr>
              <a:t>Good Bye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hank you for coming to ISSGC’0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ell your friends to come next year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Verdana"/>
              </a:rPr>
              <a:t>What is e-Science?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760" y="1125000"/>
            <a:ext cx="8648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Goal: to enable bett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ethod: Invention and exploitation of advanced computation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generate, curate and analyse resear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rom experiments, observations and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Quality management, preservation and reliabl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develop and explore models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Computation and data at extrem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Trustworthy, economic, timely and releva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enable </a:t>
            </a:r>
            <a:r>
              <a:rPr b="0" i="1" lang="en-GB" sz="2000" spc="-1" strike="noStrike">
                <a:solidFill>
                  <a:srgbClr val="000066"/>
                </a:solidFill>
                <a:latin typeface="Verdana"/>
              </a:rPr>
              <a:t>dynamic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distributed virtu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acilitating collaboration with information and 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Security, reliability, accountability, manageability and </a:t>
            </a:r>
            <a:r>
              <a:rPr b="0" i="1" lang="en-GB" sz="1800" spc="-1" strike="noStrike">
                <a:solidFill>
                  <a:srgbClr val="000066"/>
                </a:solidFill>
                <a:latin typeface="Verdana"/>
              </a:rPr>
              <a:t>ag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920" y="5826240"/>
            <a:ext cx="873036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Multiple, independently managed sources of data – each with own time-varying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9480" y="6216480"/>
            <a:ext cx="864504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Creative researchers discover new knowledge by combining data from multip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143000"/>
            <a:ext cx="8458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I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is need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motiv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Integration of Scient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Verdana"/>
              </a:rPr>
              <a:t>Publication and sharing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rimary data from observation, simulation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courages novel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llows validation of methods and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ables discovery by combining data independently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Large-scal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Economies: data production, publication &amp;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Sharing cost of storage, management and c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Many researchers contributing incr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ooling annotation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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rapid incremental pub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nd crit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glob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Data &amp; code travel faster and more chea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tempor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Researchers assem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Later (other) researchers acc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82160" y="3048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and Deci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7120" y="3886200"/>
            <a:ext cx="2590560" cy="2684520"/>
            <a:chOff x="6477120" y="3886200"/>
            <a:chExt cx="2590560" cy="2684520"/>
          </a:xfrm>
        </p:grpSpPr>
        <p:sp>
          <p:nvSpPr>
            <p:cNvPr id="290" name=""/>
            <p:cNvSpPr/>
            <p:nvPr/>
          </p:nvSpPr>
          <p:spPr>
            <a:xfrm>
              <a:off x="7391520" y="3886200"/>
              <a:ext cx="75960" cy="10666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4368600"/>
              <a:ext cx="1511280" cy="1625760"/>
            </a:xfrm>
            <a:custGeom>
              <a:avLst/>
              <a:gdLst/>
              <a:ahLst/>
              <a:rect l="l" t="t" r="r" b="b"/>
              <a:pathLst>
                <a:path w="952" h="1024">
                  <a:moveTo>
                    <a:pt x="600" y="32"/>
                  </a:moveTo>
                  <a:cubicBezTo>
                    <a:pt x="668" y="16"/>
                    <a:pt x="736" y="0"/>
                    <a:pt x="792" y="32"/>
                  </a:cubicBezTo>
                  <a:cubicBezTo>
                    <a:pt x="848" y="64"/>
                    <a:pt x="952" y="144"/>
                    <a:pt x="936" y="224"/>
                  </a:cubicBezTo>
                  <a:cubicBezTo>
                    <a:pt x="920" y="304"/>
                    <a:pt x="816" y="448"/>
                    <a:pt x="696" y="512"/>
                  </a:cubicBezTo>
                  <a:cubicBezTo>
                    <a:pt x="576" y="576"/>
                    <a:pt x="328" y="560"/>
                    <a:pt x="216" y="608"/>
                  </a:cubicBezTo>
                  <a:cubicBezTo>
                    <a:pt x="104" y="656"/>
                    <a:pt x="48" y="736"/>
                    <a:pt x="24" y="800"/>
                  </a:cubicBezTo>
                  <a:cubicBezTo>
                    <a:pt x="0" y="864"/>
                    <a:pt x="48" y="960"/>
                    <a:pt x="72" y="992"/>
                  </a:cubicBezTo>
                  <a:cubicBezTo>
                    <a:pt x="96" y="1024"/>
                    <a:pt x="152" y="992"/>
                    <a:pt x="168" y="99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2480" y="5365800"/>
              <a:ext cx="178704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Own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34520" y="5562360"/>
              <a:ext cx="533160" cy="100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990000"/>
                  </a:solidFill>
                  <a:latin typeface="Verdana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sites, large collections, many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Research requirements outlive technic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No “one size fits all” solutions 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Primary Data, Data Products, Meta Data, Administrative dat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any 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dependently owned &amp;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Work hard for agreements on foundation types and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utonomous decisions change data, structure, polic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Geograph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990720"/>
            <a:ext cx="2521080" cy="649080"/>
          </a:xfrm>
          <a:prstGeom prst="wedgeRectCallout">
            <a:avLst>
              <a:gd name="adj1" fmla="val -106736"/>
              <a:gd name="adj2" fmla="val 6687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tabyte of Digital Data / Hospital /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Verdana"/>
              </a:rPr>
              <a:t>Data Access and Integration: </a:t>
            </a:r>
            <a:r>
              <a:rPr b="1" lang="en-GB" sz="2800" spc="-1" strike="noStrike">
                <a:solidFill>
                  <a:srgbClr val="000066"/>
                </a:solidFill>
                <a:latin typeface="Verdana"/>
              </a:rPr>
              <a:t>Scientific discovery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hoosing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find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they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describe and advertise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Is the equivalent of Google possibl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Obtaining access to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administrativ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technical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Understanding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parts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care about for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Extracting nuggets from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Pieces of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jigsaw puz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ombing them using sophisticat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picture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of reality in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nalysis on scales required b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data access with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Repe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Examining variations, covering a set of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Monitoring the emerging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with scientific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905120"/>
            <a:ext cx="3429000" cy="147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’re an inno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r model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thei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gotiation &amp; patience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eded from </a:t>
            </a:r>
            <a:r>
              <a:rPr b="0" i="1" lang="en-GB" sz="1800" spc="-1" strike="noStrike">
                <a:solidFill>
                  <a:srgbClr val="990000"/>
                </a:solidFill>
                <a:latin typeface="Verdana"/>
              </a:rPr>
              <a:t>both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Mohammed &amp; Mountain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920" y="1066680"/>
            <a:ext cx="816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Petabytes of Data cannot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t stays where it is produced or c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Hospitals, observatories, European Bioinformatics Institut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few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caches and 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small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proportion 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collaborat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Expertise in curation, simulation &amp;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&amp; diverse dat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iscovery depends on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Unpredictable sophisticated 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Tested by combining data from many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Using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novel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sophisticated models &amp;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Scientific Data:</a:t>
            </a:r>
            <a:br>
              <a:rPr sz="2800"/>
            </a:b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Opportunities and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56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Global Production of </a:t>
            </a:r>
            <a:r>
              <a:rPr b="1" i="1" lang="en-GB" sz="1800" spc="-1" strike="noStrike">
                <a:solidFill>
                  <a:srgbClr val="000066"/>
                </a:solidFill>
                <a:latin typeface="Verdana"/>
              </a:rPr>
              <a:t>Published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Volume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versity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ation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Analysis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38560" y="1219320"/>
            <a:ext cx="44719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Hu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eagre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Optimise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4290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pecialised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Data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Varied 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hared 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Intensive Data &amp;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47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Fundament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pproximate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Multi-scale 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utonomou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Legacy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cale and Longe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Privacy and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ustained Support /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00000" y="242100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Cornucopia of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earch Challen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he Story so Far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Technology enables Grids, More Data &amp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Distributed systems for shar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ssential, ubiquitous &amp;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Therefore share methods and technology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ollaboration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har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(Structured) Data is the language of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Access &amp; Integration a Ubiquitous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Primary data, metadata, administrative &amp; syste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hard technical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cale, heterogeneity, distribution, dynam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timate combinations of data and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With unpredictable (autonomous) development of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2514600"/>
            <a:ext cx="2743200" cy="1447920"/>
          </a:xfrm>
          <a:prstGeom prst="wedgeRoundRectCallout">
            <a:avLst>
              <a:gd name="adj1" fmla="val -184953"/>
              <a:gd name="adj2" fmla="val 58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Structure enables understanding, operations, management and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3:09:39Z</dcterms:created>
  <dc:creator>Malcolm Atkinson</dc:creator>
  <dc:description/>
  <dc:language>en-US</dc:language>
  <cp:lastModifiedBy>Malcolm Atkinson</cp:lastModifiedBy>
  <dcterms:modified xsi:type="dcterms:W3CDTF">2005-07-16T06:49:53Z</dcterms:modified>
  <cp:revision>196</cp:revision>
  <dc:subject>Presentation at Vico Equense: Second Summer School on Grid Computing</dc:subject>
  <dc:title>Intro. to Data Access and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7395533</vt:r8>
  </property>
  <property fmtid="{D5CDD505-2E9C-101B-9397-08002B2CF9AE}" pid="3" name="_AuthorEmailDisplayName">
    <vt:lpwstr>Fabrizio Gagliardi</vt:lpwstr>
  </property>
  <property fmtid="{D5CDD505-2E9C-101B-9397-08002B2CF9AE}" pid="4" name="_EmailSubject">
    <vt:lpwstr>[Fwd: Updated version of agenda and abstract booklet for meeting on Mar	ch 18th - 19th]</vt:lpwstr>
  </property>
  <property fmtid="{D5CDD505-2E9C-101B-9397-08002B2CF9AE}" pid="5" name="_ReviewingToolsShownOnce">
    <vt:lpwstr/>
  </property>
</Properties>
</file>