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4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_rels/notesSlide9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85.xml.rels" ContentType="application/vnd.openxmlformats-package.relationships+xml"/>
  <Override PartName="/ppt/notesSlides/notesSlide89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0.wmf" ContentType="image/x-wmf"/>
  <Override PartName="/ppt/media/image2.png" ContentType="image/png"/>
  <Override PartName="/ppt/media/image20.png" ContentType="image/png"/>
  <Override PartName="/ppt/media/image3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7316640" cy="9602640"/>
          </a:xfrm>
          <a:custGeom>
            <a:avLst/>
            <a:gdLst>
              <a:gd name="textAreaLeft" fmla="*/ 360 w 7316640"/>
              <a:gd name="textAreaRight" fmla="*/ 7316280 w 7316640"/>
              <a:gd name="textAreaTop" fmla="*/ 360 h 9602640"/>
              <a:gd name="textAreaBottom" fmla="*/ 9602280 h 9602640"/>
            </a:gdLst>
            <a:ahLst/>
            <a:rect l="textAreaLeft" t="textAreaTop" r="textAreaRight" b="textAreaBottom"/>
            <a:pathLst>
              <a:path w="21600" h="28348">
                <a:moveTo>
                  <a:pt x="4" y="0"/>
                </a:moveTo>
                <a:arcTo wR="4" hR="4" stAng="16200000" swAng="-5400000"/>
                <a:lnTo>
                  <a:pt x="0" y="28344"/>
                </a:lnTo>
                <a:arcTo wR="4" hR="4" stAng="10800000" swAng="-5400000"/>
                <a:lnTo>
                  <a:pt x="21596" y="28348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7316640" cy="9602640"/>
          </a:xfrm>
          <a:custGeom>
            <a:avLst/>
            <a:gdLst>
              <a:gd name="textAreaLeft" fmla="*/ 360 w 7316640"/>
              <a:gd name="textAreaRight" fmla="*/ 7316280 w 7316640"/>
              <a:gd name="textAreaTop" fmla="*/ 360 h 9602640"/>
              <a:gd name="textAreaBottom" fmla="*/ 9602280 h 9602640"/>
            </a:gdLst>
            <a:ahLst/>
            <a:rect l="textAreaLeft" t="textAreaTop" r="textAreaRight" b="textAreaBottom"/>
            <a:pathLst>
              <a:path w="21600" h="28348">
                <a:moveTo>
                  <a:pt x="4" y="0"/>
                </a:moveTo>
                <a:arcTo wR="4" hR="4" stAng="16200000" swAng="-5400000"/>
                <a:lnTo>
                  <a:pt x="0" y="28344"/>
                </a:lnTo>
                <a:arcTo wR="4" hR="4" stAng="10800000" swAng="-5400000"/>
                <a:lnTo>
                  <a:pt x="21596" y="28348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7316640" cy="9602640"/>
          </a:xfrm>
          <a:custGeom>
            <a:avLst/>
            <a:gdLst>
              <a:gd name="textAreaLeft" fmla="*/ 360 w 7316640"/>
              <a:gd name="textAreaRight" fmla="*/ 7316280 w 7316640"/>
              <a:gd name="textAreaTop" fmla="*/ 360 h 9602640"/>
              <a:gd name="textAreaBottom" fmla="*/ 9602280 h 9602640"/>
            </a:gdLst>
            <a:ahLst/>
            <a:rect l="textAreaLeft" t="textAreaTop" r="textAreaRight" b="textAreaBottom"/>
            <a:pathLst>
              <a:path w="21600" h="28348">
                <a:moveTo>
                  <a:pt x="4" y="0"/>
                </a:moveTo>
                <a:arcTo wR="4" hR="4" stAng="16200000" swAng="-5400000"/>
                <a:lnTo>
                  <a:pt x="0" y="28344"/>
                </a:lnTo>
                <a:arcTo wR="4" hR="4" stAng="10800000" swAng="-5400000"/>
                <a:lnTo>
                  <a:pt x="21596" y="28348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974520" y="4560480"/>
            <a:ext cx="5367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ldImg"/>
          </p:nvPr>
        </p:nvSpPr>
        <p:spPr>
          <a:xfrm>
            <a:off x="0" y="72936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974520" y="4560480"/>
            <a:ext cx="536724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the simplest ca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74520" y="4560480"/>
            <a:ext cx="536724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DAG is the best data structure to represent a workflow of jobs with depend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ildren may not run until their parents have finished – this is why the graph is a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directed graph …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’s a direction to the flow of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this example, called a “diamond” dag, job A must run first; when it finishes, jobs B and C can run together; when they are both finished, D can run; when D is finished the DAG is fin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ops, where two jobs are both descended from one another, are prohibited because they would lead to deadlock – in a loop, neither node could run until the other finished, and so neither would start – this restriction is what makes the graph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acyc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974520" y="4560480"/>
            <a:ext cx="536724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all it takes to specify the example “diamond” d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974520" y="4560480"/>
            <a:ext cx="536724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st like any other Condor job, you get fault tolerance in case the machine crashes or reboots, or if there’s a network ou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you’re notified when it’s done, and whether it succeeded or fai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" spc="-1" strike="noStrike">
                <a:solidFill>
                  <a:srgbClr val="000000"/>
                </a:solidFill>
                <a:latin typeface="Courier New"/>
              </a:rPr>
              <a:t>% condor_q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" spc="-1" strike="noStrike">
                <a:solidFill>
                  <a:srgbClr val="000000"/>
                </a:solidFill>
                <a:latin typeface="Courier New"/>
              </a:rPr>
              <a:t>-- Submitter: foo.bar.edu : &lt;128.105.175.133:1027&gt; : foo.bar.ed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400" spc="-1" strike="noStrike">
                <a:solidFill>
                  <a:srgbClr val="000000"/>
                </a:solidFill>
                <a:latin typeface="Courier New"/>
              </a:rPr>
              <a:t>ID      OWNER            SUBMITTED     RUN_TIME ST PRI SIZE CMD          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" spc="-1" strike="noStrike">
                <a:solidFill>
                  <a:srgbClr val="000000"/>
                </a:solidFill>
                <a:latin typeface="Courier New"/>
              </a:rPr>
              <a:t>2456.0   user            3/8  19:22   0+00:00:02 R  0   3.2  condor_dagman -f -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74520" y="4560480"/>
            <a:ext cx="536724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rst, job A will be submitted alon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974520" y="4560480"/>
            <a:ext cx="5367240" cy="4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ce job A completes successfully, jobs B and C will be submitted at the same tim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74520" y="4560480"/>
            <a:ext cx="5367240" cy="6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job C fails, DAGMan will wait until job B completes, and then will exit, creating a rescue file.  Job D will not r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its log, DAGMan will provide additional details of which node failed and w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74520" y="4560480"/>
            <a:ext cx="5367240" cy="4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nce jobs A and B have already completed, DAGMan will start by re-submitting job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974520" y="4560480"/>
            <a:ext cx="5367240" cy="4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job C fails, DAGMan will wait until job B completes, and then will exit, creating a rescue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79920"/>
            <a:ext cx="822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7992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79920"/>
            <a:ext cx="264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79920"/>
            <a:ext cx="264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79920"/>
            <a:ext cx="264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94840"/>
            <a:ext cx="82296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7992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822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79920"/>
            <a:ext cx="822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7992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79920"/>
            <a:ext cx="264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79920"/>
            <a:ext cx="264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79920"/>
            <a:ext cx="264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94840"/>
            <a:ext cx="82296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7992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822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153280" y="6400800"/>
            <a:ext cx="99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fld id="{4C7B5A9F-A9F1-4679-AB88-E90698629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997440" y="6324480"/>
            <a:ext cx="2968920" cy="307800"/>
            <a:chOff x="3997440" y="6324480"/>
            <a:chExt cx="2968920" cy="307800"/>
          </a:xfrm>
        </p:grpSpPr>
        <p:sp>
          <p:nvSpPr>
            <p:cNvPr id="2" name=""/>
            <p:cNvSpPr/>
            <p:nvPr/>
          </p:nvSpPr>
          <p:spPr>
            <a:xfrm>
              <a:off x="4038480" y="6324480"/>
              <a:ext cx="2887920" cy="301680"/>
            </a:xfrm>
            <a:prstGeom prst="roundRect">
              <a:avLst>
                <a:gd name="adj" fmla="val 5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3997440" y="6324480"/>
              <a:ext cx="2968920" cy="307800"/>
              <a:chOff x="3997440" y="6324480"/>
              <a:chExt cx="2968920" cy="307800"/>
            </a:xfrm>
          </p:grpSpPr>
          <p:sp>
            <p:nvSpPr>
              <p:cNvPr id="4" name=""/>
              <p:cNvSpPr/>
              <p:nvPr/>
            </p:nvSpPr>
            <p:spPr>
              <a:xfrm>
                <a:off x="4038480" y="6324480"/>
                <a:ext cx="2886480" cy="299880"/>
              </a:xfrm>
              <a:prstGeom prst="roundRect">
                <a:avLst>
                  <a:gd name="adj" fmla="val 52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997440" y="6324480"/>
                <a:ext cx="2968920" cy="307800"/>
              </a:xfrm>
              <a:prstGeom prst="roundRect">
                <a:avLst>
                  <a:gd name="adj" fmla="val 52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3333cc"/>
                    </a:solidFill>
                    <a:latin typeface="Comic Sans MS"/>
                  </a:rPr>
                  <a:t>http://www.cs.wisc.edu/condo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99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98520" y="5562720"/>
            <a:ext cx="8534520" cy="1238040"/>
            <a:chOff x="398520" y="5562720"/>
            <a:chExt cx="8534520" cy="1238040"/>
          </a:xfrm>
        </p:grpSpPr>
        <p:sp>
          <p:nvSpPr>
            <p:cNvPr id="9" name=""/>
            <p:cNvSpPr/>
            <p:nvPr/>
          </p:nvSpPr>
          <p:spPr>
            <a:xfrm>
              <a:off x="398520" y="6086160"/>
              <a:ext cx="6705720" cy="190080"/>
            </a:xfrm>
            <a:prstGeom prst="rect">
              <a:avLst/>
            </a:prstGeom>
            <a:gradFill rotWithShape="0">
              <a:gsLst>
                <a:gs pos="0">
                  <a:srgbClr val="363636"/>
                </a:gs>
                <a:gs pos="50000">
                  <a:srgbClr val="777777"/>
                </a:gs>
                <a:gs pos="100000">
                  <a:srgbClr val="363636"/>
                </a:gs>
              </a:gsLst>
              <a:lin ang="5400000"/>
            </a:gradFill>
            <a:ln w="19080">
              <a:solidFill>
                <a:srgbClr val="b2b2b2"/>
              </a:solidFill>
              <a:miter/>
            </a:ln>
            <a:effectLst>
              <a:outerShdw dist="17819" dir="2700000" blurRad="0" rotWithShape="0">
                <a:srgbClr val="cc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" name=""/>
            <p:cNvGrpSpPr/>
            <p:nvPr/>
          </p:nvGrpSpPr>
          <p:grpSpPr>
            <a:xfrm>
              <a:off x="6951600" y="5562720"/>
              <a:ext cx="1981440" cy="1238040"/>
              <a:chOff x="6951600" y="5562720"/>
              <a:chExt cx="1981440" cy="1238040"/>
            </a:xfrm>
          </p:grpSpPr>
          <p:sp>
            <p:nvSpPr>
              <p:cNvPr id="11" name=""/>
              <p:cNvSpPr txBox="1"/>
              <p:nvPr/>
            </p:nvSpPr>
            <p:spPr>
              <a:xfrm>
                <a:off x="7408800" y="5867280"/>
                <a:ext cx="1524240" cy="551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1" strike="noStrike">
                    <a:ln w="12600">
                      <a:solidFill>
                        <a:srgbClr val="b2b2b2"/>
                      </a:solidFill>
                      <a:miter/>
                    </a:ln>
                    <a:gradFill rotWithShape="0">
                      <a:gsLst>
                        <a:gs pos="0">
                          <a:srgbClr val="363636"/>
                        </a:gs>
                        <a:gs pos="50000">
                          <a:srgbClr val="777777"/>
                        </a:gs>
                        <a:gs pos="100000">
                          <a:srgbClr val="363636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cc6600"/>
                      </a:outerShdw>
                    </a:effectLst>
                    <a:latin typeface="Times New Roman"/>
                  </a:rPr>
                  <a:t>ondor</a:t>
                </a:r>
                <a:endParaRPr b="1" lang="en-US" sz="40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363636"/>
                      </a:gs>
                      <a:gs pos="50000">
                        <a:srgbClr val="777777"/>
                      </a:gs>
                      <a:gs pos="100000">
                        <a:srgbClr val="363636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c66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2" name=""/>
              <p:cNvSpPr txBox="1"/>
              <p:nvPr/>
            </p:nvSpPr>
            <p:spPr>
              <a:xfrm>
                <a:off x="6951600" y="5562720"/>
                <a:ext cx="895320" cy="123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1" strike="noStrike">
                    <a:ln w="12600">
                      <a:solidFill>
                        <a:srgbClr val="b2b2b2"/>
                      </a:solidFill>
                      <a:miter/>
                    </a:ln>
                    <a:gradFill rotWithShape="0">
                      <a:gsLst>
                        <a:gs pos="0">
                          <a:srgbClr val="363636"/>
                        </a:gs>
                        <a:gs pos="50000">
                          <a:srgbClr val="777777"/>
                        </a:gs>
                        <a:gs pos="100000">
                          <a:srgbClr val="363636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cc6600"/>
                      </a:outerShdw>
                    </a:effectLst>
                    <a:latin typeface="Times New Roman"/>
                  </a:rPr>
                  <a:t>C</a:t>
                </a:r>
                <a:endParaRPr b="1" lang="en-US" sz="80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363636"/>
                      </a:gs>
                      <a:gs pos="50000">
                        <a:srgbClr val="777777"/>
                      </a:gs>
                      <a:gs pos="100000">
                        <a:srgbClr val="363636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c66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2151000" y="3733920"/>
            <a:ext cx="4853160" cy="1923480"/>
            <a:chOff x="2151000" y="3733920"/>
            <a:chExt cx="4853160" cy="1923480"/>
          </a:xfrm>
        </p:grpSpPr>
        <p:sp>
          <p:nvSpPr>
            <p:cNvPr id="50" name=""/>
            <p:cNvSpPr/>
            <p:nvPr/>
          </p:nvSpPr>
          <p:spPr>
            <a:xfrm>
              <a:off x="2151000" y="3733920"/>
              <a:ext cx="4853160" cy="1915920"/>
            </a:xfrm>
            <a:prstGeom prst="roundRect">
              <a:avLst>
                <a:gd name="adj" fmla="val 7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2151000" y="3733920"/>
              <a:ext cx="4853160" cy="1923480"/>
              <a:chOff x="2151000" y="3733920"/>
              <a:chExt cx="4853160" cy="1923480"/>
            </a:xfrm>
          </p:grpSpPr>
          <p:sp>
            <p:nvSpPr>
              <p:cNvPr id="52" name=""/>
              <p:cNvSpPr/>
              <p:nvPr/>
            </p:nvSpPr>
            <p:spPr>
              <a:xfrm>
                <a:off x="2151000" y="3733920"/>
                <a:ext cx="4853160" cy="1915920"/>
              </a:xfrm>
              <a:prstGeom prst="roundRect">
                <a:avLst>
                  <a:gd name="adj" fmla="val 7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158920" y="3733920"/>
                <a:ext cx="4838760" cy="1923480"/>
              </a:xfrm>
              <a:prstGeom prst="roundRect">
                <a:avLst>
                  <a:gd name="adj" fmla="val 7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Condor Projec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Computer Sciences Departm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University of Wisconsin-Madis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condor-admin@cs.wisc.ed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http://www.cs.wisc.edu/cond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767720" cy="24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804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99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58920" y="5459400"/>
            <a:ext cx="8533440" cy="1238400"/>
            <a:chOff x="358920" y="5459400"/>
            <a:chExt cx="8533440" cy="1238400"/>
          </a:xfrm>
        </p:grpSpPr>
        <p:sp>
          <p:nvSpPr>
            <p:cNvPr id="57" name=""/>
            <p:cNvSpPr/>
            <p:nvPr/>
          </p:nvSpPr>
          <p:spPr>
            <a:xfrm>
              <a:off x="358920" y="5983200"/>
              <a:ext cx="6705360" cy="190440"/>
            </a:xfrm>
            <a:prstGeom prst="rect">
              <a:avLst/>
            </a:prstGeom>
            <a:gradFill rotWithShape="0">
              <a:gsLst>
                <a:gs pos="0">
                  <a:srgbClr val="363636"/>
                </a:gs>
                <a:gs pos="50000">
                  <a:srgbClr val="777777"/>
                </a:gs>
                <a:gs pos="100000">
                  <a:srgbClr val="363636"/>
                </a:gs>
              </a:gsLst>
              <a:lin ang="5400000"/>
            </a:gradFill>
            <a:ln w="19080">
              <a:solidFill>
                <a:srgbClr val="b2b2b2"/>
              </a:solidFill>
              <a:miter/>
            </a:ln>
            <a:effectLst>
              <a:outerShdw dist="17819" dir="2700000" blurRad="0" rotWithShape="0">
                <a:srgbClr val="cc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6911640" y="5459400"/>
              <a:ext cx="1980720" cy="1238400"/>
              <a:chOff x="6911640" y="5459400"/>
              <a:chExt cx="1980720" cy="1238400"/>
            </a:xfrm>
          </p:grpSpPr>
          <p:sp>
            <p:nvSpPr>
              <p:cNvPr id="59" name=""/>
              <p:cNvSpPr txBox="1"/>
              <p:nvPr/>
            </p:nvSpPr>
            <p:spPr>
              <a:xfrm>
                <a:off x="7368480" y="5764320"/>
                <a:ext cx="1523880" cy="552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1" strike="noStrike">
                    <a:ln w="12600">
                      <a:solidFill>
                        <a:srgbClr val="b2b2b2"/>
                      </a:solidFill>
                      <a:miter/>
                    </a:ln>
                    <a:gradFill rotWithShape="0">
                      <a:gsLst>
                        <a:gs pos="0">
                          <a:srgbClr val="363636"/>
                        </a:gs>
                        <a:gs pos="50000">
                          <a:srgbClr val="777777"/>
                        </a:gs>
                        <a:gs pos="100000">
                          <a:srgbClr val="363636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cc6600"/>
                      </a:outerShdw>
                    </a:effectLst>
                    <a:latin typeface="Times New Roman"/>
                  </a:rPr>
                  <a:t>ondor</a:t>
                </a:r>
                <a:endParaRPr b="1" lang="en-US" sz="40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363636"/>
                      </a:gs>
                      <a:gs pos="50000">
                        <a:srgbClr val="777777"/>
                      </a:gs>
                      <a:gs pos="100000">
                        <a:srgbClr val="363636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c66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60" name=""/>
              <p:cNvSpPr txBox="1"/>
              <p:nvPr/>
            </p:nvSpPr>
            <p:spPr>
              <a:xfrm>
                <a:off x="6911640" y="5459400"/>
                <a:ext cx="894960" cy="1238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1" strike="noStrike">
                    <a:ln w="12600">
                      <a:solidFill>
                        <a:srgbClr val="b2b2b2"/>
                      </a:solidFill>
                      <a:miter/>
                    </a:ln>
                    <a:gradFill rotWithShape="0">
                      <a:gsLst>
                        <a:gs pos="0">
                          <a:srgbClr val="363636"/>
                        </a:gs>
                        <a:gs pos="50000">
                          <a:srgbClr val="777777"/>
                        </a:gs>
                        <a:gs pos="100000">
                          <a:srgbClr val="363636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cc6600"/>
                      </a:outerShdw>
                    </a:effectLst>
                    <a:latin typeface="Times New Roman"/>
                  </a:rPr>
                  <a:t>C</a:t>
                </a:r>
                <a:endParaRPr b="1" lang="en-US" sz="80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363636"/>
                      </a:gs>
                      <a:gs pos="50000">
                        <a:srgbClr val="777777"/>
                      </a:gs>
                      <a:gs pos="100000">
                        <a:srgbClr val="363636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c66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6360" y="507960"/>
            <a:ext cx="83804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An Introduction To Condor</a:t>
            </a:r>
            <a:br>
              <a:rPr sz="6000"/>
            </a:b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International Summer School on Grid Computing 2005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ystem Admin Pref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can jobs preempt other job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users have higher priorit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ecursive DAG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1724040" y="1770120"/>
            <a:ext cx="1503360" cy="2099880"/>
            <a:chOff x="1724040" y="1770120"/>
            <a:chExt cx="1503360" cy="2099880"/>
          </a:xfrm>
        </p:grpSpPr>
        <p:grpSp>
          <p:nvGrpSpPr>
            <p:cNvPr id="941" name=""/>
            <p:cNvGrpSpPr/>
            <p:nvPr/>
          </p:nvGrpSpPr>
          <p:grpSpPr>
            <a:xfrm>
              <a:off x="2201760" y="1770120"/>
              <a:ext cx="492120" cy="493200"/>
              <a:chOff x="2201760" y="1770120"/>
              <a:chExt cx="492120" cy="493200"/>
            </a:xfrm>
          </p:grpSpPr>
          <p:sp>
            <p:nvSpPr>
              <p:cNvPr id="942" name=""/>
              <p:cNvSpPr/>
              <p:nvPr/>
            </p:nvSpPr>
            <p:spPr>
              <a:xfrm>
                <a:off x="2201760" y="1771560"/>
                <a:ext cx="492120" cy="491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2271960" y="1770120"/>
                <a:ext cx="3438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1724040" y="2533680"/>
              <a:ext cx="492120" cy="493920"/>
              <a:chOff x="1724040" y="2533680"/>
              <a:chExt cx="492120" cy="493920"/>
            </a:xfrm>
          </p:grpSpPr>
          <p:sp>
            <p:nvSpPr>
              <p:cNvPr id="945" name=""/>
              <p:cNvSpPr/>
              <p:nvPr/>
            </p:nvSpPr>
            <p:spPr>
              <a:xfrm>
                <a:off x="1724040" y="2535480"/>
                <a:ext cx="492120" cy="492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792800" y="2533680"/>
                <a:ext cx="3466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7" name=""/>
            <p:cNvGrpSpPr/>
            <p:nvPr/>
          </p:nvGrpSpPr>
          <p:grpSpPr>
            <a:xfrm>
              <a:off x="2735280" y="2533680"/>
              <a:ext cx="492120" cy="493920"/>
              <a:chOff x="2735280" y="2533680"/>
              <a:chExt cx="492120" cy="493920"/>
            </a:xfrm>
          </p:grpSpPr>
          <p:sp>
            <p:nvSpPr>
              <p:cNvPr id="948" name=""/>
              <p:cNvSpPr/>
              <p:nvPr/>
            </p:nvSpPr>
            <p:spPr>
              <a:xfrm>
                <a:off x="2735280" y="2535480"/>
                <a:ext cx="492120" cy="492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2805480" y="2533680"/>
                <a:ext cx="34236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0" name=""/>
            <p:cNvGrpSpPr/>
            <p:nvPr/>
          </p:nvGrpSpPr>
          <p:grpSpPr>
            <a:xfrm>
              <a:off x="2232000" y="3376800"/>
              <a:ext cx="492120" cy="493200"/>
              <a:chOff x="2232000" y="3376800"/>
              <a:chExt cx="492120" cy="493200"/>
            </a:xfrm>
          </p:grpSpPr>
          <p:sp>
            <p:nvSpPr>
              <p:cNvPr id="951" name=""/>
              <p:cNvSpPr/>
              <p:nvPr/>
            </p:nvSpPr>
            <p:spPr>
              <a:xfrm>
                <a:off x="2232000" y="3378240"/>
                <a:ext cx="492120" cy="491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290680" y="3376800"/>
                <a:ext cx="3664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953" name=""/>
            <p:cNvCxnSpPr>
              <a:stCxn id="943" idx="2"/>
              <a:endCxn id="946" idx="0"/>
            </p:cNvCxnSpPr>
            <p:nvPr/>
          </p:nvCxnSpPr>
          <p:spPr>
            <a:xfrm flipH="1">
              <a:off x="1966320" y="2242800"/>
              <a:ext cx="47844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4" name=""/>
            <p:cNvCxnSpPr>
              <a:stCxn id="943" idx="2"/>
              <a:endCxn id="949" idx="0"/>
            </p:cNvCxnSpPr>
            <p:nvPr/>
          </p:nvCxnSpPr>
          <p:spPr>
            <a:xfrm>
              <a:off x="2444400" y="2242800"/>
              <a:ext cx="53244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5" name=""/>
            <p:cNvCxnSpPr>
              <a:stCxn id="946" idx="2"/>
              <a:endCxn id="952" idx="0"/>
            </p:cNvCxnSpPr>
            <p:nvPr/>
          </p:nvCxnSpPr>
          <p:spPr>
            <a:xfrm>
              <a:off x="1966680" y="3006720"/>
              <a:ext cx="508680" cy="370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6" name=""/>
            <p:cNvCxnSpPr>
              <a:stCxn id="948" idx="4"/>
              <a:endCxn id="952" idx="0"/>
            </p:cNvCxnSpPr>
            <p:nvPr/>
          </p:nvCxnSpPr>
          <p:spPr>
            <a:xfrm flipH="1">
              <a:off x="2474640" y="3027600"/>
              <a:ext cx="506880" cy="349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57" name=""/>
          <p:cNvSpPr/>
          <p:nvPr/>
        </p:nvSpPr>
        <p:spPr>
          <a:xfrm>
            <a:off x="3208320" y="2781360"/>
            <a:ext cx="10396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4235400" y="2541600"/>
            <a:ext cx="492120" cy="493200"/>
            <a:chOff x="4235400" y="2541600"/>
            <a:chExt cx="492120" cy="493200"/>
          </a:xfrm>
        </p:grpSpPr>
        <p:sp>
          <p:nvSpPr>
            <p:cNvPr id="959" name=""/>
            <p:cNvSpPr/>
            <p:nvPr/>
          </p:nvSpPr>
          <p:spPr>
            <a:xfrm>
              <a:off x="4235400" y="2543040"/>
              <a:ext cx="492120" cy="491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309920" y="2541600"/>
              <a:ext cx="3330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5246640" y="2541600"/>
            <a:ext cx="492120" cy="493200"/>
            <a:chOff x="5246640" y="2541600"/>
            <a:chExt cx="492120" cy="493200"/>
          </a:xfrm>
        </p:grpSpPr>
        <p:sp>
          <p:nvSpPr>
            <p:cNvPr id="962" name=""/>
            <p:cNvSpPr/>
            <p:nvPr/>
          </p:nvSpPr>
          <p:spPr>
            <a:xfrm>
              <a:off x="5246640" y="2543040"/>
              <a:ext cx="492120" cy="491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279400" y="2541600"/>
              <a:ext cx="4168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5657760" y="3384720"/>
            <a:ext cx="492120" cy="493200"/>
            <a:chOff x="5657760" y="3384720"/>
            <a:chExt cx="492120" cy="493200"/>
          </a:xfrm>
        </p:grpSpPr>
        <p:sp>
          <p:nvSpPr>
            <p:cNvPr id="965" name=""/>
            <p:cNvSpPr/>
            <p:nvPr/>
          </p:nvSpPr>
          <p:spPr>
            <a:xfrm>
              <a:off x="5657760" y="3386160"/>
              <a:ext cx="492120" cy="491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736240" y="3384720"/>
              <a:ext cx="3268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7" name=""/>
          <p:cNvCxnSpPr>
            <a:stCxn id="960" idx="2"/>
            <a:endCxn id="966" idx="0"/>
          </p:cNvCxnSpPr>
          <p:nvPr/>
        </p:nvCxnSpPr>
        <p:spPr>
          <a:xfrm>
            <a:off x="4476600" y="3014640"/>
            <a:ext cx="1424880" cy="370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2" idx="4"/>
            <a:endCxn id="966" idx="0"/>
          </p:cNvCxnSpPr>
          <p:nvPr/>
        </p:nvCxnSpPr>
        <p:spPr>
          <a:xfrm>
            <a:off x="5492520" y="3034800"/>
            <a:ext cx="408600" cy="350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969" name=""/>
          <p:cNvGrpSpPr/>
          <p:nvPr/>
        </p:nvGrpSpPr>
        <p:grpSpPr>
          <a:xfrm>
            <a:off x="6161040" y="2550960"/>
            <a:ext cx="492120" cy="493920"/>
            <a:chOff x="6161040" y="2550960"/>
            <a:chExt cx="492120" cy="493920"/>
          </a:xfrm>
        </p:grpSpPr>
        <p:sp>
          <p:nvSpPr>
            <p:cNvPr id="970" name=""/>
            <p:cNvSpPr/>
            <p:nvPr/>
          </p:nvSpPr>
          <p:spPr>
            <a:xfrm>
              <a:off x="6161040" y="2552760"/>
              <a:ext cx="492120" cy="492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237360" y="2550960"/>
              <a:ext cx="330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6948360" y="2549520"/>
            <a:ext cx="492120" cy="493200"/>
            <a:chOff x="6948360" y="2549520"/>
            <a:chExt cx="492120" cy="493200"/>
          </a:xfrm>
        </p:grpSpPr>
        <p:sp>
          <p:nvSpPr>
            <p:cNvPr id="973" name=""/>
            <p:cNvSpPr/>
            <p:nvPr/>
          </p:nvSpPr>
          <p:spPr>
            <a:xfrm>
              <a:off x="6948360" y="2550960"/>
              <a:ext cx="492120" cy="491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025400" y="2549520"/>
              <a:ext cx="3254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75" name=""/>
          <p:cNvCxnSpPr>
            <a:stCxn id="971" idx="2"/>
            <a:endCxn id="966" idx="0"/>
          </p:cNvCxnSpPr>
          <p:nvPr/>
        </p:nvCxnSpPr>
        <p:spPr>
          <a:xfrm flipH="1">
            <a:off x="5900400" y="3024000"/>
            <a:ext cx="501840" cy="3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6" name=""/>
          <p:cNvCxnSpPr>
            <a:stCxn id="974" idx="2"/>
            <a:endCxn id="966" idx="0"/>
          </p:cNvCxnSpPr>
          <p:nvPr/>
        </p:nvCxnSpPr>
        <p:spPr>
          <a:xfrm flipH="1">
            <a:off x="5900400" y="3022560"/>
            <a:ext cx="1288080" cy="36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DAGMan script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58400" y="1447560"/>
            <a:ext cx="85964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1200" indent="-33120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GMan allows pre &amp; post scrip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3240" indent="-27540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’t have to be scripts: any executa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3240" indent="-27540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n before (pre) or after (post) jo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3240" indent="-27540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n on the same computer you submitted fr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-33120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yntax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3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OB A a.su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3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RIPT PRE A before-script $JO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3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RIPT POST A after-script $JOB $RETUR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o What?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014120"/>
            <a:ext cx="8229600" cy="51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 script can make decis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 should my job run? (Particularly useful to make job run in same place as last job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ould I pass different arguments to the job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zy decision mak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st script can change return val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GMan decides job failed in non-zero return val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t-script can look at {error code, output files, etc} and return zero or non-zero based on deeper knowledg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0" y="4976640"/>
            <a:ext cx="9144000" cy="188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13586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Part Five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Master Worker Applications</a:t>
            </a:r>
            <a:br>
              <a:rPr sz="4000"/>
            </a:b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(Slides adapted from Condor Week 2005 presentation by Jeff Linderoth)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983" name="" descr=""/>
          <p:cNvPicPr/>
          <p:nvPr/>
        </p:nvPicPr>
        <p:blipFill>
          <a:blip r:embed="rId1"/>
          <a:stretch/>
        </p:blipFill>
        <p:spPr>
          <a:xfrm>
            <a:off x="3295800" y="3083040"/>
            <a:ext cx="283212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Why Master Worker?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103400"/>
            <a:ext cx="8229600" cy="456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alternative to DAGMa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GMa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ate a bunch of Condor job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n them in parall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ster Worker (MW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a bunch of tasks in C++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W uses Condor to run your tas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’t worry about the job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rewrite your application to fit M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aster Worker Basic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1"/>
          <a:stretch/>
        </p:blipFill>
        <p:spPr>
          <a:xfrm>
            <a:off x="1544760" y="1241280"/>
            <a:ext cx="1190520" cy="1428840"/>
          </a:xfrm>
          <a:prstGeom prst="rect">
            <a:avLst/>
          </a:prstGeom>
          <a:ln w="0">
            <a:noFill/>
          </a:ln>
        </p:spPr>
      </p:pic>
      <p:pic>
        <p:nvPicPr>
          <p:cNvPr id="988" name="" descr=""/>
          <p:cNvPicPr/>
          <p:nvPr/>
        </p:nvPicPr>
        <p:blipFill>
          <a:blip r:embed="rId2"/>
          <a:stretch/>
        </p:blipFill>
        <p:spPr>
          <a:xfrm>
            <a:off x="2701800" y="3873600"/>
            <a:ext cx="2032200" cy="1523880"/>
          </a:xfrm>
          <a:prstGeom prst="rect">
            <a:avLst/>
          </a:prstGeom>
          <a:ln w="0">
            <a:noFill/>
          </a:ln>
        </p:spPr>
      </p:pic>
      <p:sp>
        <p:nvSpPr>
          <p:cNvPr id="989" name=""/>
          <p:cNvSpPr/>
          <p:nvPr/>
        </p:nvSpPr>
        <p:spPr>
          <a:xfrm>
            <a:off x="2711520" y="2668680"/>
            <a:ext cx="698400" cy="1211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 flipV="1">
            <a:off x="2127240" y="2679840"/>
            <a:ext cx="689040" cy="1193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rot="3688800">
            <a:off x="2338560" y="2875680"/>
            <a:ext cx="19256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sent Condo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rot="3788400">
            <a:off x="2175840" y="3022200"/>
            <a:ext cx="9489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es S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848120" y="1292400"/>
            <a:ext cx="3949920" cy="42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27600" indent="-32760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ster assigns tasks to work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7600" indent="-32760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kers perform tasks and report resul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7600" indent="-32760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kers do not communicate (except via maste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7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7600" indent="-32760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7600" indent="-32760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ult Toler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7600" indent="-32760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94" name="" descr=""/>
          <p:cNvPicPr/>
          <p:nvPr/>
        </p:nvPicPr>
        <p:blipFill>
          <a:blip r:embed="rId3"/>
          <a:stretch/>
        </p:blipFill>
        <p:spPr>
          <a:xfrm>
            <a:off x="7920" y="3879720"/>
            <a:ext cx="2063880" cy="1689120"/>
          </a:xfrm>
          <a:prstGeom prst="rect">
            <a:avLst/>
          </a:prstGeom>
          <a:ln w="0">
            <a:noFill/>
          </a:ln>
        </p:spPr>
      </p:pic>
      <p:sp>
        <p:nvSpPr>
          <p:cNvPr id="995" name=""/>
          <p:cNvSpPr/>
          <p:nvPr/>
        </p:nvSpPr>
        <p:spPr>
          <a:xfrm flipH="1">
            <a:off x="722160" y="2473200"/>
            <a:ext cx="820800" cy="142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V="1">
            <a:off x="1184400" y="2685960"/>
            <a:ext cx="579240" cy="118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rot="18087000">
            <a:off x="115920" y="2933640"/>
            <a:ext cx="13982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x Condo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rot="17713800">
            <a:off x="815040" y="3124800"/>
            <a:ext cx="9489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es S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aster Worker Toolkit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are three abstraction in the master-worker paradigm: Master, Worker, and Tas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W is a software package that encapsulates these abstra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I : C++ abstract cla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r writes 10 metho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MWized code will transparently adapt to the dynamic and heterogeneous computing environ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W also has abstract layer to resource management and communications packages (an Infrastructure Programming Interface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dor/{PVM, Sockets, Files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ngle process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2158920" y="1600200"/>
            <a:ext cx="505476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158920" y="4572000"/>
            <a:ext cx="50547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derlying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133720" y="2666880"/>
            <a:ext cx="5110200" cy="19432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W’s Layered Architecture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05" name=""/>
          <p:cNvSpPr/>
          <p:nvPr/>
        </p:nvSpPr>
        <p:spPr>
          <a:xfrm>
            <a:off x="2171880" y="3657600"/>
            <a:ext cx="20620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ource Mg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158920" y="2666880"/>
            <a:ext cx="505476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W abstract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229280" y="3657600"/>
            <a:ext cx="29923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munication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H="1">
            <a:off x="228240" y="2666880"/>
            <a:ext cx="7162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151920" y="3657600"/>
            <a:ext cx="7239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45240" y="2147760"/>
            <a:ext cx="7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65040" y="32004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04920" y="376884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frastructure 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vider’s 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391520" y="2743200"/>
            <a:ext cx="228600" cy="1752480"/>
          </a:xfrm>
          <a:custGeom>
            <a:avLst/>
            <a:gdLst>
              <a:gd name="textAreaLeft" fmla="*/ 0 w 228600"/>
              <a:gd name="textAreaRight" fmla="*/ 82440 w 228600"/>
              <a:gd name="textAreaTop" fmla="*/ 57600 h 1752480"/>
              <a:gd name="textAreaBottom" fmla="*/ 16948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35"/>
                  <a:pt x="10800" y="2270"/>
                </a:cubicBezTo>
                <a:lnTo>
                  <a:pt x="10800" y="8530"/>
                </a:lnTo>
                <a:cubicBezTo>
                  <a:pt x="10800" y="9665"/>
                  <a:pt x="16200" y="10800"/>
                  <a:pt x="21600" y="10800"/>
                </a:cubicBezTo>
                <a:cubicBezTo>
                  <a:pt x="16200" y="10800"/>
                  <a:pt x="10800" y="11935"/>
                  <a:pt x="10800" y="13070"/>
                </a:cubicBezTo>
                <a:lnTo>
                  <a:pt x="10800" y="19330"/>
                </a:lnTo>
                <a:cubicBezTo>
                  <a:pt x="10800" y="20465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1676520"/>
            <a:ext cx="380880" cy="2819160"/>
          </a:xfrm>
          <a:custGeom>
            <a:avLst/>
            <a:gdLst>
              <a:gd name="textAreaLeft" fmla="*/ 0 w 380880"/>
              <a:gd name="textAreaRight" fmla="*/ 137520 w 380880"/>
              <a:gd name="textAreaTop" fmla="*/ 97200 h 2819160"/>
              <a:gd name="textAreaBottom" fmla="*/ 272196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90"/>
                  <a:pt x="10800" y="2380"/>
                </a:cubicBezTo>
                <a:lnTo>
                  <a:pt x="10800" y="8420"/>
                </a:lnTo>
                <a:cubicBezTo>
                  <a:pt x="10800" y="9610"/>
                  <a:pt x="16200" y="10800"/>
                  <a:pt x="21600" y="10800"/>
                </a:cubicBezTo>
                <a:cubicBezTo>
                  <a:pt x="16200" y="10800"/>
                  <a:pt x="10800" y="11990"/>
                  <a:pt x="10800" y="13180"/>
                </a:cubicBezTo>
                <a:lnTo>
                  <a:pt x="10800" y="19220"/>
                </a:lnTo>
                <a:cubicBezTo>
                  <a:pt x="10800" y="2041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562520" y="3249720"/>
            <a:ext cx="46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351280" y="2727360"/>
            <a:ext cx="72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W’s Runtime Structure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4142880"/>
            <a:ext cx="792504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r code adds tasks to the master’s Todo lis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-57276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ach task is sent to a worker (Todo -&gt; Running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-57276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task is executed by the worker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-57276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esult is sent back to the master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-57276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r code processes the result (can add/remove tasks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"/>
          <p:cNvSpPr/>
          <p:nvPr/>
        </p:nvSpPr>
        <p:spPr>
          <a:xfrm>
            <a:off x="6200640" y="1339920"/>
            <a:ext cx="1600200" cy="6858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or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200640" y="2254320"/>
            <a:ext cx="1600200" cy="6858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or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200640" y="3397320"/>
            <a:ext cx="1600200" cy="6858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or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616080" y="2787480"/>
            <a:ext cx="7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171440" y="1295280"/>
            <a:ext cx="4038840" cy="27147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ster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628640" y="2711520"/>
            <a:ext cx="381240" cy="228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628640" y="2940120"/>
            <a:ext cx="381240" cy="228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628640" y="3168720"/>
            <a:ext cx="381240" cy="228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628640" y="3397320"/>
            <a:ext cx="381240" cy="228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628640" y="3625920"/>
            <a:ext cx="381240" cy="228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295880" y="2711520"/>
            <a:ext cx="380880" cy="2286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295880" y="2940120"/>
            <a:ext cx="380880" cy="2286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295880" y="3168720"/>
            <a:ext cx="380880" cy="2286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295880" y="3397320"/>
            <a:ext cx="380880" cy="2286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295880" y="3625920"/>
            <a:ext cx="380880" cy="2286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847960" y="2711520"/>
            <a:ext cx="380880" cy="228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847960" y="2940120"/>
            <a:ext cx="380880" cy="228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847960" y="3168720"/>
            <a:ext cx="380880" cy="228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847960" y="3397320"/>
            <a:ext cx="380880" cy="228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400400" y="2033640"/>
            <a:ext cx="8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489760" y="2033640"/>
            <a:ext cx="11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853800" y="2025720"/>
            <a:ext cx="11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1" name=""/>
          <p:cNvCxnSpPr>
            <a:stCxn id="1034" idx="3"/>
            <a:endCxn id="1029" idx="1"/>
          </p:cNvCxnSpPr>
          <p:nvPr/>
        </p:nvCxnSpPr>
        <p:spPr>
          <a:xfrm>
            <a:off x="3247920" y="2825280"/>
            <a:ext cx="1029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2" name=""/>
          <p:cNvCxnSpPr>
            <a:stCxn id="1035" idx="3"/>
            <a:endCxn id="1030" idx="1"/>
          </p:cNvCxnSpPr>
          <p:nvPr/>
        </p:nvCxnSpPr>
        <p:spPr>
          <a:xfrm>
            <a:off x="3247920" y="3053880"/>
            <a:ext cx="1029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3" name=""/>
          <p:cNvCxnSpPr>
            <a:stCxn id="1036" idx="3"/>
            <a:endCxn id="1031" idx="1"/>
          </p:cNvCxnSpPr>
          <p:nvPr/>
        </p:nvCxnSpPr>
        <p:spPr>
          <a:xfrm>
            <a:off x="3247920" y="3282480"/>
            <a:ext cx="1029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4" name=""/>
          <p:cNvCxnSpPr>
            <a:stCxn id="1037" idx="3"/>
            <a:endCxn id="1032" idx="1"/>
          </p:cNvCxnSpPr>
          <p:nvPr/>
        </p:nvCxnSpPr>
        <p:spPr>
          <a:xfrm>
            <a:off x="3247920" y="3511080"/>
            <a:ext cx="1029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5" name=""/>
          <p:cNvSpPr/>
          <p:nvPr/>
        </p:nvSpPr>
        <p:spPr>
          <a:xfrm>
            <a:off x="1171440" y="194940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6" name=""/>
          <p:cNvCxnSpPr>
            <a:stCxn id="1029" idx="3"/>
            <a:endCxn id="1019" idx="1"/>
          </p:cNvCxnSpPr>
          <p:nvPr/>
        </p:nvCxnSpPr>
        <p:spPr>
          <a:xfrm flipV="1">
            <a:off x="4695480" y="1681920"/>
            <a:ext cx="1491480" cy="1143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47" name=""/>
          <p:cNvCxnSpPr>
            <a:stCxn id="1030" idx="3"/>
            <a:endCxn id="1020" idx="1"/>
          </p:cNvCxnSpPr>
          <p:nvPr/>
        </p:nvCxnSpPr>
        <p:spPr>
          <a:xfrm flipV="1">
            <a:off x="4695480" y="2596680"/>
            <a:ext cx="1491480" cy="4579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48" name=""/>
          <p:cNvCxnSpPr>
            <a:stCxn id="1033" idx="3"/>
            <a:endCxn id="1021" idx="1"/>
          </p:cNvCxnSpPr>
          <p:nvPr/>
        </p:nvCxnSpPr>
        <p:spPr>
          <a:xfrm>
            <a:off x="4695480" y="3739680"/>
            <a:ext cx="14914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W API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WMas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t_userinfo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tup_intial_tasks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ck_worker_init_data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t_on_completed_task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WTas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ck_work(), unpack_work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ck_result, unpack_result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WWork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pack_worker_init_data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ecute_task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4340160" y="3089160"/>
            <a:ext cx="4131720" cy="2319480"/>
            <a:chOff x="4340160" y="3089160"/>
            <a:chExt cx="4131720" cy="2319480"/>
          </a:xfrm>
        </p:grpSpPr>
        <p:sp>
          <p:nvSpPr>
            <p:cNvPr id="1052" name=""/>
            <p:cNvSpPr/>
            <p:nvPr/>
          </p:nvSpPr>
          <p:spPr>
            <a:xfrm>
              <a:off x="4340160" y="3098880"/>
              <a:ext cx="219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340160" y="5394240"/>
              <a:ext cx="219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516720" y="3089160"/>
              <a:ext cx="0" cy="231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516720" y="4216320"/>
              <a:ext cx="547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977520" y="3944880"/>
              <a:ext cx="14943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ain loo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7" name=""/>
          <p:cNvGrpSpPr/>
          <p:nvPr/>
        </p:nvGrpSpPr>
        <p:grpSpPr>
          <a:xfrm>
            <a:off x="4282920" y="2050920"/>
            <a:ext cx="3701160" cy="3011760"/>
            <a:chOff x="4282920" y="2050920"/>
            <a:chExt cx="3701160" cy="3011760"/>
          </a:xfrm>
        </p:grpSpPr>
        <p:sp>
          <p:nvSpPr>
            <p:cNvPr id="1058" name=""/>
            <p:cNvSpPr/>
            <p:nvPr/>
          </p:nvSpPr>
          <p:spPr>
            <a:xfrm>
              <a:off x="4282920" y="2070000"/>
              <a:ext cx="2214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282920" y="5041800"/>
              <a:ext cx="2214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515280" y="2050920"/>
              <a:ext cx="0" cy="301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516720" y="2830680"/>
              <a:ext cx="566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114680" y="2608200"/>
              <a:ext cx="869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et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4311720" y="2714760"/>
            <a:ext cx="4643280" cy="1385640"/>
            <a:chOff x="4311720" y="2714760"/>
            <a:chExt cx="4643280" cy="1385640"/>
          </a:xfrm>
        </p:grpSpPr>
        <p:sp>
          <p:nvSpPr>
            <p:cNvPr id="1064" name=""/>
            <p:cNvSpPr/>
            <p:nvPr/>
          </p:nvSpPr>
          <p:spPr>
            <a:xfrm flipH="1">
              <a:off x="4311720" y="2714760"/>
              <a:ext cx="1155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4320720" y="4086360"/>
              <a:ext cx="1155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457960" y="2714760"/>
              <a:ext cx="0" cy="138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457960" y="3446640"/>
              <a:ext cx="1625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910560" y="3003480"/>
              <a:ext cx="20444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Encode/de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mmun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lassAd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Ads state fac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y job’s executable is analysis.ex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y machine’s load average is 5.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Ads state prefere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require a computer with Linu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Other MW Utilitie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Wprint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print progress, result, debug info, etc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WDriv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get information, set control policies, etc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MC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pecify resource requirements, prepare for communication, etc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eal MW Application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20924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WFATCOP (Chen, Ferris, Linderot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branch and cut code for linear integer programm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WMINLP (Goux, Leyffer, Nocedal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branch and bound code for nonlinear integer programm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WQPBB (Linderot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(simplicial) branch and bound code for solving quadratically constrained quadratic program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WAND (Linderoth, Shen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nested decomposition based solver for multistage stochastic linear programm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WATR (Linderoth, Shapiro, Wrigh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trust-region-enhanced cutting plane code for linear stochastic programming and statistical verification of solution quality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WQAP (Anstreicher, Brixius, Goux, Linderot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branch and bound code for solving the quadratic assignment probl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Example: Nug30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g30 (a Quadratic Assignment Problem instance of size 30) had been the “holy grail” of computational QAP research for &gt; 30 yea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2000, Anstreicher, Brixius, Goux, &amp; Linderoth set out tosolve this probl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a mathematically sophisticated and well-engineered algorithm, they still estimated that we would requir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11 CPU ye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to solve the proble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Nug 30 Computational Grid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graphicFrame>
        <p:nvGraphicFramePr>
          <p:cNvPr id="1076" name=""/>
          <p:cNvGraphicFramePr/>
          <p:nvPr/>
        </p:nvGraphicFramePr>
        <p:xfrm>
          <a:off x="542880" y="914400"/>
          <a:ext cx="4211640" cy="5029200"/>
        </p:xfrm>
        <a:graphic>
          <a:graphicData uri="http://schemas.openxmlformats.org/drawingml/2006/table">
            <a:tbl>
              <a:tblPr/>
              <a:tblGrid>
                <a:gridCol w="1344600"/>
                <a:gridCol w="1411200"/>
                <a:gridCol w="14558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ch/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io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1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l/Linu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gon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GI/Iri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gon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2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GI/Iri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S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l/Linu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S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GI/Iri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S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l/Linu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scons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l/Solar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scons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n/Solar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scons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l/Linu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orgia Tec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l/Solar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orgia Tec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l/Linu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aly (INFN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l/Linu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w Mexic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n/Solar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thwester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l/Linu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umbia U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n/Solar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umbia U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930560" y="966960"/>
            <a:ext cx="371628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d tricks to make it look like one Condor po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lock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lide-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510 CPUs tot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"/>
          <p:cNvSpPr/>
          <p:nvPr/>
        </p:nvSpPr>
        <p:spPr>
          <a:xfrm>
            <a:off x="0" y="5478480"/>
            <a:ext cx="9144000" cy="137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Workers Over Time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1080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Nug30 solved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graphicFrame>
        <p:nvGraphicFramePr>
          <p:cNvPr id="1082" name=""/>
          <p:cNvGraphicFramePr/>
          <p:nvPr/>
        </p:nvGraphicFramePr>
        <p:xfrm>
          <a:off x="1523880" y="1397160"/>
          <a:ext cx="6096240" cy="40939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ll Clock Ti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day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:04:31 hour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g # Machin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U Ti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year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llel Efficienc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ore on MW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ttp://www.cs.wisc.edu/condor/m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sion 0.2 is the late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’s more stable than the version number suggests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ling list available for discus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tive development by the Condor tea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I could also tell you about…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24596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dor-G: Condor’s ability to talk to other Grid syste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lobus 2, 3,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rduGr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ac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dor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ork: Treating data placement like computational job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st: File server with space alloc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CB: Living with firewalls &amp; private networ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But I won’t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fter lunch: Exerci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ease ask me questions, now or la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5151600"/>
            <a:ext cx="9144000" cy="170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62440" y="1623960"/>
            <a:ext cx="5153040" cy="4044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055760" y="1231560"/>
            <a:ext cx="49323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Type       = "Job"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rgetType   = "Machine"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Id    = 137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wner        = "roy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md          = “analysis.exe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quirements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Arch == "INTEL"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&amp; (OpSys == "LINUX"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&amp; (Disk &gt;= DiskUsage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&amp; ((Memory * 1024)&gt;=ImageSiz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lassAd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68200" y="1169640"/>
            <a:ext cx="36086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assAds are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mi-structur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r-extensi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hema-fre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tribute = Expres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7279920" y="1630440"/>
            <a:ext cx="1333800" cy="474840"/>
            <a:chOff x="7279920" y="1630440"/>
            <a:chExt cx="1333800" cy="474840"/>
          </a:xfrm>
        </p:grpSpPr>
        <p:sp>
          <p:nvSpPr>
            <p:cNvPr id="156" name=""/>
            <p:cNvSpPr/>
            <p:nvPr/>
          </p:nvSpPr>
          <p:spPr>
            <a:xfrm>
              <a:off x="7716600" y="1630440"/>
              <a:ext cx="897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t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7279920" y="1882800"/>
              <a:ext cx="484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7279920" y="2340000"/>
            <a:ext cx="1572840" cy="474840"/>
            <a:chOff x="7279920" y="2340000"/>
            <a:chExt cx="1572840" cy="474840"/>
          </a:xfrm>
        </p:grpSpPr>
        <p:sp>
          <p:nvSpPr>
            <p:cNvPr id="159" name=""/>
            <p:cNvSpPr/>
            <p:nvPr/>
          </p:nvSpPr>
          <p:spPr>
            <a:xfrm>
              <a:off x="7678440" y="2340000"/>
              <a:ext cx="11743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u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7279920" y="2581200"/>
              <a:ext cx="484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7279920" y="3814920"/>
            <a:ext cx="1548360" cy="474840"/>
            <a:chOff x="7279920" y="3814920"/>
            <a:chExt cx="1548360" cy="474840"/>
          </a:xfrm>
        </p:grpSpPr>
        <p:sp>
          <p:nvSpPr>
            <p:cNvPr id="162" name=""/>
            <p:cNvSpPr/>
            <p:nvPr/>
          </p:nvSpPr>
          <p:spPr>
            <a:xfrm>
              <a:off x="7664400" y="3814920"/>
              <a:ext cx="11638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Boole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7279920" y="4067280"/>
              <a:ext cx="484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441520" y="2171880"/>
            <a:ext cx="5229360" cy="34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chema-free ClassAd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58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dor imposes some sche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wner is a string, ClusterID is a number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users can extend it however they like, for jobs or machi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alysisJobType = “simulation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Java_1_4 = 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eLength = 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chmaking can use these attrib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quirements = OpSys == "LINUX"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amp;&amp; HasJava_1_4 == 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ubmitting job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31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rs submit jobs from a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obs described as a Class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submission computer has a que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ues ar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raliz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mission computer watches over que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have multiple submission compu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mission handled by condor_sched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81080" y="4381560"/>
            <a:ext cx="8028000" cy="1463760"/>
            <a:chOff x="181080" y="4381560"/>
            <a:chExt cx="8028000" cy="146376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181080" y="4419720"/>
              <a:ext cx="1044360" cy="12571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1590840" y="5056200"/>
                  <a:ext cx="2209680" cy="78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  <m:r>
                            <m:t xml:space="preserve">±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c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3" name=""/>
            <p:cNvSpPr/>
            <p:nvPr/>
          </p:nvSpPr>
          <p:spPr>
            <a:xfrm>
              <a:off x="4057560" y="4518000"/>
              <a:ext cx="2067120" cy="1033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60800" y="4654440"/>
              <a:ext cx="2040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ndor_sched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93840" y="4854600"/>
              <a:ext cx="2754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37280" y="4853160"/>
              <a:ext cx="1033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7176960" y="4381560"/>
              <a:ext cx="1032120" cy="1235160"/>
              <a:chOff x="7176960" y="4381560"/>
              <a:chExt cx="1032120" cy="1235160"/>
            </a:xfrm>
          </p:grpSpPr>
          <p:sp>
            <p:nvSpPr>
              <p:cNvPr id="178" name=""/>
              <p:cNvSpPr/>
              <p:nvPr/>
            </p:nvSpPr>
            <p:spPr>
              <a:xfrm rot="16200000">
                <a:off x="7111800" y="4519440"/>
                <a:ext cx="1162080" cy="1032120"/>
              </a:xfrm>
              <a:prstGeom prst="flowChartMagneticDrum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394400" y="5045040"/>
                <a:ext cx="62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392960" y="5157720"/>
                <a:ext cx="6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394400" y="5272200"/>
                <a:ext cx="62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394400" y="5386320"/>
                <a:ext cx="62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224120" y="4381560"/>
                <a:ext cx="9792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Queu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5151600"/>
            <a:ext cx="9144000" cy="170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040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Advertising computer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34880" y="91260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chine owners describe comput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iguration file extends Class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Ad has dynamic feat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ad Aver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ee Mem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Ads are sent to Matchmak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53880" y="4325760"/>
            <a:ext cx="7890120" cy="2156040"/>
            <a:chOff x="353880" y="4325760"/>
            <a:chExt cx="7890120" cy="2156040"/>
          </a:xfrm>
        </p:grpSpPr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353880" y="4325760"/>
              <a:ext cx="2556000" cy="2156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9" name=""/>
            <p:cNvGrpSpPr/>
            <p:nvPr/>
          </p:nvGrpSpPr>
          <p:grpSpPr>
            <a:xfrm>
              <a:off x="6176880" y="4508640"/>
              <a:ext cx="2067120" cy="1033200"/>
              <a:chOff x="6176880" y="4508640"/>
              <a:chExt cx="2067120" cy="1033200"/>
            </a:xfrm>
          </p:grpSpPr>
          <p:sp>
            <p:nvSpPr>
              <p:cNvPr id="190" name=""/>
              <p:cNvSpPr/>
              <p:nvPr/>
            </p:nvSpPr>
            <p:spPr>
              <a:xfrm>
                <a:off x="6176880" y="4508640"/>
                <a:ext cx="2067120" cy="1033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342840" y="4546440"/>
                <a:ext cx="1689480" cy="85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Matchmak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(Collector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2914560" y="4645080"/>
              <a:ext cx="32702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97160" y="4654440"/>
              <a:ext cx="292392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lass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Type = “Machine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Requirements = “…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34880" y="-3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atchmaking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46040" y="1007640"/>
            <a:ext cx="8423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27600" indent="-32760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gotiator collects list of compu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7600" indent="-32760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gotiator contacts each sched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7252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jobs do you have to run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7600" indent="-32760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gotiator compares each job to each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7252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aluate requirements of job &amp; mach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7252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aluate in context of both ClassA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7252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both evaluate to true, there is a mat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7600" indent="-32760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pon match, schedd contacts execution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760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4987800"/>
            <a:ext cx="9144000" cy="187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atchmaking diagram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713640" y="3281400"/>
            <a:ext cx="1790640" cy="15098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 flipH="1" flipV="1">
            <a:off x="5680080" y="2192400"/>
            <a:ext cx="1117440" cy="1193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6600" y="3065400"/>
            <a:ext cx="2066760" cy="10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6800" y="3278160"/>
            <a:ext cx="2000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dor_sche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11120" y="4089240"/>
            <a:ext cx="0" cy="667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792000" y="4683240"/>
            <a:ext cx="1032120" cy="1234080"/>
            <a:chOff x="792000" y="4683240"/>
            <a:chExt cx="1032120" cy="1234080"/>
          </a:xfrm>
        </p:grpSpPr>
        <p:sp>
          <p:nvSpPr>
            <p:cNvPr id="204" name=""/>
            <p:cNvSpPr/>
            <p:nvPr/>
          </p:nvSpPr>
          <p:spPr>
            <a:xfrm rot="16200000">
              <a:off x="727200" y="4820400"/>
              <a:ext cx="1161720" cy="1032120"/>
            </a:xfrm>
            <a:prstGeom prst="flowChartMagneticDrum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09440" y="5346360"/>
              <a:ext cx="6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08000" y="5459040"/>
              <a:ext cx="6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09440" y="5573520"/>
              <a:ext cx="6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09440" y="5687640"/>
              <a:ext cx="6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39160" y="4683240"/>
              <a:ext cx="979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Que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722680" y="1185840"/>
            <a:ext cx="3657600" cy="1050840"/>
            <a:chOff x="2722680" y="1185840"/>
            <a:chExt cx="3657600" cy="1050840"/>
          </a:xfrm>
        </p:grpSpPr>
        <p:sp>
          <p:nvSpPr>
            <p:cNvPr id="211" name=""/>
            <p:cNvSpPr/>
            <p:nvPr/>
          </p:nvSpPr>
          <p:spPr>
            <a:xfrm>
              <a:off x="2724120" y="1185840"/>
              <a:ext cx="3648240" cy="1033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22680" y="1189080"/>
              <a:ext cx="3649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atchma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22680" y="168912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86320" y="167796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96040" y="1695600"/>
              <a:ext cx="18777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ll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33840" y="1685880"/>
              <a:ext cx="17380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Negoti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 flipH="1">
            <a:off x="2010960" y="2184480"/>
            <a:ext cx="925560" cy="11286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06800" y="3711600"/>
            <a:ext cx="4624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57960" y="2452680"/>
            <a:ext cx="366840" cy="36684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66760" y="2327400"/>
            <a:ext cx="366840" cy="36648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59240" y="3249720"/>
            <a:ext cx="366840" cy="36648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5119560"/>
            <a:ext cx="9144000" cy="17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ondor diagram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5680080" y="2192400"/>
            <a:ext cx="1117440" cy="1193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6600" y="3065400"/>
            <a:ext cx="2066760" cy="10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16800" y="3278160"/>
            <a:ext cx="2000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dor_sche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7880" y="4089240"/>
            <a:ext cx="0" cy="667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58760" y="4683240"/>
            <a:ext cx="1031760" cy="1234080"/>
            <a:chOff x="158760" y="4683240"/>
            <a:chExt cx="1031760" cy="1234080"/>
          </a:xfrm>
        </p:grpSpPr>
        <p:sp>
          <p:nvSpPr>
            <p:cNvPr id="229" name=""/>
            <p:cNvSpPr/>
            <p:nvPr/>
          </p:nvSpPr>
          <p:spPr>
            <a:xfrm rot="16200000">
              <a:off x="93600" y="4820400"/>
              <a:ext cx="1161720" cy="1031760"/>
            </a:xfrm>
            <a:prstGeom prst="flowChartMagneticDrum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5840" y="5346360"/>
              <a:ext cx="6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4400" y="5459040"/>
              <a:ext cx="62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5840" y="5573520"/>
              <a:ext cx="6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5840" y="5687640"/>
              <a:ext cx="6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05200" y="4683240"/>
              <a:ext cx="979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Que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289240" y="1185840"/>
            <a:ext cx="5208120" cy="1050840"/>
            <a:chOff x="2289240" y="1185840"/>
            <a:chExt cx="5208120" cy="1050840"/>
          </a:xfrm>
        </p:grpSpPr>
        <p:sp>
          <p:nvSpPr>
            <p:cNvPr id="236" name=""/>
            <p:cNvSpPr/>
            <p:nvPr/>
          </p:nvSpPr>
          <p:spPr>
            <a:xfrm>
              <a:off x="2291040" y="1185840"/>
              <a:ext cx="5194800" cy="1033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89240" y="1189080"/>
              <a:ext cx="51969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atchma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89240" y="1689120"/>
              <a:ext cx="520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800600" y="167796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14280" y="1695600"/>
              <a:ext cx="26737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ndor_coll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305080" y="1685880"/>
              <a:ext cx="2474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ndor_negoti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 flipH="1">
            <a:off x="2010960" y="2184480"/>
            <a:ext cx="925560" cy="11286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06800" y="3711600"/>
            <a:ext cx="4624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781680" y="3089160"/>
            <a:ext cx="2067120" cy="10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98320" y="3363840"/>
            <a:ext cx="1852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dor_start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19120" y="558720"/>
            <a:ext cx="1044720" cy="12574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925560" y="2141640"/>
            <a:ext cx="0" cy="923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0280" y="1730520"/>
            <a:ext cx="1972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dor_sub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685160" y="3990960"/>
            <a:ext cx="7072920" cy="2357280"/>
            <a:chOff x="1685160" y="3990960"/>
            <a:chExt cx="7072920" cy="2357280"/>
          </a:xfrm>
        </p:grpSpPr>
        <p:sp>
          <p:nvSpPr>
            <p:cNvPr id="250" name=""/>
            <p:cNvSpPr/>
            <p:nvPr/>
          </p:nvSpPr>
          <p:spPr>
            <a:xfrm>
              <a:off x="1709640" y="4356000"/>
              <a:ext cx="2003400" cy="138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685160" y="4643280"/>
              <a:ext cx="20750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ndor_shad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39960" y="4002120"/>
              <a:ext cx="601560" cy="612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54680" y="4389480"/>
              <a:ext cx="2003400" cy="87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97880" y="4676760"/>
              <a:ext cx="19440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ndor_star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41720" y="4592520"/>
              <a:ext cx="41083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724880" y="3990960"/>
              <a:ext cx="0" cy="666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724800" y="5477040"/>
              <a:ext cx="2003400" cy="87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713720" y="5173560"/>
              <a:ext cx="0" cy="625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ondor processe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ster: Takes care of other proces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llector: Stores ClassA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gotiator: Performs matchmak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hedd: Manages job que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adow: Manages job (submit sid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rtd: Manages compu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rter: Manages job (execution sid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First…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se slides are available from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ttp://www.cs.wisc.edu/~roy/italy-condor/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ome note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ctly one negotiator/collector per poo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have many schedds (submitter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have many startds (computer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machine can have any combin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dicated cluster: maybe just start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ared workstations: schedd + start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sonal Condor: everyth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Our Condor Pool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02564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ch student machine h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hedd (queu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rtd (with two virtual machine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ral serv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: Only a start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: Startd + collector/negotiat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 your leisur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dor_stat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5351400"/>
            <a:ext cx="9144000" cy="150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Our Condor Pool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62000" y="890640"/>
            <a:ext cx="88884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ame          OpSys       Arch   State      Activity   LoadAv Mem   ActvtyTim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m1@server4.g LINUX       INTEL  Unclaimed  Idle       0.000   501  0+03:45:0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m2@server4.g LINUX       INTEL  Unclaimed  Idle       0.000   501  0+03:45: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m1@server5.g LINUX       INTEL  Unclaimed  Idle       0.000   501  0+03:40:0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m2@server5.g LINUX       INTEL  Unclaimed  Idle       0.000   501  0+03:40: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m1@ws-01.gs. LINUX       INTEL  Unclaimed  Idle       0.000   501  0+00:02:4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m2@ws-01.gs. LINUX       INTEL  Unclaimed  Idle       0.000   501  0+00:02:4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m1@ws-03.gs. LINUX       INTEL  Unclaimed  Idle       0.000   501  0+02:30:2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m2@ws-03.gs. LINUX       INTEL  Unclaimed  Idle       0.000   501  0+02:30:2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m1@ws-04.gs. LINUX       INTEL  Unclaimed  Idle       0.080   501  0+03:30:09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m2@ws-04.gs. LINUX       INTEL  Unclaimed  Idle       0.000   501  0+03:30: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chines Owner Claimed Unclaimed Matched Preempt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L/LINUX       66     0       0        66       0          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tal       66     0       0        66       0          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Evolution of ClassAd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Ads are very powerfu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hema-free, user-extensible,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Ads could be fanci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lis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nested ClassA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fun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-hoc evaluation seman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247680" y="1447560"/>
            <a:ext cx="8470800" cy="36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ture versions of Condor will have new ClassAds to solve these proble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 Type = “Machine”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iends = {“alain”, “miron”, “peter”}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adAverages = [ OneMinute = 3; FiveMinute=2.0]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quirements = member(other.name, Friends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New ClassAd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7788240" y="2773440"/>
            <a:ext cx="1029240" cy="474840"/>
            <a:chOff x="7788240" y="2773440"/>
            <a:chExt cx="1029240" cy="474840"/>
          </a:xfrm>
        </p:grpSpPr>
        <p:sp>
          <p:nvSpPr>
            <p:cNvPr id="273" name=""/>
            <p:cNvSpPr/>
            <p:nvPr/>
          </p:nvSpPr>
          <p:spPr>
            <a:xfrm>
              <a:off x="8292240" y="2773440"/>
              <a:ext cx="5252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li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7788240" y="3033720"/>
              <a:ext cx="517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7162200" y="4108320"/>
            <a:ext cx="1971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ested class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7424640" y="3648240"/>
            <a:ext cx="517680" cy="452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77200" y="4968720"/>
            <a:ext cx="2087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uilt-in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467160" y="4089240"/>
            <a:ext cx="1440" cy="895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ummary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dor uses ClassAd to represent state of jobs and machi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tchmaking operates on ClassAds to find match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rs and machine owners can specify their prefere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Let’s take a break!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(If I timed this correctly)</a:t>
            </a: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722600" y="1535040"/>
            <a:ext cx="569736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5284800"/>
            <a:ext cx="9144000" cy="15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69480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Part Two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Running a Condor Job</a:t>
            </a: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738440" y="2633760"/>
            <a:ext cx="566712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Getting Condor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vailable as a free download fr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ttp://www.cs.wisc.edu/cond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wnload Condor for your operating syst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ailable for many UNIX platform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inux, Solaris, HPUX, IRIX, Tru64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so for Window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ondor Release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00892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aming scheme similar to the Linux Kernel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jor.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mino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relea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table: Minor is even (a.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c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xamples: 6.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3, 6.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8, 6.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ery stable, mostly bug fix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eveloper: Minor is odd (a.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c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ew features, may have some bu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xamples: 6.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5, 6.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5, 6.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day’s releas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table: 6.6.1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evelopment: 6.7.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4861080"/>
            <a:ext cx="9144000" cy="19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77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This Morning’s Condor Topics</a:t>
            </a: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77320" cy="457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chmaking: Finding machines for job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unning a jo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unning a parameter swee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aging sets of dependent job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ster-Worker applic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57560" y="3381480"/>
            <a:ext cx="46288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95200"/>
            <a:ext cx="82342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Try out Condor: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Use a Personal Condor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234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dor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your own works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root access requir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system administrator intervention need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’ll try this during the exerci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120320"/>
            <a:ext cx="7772400" cy="35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Personal Condor?!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What’s the benefit of a Condor Pool with just one user and one machine?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85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Your Personal Condor will ...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34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ep an eye on your jobs and will keep you posted on their progr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lement your policy on the execution order of the job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ep a log of your job activ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 fault tolerance to your job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lement your policy on when the jobs can run on your works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After Personal Condor…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a Personal Condor pool works for you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ince your co-workers to add their computers to the po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 dedicated hardware to the po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8840" y="76320"/>
            <a:ext cx="803916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Four Steps to Run a Job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5788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oose a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ver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or your job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 your job batch-rea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e a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submit descrip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i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n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condor_submit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1. Choose a Universe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are many choi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nilla: any old jo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ndard: checkpointing &amp; remote I/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ava: better for Java job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PI: Run parallel MPI job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now, we’ll just consider vanill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2. Make your job batch-ready</a:t>
            </a: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st be able to run in the background: no interactive input, windows, GUI, et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still 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DI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DOU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DER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the keyboard and the screen), but files are used for these instead of the actual devi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ganize data fi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53760" y="81000"/>
            <a:ext cx="730548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3. Create a Submit Description File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88960" y="1557360"/>
            <a:ext cx="855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plain ASCII text f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t a Class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ut condor_submit will make a ClassAd from 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dor does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are about file extens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ells Condor about your job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ich executable, universe, input, output and error files to use, command-line arguments, environment variables, any special requirements or preferenc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95200"/>
            <a:ext cx="82342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imple Submit Description File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85800"/>
            <a:ext cx="8229600" cy="34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# Simple condor_submit input f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# (Lines beginning with # are comment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# NOTE: the words on the left side are no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#       case sensitive, but filenames are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Universe   = vanil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xecutable = analys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Log        = my_job.lo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0040" y="216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4. Run condor_submit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128600"/>
            <a:ext cx="77724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ou give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condor_submi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e name of the submit file you have created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condor_submit my_job.subm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condor_submit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rses the submit file, checks for it errors, and creates a ClassAd that describes your job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2855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Part On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Matchmaking: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Finding Machines For Jobs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Finding Jobs for Machines</a:t>
            </a: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70040" y="216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The Job Queue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dor_submit sends your job’s ClassAd to the sched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nages the local job que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ores the job in the job que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tomic operation, two-phase comm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ike money in the bank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iew the queue with </a:t>
            </a:r>
            <a:r>
              <a:rPr b="0" lang="en-GB" sz="30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An example submission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4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% condor_submit my_job.subm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ubmitting job(s)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 job(s) submitted to cluster 1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% condor_q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-- Submitter: perdita.cs.wisc.edu : &lt;128.105.165.34:1027&gt; :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D      OWNER        SUBMITTED     RUN_TIME ST PRI SIZE CMD      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.0    roy          7/6 06:52   0+00:00:00 I  0   0.0  analys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 jobs; 1 idle, 0 running, 0 hel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93720" y="75960"/>
            <a:ext cx="777240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ome detail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09188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dor sends you email about ev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urn it off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otification = Ne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ly on errors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otification = Err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dor creates a log file (user log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urier New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urier New"/>
              </a:rPr>
              <a:t>The Life Story of a Job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ws all events in the life of a jo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ways have a log f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ified with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g = filena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99520"/>
            <a:ext cx="82342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ample Condor User Log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6" name=""/>
          <p:cNvSpPr/>
          <p:nvPr/>
        </p:nvSpPr>
        <p:spPr>
          <a:xfrm>
            <a:off x="304920" y="1371600"/>
            <a:ext cx="8381880" cy="44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000 (0001.000.000) </a:t>
            </a:r>
            <a:r>
              <a:rPr b="1" lang="en-GB" sz="1300" spc="-1" strike="noStrike">
                <a:solidFill>
                  <a:srgbClr val="0000ff"/>
                </a:solidFill>
                <a:latin typeface="Courier New"/>
              </a:rPr>
              <a:t>05/25 19:10:03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 Job submitted from host: &lt;</a:t>
            </a:r>
            <a:r>
              <a:rPr b="1" lang="en-GB" sz="1300" spc="-1" strike="noStrike">
                <a:solidFill>
                  <a:srgbClr val="0000ff"/>
                </a:solidFill>
                <a:latin typeface="Courier New"/>
              </a:rPr>
              <a:t>128.105.146.14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:1816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001 (0001.000.000) </a:t>
            </a:r>
            <a:r>
              <a:rPr b="1" lang="en-GB" sz="1300" spc="-1" strike="noStrike">
                <a:solidFill>
                  <a:srgbClr val="0000ff"/>
                </a:solidFill>
                <a:latin typeface="Courier New"/>
              </a:rPr>
              <a:t>05/25 19:12:17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 Job executing on host: &lt;</a:t>
            </a:r>
            <a:r>
              <a:rPr b="1" lang="en-GB" sz="1300" spc="-1" strike="noStrike">
                <a:solidFill>
                  <a:srgbClr val="0000ff"/>
                </a:solidFill>
                <a:latin typeface="Courier New"/>
              </a:rPr>
              <a:t>128.105.146.14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:1026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005 (0001.000.000) </a:t>
            </a:r>
            <a:r>
              <a:rPr b="1" lang="en-GB" sz="1300" spc="-1" strike="noStrike">
                <a:solidFill>
                  <a:srgbClr val="0000ff"/>
                </a:solidFill>
                <a:latin typeface="Courier New"/>
              </a:rPr>
              <a:t>05/25 19:13:06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 Job terminated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(1) Normal termination (</a:t>
            </a:r>
            <a:r>
              <a:rPr b="1" lang="en-GB" sz="1300" spc="-1" strike="noStrike">
                <a:solidFill>
                  <a:srgbClr val="0000ff"/>
                </a:solidFill>
                <a:latin typeface="Courier New"/>
              </a:rPr>
              <a:t>return value 0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Usr 0 00:00:37, Sys 0 00:00:00  -  Run Remote Usag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Usr 0 00:00:00, Sys 0 00:00:05  -  Run Local Usag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Usr 0 00:00:37, Sys 0 00:00:00  -  Total Remote Usag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Usr 0 00:00:00, Sys 0 00:00:05  -  Total Local Usag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9624  -  Run Bytes Sent By Jo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7146159  -  Run Bytes Received By Jo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9624  -  Total Bytes Sent By Jo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7146159  -  Total Bytes Received By Jo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860400" y="2846520"/>
            <a:ext cx="6045120" cy="157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95200"/>
            <a:ext cx="82342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ore Submit Feature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9" name=""/>
          <p:cNvSpPr/>
          <p:nvPr/>
        </p:nvSpPr>
        <p:spPr>
          <a:xfrm>
            <a:off x="838080" y="1333440"/>
            <a:ext cx="7543800" cy="33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# Example condor_submit inpu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niverse   = vani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utable = /home/roy/condor/my_job.con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g        = my_job.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put      = my_job.std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Output     = my_job.std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rror      = my_job.stde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rguments  = -arg1 -ar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itialDir = /home/roy/condor/run_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44400" y="20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Using condor_rm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44400" y="1231920"/>
            <a:ext cx="777240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f you want to remove a job from the Condor queue, you use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ondor_r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You can only remove jobs that you own (you can’t ru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 someone else’s jobs unless you are roo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You can give specific job ID’s (cluster or cluster.proc), or you can remove all of your jobs with the “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-a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” op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ondor_rm 21.1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·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  <a:ea typeface="Courier New"/>
              </a:rPr>
              <a:t>Removes a single jo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ondor_rm 21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·Removes a whole clus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ondor_statu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1676520"/>
            <a:ext cx="8382240" cy="33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en-GB" sz="1200" spc="-1" strike="noStrike">
                <a:solidFill>
                  <a:srgbClr val="ff0000"/>
                </a:solidFill>
                <a:latin typeface="Courier New"/>
              </a:rPr>
              <a:t>condor_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Name          OpSys       Arch   State      Activity   LoadAv Mem   Actvty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haha.cs.wisc. IRIX65      SGI    Unclaimed  Idle       0.198   192  0+00:00: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antipholus.cs LINUX       INTEL  Unclaimed  Idle       0.020   511  0+02:28: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coral.cs.wisc LINUX       INTEL  Claimed    Busy       0.990   511  0+01:27: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doc.cs.wisc.e LINUX       INTEL  Unclaimed  Idle       0.260   511  0+00:20: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dsonokwa.cs.w LINUX       INTEL  Claimed    Busy       0.810   511  0+00:01: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ferdinand.cs. LINUX       INTEL  Claimed    Suspended  1.130   511  0+00:00: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vm1@pinguino. LINUX       INTEL  Unclaimed  Idle       0.000   255  0+01:03: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vm2@pinguino. LINUX       INTEL  Unclaimed  Idle       0.190   255  0+01:03: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88720" y="2300400"/>
            <a:ext cx="66690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How can my jobs access their data files?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6953400" y="968400"/>
            <a:ext cx="1622160" cy="39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77880" y="154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Access to Data in Condor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93720" y="1289160"/>
            <a:ext cx="77724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e shared filesystem if avail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 shared filesystem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Condor can transfer fi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n automatically send back changed fi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tomic transfer of multiple fi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n be encrypted over the wi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mote I/O Sock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Universe can use 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mote system calls (more on this later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01640" y="554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ondor File Transfer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6600" y="866880"/>
            <a:ext cx="77724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73000"/>
              </a:lnSpc>
              <a:spcBef>
                <a:spcPts val="601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houldTransferFiles = Y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ways transfer files to execution si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houldTransferFiles = N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ly on a shared file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ill automatically transfer the files if the submit and execute machine are not in the same FileSystemDoma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641520" y="3589200"/>
            <a:ext cx="8412120" cy="2224080"/>
            <a:chOff x="641520" y="3589200"/>
            <a:chExt cx="8412120" cy="2224080"/>
          </a:xfrm>
        </p:grpSpPr>
        <p:sp>
          <p:nvSpPr>
            <p:cNvPr id="331" name=""/>
            <p:cNvSpPr/>
            <p:nvPr/>
          </p:nvSpPr>
          <p:spPr>
            <a:xfrm>
              <a:off x="641520" y="3589200"/>
              <a:ext cx="8259480" cy="2224080"/>
            </a:xfrm>
            <a:prstGeom prst="roundRect">
              <a:avLst>
                <a:gd name="adj" fmla="val 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641520" y="3589200"/>
              <a:ext cx="8412120" cy="2224080"/>
              <a:chOff x="641520" y="3589200"/>
              <a:chExt cx="8412120" cy="2224080"/>
            </a:xfrm>
          </p:grpSpPr>
          <p:sp>
            <p:nvSpPr>
              <p:cNvPr id="333" name=""/>
              <p:cNvSpPr/>
              <p:nvPr/>
            </p:nvSpPr>
            <p:spPr>
              <a:xfrm>
                <a:off x="641520" y="3589200"/>
                <a:ext cx="8259480" cy="222408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42600" y="3589200"/>
                <a:ext cx="8411040" cy="221076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Universe   = vanil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Executable = my_jo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Log        = my_job.lo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i="1" lang="en-GB" sz="2000" spc="-1" strike="noStrike">
                    <a:solidFill>
                      <a:srgbClr val="ff0000"/>
                    </a:solidFill>
                    <a:latin typeface="Courier New"/>
                    <a:ea typeface="Courier New"/>
                  </a:rPr>
                  <a:t>ShouldTransferFiles   = IF_NEED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i="1" lang="en-GB" sz="2000" spc="-1" strike="noStrike">
                    <a:solidFill>
                      <a:srgbClr val="ff0000"/>
                    </a:solidFill>
                    <a:latin typeface="Courier New"/>
                    <a:ea typeface="Courier New"/>
                  </a:rPr>
                  <a:t>Transfer_input_files  = dataset$(Process), common.dat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i="1" lang="en-GB" sz="2000" spc="-1" strike="noStrike">
                    <a:solidFill>
                      <a:srgbClr val="ff0000"/>
                    </a:solidFill>
                    <a:latin typeface="Courier New"/>
                    <a:ea typeface="Courier New"/>
                  </a:rPr>
                  <a:t>Transfer_output_files = TheAnswer.da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Queue 6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5338800"/>
            <a:ext cx="9144000" cy="151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7840" y="314280"/>
            <a:ext cx="82296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…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And matches th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ondor Takes Computers…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1447920"/>
            <a:ext cx="4038480" cy="4413240"/>
            <a:chOff x="457200" y="1447920"/>
            <a:chExt cx="4038480" cy="441324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457200" y="1917720"/>
              <a:ext cx="4038480" cy="39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1158840" y="1447920"/>
              <a:ext cx="24224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edicated Clus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648320" y="1371600"/>
            <a:ext cx="4038480" cy="3057480"/>
            <a:chOff x="4648320" y="1371600"/>
            <a:chExt cx="4038480" cy="3057480"/>
          </a:xfrm>
        </p:grpSpPr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4648320" y="1905120"/>
              <a:ext cx="4038480" cy="25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5371920" y="1371600"/>
              <a:ext cx="25642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esktop Compu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57200" y="304920"/>
            <a:ext cx="8229600" cy="8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…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And jo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04720" y="973080"/>
            <a:ext cx="2971800" cy="2388960"/>
            <a:chOff x="504720" y="973080"/>
            <a:chExt cx="2971800" cy="2388960"/>
          </a:xfrm>
        </p:grpSpPr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504720" y="1476360"/>
              <a:ext cx="2971800" cy="18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790200" y="973080"/>
              <a:ext cx="1771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I need a Mac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36680" y="3738600"/>
            <a:ext cx="2431800" cy="2724120"/>
            <a:chOff x="436680" y="3738600"/>
            <a:chExt cx="2431800" cy="2724120"/>
          </a:xfrm>
        </p:grpSpPr>
        <p:pic>
          <p:nvPicPr>
            <p:cNvPr id="125" name="" descr=""/>
            <p:cNvPicPr/>
            <p:nvPr/>
          </p:nvPicPr>
          <p:blipFill>
            <a:blip r:embed="rId4"/>
            <a:stretch/>
          </p:blipFill>
          <p:spPr>
            <a:xfrm>
              <a:off x="695160" y="4586400"/>
              <a:ext cx="1800360" cy="18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436680" y="3738600"/>
              <a:ext cx="24318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I need a Linux box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ith 2GB RAM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205080" y="2263680"/>
            <a:ext cx="2530440" cy="3348720"/>
            <a:chOff x="3205080" y="2263680"/>
            <a:chExt cx="2530440" cy="3348720"/>
          </a:xfrm>
        </p:grpSpPr>
        <p:sp>
          <p:nvSpPr>
            <p:cNvPr id="128" name=""/>
            <p:cNvSpPr/>
            <p:nvPr/>
          </p:nvSpPr>
          <p:spPr>
            <a:xfrm>
              <a:off x="3205080" y="2263680"/>
              <a:ext cx="2530440" cy="334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82080" y="3030840"/>
              <a:ext cx="16894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atchma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511360" y="2127240"/>
            <a:ext cx="5419800" cy="500040"/>
          </a:xfrm>
          <a:custGeom>
            <a:avLst/>
            <a:gdLst>
              <a:gd name="textAreaLeft" fmla="*/ 948240 w 5419800"/>
              <a:gd name="textAreaRight" fmla="*/ 3929400 w 541980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92480" y="1859040"/>
            <a:ext cx="4244760" cy="711000"/>
          </a:xfrm>
          <a:custGeom>
            <a:avLst/>
            <a:gdLst>
              <a:gd name="textAreaLeft" fmla="*/ 742680 w 4244760"/>
              <a:gd name="textAreaRight" fmla="*/ 3077640 w 4244760"/>
              <a:gd name="textAreaTop" fmla="*/ 95040 h 711000"/>
              <a:gd name="textAreaBottom" fmla="*/ 615960 h 71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73200" y="4863960"/>
            <a:ext cx="4359240" cy="846360"/>
          </a:xfrm>
          <a:custGeom>
            <a:avLst/>
            <a:gdLst>
              <a:gd name="textAreaLeft" fmla="*/ 762840 w 4359240"/>
              <a:gd name="textAreaRight" fmla="*/ 3160440 w 4359240"/>
              <a:gd name="textAreaTop" fmla="*/ 113400 h 846360"/>
              <a:gd name="textAreaBottom" fmla="*/ 732960 h 84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62891E-007 L 3.33333E-006 -0.16748 E">
                                      <p:cBhvr>
                                        <p:cTn id="10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6.76396E-007 L 0.47917 -6.76396E-007 E">
                                      <p:cBhvr>
                                        <p:cTn id="12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88720" y="1297080"/>
            <a:ext cx="6669000" cy="35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ome of the machines in the Pool do not have enough memory or scratch disk space to run my job!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6953400" y="968400"/>
            <a:ext cx="1622160" cy="39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pecify Requirements!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32880" y="1639440"/>
            <a:ext cx="799956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expression (syntax similar to C or Java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st evaluate to True for a match to be m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778680" y="3294000"/>
            <a:ext cx="6887520" cy="2878560"/>
            <a:chOff x="778680" y="3294000"/>
            <a:chExt cx="6887520" cy="2878560"/>
          </a:xfrm>
        </p:grpSpPr>
        <p:sp>
          <p:nvSpPr>
            <p:cNvPr id="340" name=""/>
            <p:cNvSpPr/>
            <p:nvPr/>
          </p:nvSpPr>
          <p:spPr>
            <a:xfrm>
              <a:off x="779400" y="3294000"/>
              <a:ext cx="6886800" cy="2776680"/>
            </a:xfrm>
            <a:prstGeom prst="roundRect">
              <a:avLst>
                <a:gd name="adj" fmla="val 5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778680" y="3294000"/>
              <a:ext cx="6887160" cy="2878560"/>
              <a:chOff x="778680" y="3294000"/>
              <a:chExt cx="6887160" cy="2878560"/>
            </a:xfrm>
          </p:grpSpPr>
          <p:sp>
            <p:nvSpPr>
              <p:cNvPr id="342" name=""/>
              <p:cNvSpPr/>
              <p:nvPr/>
            </p:nvSpPr>
            <p:spPr>
              <a:xfrm>
                <a:off x="779400" y="3294000"/>
                <a:ext cx="6885360" cy="2775240"/>
              </a:xfrm>
              <a:prstGeom prst="roundRect">
                <a:avLst>
                  <a:gd name="adj" fmla="val 5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78680" y="3294000"/>
                <a:ext cx="6887160" cy="2878560"/>
              </a:xfrm>
              <a:prstGeom prst="roundRect">
                <a:avLst>
                  <a:gd name="adj" fmla="val 5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</a:rPr>
                  <a:t>Universe   = vanil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</a:rPr>
                  <a:t>Executable = my_jo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</a:rPr>
                  <a:t>Log        = my_job.lo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</a:rPr>
                  <a:t>InitialDir = run_$(Process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i="1" lang="en-GB" sz="2000" spc="-1" strike="noStrike">
                    <a:solidFill>
                      <a:srgbClr val="ff0000"/>
                    </a:solidFill>
                    <a:latin typeface="Courier New"/>
                  </a:rPr>
                  <a:t>Requirements = Memory &gt;= 256 &amp;&amp; Disk &gt; 100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</a:rPr>
                  <a:t>Queue 6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342720"/>
            <a:ext cx="823428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pecify Rank!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57360" y="1378080"/>
            <a:ext cx="7772400" cy="18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matches which meet the requirements can be sorted by preference with a Rank expressio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er the Rank, the better the mat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778680" y="3149640"/>
            <a:ext cx="6887520" cy="3500640"/>
            <a:chOff x="778680" y="3149640"/>
            <a:chExt cx="6887520" cy="3500640"/>
          </a:xfrm>
        </p:grpSpPr>
        <p:sp>
          <p:nvSpPr>
            <p:cNvPr id="347" name=""/>
            <p:cNvSpPr/>
            <p:nvPr/>
          </p:nvSpPr>
          <p:spPr>
            <a:xfrm>
              <a:off x="779400" y="3149640"/>
              <a:ext cx="6886800" cy="3386160"/>
            </a:xfrm>
            <a:prstGeom prst="roundRect">
              <a:avLst>
                <a:gd name="adj" fmla="val 4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778680" y="3149640"/>
              <a:ext cx="6887160" cy="3500640"/>
              <a:chOff x="778680" y="3149640"/>
              <a:chExt cx="6887160" cy="3500640"/>
            </a:xfrm>
          </p:grpSpPr>
          <p:sp>
            <p:nvSpPr>
              <p:cNvPr id="349" name=""/>
              <p:cNvSpPr/>
              <p:nvPr/>
            </p:nvSpPr>
            <p:spPr>
              <a:xfrm>
                <a:off x="779400" y="3149640"/>
                <a:ext cx="6885360" cy="3384720"/>
              </a:xfrm>
              <a:prstGeom prst="roundRect">
                <a:avLst>
                  <a:gd name="adj" fmla="val 4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78680" y="3149640"/>
                <a:ext cx="6887160" cy="3500640"/>
              </a:xfrm>
              <a:prstGeom prst="roundRect">
                <a:avLst>
                  <a:gd name="adj" fmla="val 4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</a:rPr>
                  <a:t>Universe   = vanil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</a:rPr>
                  <a:t>Executable = my_jo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</a:rPr>
                  <a:t>Log        = my_job.lo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</a:rPr>
                  <a:t>Arguments  = -arg1 –arg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</a:rPr>
                  <a:t>InitialDir = run_$(Process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i="1" lang="en-GB" sz="2000" spc="-1" strike="noStrike">
                    <a:solidFill>
                      <a:srgbClr val="ff0000"/>
                    </a:solidFill>
                    <a:latin typeface="Courier New"/>
                  </a:rPr>
                  <a:t>Requirements = Memory &gt;= 256 &amp;&amp; Disk &gt; 100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i="1" lang="en-GB" sz="2000" spc="-1" strike="noStrike">
                    <a:solidFill>
                      <a:srgbClr val="ff0000"/>
                    </a:solidFill>
                    <a:latin typeface="Courier New"/>
                  </a:rPr>
                  <a:t>Rank = (KFLOPS*10000) + Memor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</a:rPr>
                  <a:t>Queue 6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85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We’ve seen how Condor can: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22040" y="1752120"/>
            <a:ext cx="766908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eps an eye on your jobs and will keep you posted on their progr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lements your policy on the execution order of the job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eps a log of your job activit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391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y jobs run for 20 days…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7086600" y="1066680"/>
            <a:ext cx="1622520" cy="393408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670572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happens when they get pre-empte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can I add fault tolerance to my job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44480" y="4680"/>
            <a:ext cx="77724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ondor’s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Standard Universe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to the rescue!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522440"/>
            <a:ext cx="823428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dor can support various combinations of features/environments in different “Universe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fferent Universes provide different functionality for your job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nilla – Run any Serial Jo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heduler – Plug in a schedul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Standard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– Support for transparent process checkpoint and resta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Process Checkpointing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58520" y="1638000"/>
            <a:ext cx="74977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dor’s Process Checkpointing mechanism saves the entire state of a process into a checkpoint f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mory, CPU, I/O, et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process can then be restarted </a:t>
            </a:r>
            <a:r>
              <a:rPr b="0" i="1" lang="en-GB" sz="2800" spc="-1" strike="noStrike">
                <a:solidFill>
                  <a:srgbClr val="3333cc"/>
                </a:solidFill>
                <a:latin typeface="Comic Sans MS"/>
              </a:rPr>
              <a:t>from right where it left of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Typically no changes to your job’s source code neede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– however,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your job must be </a:t>
            </a:r>
            <a:r>
              <a:rPr b="0" i="1" lang="en-GB" sz="2800" spc="-1" strike="noStrike">
                <a:solidFill>
                  <a:srgbClr val="3333cc"/>
                </a:solidFill>
                <a:latin typeface="Comic Sans MS"/>
              </a:rPr>
              <a:t>relinked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with Condor’s Standard Universe support libr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-39960"/>
            <a:ext cx="7772400" cy="22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Relinking Your Job for Standard Universe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43040"/>
            <a:ext cx="823428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do this, just place “</a:t>
            </a:r>
            <a:r>
              <a:rPr b="1" i="1" lang="en-US" sz="3200" spc="-1" strike="noStrike">
                <a:solidFill>
                  <a:srgbClr val="ff3300"/>
                </a:solidFill>
                <a:latin typeface="Comic Sans MS"/>
              </a:rPr>
              <a:t>condor_compi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” in front of the command you normally use to link your job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006560" y="3759120"/>
            <a:ext cx="71118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4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% condor_compile gcc -o myjob myjob.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- OR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% condor_compile f77 -o myjob filea.f fileb.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- OR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% condor_compile make –f MyMake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01640" y="92160"/>
            <a:ext cx="77724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Limitations of the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tandard Universe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01640" y="1590480"/>
            <a:ext cx="7772400" cy="48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dor’s checkpointing is not at the kernel level.  Thus in the Standard Universe the job may not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k(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se kernel threa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se some forms of IPC, such as pipes and shared memo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ny typical scientific jobs are O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95200"/>
            <a:ext cx="82342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When will Condor checkpoint your job?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755720"/>
            <a:ext cx="8234280" cy="39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riodically, if desir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r fault toler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your job is preempted by a higher priority jo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your job is vacated because the execution machine becomes bus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you explicitly run </a:t>
            </a:r>
            <a:r>
              <a:rPr b="0" i="1" lang="en-GB" sz="2800" spc="-1" strike="noStrike">
                <a:solidFill>
                  <a:srgbClr val="ff0000"/>
                </a:solidFill>
                <a:latin typeface="Comic Sans MS"/>
              </a:rPr>
              <a:t>condor_checkpoint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GB" sz="2800" spc="-1" strike="noStrike">
                <a:solidFill>
                  <a:srgbClr val="ff0000"/>
                </a:solidFill>
                <a:latin typeface="Comic Sans MS"/>
              </a:rPr>
              <a:t>condor_vacate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GB" sz="2800" spc="-1" strike="noStrike">
                <a:solidFill>
                  <a:srgbClr val="ff0000"/>
                </a:solidFill>
                <a:latin typeface="Comic Sans MS"/>
              </a:rPr>
              <a:t>condor_off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i="1" lang="en-GB" sz="2800" spc="-1" strike="noStrike">
                <a:solidFill>
                  <a:srgbClr val="ff0000"/>
                </a:solidFill>
                <a:latin typeface="Comic Sans MS"/>
              </a:rPr>
              <a:t>condor_restart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c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ma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Quick Terminology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A dedicated set of computers not for interactive u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oo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A collection of computers used by Cond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y be dedica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y be interacti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emote I/O Socket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0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ob can request that the condor_starter process on the execute machine create a </a:t>
            </a:r>
            <a:r>
              <a:rPr b="0" i="1" lang="en-GB" sz="2800" spc="-1" strike="noStrike">
                <a:solidFill>
                  <a:srgbClr val="ff0000"/>
                </a:solidFill>
                <a:latin typeface="Comic Sans MS"/>
              </a:rPr>
              <a:t>Remote I/O Sock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sed for online access of file on submit machine –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without Standard Univer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se in Vanilla, Java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braries provided for Java and for C, e.g.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ava: FileInputStream -&gt; ChirpInputStrea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: open()  -&gt;  chirp_open(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5478480"/>
            <a:ext cx="9144000" cy="137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5046840" y="2586960"/>
            <a:ext cx="2690640" cy="2654280"/>
            <a:chOff x="5046840" y="2586960"/>
            <a:chExt cx="2690640" cy="2654280"/>
          </a:xfrm>
        </p:grpSpPr>
        <p:sp>
          <p:nvSpPr>
            <p:cNvPr id="371" name=""/>
            <p:cNvSpPr/>
            <p:nvPr/>
          </p:nvSpPr>
          <p:spPr>
            <a:xfrm>
              <a:off x="5046840" y="3108240"/>
              <a:ext cx="2690640" cy="16113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5444640" y="2586960"/>
              <a:ext cx="1891440" cy="2654280"/>
              <a:chOff x="5444640" y="2586960"/>
              <a:chExt cx="1891440" cy="2654280"/>
            </a:xfrm>
          </p:grpSpPr>
          <p:sp>
            <p:nvSpPr>
              <p:cNvPr id="373" name=""/>
              <p:cNvSpPr/>
              <p:nvPr/>
            </p:nvSpPr>
            <p:spPr>
              <a:xfrm>
                <a:off x="5444640" y="3347280"/>
                <a:ext cx="1891440" cy="1132560"/>
              </a:xfrm>
              <a:prstGeom prst="roundRect">
                <a:avLst>
                  <a:gd name="adj" fmla="val 13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444640" y="2586960"/>
                <a:ext cx="1891440" cy="26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Jo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375" name=""/>
          <p:cNvCxnSpPr/>
          <p:nvPr/>
        </p:nvCxnSpPr>
        <p:spPr>
          <a:xfrm>
            <a:off x="6393960" y="2433600"/>
            <a:ext cx="25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76" name=""/>
          <p:cNvGrpSpPr/>
          <p:nvPr/>
        </p:nvGrpSpPr>
        <p:grpSpPr>
          <a:xfrm>
            <a:off x="5538960" y="2490840"/>
            <a:ext cx="757440" cy="434520"/>
            <a:chOff x="5538960" y="2490840"/>
            <a:chExt cx="757440" cy="434520"/>
          </a:xfrm>
        </p:grpSpPr>
        <p:sp>
          <p:nvSpPr>
            <p:cNvPr id="377" name=""/>
            <p:cNvSpPr/>
            <p:nvPr/>
          </p:nvSpPr>
          <p:spPr>
            <a:xfrm>
              <a:off x="5556240" y="2490840"/>
              <a:ext cx="723960" cy="339840"/>
            </a:xfrm>
            <a:prstGeom prst="roundRect">
              <a:avLst>
                <a:gd name="adj" fmla="val 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5538960" y="2490840"/>
              <a:ext cx="757440" cy="434520"/>
              <a:chOff x="5538960" y="2490840"/>
              <a:chExt cx="757440" cy="434520"/>
            </a:xfrm>
          </p:grpSpPr>
          <p:sp>
            <p:nvSpPr>
              <p:cNvPr id="379" name=""/>
              <p:cNvSpPr/>
              <p:nvPr/>
            </p:nvSpPr>
            <p:spPr>
              <a:xfrm>
                <a:off x="5556240" y="2490840"/>
                <a:ext cx="722520" cy="33840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538960" y="2490840"/>
                <a:ext cx="757440" cy="43452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or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1" name=""/>
          <p:cNvGrpSpPr/>
          <p:nvPr/>
        </p:nvGrpSpPr>
        <p:grpSpPr>
          <a:xfrm>
            <a:off x="5265720" y="609480"/>
            <a:ext cx="2254320" cy="1819440"/>
            <a:chOff x="5265720" y="609480"/>
            <a:chExt cx="2254320" cy="1819440"/>
          </a:xfrm>
        </p:grpSpPr>
        <p:sp>
          <p:nvSpPr>
            <p:cNvPr id="382" name=""/>
            <p:cNvSpPr/>
            <p:nvPr/>
          </p:nvSpPr>
          <p:spPr>
            <a:xfrm>
              <a:off x="5265720" y="609480"/>
              <a:ext cx="2254320" cy="18194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5598720" y="752760"/>
              <a:ext cx="1583280" cy="1531080"/>
              <a:chOff x="5598720" y="752760"/>
              <a:chExt cx="1583280" cy="1531080"/>
            </a:xfrm>
          </p:grpSpPr>
          <p:sp>
            <p:nvSpPr>
              <p:cNvPr id="384" name=""/>
              <p:cNvSpPr/>
              <p:nvPr/>
            </p:nvSpPr>
            <p:spPr>
              <a:xfrm>
                <a:off x="5598720" y="878760"/>
                <a:ext cx="1583280" cy="1276560"/>
              </a:xfrm>
              <a:prstGeom prst="roundRect">
                <a:avLst>
                  <a:gd name="adj" fmla="val 12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598720" y="752760"/>
                <a:ext cx="1581840" cy="153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tart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6" name=""/>
          <p:cNvGrpSpPr/>
          <p:nvPr/>
        </p:nvGrpSpPr>
        <p:grpSpPr>
          <a:xfrm>
            <a:off x="457200" y="609480"/>
            <a:ext cx="2254320" cy="1819440"/>
            <a:chOff x="457200" y="609480"/>
            <a:chExt cx="2254320" cy="1819440"/>
          </a:xfrm>
        </p:grpSpPr>
        <p:sp>
          <p:nvSpPr>
            <p:cNvPr id="387" name=""/>
            <p:cNvSpPr/>
            <p:nvPr/>
          </p:nvSpPr>
          <p:spPr>
            <a:xfrm>
              <a:off x="457200" y="609480"/>
              <a:ext cx="2254320" cy="18194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1170720" y="902880"/>
              <a:ext cx="932760" cy="340920"/>
              <a:chOff x="1170720" y="902880"/>
              <a:chExt cx="932760" cy="340920"/>
            </a:xfrm>
          </p:grpSpPr>
          <p:sp>
            <p:nvSpPr>
              <p:cNvPr id="389" name=""/>
              <p:cNvSpPr/>
              <p:nvPr/>
            </p:nvSpPr>
            <p:spPr>
              <a:xfrm>
                <a:off x="1180440" y="902880"/>
                <a:ext cx="915120" cy="336240"/>
              </a:xfrm>
              <a:prstGeom prst="roundRect">
                <a:avLst>
                  <a:gd name="adj" fmla="val 46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170720" y="902880"/>
                <a:ext cx="932760" cy="340920"/>
              </a:xfrm>
              <a:prstGeom prst="roundRect">
                <a:avLst>
                  <a:gd name="adj" fmla="val 46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hado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1" name=""/>
          <p:cNvGrpSpPr/>
          <p:nvPr/>
        </p:nvGrpSpPr>
        <p:grpSpPr>
          <a:xfrm>
            <a:off x="676440" y="3060720"/>
            <a:ext cx="1815840" cy="1933560"/>
            <a:chOff x="676440" y="3060720"/>
            <a:chExt cx="1815840" cy="1933560"/>
          </a:xfrm>
        </p:grpSpPr>
        <p:grpSp>
          <p:nvGrpSpPr>
            <p:cNvPr id="392" name=""/>
            <p:cNvGrpSpPr/>
            <p:nvPr/>
          </p:nvGrpSpPr>
          <p:grpSpPr>
            <a:xfrm>
              <a:off x="676440" y="3060720"/>
              <a:ext cx="1814400" cy="1933560"/>
              <a:chOff x="676440" y="3060720"/>
              <a:chExt cx="1814400" cy="1933560"/>
            </a:xfrm>
          </p:grpSpPr>
          <p:sp>
            <p:nvSpPr>
              <p:cNvPr id="393" name=""/>
              <p:cNvSpPr/>
              <p:nvPr/>
            </p:nvSpPr>
            <p:spPr>
              <a:xfrm>
                <a:off x="676440" y="3060720"/>
                <a:ext cx="1814400" cy="1933560"/>
              </a:xfrm>
              <a:custGeom>
                <a:avLst/>
                <a:gdLst/>
                <a:ahLst/>
                <a:rect l="l" t="t" r="r" b="b"/>
                <a:pathLst>
                  <a:path w="5045" h="5376">
                    <a:moveTo>
                      <a:pt x="2521" y="0"/>
                    </a:moveTo>
                    <a:cubicBezTo>
                      <a:pt x="1144" y="0"/>
                      <a:pt x="0" y="305"/>
                      <a:pt x="0" y="671"/>
                    </a:cubicBezTo>
                    <a:lnTo>
                      <a:pt x="0" y="4703"/>
                    </a:lnTo>
                    <a:cubicBezTo>
                      <a:pt x="0" y="5070"/>
                      <a:pt x="1144" y="5375"/>
                      <a:pt x="2521" y="5375"/>
                    </a:cubicBezTo>
                    <a:cubicBezTo>
                      <a:pt x="3897" y="5375"/>
                      <a:pt x="5044" y="5070"/>
                      <a:pt x="5044" y="4703"/>
                    </a:cubicBezTo>
                    <a:lnTo>
                      <a:pt x="5044" y="671"/>
                    </a:lnTo>
                    <a:cubicBezTo>
                      <a:pt x="5044" y="305"/>
                      <a:pt x="3897" y="0"/>
                      <a:pt x="2521" y="0"/>
                    </a:cubicBezTo>
                  </a:path>
                </a:pathLst>
              </a:custGeom>
              <a:solidFill>
                <a:srgbClr val="66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76440" y="3060720"/>
                <a:ext cx="1814400" cy="483480"/>
              </a:xfrm>
              <a:custGeom>
                <a:avLst/>
                <a:gdLst/>
                <a:ahLst/>
                <a:rect l="l" t="t" r="r" b="b"/>
                <a:pathLst>
                  <a:path w="5045" h="1344">
                    <a:moveTo>
                      <a:pt x="2521" y="0"/>
                    </a:moveTo>
                    <a:cubicBezTo>
                      <a:pt x="1144" y="0"/>
                      <a:pt x="0" y="305"/>
                      <a:pt x="0" y="671"/>
                    </a:cubicBezTo>
                    <a:cubicBezTo>
                      <a:pt x="0" y="1037"/>
                      <a:pt x="1144" y="1343"/>
                      <a:pt x="2521" y="1343"/>
                    </a:cubicBezTo>
                    <a:cubicBezTo>
                      <a:pt x="3897" y="1343"/>
                      <a:pt x="5044" y="1037"/>
                      <a:pt x="5044" y="671"/>
                    </a:cubicBezTo>
                    <a:cubicBezTo>
                      <a:pt x="5044" y="305"/>
                      <a:pt x="3897" y="0"/>
                      <a:pt x="2521" y="0"/>
                    </a:cubicBezTo>
                  </a:path>
                </a:pathLst>
              </a:custGeom>
              <a:solidFill>
                <a:srgbClr val="6fd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676440" y="3544920"/>
              <a:ext cx="1815840" cy="1208160"/>
              <a:chOff x="676440" y="3544920"/>
              <a:chExt cx="1815840" cy="1208160"/>
            </a:xfrm>
          </p:grpSpPr>
          <p:sp>
            <p:nvSpPr>
              <p:cNvPr id="396" name=""/>
              <p:cNvSpPr/>
              <p:nvPr/>
            </p:nvSpPr>
            <p:spPr>
              <a:xfrm>
                <a:off x="676440" y="3544920"/>
                <a:ext cx="1815840" cy="1208160"/>
              </a:xfrm>
              <a:prstGeom prst="roundRect">
                <a:avLst>
                  <a:gd name="adj" fmla="val 1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76440" y="3566160"/>
                <a:ext cx="1815840" cy="116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Ho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i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yste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8" name=""/>
          <p:cNvGrpSpPr/>
          <p:nvPr/>
        </p:nvGrpSpPr>
        <p:grpSpPr>
          <a:xfrm>
            <a:off x="5483160" y="3813120"/>
            <a:ext cx="1816200" cy="433800"/>
            <a:chOff x="5483160" y="3813120"/>
            <a:chExt cx="1816200" cy="433800"/>
          </a:xfrm>
        </p:grpSpPr>
        <p:sp>
          <p:nvSpPr>
            <p:cNvPr id="399" name=""/>
            <p:cNvSpPr/>
            <p:nvPr/>
          </p:nvSpPr>
          <p:spPr>
            <a:xfrm>
              <a:off x="5483160" y="3895560"/>
              <a:ext cx="1816200" cy="271800"/>
            </a:xfrm>
            <a:prstGeom prst="roundRect">
              <a:avLst>
                <a:gd name="adj" fmla="val 28231"/>
              </a:avLst>
            </a:prstGeom>
            <a:solidFill>
              <a:srgbClr val="66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5508360" y="3813120"/>
              <a:ext cx="1765440" cy="433800"/>
              <a:chOff x="5508360" y="3813120"/>
              <a:chExt cx="1765440" cy="433800"/>
            </a:xfrm>
          </p:grpSpPr>
          <p:sp>
            <p:nvSpPr>
              <p:cNvPr id="401" name=""/>
              <p:cNvSpPr/>
              <p:nvPr/>
            </p:nvSpPr>
            <p:spPr>
              <a:xfrm>
                <a:off x="5508360" y="3909600"/>
                <a:ext cx="1765440" cy="238680"/>
              </a:xfrm>
              <a:prstGeom prst="roundRect">
                <a:avLst>
                  <a:gd name="adj" fmla="val 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508360" y="3813120"/>
                <a:ext cx="176544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/O Librar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3" name=""/>
          <p:cNvGrpSpPr/>
          <p:nvPr/>
        </p:nvGrpSpPr>
        <p:grpSpPr>
          <a:xfrm>
            <a:off x="676440" y="1476000"/>
            <a:ext cx="1815840" cy="433800"/>
            <a:chOff x="676440" y="1476000"/>
            <a:chExt cx="1815840" cy="433800"/>
          </a:xfrm>
        </p:grpSpPr>
        <p:sp>
          <p:nvSpPr>
            <p:cNvPr id="404" name=""/>
            <p:cNvSpPr/>
            <p:nvPr/>
          </p:nvSpPr>
          <p:spPr>
            <a:xfrm>
              <a:off x="676440" y="1558800"/>
              <a:ext cx="1815840" cy="271440"/>
            </a:xfrm>
            <a:prstGeom prst="roundRect">
              <a:avLst>
                <a:gd name="adj" fmla="val 28231"/>
              </a:avLst>
            </a:prstGeom>
            <a:solidFill>
              <a:srgbClr val="66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99840" y="1476000"/>
              <a:ext cx="1765080" cy="433800"/>
              <a:chOff x="699840" y="1476000"/>
              <a:chExt cx="1765080" cy="433800"/>
            </a:xfrm>
          </p:grpSpPr>
          <p:sp>
            <p:nvSpPr>
              <p:cNvPr id="406" name=""/>
              <p:cNvSpPr/>
              <p:nvPr/>
            </p:nvSpPr>
            <p:spPr>
              <a:xfrm>
                <a:off x="699840" y="1572480"/>
                <a:ext cx="1765080" cy="238680"/>
              </a:xfrm>
              <a:prstGeom prst="roundRect">
                <a:avLst>
                  <a:gd name="adj" fmla="val 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99840" y="1476000"/>
                <a:ext cx="176508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/O Serv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8" name=""/>
          <p:cNvGrpSpPr/>
          <p:nvPr/>
        </p:nvGrpSpPr>
        <p:grpSpPr>
          <a:xfrm>
            <a:off x="5483160" y="1476000"/>
            <a:ext cx="1816200" cy="433800"/>
            <a:chOff x="5483160" y="1476000"/>
            <a:chExt cx="1816200" cy="433800"/>
          </a:xfrm>
        </p:grpSpPr>
        <p:sp>
          <p:nvSpPr>
            <p:cNvPr id="409" name=""/>
            <p:cNvSpPr/>
            <p:nvPr/>
          </p:nvSpPr>
          <p:spPr>
            <a:xfrm>
              <a:off x="5483160" y="1558800"/>
              <a:ext cx="1816200" cy="271440"/>
            </a:xfrm>
            <a:prstGeom prst="roundRect">
              <a:avLst>
                <a:gd name="adj" fmla="val 28231"/>
              </a:avLst>
            </a:prstGeom>
            <a:solidFill>
              <a:srgbClr val="66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5508360" y="1476000"/>
              <a:ext cx="1765440" cy="433800"/>
              <a:chOff x="5508360" y="1476000"/>
              <a:chExt cx="1765440" cy="433800"/>
            </a:xfrm>
          </p:grpSpPr>
          <p:sp>
            <p:nvSpPr>
              <p:cNvPr id="411" name=""/>
              <p:cNvSpPr/>
              <p:nvPr/>
            </p:nvSpPr>
            <p:spPr>
              <a:xfrm>
                <a:off x="5508360" y="1572480"/>
                <a:ext cx="1765440" cy="238680"/>
              </a:xfrm>
              <a:prstGeom prst="roundRect">
                <a:avLst>
                  <a:gd name="adj" fmla="val 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508360" y="1476000"/>
                <a:ext cx="176544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/O Prox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413" name=""/>
          <p:cNvCxnSpPr>
            <a:stCxn id="404" idx="2"/>
          </p:cNvCxnSpPr>
          <p:nvPr/>
        </p:nvCxnSpPr>
        <p:spPr>
          <a:xfrm>
            <a:off x="1584000" y="1830240"/>
            <a:ext cx="3960" cy="1232280"/>
          </a:xfrm>
          <a:prstGeom prst="straightConnector1">
            <a:avLst/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414" name=""/>
          <p:cNvCxnSpPr>
            <a:stCxn id="409" idx="1"/>
            <a:endCxn id="404" idx="3"/>
          </p:cNvCxnSpPr>
          <p:nvPr/>
        </p:nvCxnSpPr>
        <p:spPr>
          <a:xfrm flipH="1">
            <a:off x="2493360" y="1693440"/>
            <a:ext cx="2989800" cy="2520"/>
          </a:xfrm>
          <a:prstGeom prst="straightConnector1">
            <a:avLst/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</p:cxnSp>
      <p:grpSp>
        <p:nvGrpSpPr>
          <p:cNvPr id="415" name=""/>
          <p:cNvGrpSpPr/>
          <p:nvPr/>
        </p:nvGrpSpPr>
        <p:grpSpPr>
          <a:xfrm>
            <a:off x="2728440" y="1179360"/>
            <a:ext cx="2520720" cy="434520"/>
            <a:chOff x="2728440" y="1179360"/>
            <a:chExt cx="2520720" cy="434520"/>
          </a:xfrm>
        </p:grpSpPr>
        <p:sp>
          <p:nvSpPr>
            <p:cNvPr id="416" name=""/>
            <p:cNvSpPr/>
            <p:nvPr/>
          </p:nvSpPr>
          <p:spPr>
            <a:xfrm>
              <a:off x="2787480" y="1179360"/>
              <a:ext cx="2403720" cy="339840"/>
            </a:xfrm>
            <a:prstGeom prst="roundRect">
              <a:avLst>
                <a:gd name="adj" fmla="val 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2728440" y="1179360"/>
              <a:ext cx="2520720" cy="434520"/>
              <a:chOff x="2728440" y="1179360"/>
              <a:chExt cx="2520720" cy="434520"/>
            </a:xfrm>
          </p:grpSpPr>
          <p:sp>
            <p:nvSpPr>
              <p:cNvPr id="418" name=""/>
              <p:cNvSpPr/>
              <p:nvPr/>
            </p:nvSpPr>
            <p:spPr>
              <a:xfrm>
                <a:off x="2787480" y="1179360"/>
                <a:ext cx="2402280" cy="33804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728440" y="1179360"/>
                <a:ext cx="2520720" cy="43452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ecure Remote I/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0" name=""/>
          <p:cNvGrpSpPr/>
          <p:nvPr/>
        </p:nvGrpSpPr>
        <p:grpSpPr>
          <a:xfrm>
            <a:off x="1707840" y="2548080"/>
            <a:ext cx="2556000" cy="434520"/>
            <a:chOff x="1707840" y="2548080"/>
            <a:chExt cx="2556000" cy="434520"/>
          </a:xfrm>
        </p:grpSpPr>
        <p:sp>
          <p:nvSpPr>
            <p:cNvPr id="421" name=""/>
            <p:cNvSpPr/>
            <p:nvPr/>
          </p:nvSpPr>
          <p:spPr>
            <a:xfrm>
              <a:off x="1768320" y="2548080"/>
              <a:ext cx="2436840" cy="339480"/>
            </a:xfrm>
            <a:prstGeom prst="roundRect">
              <a:avLst>
                <a:gd name="adj" fmla="val 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1707840" y="2548080"/>
              <a:ext cx="2556000" cy="434520"/>
              <a:chOff x="1707840" y="2548080"/>
              <a:chExt cx="2556000" cy="434520"/>
            </a:xfrm>
          </p:grpSpPr>
          <p:sp>
            <p:nvSpPr>
              <p:cNvPr id="423" name=""/>
              <p:cNvSpPr/>
              <p:nvPr/>
            </p:nvSpPr>
            <p:spPr>
              <a:xfrm>
                <a:off x="1768320" y="2548080"/>
                <a:ext cx="2435040" cy="33768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707840" y="2548080"/>
                <a:ext cx="2556000" cy="43452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Local System Call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425" name=""/>
          <p:cNvCxnSpPr/>
          <p:nvPr/>
        </p:nvCxnSpPr>
        <p:spPr>
          <a:xfrm flipV="1">
            <a:off x="7305840" y="1692000"/>
            <a:ext cx="2160" cy="2280240"/>
          </a:xfrm>
          <a:prstGeom prst="curvedConnector5">
            <a:avLst>
              <a:gd name="adj1" fmla="val 40000"/>
              <a:gd name="adj2" fmla="val 49992"/>
              <a:gd name="adj3" fmla="val 40000"/>
            </a:avLst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</p:cxnSp>
      <p:grpSp>
        <p:nvGrpSpPr>
          <p:cNvPr id="426" name=""/>
          <p:cNvGrpSpPr/>
          <p:nvPr/>
        </p:nvGrpSpPr>
        <p:grpSpPr>
          <a:xfrm>
            <a:off x="721080" y="5251320"/>
            <a:ext cx="2078640" cy="340920"/>
            <a:chOff x="721080" y="5251320"/>
            <a:chExt cx="2078640" cy="340920"/>
          </a:xfrm>
        </p:grpSpPr>
        <p:sp>
          <p:nvSpPr>
            <p:cNvPr id="427" name=""/>
            <p:cNvSpPr/>
            <p:nvPr/>
          </p:nvSpPr>
          <p:spPr>
            <a:xfrm>
              <a:off x="741240" y="5251320"/>
              <a:ext cx="2038320" cy="33660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1080" y="5251320"/>
              <a:ext cx="2078640" cy="34092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bmission 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5435640" y="5056200"/>
            <a:ext cx="1891080" cy="340920"/>
            <a:chOff x="5435640" y="5056200"/>
            <a:chExt cx="1891080" cy="340920"/>
          </a:xfrm>
        </p:grpSpPr>
        <p:sp>
          <p:nvSpPr>
            <p:cNvPr id="430" name=""/>
            <p:cNvSpPr/>
            <p:nvPr/>
          </p:nvSpPr>
          <p:spPr>
            <a:xfrm>
              <a:off x="5454720" y="5056200"/>
              <a:ext cx="1852560" cy="33660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35640" y="5056200"/>
              <a:ext cx="1891080" cy="34092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ecution 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7664400" y="1108080"/>
            <a:ext cx="1179360" cy="706680"/>
            <a:chOff x="7664400" y="1108080"/>
            <a:chExt cx="1179360" cy="706680"/>
          </a:xfrm>
        </p:grpSpPr>
        <p:sp>
          <p:nvSpPr>
            <p:cNvPr id="433" name=""/>
            <p:cNvSpPr/>
            <p:nvPr/>
          </p:nvSpPr>
          <p:spPr>
            <a:xfrm>
              <a:off x="7677000" y="1108080"/>
              <a:ext cx="1154160" cy="700200"/>
            </a:xfrm>
            <a:prstGeom prst="roundRect">
              <a:avLst>
                <a:gd name="adj" fmla="val 2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64400" y="1108080"/>
              <a:ext cx="1179360" cy="706680"/>
            </a:xfrm>
            <a:prstGeom prst="roundRect">
              <a:avLst>
                <a:gd name="adj" fmla="val 2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cal I/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Chir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99520"/>
            <a:ext cx="82342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emote System Call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61960" y="1197000"/>
            <a:ext cx="77724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/O System calls are trapped and sent back to submit machi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ows Transparent Migration Across Administrative Domai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ckpoint on machine A, restart on 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Source Code changes requir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nguage Independ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portunities for Application Steer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Condor tells customer process “how” to open fi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0" y="5478480"/>
            <a:ext cx="9144000" cy="137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648320" y="1219320"/>
            <a:ext cx="3733560" cy="4419360"/>
          </a:xfrm>
          <a:custGeom>
            <a:avLst/>
            <a:gdLst>
              <a:gd name="textAreaLeft" fmla="*/ 360 w 3733560"/>
              <a:gd name="textAreaRight" fmla="*/ 3733200 w 3733560"/>
              <a:gd name="textAreaTop" fmla="*/ 360 h 4419360"/>
              <a:gd name="textAreaBottom" fmla="*/ 4419000 h 4419360"/>
            </a:gdLst>
            <a:ahLst/>
            <a:rect l="textAreaLeft" t="textAreaTop" r="textAreaRight" b="textAreaBottom"/>
            <a:pathLst>
              <a:path w="21600" h="25567">
                <a:moveTo>
                  <a:pt x="9" y="0"/>
                </a:moveTo>
                <a:arcTo wR="9" hR="9" stAng="16200000" swAng="-5400000"/>
                <a:lnTo>
                  <a:pt x="0" y="25558"/>
                </a:lnTo>
                <a:arcTo wR="9" hR="9" stAng="10800000" swAng="-5400000"/>
                <a:lnTo>
                  <a:pt x="21591" y="25567"/>
                </a:lnTo>
                <a:arcTo wR="9" hR="9" stAng="5400000" swAng="-5400000"/>
                <a:lnTo>
                  <a:pt x="21600" y="9"/>
                </a:lnTo>
                <a:arcTo wR="9" hR="9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4952880" y="2971800"/>
            <a:ext cx="1824120" cy="2509920"/>
            <a:chOff x="4952880" y="2971800"/>
            <a:chExt cx="1824120" cy="2509920"/>
          </a:xfrm>
        </p:grpSpPr>
        <p:sp>
          <p:nvSpPr>
            <p:cNvPr id="440" name=""/>
            <p:cNvSpPr/>
            <p:nvPr/>
          </p:nvSpPr>
          <p:spPr>
            <a:xfrm>
              <a:off x="4952880" y="2971800"/>
              <a:ext cx="1824120" cy="2509920"/>
            </a:xfrm>
            <a:custGeom>
              <a:avLst/>
              <a:gdLst>
                <a:gd name="textAreaLeft" fmla="*/ 360 w 1824120"/>
                <a:gd name="textAreaRight" fmla="*/ 1823760 w 1824120"/>
                <a:gd name="textAreaTop" fmla="*/ 360 h 2509920"/>
                <a:gd name="textAreaBottom" fmla="*/ 2509560 h 2509920"/>
              </a:gdLst>
              <a:ahLst/>
              <a:rect l="textAreaLeft" t="textAreaTop" r="textAreaRight" b="textAreaBottom"/>
              <a:pathLst>
                <a:path w="21600" h="29719">
                  <a:moveTo>
                    <a:pt x="18" y="0"/>
                  </a:moveTo>
                  <a:arcTo wR="18" hR="18" stAng="16200000" swAng="-5400000"/>
                  <a:lnTo>
                    <a:pt x="0" y="29701"/>
                  </a:lnTo>
                  <a:arcTo wR="18" hR="18" stAng="10800000" swAng="-5400000"/>
                  <a:lnTo>
                    <a:pt x="21582" y="29719"/>
                  </a:lnTo>
                  <a:arcTo wR="18" hR="18" stAng="5400000" swAng="-5400000"/>
                  <a:lnTo>
                    <a:pt x="21600" y="18"/>
                  </a:lnTo>
                  <a:arcTo wR="18" hR="18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4952880" y="2971800"/>
              <a:ext cx="1822320" cy="2506680"/>
              <a:chOff x="4952880" y="2971800"/>
              <a:chExt cx="1822320" cy="2506680"/>
            </a:xfrm>
          </p:grpSpPr>
          <p:sp>
            <p:nvSpPr>
              <p:cNvPr id="442" name=""/>
              <p:cNvSpPr/>
              <p:nvPr/>
            </p:nvSpPr>
            <p:spPr>
              <a:xfrm>
                <a:off x="4952880" y="2971800"/>
                <a:ext cx="1822320" cy="2506680"/>
              </a:xfrm>
              <a:custGeom>
                <a:avLst/>
                <a:gdLst>
                  <a:gd name="textAreaLeft" fmla="*/ 360 w 1822320"/>
                  <a:gd name="textAreaRight" fmla="*/ 1821960 w 1822320"/>
                  <a:gd name="textAreaTop" fmla="*/ 360 h 2506680"/>
                  <a:gd name="textAreaBottom" fmla="*/ 2506320 h 2506680"/>
                </a:gdLst>
                <a:ahLst/>
                <a:rect l="textAreaLeft" t="textAreaTop" r="textAreaRight" b="textAreaBottom"/>
                <a:pathLst>
                  <a:path w="21600" h="29710">
                    <a:moveTo>
                      <a:pt x="18" y="0"/>
                    </a:moveTo>
                    <a:arcTo wR="18" hR="18" stAng="16200000" swAng="-5400000"/>
                    <a:lnTo>
                      <a:pt x="0" y="29692"/>
                    </a:lnTo>
                    <a:arcTo wR="18" hR="18" stAng="10800000" swAng="-5400000"/>
                    <a:lnTo>
                      <a:pt x="21582" y="29710"/>
                    </a:lnTo>
                    <a:arcTo wR="18" hR="18" stAng="5400000" swAng="-5400000"/>
                    <a:lnTo>
                      <a:pt x="21600" y="18"/>
                    </a:lnTo>
                    <a:arcTo wR="18" hR="18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952880" y="3838320"/>
                <a:ext cx="1822320" cy="77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ustomer Jo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4" name=""/>
          <p:cNvSpPr/>
          <p:nvPr/>
        </p:nvSpPr>
        <p:spPr>
          <a:xfrm>
            <a:off x="304920" y="1219320"/>
            <a:ext cx="3733560" cy="4419360"/>
          </a:xfrm>
          <a:custGeom>
            <a:avLst/>
            <a:gdLst>
              <a:gd name="textAreaLeft" fmla="*/ 360 w 3733560"/>
              <a:gd name="textAreaRight" fmla="*/ 3733200 w 3733560"/>
              <a:gd name="textAreaTop" fmla="*/ 360 h 4419360"/>
              <a:gd name="textAreaBottom" fmla="*/ 4419000 h 4419360"/>
            </a:gdLst>
            <a:ahLst/>
            <a:rect l="textAreaLeft" t="textAreaTop" r="textAreaRight" b="textAreaBottom"/>
            <a:pathLst>
              <a:path w="21600" h="25567">
                <a:moveTo>
                  <a:pt x="9" y="0"/>
                </a:moveTo>
                <a:arcTo wR="9" hR="9" stAng="16200000" swAng="-5400000"/>
                <a:lnTo>
                  <a:pt x="0" y="25558"/>
                </a:lnTo>
                <a:arcTo wR="9" hR="9" stAng="10800000" swAng="-5400000"/>
                <a:lnTo>
                  <a:pt x="21591" y="25567"/>
                </a:lnTo>
                <a:arcTo wR="9" hR="9" stAng="5400000" swAng="-5400000"/>
                <a:lnTo>
                  <a:pt x="21600" y="9"/>
                </a:lnTo>
                <a:arcTo wR="9" hR="9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Job Startup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80880" y="4648320"/>
            <a:ext cx="1443240" cy="833400"/>
            <a:chOff x="380880" y="4648320"/>
            <a:chExt cx="1443240" cy="833400"/>
          </a:xfrm>
        </p:grpSpPr>
        <p:sp>
          <p:nvSpPr>
            <p:cNvPr id="447" name=""/>
            <p:cNvSpPr/>
            <p:nvPr/>
          </p:nvSpPr>
          <p:spPr>
            <a:xfrm>
              <a:off x="380880" y="4648320"/>
              <a:ext cx="1443240" cy="833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595080" y="4679640"/>
              <a:ext cx="1013040" cy="768600"/>
              <a:chOff x="595080" y="4679640"/>
              <a:chExt cx="1013040" cy="768600"/>
            </a:xfrm>
          </p:grpSpPr>
          <p:sp>
            <p:nvSpPr>
              <p:cNvPr id="449" name=""/>
              <p:cNvSpPr/>
              <p:nvPr/>
            </p:nvSpPr>
            <p:spPr>
              <a:xfrm>
                <a:off x="595080" y="4771440"/>
                <a:ext cx="1013040" cy="586440"/>
              </a:xfrm>
              <a:prstGeom prst="roundRect">
                <a:avLst>
                  <a:gd name="adj" fmla="val 2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95080" y="4679640"/>
                <a:ext cx="1011240" cy="76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ubmi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1" name=""/>
          <p:cNvGrpSpPr/>
          <p:nvPr/>
        </p:nvGrpSpPr>
        <p:grpSpPr>
          <a:xfrm>
            <a:off x="1600200" y="1371600"/>
            <a:ext cx="1444680" cy="1368360"/>
            <a:chOff x="1600200" y="1371600"/>
            <a:chExt cx="1444680" cy="1368360"/>
          </a:xfrm>
        </p:grpSpPr>
        <p:sp>
          <p:nvSpPr>
            <p:cNvPr id="452" name=""/>
            <p:cNvSpPr/>
            <p:nvPr/>
          </p:nvSpPr>
          <p:spPr>
            <a:xfrm>
              <a:off x="1600200" y="1371600"/>
              <a:ext cx="1444680" cy="1368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1814400" y="1574640"/>
              <a:ext cx="1017720" cy="963720"/>
              <a:chOff x="1814400" y="1574640"/>
              <a:chExt cx="1017720" cy="963720"/>
            </a:xfrm>
          </p:grpSpPr>
          <p:sp>
            <p:nvSpPr>
              <p:cNvPr id="454" name=""/>
              <p:cNvSpPr/>
              <p:nvPr/>
            </p:nvSpPr>
            <p:spPr>
              <a:xfrm>
                <a:off x="1814400" y="1574640"/>
                <a:ext cx="1017720" cy="963720"/>
              </a:xfrm>
              <a:prstGeom prst="roundRect">
                <a:avLst>
                  <a:gd name="adj" fmla="val 16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814400" y="1670040"/>
                <a:ext cx="1016280" cy="77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Sched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6" name=""/>
          <p:cNvGrpSpPr/>
          <p:nvPr/>
        </p:nvGrpSpPr>
        <p:grpSpPr>
          <a:xfrm>
            <a:off x="1752480" y="3429000"/>
            <a:ext cx="1292400" cy="1062000"/>
            <a:chOff x="1752480" y="3429000"/>
            <a:chExt cx="1292400" cy="1062000"/>
          </a:xfrm>
        </p:grpSpPr>
        <p:sp>
          <p:nvSpPr>
            <p:cNvPr id="457" name=""/>
            <p:cNvSpPr/>
            <p:nvPr/>
          </p:nvSpPr>
          <p:spPr>
            <a:xfrm>
              <a:off x="1752480" y="3429000"/>
              <a:ext cx="1292400" cy="1062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1944360" y="3576240"/>
              <a:ext cx="906840" cy="768600"/>
              <a:chOff x="1944360" y="3576240"/>
              <a:chExt cx="906840" cy="768600"/>
            </a:xfrm>
          </p:grpSpPr>
          <p:sp>
            <p:nvSpPr>
              <p:cNvPr id="459" name=""/>
              <p:cNvSpPr/>
              <p:nvPr/>
            </p:nvSpPr>
            <p:spPr>
              <a:xfrm>
                <a:off x="1944360" y="3587040"/>
                <a:ext cx="906840" cy="746280"/>
              </a:xfrm>
              <a:prstGeom prst="roundRect">
                <a:avLst>
                  <a:gd name="adj" fmla="val 20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944360" y="3576240"/>
                <a:ext cx="906840" cy="76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hado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1" name=""/>
          <p:cNvSpPr/>
          <p:nvPr/>
        </p:nvSpPr>
        <p:spPr>
          <a:xfrm>
            <a:off x="5029200" y="4602240"/>
            <a:ext cx="1676520" cy="807840"/>
          </a:xfrm>
          <a:prstGeom prst="roundRect">
            <a:avLst>
              <a:gd name="adj" fmla="val 15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5181480" y="1295280"/>
            <a:ext cx="1443240" cy="1366920"/>
            <a:chOff x="5181480" y="1295280"/>
            <a:chExt cx="1443240" cy="1366920"/>
          </a:xfrm>
        </p:grpSpPr>
        <p:sp>
          <p:nvSpPr>
            <p:cNvPr id="463" name=""/>
            <p:cNvSpPr/>
            <p:nvPr/>
          </p:nvSpPr>
          <p:spPr>
            <a:xfrm>
              <a:off x="5181480" y="1295280"/>
              <a:ext cx="1443240" cy="1366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5395680" y="1498320"/>
              <a:ext cx="1013040" cy="960480"/>
              <a:chOff x="5395680" y="1498320"/>
              <a:chExt cx="1013040" cy="960480"/>
            </a:xfrm>
          </p:grpSpPr>
          <p:sp>
            <p:nvSpPr>
              <p:cNvPr id="465" name=""/>
              <p:cNvSpPr/>
              <p:nvPr/>
            </p:nvSpPr>
            <p:spPr>
              <a:xfrm>
                <a:off x="5395680" y="1498320"/>
                <a:ext cx="1013040" cy="960480"/>
              </a:xfrm>
              <a:prstGeom prst="roundRect">
                <a:avLst>
                  <a:gd name="adj" fmla="val 16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395680" y="1760040"/>
                <a:ext cx="101124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Start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7" name=""/>
          <p:cNvGrpSpPr/>
          <p:nvPr/>
        </p:nvGrpSpPr>
        <p:grpSpPr>
          <a:xfrm>
            <a:off x="6629400" y="2209680"/>
            <a:ext cx="1442880" cy="835200"/>
            <a:chOff x="6629400" y="2209680"/>
            <a:chExt cx="1442880" cy="835200"/>
          </a:xfrm>
        </p:grpSpPr>
        <p:sp>
          <p:nvSpPr>
            <p:cNvPr id="468" name=""/>
            <p:cNvSpPr/>
            <p:nvPr/>
          </p:nvSpPr>
          <p:spPr>
            <a:xfrm>
              <a:off x="6629400" y="2209680"/>
              <a:ext cx="1442880" cy="835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6843240" y="2241360"/>
              <a:ext cx="1014840" cy="768240"/>
              <a:chOff x="6843240" y="2241360"/>
              <a:chExt cx="1014840" cy="768240"/>
            </a:xfrm>
          </p:grpSpPr>
          <p:sp>
            <p:nvSpPr>
              <p:cNvPr id="470" name=""/>
              <p:cNvSpPr/>
              <p:nvPr/>
            </p:nvSpPr>
            <p:spPr>
              <a:xfrm>
                <a:off x="6843240" y="2332440"/>
                <a:ext cx="1014840" cy="586440"/>
              </a:xfrm>
              <a:prstGeom prst="roundRect">
                <a:avLst>
                  <a:gd name="adj" fmla="val 2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843240" y="2241360"/>
                <a:ext cx="1013400" cy="76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tart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2" name=""/>
          <p:cNvSpPr/>
          <p:nvPr/>
        </p:nvSpPr>
        <p:spPr>
          <a:xfrm flipV="1">
            <a:off x="838080" y="2509560"/>
            <a:ext cx="914400" cy="21430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24080" y="1981080"/>
            <a:ext cx="2057400" cy="1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629400" y="1752480"/>
            <a:ext cx="8380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6777000" y="3048120"/>
            <a:ext cx="6192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362320" y="2743200"/>
            <a:ext cx="7596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048120" y="4191120"/>
            <a:ext cx="2209680" cy="8380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971800" y="2662200"/>
            <a:ext cx="3657600" cy="10000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5178600" y="4572000"/>
            <a:ext cx="1563840" cy="819000"/>
            <a:chOff x="5178600" y="4572000"/>
            <a:chExt cx="1563840" cy="819000"/>
          </a:xfrm>
        </p:grpSpPr>
        <p:sp>
          <p:nvSpPr>
            <p:cNvPr id="480" name=""/>
            <p:cNvSpPr/>
            <p:nvPr/>
          </p:nvSpPr>
          <p:spPr>
            <a:xfrm>
              <a:off x="5181480" y="4572000"/>
              <a:ext cx="1559160" cy="819000"/>
            </a:xfrm>
            <a:prstGeom prst="roundRect">
              <a:avLst>
                <a:gd name="adj" fmla="val 19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5178600" y="4572000"/>
              <a:ext cx="1563840" cy="817200"/>
              <a:chOff x="5178600" y="4572000"/>
              <a:chExt cx="1563840" cy="817200"/>
            </a:xfrm>
          </p:grpSpPr>
          <p:sp>
            <p:nvSpPr>
              <p:cNvPr id="482" name=""/>
              <p:cNvSpPr/>
              <p:nvPr/>
            </p:nvSpPr>
            <p:spPr>
              <a:xfrm>
                <a:off x="5181480" y="4572000"/>
                <a:ext cx="1557720" cy="817200"/>
              </a:xfrm>
              <a:prstGeom prst="roundRect">
                <a:avLst>
                  <a:gd name="adj" fmla="val 19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178600" y="4572000"/>
                <a:ext cx="1563840" cy="800280"/>
              </a:xfrm>
              <a:prstGeom prst="roundRect">
                <a:avLst>
                  <a:gd name="adj" fmla="val 19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Cond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Syscall Li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condor_q -io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5" name=""/>
          <p:cNvSpPr/>
          <p:nvPr/>
        </p:nvSpPr>
        <p:spPr>
          <a:xfrm>
            <a:off x="380880" y="1676520"/>
            <a:ext cx="838224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c01(69)% condor_q -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-- Submitter: c01.cs.wisc.edu : &lt;128.105.146.101:2996&gt; : c01.cs.wisc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ID       OWNER        READ    WRITE     SEEK       XPUT  BUFSIZE  BLK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72.3   edayton           [ no i/o data collected yet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72.5   edayton    6.8 MB   0.0 B         0 104.0 KB/s 512.0 KB  32.0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73.0   edayton    6.4 MB   0.0 B         0 140.3 KB/s 512.0 KB  32.0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73.2   edayton    6.8 MB   0.0 B         0 112.4 KB/s 512.0 KB  32.0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73.4   edayton    6.8 MB   0.0 B         0 139.3 KB/s 512.0 KB  32.0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73.5   edayton    6.8 MB   0.0 B         0 139.3 KB/s 512.0 KB  32.0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73.7   edayton           [ no i/o data collected yet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0 jobs; 0 idle, 0 running, 0 h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ondor Job Universe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6840" y="1493640"/>
            <a:ext cx="82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rial Job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nilla Univer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ndard Univer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heduler Univer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rallel Job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PI Universe (soon the Parallel Univers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VM Univer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ava Univer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Java Universe Job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681000" y="1523520"/>
            <a:ext cx="5157720" cy="3886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universe    = ja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executable  = Main.cla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jar_files   = MyLibrary.j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nput       = inf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output      = outf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rguments   = Main 1 2 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299520" y="3581280"/>
            <a:ext cx="2629080" cy="576360"/>
            <a:chOff x="299520" y="3581280"/>
            <a:chExt cx="2629080" cy="576360"/>
          </a:xfrm>
        </p:grpSpPr>
        <p:sp>
          <p:nvSpPr>
            <p:cNvPr id="491" name=""/>
            <p:cNvSpPr/>
            <p:nvPr/>
          </p:nvSpPr>
          <p:spPr>
            <a:xfrm>
              <a:off x="304920" y="3581280"/>
              <a:ext cx="2619360" cy="576360"/>
            </a:xfrm>
            <a:prstGeom prst="roundRect">
              <a:avLst>
                <a:gd name="adj" fmla="val 27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299520" y="3581280"/>
              <a:ext cx="2629080" cy="574920"/>
              <a:chOff x="299520" y="3581280"/>
              <a:chExt cx="2629080" cy="574920"/>
            </a:xfrm>
          </p:grpSpPr>
          <p:sp>
            <p:nvSpPr>
              <p:cNvPr id="493" name=""/>
              <p:cNvSpPr/>
              <p:nvPr/>
            </p:nvSpPr>
            <p:spPr>
              <a:xfrm>
                <a:off x="304920" y="3581280"/>
                <a:ext cx="2617920" cy="574920"/>
              </a:xfrm>
              <a:prstGeom prst="roundRect">
                <a:avLst>
                  <a:gd name="adj" fmla="val 27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99520" y="3581280"/>
                <a:ext cx="2629080" cy="547920"/>
              </a:xfrm>
              <a:prstGeom prst="roundRect">
                <a:avLst>
                  <a:gd name="adj" fmla="val 27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condor_submi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5" name=""/>
          <p:cNvSpPr/>
          <p:nvPr/>
        </p:nvSpPr>
        <p:spPr>
          <a:xfrm>
            <a:off x="2971800" y="3886200"/>
            <a:ext cx="6746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95200"/>
            <a:ext cx="82342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Why not use Vanilla Universe for Java jobs?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234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ava Universe provides more than just inserting “java” at the start of the execute li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nows which machines have a JVM install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nows the location, version, and performance of JVM on each mach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vides more information about Java job completion than just JVM exit c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gram runs in a Java wrapper, allowing Condor to report Java exceptions, et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Comic Sans MS"/>
              </a:rPr>
              <a:t>Java support, cont.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condor_status -jav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ame          JavaVendor  Ver    State      Activity LoadAv Mem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ish.cs.wisc. Sun Microsy 1.2.2  Owner      Idle    0.000   24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nfrom.cs.wis Sun Microsy 1.2.2  Owner      Idle    0.030   249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abe.cs.wisc. Sun Microsy 1.2.2  Claimed    Busy    1.120   12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ummary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015920"/>
            <a:ext cx="8229600" cy="50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dor_subm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dor_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dor_statu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dor can ru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y old program (vanill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jobs with checkpointing &amp; remote I/O (standard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va jobs with better understand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les can be accessed v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ared file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le transf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ote I/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039680" y="2782800"/>
            <a:ext cx="4503960" cy="38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39680" y="3687840"/>
            <a:ext cx="2148120" cy="38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27600" indent="-32760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chmaking is fundamental to Cond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7600" indent="-32760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chmaking is two-w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7252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ob describes what it requir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need Linux &amp;&amp; 2 GB of R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7252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chine describes what it requir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need a Mac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7600" indent="-32760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chmaking allows preferen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7252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inux, and I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ef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chines with more memory but will run on any machine you provide 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atchmaking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5121360"/>
            <a:ext cx="9144000" cy="17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1282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Part Thre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Running a parameter sweep</a:t>
            </a:r>
            <a:br>
              <a:rPr sz="4000"/>
            </a:b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2006640" y="2306520"/>
            <a:ext cx="2444760" cy="18352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5075280" y="4329000"/>
            <a:ext cx="1897200" cy="252900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>
            <a:off x="2332080" y="4202280"/>
            <a:ext cx="1992240" cy="265572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4713120" y="2284560"/>
            <a:ext cx="252288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93720" y="22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lusters and Processe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1560" y="739800"/>
            <a:ext cx="829008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87280" indent="-2872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your submit file describes multiple jobs, we call this a “cluster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7280" indent="-2872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cluster has a unique “cluster number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7280" indent="-2872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job in a cluster is called a “proces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27480" indent="-23868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ss numbers always start at zer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7280" indent="-2872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Condor “Job ID” is the cluster number, a period, and the process number (“20.1”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7280" indent="-28728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luster is allowed to have one or more process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27480" indent="-23868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is always a cluster for every jo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331920"/>
            <a:ext cx="823428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Example Submit Description File for a Cluster</a:t>
            </a: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1" name=""/>
          <p:cNvSpPr/>
          <p:nvPr/>
        </p:nvSpPr>
        <p:spPr>
          <a:xfrm>
            <a:off x="380880" y="1700280"/>
            <a:ext cx="8353440" cy="39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# Example submit description file that define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# cluster of 2 jobs with separate working dir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niverse   = vani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utable = my_j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g        = my_job.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rguments  = -arg1 -ar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put      = my_job.std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Output     = my_job.std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rror      = my_job.stde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InitialDir = run_0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·Becomes job 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InitialDir = run_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·Becomes job 2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447840" y="1476360"/>
            <a:ext cx="838188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% condor_submit my_job.submit-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ubmitting job(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 job(s) submitted to cluster 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% condor_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-- Submitter: perdita.cs.wisc.edu : &lt;128.105.165.34:1027&gt;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D      OWNER          SUBMITTED     RUN_TIME ST PRI SIZE C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.0    frieda         4/15 06:52  0+00:02:11 R  0   0.0  my_j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.0    frieda         4/15 06:56  0+00:00:00 I  0   0.0  my_j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.1    frieda         4/15 06:56  0+00:00:00 I  0   0.0  my_j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3 jobs; 2 idle, 1 running, 0 h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ubmitting The Job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18840" y="57240"/>
            <a:ext cx="80391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Submit Description File for a </a:t>
            </a:r>
            <a:r>
              <a:rPr b="1" i="1" lang="en-US" sz="4000" spc="-1" strike="noStrike">
                <a:solidFill>
                  <a:srgbClr val="3333cc"/>
                </a:solidFill>
                <a:latin typeface="Comic Sans MS"/>
              </a:rPr>
              <a:t>BIG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Cluster of Jobs</a:t>
            </a: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2200" y="1581120"/>
            <a:ext cx="8058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nitial directory for each job can be specified as run_$(Process), and instead of submitting a single job, we use “Queue 600” to submit 600 jobs at onc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$(Process) macro will be expanded to the process number for each job in the cluster (0 - 599), so we’ll have “run_0”, “run_1”, … “run_599” director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the input/output files will be in different directories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6840" y="331920"/>
            <a:ext cx="823428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Submit Description File for a </a:t>
            </a:r>
            <a:r>
              <a:rPr b="1" i="1" lang="en-US" sz="4000" spc="-1" strike="noStrike">
                <a:solidFill>
                  <a:srgbClr val="3333cc"/>
                </a:solidFill>
                <a:latin typeface="Comic Sans MS"/>
              </a:rPr>
              <a:t>BIG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Cluster of Jobs</a:t>
            </a: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6840" y="1793880"/>
            <a:ext cx="8234280" cy="39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# Example condor_submit input file that defin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# a cluster of 600 jobs with different directori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niverse   = vanill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ecutable = my_jo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g        = my_job.lo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rguments  = -arg1 –arg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put      = my_job.std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Output     = my_job.stdou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rror      = my_job.stder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InitialDir = run_$(Process)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·run_0 … run_59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Queue 600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·Becomes job 3.0 … 3.59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ore $(Process)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can use $(Process) anywhe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2101680"/>
            <a:ext cx="823428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niverse   = vani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ecutable = my_j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g        = my_job.$(Process).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rguments  = -randomseed $(Pro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put      = my_job.std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Output     = my_job.std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rror      = my_job.stder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itialDir = run_$(Process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·run_0 … run_5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ueue 600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·Becomes job 3.0 … 3.5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haring a directory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825120"/>
            <a:ext cx="822960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don’t have to use separate directori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$(Cluster) will help distinguish ru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"/>
          <p:cNvSpPr/>
          <p:nvPr/>
        </p:nvSpPr>
        <p:spPr>
          <a:xfrm>
            <a:off x="457200" y="2508120"/>
            <a:ext cx="823428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niverse   = vani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ecutable = my_j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g        = my_job.$(Cluster).$(Process).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rguments  = -randomseed $(Pro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put      = my_job.input.$(Pro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Output     = my_job.stdout.$(Cluster).$(Pro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rror      = my_job.stderr.$(Cluster).$(Pro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ueue 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Difficulties with $(Process)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1120" indent="-32112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 people want to pass their program $(Process) + 10 (or another number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1120" indent="-32112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can’t do this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1120" indent="-32112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can do things lik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112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112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112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1120" indent="-32112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 is pre-pended to each $(Process) Argu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"/>
          <p:cNvSpPr/>
          <p:nvPr/>
        </p:nvSpPr>
        <p:spPr>
          <a:xfrm>
            <a:off x="457200" y="3540240"/>
            <a:ext cx="8234280" cy="17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niverse   = vani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ecutable = my_j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rguments  = -randomseed 10$(Pro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ueue 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Job Prioritie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34720" y="1447560"/>
            <a:ext cx="869292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some of the jobs in your sweep more interesting than other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ndor_pri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ets you set the job prio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ority relative to your jobs, not other peop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dor 6.6: priority can be -20 to +2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dor 6.7: priority can be any integ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be set in submit fil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ority = 1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Why Two-way Matching?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dor conceptually divides people into three group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b submit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chine own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ol (cluster) administrat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three of these groups have prefere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772600" y="2651040"/>
            <a:ext cx="2526840" cy="1492200"/>
            <a:chOff x="5772600" y="2651040"/>
            <a:chExt cx="2526840" cy="1492200"/>
          </a:xfrm>
        </p:grpSpPr>
        <p:sp>
          <p:nvSpPr>
            <p:cNvPr id="142" name=""/>
            <p:cNvSpPr/>
            <p:nvPr/>
          </p:nvSpPr>
          <p:spPr>
            <a:xfrm>
              <a:off x="5772600" y="2651040"/>
              <a:ext cx="528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47080" y="2906640"/>
              <a:ext cx="205236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ay or may n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e the s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eo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-860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What if you have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LOTS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 of jobs?</a:t>
            </a: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0600" y="7567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stem resour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job requires a shadow pro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shadow requires file descriptors and sock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shadow requires ports/sock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system limits for these to be lar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condor_schedd limits max number of jobs runn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ault is 2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figur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der multiple submit hos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an submit jobs from multiple compu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mediate increase in scalability &amp; complex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Advanced Trickery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submit 10 parameter sweep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have five classes of parameters sweep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l them A, B, C, D, 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can you look at the status of jobs that are part of Type B parameter sweep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Advanced Trickery cont.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130040"/>
            <a:ext cx="822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your job fi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SweepType = “B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can see this in your job Class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dor_q –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can show jobs of a certain typ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dor_q –constraint ‘SweepType == “B”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y useful when you have a complex variety of job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y this during the exercises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careful with the quoting…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4917960"/>
            <a:ext cx="9144000" cy="194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1282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Part Four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Managing Job Dependencies</a:t>
            </a: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1708200" y="2527200"/>
            <a:ext cx="5726160" cy="42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506160"/>
            <a:ext cx="823428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3333cc"/>
                </a:solidFill>
                <a:latin typeface="Comic Sans MS"/>
              </a:rPr>
              <a:t>DAGMan</a:t>
            </a:r>
            <a:endParaRPr b="1" lang="en-US" sz="5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6840" y="2216160"/>
            <a:ext cx="823428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GMan allows you to specify the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dependenci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between your Condor jobs, so it can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manag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em automatically for yo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xample: “Don’t run job B until job A has completed successfully.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"/>
          <p:cNvSpPr/>
          <p:nvPr/>
        </p:nvSpPr>
        <p:spPr>
          <a:xfrm>
            <a:off x="3252960" y="1135080"/>
            <a:ext cx="1252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719600" y="1135080"/>
            <a:ext cx="1252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41640" y="1146240"/>
            <a:ext cx="954000" cy="638280"/>
          </a:xfrm>
          <a:custGeom>
            <a:avLst/>
            <a:gdLst/>
            <a:ahLst/>
            <a:rect l="l" t="t" r="r" b="b"/>
            <a:pathLst>
              <a:path w="601" h="402">
                <a:moveTo>
                  <a:pt x="515" y="0"/>
                </a:moveTo>
                <a:cubicBezTo>
                  <a:pt x="558" y="144"/>
                  <a:pt x="601" y="288"/>
                  <a:pt x="515" y="345"/>
                </a:cubicBezTo>
                <a:cubicBezTo>
                  <a:pt x="429" y="402"/>
                  <a:pt x="87" y="339"/>
                  <a:pt x="0" y="33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249200" y="1143000"/>
            <a:ext cx="2105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r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yclic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5165640" y="1163520"/>
            <a:ext cx="954000" cy="638280"/>
          </a:xfrm>
          <a:custGeom>
            <a:avLst/>
            <a:gdLst/>
            <a:ahLst/>
            <a:rect l="l" t="t" r="r" b="b"/>
            <a:pathLst>
              <a:path w="601" h="402">
                <a:moveTo>
                  <a:pt x="515" y="0"/>
                </a:moveTo>
                <a:cubicBezTo>
                  <a:pt x="558" y="144"/>
                  <a:pt x="601" y="288"/>
                  <a:pt x="515" y="345"/>
                </a:cubicBezTo>
                <a:cubicBezTo>
                  <a:pt x="429" y="402"/>
                  <a:pt x="87" y="339"/>
                  <a:pt x="0" y="33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099120" y="1440000"/>
            <a:ext cx="1382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What is a DAG?</a:t>
            </a: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8440" y="1337760"/>
            <a:ext cx="537696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DAG is the data structure used by DAGMan to represent these dependenci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job is a node in the DA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node can have any number of “parent” or “children” nodes – as long as there are no loop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6937200" y="1057320"/>
            <a:ext cx="1503360" cy="2099880"/>
            <a:chOff x="6937200" y="1057320"/>
            <a:chExt cx="1503360" cy="2099880"/>
          </a:xfrm>
        </p:grpSpPr>
        <p:grpSp>
          <p:nvGrpSpPr>
            <p:cNvPr id="549" name=""/>
            <p:cNvGrpSpPr/>
            <p:nvPr/>
          </p:nvGrpSpPr>
          <p:grpSpPr>
            <a:xfrm>
              <a:off x="7414920" y="1057320"/>
              <a:ext cx="492120" cy="493200"/>
              <a:chOff x="7414920" y="1057320"/>
              <a:chExt cx="492120" cy="493200"/>
            </a:xfrm>
          </p:grpSpPr>
          <p:sp>
            <p:nvSpPr>
              <p:cNvPr id="550" name=""/>
              <p:cNvSpPr/>
              <p:nvPr/>
            </p:nvSpPr>
            <p:spPr>
              <a:xfrm>
                <a:off x="7414920" y="1058760"/>
                <a:ext cx="492120" cy="491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485120" y="1057320"/>
                <a:ext cx="3438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6937200" y="1820880"/>
              <a:ext cx="492120" cy="493920"/>
              <a:chOff x="6937200" y="1820880"/>
              <a:chExt cx="492120" cy="493920"/>
            </a:xfrm>
          </p:grpSpPr>
          <p:sp>
            <p:nvSpPr>
              <p:cNvPr id="553" name=""/>
              <p:cNvSpPr/>
              <p:nvPr/>
            </p:nvSpPr>
            <p:spPr>
              <a:xfrm>
                <a:off x="6937200" y="1822680"/>
                <a:ext cx="492120" cy="492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005960" y="1820880"/>
                <a:ext cx="3466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7948440" y="1820880"/>
              <a:ext cx="492120" cy="493920"/>
              <a:chOff x="7948440" y="1820880"/>
              <a:chExt cx="492120" cy="493920"/>
            </a:xfrm>
          </p:grpSpPr>
          <p:sp>
            <p:nvSpPr>
              <p:cNvPr id="556" name=""/>
              <p:cNvSpPr/>
              <p:nvPr/>
            </p:nvSpPr>
            <p:spPr>
              <a:xfrm>
                <a:off x="7948440" y="1822680"/>
                <a:ext cx="492120" cy="492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018640" y="1820880"/>
                <a:ext cx="34236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7445160" y="2664000"/>
              <a:ext cx="492120" cy="493200"/>
              <a:chOff x="7445160" y="2664000"/>
              <a:chExt cx="492120" cy="493200"/>
            </a:xfrm>
          </p:grpSpPr>
          <p:sp>
            <p:nvSpPr>
              <p:cNvPr id="559" name=""/>
              <p:cNvSpPr/>
              <p:nvPr/>
            </p:nvSpPr>
            <p:spPr>
              <a:xfrm>
                <a:off x="7445160" y="2665440"/>
                <a:ext cx="492120" cy="491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503840" y="2664000"/>
                <a:ext cx="3664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61" name=""/>
            <p:cNvCxnSpPr>
              <a:stCxn id="551" idx="2"/>
              <a:endCxn id="554" idx="0"/>
            </p:cNvCxnSpPr>
            <p:nvPr/>
          </p:nvCxnSpPr>
          <p:spPr>
            <a:xfrm flipH="1">
              <a:off x="7179480" y="1530000"/>
              <a:ext cx="47844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2" name=""/>
            <p:cNvCxnSpPr>
              <a:stCxn id="551" idx="2"/>
              <a:endCxn id="557" idx="0"/>
            </p:cNvCxnSpPr>
            <p:nvPr/>
          </p:nvCxnSpPr>
          <p:spPr>
            <a:xfrm>
              <a:off x="7657560" y="1530000"/>
              <a:ext cx="53244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3" name=""/>
            <p:cNvCxnSpPr>
              <a:stCxn id="554" idx="2"/>
              <a:endCxn id="560" idx="0"/>
            </p:cNvCxnSpPr>
            <p:nvPr/>
          </p:nvCxnSpPr>
          <p:spPr>
            <a:xfrm>
              <a:off x="7179840" y="2293920"/>
              <a:ext cx="508680" cy="370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4" name=""/>
            <p:cNvCxnSpPr>
              <a:stCxn id="556" idx="4"/>
              <a:endCxn id="560" idx="0"/>
            </p:cNvCxnSpPr>
            <p:nvPr/>
          </p:nvCxnSpPr>
          <p:spPr>
            <a:xfrm flipH="1">
              <a:off x="7687800" y="2314800"/>
              <a:ext cx="506880" cy="349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565" name=""/>
          <p:cNvSpPr/>
          <p:nvPr/>
        </p:nvSpPr>
        <p:spPr>
          <a:xfrm>
            <a:off x="6117480" y="1827360"/>
            <a:ext cx="604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6851520" y="3276000"/>
            <a:ext cx="1731960" cy="1486080"/>
            <a:chOff x="6851520" y="3276000"/>
            <a:chExt cx="1731960" cy="1486080"/>
          </a:xfrm>
        </p:grpSpPr>
        <p:grpSp>
          <p:nvGrpSpPr>
            <p:cNvPr id="567" name=""/>
            <p:cNvGrpSpPr/>
            <p:nvPr/>
          </p:nvGrpSpPr>
          <p:grpSpPr>
            <a:xfrm>
              <a:off x="7557840" y="3505320"/>
              <a:ext cx="492120" cy="493200"/>
              <a:chOff x="7557840" y="3505320"/>
              <a:chExt cx="492120" cy="493200"/>
            </a:xfrm>
          </p:grpSpPr>
          <p:sp>
            <p:nvSpPr>
              <p:cNvPr id="568" name=""/>
              <p:cNvSpPr/>
              <p:nvPr/>
            </p:nvSpPr>
            <p:spPr>
              <a:xfrm>
                <a:off x="7557840" y="3506760"/>
                <a:ext cx="492120" cy="491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628040" y="3505320"/>
                <a:ext cx="3438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7080120" y="4268880"/>
              <a:ext cx="492120" cy="493200"/>
              <a:chOff x="7080120" y="4268880"/>
              <a:chExt cx="492120" cy="493200"/>
            </a:xfrm>
          </p:grpSpPr>
          <p:sp>
            <p:nvSpPr>
              <p:cNvPr id="571" name=""/>
              <p:cNvSpPr/>
              <p:nvPr/>
            </p:nvSpPr>
            <p:spPr>
              <a:xfrm>
                <a:off x="7080120" y="4270320"/>
                <a:ext cx="492120" cy="491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148880" y="4268880"/>
                <a:ext cx="3466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8091360" y="4268880"/>
              <a:ext cx="492120" cy="493200"/>
              <a:chOff x="8091360" y="4268880"/>
              <a:chExt cx="492120" cy="493200"/>
            </a:xfrm>
          </p:grpSpPr>
          <p:sp>
            <p:nvSpPr>
              <p:cNvPr id="574" name=""/>
              <p:cNvSpPr/>
              <p:nvPr/>
            </p:nvSpPr>
            <p:spPr>
              <a:xfrm>
                <a:off x="8091360" y="4270320"/>
                <a:ext cx="492120" cy="491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161560" y="4268880"/>
                <a:ext cx="34236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76" name=""/>
            <p:cNvCxnSpPr>
              <a:stCxn id="569" idx="2"/>
              <a:endCxn id="572" idx="0"/>
            </p:cNvCxnSpPr>
            <p:nvPr/>
          </p:nvCxnSpPr>
          <p:spPr>
            <a:xfrm flipH="1">
              <a:off x="7322400" y="3978000"/>
              <a:ext cx="47844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7" name=""/>
            <p:cNvCxnSpPr>
              <a:stCxn id="569" idx="2"/>
              <a:endCxn id="575" idx="0"/>
            </p:cNvCxnSpPr>
            <p:nvPr/>
          </p:nvCxnSpPr>
          <p:spPr>
            <a:xfrm>
              <a:off x="7800480" y="3978000"/>
              <a:ext cx="53244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8" name=""/>
            <p:cNvCxnSpPr>
              <a:stCxn id="571" idx="2"/>
              <a:endCxn id="569" idx="0"/>
            </p:cNvCxnSpPr>
            <p:nvPr/>
          </p:nvCxnSpPr>
          <p:spPr>
            <a:xfrm flipH="1" rot="10800000">
              <a:off x="7079760" y="3504600"/>
              <a:ext cx="721440" cy="1011960"/>
            </a:xfrm>
            <a:prstGeom prst="curvedConnector5">
              <a:avLst>
                <a:gd name="adj1" fmla="val -31702"/>
                <a:gd name="adj2" fmla="val 61281"/>
                <a:gd name="adj3" fmla="val -31702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579" name=""/>
          <p:cNvSpPr/>
          <p:nvPr/>
        </p:nvSpPr>
        <p:spPr>
          <a:xfrm>
            <a:off x="5599440" y="3608280"/>
            <a:ext cx="110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O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Defining a DAG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234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DAG is defined by a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.dag fil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isting each of its nodes and their dependenci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Job A a.su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Job B b.su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Job C c.su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Job D d.su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arent A Child B 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arent B C Child 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562720" y="2540160"/>
            <a:ext cx="2665440" cy="2131560"/>
            <a:chOff x="5562720" y="2540160"/>
            <a:chExt cx="2665440" cy="2131560"/>
          </a:xfrm>
        </p:grpSpPr>
        <p:grpSp>
          <p:nvGrpSpPr>
            <p:cNvPr id="583" name=""/>
            <p:cNvGrpSpPr/>
            <p:nvPr/>
          </p:nvGrpSpPr>
          <p:grpSpPr>
            <a:xfrm>
              <a:off x="6545160" y="2540160"/>
              <a:ext cx="700200" cy="425160"/>
              <a:chOff x="6545160" y="2540160"/>
              <a:chExt cx="700200" cy="425160"/>
            </a:xfrm>
          </p:grpSpPr>
          <p:sp>
            <p:nvSpPr>
              <p:cNvPr id="584" name=""/>
              <p:cNvSpPr/>
              <p:nvPr/>
            </p:nvSpPr>
            <p:spPr>
              <a:xfrm>
                <a:off x="6545160" y="2540160"/>
                <a:ext cx="700200" cy="425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648120" y="2603520"/>
                <a:ext cx="492480" cy="299880"/>
              </a:xfrm>
              <a:prstGeom prst="roundRect">
                <a:avLst>
                  <a:gd name="adj" fmla="val 52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Job 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5562720" y="3394080"/>
              <a:ext cx="699840" cy="425160"/>
              <a:chOff x="5562720" y="3394080"/>
              <a:chExt cx="699840" cy="425160"/>
            </a:xfrm>
          </p:grpSpPr>
          <p:sp>
            <p:nvSpPr>
              <p:cNvPr id="587" name=""/>
              <p:cNvSpPr/>
              <p:nvPr/>
            </p:nvSpPr>
            <p:spPr>
              <a:xfrm>
                <a:off x="5562720" y="3394080"/>
                <a:ext cx="699840" cy="425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665320" y="3455640"/>
                <a:ext cx="493920" cy="300240"/>
              </a:xfrm>
              <a:prstGeom prst="roundRect">
                <a:avLst>
                  <a:gd name="adj" fmla="val 52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Job 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89" name=""/>
            <p:cNvCxnSpPr>
              <a:stCxn id="584" idx="2"/>
              <a:endCxn id="587" idx="3"/>
            </p:cNvCxnSpPr>
            <p:nvPr/>
          </p:nvCxnSpPr>
          <p:spPr>
            <a:xfrm flipH="1">
              <a:off x="6160320" y="2966760"/>
              <a:ext cx="734040" cy="489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90" name=""/>
            <p:cNvGrpSpPr/>
            <p:nvPr/>
          </p:nvGrpSpPr>
          <p:grpSpPr>
            <a:xfrm>
              <a:off x="7526160" y="3394080"/>
              <a:ext cx="702000" cy="425160"/>
              <a:chOff x="7526160" y="3394080"/>
              <a:chExt cx="702000" cy="425160"/>
            </a:xfrm>
          </p:grpSpPr>
          <p:sp>
            <p:nvSpPr>
              <p:cNvPr id="591" name=""/>
              <p:cNvSpPr/>
              <p:nvPr/>
            </p:nvSpPr>
            <p:spPr>
              <a:xfrm>
                <a:off x="7526160" y="3394080"/>
                <a:ext cx="702000" cy="425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629120" y="3455640"/>
                <a:ext cx="493920" cy="300240"/>
              </a:xfrm>
              <a:prstGeom prst="roundRect">
                <a:avLst>
                  <a:gd name="adj" fmla="val 52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Job 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6545160" y="4246560"/>
              <a:ext cx="700200" cy="425160"/>
              <a:chOff x="6545160" y="4246560"/>
              <a:chExt cx="700200" cy="425160"/>
            </a:xfrm>
          </p:grpSpPr>
          <p:sp>
            <p:nvSpPr>
              <p:cNvPr id="594" name=""/>
              <p:cNvSpPr/>
              <p:nvPr/>
            </p:nvSpPr>
            <p:spPr>
              <a:xfrm>
                <a:off x="6545160" y="4246560"/>
                <a:ext cx="700200" cy="425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648120" y="4309560"/>
                <a:ext cx="492480" cy="300240"/>
              </a:xfrm>
              <a:prstGeom prst="roundRect">
                <a:avLst>
                  <a:gd name="adj" fmla="val 52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Job 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96" name=""/>
            <p:cNvCxnSpPr>
              <a:stCxn id="584" idx="2"/>
              <a:endCxn id="591" idx="1"/>
            </p:cNvCxnSpPr>
            <p:nvPr/>
          </p:nvCxnSpPr>
          <p:spPr>
            <a:xfrm>
              <a:off x="6895800" y="2966760"/>
              <a:ext cx="734040" cy="489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7" name=""/>
            <p:cNvCxnSpPr>
              <a:stCxn id="591" idx="2"/>
              <a:endCxn id="594" idx="3"/>
            </p:cNvCxnSpPr>
            <p:nvPr/>
          </p:nvCxnSpPr>
          <p:spPr>
            <a:xfrm flipH="1">
              <a:off x="7143120" y="3819240"/>
              <a:ext cx="734040" cy="489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8" name=""/>
            <p:cNvCxnSpPr>
              <a:stCxn id="587" idx="2"/>
              <a:endCxn id="594" idx="1"/>
            </p:cNvCxnSpPr>
            <p:nvPr/>
          </p:nvCxnSpPr>
          <p:spPr>
            <a:xfrm>
              <a:off x="5913360" y="3819240"/>
              <a:ext cx="735840" cy="489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DAG Files….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complete DAG is five fi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"/>
          <p:cNvSpPr/>
          <p:nvPr/>
        </p:nvSpPr>
        <p:spPr>
          <a:xfrm>
            <a:off x="446760" y="2571840"/>
            <a:ext cx="39297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Job A a.s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Job B b.s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Job C c.s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Job D d.s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arent A Child B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arent B C Child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77960" y="2000160"/>
            <a:ext cx="1820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DAG Fi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721760" y="2000160"/>
            <a:ext cx="2306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 Submit Fi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1741320" y="2652840"/>
            <a:ext cx="2868840" cy="414360"/>
            <a:chOff x="1741320" y="2652840"/>
            <a:chExt cx="2868840" cy="414360"/>
          </a:xfrm>
        </p:grpSpPr>
        <p:sp>
          <p:nvSpPr>
            <p:cNvPr id="605" name=""/>
            <p:cNvSpPr/>
            <p:nvPr/>
          </p:nvSpPr>
          <p:spPr>
            <a:xfrm>
              <a:off x="1741320" y="2652840"/>
              <a:ext cx="1165320" cy="4143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916360" y="2859120"/>
              <a:ext cx="1693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4762440" y="2563920"/>
            <a:ext cx="420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analysi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1741320" y="3119400"/>
            <a:ext cx="2868840" cy="414360"/>
            <a:chOff x="1741320" y="3119400"/>
            <a:chExt cx="2868840" cy="414360"/>
          </a:xfrm>
        </p:grpSpPr>
        <p:sp>
          <p:nvSpPr>
            <p:cNvPr id="609" name=""/>
            <p:cNvSpPr/>
            <p:nvPr/>
          </p:nvSpPr>
          <p:spPr>
            <a:xfrm>
              <a:off x="1741320" y="3119400"/>
              <a:ext cx="1165320" cy="4143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916360" y="3325680"/>
              <a:ext cx="1693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1741320" y="3595680"/>
            <a:ext cx="2868840" cy="414360"/>
            <a:chOff x="1741320" y="3595680"/>
            <a:chExt cx="2868840" cy="414360"/>
          </a:xfrm>
        </p:grpSpPr>
        <p:sp>
          <p:nvSpPr>
            <p:cNvPr id="612" name=""/>
            <p:cNvSpPr/>
            <p:nvPr/>
          </p:nvSpPr>
          <p:spPr>
            <a:xfrm>
              <a:off x="1741320" y="3595680"/>
              <a:ext cx="1165320" cy="4143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916360" y="3801960"/>
              <a:ext cx="1693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1741320" y="4062240"/>
            <a:ext cx="2868840" cy="414360"/>
            <a:chOff x="1741320" y="4062240"/>
            <a:chExt cx="2868840" cy="414360"/>
          </a:xfrm>
        </p:grpSpPr>
        <p:sp>
          <p:nvSpPr>
            <p:cNvPr id="615" name=""/>
            <p:cNvSpPr/>
            <p:nvPr/>
          </p:nvSpPr>
          <p:spPr>
            <a:xfrm>
              <a:off x="1741320" y="4062240"/>
              <a:ext cx="1165320" cy="4143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916360" y="4268520"/>
              <a:ext cx="1693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ubmitting a DAG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234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 start your DAG, just ru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ondor_submit_da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with your .dag file, and Condor will start a perso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 DAGMan process which to begin running your job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2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% condor_submit_dag diamond.da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601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dor_submit_dag  submits a Scheduler Universe job with DAGMan as the executab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601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 the DAGMan daemon itself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runs as a Condor job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so you don’t have to baby-sit i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"/>
          <p:cNvGrpSpPr/>
          <p:nvPr/>
        </p:nvGrpSpPr>
        <p:grpSpPr>
          <a:xfrm>
            <a:off x="3733920" y="3276720"/>
            <a:ext cx="3120840" cy="2130480"/>
            <a:chOff x="3733920" y="3276720"/>
            <a:chExt cx="3120840" cy="2130480"/>
          </a:xfrm>
        </p:grpSpPr>
        <p:sp>
          <p:nvSpPr>
            <p:cNvPr id="620" name=""/>
            <p:cNvSpPr/>
            <p:nvPr/>
          </p:nvSpPr>
          <p:spPr>
            <a:xfrm>
              <a:off x="3733920" y="3276720"/>
              <a:ext cx="3120840" cy="2130480"/>
            </a:xfrm>
            <a:prstGeom prst="roundRect">
              <a:avLst>
                <a:gd name="adj" fmla="val 74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3733920" y="3276720"/>
              <a:ext cx="3119400" cy="2128680"/>
              <a:chOff x="3733920" y="3276720"/>
              <a:chExt cx="3119400" cy="2128680"/>
            </a:xfrm>
          </p:grpSpPr>
          <p:sp>
            <p:nvSpPr>
              <p:cNvPr id="622" name=""/>
              <p:cNvSpPr/>
              <p:nvPr/>
            </p:nvSpPr>
            <p:spPr>
              <a:xfrm>
                <a:off x="3733920" y="3276720"/>
                <a:ext cx="3119400" cy="2128680"/>
              </a:xfrm>
              <a:prstGeom prst="roundRect">
                <a:avLst>
                  <a:gd name="adj" fmla="val 7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733920" y="4971600"/>
                <a:ext cx="3119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AGM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unning a DAG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234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GMan acts as a scheduler, managing the submission of your jobs to Condor based on the DAG dependenci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1295280" y="3657600"/>
            <a:ext cx="1976400" cy="1969920"/>
            <a:chOff x="1295280" y="3657600"/>
            <a:chExt cx="1976400" cy="1969920"/>
          </a:xfrm>
        </p:grpSpPr>
        <p:grpSp>
          <p:nvGrpSpPr>
            <p:cNvPr id="627" name=""/>
            <p:cNvGrpSpPr/>
            <p:nvPr/>
          </p:nvGrpSpPr>
          <p:grpSpPr>
            <a:xfrm>
              <a:off x="1295280" y="3657600"/>
              <a:ext cx="1976400" cy="1969920"/>
              <a:chOff x="1295280" y="3657600"/>
              <a:chExt cx="1976400" cy="1969920"/>
            </a:xfrm>
          </p:grpSpPr>
          <p:sp>
            <p:nvSpPr>
              <p:cNvPr id="628" name=""/>
              <p:cNvSpPr/>
              <p:nvPr/>
            </p:nvSpPr>
            <p:spPr>
              <a:xfrm>
                <a:off x="1295280" y="3657600"/>
                <a:ext cx="1976400" cy="1969920"/>
              </a:xfrm>
              <a:custGeom>
                <a:avLst/>
                <a:gdLst/>
                <a:ahLst/>
                <a:rect l="l" t="t" r="r" b="b"/>
                <a:pathLst>
                  <a:path w="5496" h="5478">
                    <a:moveTo>
                      <a:pt x="0" y="915"/>
                    </a:moveTo>
                    <a:lnTo>
                      <a:pt x="382" y="915"/>
                    </a:lnTo>
                    <a:lnTo>
                      <a:pt x="382" y="458"/>
                    </a:lnTo>
                    <a:lnTo>
                      <a:pt x="762" y="458"/>
                    </a:lnTo>
                    <a:lnTo>
                      <a:pt x="762" y="0"/>
                    </a:lnTo>
                    <a:lnTo>
                      <a:pt x="5495" y="0"/>
                    </a:lnTo>
                    <a:lnTo>
                      <a:pt x="5495" y="3665"/>
                    </a:lnTo>
                    <a:lnTo>
                      <a:pt x="5113" y="3665"/>
                    </a:lnTo>
                    <a:lnTo>
                      <a:pt x="5113" y="4124"/>
                    </a:lnTo>
                    <a:lnTo>
                      <a:pt x="4733" y="4124"/>
                    </a:lnTo>
                    <a:lnTo>
                      <a:pt x="4733" y="4582"/>
                    </a:lnTo>
                    <a:cubicBezTo>
                      <a:pt x="2953" y="4553"/>
                      <a:pt x="2918" y="5302"/>
                      <a:pt x="1229" y="5477"/>
                    </a:cubicBezTo>
                    <a:cubicBezTo>
                      <a:pt x="623" y="5371"/>
                      <a:pt x="405" y="5287"/>
                      <a:pt x="0" y="5164"/>
                    </a:cubicBezTo>
                    <a:lnTo>
                      <a:pt x="0" y="915"/>
                    </a:ln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433160" y="3987360"/>
                <a:ext cx="1563840" cy="1156320"/>
              </a:xfrm>
              <a:custGeom>
                <a:avLst/>
                <a:gdLst/>
                <a:ahLst/>
                <a:rect l="l" t="t" r="r" b="b"/>
                <a:pathLst>
                  <a:path w="4350" h="3213">
                    <a:moveTo>
                      <a:pt x="0" y="0"/>
                    </a:moveTo>
                    <a:lnTo>
                      <a:pt x="4349" y="0"/>
                    </a:lnTo>
                    <a:lnTo>
                      <a:pt x="4349" y="32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569600" y="3822480"/>
                <a:ext cx="1565640" cy="1152720"/>
              </a:xfrm>
              <a:custGeom>
                <a:avLst/>
                <a:gdLst/>
                <a:ahLst/>
                <a:rect l="l" t="t" r="r" b="b"/>
                <a:pathLst>
                  <a:path w="4351" h="3208">
                    <a:moveTo>
                      <a:pt x="0" y="0"/>
                    </a:moveTo>
                    <a:lnTo>
                      <a:pt x="4350" y="0"/>
                    </a:lnTo>
                    <a:lnTo>
                      <a:pt x="4350" y="320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1295280" y="3987720"/>
              <a:ext cx="1703520" cy="1319400"/>
              <a:chOff x="1295280" y="3987720"/>
              <a:chExt cx="1703520" cy="1319400"/>
            </a:xfrm>
          </p:grpSpPr>
          <p:sp>
            <p:nvSpPr>
              <p:cNvPr id="632" name=""/>
              <p:cNvSpPr/>
              <p:nvPr/>
            </p:nvSpPr>
            <p:spPr>
              <a:xfrm>
                <a:off x="1295280" y="3987720"/>
                <a:ext cx="1703520" cy="1319400"/>
              </a:xfrm>
              <a:prstGeom prst="roundRect">
                <a:avLst>
                  <a:gd name="adj" fmla="val 11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295280" y="4064760"/>
                <a:ext cx="1703520" cy="116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ond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Jo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Queu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4" name=""/>
          <p:cNvGrpSpPr/>
          <p:nvPr/>
        </p:nvGrpSpPr>
        <p:grpSpPr>
          <a:xfrm>
            <a:off x="4419720" y="4189320"/>
            <a:ext cx="366480" cy="433800"/>
            <a:chOff x="4419720" y="4189320"/>
            <a:chExt cx="366480" cy="433800"/>
          </a:xfrm>
        </p:grpSpPr>
        <p:sp>
          <p:nvSpPr>
            <p:cNvPr id="635" name=""/>
            <p:cNvSpPr/>
            <p:nvPr/>
          </p:nvSpPr>
          <p:spPr>
            <a:xfrm>
              <a:off x="4419720" y="4260960"/>
              <a:ext cx="366480" cy="291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6" name=""/>
            <p:cNvGrpSpPr/>
            <p:nvPr/>
          </p:nvGrpSpPr>
          <p:grpSpPr>
            <a:xfrm>
              <a:off x="4474800" y="4189320"/>
              <a:ext cx="257400" cy="433800"/>
              <a:chOff x="4474800" y="4189320"/>
              <a:chExt cx="257400" cy="433800"/>
            </a:xfrm>
          </p:grpSpPr>
          <p:sp>
            <p:nvSpPr>
              <p:cNvPr id="637" name=""/>
              <p:cNvSpPr/>
              <p:nvPr/>
            </p:nvSpPr>
            <p:spPr>
              <a:xfrm>
                <a:off x="4474800" y="4303080"/>
                <a:ext cx="257400" cy="205560"/>
              </a:xfrm>
              <a:prstGeom prst="roundRect">
                <a:avLst>
                  <a:gd name="adj" fmla="val 7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474800" y="4189320"/>
                <a:ext cx="2541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639" name=""/>
          <p:cNvCxnSpPr>
            <a:stCxn id="640" idx="3"/>
            <a:endCxn id="635" idx="1"/>
          </p:cNvCxnSpPr>
          <p:nvPr/>
        </p:nvCxnSpPr>
        <p:spPr>
          <a:xfrm flipH="1">
            <a:off x="4473000" y="3736440"/>
            <a:ext cx="764280" cy="567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41" name=""/>
          <p:cNvGrpSpPr/>
          <p:nvPr/>
        </p:nvGrpSpPr>
        <p:grpSpPr>
          <a:xfrm>
            <a:off x="5943600" y="4151160"/>
            <a:ext cx="366840" cy="433800"/>
            <a:chOff x="5943600" y="4151160"/>
            <a:chExt cx="366840" cy="433800"/>
          </a:xfrm>
        </p:grpSpPr>
        <p:sp>
          <p:nvSpPr>
            <p:cNvPr id="642" name=""/>
            <p:cNvSpPr/>
            <p:nvPr/>
          </p:nvSpPr>
          <p:spPr>
            <a:xfrm>
              <a:off x="5943600" y="4222800"/>
              <a:ext cx="366840" cy="291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3" name=""/>
            <p:cNvGrpSpPr/>
            <p:nvPr/>
          </p:nvGrpSpPr>
          <p:grpSpPr>
            <a:xfrm>
              <a:off x="5998680" y="4151160"/>
              <a:ext cx="257760" cy="433800"/>
              <a:chOff x="5998680" y="4151160"/>
              <a:chExt cx="257760" cy="433800"/>
            </a:xfrm>
          </p:grpSpPr>
          <p:sp>
            <p:nvSpPr>
              <p:cNvPr id="644" name=""/>
              <p:cNvSpPr/>
              <p:nvPr/>
            </p:nvSpPr>
            <p:spPr>
              <a:xfrm>
                <a:off x="5998680" y="4264920"/>
                <a:ext cx="257760" cy="205560"/>
              </a:xfrm>
              <a:prstGeom prst="roundRect">
                <a:avLst>
                  <a:gd name="adj" fmla="val 7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998680" y="4151160"/>
                <a:ext cx="2559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6" name=""/>
          <p:cNvGrpSpPr/>
          <p:nvPr/>
        </p:nvGrpSpPr>
        <p:grpSpPr>
          <a:xfrm>
            <a:off x="5181480" y="4875120"/>
            <a:ext cx="366840" cy="433800"/>
            <a:chOff x="5181480" y="4875120"/>
            <a:chExt cx="366840" cy="433800"/>
          </a:xfrm>
        </p:grpSpPr>
        <p:sp>
          <p:nvSpPr>
            <p:cNvPr id="647" name=""/>
            <p:cNvSpPr/>
            <p:nvPr/>
          </p:nvSpPr>
          <p:spPr>
            <a:xfrm>
              <a:off x="5181480" y="4944960"/>
              <a:ext cx="366840" cy="293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5236920" y="4875120"/>
              <a:ext cx="257400" cy="433800"/>
              <a:chOff x="5236920" y="4875120"/>
              <a:chExt cx="257400" cy="433800"/>
            </a:xfrm>
          </p:grpSpPr>
          <p:sp>
            <p:nvSpPr>
              <p:cNvPr id="649" name=""/>
              <p:cNvSpPr/>
              <p:nvPr/>
            </p:nvSpPr>
            <p:spPr>
              <a:xfrm>
                <a:off x="5236920" y="4988880"/>
                <a:ext cx="257400" cy="205560"/>
              </a:xfrm>
              <a:prstGeom prst="roundRect">
                <a:avLst>
                  <a:gd name="adj" fmla="val 7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236920" y="4875120"/>
                <a:ext cx="2556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651" name=""/>
          <p:cNvCxnSpPr>
            <a:stCxn id="640" idx="5"/>
            <a:endCxn id="642" idx="1"/>
          </p:cNvCxnSpPr>
          <p:nvPr/>
        </p:nvCxnSpPr>
        <p:spPr>
          <a:xfrm>
            <a:off x="5505120" y="3736440"/>
            <a:ext cx="492840" cy="52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2" name=""/>
          <p:cNvCxnSpPr>
            <a:stCxn id="642" idx="5"/>
            <a:endCxn id="647" idx="7"/>
          </p:cNvCxnSpPr>
          <p:nvPr/>
        </p:nvCxnSpPr>
        <p:spPr>
          <a:xfrm flipH="1">
            <a:off x="5495040" y="4471560"/>
            <a:ext cx="762840" cy="51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3" name=""/>
          <p:cNvCxnSpPr>
            <a:stCxn id="635" idx="3"/>
            <a:endCxn id="647" idx="1"/>
          </p:cNvCxnSpPr>
          <p:nvPr/>
        </p:nvCxnSpPr>
        <p:spPr>
          <a:xfrm>
            <a:off x="4473720" y="4509720"/>
            <a:ext cx="762480" cy="47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4" name=""/>
          <p:cNvCxnSpPr>
            <a:stCxn id="640" idx="1"/>
            <a:endCxn id="655" idx="1"/>
          </p:cNvCxnSpPr>
          <p:nvPr/>
        </p:nvCxnSpPr>
        <p:spPr>
          <a:xfrm flipH="1">
            <a:off x="2567880" y="3500280"/>
            <a:ext cx="2669400" cy="687960"/>
          </a:xfrm>
          <a:prstGeom prst="straightConnector1">
            <a:avLst/>
          </a:prstGeom>
          <a:ln w="19080">
            <a:solidFill>
              <a:srgbClr val="3333cc"/>
            </a:solidFill>
            <a:prstDash val="lgDash"/>
            <a:miter/>
            <a:tailEnd len="med" type="triangle" w="med"/>
          </a:ln>
        </p:spPr>
      </p:cxnSp>
      <p:grpSp>
        <p:nvGrpSpPr>
          <p:cNvPr id="656" name=""/>
          <p:cNvGrpSpPr/>
          <p:nvPr/>
        </p:nvGrpSpPr>
        <p:grpSpPr>
          <a:xfrm>
            <a:off x="2514600" y="4074840"/>
            <a:ext cx="366840" cy="433800"/>
            <a:chOff x="2514600" y="4074840"/>
            <a:chExt cx="366840" cy="433800"/>
          </a:xfrm>
        </p:grpSpPr>
        <p:sp>
          <p:nvSpPr>
            <p:cNvPr id="655" name=""/>
            <p:cNvSpPr/>
            <p:nvPr/>
          </p:nvSpPr>
          <p:spPr>
            <a:xfrm>
              <a:off x="2514600" y="4145040"/>
              <a:ext cx="366840" cy="291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7" name=""/>
            <p:cNvGrpSpPr/>
            <p:nvPr/>
          </p:nvGrpSpPr>
          <p:grpSpPr>
            <a:xfrm>
              <a:off x="2569680" y="4074840"/>
              <a:ext cx="257760" cy="433800"/>
              <a:chOff x="2569680" y="4074840"/>
              <a:chExt cx="257760" cy="433800"/>
            </a:xfrm>
          </p:grpSpPr>
          <p:sp>
            <p:nvSpPr>
              <p:cNvPr id="658" name=""/>
              <p:cNvSpPr/>
              <p:nvPr/>
            </p:nvSpPr>
            <p:spPr>
              <a:xfrm>
                <a:off x="2569680" y="4187160"/>
                <a:ext cx="257760" cy="203760"/>
              </a:xfrm>
              <a:prstGeom prst="roundRect">
                <a:avLst>
                  <a:gd name="adj" fmla="val 77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569680" y="4074840"/>
                <a:ext cx="2559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0" name=""/>
          <p:cNvGrpSpPr/>
          <p:nvPr/>
        </p:nvGrpSpPr>
        <p:grpSpPr>
          <a:xfrm>
            <a:off x="5181480" y="3401640"/>
            <a:ext cx="378000" cy="433800"/>
            <a:chOff x="5181480" y="3401640"/>
            <a:chExt cx="378000" cy="433800"/>
          </a:xfrm>
        </p:grpSpPr>
        <p:sp>
          <p:nvSpPr>
            <p:cNvPr id="640" name=""/>
            <p:cNvSpPr/>
            <p:nvPr/>
          </p:nvSpPr>
          <p:spPr>
            <a:xfrm>
              <a:off x="5181480" y="3451320"/>
              <a:ext cx="378000" cy="334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5238360" y="3401640"/>
              <a:ext cx="262440" cy="433800"/>
              <a:chOff x="5238360" y="3401640"/>
              <a:chExt cx="262440" cy="433800"/>
            </a:xfrm>
          </p:grpSpPr>
          <p:sp>
            <p:nvSpPr>
              <p:cNvPr id="662" name=""/>
              <p:cNvSpPr/>
              <p:nvPr/>
            </p:nvSpPr>
            <p:spPr>
              <a:xfrm>
                <a:off x="5238360" y="3499560"/>
                <a:ext cx="262440" cy="23400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238360" y="3401640"/>
                <a:ext cx="26064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4" name=""/>
          <p:cNvGrpSpPr/>
          <p:nvPr/>
        </p:nvGrpSpPr>
        <p:grpSpPr>
          <a:xfrm>
            <a:off x="7238880" y="3733920"/>
            <a:ext cx="1290600" cy="1023840"/>
            <a:chOff x="7238880" y="3733920"/>
            <a:chExt cx="1290600" cy="1023840"/>
          </a:xfrm>
        </p:grpSpPr>
        <p:grpSp>
          <p:nvGrpSpPr>
            <p:cNvPr id="665" name=""/>
            <p:cNvGrpSpPr/>
            <p:nvPr/>
          </p:nvGrpSpPr>
          <p:grpSpPr>
            <a:xfrm>
              <a:off x="7238880" y="3733920"/>
              <a:ext cx="1290600" cy="1023840"/>
              <a:chOff x="7238880" y="3733920"/>
              <a:chExt cx="1290600" cy="1023840"/>
            </a:xfrm>
          </p:grpSpPr>
          <p:sp>
            <p:nvSpPr>
              <p:cNvPr id="666" name=""/>
              <p:cNvSpPr/>
              <p:nvPr/>
            </p:nvSpPr>
            <p:spPr>
              <a:xfrm>
                <a:off x="7238880" y="3733920"/>
                <a:ext cx="1290600" cy="1023840"/>
              </a:xfrm>
              <a:custGeom>
                <a:avLst/>
                <a:gdLst/>
                <a:ahLst/>
                <a:rect l="l" t="t" r="r" b="b"/>
                <a:pathLst>
                  <a:path w="3591" h="2849">
                    <a:moveTo>
                      <a:pt x="178" y="2848"/>
                    </a:moveTo>
                    <a:cubicBezTo>
                      <a:pt x="89" y="2848"/>
                      <a:pt x="0" y="2759"/>
                      <a:pt x="0" y="2670"/>
                    </a:cubicBezTo>
                    <a:cubicBezTo>
                      <a:pt x="0" y="2580"/>
                      <a:pt x="89" y="2492"/>
                      <a:pt x="178" y="2492"/>
                    </a:cubicBezTo>
                    <a:lnTo>
                      <a:pt x="357" y="2492"/>
                    </a:lnTo>
                    <a:lnTo>
                      <a:pt x="357" y="178"/>
                    </a:lnTo>
                    <a:cubicBezTo>
                      <a:pt x="357" y="89"/>
                      <a:pt x="445" y="0"/>
                      <a:pt x="533" y="0"/>
                    </a:cubicBezTo>
                    <a:lnTo>
                      <a:pt x="3412" y="0"/>
                    </a:lnTo>
                    <a:cubicBezTo>
                      <a:pt x="3501" y="0"/>
                      <a:pt x="3590" y="89"/>
                      <a:pt x="3590" y="178"/>
                    </a:cubicBezTo>
                    <a:cubicBezTo>
                      <a:pt x="3590" y="267"/>
                      <a:pt x="3501" y="356"/>
                      <a:pt x="3412" y="356"/>
                    </a:cubicBezTo>
                    <a:lnTo>
                      <a:pt x="3233" y="356"/>
                    </a:lnTo>
                    <a:lnTo>
                      <a:pt x="3233" y="2670"/>
                    </a:lnTo>
                    <a:cubicBezTo>
                      <a:pt x="3233" y="2759"/>
                      <a:pt x="3145" y="2848"/>
                      <a:pt x="3057" y="2848"/>
                    </a:cubicBezTo>
                    <a:lnTo>
                      <a:pt x="178" y="2848"/>
                    </a:lnTo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399080" y="3796920"/>
                <a:ext cx="96480" cy="64800"/>
              </a:xfrm>
              <a:custGeom>
                <a:avLst/>
                <a:gdLst/>
                <a:ahLst/>
                <a:rect l="l" t="t" r="r" b="b"/>
                <a:pathLst>
                  <a:path w="268" h="180">
                    <a:moveTo>
                      <a:pt x="267" y="0"/>
                    </a:moveTo>
                    <a:cubicBezTo>
                      <a:pt x="267" y="89"/>
                      <a:pt x="177" y="179"/>
                      <a:pt x="88" y="179"/>
                    </a:cubicBezTo>
                    <a:cubicBezTo>
                      <a:pt x="43" y="179"/>
                      <a:pt x="0" y="134"/>
                      <a:pt x="0" y="89"/>
                    </a:cubicBezTo>
                    <a:cubicBezTo>
                      <a:pt x="0" y="44"/>
                      <a:pt x="43" y="0"/>
                      <a:pt x="88" y="0"/>
                    </a:cubicBezTo>
                    <a:lnTo>
                      <a:pt x="267" y="0"/>
                    </a:lnTo>
                  </a:path>
                </a:pathLst>
              </a:custGeom>
              <a:solidFill>
                <a:srgbClr val="dba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238880" y="4629240"/>
                <a:ext cx="128520" cy="128160"/>
              </a:xfrm>
              <a:custGeom>
                <a:avLst/>
                <a:gdLst/>
                <a:ahLst/>
                <a:rect l="l" t="t" r="r" b="b"/>
                <a:pathLst>
                  <a:path w="358" h="357">
                    <a:moveTo>
                      <a:pt x="357" y="178"/>
                    </a:moveTo>
                    <a:cubicBezTo>
                      <a:pt x="357" y="267"/>
                      <a:pt x="267" y="356"/>
                      <a:pt x="178" y="356"/>
                    </a:cubicBezTo>
                    <a:cubicBezTo>
                      <a:pt x="89" y="356"/>
                      <a:pt x="0" y="267"/>
                      <a:pt x="0" y="178"/>
                    </a:cubicBezTo>
                    <a:cubicBezTo>
                      <a:pt x="0" y="88"/>
                      <a:pt x="89" y="0"/>
                      <a:pt x="178" y="0"/>
                    </a:cubicBezTo>
                    <a:cubicBezTo>
                      <a:pt x="222" y="0"/>
                      <a:pt x="267" y="45"/>
                      <a:pt x="267" y="89"/>
                    </a:cubicBezTo>
                    <a:cubicBezTo>
                      <a:pt x="267" y="133"/>
                      <a:pt x="222" y="178"/>
                      <a:pt x="178" y="178"/>
                    </a:cubicBezTo>
                    <a:lnTo>
                      <a:pt x="357" y="178"/>
                    </a:lnTo>
                  </a:path>
                </a:pathLst>
              </a:custGeom>
              <a:solidFill>
                <a:srgbClr val="dba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430760" y="3733920"/>
                <a:ext cx="64800" cy="64440"/>
              </a:xfrm>
              <a:custGeom>
                <a:avLst/>
                <a:gdLst/>
                <a:ahLst/>
                <a:rect l="l" t="t" r="r" b="b"/>
                <a:pathLst>
                  <a:path w="181" h="180">
                    <a:moveTo>
                      <a:pt x="0" y="0"/>
                    </a:moveTo>
                    <a:cubicBezTo>
                      <a:pt x="89" y="0"/>
                      <a:pt x="180" y="89"/>
                      <a:pt x="180" y="17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367400" y="4629240"/>
                <a:ext cx="1080" cy="6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430760" y="3862080"/>
                <a:ext cx="10332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7367760" y="3848400"/>
              <a:ext cx="1035000" cy="799560"/>
              <a:chOff x="7367760" y="3848400"/>
              <a:chExt cx="1035000" cy="799560"/>
            </a:xfrm>
          </p:grpSpPr>
          <p:sp>
            <p:nvSpPr>
              <p:cNvPr id="673" name=""/>
              <p:cNvSpPr/>
              <p:nvPr/>
            </p:nvSpPr>
            <p:spPr>
              <a:xfrm>
                <a:off x="7367760" y="3862080"/>
                <a:ext cx="1035000" cy="768600"/>
              </a:xfrm>
              <a:prstGeom prst="roundRect">
                <a:avLst>
                  <a:gd name="adj" fmla="val 20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367760" y="3848400"/>
                <a:ext cx="1035000" cy="79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.da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Fi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675" name=""/>
          <p:cNvCxnSpPr>
            <a:endCxn id="620" idx="3"/>
          </p:cNvCxnSpPr>
          <p:nvPr/>
        </p:nvCxnSpPr>
        <p:spPr>
          <a:xfrm flipH="1">
            <a:off x="6854040" y="4247640"/>
            <a:ext cx="384840" cy="94680"/>
          </a:xfrm>
          <a:prstGeom prst="straightConnector1">
            <a:avLst/>
          </a:prstGeom>
          <a:ln w="19080">
            <a:solidFill>
              <a:srgbClr val="3333cc"/>
            </a:solidFill>
            <a:prstDash val="lgDash"/>
            <a:miter/>
            <a:tailEnd len="med" type="triangle" w="med"/>
          </a:ln>
        </p:spPr>
      </p:cxn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achine owner preference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prefer jobs from the physics grou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ill only run jobs between 8pm and 4a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ill only run certain types of job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obs can be preempted if something better comes along (or not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6" name=""/>
          <p:cNvGrpSpPr/>
          <p:nvPr/>
        </p:nvGrpSpPr>
        <p:grpSpPr>
          <a:xfrm>
            <a:off x="3733920" y="3276720"/>
            <a:ext cx="3119400" cy="2128680"/>
            <a:chOff x="3733920" y="3276720"/>
            <a:chExt cx="3119400" cy="2128680"/>
          </a:xfrm>
        </p:grpSpPr>
        <p:sp>
          <p:nvSpPr>
            <p:cNvPr id="677" name=""/>
            <p:cNvSpPr/>
            <p:nvPr/>
          </p:nvSpPr>
          <p:spPr>
            <a:xfrm>
              <a:off x="3733920" y="3276720"/>
              <a:ext cx="3119400" cy="2128680"/>
            </a:xfrm>
            <a:prstGeom prst="roundRect">
              <a:avLst>
                <a:gd name="adj" fmla="val 74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3733920" y="3276720"/>
              <a:ext cx="3116160" cy="2125440"/>
              <a:chOff x="3733920" y="3276720"/>
              <a:chExt cx="3116160" cy="2125440"/>
            </a:xfrm>
          </p:grpSpPr>
          <p:sp>
            <p:nvSpPr>
              <p:cNvPr id="679" name=""/>
              <p:cNvSpPr/>
              <p:nvPr/>
            </p:nvSpPr>
            <p:spPr>
              <a:xfrm>
                <a:off x="3733920" y="3276720"/>
                <a:ext cx="3116160" cy="2125440"/>
              </a:xfrm>
              <a:prstGeom prst="roundRect">
                <a:avLst>
                  <a:gd name="adj" fmla="val 7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733920" y="4968360"/>
                <a:ext cx="31161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AGM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unning a DAG (cont’d)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234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GMan holds &amp; submits jobs to the Condor queue at the appropriate ti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95280" y="3657600"/>
            <a:ext cx="1976400" cy="1969920"/>
            <a:chOff x="1295280" y="3657600"/>
            <a:chExt cx="1976400" cy="1969920"/>
          </a:xfrm>
        </p:grpSpPr>
        <p:grpSp>
          <p:nvGrpSpPr>
            <p:cNvPr id="684" name=""/>
            <p:cNvGrpSpPr/>
            <p:nvPr/>
          </p:nvGrpSpPr>
          <p:grpSpPr>
            <a:xfrm>
              <a:off x="1295280" y="3657600"/>
              <a:ext cx="1976400" cy="1969920"/>
              <a:chOff x="1295280" y="3657600"/>
              <a:chExt cx="1976400" cy="1969920"/>
            </a:xfrm>
          </p:grpSpPr>
          <p:sp>
            <p:nvSpPr>
              <p:cNvPr id="685" name=""/>
              <p:cNvSpPr/>
              <p:nvPr/>
            </p:nvSpPr>
            <p:spPr>
              <a:xfrm>
                <a:off x="1295280" y="3657600"/>
                <a:ext cx="1976400" cy="1969920"/>
              </a:xfrm>
              <a:custGeom>
                <a:avLst/>
                <a:gdLst/>
                <a:ahLst/>
                <a:rect l="l" t="t" r="r" b="b"/>
                <a:pathLst>
                  <a:path w="5496" h="5478">
                    <a:moveTo>
                      <a:pt x="0" y="915"/>
                    </a:moveTo>
                    <a:lnTo>
                      <a:pt x="382" y="915"/>
                    </a:lnTo>
                    <a:lnTo>
                      <a:pt x="382" y="458"/>
                    </a:lnTo>
                    <a:lnTo>
                      <a:pt x="762" y="458"/>
                    </a:lnTo>
                    <a:lnTo>
                      <a:pt x="762" y="0"/>
                    </a:lnTo>
                    <a:lnTo>
                      <a:pt x="5495" y="0"/>
                    </a:lnTo>
                    <a:lnTo>
                      <a:pt x="5495" y="3665"/>
                    </a:lnTo>
                    <a:lnTo>
                      <a:pt x="5113" y="3665"/>
                    </a:lnTo>
                    <a:lnTo>
                      <a:pt x="5113" y="4124"/>
                    </a:lnTo>
                    <a:lnTo>
                      <a:pt x="4733" y="4124"/>
                    </a:lnTo>
                    <a:lnTo>
                      <a:pt x="4733" y="4582"/>
                    </a:lnTo>
                    <a:cubicBezTo>
                      <a:pt x="2953" y="4553"/>
                      <a:pt x="2918" y="5302"/>
                      <a:pt x="1229" y="5477"/>
                    </a:cubicBezTo>
                    <a:cubicBezTo>
                      <a:pt x="623" y="5371"/>
                      <a:pt x="405" y="5287"/>
                      <a:pt x="0" y="5164"/>
                    </a:cubicBezTo>
                    <a:lnTo>
                      <a:pt x="0" y="915"/>
                    </a:ln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433160" y="3987360"/>
                <a:ext cx="1563840" cy="1156320"/>
              </a:xfrm>
              <a:custGeom>
                <a:avLst/>
                <a:gdLst/>
                <a:ahLst/>
                <a:rect l="l" t="t" r="r" b="b"/>
                <a:pathLst>
                  <a:path w="4350" h="3213">
                    <a:moveTo>
                      <a:pt x="0" y="0"/>
                    </a:moveTo>
                    <a:lnTo>
                      <a:pt x="4349" y="0"/>
                    </a:lnTo>
                    <a:lnTo>
                      <a:pt x="4349" y="32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569600" y="3822480"/>
                <a:ext cx="1565640" cy="1152720"/>
              </a:xfrm>
              <a:custGeom>
                <a:avLst/>
                <a:gdLst/>
                <a:ahLst/>
                <a:rect l="l" t="t" r="r" b="b"/>
                <a:pathLst>
                  <a:path w="4351" h="3208">
                    <a:moveTo>
                      <a:pt x="0" y="0"/>
                    </a:moveTo>
                    <a:lnTo>
                      <a:pt x="4350" y="0"/>
                    </a:lnTo>
                    <a:lnTo>
                      <a:pt x="4350" y="320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1295280" y="3987720"/>
              <a:ext cx="1703520" cy="1319400"/>
              <a:chOff x="1295280" y="3987720"/>
              <a:chExt cx="1703520" cy="1319400"/>
            </a:xfrm>
          </p:grpSpPr>
          <p:sp>
            <p:nvSpPr>
              <p:cNvPr id="689" name=""/>
              <p:cNvSpPr/>
              <p:nvPr/>
            </p:nvSpPr>
            <p:spPr>
              <a:xfrm>
                <a:off x="1295280" y="3987720"/>
                <a:ext cx="1703520" cy="1319400"/>
              </a:xfrm>
              <a:prstGeom prst="roundRect">
                <a:avLst>
                  <a:gd name="adj" fmla="val 11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295280" y="4064760"/>
                <a:ext cx="1703520" cy="116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ond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Jo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Queu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691" name=""/>
          <p:cNvCxnSpPr>
            <a:endCxn id="692" idx="1"/>
          </p:cNvCxnSpPr>
          <p:nvPr/>
        </p:nvCxnSpPr>
        <p:spPr>
          <a:xfrm flipH="1">
            <a:off x="4473360" y="3784680"/>
            <a:ext cx="894240" cy="48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93" name=""/>
          <p:cNvGrpSpPr/>
          <p:nvPr/>
        </p:nvGrpSpPr>
        <p:grpSpPr>
          <a:xfrm>
            <a:off x="5943600" y="4151160"/>
            <a:ext cx="366840" cy="433800"/>
            <a:chOff x="5943600" y="4151160"/>
            <a:chExt cx="366840" cy="433800"/>
          </a:xfrm>
        </p:grpSpPr>
        <p:sp>
          <p:nvSpPr>
            <p:cNvPr id="694" name=""/>
            <p:cNvSpPr/>
            <p:nvPr/>
          </p:nvSpPr>
          <p:spPr>
            <a:xfrm>
              <a:off x="5943600" y="4222800"/>
              <a:ext cx="366840" cy="291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5" name=""/>
            <p:cNvGrpSpPr/>
            <p:nvPr/>
          </p:nvGrpSpPr>
          <p:grpSpPr>
            <a:xfrm>
              <a:off x="5998680" y="4151160"/>
              <a:ext cx="257760" cy="433800"/>
              <a:chOff x="5998680" y="4151160"/>
              <a:chExt cx="257760" cy="433800"/>
            </a:xfrm>
          </p:grpSpPr>
          <p:sp>
            <p:nvSpPr>
              <p:cNvPr id="696" name=""/>
              <p:cNvSpPr/>
              <p:nvPr/>
            </p:nvSpPr>
            <p:spPr>
              <a:xfrm>
                <a:off x="5998680" y="4264920"/>
                <a:ext cx="257760" cy="205560"/>
              </a:xfrm>
              <a:prstGeom prst="roundRect">
                <a:avLst>
                  <a:gd name="adj" fmla="val 7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998680" y="4151160"/>
                <a:ext cx="2559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8" name=""/>
          <p:cNvGrpSpPr/>
          <p:nvPr/>
        </p:nvGrpSpPr>
        <p:grpSpPr>
          <a:xfrm>
            <a:off x="5181480" y="4913280"/>
            <a:ext cx="366840" cy="433800"/>
            <a:chOff x="5181480" y="4913280"/>
            <a:chExt cx="366840" cy="433800"/>
          </a:xfrm>
        </p:grpSpPr>
        <p:sp>
          <p:nvSpPr>
            <p:cNvPr id="699" name=""/>
            <p:cNvSpPr/>
            <p:nvPr/>
          </p:nvSpPr>
          <p:spPr>
            <a:xfrm>
              <a:off x="5181480" y="4983120"/>
              <a:ext cx="366840" cy="293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5236920" y="4913280"/>
              <a:ext cx="257400" cy="433800"/>
              <a:chOff x="5236920" y="4913280"/>
              <a:chExt cx="257400" cy="433800"/>
            </a:xfrm>
          </p:grpSpPr>
          <p:sp>
            <p:nvSpPr>
              <p:cNvPr id="701" name=""/>
              <p:cNvSpPr/>
              <p:nvPr/>
            </p:nvSpPr>
            <p:spPr>
              <a:xfrm>
                <a:off x="5236920" y="5027040"/>
                <a:ext cx="257400" cy="205560"/>
              </a:xfrm>
              <a:prstGeom prst="roundRect">
                <a:avLst>
                  <a:gd name="adj" fmla="val 7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236920" y="4913280"/>
                <a:ext cx="2556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703" name=""/>
          <p:cNvCxnSpPr>
            <a:endCxn id="694" idx="1"/>
          </p:cNvCxnSpPr>
          <p:nvPr/>
        </p:nvCxnSpPr>
        <p:spPr>
          <a:xfrm>
            <a:off x="5366880" y="3784680"/>
            <a:ext cx="631080" cy="48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94" idx="1"/>
            <a:endCxn id="699" idx="1"/>
          </p:cNvCxnSpPr>
          <p:nvPr/>
        </p:nvCxnSpPr>
        <p:spPr>
          <a:xfrm flipH="1">
            <a:off x="5233320" y="4265640"/>
            <a:ext cx="762840" cy="76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692" idx="1"/>
            <a:endCxn id="699" idx="1"/>
          </p:cNvCxnSpPr>
          <p:nvPr/>
        </p:nvCxnSpPr>
        <p:spPr>
          <a:xfrm>
            <a:off x="4473720" y="4265640"/>
            <a:ext cx="762480" cy="76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92" idx="1"/>
            <a:endCxn id="707" idx="1"/>
          </p:cNvCxnSpPr>
          <p:nvPr/>
        </p:nvCxnSpPr>
        <p:spPr>
          <a:xfrm flipH="1" flipV="1">
            <a:off x="2568240" y="4187520"/>
            <a:ext cx="1905840" cy="78480"/>
          </a:xfrm>
          <a:prstGeom prst="straightConnector1">
            <a:avLst/>
          </a:prstGeom>
          <a:ln w="19080">
            <a:solidFill>
              <a:srgbClr val="3333cc"/>
            </a:solidFill>
            <a:prstDash val="lgDash"/>
            <a:miter/>
            <a:tailEnd len="med" type="triangle" w="med"/>
          </a:ln>
        </p:spPr>
      </p:cxnSp>
      <p:grpSp>
        <p:nvGrpSpPr>
          <p:cNvPr id="708" name=""/>
          <p:cNvGrpSpPr/>
          <p:nvPr/>
        </p:nvGrpSpPr>
        <p:grpSpPr>
          <a:xfrm>
            <a:off x="2514600" y="4074840"/>
            <a:ext cx="366840" cy="433800"/>
            <a:chOff x="2514600" y="4074840"/>
            <a:chExt cx="366840" cy="433800"/>
          </a:xfrm>
        </p:grpSpPr>
        <p:sp>
          <p:nvSpPr>
            <p:cNvPr id="707" name=""/>
            <p:cNvSpPr/>
            <p:nvPr/>
          </p:nvSpPr>
          <p:spPr>
            <a:xfrm>
              <a:off x="2514600" y="4145040"/>
              <a:ext cx="366840" cy="291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" name=""/>
            <p:cNvGrpSpPr/>
            <p:nvPr/>
          </p:nvGrpSpPr>
          <p:grpSpPr>
            <a:xfrm>
              <a:off x="2569680" y="4074840"/>
              <a:ext cx="257760" cy="433800"/>
              <a:chOff x="2569680" y="4074840"/>
              <a:chExt cx="257760" cy="433800"/>
            </a:xfrm>
          </p:grpSpPr>
          <p:sp>
            <p:nvSpPr>
              <p:cNvPr id="710" name=""/>
              <p:cNvSpPr/>
              <p:nvPr/>
            </p:nvSpPr>
            <p:spPr>
              <a:xfrm>
                <a:off x="2569680" y="4187160"/>
                <a:ext cx="257760" cy="203760"/>
              </a:xfrm>
              <a:prstGeom prst="roundRect">
                <a:avLst>
                  <a:gd name="adj" fmla="val 77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569680" y="4074840"/>
                <a:ext cx="2559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2" name=""/>
          <p:cNvGrpSpPr/>
          <p:nvPr/>
        </p:nvGrpSpPr>
        <p:grpSpPr>
          <a:xfrm>
            <a:off x="2514600" y="4760640"/>
            <a:ext cx="366840" cy="433800"/>
            <a:chOff x="2514600" y="4760640"/>
            <a:chExt cx="366840" cy="433800"/>
          </a:xfrm>
        </p:grpSpPr>
        <p:sp>
          <p:nvSpPr>
            <p:cNvPr id="713" name=""/>
            <p:cNvSpPr/>
            <p:nvPr/>
          </p:nvSpPr>
          <p:spPr>
            <a:xfrm>
              <a:off x="2514600" y="4830840"/>
              <a:ext cx="366840" cy="291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2569680" y="4760640"/>
              <a:ext cx="257760" cy="433800"/>
              <a:chOff x="2569680" y="4760640"/>
              <a:chExt cx="257760" cy="433800"/>
            </a:xfrm>
          </p:grpSpPr>
          <p:sp>
            <p:nvSpPr>
              <p:cNvPr id="715" name=""/>
              <p:cNvSpPr/>
              <p:nvPr/>
            </p:nvSpPr>
            <p:spPr>
              <a:xfrm>
                <a:off x="2569680" y="4872960"/>
                <a:ext cx="257760" cy="203760"/>
              </a:xfrm>
              <a:prstGeom prst="roundRect">
                <a:avLst>
                  <a:gd name="adj" fmla="val 77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569680" y="4760640"/>
                <a:ext cx="2559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717" name=""/>
          <p:cNvCxnSpPr>
            <a:stCxn id="694" idx="1"/>
            <a:endCxn id="713" idx="1"/>
          </p:cNvCxnSpPr>
          <p:nvPr/>
        </p:nvCxnSpPr>
        <p:spPr>
          <a:xfrm flipH="1">
            <a:off x="2567880" y="4265280"/>
            <a:ext cx="3429720" cy="608760"/>
          </a:xfrm>
          <a:prstGeom prst="straightConnector1">
            <a:avLst/>
          </a:prstGeom>
          <a:ln w="19080">
            <a:solidFill>
              <a:srgbClr val="3333cc"/>
            </a:solidFill>
            <a:prstDash val="lgDash"/>
            <a:miter/>
            <a:tailEnd len="med" type="triangle" w="med"/>
          </a:ln>
        </p:spPr>
      </p:cxnSp>
      <p:grpSp>
        <p:nvGrpSpPr>
          <p:cNvPr id="718" name=""/>
          <p:cNvGrpSpPr/>
          <p:nvPr/>
        </p:nvGrpSpPr>
        <p:grpSpPr>
          <a:xfrm>
            <a:off x="4419720" y="4151160"/>
            <a:ext cx="366480" cy="433800"/>
            <a:chOff x="4419720" y="4151160"/>
            <a:chExt cx="366480" cy="433800"/>
          </a:xfrm>
        </p:grpSpPr>
        <p:sp>
          <p:nvSpPr>
            <p:cNvPr id="692" name=""/>
            <p:cNvSpPr/>
            <p:nvPr/>
          </p:nvSpPr>
          <p:spPr>
            <a:xfrm>
              <a:off x="4419720" y="4222800"/>
              <a:ext cx="366480" cy="291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4474800" y="4151160"/>
              <a:ext cx="257400" cy="433800"/>
              <a:chOff x="4474800" y="4151160"/>
              <a:chExt cx="257400" cy="433800"/>
            </a:xfrm>
          </p:grpSpPr>
          <p:sp>
            <p:nvSpPr>
              <p:cNvPr id="720" name=""/>
              <p:cNvSpPr/>
              <p:nvPr/>
            </p:nvSpPr>
            <p:spPr>
              <a:xfrm>
                <a:off x="4474800" y="4264920"/>
                <a:ext cx="257400" cy="205560"/>
              </a:xfrm>
              <a:prstGeom prst="roundRect">
                <a:avLst>
                  <a:gd name="adj" fmla="val 7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474800" y="4151160"/>
                <a:ext cx="2541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2" name=""/>
          <p:cNvGrpSpPr/>
          <p:nvPr/>
        </p:nvGrpSpPr>
        <p:grpSpPr>
          <a:xfrm>
            <a:off x="5181480" y="3401640"/>
            <a:ext cx="378000" cy="433800"/>
            <a:chOff x="5181480" y="3401640"/>
            <a:chExt cx="378000" cy="433800"/>
          </a:xfrm>
        </p:grpSpPr>
        <p:sp>
          <p:nvSpPr>
            <p:cNvPr id="723" name=""/>
            <p:cNvSpPr/>
            <p:nvPr/>
          </p:nvSpPr>
          <p:spPr>
            <a:xfrm>
              <a:off x="5181480" y="3451320"/>
              <a:ext cx="378000" cy="334800"/>
            </a:xfrm>
            <a:prstGeom prst="ellipse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5238360" y="3401640"/>
              <a:ext cx="262440" cy="433800"/>
              <a:chOff x="5238360" y="3401640"/>
              <a:chExt cx="262440" cy="433800"/>
            </a:xfrm>
          </p:grpSpPr>
          <p:sp>
            <p:nvSpPr>
              <p:cNvPr id="725" name=""/>
              <p:cNvSpPr/>
              <p:nvPr/>
            </p:nvSpPr>
            <p:spPr>
              <a:xfrm>
                <a:off x="5238360" y="3499560"/>
                <a:ext cx="262440" cy="23400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238360" y="3401640"/>
                <a:ext cx="26064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"/>
          <p:cNvGrpSpPr/>
          <p:nvPr/>
        </p:nvGrpSpPr>
        <p:grpSpPr>
          <a:xfrm>
            <a:off x="3733920" y="3276720"/>
            <a:ext cx="3119400" cy="2128680"/>
            <a:chOff x="3733920" y="3276720"/>
            <a:chExt cx="3119400" cy="2128680"/>
          </a:xfrm>
        </p:grpSpPr>
        <p:sp>
          <p:nvSpPr>
            <p:cNvPr id="728" name=""/>
            <p:cNvSpPr/>
            <p:nvPr/>
          </p:nvSpPr>
          <p:spPr>
            <a:xfrm>
              <a:off x="3733920" y="3276720"/>
              <a:ext cx="3119400" cy="2128680"/>
            </a:xfrm>
            <a:prstGeom prst="roundRect">
              <a:avLst>
                <a:gd name="adj" fmla="val 74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9" name=""/>
            <p:cNvGrpSpPr/>
            <p:nvPr/>
          </p:nvGrpSpPr>
          <p:grpSpPr>
            <a:xfrm>
              <a:off x="3733920" y="3276720"/>
              <a:ext cx="3116160" cy="2125440"/>
              <a:chOff x="3733920" y="3276720"/>
              <a:chExt cx="3116160" cy="2125440"/>
            </a:xfrm>
          </p:grpSpPr>
          <p:sp>
            <p:nvSpPr>
              <p:cNvPr id="730" name=""/>
              <p:cNvSpPr/>
              <p:nvPr/>
            </p:nvSpPr>
            <p:spPr>
              <a:xfrm>
                <a:off x="3733920" y="3276720"/>
                <a:ext cx="3116160" cy="2125440"/>
              </a:xfrm>
              <a:prstGeom prst="roundRect">
                <a:avLst>
                  <a:gd name="adj" fmla="val 7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733920" y="4968360"/>
                <a:ext cx="31161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AGM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unning a DAG (cont’d)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234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case of a job failure, DAGMan continues until it can no longer make progress, and then creates a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“rescue” fi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th the current state of the DA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295280" y="3657600"/>
            <a:ext cx="1976400" cy="1969920"/>
            <a:chOff x="1295280" y="3657600"/>
            <a:chExt cx="1976400" cy="1969920"/>
          </a:xfrm>
        </p:grpSpPr>
        <p:grpSp>
          <p:nvGrpSpPr>
            <p:cNvPr id="735" name=""/>
            <p:cNvGrpSpPr/>
            <p:nvPr/>
          </p:nvGrpSpPr>
          <p:grpSpPr>
            <a:xfrm>
              <a:off x="1295280" y="3657600"/>
              <a:ext cx="1976400" cy="1969920"/>
              <a:chOff x="1295280" y="3657600"/>
              <a:chExt cx="1976400" cy="1969920"/>
            </a:xfrm>
          </p:grpSpPr>
          <p:sp>
            <p:nvSpPr>
              <p:cNvPr id="736" name=""/>
              <p:cNvSpPr/>
              <p:nvPr/>
            </p:nvSpPr>
            <p:spPr>
              <a:xfrm>
                <a:off x="1295280" y="3657600"/>
                <a:ext cx="1976400" cy="1969920"/>
              </a:xfrm>
              <a:custGeom>
                <a:avLst/>
                <a:gdLst/>
                <a:ahLst/>
                <a:rect l="l" t="t" r="r" b="b"/>
                <a:pathLst>
                  <a:path w="5496" h="5478">
                    <a:moveTo>
                      <a:pt x="0" y="915"/>
                    </a:moveTo>
                    <a:lnTo>
                      <a:pt x="382" y="915"/>
                    </a:lnTo>
                    <a:lnTo>
                      <a:pt x="382" y="458"/>
                    </a:lnTo>
                    <a:lnTo>
                      <a:pt x="762" y="458"/>
                    </a:lnTo>
                    <a:lnTo>
                      <a:pt x="762" y="0"/>
                    </a:lnTo>
                    <a:lnTo>
                      <a:pt x="5495" y="0"/>
                    </a:lnTo>
                    <a:lnTo>
                      <a:pt x="5495" y="3665"/>
                    </a:lnTo>
                    <a:lnTo>
                      <a:pt x="5113" y="3665"/>
                    </a:lnTo>
                    <a:lnTo>
                      <a:pt x="5113" y="4124"/>
                    </a:lnTo>
                    <a:lnTo>
                      <a:pt x="4733" y="4124"/>
                    </a:lnTo>
                    <a:lnTo>
                      <a:pt x="4733" y="4582"/>
                    </a:lnTo>
                    <a:cubicBezTo>
                      <a:pt x="2953" y="4553"/>
                      <a:pt x="2918" y="5302"/>
                      <a:pt x="1229" y="5477"/>
                    </a:cubicBezTo>
                    <a:cubicBezTo>
                      <a:pt x="623" y="5371"/>
                      <a:pt x="405" y="5287"/>
                      <a:pt x="0" y="5164"/>
                    </a:cubicBezTo>
                    <a:lnTo>
                      <a:pt x="0" y="915"/>
                    </a:ln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433160" y="3987360"/>
                <a:ext cx="1563840" cy="1156320"/>
              </a:xfrm>
              <a:custGeom>
                <a:avLst/>
                <a:gdLst/>
                <a:ahLst/>
                <a:rect l="l" t="t" r="r" b="b"/>
                <a:pathLst>
                  <a:path w="4350" h="3213">
                    <a:moveTo>
                      <a:pt x="0" y="0"/>
                    </a:moveTo>
                    <a:lnTo>
                      <a:pt x="4349" y="0"/>
                    </a:lnTo>
                    <a:lnTo>
                      <a:pt x="4349" y="32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569600" y="3822480"/>
                <a:ext cx="1565640" cy="1152720"/>
              </a:xfrm>
              <a:custGeom>
                <a:avLst/>
                <a:gdLst/>
                <a:ahLst/>
                <a:rect l="l" t="t" r="r" b="b"/>
                <a:pathLst>
                  <a:path w="4351" h="3208">
                    <a:moveTo>
                      <a:pt x="0" y="0"/>
                    </a:moveTo>
                    <a:lnTo>
                      <a:pt x="4350" y="0"/>
                    </a:lnTo>
                    <a:lnTo>
                      <a:pt x="4350" y="320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1295280" y="3987720"/>
              <a:ext cx="1703520" cy="1319400"/>
              <a:chOff x="1295280" y="3987720"/>
              <a:chExt cx="1703520" cy="1319400"/>
            </a:xfrm>
          </p:grpSpPr>
          <p:sp>
            <p:nvSpPr>
              <p:cNvPr id="740" name=""/>
              <p:cNvSpPr/>
              <p:nvPr/>
            </p:nvSpPr>
            <p:spPr>
              <a:xfrm>
                <a:off x="1295280" y="3987720"/>
                <a:ext cx="1703520" cy="1319400"/>
              </a:xfrm>
              <a:prstGeom prst="roundRect">
                <a:avLst>
                  <a:gd name="adj" fmla="val 11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295280" y="4064760"/>
                <a:ext cx="1703520" cy="116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ond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Jo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Queu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742" name=""/>
          <p:cNvCxnSpPr>
            <a:endCxn id="743" idx="1"/>
          </p:cNvCxnSpPr>
          <p:nvPr/>
        </p:nvCxnSpPr>
        <p:spPr>
          <a:xfrm flipH="1">
            <a:off x="4473360" y="3784680"/>
            <a:ext cx="894240" cy="4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44" name=""/>
          <p:cNvGrpSpPr/>
          <p:nvPr/>
        </p:nvGrpSpPr>
        <p:grpSpPr>
          <a:xfrm>
            <a:off x="5943600" y="4178520"/>
            <a:ext cx="366840" cy="377280"/>
            <a:chOff x="5943600" y="4178520"/>
            <a:chExt cx="366840" cy="377280"/>
          </a:xfrm>
        </p:grpSpPr>
        <p:sp>
          <p:nvSpPr>
            <p:cNvPr id="745" name=""/>
            <p:cNvSpPr/>
            <p:nvPr/>
          </p:nvSpPr>
          <p:spPr>
            <a:xfrm>
              <a:off x="5943600" y="4200480"/>
              <a:ext cx="366840" cy="3333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6" name=""/>
            <p:cNvGrpSpPr/>
            <p:nvPr/>
          </p:nvGrpSpPr>
          <p:grpSpPr>
            <a:xfrm>
              <a:off x="5998680" y="4178520"/>
              <a:ext cx="257760" cy="377280"/>
              <a:chOff x="5998680" y="4178520"/>
              <a:chExt cx="257760" cy="377280"/>
            </a:xfrm>
          </p:grpSpPr>
          <p:sp>
            <p:nvSpPr>
              <p:cNvPr id="747" name=""/>
              <p:cNvSpPr/>
              <p:nvPr/>
            </p:nvSpPr>
            <p:spPr>
              <a:xfrm>
                <a:off x="5998680" y="4249440"/>
                <a:ext cx="257760" cy="23328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998680" y="4178520"/>
                <a:ext cx="25596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9" name=""/>
          <p:cNvGrpSpPr/>
          <p:nvPr/>
        </p:nvGrpSpPr>
        <p:grpSpPr>
          <a:xfrm>
            <a:off x="5181480" y="4913280"/>
            <a:ext cx="366840" cy="433800"/>
            <a:chOff x="5181480" y="4913280"/>
            <a:chExt cx="366840" cy="433800"/>
          </a:xfrm>
        </p:grpSpPr>
        <p:sp>
          <p:nvSpPr>
            <p:cNvPr id="750" name=""/>
            <p:cNvSpPr/>
            <p:nvPr/>
          </p:nvSpPr>
          <p:spPr>
            <a:xfrm>
              <a:off x="5181480" y="4983120"/>
              <a:ext cx="366840" cy="293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1" name=""/>
            <p:cNvGrpSpPr/>
            <p:nvPr/>
          </p:nvGrpSpPr>
          <p:grpSpPr>
            <a:xfrm>
              <a:off x="5236920" y="4913280"/>
              <a:ext cx="257400" cy="433800"/>
              <a:chOff x="5236920" y="4913280"/>
              <a:chExt cx="257400" cy="433800"/>
            </a:xfrm>
          </p:grpSpPr>
          <p:sp>
            <p:nvSpPr>
              <p:cNvPr id="752" name=""/>
              <p:cNvSpPr/>
              <p:nvPr/>
            </p:nvSpPr>
            <p:spPr>
              <a:xfrm>
                <a:off x="5236920" y="5027040"/>
                <a:ext cx="257400" cy="205560"/>
              </a:xfrm>
              <a:prstGeom prst="roundRect">
                <a:avLst>
                  <a:gd name="adj" fmla="val 7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236920" y="4913280"/>
                <a:ext cx="2556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754" name=""/>
          <p:cNvCxnSpPr>
            <a:endCxn id="745" idx="1"/>
          </p:cNvCxnSpPr>
          <p:nvPr/>
        </p:nvCxnSpPr>
        <p:spPr>
          <a:xfrm>
            <a:off x="5366880" y="3784680"/>
            <a:ext cx="631080" cy="4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5" name=""/>
          <p:cNvCxnSpPr>
            <a:stCxn id="745" idx="1"/>
            <a:endCxn id="750" idx="7"/>
          </p:cNvCxnSpPr>
          <p:nvPr/>
        </p:nvCxnSpPr>
        <p:spPr>
          <a:xfrm flipH="1">
            <a:off x="5495400" y="4249800"/>
            <a:ext cx="50256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6" name=""/>
          <p:cNvCxnSpPr>
            <a:stCxn id="743" idx="1"/>
            <a:endCxn id="750" idx="1"/>
          </p:cNvCxnSpPr>
          <p:nvPr/>
        </p:nvCxnSpPr>
        <p:spPr>
          <a:xfrm>
            <a:off x="4473720" y="4249800"/>
            <a:ext cx="76248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57" name=""/>
          <p:cNvGrpSpPr/>
          <p:nvPr/>
        </p:nvGrpSpPr>
        <p:grpSpPr>
          <a:xfrm>
            <a:off x="5181480" y="3401640"/>
            <a:ext cx="378000" cy="433800"/>
            <a:chOff x="5181480" y="3401640"/>
            <a:chExt cx="378000" cy="433800"/>
          </a:xfrm>
        </p:grpSpPr>
        <p:sp>
          <p:nvSpPr>
            <p:cNvPr id="758" name=""/>
            <p:cNvSpPr/>
            <p:nvPr/>
          </p:nvSpPr>
          <p:spPr>
            <a:xfrm>
              <a:off x="5181480" y="3451320"/>
              <a:ext cx="378000" cy="334800"/>
            </a:xfrm>
            <a:prstGeom prst="ellipse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9" name=""/>
            <p:cNvGrpSpPr/>
            <p:nvPr/>
          </p:nvGrpSpPr>
          <p:grpSpPr>
            <a:xfrm>
              <a:off x="5238360" y="3401640"/>
              <a:ext cx="262440" cy="433800"/>
              <a:chOff x="5238360" y="3401640"/>
              <a:chExt cx="262440" cy="433800"/>
            </a:xfrm>
          </p:grpSpPr>
          <p:sp>
            <p:nvSpPr>
              <p:cNvPr id="760" name=""/>
              <p:cNvSpPr/>
              <p:nvPr/>
            </p:nvSpPr>
            <p:spPr>
              <a:xfrm>
                <a:off x="5238360" y="3499560"/>
                <a:ext cx="262440" cy="23400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238360" y="3401640"/>
                <a:ext cx="26064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2" name=""/>
          <p:cNvGrpSpPr/>
          <p:nvPr/>
        </p:nvGrpSpPr>
        <p:grpSpPr>
          <a:xfrm>
            <a:off x="4419720" y="4178520"/>
            <a:ext cx="366480" cy="377280"/>
            <a:chOff x="4419720" y="4178520"/>
            <a:chExt cx="366480" cy="377280"/>
          </a:xfrm>
        </p:grpSpPr>
        <p:sp>
          <p:nvSpPr>
            <p:cNvPr id="743" name=""/>
            <p:cNvSpPr/>
            <p:nvPr/>
          </p:nvSpPr>
          <p:spPr>
            <a:xfrm>
              <a:off x="4419720" y="4200480"/>
              <a:ext cx="366480" cy="333360"/>
            </a:xfrm>
            <a:prstGeom prst="ellipse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3" name=""/>
            <p:cNvGrpSpPr/>
            <p:nvPr/>
          </p:nvGrpSpPr>
          <p:grpSpPr>
            <a:xfrm>
              <a:off x="4474800" y="4178520"/>
              <a:ext cx="257400" cy="377280"/>
              <a:chOff x="4474800" y="4178520"/>
              <a:chExt cx="257400" cy="377280"/>
            </a:xfrm>
          </p:grpSpPr>
          <p:sp>
            <p:nvSpPr>
              <p:cNvPr id="764" name=""/>
              <p:cNvSpPr/>
              <p:nvPr/>
            </p:nvSpPr>
            <p:spPr>
              <a:xfrm>
                <a:off x="4474800" y="4249440"/>
                <a:ext cx="257400" cy="23328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474800" y="4178520"/>
                <a:ext cx="25416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6" name=""/>
          <p:cNvGrpSpPr/>
          <p:nvPr/>
        </p:nvGrpSpPr>
        <p:grpSpPr>
          <a:xfrm>
            <a:off x="7238880" y="3781440"/>
            <a:ext cx="1290600" cy="925200"/>
            <a:chOff x="7238880" y="3781440"/>
            <a:chExt cx="1290600" cy="925200"/>
          </a:xfrm>
        </p:grpSpPr>
        <p:grpSp>
          <p:nvGrpSpPr>
            <p:cNvPr id="767" name=""/>
            <p:cNvGrpSpPr/>
            <p:nvPr/>
          </p:nvGrpSpPr>
          <p:grpSpPr>
            <a:xfrm>
              <a:off x="7238880" y="3781440"/>
              <a:ext cx="1290600" cy="925200"/>
              <a:chOff x="7238880" y="3781440"/>
              <a:chExt cx="1290600" cy="925200"/>
            </a:xfrm>
          </p:grpSpPr>
          <p:sp>
            <p:nvSpPr>
              <p:cNvPr id="768" name=""/>
              <p:cNvSpPr/>
              <p:nvPr/>
            </p:nvSpPr>
            <p:spPr>
              <a:xfrm>
                <a:off x="7238880" y="3781440"/>
                <a:ext cx="1290600" cy="923760"/>
              </a:xfrm>
              <a:custGeom>
                <a:avLst/>
                <a:gdLst/>
                <a:ahLst/>
                <a:rect l="l" t="t" r="r" b="b"/>
                <a:pathLst>
                  <a:path w="3591" h="2576">
                    <a:moveTo>
                      <a:pt x="178" y="2575"/>
                    </a:moveTo>
                    <a:cubicBezTo>
                      <a:pt x="89" y="2575"/>
                      <a:pt x="0" y="2495"/>
                      <a:pt x="0" y="2415"/>
                    </a:cubicBezTo>
                    <a:cubicBezTo>
                      <a:pt x="0" y="2334"/>
                      <a:pt x="89" y="2254"/>
                      <a:pt x="178" y="2254"/>
                    </a:cubicBezTo>
                    <a:lnTo>
                      <a:pt x="357" y="2254"/>
                    </a:lnTo>
                    <a:lnTo>
                      <a:pt x="357" y="160"/>
                    </a:lnTo>
                    <a:cubicBezTo>
                      <a:pt x="357" y="81"/>
                      <a:pt x="445" y="0"/>
                      <a:pt x="533" y="0"/>
                    </a:cubicBezTo>
                    <a:lnTo>
                      <a:pt x="3412" y="0"/>
                    </a:lnTo>
                    <a:cubicBezTo>
                      <a:pt x="3501" y="0"/>
                      <a:pt x="3590" y="81"/>
                      <a:pt x="3590" y="160"/>
                    </a:cubicBezTo>
                    <a:cubicBezTo>
                      <a:pt x="3590" y="241"/>
                      <a:pt x="3501" y="322"/>
                      <a:pt x="3412" y="322"/>
                    </a:cubicBezTo>
                    <a:lnTo>
                      <a:pt x="3233" y="322"/>
                    </a:lnTo>
                    <a:lnTo>
                      <a:pt x="3233" y="2415"/>
                    </a:lnTo>
                    <a:cubicBezTo>
                      <a:pt x="3233" y="2495"/>
                      <a:pt x="3145" y="2575"/>
                      <a:pt x="3057" y="2575"/>
                    </a:cubicBezTo>
                    <a:lnTo>
                      <a:pt x="178" y="2575"/>
                    </a:lnTo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399080" y="3838320"/>
                <a:ext cx="96480" cy="58320"/>
              </a:xfrm>
              <a:custGeom>
                <a:avLst/>
                <a:gdLst/>
                <a:ahLst/>
                <a:rect l="l" t="t" r="r" b="b"/>
                <a:pathLst>
                  <a:path w="268" h="164">
                    <a:moveTo>
                      <a:pt x="267" y="0"/>
                    </a:moveTo>
                    <a:cubicBezTo>
                      <a:pt x="267" y="81"/>
                      <a:pt x="177" y="163"/>
                      <a:pt x="88" y="163"/>
                    </a:cubicBezTo>
                    <a:cubicBezTo>
                      <a:pt x="43" y="163"/>
                      <a:pt x="0" y="123"/>
                      <a:pt x="0" y="81"/>
                    </a:cubicBezTo>
                    <a:cubicBezTo>
                      <a:pt x="0" y="40"/>
                      <a:pt x="43" y="0"/>
                      <a:pt x="88" y="0"/>
                    </a:cubicBezTo>
                    <a:lnTo>
                      <a:pt x="267" y="0"/>
                    </a:lnTo>
                  </a:path>
                </a:pathLst>
              </a:custGeom>
              <a:solidFill>
                <a:srgbClr val="dba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238880" y="4591440"/>
                <a:ext cx="128520" cy="115200"/>
              </a:xfrm>
              <a:custGeom>
                <a:avLst/>
                <a:gdLst/>
                <a:ahLst/>
                <a:rect l="l" t="t" r="r" b="b"/>
                <a:pathLst>
                  <a:path w="358" h="322">
                    <a:moveTo>
                      <a:pt x="357" y="161"/>
                    </a:moveTo>
                    <a:cubicBezTo>
                      <a:pt x="357" y="241"/>
                      <a:pt x="267" y="321"/>
                      <a:pt x="178" y="321"/>
                    </a:cubicBezTo>
                    <a:cubicBezTo>
                      <a:pt x="89" y="321"/>
                      <a:pt x="0" y="241"/>
                      <a:pt x="0" y="161"/>
                    </a:cubicBezTo>
                    <a:cubicBezTo>
                      <a:pt x="0" y="80"/>
                      <a:pt x="89" y="0"/>
                      <a:pt x="178" y="0"/>
                    </a:cubicBezTo>
                    <a:cubicBezTo>
                      <a:pt x="222" y="0"/>
                      <a:pt x="267" y="40"/>
                      <a:pt x="267" y="81"/>
                    </a:cubicBezTo>
                    <a:cubicBezTo>
                      <a:pt x="267" y="121"/>
                      <a:pt x="222" y="161"/>
                      <a:pt x="178" y="161"/>
                    </a:cubicBezTo>
                    <a:lnTo>
                      <a:pt x="357" y="161"/>
                    </a:lnTo>
                  </a:path>
                </a:pathLst>
              </a:custGeom>
              <a:solidFill>
                <a:srgbClr val="dba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430760" y="3781440"/>
                <a:ext cx="64800" cy="58320"/>
              </a:xfrm>
              <a:custGeom>
                <a:avLst/>
                <a:gdLst/>
                <a:ahLst/>
                <a:rect l="l" t="t" r="r" b="b"/>
                <a:pathLst>
                  <a:path w="181" h="162">
                    <a:moveTo>
                      <a:pt x="0" y="0"/>
                    </a:moveTo>
                    <a:cubicBezTo>
                      <a:pt x="89" y="0"/>
                      <a:pt x="180" y="81"/>
                      <a:pt x="180" y="16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367400" y="4591440"/>
                <a:ext cx="108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430760" y="3896640"/>
                <a:ext cx="10332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7367760" y="3897360"/>
              <a:ext cx="1036440" cy="696960"/>
              <a:chOff x="7367760" y="3897360"/>
              <a:chExt cx="1036440" cy="696960"/>
            </a:xfrm>
          </p:grpSpPr>
          <p:sp>
            <p:nvSpPr>
              <p:cNvPr id="775" name=""/>
              <p:cNvSpPr/>
              <p:nvPr/>
            </p:nvSpPr>
            <p:spPr>
              <a:xfrm>
                <a:off x="7367760" y="3897360"/>
                <a:ext cx="1036440" cy="696960"/>
              </a:xfrm>
              <a:prstGeom prst="roundRect">
                <a:avLst>
                  <a:gd name="adj" fmla="val 22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367760" y="3906360"/>
                <a:ext cx="1036440" cy="68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scu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Fi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777" name=""/>
          <p:cNvCxnSpPr>
            <a:stCxn id="728" idx="3"/>
          </p:cNvCxnSpPr>
          <p:nvPr/>
        </p:nvCxnSpPr>
        <p:spPr>
          <a:xfrm flipV="1">
            <a:off x="6854400" y="4247280"/>
            <a:ext cx="384840" cy="94680"/>
          </a:xfrm>
          <a:prstGeom prst="straightConnector1">
            <a:avLst/>
          </a:prstGeom>
          <a:ln w="19080">
            <a:solidFill>
              <a:srgbClr val="3333cc"/>
            </a:solidFill>
            <a:prstDash val="lgDash"/>
            <a:miter/>
            <a:tailEnd len="med" type="triangle" w="med"/>
          </a:ln>
        </p:spPr>
      </p:cxn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8" name=""/>
          <p:cNvGrpSpPr/>
          <p:nvPr/>
        </p:nvGrpSpPr>
        <p:grpSpPr>
          <a:xfrm>
            <a:off x="3733920" y="3276720"/>
            <a:ext cx="3119400" cy="2128680"/>
            <a:chOff x="3733920" y="3276720"/>
            <a:chExt cx="3119400" cy="2128680"/>
          </a:xfrm>
        </p:grpSpPr>
        <p:sp>
          <p:nvSpPr>
            <p:cNvPr id="779" name=""/>
            <p:cNvSpPr/>
            <p:nvPr/>
          </p:nvSpPr>
          <p:spPr>
            <a:xfrm>
              <a:off x="3733920" y="3276720"/>
              <a:ext cx="3119400" cy="2128680"/>
            </a:xfrm>
            <a:prstGeom prst="roundRect">
              <a:avLst>
                <a:gd name="adj" fmla="val 74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0" name=""/>
            <p:cNvGrpSpPr/>
            <p:nvPr/>
          </p:nvGrpSpPr>
          <p:grpSpPr>
            <a:xfrm>
              <a:off x="3733920" y="3276720"/>
              <a:ext cx="3116160" cy="2125440"/>
              <a:chOff x="3733920" y="3276720"/>
              <a:chExt cx="3116160" cy="2125440"/>
            </a:xfrm>
          </p:grpSpPr>
          <p:sp>
            <p:nvSpPr>
              <p:cNvPr id="781" name=""/>
              <p:cNvSpPr/>
              <p:nvPr/>
            </p:nvSpPr>
            <p:spPr>
              <a:xfrm>
                <a:off x="3733920" y="3276720"/>
                <a:ext cx="3116160" cy="2125440"/>
              </a:xfrm>
              <a:prstGeom prst="roundRect">
                <a:avLst>
                  <a:gd name="adj" fmla="val 7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733920" y="4968360"/>
                <a:ext cx="31161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AGM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ecovering a DAG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234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ce the failed job is ready to be re-run, the rescue file can be used to restore the prior state of the DA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1295280" y="3657600"/>
            <a:ext cx="1976400" cy="1969920"/>
            <a:chOff x="1295280" y="3657600"/>
            <a:chExt cx="1976400" cy="1969920"/>
          </a:xfrm>
        </p:grpSpPr>
        <p:grpSp>
          <p:nvGrpSpPr>
            <p:cNvPr id="786" name=""/>
            <p:cNvGrpSpPr/>
            <p:nvPr/>
          </p:nvGrpSpPr>
          <p:grpSpPr>
            <a:xfrm>
              <a:off x="1295280" y="3657600"/>
              <a:ext cx="1976400" cy="1969920"/>
              <a:chOff x="1295280" y="3657600"/>
              <a:chExt cx="1976400" cy="1969920"/>
            </a:xfrm>
          </p:grpSpPr>
          <p:sp>
            <p:nvSpPr>
              <p:cNvPr id="787" name=""/>
              <p:cNvSpPr/>
              <p:nvPr/>
            </p:nvSpPr>
            <p:spPr>
              <a:xfrm>
                <a:off x="1295280" y="3657600"/>
                <a:ext cx="1976400" cy="1969920"/>
              </a:xfrm>
              <a:custGeom>
                <a:avLst/>
                <a:gdLst/>
                <a:ahLst/>
                <a:rect l="l" t="t" r="r" b="b"/>
                <a:pathLst>
                  <a:path w="5496" h="5478">
                    <a:moveTo>
                      <a:pt x="0" y="915"/>
                    </a:moveTo>
                    <a:lnTo>
                      <a:pt x="382" y="915"/>
                    </a:lnTo>
                    <a:lnTo>
                      <a:pt x="382" y="458"/>
                    </a:lnTo>
                    <a:lnTo>
                      <a:pt x="762" y="458"/>
                    </a:lnTo>
                    <a:lnTo>
                      <a:pt x="762" y="0"/>
                    </a:lnTo>
                    <a:lnTo>
                      <a:pt x="5495" y="0"/>
                    </a:lnTo>
                    <a:lnTo>
                      <a:pt x="5495" y="3665"/>
                    </a:lnTo>
                    <a:lnTo>
                      <a:pt x="5113" y="3665"/>
                    </a:lnTo>
                    <a:lnTo>
                      <a:pt x="5113" y="4124"/>
                    </a:lnTo>
                    <a:lnTo>
                      <a:pt x="4733" y="4124"/>
                    </a:lnTo>
                    <a:lnTo>
                      <a:pt x="4733" y="4582"/>
                    </a:lnTo>
                    <a:cubicBezTo>
                      <a:pt x="2953" y="4553"/>
                      <a:pt x="2918" y="5302"/>
                      <a:pt x="1229" y="5477"/>
                    </a:cubicBezTo>
                    <a:cubicBezTo>
                      <a:pt x="623" y="5371"/>
                      <a:pt x="405" y="5287"/>
                      <a:pt x="0" y="5164"/>
                    </a:cubicBezTo>
                    <a:lnTo>
                      <a:pt x="0" y="915"/>
                    </a:ln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433160" y="3987360"/>
                <a:ext cx="1563840" cy="1156320"/>
              </a:xfrm>
              <a:custGeom>
                <a:avLst/>
                <a:gdLst/>
                <a:ahLst/>
                <a:rect l="l" t="t" r="r" b="b"/>
                <a:pathLst>
                  <a:path w="4350" h="3213">
                    <a:moveTo>
                      <a:pt x="0" y="0"/>
                    </a:moveTo>
                    <a:lnTo>
                      <a:pt x="4349" y="0"/>
                    </a:lnTo>
                    <a:lnTo>
                      <a:pt x="4349" y="32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569600" y="3822480"/>
                <a:ext cx="1565640" cy="1152720"/>
              </a:xfrm>
              <a:custGeom>
                <a:avLst/>
                <a:gdLst/>
                <a:ahLst/>
                <a:rect l="l" t="t" r="r" b="b"/>
                <a:pathLst>
                  <a:path w="4351" h="3208">
                    <a:moveTo>
                      <a:pt x="0" y="0"/>
                    </a:moveTo>
                    <a:lnTo>
                      <a:pt x="4350" y="0"/>
                    </a:lnTo>
                    <a:lnTo>
                      <a:pt x="4350" y="320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1295280" y="3987720"/>
              <a:ext cx="1703520" cy="1319400"/>
              <a:chOff x="1295280" y="3987720"/>
              <a:chExt cx="1703520" cy="1319400"/>
            </a:xfrm>
          </p:grpSpPr>
          <p:sp>
            <p:nvSpPr>
              <p:cNvPr id="791" name=""/>
              <p:cNvSpPr/>
              <p:nvPr/>
            </p:nvSpPr>
            <p:spPr>
              <a:xfrm>
                <a:off x="1295280" y="3987720"/>
                <a:ext cx="1703520" cy="1319400"/>
              </a:xfrm>
              <a:prstGeom prst="roundRect">
                <a:avLst>
                  <a:gd name="adj" fmla="val 11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295280" y="4064760"/>
                <a:ext cx="1703520" cy="116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ond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Jo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Queu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793" name=""/>
          <p:cNvCxnSpPr>
            <a:endCxn id="794" idx="1"/>
          </p:cNvCxnSpPr>
          <p:nvPr/>
        </p:nvCxnSpPr>
        <p:spPr>
          <a:xfrm flipH="1">
            <a:off x="4473360" y="3784680"/>
            <a:ext cx="894240" cy="4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95" name=""/>
          <p:cNvGrpSpPr/>
          <p:nvPr/>
        </p:nvGrpSpPr>
        <p:grpSpPr>
          <a:xfrm>
            <a:off x="5943600" y="4151160"/>
            <a:ext cx="366840" cy="433800"/>
            <a:chOff x="5943600" y="4151160"/>
            <a:chExt cx="366840" cy="433800"/>
          </a:xfrm>
        </p:grpSpPr>
        <p:sp>
          <p:nvSpPr>
            <p:cNvPr id="796" name=""/>
            <p:cNvSpPr/>
            <p:nvPr/>
          </p:nvSpPr>
          <p:spPr>
            <a:xfrm>
              <a:off x="5943600" y="4222800"/>
              <a:ext cx="366840" cy="291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5998680" y="4151160"/>
              <a:ext cx="257760" cy="433800"/>
              <a:chOff x="5998680" y="4151160"/>
              <a:chExt cx="257760" cy="433800"/>
            </a:xfrm>
          </p:grpSpPr>
          <p:sp>
            <p:nvSpPr>
              <p:cNvPr id="798" name=""/>
              <p:cNvSpPr/>
              <p:nvPr/>
            </p:nvSpPr>
            <p:spPr>
              <a:xfrm>
                <a:off x="5998680" y="4264920"/>
                <a:ext cx="257760" cy="205560"/>
              </a:xfrm>
              <a:prstGeom prst="roundRect">
                <a:avLst>
                  <a:gd name="adj" fmla="val 7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998680" y="4151160"/>
                <a:ext cx="2559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0" name=""/>
          <p:cNvGrpSpPr/>
          <p:nvPr/>
        </p:nvGrpSpPr>
        <p:grpSpPr>
          <a:xfrm>
            <a:off x="5181480" y="4913280"/>
            <a:ext cx="366840" cy="433800"/>
            <a:chOff x="5181480" y="4913280"/>
            <a:chExt cx="366840" cy="433800"/>
          </a:xfrm>
        </p:grpSpPr>
        <p:sp>
          <p:nvSpPr>
            <p:cNvPr id="801" name=""/>
            <p:cNvSpPr/>
            <p:nvPr/>
          </p:nvSpPr>
          <p:spPr>
            <a:xfrm>
              <a:off x="5181480" y="4983120"/>
              <a:ext cx="366840" cy="293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2" name=""/>
            <p:cNvGrpSpPr/>
            <p:nvPr/>
          </p:nvGrpSpPr>
          <p:grpSpPr>
            <a:xfrm>
              <a:off x="5236920" y="4913280"/>
              <a:ext cx="257400" cy="433800"/>
              <a:chOff x="5236920" y="4913280"/>
              <a:chExt cx="257400" cy="433800"/>
            </a:xfrm>
          </p:grpSpPr>
          <p:sp>
            <p:nvSpPr>
              <p:cNvPr id="803" name=""/>
              <p:cNvSpPr/>
              <p:nvPr/>
            </p:nvSpPr>
            <p:spPr>
              <a:xfrm>
                <a:off x="5236920" y="5027040"/>
                <a:ext cx="257400" cy="205560"/>
              </a:xfrm>
              <a:prstGeom prst="roundRect">
                <a:avLst>
                  <a:gd name="adj" fmla="val 7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36920" y="4913280"/>
                <a:ext cx="2556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805" name=""/>
          <p:cNvCxnSpPr>
            <a:endCxn id="796" idx="1"/>
          </p:cNvCxnSpPr>
          <p:nvPr/>
        </p:nvCxnSpPr>
        <p:spPr>
          <a:xfrm>
            <a:off x="5366880" y="3784680"/>
            <a:ext cx="631080" cy="48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6" name=""/>
          <p:cNvCxnSpPr>
            <a:stCxn id="796" idx="1"/>
            <a:endCxn id="801" idx="1"/>
          </p:cNvCxnSpPr>
          <p:nvPr/>
        </p:nvCxnSpPr>
        <p:spPr>
          <a:xfrm flipH="1">
            <a:off x="5233320" y="4265640"/>
            <a:ext cx="762840" cy="76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7" name=""/>
          <p:cNvCxnSpPr>
            <a:stCxn id="794" idx="1"/>
            <a:endCxn id="801" idx="1"/>
          </p:cNvCxnSpPr>
          <p:nvPr/>
        </p:nvCxnSpPr>
        <p:spPr>
          <a:xfrm>
            <a:off x="4473720" y="4249800"/>
            <a:ext cx="76248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08" name=""/>
          <p:cNvGrpSpPr/>
          <p:nvPr/>
        </p:nvGrpSpPr>
        <p:grpSpPr>
          <a:xfrm>
            <a:off x="5181480" y="3401640"/>
            <a:ext cx="378000" cy="433800"/>
            <a:chOff x="5181480" y="3401640"/>
            <a:chExt cx="378000" cy="433800"/>
          </a:xfrm>
        </p:grpSpPr>
        <p:sp>
          <p:nvSpPr>
            <p:cNvPr id="809" name=""/>
            <p:cNvSpPr/>
            <p:nvPr/>
          </p:nvSpPr>
          <p:spPr>
            <a:xfrm>
              <a:off x="5181480" y="3451320"/>
              <a:ext cx="378000" cy="334800"/>
            </a:xfrm>
            <a:prstGeom prst="ellipse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0" name=""/>
            <p:cNvGrpSpPr/>
            <p:nvPr/>
          </p:nvGrpSpPr>
          <p:grpSpPr>
            <a:xfrm>
              <a:off x="5238360" y="3401640"/>
              <a:ext cx="262440" cy="433800"/>
              <a:chOff x="5238360" y="3401640"/>
              <a:chExt cx="262440" cy="433800"/>
            </a:xfrm>
          </p:grpSpPr>
          <p:sp>
            <p:nvSpPr>
              <p:cNvPr id="811" name=""/>
              <p:cNvSpPr/>
              <p:nvPr/>
            </p:nvSpPr>
            <p:spPr>
              <a:xfrm>
                <a:off x="5238360" y="3499560"/>
                <a:ext cx="262440" cy="23400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238360" y="3401640"/>
                <a:ext cx="26064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"/>
          <p:cNvGrpSpPr/>
          <p:nvPr/>
        </p:nvGrpSpPr>
        <p:grpSpPr>
          <a:xfrm>
            <a:off x="4419720" y="4178520"/>
            <a:ext cx="366480" cy="377280"/>
            <a:chOff x="4419720" y="4178520"/>
            <a:chExt cx="366480" cy="377280"/>
          </a:xfrm>
        </p:grpSpPr>
        <p:sp>
          <p:nvSpPr>
            <p:cNvPr id="794" name=""/>
            <p:cNvSpPr/>
            <p:nvPr/>
          </p:nvSpPr>
          <p:spPr>
            <a:xfrm>
              <a:off x="4419720" y="4200480"/>
              <a:ext cx="366480" cy="333360"/>
            </a:xfrm>
            <a:prstGeom prst="ellipse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4" name=""/>
            <p:cNvGrpSpPr/>
            <p:nvPr/>
          </p:nvGrpSpPr>
          <p:grpSpPr>
            <a:xfrm>
              <a:off x="4474800" y="4178520"/>
              <a:ext cx="257400" cy="377280"/>
              <a:chOff x="4474800" y="4178520"/>
              <a:chExt cx="257400" cy="377280"/>
            </a:xfrm>
          </p:grpSpPr>
          <p:sp>
            <p:nvSpPr>
              <p:cNvPr id="815" name=""/>
              <p:cNvSpPr/>
              <p:nvPr/>
            </p:nvSpPr>
            <p:spPr>
              <a:xfrm>
                <a:off x="4474800" y="4249440"/>
                <a:ext cx="257400" cy="23328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474800" y="4178520"/>
                <a:ext cx="25416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7" name=""/>
          <p:cNvGrpSpPr/>
          <p:nvPr/>
        </p:nvGrpSpPr>
        <p:grpSpPr>
          <a:xfrm>
            <a:off x="7238880" y="3781440"/>
            <a:ext cx="1290600" cy="925200"/>
            <a:chOff x="7238880" y="3781440"/>
            <a:chExt cx="1290600" cy="925200"/>
          </a:xfrm>
        </p:grpSpPr>
        <p:grpSp>
          <p:nvGrpSpPr>
            <p:cNvPr id="818" name=""/>
            <p:cNvGrpSpPr/>
            <p:nvPr/>
          </p:nvGrpSpPr>
          <p:grpSpPr>
            <a:xfrm>
              <a:off x="7238880" y="3781440"/>
              <a:ext cx="1290600" cy="925200"/>
              <a:chOff x="7238880" y="3781440"/>
              <a:chExt cx="1290600" cy="925200"/>
            </a:xfrm>
          </p:grpSpPr>
          <p:sp>
            <p:nvSpPr>
              <p:cNvPr id="819" name=""/>
              <p:cNvSpPr/>
              <p:nvPr/>
            </p:nvSpPr>
            <p:spPr>
              <a:xfrm>
                <a:off x="7238880" y="3781440"/>
                <a:ext cx="1290600" cy="923760"/>
              </a:xfrm>
              <a:custGeom>
                <a:avLst/>
                <a:gdLst/>
                <a:ahLst/>
                <a:rect l="l" t="t" r="r" b="b"/>
                <a:pathLst>
                  <a:path w="3591" h="2576">
                    <a:moveTo>
                      <a:pt x="178" y="2575"/>
                    </a:moveTo>
                    <a:cubicBezTo>
                      <a:pt x="89" y="2575"/>
                      <a:pt x="0" y="2495"/>
                      <a:pt x="0" y="2415"/>
                    </a:cubicBezTo>
                    <a:cubicBezTo>
                      <a:pt x="0" y="2334"/>
                      <a:pt x="89" y="2254"/>
                      <a:pt x="178" y="2254"/>
                    </a:cubicBezTo>
                    <a:lnTo>
                      <a:pt x="357" y="2254"/>
                    </a:lnTo>
                    <a:lnTo>
                      <a:pt x="357" y="160"/>
                    </a:lnTo>
                    <a:cubicBezTo>
                      <a:pt x="357" y="81"/>
                      <a:pt x="445" y="0"/>
                      <a:pt x="533" y="0"/>
                    </a:cubicBezTo>
                    <a:lnTo>
                      <a:pt x="3412" y="0"/>
                    </a:lnTo>
                    <a:cubicBezTo>
                      <a:pt x="3501" y="0"/>
                      <a:pt x="3590" y="81"/>
                      <a:pt x="3590" y="160"/>
                    </a:cubicBezTo>
                    <a:cubicBezTo>
                      <a:pt x="3590" y="241"/>
                      <a:pt x="3501" y="322"/>
                      <a:pt x="3412" y="322"/>
                    </a:cubicBezTo>
                    <a:lnTo>
                      <a:pt x="3233" y="322"/>
                    </a:lnTo>
                    <a:lnTo>
                      <a:pt x="3233" y="2415"/>
                    </a:lnTo>
                    <a:cubicBezTo>
                      <a:pt x="3233" y="2495"/>
                      <a:pt x="3145" y="2575"/>
                      <a:pt x="3057" y="2575"/>
                    </a:cubicBezTo>
                    <a:lnTo>
                      <a:pt x="178" y="2575"/>
                    </a:lnTo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399080" y="3838320"/>
                <a:ext cx="96480" cy="58320"/>
              </a:xfrm>
              <a:custGeom>
                <a:avLst/>
                <a:gdLst/>
                <a:ahLst/>
                <a:rect l="l" t="t" r="r" b="b"/>
                <a:pathLst>
                  <a:path w="268" h="164">
                    <a:moveTo>
                      <a:pt x="267" y="0"/>
                    </a:moveTo>
                    <a:cubicBezTo>
                      <a:pt x="267" y="81"/>
                      <a:pt x="177" y="163"/>
                      <a:pt x="88" y="163"/>
                    </a:cubicBezTo>
                    <a:cubicBezTo>
                      <a:pt x="43" y="163"/>
                      <a:pt x="0" y="123"/>
                      <a:pt x="0" y="81"/>
                    </a:cubicBezTo>
                    <a:cubicBezTo>
                      <a:pt x="0" y="40"/>
                      <a:pt x="43" y="0"/>
                      <a:pt x="88" y="0"/>
                    </a:cubicBezTo>
                    <a:lnTo>
                      <a:pt x="267" y="0"/>
                    </a:lnTo>
                  </a:path>
                </a:pathLst>
              </a:custGeom>
              <a:solidFill>
                <a:srgbClr val="dba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238880" y="4591440"/>
                <a:ext cx="128520" cy="115200"/>
              </a:xfrm>
              <a:custGeom>
                <a:avLst/>
                <a:gdLst/>
                <a:ahLst/>
                <a:rect l="l" t="t" r="r" b="b"/>
                <a:pathLst>
                  <a:path w="358" h="322">
                    <a:moveTo>
                      <a:pt x="357" y="161"/>
                    </a:moveTo>
                    <a:cubicBezTo>
                      <a:pt x="357" y="241"/>
                      <a:pt x="267" y="321"/>
                      <a:pt x="178" y="321"/>
                    </a:cubicBezTo>
                    <a:cubicBezTo>
                      <a:pt x="89" y="321"/>
                      <a:pt x="0" y="241"/>
                      <a:pt x="0" y="161"/>
                    </a:cubicBezTo>
                    <a:cubicBezTo>
                      <a:pt x="0" y="80"/>
                      <a:pt x="89" y="0"/>
                      <a:pt x="178" y="0"/>
                    </a:cubicBezTo>
                    <a:cubicBezTo>
                      <a:pt x="222" y="0"/>
                      <a:pt x="267" y="40"/>
                      <a:pt x="267" y="81"/>
                    </a:cubicBezTo>
                    <a:cubicBezTo>
                      <a:pt x="267" y="121"/>
                      <a:pt x="222" y="161"/>
                      <a:pt x="178" y="161"/>
                    </a:cubicBezTo>
                    <a:lnTo>
                      <a:pt x="357" y="161"/>
                    </a:lnTo>
                  </a:path>
                </a:pathLst>
              </a:custGeom>
              <a:solidFill>
                <a:srgbClr val="dba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430760" y="3781440"/>
                <a:ext cx="64800" cy="58320"/>
              </a:xfrm>
              <a:custGeom>
                <a:avLst/>
                <a:gdLst/>
                <a:ahLst/>
                <a:rect l="l" t="t" r="r" b="b"/>
                <a:pathLst>
                  <a:path w="181" h="162">
                    <a:moveTo>
                      <a:pt x="0" y="0"/>
                    </a:moveTo>
                    <a:cubicBezTo>
                      <a:pt x="89" y="0"/>
                      <a:pt x="180" y="81"/>
                      <a:pt x="180" y="16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367400" y="4591440"/>
                <a:ext cx="108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430760" y="3896640"/>
                <a:ext cx="10332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7367760" y="3877200"/>
              <a:ext cx="1036440" cy="740520"/>
              <a:chOff x="7367760" y="3877200"/>
              <a:chExt cx="1036440" cy="740520"/>
            </a:xfrm>
          </p:grpSpPr>
          <p:sp>
            <p:nvSpPr>
              <p:cNvPr id="826" name=""/>
              <p:cNvSpPr/>
              <p:nvPr/>
            </p:nvSpPr>
            <p:spPr>
              <a:xfrm>
                <a:off x="7367760" y="3897360"/>
                <a:ext cx="1036440" cy="696960"/>
              </a:xfrm>
              <a:prstGeom prst="roundRect">
                <a:avLst>
                  <a:gd name="adj" fmla="val 22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367760" y="3877200"/>
                <a:ext cx="1036440" cy="74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Rescue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File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828" name=""/>
          <p:cNvCxnSpPr>
            <a:endCxn id="779" idx="3"/>
          </p:cNvCxnSpPr>
          <p:nvPr/>
        </p:nvCxnSpPr>
        <p:spPr>
          <a:xfrm flipH="1">
            <a:off x="6854040" y="4247640"/>
            <a:ext cx="384840" cy="94680"/>
          </a:xfrm>
          <a:prstGeom prst="straightConnector1">
            <a:avLst/>
          </a:prstGeom>
          <a:ln w="19080">
            <a:solidFill>
              <a:srgbClr val="3333cc"/>
            </a:solidFill>
            <a:prstDash val="lgDash"/>
            <a:miter/>
            <a:tailEnd len="med" type="triangle" w="med"/>
          </a:ln>
        </p:spPr>
      </p:cxnSp>
      <p:cxnSp>
        <p:nvCxnSpPr>
          <p:cNvPr id="829" name=""/>
          <p:cNvCxnSpPr>
            <a:stCxn id="796" idx="1"/>
            <a:endCxn id="830" idx="1"/>
          </p:cNvCxnSpPr>
          <p:nvPr/>
        </p:nvCxnSpPr>
        <p:spPr>
          <a:xfrm flipH="1">
            <a:off x="2567880" y="4265280"/>
            <a:ext cx="3429720" cy="608760"/>
          </a:xfrm>
          <a:prstGeom prst="straightConnector1">
            <a:avLst/>
          </a:prstGeom>
          <a:ln w="19080">
            <a:solidFill>
              <a:srgbClr val="3333cc"/>
            </a:solidFill>
            <a:prstDash val="lgDash"/>
            <a:miter/>
            <a:tailEnd len="med" type="triangle" w="med"/>
          </a:ln>
        </p:spPr>
      </p:cxnSp>
      <p:grpSp>
        <p:nvGrpSpPr>
          <p:cNvPr id="831" name=""/>
          <p:cNvGrpSpPr/>
          <p:nvPr/>
        </p:nvGrpSpPr>
        <p:grpSpPr>
          <a:xfrm>
            <a:off x="2514600" y="4760640"/>
            <a:ext cx="366840" cy="433800"/>
            <a:chOff x="2514600" y="4760640"/>
            <a:chExt cx="366840" cy="433800"/>
          </a:xfrm>
        </p:grpSpPr>
        <p:sp>
          <p:nvSpPr>
            <p:cNvPr id="830" name=""/>
            <p:cNvSpPr/>
            <p:nvPr/>
          </p:nvSpPr>
          <p:spPr>
            <a:xfrm>
              <a:off x="2514600" y="4830840"/>
              <a:ext cx="366840" cy="291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2" name=""/>
            <p:cNvGrpSpPr/>
            <p:nvPr/>
          </p:nvGrpSpPr>
          <p:grpSpPr>
            <a:xfrm>
              <a:off x="2569680" y="4760640"/>
              <a:ext cx="257760" cy="433800"/>
              <a:chOff x="2569680" y="4760640"/>
              <a:chExt cx="257760" cy="433800"/>
            </a:xfrm>
          </p:grpSpPr>
          <p:sp>
            <p:nvSpPr>
              <p:cNvPr id="833" name=""/>
              <p:cNvSpPr/>
              <p:nvPr/>
            </p:nvSpPr>
            <p:spPr>
              <a:xfrm>
                <a:off x="2569680" y="4872960"/>
                <a:ext cx="257760" cy="203760"/>
              </a:xfrm>
              <a:prstGeom prst="roundRect">
                <a:avLst>
                  <a:gd name="adj" fmla="val 77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2569680" y="4760640"/>
                <a:ext cx="2559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5" name=""/>
          <p:cNvGrpSpPr/>
          <p:nvPr/>
        </p:nvGrpSpPr>
        <p:grpSpPr>
          <a:xfrm>
            <a:off x="3733920" y="3276720"/>
            <a:ext cx="3119400" cy="2128680"/>
            <a:chOff x="3733920" y="3276720"/>
            <a:chExt cx="3119400" cy="2128680"/>
          </a:xfrm>
        </p:grpSpPr>
        <p:sp>
          <p:nvSpPr>
            <p:cNvPr id="836" name=""/>
            <p:cNvSpPr/>
            <p:nvPr/>
          </p:nvSpPr>
          <p:spPr>
            <a:xfrm>
              <a:off x="3733920" y="3276720"/>
              <a:ext cx="3119400" cy="2128680"/>
            </a:xfrm>
            <a:prstGeom prst="roundRect">
              <a:avLst>
                <a:gd name="adj" fmla="val 74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3733920" y="3276720"/>
              <a:ext cx="3116160" cy="2125440"/>
              <a:chOff x="3733920" y="3276720"/>
              <a:chExt cx="3116160" cy="2125440"/>
            </a:xfrm>
          </p:grpSpPr>
          <p:sp>
            <p:nvSpPr>
              <p:cNvPr id="838" name=""/>
              <p:cNvSpPr/>
              <p:nvPr/>
            </p:nvSpPr>
            <p:spPr>
              <a:xfrm>
                <a:off x="3733920" y="3276720"/>
                <a:ext cx="3116160" cy="2125440"/>
              </a:xfrm>
              <a:prstGeom prst="roundRect">
                <a:avLst>
                  <a:gd name="adj" fmla="val 7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733920" y="4968360"/>
                <a:ext cx="31161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AGM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ecovering a DAG (cont’d)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234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ce that job completes, DAGMan will continue the DAG as if the failure never happen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1295280" y="3657600"/>
            <a:ext cx="1976400" cy="1969920"/>
            <a:chOff x="1295280" y="3657600"/>
            <a:chExt cx="1976400" cy="1969920"/>
          </a:xfrm>
        </p:grpSpPr>
        <p:grpSp>
          <p:nvGrpSpPr>
            <p:cNvPr id="843" name=""/>
            <p:cNvGrpSpPr/>
            <p:nvPr/>
          </p:nvGrpSpPr>
          <p:grpSpPr>
            <a:xfrm>
              <a:off x="1295280" y="3657600"/>
              <a:ext cx="1976400" cy="1969920"/>
              <a:chOff x="1295280" y="3657600"/>
              <a:chExt cx="1976400" cy="1969920"/>
            </a:xfrm>
          </p:grpSpPr>
          <p:sp>
            <p:nvSpPr>
              <p:cNvPr id="844" name=""/>
              <p:cNvSpPr/>
              <p:nvPr/>
            </p:nvSpPr>
            <p:spPr>
              <a:xfrm>
                <a:off x="1295280" y="3657600"/>
                <a:ext cx="1976400" cy="1969920"/>
              </a:xfrm>
              <a:custGeom>
                <a:avLst/>
                <a:gdLst/>
                <a:ahLst/>
                <a:rect l="l" t="t" r="r" b="b"/>
                <a:pathLst>
                  <a:path w="5496" h="5478">
                    <a:moveTo>
                      <a:pt x="0" y="915"/>
                    </a:moveTo>
                    <a:lnTo>
                      <a:pt x="382" y="915"/>
                    </a:lnTo>
                    <a:lnTo>
                      <a:pt x="382" y="458"/>
                    </a:lnTo>
                    <a:lnTo>
                      <a:pt x="762" y="458"/>
                    </a:lnTo>
                    <a:lnTo>
                      <a:pt x="762" y="0"/>
                    </a:lnTo>
                    <a:lnTo>
                      <a:pt x="5495" y="0"/>
                    </a:lnTo>
                    <a:lnTo>
                      <a:pt x="5495" y="3665"/>
                    </a:lnTo>
                    <a:lnTo>
                      <a:pt x="5113" y="3665"/>
                    </a:lnTo>
                    <a:lnTo>
                      <a:pt x="5113" y="4124"/>
                    </a:lnTo>
                    <a:lnTo>
                      <a:pt x="4733" y="4124"/>
                    </a:lnTo>
                    <a:lnTo>
                      <a:pt x="4733" y="4582"/>
                    </a:lnTo>
                    <a:cubicBezTo>
                      <a:pt x="2953" y="4553"/>
                      <a:pt x="2918" y="5302"/>
                      <a:pt x="1229" y="5477"/>
                    </a:cubicBezTo>
                    <a:cubicBezTo>
                      <a:pt x="623" y="5371"/>
                      <a:pt x="405" y="5287"/>
                      <a:pt x="0" y="5164"/>
                    </a:cubicBezTo>
                    <a:lnTo>
                      <a:pt x="0" y="915"/>
                    </a:ln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433160" y="3987360"/>
                <a:ext cx="1563840" cy="1156320"/>
              </a:xfrm>
              <a:custGeom>
                <a:avLst/>
                <a:gdLst/>
                <a:ahLst/>
                <a:rect l="l" t="t" r="r" b="b"/>
                <a:pathLst>
                  <a:path w="4350" h="3213">
                    <a:moveTo>
                      <a:pt x="0" y="0"/>
                    </a:moveTo>
                    <a:lnTo>
                      <a:pt x="4349" y="0"/>
                    </a:lnTo>
                    <a:lnTo>
                      <a:pt x="4349" y="32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569600" y="3822480"/>
                <a:ext cx="1565640" cy="1152720"/>
              </a:xfrm>
              <a:custGeom>
                <a:avLst/>
                <a:gdLst/>
                <a:ahLst/>
                <a:rect l="l" t="t" r="r" b="b"/>
                <a:pathLst>
                  <a:path w="4351" h="3208">
                    <a:moveTo>
                      <a:pt x="0" y="0"/>
                    </a:moveTo>
                    <a:lnTo>
                      <a:pt x="4350" y="0"/>
                    </a:lnTo>
                    <a:lnTo>
                      <a:pt x="4350" y="320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1295280" y="3987720"/>
              <a:ext cx="1703520" cy="1319400"/>
              <a:chOff x="1295280" y="3987720"/>
              <a:chExt cx="1703520" cy="1319400"/>
            </a:xfrm>
          </p:grpSpPr>
          <p:sp>
            <p:nvSpPr>
              <p:cNvPr id="848" name=""/>
              <p:cNvSpPr/>
              <p:nvPr/>
            </p:nvSpPr>
            <p:spPr>
              <a:xfrm>
                <a:off x="1295280" y="3987720"/>
                <a:ext cx="1703520" cy="1319400"/>
              </a:xfrm>
              <a:prstGeom prst="roundRect">
                <a:avLst>
                  <a:gd name="adj" fmla="val 11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295280" y="4064760"/>
                <a:ext cx="1703520" cy="116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ond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Jo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Queu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850" name=""/>
          <p:cNvCxnSpPr>
            <a:endCxn id="851" idx="1"/>
          </p:cNvCxnSpPr>
          <p:nvPr/>
        </p:nvCxnSpPr>
        <p:spPr>
          <a:xfrm flipH="1">
            <a:off x="4473360" y="3784680"/>
            <a:ext cx="894240" cy="4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52" name=""/>
          <p:cNvGrpSpPr/>
          <p:nvPr/>
        </p:nvGrpSpPr>
        <p:grpSpPr>
          <a:xfrm>
            <a:off x="5943600" y="4178520"/>
            <a:ext cx="366840" cy="377280"/>
            <a:chOff x="5943600" y="4178520"/>
            <a:chExt cx="366840" cy="377280"/>
          </a:xfrm>
        </p:grpSpPr>
        <p:sp>
          <p:nvSpPr>
            <p:cNvPr id="853" name=""/>
            <p:cNvSpPr/>
            <p:nvPr/>
          </p:nvSpPr>
          <p:spPr>
            <a:xfrm>
              <a:off x="5943600" y="4200480"/>
              <a:ext cx="366840" cy="333360"/>
            </a:xfrm>
            <a:prstGeom prst="ellipse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4" name=""/>
            <p:cNvGrpSpPr/>
            <p:nvPr/>
          </p:nvGrpSpPr>
          <p:grpSpPr>
            <a:xfrm>
              <a:off x="5998680" y="4178520"/>
              <a:ext cx="257760" cy="377280"/>
              <a:chOff x="5998680" y="4178520"/>
              <a:chExt cx="257760" cy="377280"/>
            </a:xfrm>
          </p:grpSpPr>
          <p:sp>
            <p:nvSpPr>
              <p:cNvPr id="855" name=""/>
              <p:cNvSpPr/>
              <p:nvPr/>
            </p:nvSpPr>
            <p:spPr>
              <a:xfrm>
                <a:off x="5998680" y="4249440"/>
                <a:ext cx="257760" cy="23328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998680" y="4178520"/>
                <a:ext cx="25596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5181480" y="4913280"/>
            <a:ext cx="366840" cy="433800"/>
            <a:chOff x="5181480" y="4913280"/>
            <a:chExt cx="366840" cy="433800"/>
          </a:xfrm>
        </p:grpSpPr>
        <p:sp>
          <p:nvSpPr>
            <p:cNvPr id="858" name=""/>
            <p:cNvSpPr/>
            <p:nvPr/>
          </p:nvSpPr>
          <p:spPr>
            <a:xfrm>
              <a:off x="5181480" y="4983120"/>
              <a:ext cx="366840" cy="293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9" name=""/>
            <p:cNvGrpSpPr/>
            <p:nvPr/>
          </p:nvGrpSpPr>
          <p:grpSpPr>
            <a:xfrm>
              <a:off x="5236920" y="4913280"/>
              <a:ext cx="257400" cy="433800"/>
              <a:chOff x="5236920" y="4913280"/>
              <a:chExt cx="257400" cy="433800"/>
            </a:xfrm>
          </p:grpSpPr>
          <p:sp>
            <p:nvSpPr>
              <p:cNvPr id="860" name=""/>
              <p:cNvSpPr/>
              <p:nvPr/>
            </p:nvSpPr>
            <p:spPr>
              <a:xfrm>
                <a:off x="5236920" y="5027040"/>
                <a:ext cx="257400" cy="205560"/>
              </a:xfrm>
              <a:prstGeom prst="roundRect">
                <a:avLst>
                  <a:gd name="adj" fmla="val 7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236920" y="4913280"/>
                <a:ext cx="2556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862" name=""/>
          <p:cNvCxnSpPr>
            <a:endCxn id="853" idx="1"/>
          </p:cNvCxnSpPr>
          <p:nvPr/>
        </p:nvCxnSpPr>
        <p:spPr>
          <a:xfrm>
            <a:off x="5366880" y="3784680"/>
            <a:ext cx="631080" cy="4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3" name=""/>
          <p:cNvCxnSpPr>
            <a:stCxn id="853" idx="1"/>
            <a:endCxn id="858" idx="1"/>
          </p:cNvCxnSpPr>
          <p:nvPr/>
        </p:nvCxnSpPr>
        <p:spPr>
          <a:xfrm flipH="1">
            <a:off x="5233320" y="4249800"/>
            <a:ext cx="76284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4" name=""/>
          <p:cNvCxnSpPr>
            <a:stCxn id="851" idx="1"/>
            <a:endCxn id="858" idx="1"/>
          </p:cNvCxnSpPr>
          <p:nvPr/>
        </p:nvCxnSpPr>
        <p:spPr>
          <a:xfrm>
            <a:off x="4473720" y="4249800"/>
            <a:ext cx="76248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65" name=""/>
          <p:cNvGrpSpPr/>
          <p:nvPr/>
        </p:nvGrpSpPr>
        <p:grpSpPr>
          <a:xfrm>
            <a:off x="5181480" y="3401640"/>
            <a:ext cx="378000" cy="433800"/>
            <a:chOff x="5181480" y="3401640"/>
            <a:chExt cx="378000" cy="433800"/>
          </a:xfrm>
        </p:grpSpPr>
        <p:sp>
          <p:nvSpPr>
            <p:cNvPr id="866" name=""/>
            <p:cNvSpPr/>
            <p:nvPr/>
          </p:nvSpPr>
          <p:spPr>
            <a:xfrm>
              <a:off x="5181480" y="3451320"/>
              <a:ext cx="378000" cy="334800"/>
            </a:xfrm>
            <a:prstGeom prst="ellipse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7" name=""/>
            <p:cNvGrpSpPr/>
            <p:nvPr/>
          </p:nvGrpSpPr>
          <p:grpSpPr>
            <a:xfrm>
              <a:off x="5238360" y="3401640"/>
              <a:ext cx="262440" cy="433800"/>
              <a:chOff x="5238360" y="3401640"/>
              <a:chExt cx="262440" cy="433800"/>
            </a:xfrm>
          </p:grpSpPr>
          <p:sp>
            <p:nvSpPr>
              <p:cNvPr id="868" name=""/>
              <p:cNvSpPr/>
              <p:nvPr/>
            </p:nvSpPr>
            <p:spPr>
              <a:xfrm>
                <a:off x="5238360" y="3499560"/>
                <a:ext cx="262440" cy="23400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238360" y="3401640"/>
                <a:ext cx="26064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0" name=""/>
          <p:cNvGrpSpPr/>
          <p:nvPr/>
        </p:nvGrpSpPr>
        <p:grpSpPr>
          <a:xfrm>
            <a:off x="4419720" y="4178520"/>
            <a:ext cx="366480" cy="377280"/>
            <a:chOff x="4419720" y="4178520"/>
            <a:chExt cx="366480" cy="377280"/>
          </a:xfrm>
        </p:grpSpPr>
        <p:sp>
          <p:nvSpPr>
            <p:cNvPr id="851" name=""/>
            <p:cNvSpPr/>
            <p:nvPr/>
          </p:nvSpPr>
          <p:spPr>
            <a:xfrm>
              <a:off x="4419720" y="4200480"/>
              <a:ext cx="366480" cy="333360"/>
            </a:xfrm>
            <a:prstGeom prst="ellipse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1" name=""/>
            <p:cNvGrpSpPr/>
            <p:nvPr/>
          </p:nvGrpSpPr>
          <p:grpSpPr>
            <a:xfrm>
              <a:off x="4474800" y="4178520"/>
              <a:ext cx="257400" cy="377280"/>
              <a:chOff x="4474800" y="4178520"/>
              <a:chExt cx="257400" cy="377280"/>
            </a:xfrm>
          </p:grpSpPr>
          <p:sp>
            <p:nvSpPr>
              <p:cNvPr id="872" name=""/>
              <p:cNvSpPr/>
              <p:nvPr/>
            </p:nvSpPr>
            <p:spPr>
              <a:xfrm>
                <a:off x="4474800" y="4249440"/>
                <a:ext cx="257400" cy="23328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474800" y="4178520"/>
                <a:ext cx="25416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874" name=""/>
          <p:cNvCxnSpPr>
            <a:stCxn id="858" idx="1"/>
            <a:endCxn id="875" idx="1"/>
          </p:cNvCxnSpPr>
          <p:nvPr/>
        </p:nvCxnSpPr>
        <p:spPr>
          <a:xfrm flipH="1" flipV="1">
            <a:off x="2568240" y="4872960"/>
            <a:ext cx="2666160" cy="153000"/>
          </a:xfrm>
          <a:prstGeom prst="straightConnector1">
            <a:avLst/>
          </a:prstGeom>
          <a:ln w="19080">
            <a:solidFill>
              <a:srgbClr val="3333cc"/>
            </a:solidFill>
            <a:prstDash val="lgDash"/>
            <a:miter/>
            <a:tailEnd len="med" type="triangle" w="med"/>
          </a:ln>
        </p:spPr>
      </p:cxnSp>
      <p:grpSp>
        <p:nvGrpSpPr>
          <p:cNvPr id="876" name=""/>
          <p:cNvGrpSpPr/>
          <p:nvPr/>
        </p:nvGrpSpPr>
        <p:grpSpPr>
          <a:xfrm>
            <a:off x="2514600" y="4760640"/>
            <a:ext cx="366840" cy="433800"/>
            <a:chOff x="2514600" y="4760640"/>
            <a:chExt cx="366840" cy="433800"/>
          </a:xfrm>
        </p:grpSpPr>
        <p:sp>
          <p:nvSpPr>
            <p:cNvPr id="875" name=""/>
            <p:cNvSpPr/>
            <p:nvPr/>
          </p:nvSpPr>
          <p:spPr>
            <a:xfrm>
              <a:off x="2514600" y="4830840"/>
              <a:ext cx="366840" cy="291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"/>
            <p:cNvGrpSpPr/>
            <p:nvPr/>
          </p:nvGrpSpPr>
          <p:grpSpPr>
            <a:xfrm>
              <a:off x="2569680" y="4760640"/>
              <a:ext cx="257760" cy="433800"/>
              <a:chOff x="2569680" y="4760640"/>
              <a:chExt cx="257760" cy="433800"/>
            </a:xfrm>
          </p:grpSpPr>
          <p:sp>
            <p:nvSpPr>
              <p:cNvPr id="878" name=""/>
              <p:cNvSpPr/>
              <p:nvPr/>
            </p:nvSpPr>
            <p:spPr>
              <a:xfrm>
                <a:off x="2569680" y="4872960"/>
                <a:ext cx="257760" cy="203760"/>
              </a:xfrm>
              <a:prstGeom prst="roundRect">
                <a:avLst>
                  <a:gd name="adj" fmla="val 77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569680" y="4760640"/>
                <a:ext cx="2559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0" name=""/>
          <p:cNvGrpSpPr/>
          <p:nvPr/>
        </p:nvGrpSpPr>
        <p:grpSpPr>
          <a:xfrm>
            <a:off x="3733920" y="3276720"/>
            <a:ext cx="3119400" cy="2128680"/>
            <a:chOff x="3733920" y="3276720"/>
            <a:chExt cx="3119400" cy="2128680"/>
          </a:xfrm>
        </p:grpSpPr>
        <p:sp>
          <p:nvSpPr>
            <p:cNvPr id="881" name=""/>
            <p:cNvSpPr/>
            <p:nvPr/>
          </p:nvSpPr>
          <p:spPr>
            <a:xfrm>
              <a:off x="3733920" y="3276720"/>
              <a:ext cx="3119400" cy="2128680"/>
            </a:xfrm>
            <a:prstGeom prst="roundRect">
              <a:avLst>
                <a:gd name="adj" fmla="val 74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2" name=""/>
            <p:cNvGrpSpPr/>
            <p:nvPr/>
          </p:nvGrpSpPr>
          <p:grpSpPr>
            <a:xfrm>
              <a:off x="3733920" y="3276720"/>
              <a:ext cx="3116160" cy="2125440"/>
              <a:chOff x="3733920" y="3276720"/>
              <a:chExt cx="3116160" cy="2125440"/>
            </a:xfrm>
          </p:grpSpPr>
          <p:sp>
            <p:nvSpPr>
              <p:cNvPr id="883" name=""/>
              <p:cNvSpPr/>
              <p:nvPr/>
            </p:nvSpPr>
            <p:spPr>
              <a:xfrm>
                <a:off x="3733920" y="3276720"/>
                <a:ext cx="3116160" cy="2125440"/>
              </a:xfrm>
              <a:prstGeom prst="roundRect">
                <a:avLst>
                  <a:gd name="adj" fmla="val 7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733920" y="4968360"/>
                <a:ext cx="31161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AGM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Finishing a DAG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234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ce the DAG is complete, the DAGMan job itself is finished, and exi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295280" y="3657600"/>
            <a:ext cx="1976400" cy="1969920"/>
            <a:chOff x="1295280" y="3657600"/>
            <a:chExt cx="1976400" cy="1969920"/>
          </a:xfrm>
        </p:grpSpPr>
        <p:grpSp>
          <p:nvGrpSpPr>
            <p:cNvPr id="888" name=""/>
            <p:cNvGrpSpPr/>
            <p:nvPr/>
          </p:nvGrpSpPr>
          <p:grpSpPr>
            <a:xfrm>
              <a:off x="1295280" y="3657600"/>
              <a:ext cx="1976400" cy="1969920"/>
              <a:chOff x="1295280" y="3657600"/>
              <a:chExt cx="1976400" cy="1969920"/>
            </a:xfrm>
          </p:grpSpPr>
          <p:sp>
            <p:nvSpPr>
              <p:cNvPr id="889" name=""/>
              <p:cNvSpPr/>
              <p:nvPr/>
            </p:nvSpPr>
            <p:spPr>
              <a:xfrm>
                <a:off x="1295280" y="3657600"/>
                <a:ext cx="1976400" cy="1969920"/>
              </a:xfrm>
              <a:custGeom>
                <a:avLst/>
                <a:gdLst/>
                <a:ahLst/>
                <a:rect l="l" t="t" r="r" b="b"/>
                <a:pathLst>
                  <a:path w="5496" h="5478">
                    <a:moveTo>
                      <a:pt x="0" y="915"/>
                    </a:moveTo>
                    <a:lnTo>
                      <a:pt x="382" y="915"/>
                    </a:lnTo>
                    <a:lnTo>
                      <a:pt x="382" y="458"/>
                    </a:lnTo>
                    <a:lnTo>
                      <a:pt x="762" y="458"/>
                    </a:lnTo>
                    <a:lnTo>
                      <a:pt x="762" y="0"/>
                    </a:lnTo>
                    <a:lnTo>
                      <a:pt x="5495" y="0"/>
                    </a:lnTo>
                    <a:lnTo>
                      <a:pt x="5495" y="3665"/>
                    </a:lnTo>
                    <a:lnTo>
                      <a:pt x="5113" y="3665"/>
                    </a:lnTo>
                    <a:lnTo>
                      <a:pt x="5113" y="4124"/>
                    </a:lnTo>
                    <a:lnTo>
                      <a:pt x="4733" y="4124"/>
                    </a:lnTo>
                    <a:lnTo>
                      <a:pt x="4733" y="4582"/>
                    </a:lnTo>
                    <a:cubicBezTo>
                      <a:pt x="2953" y="4553"/>
                      <a:pt x="2918" y="5302"/>
                      <a:pt x="1229" y="5477"/>
                    </a:cubicBezTo>
                    <a:cubicBezTo>
                      <a:pt x="623" y="5371"/>
                      <a:pt x="405" y="5287"/>
                      <a:pt x="0" y="5164"/>
                    </a:cubicBezTo>
                    <a:lnTo>
                      <a:pt x="0" y="915"/>
                    </a:ln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433160" y="3987360"/>
                <a:ext cx="1563840" cy="1156320"/>
              </a:xfrm>
              <a:custGeom>
                <a:avLst/>
                <a:gdLst/>
                <a:ahLst/>
                <a:rect l="l" t="t" r="r" b="b"/>
                <a:pathLst>
                  <a:path w="4350" h="3213">
                    <a:moveTo>
                      <a:pt x="0" y="0"/>
                    </a:moveTo>
                    <a:lnTo>
                      <a:pt x="4349" y="0"/>
                    </a:lnTo>
                    <a:lnTo>
                      <a:pt x="4349" y="32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569600" y="3822480"/>
                <a:ext cx="1565640" cy="1152720"/>
              </a:xfrm>
              <a:custGeom>
                <a:avLst/>
                <a:gdLst/>
                <a:ahLst/>
                <a:rect l="l" t="t" r="r" b="b"/>
                <a:pathLst>
                  <a:path w="4351" h="3208">
                    <a:moveTo>
                      <a:pt x="0" y="0"/>
                    </a:moveTo>
                    <a:lnTo>
                      <a:pt x="4350" y="0"/>
                    </a:lnTo>
                    <a:lnTo>
                      <a:pt x="4350" y="320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"/>
            <p:cNvGrpSpPr/>
            <p:nvPr/>
          </p:nvGrpSpPr>
          <p:grpSpPr>
            <a:xfrm>
              <a:off x="1295280" y="3987720"/>
              <a:ext cx="1703520" cy="1319400"/>
              <a:chOff x="1295280" y="3987720"/>
              <a:chExt cx="1703520" cy="1319400"/>
            </a:xfrm>
          </p:grpSpPr>
          <p:sp>
            <p:nvSpPr>
              <p:cNvPr id="893" name=""/>
              <p:cNvSpPr/>
              <p:nvPr/>
            </p:nvSpPr>
            <p:spPr>
              <a:xfrm>
                <a:off x="1295280" y="3987720"/>
                <a:ext cx="1703520" cy="1319400"/>
              </a:xfrm>
              <a:prstGeom prst="roundRect">
                <a:avLst>
                  <a:gd name="adj" fmla="val 11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295280" y="4064760"/>
                <a:ext cx="1703520" cy="116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ond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Jo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Queu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895" name=""/>
          <p:cNvCxnSpPr>
            <a:endCxn id="896" idx="1"/>
          </p:cNvCxnSpPr>
          <p:nvPr/>
        </p:nvCxnSpPr>
        <p:spPr>
          <a:xfrm flipH="1">
            <a:off x="4473360" y="3784680"/>
            <a:ext cx="894240" cy="4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97" name=""/>
          <p:cNvGrpSpPr/>
          <p:nvPr/>
        </p:nvGrpSpPr>
        <p:grpSpPr>
          <a:xfrm>
            <a:off x="5943600" y="4178520"/>
            <a:ext cx="366840" cy="377280"/>
            <a:chOff x="5943600" y="4178520"/>
            <a:chExt cx="366840" cy="377280"/>
          </a:xfrm>
        </p:grpSpPr>
        <p:sp>
          <p:nvSpPr>
            <p:cNvPr id="898" name=""/>
            <p:cNvSpPr/>
            <p:nvPr/>
          </p:nvSpPr>
          <p:spPr>
            <a:xfrm>
              <a:off x="5943600" y="4200480"/>
              <a:ext cx="366840" cy="333360"/>
            </a:xfrm>
            <a:prstGeom prst="ellipse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9" name=""/>
            <p:cNvGrpSpPr/>
            <p:nvPr/>
          </p:nvGrpSpPr>
          <p:grpSpPr>
            <a:xfrm>
              <a:off x="5998680" y="4178520"/>
              <a:ext cx="257760" cy="377280"/>
              <a:chOff x="5998680" y="4178520"/>
              <a:chExt cx="257760" cy="377280"/>
            </a:xfrm>
          </p:grpSpPr>
          <p:sp>
            <p:nvSpPr>
              <p:cNvPr id="900" name=""/>
              <p:cNvSpPr/>
              <p:nvPr/>
            </p:nvSpPr>
            <p:spPr>
              <a:xfrm>
                <a:off x="5998680" y="4249440"/>
                <a:ext cx="257760" cy="23328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998680" y="4178520"/>
                <a:ext cx="25596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2" name=""/>
          <p:cNvGrpSpPr/>
          <p:nvPr/>
        </p:nvGrpSpPr>
        <p:grpSpPr>
          <a:xfrm>
            <a:off x="5181480" y="4940640"/>
            <a:ext cx="366840" cy="377280"/>
            <a:chOff x="5181480" y="4940640"/>
            <a:chExt cx="366840" cy="377280"/>
          </a:xfrm>
        </p:grpSpPr>
        <p:sp>
          <p:nvSpPr>
            <p:cNvPr id="903" name=""/>
            <p:cNvSpPr/>
            <p:nvPr/>
          </p:nvSpPr>
          <p:spPr>
            <a:xfrm>
              <a:off x="5181480" y="4962600"/>
              <a:ext cx="366840" cy="336600"/>
            </a:xfrm>
            <a:prstGeom prst="ellipse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4" name=""/>
            <p:cNvGrpSpPr/>
            <p:nvPr/>
          </p:nvGrpSpPr>
          <p:grpSpPr>
            <a:xfrm>
              <a:off x="5236920" y="4940640"/>
              <a:ext cx="257400" cy="377280"/>
              <a:chOff x="5236920" y="4940640"/>
              <a:chExt cx="257400" cy="377280"/>
            </a:xfrm>
          </p:grpSpPr>
          <p:sp>
            <p:nvSpPr>
              <p:cNvPr id="905" name=""/>
              <p:cNvSpPr/>
              <p:nvPr/>
            </p:nvSpPr>
            <p:spPr>
              <a:xfrm>
                <a:off x="5236920" y="5011200"/>
                <a:ext cx="257400" cy="23544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236920" y="4940640"/>
                <a:ext cx="25560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907" name=""/>
          <p:cNvCxnSpPr>
            <a:endCxn id="898" idx="1"/>
          </p:cNvCxnSpPr>
          <p:nvPr/>
        </p:nvCxnSpPr>
        <p:spPr>
          <a:xfrm>
            <a:off x="5366880" y="3784680"/>
            <a:ext cx="631080" cy="4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8" name=""/>
          <p:cNvCxnSpPr>
            <a:stCxn id="898" idx="1"/>
            <a:endCxn id="903" idx="1"/>
          </p:cNvCxnSpPr>
          <p:nvPr/>
        </p:nvCxnSpPr>
        <p:spPr>
          <a:xfrm flipH="1">
            <a:off x="5233320" y="4249800"/>
            <a:ext cx="76284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9" name=""/>
          <p:cNvCxnSpPr>
            <a:stCxn id="896" idx="1"/>
            <a:endCxn id="903" idx="1"/>
          </p:cNvCxnSpPr>
          <p:nvPr/>
        </p:nvCxnSpPr>
        <p:spPr>
          <a:xfrm>
            <a:off x="4473720" y="4249800"/>
            <a:ext cx="76248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910" name=""/>
          <p:cNvGrpSpPr/>
          <p:nvPr/>
        </p:nvGrpSpPr>
        <p:grpSpPr>
          <a:xfrm>
            <a:off x="5181480" y="3401640"/>
            <a:ext cx="378000" cy="433800"/>
            <a:chOff x="5181480" y="3401640"/>
            <a:chExt cx="378000" cy="433800"/>
          </a:xfrm>
        </p:grpSpPr>
        <p:sp>
          <p:nvSpPr>
            <p:cNvPr id="911" name=""/>
            <p:cNvSpPr/>
            <p:nvPr/>
          </p:nvSpPr>
          <p:spPr>
            <a:xfrm>
              <a:off x="5181480" y="3451320"/>
              <a:ext cx="378000" cy="334800"/>
            </a:xfrm>
            <a:prstGeom prst="ellipse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2" name=""/>
            <p:cNvGrpSpPr/>
            <p:nvPr/>
          </p:nvGrpSpPr>
          <p:grpSpPr>
            <a:xfrm>
              <a:off x="5238360" y="3401640"/>
              <a:ext cx="262440" cy="433800"/>
              <a:chOff x="5238360" y="3401640"/>
              <a:chExt cx="262440" cy="433800"/>
            </a:xfrm>
          </p:grpSpPr>
          <p:sp>
            <p:nvSpPr>
              <p:cNvPr id="913" name=""/>
              <p:cNvSpPr/>
              <p:nvPr/>
            </p:nvSpPr>
            <p:spPr>
              <a:xfrm>
                <a:off x="5238360" y="3499560"/>
                <a:ext cx="262440" cy="23400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238360" y="3401640"/>
                <a:ext cx="26064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5" name=""/>
          <p:cNvGrpSpPr/>
          <p:nvPr/>
        </p:nvGrpSpPr>
        <p:grpSpPr>
          <a:xfrm>
            <a:off x="4419720" y="4178520"/>
            <a:ext cx="366480" cy="377280"/>
            <a:chOff x="4419720" y="4178520"/>
            <a:chExt cx="366480" cy="377280"/>
          </a:xfrm>
        </p:grpSpPr>
        <p:sp>
          <p:nvSpPr>
            <p:cNvPr id="896" name=""/>
            <p:cNvSpPr/>
            <p:nvPr/>
          </p:nvSpPr>
          <p:spPr>
            <a:xfrm>
              <a:off x="4419720" y="4200480"/>
              <a:ext cx="366480" cy="333360"/>
            </a:xfrm>
            <a:prstGeom prst="ellipse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6" name=""/>
            <p:cNvGrpSpPr/>
            <p:nvPr/>
          </p:nvGrpSpPr>
          <p:grpSpPr>
            <a:xfrm>
              <a:off x="4474800" y="4178520"/>
              <a:ext cx="257400" cy="377280"/>
              <a:chOff x="4474800" y="4178520"/>
              <a:chExt cx="257400" cy="377280"/>
            </a:xfrm>
          </p:grpSpPr>
          <p:sp>
            <p:nvSpPr>
              <p:cNvPr id="917" name=""/>
              <p:cNvSpPr/>
              <p:nvPr/>
            </p:nvSpPr>
            <p:spPr>
              <a:xfrm>
                <a:off x="4474800" y="4249440"/>
                <a:ext cx="257400" cy="23328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474800" y="4178520"/>
                <a:ext cx="25416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DAGMan &amp; Log File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each job, Condor generates a log fi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GMan reads this log to see what has happen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DAGMan dies (crash, power failure, etc…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dor will restart DAGM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GMan re-reads log f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GMan knows everything it needs to kn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Advanced DAGMan Trick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rottles and degenerative DAG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ursive DAGs: Loops and mo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 and Post scripts: editing your DA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6840" y="295200"/>
            <a:ext cx="82342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Throttle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6840" y="1047600"/>
            <a:ext cx="823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iled nodes can be automatically re-tried a configurable number of tim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retry N tim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retry N times, unless a node returns specific exit co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rottles to control job submiss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x jobs submit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x scripts runn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bmit DAG with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00,000 nod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dependenc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DAGMan to throttle the job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dor is scalable, but it will have problems if you submit 200,000 jobs simultaneous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GMan can help you get scalability even if you don’t have dependenc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Degenerative DAG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5234040" y="1893960"/>
            <a:ext cx="492120" cy="527040"/>
            <a:chOff x="5234040" y="1893960"/>
            <a:chExt cx="492120" cy="527040"/>
          </a:xfrm>
        </p:grpSpPr>
        <p:sp>
          <p:nvSpPr>
            <p:cNvPr id="928" name=""/>
            <p:cNvSpPr/>
            <p:nvPr/>
          </p:nvSpPr>
          <p:spPr>
            <a:xfrm>
              <a:off x="5234040" y="1895400"/>
              <a:ext cx="492120" cy="491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261400" y="1893960"/>
              <a:ext cx="42768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5910120" y="1893960"/>
            <a:ext cx="492120" cy="527040"/>
            <a:chOff x="5910120" y="1893960"/>
            <a:chExt cx="492120" cy="527040"/>
          </a:xfrm>
        </p:grpSpPr>
        <p:sp>
          <p:nvSpPr>
            <p:cNvPr id="931" name=""/>
            <p:cNvSpPr/>
            <p:nvPr/>
          </p:nvSpPr>
          <p:spPr>
            <a:xfrm>
              <a:off x="5910120" y="1895400"/>
              <a:ext cx="492120" cy="491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937480" y="1893960"/>
              <a:ext cx="42768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6568920" y="1901880"/>
            <a:ext cx="492120" cy="527040"/>
            <a:chOff x="6568920" y="1901880"/>
            <a:chExt cx="492120" cy="527040"/>
          </a:xfrm>
        </p:grpSpPr>
        <p:sp>
          <p:nvSpPr>
            <p:cNvPr id="934" name=""/>
            <p:cNvSpPr/>
            <p:nvPr/>
          </p:nvSpPr>
          <p:spPr>
            <a:xfrm>
              <a:off x="6568920" y="1903320"/>
              <a:ext cx="492120" cy="491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596280" y="1901880"/>
              <a:ext cx="42768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7174800" y="1819440"/>
            <a:ext cx="39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ecursive DAG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082520"/>
            <a:ext cx="8229600" cy="46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a: any given DAG node can be a script that do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Comic Sans MS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deci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Comic Sans MS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eate DAG f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Comic Sans MS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l condor_submit_da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Comic Sans MS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it for DAG to ex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G node will not complete until recursive DAG finishe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ement a fixed-length loo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ify behavior on the f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ain Roy</cp:lastModifiedBy>
  <dcterms:modified xsi:type="dcterms:W3CDTF">2005-07-14T12:31:21Z</dcterms:modified>
  <cp:revision>73</cp:revision>
  <dc:subject/>
  <dc:title>Using Condor  An Introduction  Condor Week 2004</dc:title>
</cp:coreProperties>
</file>