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380628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80628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080" y="380628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380628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6240" y="380628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7560" y="380628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80628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17080" y="380628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80628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80628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80628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17080" y="380628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6240" y="121932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7560" y="121932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80628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6240" y="380628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7560" y="3806280"/>
            <a:ext cx="277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960" y="228240"/>
            <a:ext cx="7086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380628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080" y="380628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219320"/>
            <a:ext cx="42015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3806280"/>
            <a:ext cx="8610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73152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3a9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28240" y="66294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cc00"/>
                </a:solidFill>
                <a:latin typeface="Times New Roman"/>
              </a:rPr>
              <a:t>International Summer School for Grid Computing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43800" y="152280"/>
            <a:ext cx="1371600" cy="8780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19080">
            <a:solidFill>
              <a:srgbClr val="353a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901960" y="3124080"/>
            <a:ext cx="6242040" cy="34261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2819160" cy="1803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28440">
            <a:solidFill>
              <a:srgbClr val="353a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3a9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66"/>
              </a:buClr>
              <a:buSzPct val="9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3a90"/>
                </a:solidFill>
                <a:latin typeface="Arial"/>
              </a:rPr>
              <a:t>Finishing Qotd Exercise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3a90"/>
                </a:solidFill>
                <a:latin typeface="Arial"/>
              </a:rPr>
              <a:t>Finishing “Quote of the day”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sdeploy problem – due to the mechanism of install of j2ee/jwsdp/tomc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references not pointing correc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 the instructions to that point has been corr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has been installed on server using these instructions and is now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81680" y="441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53a90"/>
                </a:solidFill>
                <a:latin typeface="Arial"/>
              </a:rPr>
              <a:t>Finishing Qotd 2</a:t>
            </a:r>
            <a:endParaRPr b="1" lang="en-US" sz="3200" spc="-1" strike="noStrike">
              <a:solidFill>
                <a:srgbClr val="353a9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t beginning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ction pp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WSDL from: http://server4:8080/Qotd/qotd?WS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as Qotd.wsdl in your “client” direc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have run the classpath.sh before running wscomp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compiling the java code you made (qotdClient.java)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vac -classpath $CLASSPATH QotdClient.jav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with 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ava -classpath $CLASSPATH QotdClient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cae1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uilt example is available on “ws-03” in the webserv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12:25:56Z</dcterms:created>
  <dc:creator>dfmac</dc:creator>
  <dc:description/>
  <dc:language>en-US</dc:language>
  <cp:lastModifiedBy>dfmac</cp:lastModifiedBy>
  <dcterms:modified xsi:type="dcterms:W3CDTF">2005-07-14T09:35:04Z</dcterms:modified>
  <cp:revision>8</cp:revision>
  <dc:subject/>
  <dc:title>Java Exercise</dc:title>
</cp:coreProperties>
</file>