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818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CA3E-CF4A-4E33-A382-FC7FF8DBA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9D7C-8327-4E5A-B61E-016768BED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76ECD-DEAB-4308-B0C5-D56394D55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E12E-11C6-4731-9BE0-80A69CF78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0979-A484-4EAE-97F6-4DF50EB97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164A-7F62-433C-9771-A7D72D6B2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343F-EADA-4649-9F85-8523631A7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FE13-8BDB-4A2C-AE25-F610B657C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58A5-05B5-4DBA-9CC7-F5FA35D3F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5B3C-BEEB-465D-9F12-6F9A4A711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A7BF-9E63-4018-880C-F1C7BCFD1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BA3E-1332-4245-A99F-0881F9C44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BE78-A4F0-48DB-B52F-08696C43534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Student‘s presen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Overall seem to well reflect the tasks we have asked you to do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Overall,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plain better how far you’ve been able to go with the pillar search and how you would contin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Some presentations have some room for improv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We will be available during coffee and lunch breaks to discuss how to improve the present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All groups should be able to finish their presentations today AND enjoy the lectures of toda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4B45-A1A1-4154-8B30-1858ED080C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’s presentation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5960" y="974880"/>
          <a:ext cx="8589960" cy="5329080"/>
        </p:xfrm>
        <a:graphic>
          <a:graphicData uri="http://schemas.openxmlformats.org/drawingml/2006/table">
            <a:tbl>
              <a:tblPr/>
              <a:tblGrid>
                <a:gridCol w="2605320"/>
                <a:gridCol w="5984640"/>
              </a:tblGrid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3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5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6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7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8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(do NOT compare all technologies)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9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E626-ADD5-4CA3-8645-BE5BDD2A7F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3:02:51Z</dcterms:created>
  <dc:creator>Fab, Hannelore</dc:creator>
  <dc:description/>
  <cp:keywords>EGEE Grid Naregi</cp:keywords>
  <dc:language>en-US</dc:language>
  <cp:lastModifiedBy>Erwin Laure</cp:lastModifiedBy>
  <dcterms:modified xsi:type="dcterms:W3CDTF">2005-07-20T17:51:59Z</dcterms:modified>
  <cp:revision>75</cp:revision>
  <dc:subject>EGEE and Grid infrastructure in Europe</dc:subject>
  <dc:title>e-Infrastructure in Europe</dc:title>
</cp:coreProperties>
</file>