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818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A35F9-8E61-4FC4-8369-F9164489E2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C55FC-CB63-4D0A-93A2-BCBE55D49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DB1C5-69B8-4F91-9DCB-F6F0ABF4F0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886C2-093F-4597-A207-4156AA3475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64697-98B8-49ED-8ABF-87F0ADD160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71A19-1776-4154-BE99-1F9FCF55AB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8C2AF-D9EB-4C00-B58F-B02DD4D751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FD83F-9C58-4C5F-AC57-3DBFEBE96B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567AB-8AC7-49BA-A204-72B1B949C3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D5182-40EB-41C6-AA49-F919F4DD75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90F5A-C362-4DEE-A976-8EB5B0B483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15DAA-8102-4A76-B086-C5320B7D96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2b519a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8BD0-D7E8-478C-9C3A-2726B1EEF29B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INFSO-RI-508833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INFSO-RI-508833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03920" y="696960"/>
            <a:ext cx="402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fffff"/>
                </a:solidFill>
                <a:latin typeface="Arial"/>
              </a:rPr>
              <a:t>Student‘s present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2b519a"/>
                </a:solidFill>
                <a:latin typeface="Arial"/>
              </a:rPr>
              <a:t>Overall seem to well reflect the tasks we have asked you to do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100" spc="-1" strike="noStrike">
                <a:solidFill>
                  <a:srgbClr val="00338f"/>
                </a:solidFill>
                <a:latin typeface="Arial"/>
              </a:rPr>
              <a:t>Overall, </a:t>
            </a: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explain better how far you’ve been able to go with the pillar search and how you would continu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2b519a"/>
                </a:solidFill>
                <a:latin typeface="Arial"/>
              </a:rPr>
              <a:t>Some presentations have some room for improvemen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2b519a"/>
                </a:solidFill>
                <a:latin typeface="Arial"/>
              </a:rPr>
              <a:t>We will be available during coffee and lunch breaks to discuss how to improve the presentation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2b519a"/>
                </a:solidFill>
                <a:latin typeface="Arial"/>
              </a:rPr>
              <a:t>All groups should be able to finish their presentations today AND enjoy the lectures of toda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FCE44-6C3E-4240-AD30-99DE57D33A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udent’s presentation I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45960" y="974880"/>
          <a:ext cx="8589960" cy="5329080"/>
        </p:xfrm>
        <a:graphic>
          <a:graphicData uri="http://schemas.openxmlformats.org/drawingml/2006/table">
            <a:tbl>
              <a:tblPr/>
              <a:tblGrid>
                <a:gridCol w="2605320"/>
                <a:gridCol w="5984640"/>
              </a:tblGrid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Group 1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pillar search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Group 2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Group 3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Group 4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pillar search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Group 5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pillar search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Group 6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pillar search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Group 7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Explain better your problem and how the chosen technologies could help 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pillar search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Group 8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Explain better your problem and how the chosen technologies could help (do NOT compare all technologies)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pillar search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Group 9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pillar search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AEF87-6413-42DC-98E6-14247E9E3C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13:02:51Z</dcterms:created>
  <dc:creator>Fab, Hannelore</dc:creator>
  <dc:description/>
  <cp:keywords>EGEE Grid Naregi</cp:keywords>
  <dc:language>en-US</dc:language>
  <cp:lastModifiedBy>Erwin Laure</cp:lastModifiedBy>
  <dcterms:modified xsi:type="dcterms:W3CDTF">2005-07-20T17:51:59Z</dcterms:modified>
  <cp:revision>75</cp:revision>
  <dc:subject>EGEE and Grid infrastructure in Europe</dc:subject>
  <dc:title>e-Infrastructure in Europe</dc:title>
</cp:coreProperties>
</file>