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D236-CE7B-4BC9-B032-07B910790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N means FileNmae; D means directory name – one per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gProbe has count within maxSample size of Surface, but for Explorer this can be bigger; so it organises multiple calls of Big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method in ServiceWrapper has to be done by students – 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ach student their BigProbe has built-in a constant which is the directory name for their files in the shared file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is passed as parameter to the Wrapper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next stage the role of that directory becomes taken over by the FileStore URL, which is agaiin built-in to the client – but it is not pass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y have one method of ServiceWrapper to change – probe seems appropriate, cos that is the only one where parameter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D8A-AF64-4C20-9165-58796053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4BF-4553-4B3D-9D9D-E3AE7F4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810-A9BC-4B1B-B275-A6068222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7EB-EB70-4895-BDC6-E823F0A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A58-1CF3-4101-8F78-C9EE323D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442-E354-4BA1-992D-6A7EC7F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236-A920-4C77-A118-E6261953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A67-1A2D-448E-B0CA-053B1CA8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D03-DC69-4523-BD9C-0F8C1EA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675-608C-4956-A33A-2202858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AB5-E14E-4992-8429-413AEE1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EF8-2397-4657-9788-01546B3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187-E463-4C6D-AB82-DCBF0C0B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66680" y="2147760"/>
            <a:ext cx="4800600" cy="2819160"/>
            <a:chOff x="1066680" y="2147760"/>
            <a:chExt cx="4800600" cy="2819160"/>
          </a:xfrm>
        </p:grpSpPr>
        <p:sp>
          <p:nvSpPr>
            <p:cNvPr id="49" name=""/>
            <p:cNvSpPr/>
            <p:nvPr/>
          </p:nvSpPr>
          <p:spPr>
            <a:xfrm>
              <a:off x="1066680" y="214776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23763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268092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298584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336672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37479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412884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35744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86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3200" y="3290760"/>
            <a:ext cx="91440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95280" y="3290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5400000">
            <a:off x="1328760" y="4704120"/>
            <a:ext cx="314280" cy="2514600"/>
          </a:xfrm>
          <a:custGeom>
            <a:avLst/>
            <a:gdLst>
              <a:gd name="textAreaLeft" fmla="*/ 0 w 314280"/>
              <a:gd name="textAreaRight" fmla="*/ 113400 w 314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 rot="1347000">
            <a:off x="445680" y="3178800"/>
            <a:ext cx="298440" cy="2682720"/>
          </a:xfrm>
          <a:custGeom>
            <a:avLst/>
            <a:gdLst>
              <a:gd name="textAreaLeft" fmla="*/ 0 w 298440"/>
              <a:gd name="textAreaRight" fmla="*/ 107640 w 298440"/>
              <a:gd name="textAreaTop" fmla="*/ 69840 h 2682720"/>
              <a:gd name="textAreaBottom" fmla="*/ 2612880 h 26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7440" y="603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" y="40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68128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2452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" y="1614240"/>
            <a:ext cx="175248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80536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97656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592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domai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features on surfaces and determining their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4240" y="502920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low, y-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7524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high, y-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57800" y="32004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9560" y="28195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3809520"/>
            <a:ext cx="243828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1920" y="3581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8200" y="21477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962520" y="2300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440" y="64911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many types of e-science ap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38280" y="2604960"/>
            <a:ext cx="193680" cy="304920"/>
            <a:chOff x="2438280" y="2604960"/>
            <a:chExt cx="193680" cy="304920"/>
          </a:xfrm>
        </p:grpSpPr>
        <p:sp>
          <p:nvSpPr>
            <p:cNvPr id="81" name=""/>
            <p:cNvSpPr/>
            <p:nvPr/>
          </p:nvSpPr>
          <p:spPr>
            <a:xfrm>
              <a:off x="2438280" y="260496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66000" y="263232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66680" y="1371600"/>
            <a:ext cx="4800600" cy="2819160"/>
            <a:chOff x="1066680" y="1371600"/>
            <a:chExt cx="4800600" cy="2819160"/>
          </a:xfrm>
        </p:grpSpPr>
        <p:sp>
          <p:nvSpPr>
            <p:cNvPr id="84" name=""/>
            <p:cNvSpPr/>
            <p:nvPr/>
          </p:nvSpPr>
          <p:spPr>
            <a:xfrm>
              <a:off x="1066680" y="137160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9680" y="16002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1080" y="190476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220968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259056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29718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335268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358128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962520" y="320040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33864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8280" y="1828800"/>
            <a:ext cx="193680" cy="304920"/>
            <a:chOff x="2438280" y="1828800"/>
            <a:chExt cx="193680" cy="304920"/>
          </a:xfrm>
        </p:grpSpPr>
        <p:sp>
          <p:nvSpPr>
            <p:cNvPr id="95" name=""/>
            <p:cNvSpPr/>
            <p:nvPr/>
          </p:nvSpPr>
          <p:spPr>
            <a:xfrm>
              <a:off x="2438280" y="182880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6000" y="185616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12952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840" y="5105520"/>
            <a:ext cx="71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rface –represented by a service with a prob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ve it a list of x-y points – it yields h at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ation on how many on each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 you have to organise multiple probes to explore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238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7524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810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146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7432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004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098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384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956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1523880"/>
            <a:ext cx="1142640" cy="2627280"/>
            <a:chOff x="1143000" y="1523880"/>
            <a:chExt cx="1142640" cy="262728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3352680"/>
              <a:ext cx="380880" cy="798480"/>
              <a:chOff x="1143000" y="3352680"/>
              <a:chExt cx="380880" cy="798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143000" y="3962160"/>
                <a:ext cx="112680" cy="189000"/>
                <a:chOff x="1143000" y="3962160"/>
                <a:chExt cx="112680" cy="189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143000" y="41144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18960" y="39621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295280" y="3657240"/>
                <a:ext cx="112680" cy="189000"/>
                <a:chOff x="1295280" y="3657240"/>
                <a:chExt cx="112680" cy="189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5280" y="38095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71240" y="36572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411200" y="3352680"/>
                <a:ext cx="112680" cy="188280"/>
                <a:chOff x="1411200" y="3352680"/>
                <a:chExt cx="112680" cy="18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411200" y="35046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487160" y="33526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1523880" y="2438280"/>
              <a:ext cx="380880" cy="798480"/>
              <a:chOff x="1523880" y="2438280"/>
              <a:chExt cx="380880" cy="798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523880" y="3047760"/>
                <a:ext cx="112680" cy="189000"/>
                <a:chOff x="1523880" y="3047760"/>
                <a:chExt cx="112680" cy="189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23880" y="3200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99840" y="3047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676160" y="2742840"/>
                <a:ext cx="112680" cy="189000"/>
                <a:chOff x="1676160" y="2742840"/>
                <a:chExt cx="112680" cy="189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676160" y="2895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752120" y="2742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792080" y="2438280"/>
                <a:ext cx="112680" cy="188280"/>
                <a:chOff x="1792080" y="2438280"/>
                <a:chExt cx="112680" cy="188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792080" y="2590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68040" y="2438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904760" y="1523880"/>
              <a:ext cx="380880" cy="798480"/>
              <a:chOff x="1904760" y="1523880"/>
              <a:chExt cx="380880" cy="798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904760" y="2133360"/>
                <a:ext cx="112680" cy="189000"/>
                <a:chOff x="1904760" y="2133360"/>
                <a:chExt cx="112680" cy="189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904760" y="2285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80720" y="2133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057040" y="1828440"/>
                <a:ext cx="112680" cy="189000"/>
                <a:chOff x="2057040" y="1828440"/>
                <a:chExt cx="112680" cy="1890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057040" y="1980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33000" y="1828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172960" y="1523880"/>
                <a:ext cx="112680" cy="188280"/>
                <a:chOff x="2172960" y="1523880"/>
                <a:chExt cx="112680" cy="188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172960" y="1675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48920" y="1523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" name=""/>
          <p:cNvGrpSpPr/>
          <p:nvPr/>
        </p:nvGrpSpPr>
        <p:grpSpPr>
          <a:xfrm>
            <a:off x="1371600" y="1447920"/>
            <a:ext cx="1142640" cy="2627280"/>
            <a:chOff x="1371600" y="1447920"/>
            <a:chExt cx="1142640" cy="2627280"/>
          </a:xfrm>
        </p:grpSpPr>
        <p:grpSp>
          <p:nvGrpSpPr>
            <p:cNvPr id="145" name=""/>
            <p:cNvGrpSpPr/>
            <p:nvPr/>
          </p:nvGrpSpPr>
          <p:grpSpPr>
            <a:xfrm>
              <a:off x="1371600" y="3276720"/>
              <a:ext cx="380880" cy="798480"/>
              <a:chOff x="1371600" y="3276720"/>
              <a:chExt cx="380880" cy="7984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71600" y="3886200"/>
                <a:ext cx="112680" cy="189000"/>
                <a:chOff x="1371600" y="3886200"/>
                <a:chExt cx="112680" cy="189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3716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475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523880" y="3581280"/>
                <a:ext cx="112680" cy="189000"/>
                <a:chOff x="1523880" y="3581280"/>
                <a:chExt cx="112680" cy="189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5238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998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639800" y="3276720"/>
                <a:ext cx="112680" cy="188280"/>
                <a:chOff x="1639800" y="3276720"/>
                <a:chExt cx="112680" cy="188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6398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7157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1752480" y="2362320"/>
              <a:ext cx="380880" cy="798480"/>
              <a:chOff x="1752480" y="2362320"/>
              <a:chExt cx="380880" cy="798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752480" y="2971800"/>
                <a:ext cx="112680" cy="189000"/>
                <a:chOff x="1752480" y="2971800"/>
                <a:chExt cx="112680" cy="18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7524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284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904760" y="2666880"/>
                <a:ext cx="112680" cy="189000"/>
                <a:chOff x="1904760" y="2666880"/>
                <a:chExt cx="112680" cy="18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9047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9807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020680" y="2362320"/>
                <a:ext cx="112680" cy="188280"/>
                <a:chOff x="2020680" y="2362320"/>
                <a:chExt cx="112680" cy="188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206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966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2133360" y="1447920"/>
              <a:ext cx="380880" cy="798480"/>
              <a:chOff x="2133360" y="1447920"/>
              <a:chExt cx="380880" cy="798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133360" y="2057400"/>
                <a:ext cx="112680" cy="189000"/>
                <a:chOff x="2133360" y="2057400"/>
                <a:chExt cx="112680" cy="189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1333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093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285640" y="1752480"/>
                <a:ext cx="112680" cy="189000"/>
                <a:chOff x="2285640" y="1752480"/>
                <a:chExt cx="112680" cy="189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2856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616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01560" y="1447920"/>
                <a:ext cx="112680" cy="188280"/>
                <a:chOff x="2401560" y="1447920"/>
                <a:chExt cx="112680" cy="188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4015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775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"/>
          <p:cNvGrpSpPr/>
          <p:nvPr/>
        </p:nvGrpSpPr>
        <p:grpSpPr>
          <a:xfrm>
            <a:off x="1600200" y="1447920"/>
            <a:ext cx="1142640" cy="2627280"/>
            <a:chOff x="1600200" y="1447920"/>
            <a:chExt cx="1142640" cy="2627280"/>
          </a:xfrm>
        </p:grpSpPr>
        <p:grpSp>
          <p:nvGrpSpPr>
            <p:cNvPr id="176" name=""/>
            <p:cNvGrpSpPr/>
            <p:nvPr/>
          </p:nvGrpSpPr>
          <p:grpSpPr>
            <a:xfrm>
              <a:off x="1600200" y="3276720"/>
              <a:ext cx="380880" cy="798480"/>
              <a:chOff x="1600200" y="3276720"/>
              <a:chExt cx="380880" cy="7984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00200" y="3886200"/>
                <a:ext cx="112680" cy="189000"/>
                <a:chOff x="1600200" y="3886200"/>
                <a:chExt cx="112680" cy="18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002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761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752480" y="3581280"/>
                <a:ext cx="112680" cy="189000"/>
                <a:chOff x="1752480" y="3581280"/>
                <a:chExt cx="112680" cy="189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7524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8284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68400" y="3276720"/>
                <a:ext cx="112680" cy="188280"/>
                <a:chOff x="1868400" y="3276720"/>
                <a:chExt cx="112680" cy="188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684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443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1981080" y="2362320"/>
              <a:ext cx="380880" cy="798480"/>
              <a:chOff x="1981080" y="2362320"/>
              <a:chExt cx="380880" cy="7984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1981080" y="2971800"/>
                <a:ext cx="112680" cy="189000"/>
                <a:chOff x="1981080" y="2971800"/>
                <a:chExt cx="112680" cy="189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810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570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133360" y="2666880"/>
                <a:ext cx="112680" cy="189000"/>
                <a:chOff x="2133360" y="2666880"/>
                <a:chExt cx="112680" cy="189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1333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2093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249280" y="2362320"/>
                <a:ext cx="112680" cy="188280"/>
                <a:chOff x="2249280" y="2362320"/>
                <a:chExt cx="112680" cy="188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2492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252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2361960" y="1447920"/>
              <a:ext cx="380880" cy="798480"/>
              <a:chOff x="2361960" y="1447920"/>
              <a:chExt cx="380880" cy="7984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361960" y="2057400"/>
                <a:ext cx="112680" cy="189000"/>
                <a:chOff x="2361960" y="2057400"/>
                <a:chExt cx="112680" cy="189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619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379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514240" y="1752480"/>
                <a:ext cx="112680" cy="189000"/>
                <a:chOff x="2514240" y="1752480"/>
                <a:chExt cx="112680" cy="189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5142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902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630160" y="1447920"/>
                <a:ext cx="112680" cy="188280"/>
                <a:chOff x="2630160" y="1447920"/>
                <a:chExt cx="112680" cy="188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301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061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1828800" y="1447920"/>
            <a:ext cx="1142640" cy="2627280"/>
            <a:chOff x="1828800" y="1447920"/>
            <a:chExt cx="1142640" cy="2627280"/>
          </a:xfrm>
        </p:grpSpPr>
        <p:grpSp>
          <p:nvGrpSpPr>
            <p:cNvPr id="207" name=""/>
            <p:cNvGrpSpPr/>
            <p:nvPr/>
          </p:nvGrpSpPr>
          <p:grpSpPr>
            <a:xfrm>
              <a:off x="1828800" y="3276720"/>
              <a:ext cx="380880" cy="798480"/>
              <a:chOff x="1828800" y="3276720"/>
              <a:chExt cx="380880" cy="7984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828800" y="3886200"/>
                <a:ext cx="112680" cy="189000"/>
                <a:chOff x="1828800" y="3886200"/>
                <a:chExt cx="112680" cy="18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288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9047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981080" y="3581280"/>
                <a:ext cx="112680" cy="189000"/>
                <a:chOff x="1981080" y="3581280"/>
                <a:chExt cx="112680" cy="1890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810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570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097000" y="3276720"/>
                <a:ext cx="112680" cy="188280"/>
                <a:chOff x="2097000" y="3276720"/>
                <a:chExt cx="112680" cy="18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970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729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2209680" y="2362320"/>
              <a:ext cx="380880" cy="798480"/>
              <a:chOff x="2209680" y="2362320"/>
              <a:chExt cx="380880" cy="7984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09680" y="2971800"/>
                <a:ext cx="112680" cy="189000"/>
                <a:chOff x="2209680" y="2971800"/>
                <a:chExt cx="112680" cy="18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096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56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361960" y="2666880"/>
                <a:ext cx="112680" cy="189000"/>
                <a:chOff x="2361960" y="2666880"/>
                <a:chExt cx="112680" cy="189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619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79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77880" y="2362320"/>
                <a:ext cx="112680" cy="188280"/>
                <a:chOff x="2477880" y="2362320"/>
                <a:chExt cx="112680" cy="188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4778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5538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2590560" y="1447920"/>
              <a:ext cx="380880" cy="798480"/>
              <a:chOff x="2590560" y="1447920"/>
              <a:chExt cx="380880" cy="7984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590560" y="2057400"/>
                <a:ext cx="112680" cy="189000"/>
                <a:chOff x="2590560" y="2057400"/>
                <a:chExt cx="112680" cy="18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5905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65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742840" y="1752480"/>
                <a:ext cx="112680" cy="189000"/>
                <a:chOff x="2742840" y="1752480"/>
                <a:chExt cx="112680" cy="189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7428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188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858760" y="1447920"/>
                <a:ext cx="112680" cy="188280"/>
                <a:chOff x="2858760" y="1447920"/>
                <a:chExt cx="112680" cy="188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8587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347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2133720" y="1447920"/>
            <a:ext cx="1142640" cy="2627280"/>
            <a:chOff x="2133720" y="1447920"/>
            <a:chExt cx="1142640" cy="2627280"/>
          </a:xfrm>
        </p:grpSpPr>
        <p:grpSp>
          <p:nvGrpSpPr>
            <p:cNvPr id="238" name=""/>
            <p:cNvGrpSpPr/>
            <p:nvPr/>
          </p:nvGrpSpPr>
          <p:grpSpPr>
            <a:xfrm>
              <a:off x="2133720" y="3276720"/>
              <a:ext cx="380880" cy="798480"/>
              <a:chOff x="2133720" y="3276720"/>
              <a:chExt cx="380880" cy="7984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2133720" y="3886200"/>
                <a:ext cx="112680" cy="189000"/>
                <a:chOff x="2133720" y="3886200"/>
                <a:chExt cx="112680" cy="1890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337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286000" y="3581280"/>
                <a:ext cx="112680" cy="189000"/>
                <a:chOff x="2286000" y="3581280"/>
                <a:chExt cx="112680" cy="189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2860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619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401920" y="3276720"/>
                <a:ext cx="112680" cy="188280"/>
                <a:chOff x="2401920" y="3276720"/>
                <a:chExt cx="112680" cy="188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4019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778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2514600" y="2362320"/>
              <a:ext cx="380880" cy="798480"/>
              <a:chOff x="2514600" y="2362320"/>
              <a:chExt cx="380880" cy="7984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514600" y="2971800"/>
                <a:ext cx="112680" cy="189000"/>
                <a:chOff x="2514600" y="2971800"/>
                <a:chExt cx="112680" cy="189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146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05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666880" y="2666880"/>
                <a:ext cx="112680" cy="189000"/>
                <a:chOff x="2666880" y="2666880"/>
                <a:chExt cx="112680" cy="189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6668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7428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782800" y="2362320"/>
                <a:ext cx="112680" cy="188280"/>
                <a:chOff x="2782800" y="2362320"/>
                <a:chExt cx="112680" cy="188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828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8587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2895480" y="1447920"/>
              <a:ext cx="380880" cy="798480"/>
              <a:chOff x="2895480" y="1447920"/>
              <a:chExt cx="380880" cy="7984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2895480" y="2057400"/>
                <a:ext cx="112680" cy="189000"/>
                <a:chOff x="2895480" y="2057400"/>
                <a:chExt cx="112680" cy="189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8954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714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47760" y="1752480"/>
                <a:ext cx="112680" cy="189000"/>
                <a:chOff x="3047760" y="1752480"/>
                <a:chExt cx="112680" cy="1890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477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1237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163680" y="1447920"/>
                <a:ext cx="112680" cy="188280"/>
                <a:chOff x="3163680" y="1447920"/>
                <a:chExt cx="112680" cy="188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636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396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2362320" y="1447920"/>
            <a:ext cx="1142640" cy="2627280"/>
            <a:chOff x="2362320" y="1447920"/>
            <a:chExt cx="1142640" cy="2627280"/>
          </a:xfrm>
        </p:grpSpPr>
        <p:grpSp>
          <p:nvGrpSpPr>
            <p:cNvPr id="269" name=""/>
            <p:cNvGrpSpPr/>
            <p:nvPr/>
          </p:nvGrpSpPr>
          <p:grpSpPr>
            <a:xfrm>
              <a:off x="2362320" y="3276720"/>
              <a:ext cx="380880" cy="798480"/>
              <a:chOff x="2362320" y="3276720"/>
              <a:chExt cx="380880" cy="7984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2362320" y="3886200"/>
                <a:ext cx="112680" cy="189000"/>
                <a:chOff x="2362320" y="3886200"/>
                <a:chExt cx="112680" cy="189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3623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382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514600" y="3581280"/>
                <a:ext cx="112680" cy="189000"/>
                <a:chOff x="2514600" y="3581280"/>
                <a:chExt cx="112680" cy="189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5146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905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630520" y="3276720"/>
                <a:ext cx="112680" cy="188280"/>
                <a:chOff x="2630520" y="3276720"/>
                <a:chExt cx="112680" cy="188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305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064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2743200" y="2362320"/>
              <a:ext cx="380880" cy="798480"/>
              <a:chOff x="2743200" y="2362320"/>
              <a:chExt cx="380880" cy="79848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2743200" y="2971800"/>
                <a:ext cx="112680" cy="189000"/>
                <a:chOff x="2743200" y="2971800"/>
                <a:chExt cx="112680" cy="189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432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191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895480" y="2666880"/>
                <a:ext cx="112680" cy="189000"/>
                <a:chOff x="2895480" y="2666880"/>
                <a:chExt cx="112680" cy="189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8954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714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011400" y="2362320"/>
                <a:ext cx="112680" cy="188280"/>
                <a:chOff x="3011400" y="2362320"/>
                <a:chExt cx="112680" cy="188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114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0873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3124080" y="1447920"/>
              <a:ext cx="380880" cy="798480"/>
              <a:chOff x="3124080" y="1447920"/>
              <a:chExt cx="380880" cy="7984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124080" y="2057400"/>
                <a:ext cx="112680" cy="189000"/>
                <a:chOff x="3124080" y="2057400"/>
                <a:chExt cx="112680" cy="189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240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00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276360" y="1752480"/>
                <a:ext cx="112680" cy="189000"/>
                <a:chOff x="3276360" y="1752480"/>
                <a:chExt cx="112680" cy="189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2763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3523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392280" y="1447920"/>
                <a:ext cx="112680" cy="188280"/>
                <a:chOff x="3392280" y="1447920"/>
                <a:chExt cx="112680" cy="18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3922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4682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9" name=""/>
          <p:cNvSpPr/>
          <p:nvPr/>
        </p:nvSpPr>
        <p:spPr>
          <a:xfrm>
            <a:off x="914400" y="1295280"/>
            <a:ext cx="2895480" cy="2971800"/>
          </a:xfrm>
          <a:prstGeom prst="parallelogram">
            <a:avLst>
              <a:gd name="adj" fmla="val 4015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0040" y="874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5000" y="1752480"/>
            <a:ext cx="1142640" cy="2627280"/>
            <a:chOff x="5715000" y="1752480"/>
            <a:chExt cx="1142640" cy="2627280"/>
          </a:xfrm>
        </p:grpSpPr>
        <p:grpSp>
          <p:nvGrpSpPr>
            <p:cNvPr id="302" name=""/>
            <p:cNvGrpSpPr/>
            <p:nvPr/>
          </p:nvGrpSpPr>
          <p:grpSpPr>
            <a:xfrm>
              <a:off x="5715000" y="3581280"/>
              <a:ext cx="380880" cy="798480"/>
              <a:chOff x="5715000" y="3581280"/>
              <a:chExt cx="380880" cy="7984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715000" y="4190760"/>
                <a:ext cx="112680" cy="189000"/>
                <a:chOff x="5715000" y="4190760"/>
                <a:chExt cx="112680" cy="189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15000" y="4343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790960" y="4190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867280" y="3885840"/>
                <a:ext cx="112680" cy="189000"/>
                <a:chOff x="5867280" y="3885840"/>
                <a:chExt cx="112680" cy="189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867280" y="4038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943240" y="3885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983200" y="3581280"/>
                <a:ext cx="112680" cy="188280"/>
                <a:chOff x="5983200" y="3581280"/>
                <a:chExt cx="112680" cy="188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983200" y="3733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059160" y="3581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6095880" y="2666880"/>
              <a:ext cx="380880" cy="798480"/>
              <a:chOff x="6095880" y="2666880"/>
              <a:chExt cx="380880" cy="7984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095880" y="3276360"/>
                <a:ext cx="112680" cy="189000"/>
                <a:chOff x="6095880" y="3276360"/>
                <a:chExt cx="112680" cy="189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95880" y="3428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71840" y="3276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48160" y="2971440"/>
                <a:ext cx="112680" cy="189000"/>
                <a:chOff x="6248160" y="2971440"/>
                <a:chExt cx="112680" cy="189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248160" y="3123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24120" y="2971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364080" y="2666880"/>
                <a:ext cx="112680" cy="188280"/>
                <a:chOff x="6364080" y="2666880"/>
                <a:chExt cx="112680" cy="1882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364080" y="2818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40040" y="2666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476760" y="1752480"/>
              <a:ext cx="380880" cy="798480"/>
              <a:chOff x="6476760" y="1752480"/>
              <a:chExt cx="380880" cy="7984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6476760" y="2361960"/>
                <a:ext cx="112680" cy="189000"/>
                <a:chOff x="6476760" y="2361960"/>
                <a:chExt cx="112680" cy="189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476760" y="25142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2720" y="23619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29040" y="2057040"/>
                <a:ext cx="112680" cy="189000"/>
                <a:chOff x="6629040" y="2057040"/>
                <a:chExt cx="112680" cy="189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9040" y="22093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05000" y="20570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44960" y="1752480"/>
                <a:ext cx="112680" cy="188280"/>
                <a:chOff x="6744960" y="1752480"/>
                <a:chExt cx="112680" cy="188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44960" y="19044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20920" y="17524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 flipV="1">
            <a:off x="58672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9640" y="9144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pro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to 20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4114800"/>
            <a:ext cx="7925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2000" y="41911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s; more sophisticated expl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213372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47200" y="19810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technology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124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2895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-oriented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200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320040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4560" y="35812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8840" y="548640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the new technology to the progressive exercise application do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99520" y="2184480"/>
            <a:ext cx="27622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SurfaceFunction(x,y):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Function inti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might experiment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920" y="5943600"/>
            <a:ext cx="31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# entirely the  students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students can edit provided ske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wise entirely 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888840"/>
            <a:ext cx="4267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int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Command line interface (CLI)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 x,y and outputs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0480" y="1600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16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0" y="3960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1 – Java – basic expl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1219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5160" y="2209680"/>
            <a:ext cx="29649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PointEvaluator2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uses input file and output fi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ingle point, using 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names given on C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3623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591804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- internal method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64008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98520" y="6299280"/>
            <a:ext cx="20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ves into / prod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tep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40480" y="3200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5240" y="3809880"/>
            <a:ext cx="4036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BatchOfPoints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and output files now contain multipl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3200" y="16765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990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9144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4880" y="990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3200" y="32004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3520" y="4952880"/>
            <a:ext cx="3022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BatchOfPointsEvaluator2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s are now in XML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4343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3200" y="4419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048120" y="2971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048120" y="3962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50440" y="5105520"/>
            <a:ext cx="1436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use gnu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95480" y="411444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5257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9080" y="48769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45800" y="5099040"/>
            <a:ext cx="2862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rface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e(FN1, F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bines SurfaceFun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chOfPointsEvaluato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" y="396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2 - Java – multi-probe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6880" y="3048120"/>
            <a:ext cx="264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start, step, limi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1920" y="3733920"/>
            <a:ext cx="266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FN1, FN2, F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1920" y="4419720"/>
            <a:ext cx="258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box, coun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9760" y="990720"/>
            <a:ext cx="2643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14400"/>
            <a:ext cx="2971800" cy="5638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3760" y="4572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37000" y="990720"/>
            <a:ext cx="28004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0120" y="1600200"/>
            <a:ext cx="26528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re* (data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tch* (FN):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*(FN[*]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4760" y="4114800"/>
            <a:ext cx="2126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3880" y="5791320"/>
            <a:ext cx="212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197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21360" y="44784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43200" y="5335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85880" y="2133720"/>
            <a:ext cx="1919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02440" y="1182600"/>
            <a:ext cx="1849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91760" y="1752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7621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38680" y="2971800"/>
            <a:ext cx="144792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6920" y="3809880"/>
            <a:ext cx="22089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permitting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ment with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er enhanc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91760" y="3429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12120" y="6262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61280" y="6262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04240" y="2743200"/>
            <a:ext cx="1864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9132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9568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1916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819520" y="1447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040" y="2133720"/>
            <a:ext cx="30492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17524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047400" y="3048120"/>
            <a:ext cx="152280" cy="3429000"/>
          </a:xfrm>
          <a:custGeom>
            <a:avLst/>
            <a:gdLst>
              <a:gd name="textAreaLeft" fmla="*/ 96840 w 152280"/>
              <a:gd name="textAreaRight" fmla="*/ 15228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90480" y="312408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320" y="396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 2 – Step 1.3 – porting to WebServices (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1200" y="190512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1200" y="2286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1200" y="266688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9040" y="106668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990720"/>
            <a:ext cx="175248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8240" y="6462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89360" y="1066680"/>
            <a:ext cx="35956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9760" y="144792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828800" y="1828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3886200"/>
            <a:ext cx="2819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94360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3440" y="5410080"/>
            <a:ext cx="2842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334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21360" y="53352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676520" y="533160"/>
            <a:ext cx="4419360" cy="533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4800" y="2828880"/>
            <a:ext cx="20217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ver coefficien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 gen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19720" y="1182600"/>
            <a:ext cx="1948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2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S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8400" y="24480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838080"/>
            <a:ext cx="152280" cy="1981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866920" y="44197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-894240" y="202500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functionalities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Services of previous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9840" y="4572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5880" y="5105520"/>
            <a:ext cx="1637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0480" y="373392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760" y="5934240"/>
            <a:ext cx="107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Prob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2040" y="6391440"/>
            <a:ext cx="100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85800" y="41911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28800" y="2437920"/>
            <a:ext cx="1143000" cy="2667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905120" y="3581280"/>
            <a:ext cx="121896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752480" y="6019560"/>
            <a:ext cx="12956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990720"/>
            <a:ext cx="4114800" cy="548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50120" y="6491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283520" y="6110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000" y="6186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inv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96800" y="2666880"/>
            <a:ext cx="26280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76920" y="358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5160" y="5486400"/>
            <a:ext cx="1765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828800" y="4571640"/>
            <a:ext cx="144792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1T15:15:1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