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220C-1E3D-4CAB-B30E-AB32044AE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9A0A-8607-42D9-9C9D-A697CB53C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663C-3AA2-4054-AFE1-4CA443B9C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FA41-D3CB-4713-98CA-1F46EDC2C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50CA-EEC0-463E-9A9B-E8D1936D4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A7051-6DF2-4437-AA09-8D193E7515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A9DA3-816D-443C-B1CA-CED3B5D6F0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774AF-FD17-4111-B804-88D34B1DBF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AF07E-5C94-40A9-AECB-3BDD79CDF9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40CE2-FB6E-4A21-9B17-97F16CB948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DBB4E-6DD9-47E2-9FB2-E3E5815103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EFC2D-836C-4152-96C4-8B241557BE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D4C16-A87A-4ED7-8501-DA86485CA9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AFDE8-A67B-46BE-9847-6D81761381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845C5-0587-4E08-899C-730DA61448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64A71-AC04-43A9-A85F-E08964BF28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F21A8-5D4D-4A36-AA80-667149449E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9B4C7-A285-44BD-B551-291684A9FD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B18C-D0A9-4A2F-A462-EDB63BE948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05EA0-EA29-4A29-AC1A-CC8607BF7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CF01-52FD-4F2F-B41A-A66E0D200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07BF-7E9A-47B0-A906-6EE30C844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73AC-24BE-4659-8FEC-5D888D595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CAD3-D7EC-4514-84C0-642ABB711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3CEB-A145-4840-B4CE-DB1DD12ED87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Web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D3D7-1F48-46DB-B1AC-1E39EAF9830B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31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ISSGC’05, Vico Equense,July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Introduction to Web Services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eSC Training Team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7980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ared Variable Model - Close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 programmers of user side of an interaction know all about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implem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uitable for single-programmer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nanosecon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ine granua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lmost no work in a variable assign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implest of tasks involves many interactions with vari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bject Oriented Model - Medium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er side of interaction knows – what classes exist and their interf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t their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class desig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uitable for single-organisation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micro/milli-sec (possibly distributed object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edium granuality – do some work in a method invocation – 20 lines of 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Within an object, typically use the Shared Variable mod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00" y="432720"/>
            <a:ext cx="514440" cy="5791320"/>
          </a:xfrm>
          <a:custGeom>
            <a:avLst/>
            <a:gdLst>
              <a:gd name="textAreaLeft" fmla="*/ 68760 w 514440"/>
              <a:gd name="textAreaRight" fmla="*/ 445680 w 514440"/>
              <a:gd name="textAreaTop" fmla="*/ 1131120 h 5791320"/>
              <a:gd name="textAreaBottom" fmla="*/ 360864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C26EE-7A6D-46E8-9DA7-A85E4DBC7D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Shared Variable Model - Close coupli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Shared implementation ; single-programmer ; nanosec interaction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nanosecond interaction; fine granuality;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Object-Oriented Model – Medium Coupli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Shard Class Design ; single organisation ;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Micro/milli-sec interaction; medium granualit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eb Services - Loose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grammers on  user side knows how to programme the discovery of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standards and knowledge of standard reposito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second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arse granuality – do enough work in a service request to justify the time taken by the communication overh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Within a service, typically use the Object-oriented model – service request-response is mapped to method invocation-retur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gressively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looser coupling; more time-expensive interaction, coarser granua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ach model builds on the previous one – uses it internall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47600" y="1788480"/>
            <a:ext cx="514440" cy="3436920"/>
          </a:xfrm>
          <a:custGeom>
            <a:avLst/>
            <a:gdLst>
              <a:gd name="textAreaLeft" fmla="*/ 68760 w 514440"/>
              <a:gd name="textAreaRight" fmla="*/ 445680 w 514440"/>
              <a:gd name="textAreaTop" fmla="*/ 671040 h 3436920"/>
              <a:gd name="textAreaBottom" fmla="*/ 2141280 h 34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47600" y="831240"/>
            <a:ext cx="514440" cy="1314360"/>
          </a:xfrm>
          <a:custGeom>
            <a:avLst/>
            <a:gdLst>
              <a:gd name="textAreaLeft" fmla="*/ 68760 w 514440"/>
              <a:gd name="textAreaRight" fmla="*/ 445680 w 514440"/>
              <a:gd name="textAreaTop" fmla="*/ 256320 h 1314360"/>
              <a:gd name="textAreaBottom" fmla="*/ 818640 h 13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7526D-7075-49EF-ACFF-0443775314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e Web Services Resource Framewor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57920" y="4037040"/>
            <a:ext cx="3286080" cy="353880"/>
          </a:xfrm>
          <a:prstGeom prst="leftArrow">
            <a:avLst>
              <a:gd name="adj1" fmla="val 50000"/>
              <a:gd name="adj2" fmla="val 232146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B4DA1-65FE-49DD-B8FA-3A78664128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900840" y="2090880"/>
            <a:ext cx="2130480" cy="37972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93960" y="2090880"/>
            <a:ext cx="2220840" cy="37972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89560" y="4559400"/>
            <a:ext cx="1222200" cy="14943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HTTP messag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-O (JAVA)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09520" y="2359080"/>
            <a:ext cx="1441440" cy="2313000"/>
            <a:chOff x="209520" y="2359080"/>
            <a:chExt cx="1441440" cy="2313000"/>
          </a:xfrm>
        </p:grpSpPr>
        <p:sp>
          <p:nvSpPr>
            <p:cNvPr id="281" name=""/>
            <p:cNvSpPr/>
            <p:nvPr/>
          </p:nvSpPr>
          <p:spPr>
            <a:xfrm>
              <a:off x="27612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2920" y="2925720"/>
              <a:ext cx="0" cy="16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176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2920" y="3166920"/>
              <a:ext cx="9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8592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6480" y="3179880"/>
              <a:ext cx="59904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13000" y="2925720"/>
              <a:ext cx="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9240" y="291780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12560" y="4187880"/>
              <a:ext cx="96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3840" y="4200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7080" y="390060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1832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9520" y="2359080"/>
              <a:ext cx="1441440" cy="231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0" y="1468440"/>
            <a:ext cx="3662280" cy="2593800"/>
            <a:chOff x="0" y="1468440"/>
            <a:chExt cx="3662280" cy="2593800"/>
          </a:xfrm>
        </p:grpSpPr>
        <p:sp>
          <p:nvSpPr>
            <p:cNvPr id="295" name=""/>
            <p:cNvSpPr/>
            <p:nvPr/>
          </p:nvSpPr>
          <p:spPr>
            <a:xfrm>
              <a:off x="1738440" y="3787920"/>
              <a:ext cx="893520" cy="274320"/>
            </a:xfrm>
            <a:prstGeom prst="rightArrow">
              <a:avLst>
                <a:gd name="adj1" fmla="val 50000"/>
                <a:gd name="adj2" fmla="val 8143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1468440"/>
              <a:ext cx="366228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Insert the web into the invok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 marL="325800" indent="-3258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and into the return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13040" y="2154240"/>
              <a:ext cx="136440" cy="1649520"/>
            </a:xfrm>
            <a:prstGeom prst="line">
              <a:avLst/>
            </a:prstGeom>
            <a:ln w="25560">
              <a:solidFill>
                <a:srgbClr val="325fa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805120" y="5956200"/>
            <a:ext cx="2370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cli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47000" y="2563920"/>
            <a:ext cx="614160" cy="3157560"/>
            <a:chOff x="7047000" y="2563920"/>
            <a:chExt cx="614160" cy="3157560"/>
          </a:xfrm>
        </p:grpSpPr>
        <p:sp>
          <p:nvSpPr>
            <p:cNvPr id="300" name=""/>
            <p:cNvSpPr/>
            <p:nvPr/>
          </p:nvSpPr>
          <p:spPr>
            <a:xfrm>
              <a:off x="706608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252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7000" y="2563920"/>
              <a:ext cx="6141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ck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729920" y="2260440"/>
            <a:ext cx="518400" cy="3461040"/>
            <a:chOff x="7729920" y="2260440"/>
            <a:chExt cx="518400" cy="3461040"/>
          </a:xfrm>
        </p:grpSpPr>
        <p:sp>
          <p:nvSpPr>
            <p:cNvPr id="304" name=""/>
            <p:cNvSpPr/>
            <p:nvPr/>
          </p:nvSpPr>
          <p:spPr>
            <a:xfrm>
              <a:off x="777564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29920" y="2260440"/>
              <a:ext cx="5184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ont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iner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6456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956280" y="5956200"/>
            <a:ext cx="2187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server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13400" y="3063960"/>
            <a:ext cx="2573280" cy="660240"/>
          </a:xfrm>
          <a:custGeom>
            <a:avLst/>
            <a:gdLst/>
            <a:ahLst/>
            <a:rect l="l" t="t" r="r" b="b"/>
            <a:pathLst>
              <a:path w="1376" h="416">
                <a:moveTo>
                  <a:pt x="0" y="416"/>
                </a:moveTo>
                <a:lnTo>
                  <a:pt x="356" y="231"/>
                </a:lnTo>
                <a:lnTo>
                  <a:pt x="1138" y="218"/>
                </a:lnTo>
                <a:lnTo>
                  <a:pt x="137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13400" y="4167360"/>
            <a:ext cx="2562120" cy="660240"/>
          </a:xfrm>
          <a:custGeom>
            <a:avLst/>
            <a:gdLst/>
            <a:ahLst/>
            <a:rect l="l" t="t" r="r" b="b"/>
            <a:pathLst>
              <a:path w="1376" h="416">
                <a:moveTo>
                  <a:pt x="1376" y="416"/>
                </a:moveTo>
                <a:lnTo>
                  <a:pt x="1151" y="231"/>
                </a:lnTo>
                <a:lnTo>
                  <a:pt x="389" y="23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70920" y="4616280"/>
            <a:ext cx="6249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Ret(c)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3840" y="4583160"/>
            <a:ext cx="1138320" cy="86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Soap envelop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906640" y="2523960"/>
            <a:ext cx="273240" cy="3197520"/>
            <a:chOff x="2906640" y="2523960"/>
            <a:chExt cx="273240" cy="3197520"/>
          </a:xfrm>
        </p:grpSpPr>
        <p:sp>
          <p:nvSpPr>
            <p:cNvPr id="313" name=""/>
            <p:cNvSpPr/>
            <p:nvPr/>
          </p:nvSpPr>
          <p:spPr>
            <a:xfrm>
              <a:off x="290664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308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4228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749400" y="2279520"/>
            <a:ext cx="473400" cy="3441960"/>
            <a:chOff x="3749400" y="2279520"/>
            <a:chExt cx="473400" cy="3441960"/>
          </a:xfrm>
        </p:grpSpPr>
        <p:sp>
          <p:nvSpPr>
            <p:cNvPr id="317" name=""/>
            <p:cNvSpPr/>
            <p:nvPr/>
          </p:nvSpPr>
          <p:spPr>
            <a:xfrm>
              <a:off x="394956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9400" y="2279520"/>
              <a:ext cx="4453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-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u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288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311000" y="2554200"/>
            <a:ext cx="577800" cy="3071880"/>
            <a:chOff x="4311000" y="2554200"/>
            <a:chExt cx="577800" cy="3071880"/>
          </a:xfrm>
        </p:grpSpPr>
        <p:sp>
          <p:nvSpPr>
            <p:cNvPr id="321" name=""/>
            <p:cNvSpPr/>
            <p:nvPr/>
          </p:nvSpPr>
          <p:spPr>
            <a:xfrm>
              <a:off x="451008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11000" y="2554200"/>
              <a:ext cx="5778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ck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26000" y="2925720"/>
              <a:ext cx="0" cy="27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8658360" y="2471760"/>
            <a:ext cx="272880" cy="3154320"/>
            <a:chOff x="8658360" y="2471760"/>
            <a:chExt cx="272880" cy="3154320"/>
          </a:xfrm>
        </p:grpSpPr>
        <p:sp>
          <p:nvSpPr>
            <p:cNvPr id="325" name=""/>
            <p:cNvSpPr/>
            <p:nvPr/>
          </p:nvSpPr>
          <p:spPr>
            <a:xfrm>
              <a:off x="865836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44400" y="24717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74280" y="2925720"/>
              <a:ext cx="0" cy="27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043080" y="2917800"/>
            <a:ext cx="1552680" cy="882000"/>
            <a:chOff x="3043080" y="2917800"/>
            <a:chExt cx="1552680" cy="882000"/>
          </a:xfrm>
        </p:grpSpPr>
        <p:sp>
          <p:nvSpPr>
            <p:cNvPr id="329" name=""/>
            <p:cNvSpPr/>
            <p:nvPr/>
          </p:nvSpPr>
          <p:spPr>
            <a:xfrm>
              <a:off x="3043080" y="3166920"/>
              <a:ext cx="10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42800" y="3191040"/>
              <a:ext cx="63720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s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8680" y="291780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70520" y="3387600"/>
              <a:ext cx="52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8520" y="338760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202520" y="3063960"/>
            <a:ext cx="1554120" cy="932400"/>
            <a:chOff x="7202520" y="3063960"/>
            <a:chExt cx="1554120" cy="932400"/>
          </a:xfrm>
        </p:grpSpPr>
        <p:sp>
          <p:nvSpPr>
            <p:cNvPr id="335" name=""/>
            <p:cNvSpPr/>
            <p:nvPr/>
          </p:nvSpPr>
          <p:spPr>
            <a:xfrm flipV="1">
              <a:off x="7202520" y="3159000"/>
              <a:ext cx="662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01160" y="319104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62760" y="3387600"/>
              <a:ext cx="89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72920" y="3387600"/>
              <a:ext cx="59904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36200" y="306396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202520" y="4143240"/>
            <a:ext cx="1552680" cy="768600"/>
            <a:chOff x="7202520" y="4143240"/>
            <a:chExt cx="1552680" cy="768600"/>
          </a:xfrm>
        </p:grpSpPr>
        <p:sp>
          <p:nvSpPr>
            <p:cNvPr id="341" name=""/>
            <p:cNvSpPr/>
            <p:nvPr/>
          </p:nvSpPr>
          <p:spPr>
            <a:xfrm flipH="1">
              <a:off x="7202520" y="4599000"/>
              <a:ext cx="65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78920" y="461628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904160" y="4430880"/>
              <a:ext cx="85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09160" y="4443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32760" y="414324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042720" y="4300560"/>
            <a:ext cx="1552680" cy="600480"/>
            <a:chOff x="3042720" y="4300560"/>
            <a:chExt cx="1552680" cy="600480"/>
          </a:xfrm>
        </p:grpSpPr>
        <p:sp>
          <p:nvSpPr>
            <p:cNvPr id="347" name=""/>
            <p:cNvSpPr/>
            <p:nvPr/>
          </p:nvSpPr>
          <p:spPr>
            <a:xfrm flipH="1">
              <a:off x="3042720" y="4587840"/>
              <a:ext cx="10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4360" y="4605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87600" y="430056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070160" y="4375080"/>
              <a:ext cx="52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78520" y="437508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8218440" y="26478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992840" y="3506760"/>
            <a:ext cx="1989000" cy="892080"/>
            <a:chOff x="4992840" y="3506760"/>
            <a:chExt cx="1989000" cy="892080"/>
          </a:xfrm>
        </p:grpSpPr>
        <p:sp>
          <p:nvSpPr>
            <p:cNvPr id="354" name="Cloud"/>
            <p:cNvSpPr/>
            <p:nvPr/>
          </p:nvSpPr>
          <p:spPr>
            <a:xfrm>
              <a:off x="5189400" y="3506760"/>
              <a:ext cx="1330560" cy="89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97560" y="36352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92840" y="3948120"/>
              <a:ext cx="19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56080" y="1925640"/>
            <a:ext cx="1222560" cy="1494360"/>
            <a:chOff x="5356080" y="1925640"/>
            <a:chExt cx="1222560" cy="1494360"/>
          </a:xfrm>
        </p:grpSpPr>
        <p:sp>
          <p:nvSpPr>
            <p:cNvPr id="358" name=""/>
            <p:cNvSpPr/>
            <p:nvPr/>
          </p:nvSpPr>
          <p:spPr>
            <a:xfrm>
              <a:off x="5400720" y="1978200"/>
              <a:ext cx="1138320" cy="867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oap envelop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56080" y="1925640"/>
              <a:ext cx="1222560" cy="14943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HTTP messag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38880" y="2009880"/>
              <a:ext cx="76824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Op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60720" y="1015920"/>
            <a:ext cx="4416480" cy="1538280"/>
            <a:chOff x="3960720" y="1015920"/>
            <a:chExt cx="4416480" cy="1538280"/>
          </a:xfrm>
        </p:grpSpPr>
        <p:sp>
          <p:nvSpPr>
            <p:cNvPr id="362" name=""/>
            <p:cNvSpPr/>
            <p:nvPr/>
          </p:nvSpPr>
          <p:spPr>
            <a:xfrm>
              <a:off x="5808960" y="1015920"/>
              <a:ext cx="89316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JAXRP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20120" y="1015920"/>
              <a:ext cx="1178280" cy="29556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WSDL for 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22880" y="1166760"/>
              <a:ext cx="55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960720" y="1292400"/>
              <a:ext cx="1860480" cy="9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83400" y="1324080"/>
              <a:ext cx="1693800" cy="1230120"/>
            </a:xfrm>
            <a:custGeom>
              <a:avLst/>
              <a:gdLst/>
              <a:ahLst/>
              <a:rect l="l" t="t" r="r" b="b"/>
              <a:pathLst>
                <a:path w="1067" h="775">
                  <a:moveTo>
                    <a:pt x="0" y="0"/>
                  </a:moveTo>
                  <a:lnTo>
                    <a:pt x="1047" y="252"/>
                  </a:lnTo>
                  <a:lnTo>
                    <a:pt x="1067" y="77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38640" y="1384200"/>
              <a:ext cx="1150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compil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77000" y="1049400"/>
              <a:ext cx="1065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deplo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C7119-0A0C-4C41-9E71-220F542079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– how and wh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DL is keystone of web servic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es a service’s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bstrac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interface – operations and message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es th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protocol and a data formants used to realise that abstract interf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WSDL is publish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rvice consumer uses the WSDL to determine how to communicate with the service – stub gener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There are different approaches to how WSDL is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Produced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Automatically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Manuall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mi-automaticall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nsum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tatic Binding – access the WSDL at compile-time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Dynamic Binding – access the WSDL at run-tim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4F258-DF04-4E42-AB60-907ED81FE7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Provider 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33120" y="130176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44480" y="130176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713720" y="14526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46960" y="120492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Document"/>
          <p:cNvSpPr/>
          <p:nvPr/>
        </p:nvSpPr>
        <p:spPr>
          <a:xfrm>
            <a:off x="4152960" y="1417680"/>
            <a:ext cx="16970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94480" y="151272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Cloud"/>
          <p:cNvSpPr/>
          <p:nvPr/>
        </p:nvSpPr>
        <p:spPr>
          <a:xfrm>
            <a:off x="4060800" y="1851120"/>
            <a:ext cx="24303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43600" y="2092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33880" y="1163520"/>
            <a:ext cx="190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85120" y="190332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75400" y="1609560"/>
            <a:ext cx="1155960" cy="54000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32680" y="220500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75200" y="2895480"/>
            <a:ext cx="1203480" cy="328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23480" y="289260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1240" y="1185480"/>
            <a:ext cx="389736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nual - 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irectly write WSD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nnatural for JAVA develop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SDL is hard to write from scratch?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24560" y="175104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541840" y="206064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438680" y="212400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1240" y="3668760"/>
            <a:ext cx="412596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utomatic -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rive WSDL from JAV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atural for JAVA develop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ay compromise interoper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oo JAVA specifi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on’t have 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This is what you will do in the tutori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16800" y="3627360"/>
            <a:ext cx="244152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VA Interface Defini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691480" y="3916440"/>
            <a:ext cx="0" cy="338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133120" y="424332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44480" y="42433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713720" y="439416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46960" y="414648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Document"/>
          <p:cNvSpPr/>
          <p:nvPr/>
        </p:nvSpPr>
        <p:spPr>
          <a:xfrm>
            <a:off x="4152960" y="4359240"/>
            <a:ext cx="1697040" cy="37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94480" y="445464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Cloud"/>
          <p:cNvSpPr/>
          <p:nvPr/>
        </p:nvSpPr>
        <p:spPr>
          <a:xfrm>
            <a:off x="4060800" y="4792680"/>
            <a:ext cx="24303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43600" y="5033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33880" y="410544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85120" y="484488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75400" y="4551480"/>
            <a:ext cx="1155960" cy="53964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2680" y="51465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75200" y="5837400"/>
            <a:ext cx="1203480" cy="32832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23480" y="583416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24560" y="469260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541840" y="500220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38680" y="506556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BC6E9-11CC-4551-8E20-F8D795A140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Provider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1240" y="1131840"/>
            <a:ext cx="8146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mi-Automatic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with JAVA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rive initial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odify it f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ploy (, test) and publish tha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atural for JAVA develop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ddresses interoperability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nd 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velopment Iss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new version with extended interface, do you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again from JAVA interface definition, and re-tune it al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ork directly from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16800" y="1076400"/>
            <a:ext cx="244152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VA Interface Defini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91480" y="1365120"/>
            <a:ext cx="0" cy="33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133120" y="169236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44480" y="169236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713720" y="18432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46960" y="261468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Document"/>
          <p:cNvSpPr/>
          <p:nvPr/>
        </p:nvSpPr>
        <p:spPr>
          <a:xfrm>
            <a:off x="4152960" y="2827440"/>
            <a:ext cx="16970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694480" y="292248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Cloud"/>
          <p:cNvSpPr/>
          <p:nvPr/>
        </p:nvSpPr>
        <p:spPr>
          <a:xfrm>
            <a:off x="4060800" y="3260880"/>
            <a:ext cx="2430360" cy="952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43600" y="3571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33880" y="2573280"/>
            <a:ext cx="190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85120" y="331308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75400" y="3019320"/>
            <a:ext cx="1155960" cy="54000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32680" y="36147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75200" y="4302000"/>
            <a:ext cx="1203480" cy="328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23480" y="429912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24560" y="315756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541840" y="347040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38680" y="353376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94680" y="2001960"/>
            <a:ext cx="0" cy="70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79720" y="2089080"/>
            <a:ext cx="1997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nd-tu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33120" y="270972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44480" y="27097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13720" y="286056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BC17E-6AE7-4F3B-9616-52AC185982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ocument"/>
          <p:cNvSpPr/>
          <p:nvPr/>
        </p:nvSpPr>
        <p:spPr>
          <a:xfrm>
            <a:off x="3200400" y="1133640"/>
            <a:ext cx="15764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– Consumer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loud"/>
          <p:cNvSpPr/>
          <p:nvPr/>
        </p:nvSpPr>
        <p:spPr>
          <a:xfrm>
            <a:off x="1627200" y="1927080"/>
            <a:ext cx="11541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11600" y="2201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30480" y="87948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06600" y="2333520"/>
            <a:ext cx="110016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63880" y="25239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680" y="1843200"/>
            <a:ext cx="1417680" cy="13888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-235440" y="1111320"/>
            <a:ext cx="2062080" cy="597600"/>
            <a:chOff x="-235440" y="1111320"/>
            <a:chExt cx="2062080" cy="597600"/>
          </a:xfrm>
        </p:grpSpPr>
        <p:sp>
          <p:nvSpPr>
            <p:cNvPr id="445" name=""/>
            <p:cNvSpPr/>
            <p:nvPr/>
          </p:nvSpPr>
          <p:spPr>
            <a:xfrm>
              <a:off x="933480" y="1111320"/>
              <a:ext cx="89316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JAXRP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235440" y="1461960"/>
              <a:ext cx="1550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compil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-140760" y="289548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8760" y="2465280"/>
            <a:ext cx="249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2600" y="2495520"/>
            <a:ext cx="0" cy="4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2600" y="259704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82240" y="278460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30240" y="1920960"/>
            <a:ext cx="505080" cy="1030320"/>
            <a:chOff x="930240" y="1920960"/>
            <a:chExt cx="505080" cy="1030320"/>
          </a:xfrm>
        </p:grpSpPr>
        <p:sp>
          <p:nvSpPr>
            <p:cNvPr id="453" name=""/>
            <p:cNvSpPr/>
            <p:nvPr/>
          </p:nvSpPr>
          <p:spPr>
            <a:xfrm>
              <a:off x="1112760" y="2465280"/>
              <a:ext cx="25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0240" y="1920960"/>
              <a:ext cx="505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ti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u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08160" y="2495520"/>
              <a:ext cx="0" cy="45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169920" y="1903320"/>
            <a:ext cx="5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Appli-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c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836360" y="131436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00240" y="1434960"/>
            <a:ext cx="0" cy="50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20760" y="2676600"/>
            <a:ext cx="208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06080" y="11635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871360" y="1314360"/>
            <a:ext cx="344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000" y="4051440"/>
            <a:ext cx="2236680" cy="2371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0160" y="6037200"/>
            <a:ext cx="1276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8760" y="4691160"/>
            <a:ext cx="249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2600" y="4721400"/>
            <a:ext cx="0" cy="13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2600" y="482292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12760" y="4691160"/>
            <a:ext cx="23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2240" y="579420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76400" y="4379760"/>
            <a:ext cx="27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DII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08160" y="4721400"/>
            <a:ext cx="0" cy="126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920" y="4129200"/>
            <a:ext cx="5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Appli-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c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02560" y="489420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32040" y="4741920"/>
            <a:ext cx="214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etch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0480" y="5651640"/>
            <a:ext cx="208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06600" y="5326200"/>
            <a:ext cx="1100160" cy="715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63880" y="551664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06480" y="5219640"/>
            <a:ext cx="0" cy="420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Cloud"/>
          <p:cNvSpPr/>
          <p:nvPr/>
        </p:nvSpPr>
        <p:spPr>
          <a:xfrm>
            <a:off x="2382840" y="4608360"/>
            <a:ext cx="768240" cy="1600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60960" y="521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64120" y="882720"/>
            <a:ext cx="40798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tic Binding -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anually obtain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it to compile a stu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hich interacts with the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eed to recompile if WSDL chan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test before going liv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This is what we will do in the Tutori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1" name="Document"/>
          <p:cNvSpPr/>
          <p:nvPr/>
        </p:nvSpPr>
        <p:spPr>
          <a:xfrm>
            <a:off x="3200400" y="4254480"/>
            <a:ext cx="1576440" cy="37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30480" y="400068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069640" y="4641840"/>
            <a:ext cx="147348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64120" y="3436920"/>
            <a:ext cx="407988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ynamic Binding -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Via DII – Dynamic Invocation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n each use of service,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et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that t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nstruct message to the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pret the response mess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lways using latest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ut un-tes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ossibly ineffici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D84A9-D990-4CAB-AA55-CA3A1174F4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e Web Services Resource Framewor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90920" y="4402080"/>
            <a:ext cx="4753080" cy="354240"/>
          </a:xfrm>
          <a:prstGeom prst="leftArrow">
            <a:avLst>
              <a:gd name="adj1" fmla="val 50000"/>
              <a:gd name="adj2" fmla="val 33544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C750B-DBA0-42C9-B8AA-26CFDC92CC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5600" y="838080"/>
            <a:ext cx="85899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llaboration is on defining generic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wo main standards bodi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3C – web commun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ctually produces “recommendations” not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ASIS – industry – IBM, Microsoft, Sun, …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se standards are factored to allow partial adoption and combin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cor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I – clarifications to aid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igher level standards built on them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ake-up is pragmati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ndards have built-in extensibi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standard typically defines some document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.g. The WSDL document for defining the interface to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definition of the WSDL structure incorporates specific points where that structure can be extend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BD120-C187-48AA-B8C2-CCDD60C25A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6A366-9C3A-4810-95D5-562B7320E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e 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XML – the standard format for all inform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CHEMA – the standard language for defining the structure (syntax/type) of a unit of inform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TD is a deprecated predecessor of Schem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OAP – the standard message forma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– the language for defining a servic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perations; Logical Message Structure; Bindings; loc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493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6756C-55A7-4780-8FA7-2AE4D78CC7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Further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19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Security – Framework for authentication and confidentia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Transaction Framework – for robustness of correlated interactions, e.g. two phase – provisionally book everything, then confirm everyth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DDI – standard repository interface (included in WS-I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MetaDataExchange – how to communicate meta-dat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…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513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295360" y="4013280"/>
            <a:ext cx="29844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98520" y="386388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25880" y="3546360"/>
            <a:ext cx="1024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571560" y="3968640"/>
            <a:ext cx="98280" cy="53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30600" y="38196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32120" y="3489480"/>
            <a:ext cx="199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Trans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ramework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586040" y="3978360"/>
            <a:ext cx="477720" cy="6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30480" y="353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UDDI</a:t>
            </a:r>
            <a:r>
              <a:rPr b="1" lang="en-US" sz="1800" spc="-1" strike="noStrike">
                <a:solidFill>
                  <a:srgbClr val="325fa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46840" y="387972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90440" y="36892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faf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87000" y="5715000"/>
            <a:ext cx="164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Meta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xchan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42040" y="601488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5258880" y="6081840"/>
            <a:ext cx="9306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51D6C-CA2F-4782-8C72-CEC17D1001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Further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-Addressing - For communication of identities between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-Notification -  Framework of notification interaction – subscribe, publish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RF – Web Services Resource Framework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Collection of standards concerning stateful dynamic resources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 model a reservation as a stateful resour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ynamically create new instance with extended lifeti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546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619600" y="4124160"/>
            <a:ext cx="654120" cy="744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05320" y="45561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R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9280" y="443880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43440" y="458784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32520" y="457344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84880" y="53784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53360" y="52563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address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49400" y="5499000"/>
            <a:ext cx="708120" cy="7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54760" y="4843440"/>
            <a:ext cx="355680" cy="50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5400" y="3827520"/>
            <a:ext cx="654120" cy="439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442260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59280" y="428616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18120" y="427032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985080" y="400068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273800" y="398628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46520" y="34974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notific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95360" y="4013280"/>
            <a:ext cx="29844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248160" y="4187880"/>
            <a:ext cx="631800" cy="120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269040" y="4262040"/>
            <a:ext cx="757080" cy="2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98520" y="386388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571560" y="3968640"/>
            <a:ext cx="98280" cy="53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30600" y="38196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32120" y="3489480"/>
            <a:ext cx="199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Trans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ramework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586040" y="3978360"/>
            <a:ext cx="477720" cy="6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30480" y="353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UDDI</a:t>
            </a:r>
            <a:r>
              <a:rPr b="1" lang="en-US" sz="1800" spc="-1" strike="noStrike">
                <a:solidFill>
                  <a:srgbClr val="325fa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46840" y="387972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90440" y="36892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faf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189040" y="4519440"/>
            <a:ext cx="414360" cy="351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87000" y="5715000"/>
            <a:ext cx="164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Meta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xchan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242040" y="601488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258880" y="6081840"/>
            <a:ext cx="9306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25880" y="3546360"/>
            <a:ext cx="1024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98000-9E55-4427-AC41-8DB3BDCD4A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indefinite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indefinite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indefinite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indefinite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indefinite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indefinite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indefinite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indefinit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aining  Tal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28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– the language for defining a servic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is is our focus – this is what you will need to be able to read (and write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is is what you will see in the practica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Will explain this in detai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ends on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CHEMA – the standard language for defining the information structure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XML – the standard format for all informa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OAP – the standard message format – used in defining binding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Will first explain these in outline – sufficient to understand a WSD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75840" y="59277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5600" y="5551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31920" y="51055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CHEMA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06800" y="489096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41720" y="4944960"/>
            <a:ext cx="788760" cy="107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08320" y="4932360"/>
            <a:ext cx="76824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3061800" y="6118200"/>
            <a:ext cx="8226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67080" y="58579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T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2640" y="4535640"/>
            <a:ext cx="3457440" cy="19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29560" y="4714920"/>
            <a:ext cx="747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r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67200" y="488304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81600" y="540864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36960" y="604980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1600" y="54198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001240" y="542448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63800" y="5486400"/>
            <a:ext cx="9907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FBB9C-AD90-4A83-9402-6CC102B688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8f"/>
                </a:solidFill>
                <a:latin typeface="Arial"/>
              </a:rPr>
              <a:t>THE END</a:t>
            </a:r>
            <a:endParaRPr b="0" i="1" lang="en-US" sz="6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C0B9D-3E26-402F-9EA0-57F1863BD2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olution of Electronic inter-enterprise inter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 is the next step in the automation of inter-enterprise interaction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Brows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uman travel agent provides “organise holiday” service by surfing the web to look for and invoking services – book a hotel; book a plane; book a car hire; ….; confirm bookings of best options to meet client needs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he aspiration of Web services is to provide a framework that allows that same model to be used in writing an application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ich is itself becomes an “organise a holiday” service, finding and using useful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Mod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uman intervention at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provider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consum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-mail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browsing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5600880"/>
            <a:ext cx="45720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N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7555D-3C18-45AA-8751-8D27FB520A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flipV="1">
            <a:off x="7315200" y="1980720"/>
            <a:ext cx="76320" cy="221004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5334120"/>
            <a:ext cx="1828800" cy="868320"/>
          </a:xfrm>
          <a:custGeom>
            <a:avLst/>
            <a:gdLst>
              <a:gd name="textAreaLeft" fmla="*/ 0 w 1828800"/>
              <a:gd name="textAreaRight" fmla="*/ 1829160 w 1828800"/>
              <a:gd name="textAreaTop" fmla="*/ 112320 h 868320"/>
              <a:gd name="textAreaBottom" fmla="*/ 756000 h 868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86600" y="3200400"/>
            <a:ext cx="1871640" cy="762120"/>
          </a:xfrm>
          <a:custGeom>
            <a:avLst/>
            <a:gdLst>
              <a:gd name="textAreaLeft" fmla="*/ 0 w 1871640"/>
              <a:gd name="textAreaRight" fmla="*/ 1872000 w 187164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ter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5410080"/>
            <a:ext cx="1295640" cy="762120"/>
          </a:xfrm>
          <a:custGeom>
            <a:avLst/>
            <a:gdLst>
              <a:gd name="textAreaLeft" fmla="*/ 0 w 1295640"/>
              <a:gd name="textAreaRight" fmla="*/ 1296000 w 129564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8160" y="561168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book planes</a:t>
            </a:r>
            <a:r>
              <a:rPr b="0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486400"/>
            <a:ext cx="7596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54280" y="5334120"/>
            <a:ext cx="1460520" cy="693720"/>
          </a:xfrm>
          <a:custGeom>
            <a:avLst/>
            <a:gdLst>
              <a:gd name="textAreaLeft" fmla="*/ 0 w 1460520"/>
              <a:gd name="textAreaRight" fmla="*/ 1460880 w 1460520"/>
              <a:gd name="textAreaTop" fmla="*/ 89640 h 693720"/>
              <a:gd name="textAreaBottom" fmla="*/ 60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400" y="541008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I book car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Rentals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79760" y="5384880"/>
            <a:ext cx="74520" cy="1015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5334120"/>
            <a:ext cx="1305000" cy="618840"/>
          </a:xfrm>
          <a:custGeom>
            <a:avLst/>
            <a:gdLst>
              <a:gd name="textAreaLeft" fmla="*/ 0 w 1305000"/>
              <a:gd name="textAreaRight" fmla="*/ 1305360 w 1305000"/>
              <a:gd name="textAreaTop" fmla="*/ 79920 h 618840"/>
              <a:gd name="textAreaBottom" fmla="*/ 538920 h 618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64960" y="54594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book hotels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5380200"/>
            <a:ext cx="10656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6172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45280" y="335124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locate services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039800" y="3276720"/>
            <a:ext cx="74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219320"/>
            <a:ext cx="1871640" cy="761760"/>
          </a:xfrm>
          <a:custGeom>
            <a:avLst/>
            <a:gdLst>
              <a:gd name="textAreaLeft" fmla="*/ 0 w 1871640"/>
              <a:gd name="textAreaRight" fmla="*/ 1872000 w 1871640"/>
              <a:gd name="textAreaTop" fmla="*/ 98640 h 761760"/>
              <a:gd name="textAreaBottom" fmla="*/ 663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9400" y="121932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organ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holidays</a:t>
            </a:r>
            <a:r>
              <a:rPr b="0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295280"/>
            <a:ext cx="7632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1295280"/>
            <a:ext cx="3429000" cy="297180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648320" y="2057400"/>
            <a:ext cx="2590560" cy="220968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508040"/>
            <a:ext cx="3429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Get a car rental 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locate servi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ask for 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s quote good enough?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Reserve car, provisionall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get other resources reserv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Confirm reserv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320000">
            <a:off x="4191120" y="3381120"/>
            <a:ext cx="114300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ervice Identifi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19840" y="545940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convert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currency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5380200"/>
            <a:ext cx="10656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91120" y="4267080"/>
            <a:ext cx="3047760" cy="106704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86400" y="4343400"/>
            <a:ext cx="1752480" cy="106668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4343400"/>
            <a:ext cx="609480" cy="99072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1219320"/>
            <a:ext cx="1828800" cy="868320"/>
          </a:xfrm>
          <a:custGeom>
            <a:avLst/>
            <a:gdLst>
              <a:gd name="textAreaLeft" fmla="*/ 0 w 1828800"/>
              <a:gd name="textAreaRight" fmla="*/ 1829160 w 1828800"/>
              <a:gd name="textAreaTop" fmla="*/ 112320 h 868320"/>
              <a:gd name="textAreaBottom" fmla="*/ 756000 h 868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1295280"/>
            <a:ext cx="10620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5640" y="1295280"/>
            <a:ext cx="13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know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the weather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6172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61722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61722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41148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2133720"/>
            <a:ext cx="304920" cy="3045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1280" y="3886200"/>
            <a:ext cx="1524240" cy="1371600"/>
          </a:xfrm>
          <a:prstGeom prst="line">
            <a:avLst/>
          </a:prstGeom>
          <a:ln w="9360">
            <a:solidFill>
              <a:srgbClr val="2b519a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2133720"/>
            <a:ext cx="304920" cy="3045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3543000">
            <a:off x="2289960" y="4579560"/>
            <a:ext cx="80676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1981080"/>
            <a:ext cx="4952880" cy="20574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133720"/>
            <a:ext cx="5029200" cy="205740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2362320"/>
            <a:ext cx="1828800" cy="29718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2438280"/>
            <a:ext cx="1904760" cy="297180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3276720"/>
            <a:ext cx="1600200" cy="20574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4038480"/>
            <a:ext cx="1143000" cy="13716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DBBA5-A823-4B74-8E47-9F575DFCF0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al Requi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5600" y="1147320"/>
            <a:ext cx="879804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eed to achieve effective cooperation even thoug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he different services are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roduced by different organisations,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without any design collaboration,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on different platform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Requires “interoperability”</a:t>
            </a:r>
            <a:endParaRPr b="0" i="1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he services are autonomously evolving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Requires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oose Coupl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73CD1-631E-469B-9FAF-80D691F1B9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p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UPLING – about intensity of communic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Execution Coupling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requency and extent of communication relative to process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elephone conversation is tightly coupled, e-mail conversation is loosely coupl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or web services – very loose coupl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action of order of a secon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ereas centralised object invocation – micro-secon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arse granularity – do enough work in a service request to justify the time taken by the communication overh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Design Coupling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ow much design knowledge has to be communicated between the designers of the software at the two ends of an interac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ich they then build into their softwa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he extent of statically shared knowledge between two ends of an interaction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76843-6247-41FE-B1D0-C12DB6B4F8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se Design Coup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oose (Design) coupling – minimum prior shared information between the designer of the two components of an intera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ynamically accessible Machine processable Meta dat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lf-describing data in standard format – XML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cription of structure of communications – SCHEMAS (typ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description – WSDL, using SCHEMAS for message structu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Means for obtaining it – from a repository, using standard such as UDDI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mmunication protocol that supports this – SOAP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verything is a SCHEMA-described XML document – soap message, WSDL definition, schemas themselves (meta-schema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olerance of partial understa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chemas allows extension points – one participant may have an older WSDL definition which accommodates extensions with additional inform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02B11-8409-457A-B237-A92642476A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 vs O-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5600" y="911160"/>
            <a:ext cx="85899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service is a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/W system designed to support interoperable machine-to-machine interaction over a network. (W3C Gloss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s some of the characteristics of O-O archite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O-O class roughly corresponds to a PortType (i.e. Interface)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collection of operations each with defined input and output dat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bject roughly corresponds t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ervice – an instantiation of a PortTyp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t a particular web loc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using a particular communication protocol and message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Less constrained than O-O model -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ocussed on very loose coupl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 O-O – new instances created dynamically by user reques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f"/>
                </a:solidFill>
                <a:latin typeface="Arial"/>
              </a:rPr>
              <a:t>Not true of basic WS – I Services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f"/>
                </a:solidFill>
                <a:latin typeface="Arial"/>
              </a:rPr>
              <a:t>For that behaviour in Web Services use Resource Framework - WSRF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691AF-BE61-4F72-BD81-AA40F8D2DC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UPLING – about intensity of communic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egree of statically shared knowledge between two end of an interaction (knowledge which the programmer/designer has to know and build-in) – how much has to be communicat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requency and extent of communication relative to process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scale of looser coupling (in both sense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ared variabl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nteraction i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updating a variable; other end u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bject-Orient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invoking method; other end being invok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eb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(service consumer) requesting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ther end (service provider) servicing the reques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uite similar to O-O (but might not be a reply!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E23CD-B61E-4214-A6C4-042FE70D8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dfmac</cp:lastModifiedBy>
  <dcterms:modified xsi:type="dcterms:W3CDTF">2005-07-12T06:50:00Z</dcterms:modified>
  <cp:revision>89</cp:revision>
  <dc:subject/>
  <dc:title>XML</dc:title>
</cp:coreProperties>
</file>