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C011-52CF-453C-B985-E48CEA62B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CDCD-2E30-4ECE-8BF9-34F43D857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5577-0240-4D74-AAEE-BF7D7534E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7180-D274-402F-BDF9-BB26DF5FC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95AC-4E59-4CBE-86E9-085783D75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E878-DF91-41C3-834E-BC453C3559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19236-22CE-4866-ADF5-77387DAD99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8F6C3-03B9-44B5-A78C-829A9AE8E9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FCC69-082D-481A-BD63-BD71CCD27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8E415-AFF4-4708-B9DB-61D2DB8E1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65E5-1F64-4C1A-A888-0BC9975E14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C73A-5E79-4FEC-9D52-EBB5661DB3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99A1B-FDCC-4E68-8514-CE173E3B2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59E1E-F549-422D-9C2A-565D6308EC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1007-F6B6-49E7-9AF2-E09A640C37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000C-B1E2-4E7C-AAEE-D5489D02D4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BB3E-6CC5-457C-BC0B-388114F220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28440-39CB-4917-BA53-5F54A88C36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DE35-00C8-42F9-BA6C-0DE05CC658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388C-2E3B-4A41-B125-5748E1C9E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E44C-F291-49DA-AE40-299DE2893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0435-5679-4DF9-BF06-56D85CCBC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AEF7-C69E-4E55-A869-5C482E198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92A7-98C8-4656-A52A-C26134CF2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F7B-2CA3-402F-BC1D-204B4A822E3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eb Services To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7E2-A7D9-4621-95FF-F5E2C7909C4E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 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 05</a:t>
            </a: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 Tool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operation m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JAX-RPC allows two modes of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ynchronous – two-way 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nvolves blocking the client until it receives a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similar to a traditional java method cal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ven if no actual return value – Public void request (…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ve wait for a success/exception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RPC - Asynchronou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client block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performs a operation without replying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 analogous to traditional method call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annot throw an exce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69A52-9D47-410D-BE7B-104E12FC9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 method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177920"/>
            <a:ext cx="8745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 java web service end point interface must obey the following ru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interface must extend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endpoint interfaces may be extensions of other interfac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terface methods must declare that it throw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dependent exceptions can be thrown if they are checked exceptions derived from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lang.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C2423-9E60-4314-9980-C7B9B77C2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960" y="931680"/>
            <a:ext cx="898668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s That can be in th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ava primitives (eg.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, int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imitive wrappers (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ean, Integer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tandard java c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lang.String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Calendar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Date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Decimal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Integ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lder class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types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 has a public no-argument constructo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extended from any other class, may have static and instance methods, may implement any interface (except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java.rmi.Remot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and any derive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have static fields, instance fields that are public, protected, package private or private but these must be supported types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rays (where all elements are supported typ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920" y="594828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by reference is not support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8741-092F-4EF0-8057-3C27C6902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-) serial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789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web services (also C based ones) allow a developer to treat service classes as if they are local  - i.e. stubs are crea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ll web services messages are XML (SOAP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means that objects sent across web services must be translated to XML and back – (de-)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What is serialised is the “accessible state”; 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irectly accessible fiel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elds with mutator/accessor metho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values returned by service methods are in fact local classes created by JAX-RPC from the XML 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es seen by either side may not be identic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avoid comparisons using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==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;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equals()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should be used inst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f you want to pass an un-supported java class you have to create your own serialiser / de-serialiser to translate to and from XML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not a trivial task as there is no JAX-RPC framework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7800" y="100800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86240" y="993600"/>
            <a:ext cx="779400" cy="63216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0280" y="95256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113508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4240" y="11556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4320" y="107784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39480" y="974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11320" y="13986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811680"/>
            <a:ext cx="914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22868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4200" y="1228680"/>
            <a:ext cx="185544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42680" y="139392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86160" y="1393920"/>
            <a:ext cx="183528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1320" y="9684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93840" y="1415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0AEBB-8E4E-4FE5-B414-CBFAC034F5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2320" y="1050480"/>
            <a:ext cx="31305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odel”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artially compiled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Modes –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face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e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Interface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226548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25520" y="126360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2840" y="1158840"/>
            <a:ext cx="1143000" cy="5335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52440" y="1063800"/>
            <a:ext cx="111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f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0560" y="958680"/>
            <a:ext cx="1506600" cy="7542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000" y="1063800"/>
            <a:ext cx="102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7280" y="958680"/>
            <a:ext cx="1408320" cy="7653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52680" y="1730520"/>
            <a:ext cx="276120" cy="5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421000"/>
            <a:ext cx="116676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9960" y="2519280"/>
            <a:ext cx="129924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96960" y="1444680"/>
            <a:ext cx="38592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87600" y="1741320"/>
            <a:ext cx="1440" cy="50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687400" y="1743120"/>
            <a:ext cx="11160" cy="55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160440" y="1446120"/>
            <a:ext cx="71604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28840" y="1674720"/>
            <a:ext cx="658800" cy="74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96880" y="2522520"/>
            <a:ext cx="33192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0" y="2544840"/>
            <a:ext cx="68256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393D8-EF5E-4497-A04C-D7DAAEA23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– usage pattern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39120" y="1171440"/>
            <a:ext cx="2729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cal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ame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5600" y="1157400"/>
            <a:ext cx="140832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928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384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0244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8320" y="179388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124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61960" y="148896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6800" y="1892160"/>
            <a:ext cx="121284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468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3532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39120" y="3186000"/>
            <a:ext cx="2995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fferent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44720" y="29559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5160" y="29624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9400" y="35845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0280" y="35798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7880" y="35989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8988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241880" y="32940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0252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488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89600" y="3129120"/>
            <a:ext cx="141912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7960" y="26938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ublish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40200" y="5014800"/>
            <a:ext cx="2782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ing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Rather tha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15200" y="478476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3480" y="47912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4032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3824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6912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16200" y="54277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7908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10200" y="5122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9136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828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910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09840" y="110016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812808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9840" y="287352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8305920" y="326232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4988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7472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60960" y="5530680"/>
            <a:ext cx="3542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09840" y="472608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8128080" y="511488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6720" y="3038400"/>
            <a:ext cx="0" cy="2789280"/>
          </a:xfrm>
          <a:prstGeom prst="line">
            <a:avLst/>
          </a:prstGeom>
          <a:ln w="25560">
            <a:solidFill>
              <a:srgbClr val="325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501EF-DAB3-4505-AB95-AC458E7B5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56120" y="4262400"/>
            <a:ext cx="5987880" cy="328680"/>
          </a:xfrm>
          <a:prstGeom prst="leftArrow">
            <a:avLst>
              <a:gd name="adj1" fmla="val 50000"/>
              <a:gd name="adj2" fmla="val 45544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D8EB2-7CEE-4C39-A04D-C32BE51A69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aining  the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WSDL can be downloaded from a UDDI regist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f the service use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XRPCServlet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you can attach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WSD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(or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mode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) to the URL request to get the WSDL (or model file)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338f"/>
                </a:solidFill>
                <a:latin typeface="Courier New"/>
              </a:rPr>
              <a:t>http://localhost:8080/Service/Servicename?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C227-CE36-4C54-8BBA-C84FEFA06E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00" y="915840"/>
            <a:ext cx="7845840" cy="6998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client 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6120" y="4782960"/>
            <a:ext cx="6847560" cy="103140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server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- model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mfile.z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                                             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6960" y="19209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Client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658880" y="182988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581120" y="117612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213720" y="106560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68800" y="1830240"/>
            <a:ext cx="0" cy="103824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3960" y="287172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p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0520" y="2859120"/>
            <a:ext cx="14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overri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classpa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903920" y="1805040"/>
            <a:ext cx="25200" cy="1149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785480" y="98316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546960" y="905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98320" y="217656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retai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Java 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utput; an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ut i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088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8089920" y="116676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820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40280" y="217656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f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rvic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5760" y="622152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generate a model file and where to put it – for use by ws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944720" y="5025600"/>
            <a:ext cx="166680" cy="1811160"/>
          </a:xfrm>
          <a:custGeom>
            <a:avLst/>
            <a:gdLst>
              <a:gd name="textAreaLeft" fmla="*/ 106560 w 166680"/>
              <a:gd name="textAreaRight" fmla="*/ 166680 w 166680"/>
              <a:gd name="textAreaTop" fmla="*/ 47160 h 1811160"/>
              <a:gd name="textAreaBottom" fmla="*/ 1764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3920" y="5994360"/>
            <a:ext cx="0" cy="3081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9120" y="4068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server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58880" y="436896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 rot="5400000">
            <a:off x="1581120" y="410976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5400000">
            <a:off x="3213720" y="398736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68800" y="3708360"/>
            <a:ext cx="0" cy="8812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903920" y="3795840"/>
            <a:ext cx="17280" cy="81900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785480" y="385092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6546960" y="3848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08880" y="412416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 rot="5400000">
            <a:off x="8089920" y="409788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182080" y="412380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" y="2327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stu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1160" y="3753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t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1422360" y="2662200"/>
            <a:ext cx="998640" cy="9460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656160"/>
            <a:ext cx="835200" cy="1695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769EB-634E-4109-92FC-1FE6CC815D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interfa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998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name=“……..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argetNamespace=“ …// …/…/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ypeNamespace=“…// …/…/types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interface name=“…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ervantName=“…”/&gt;&lt;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7560" y="4268880"/>
            <a:ext cx="75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service for WSDL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argetNamespace = namespace of WSDL for names associated with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e.g. port 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ypeNamespac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space of WSDL for data 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nterface 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the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ant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the name of the class that implements the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6928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070760" y="214164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4040" y="240336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73600" y="24145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E93B3-BC39-469A-9BC0-1AEE9E84C0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89160" y="3468600"/>
            <a:ext cx="6954840" cy="328680"/>
          </a:xfrm>
          <a:prstGeom prst="leftArrow">
            <a:avLst>
              <a:gd name="adj1" fmla="val 50000"/>
              <a:gd name="adj2" fmla="val 52899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49022-4633-4C1B-9244-2B186B306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 WSDL /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1175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wsdl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..//…/serviceDef .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.”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7000" y="3321000"/>
            <a:ext cx="60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URL for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 to be 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73600" y="11397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75760" y="238932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18440" y="239400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70760" y="2125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96120" y="60213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54720" y="6016680"/>
            <a:ext cx="83520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64680" y="600084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76240" y="6138720"/>
            <a:ext cx="287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8280000" y="573084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91120" y="4491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-165240" y="4697280"/>
            <a:ext cx="5217120" cy="1513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odel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myModel.z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0" y="617688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= file name of previously generated 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6EF08-BDA2-4D47-B795-6EC4F31FA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ed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1640" y="9223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me of the client side generated fil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45960" y="1400040"/>
          <a:ext cx="6643800" cy="4191120"/>
        </p:xfrm>
        <a:graphic>
          <a:graphicData uri="http://schemas.openxmlformats.org/drawingml/2006/table">
            <a:tbl>
              <a:tblPr/>
              <a:tblGrid>
                <a:gridCol w="1473480"/>
                <a:gridCol w="51703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ce_Impl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_SerializerRegistry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Valu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_Stub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hod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D0B3A-2303-40DC-8206-F1FADB17A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ng the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.java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file corresponds to the definition of the interface for the web service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5960" y="3621240"/>
            <a:ext cx="8589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 object implementing the interface is like a “service factory”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tServicePort returns an instance of (the stub for) the actual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The required service factory is Service_Impl 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(Unfortunately this name is only recommended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56520" y="2035080"/>
            <a:ext cx="8187120" cy="1362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ackage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import javax.xml.rpc.*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ublic interface Service extends javax.aml.rpc.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{  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public </a:t>
            </a:r>
            <a:r>
              <a:rPr b="1" i="1" lang="en-GB" sz="1800" spc="-1" strike="noStrike">
                <a:solidFill>
                  <a:srgbClr val="ac3b8b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 getServicePort();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4120" y="5226120"/>
            <a:ext cx="7227000" cy="6998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_Impl service = new Service_Impl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*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= (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)service.getServicePort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960" y="6083280"/>
            <a:ext cx="8589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ith this reference you can call the methods of the service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D1E0C-7979-4EFF-ABDC-BDE199F09C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loying to a web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Create a WAR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 for service endpoint interfa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s for service implementation and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Courier New"/>
              </a:rPr>
              <a:t>web.xml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 file containing deployment inform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lass files for JAX-RPC tie class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 tie classes are implementation specific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8943-8983-42A3-9305-E6B5E73E14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WAR files required for JWSD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45960" y="2144880"/>
          <a:ext cx="8589960" cy="425916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web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eb application deployment descrip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jaxrpc-ri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JWSDP-specific deployment inform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odel file generated by </a:t>
                      </a: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scomp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4DC4-1367-4F24-91CA-6BC4F2EF1A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.xml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?xml version=“1.0” encoding=“UTF-8” ?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!DOCTYPE web-ap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PUBLIC “-//Sun Microsystems, Inc.//DTD Web Application 2.3//EN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http://java.sun.com/j2ee/dtds/web-app_2_3.dtd”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isplay-name&gt;Service Name&lt;/display-name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escription&gt;A web service application&lt;/description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/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6B8A-099E-40F5-A517-AB26195190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 deployable WAR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sdeploy –o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targetFile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portableWarFile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process is informed by the content of th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jaxrpc-ri.xml 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fil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archive contains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lass files and resour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the 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serializer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WSDL (in WEB-INF directo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el file for the service ( in WEB-INF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ified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eb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-runtime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(based on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E2D6F-0455-43E6-90D6-11EC2E4EDA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age Structure for JAX-RPC Service Endpoi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1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A5D4-AC6B-4262-A918-A711284C14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es required in the J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45960" y="1058760"/>
          <a:ext cx="8589960" cy="509868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</a:tr>
              <a:tr h="408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end point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Info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Application implement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client.ServiceAppClient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SDL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wsd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eployment descripto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application-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pping.xml or META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webservices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anifest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NIFEST.MF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0E239-6DF5-432A-96D8-49FC321D9EF4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L / C-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OAP::LITE   - Collection of Perl modules which provides a simple and lightweight interface to SOAP on both client and server sid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-Ba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SOA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 and C++ toolkit which provides C/C++ - XML bindings for web services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rom developers suggest that this implementation is fragile and can be bugg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NE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icrosoft web services implementation based on C# super-set of C.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orm developers – easy entry but lacks flexibility in more complex situ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22A9A-3311-47E5-9897-6B4617104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rces (originally Java, also C++ now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d in JWSDP modules, Ax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OM (Document Object Mode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reates representation of document structure in mem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X (Simple API for XM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r but less powerful parsing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5C6A7-227C-4E24-B754-FDF147C864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Build Tool –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tain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dd functionality to web server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Tomca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originally designed to add servlets to web servers – became used to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xis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new development to specifically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xis also includes a web services development environ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Development environ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2 Enterprise Edition (J2EE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Bean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Java Web Services Development Package (JWSDP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A65F4-2CE1-4A8B-B03E-61E09746FF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WSD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3843360"/>
            <a:ext cx="5456160" cy="328680"/>
          </a:xfrm>
          <a:prstGeom prst="leftArrow">
            <a:avLst>
              <a:gd name="adj1" fmla="val 50000"/>
              <a:gd name="adj2" fmla="val 41500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16AAD-6AE9-4B4A-9E52-AB35454C7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WSDP pack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WSDP Packag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aaj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oap with attachments API for jav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p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parsing (XM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b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XML 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  <a:ea typeface="Arial"/>
              </a:rPr>
              <a:t>→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“bindings” = de-serial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for regi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338f"/>
                </a:solidFill>
                <a:uFillTx/>
                <a:latin typeface="Arial"/>
              </a:rPr>
              <a:t>Jax remote procedure c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05EB-E70F-4AB0-9788-63ED7A153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JAX-RPC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60" y="974520"/>
            <a:ext cx="90154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jax-rpc provides packages which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iven WSDL or Java Interface defini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enerate ‘stub’ classes for web service providers or consumer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Java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  <a:ea typeface="Arial"/>
              </a:rPr>
              <a:t>↔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XML serialisations / de-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the generation of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PI Pack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ore classes for the client side programming mod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encoding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objects &lt;-&gt; XML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rocessing XML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older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upport the use of holder 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erv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inimal API for web service implement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pecific SOAP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37BE-58CB-4735-9573-3C969CBD1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X-RPC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720" y="1243080"/>
            <a:ext cx="1758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Applic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2200" y="1243080"/>
            <a:ext cx="6490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7360" y="1243080"/>
            <a:ext cx="22629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eb Services Endpoi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7880" y="2071800"/>
            <a:ext cx="6260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9296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552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568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556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24320" y="5381640"/>
            <a:ext cx="1704600" cy="892080"/>
            <a:chOff x="3424320" y="5381640"/>
            <a:chExt cx="1704600" cy="892080"/>
          </a:xfrm>
        </p:grpSpPr>
        <p:sp>
          <p:nvSpPr>
            <p:cNvPr id="232" name="Cloud"/>
            <p:cNvSpPr/>
            <p:nvPr/>
          </p:nvSpPr>
          <p:spPr>
            <a:xfrm>
              <a:off x="3424320" y="5381640"/>
              <a:ext cx="170460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5200" y="56163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31260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6800" y="2071800"/>
            <a:ext cx="4708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7516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er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168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68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162252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068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9068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68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3096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3096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3096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3096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3096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85040" y="16221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4040" y="1897200"/>
            <a:ext cx="55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095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339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9960" y="1405080"/>
            <a:ext cx="1122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1720" y="5791320"/>
            <a:ext cx="96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7520" y="5791320"/>
            <a:ext cx="966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9BAA-3C73-484B-B662-110711B9F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46:51Z</dcterms:modified>
  <cp:revision>95</cp:revision>
  <dc:subject/>
  <dc:title>XML</dc:title>
</cp:coreProperties>
</file>