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6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5"/>
          </p:nvPr>
        </p:nvSpPr>
        <p:spPr>
          <a:xfrm>
            <a:off x="3827160" y="-36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05A2-00BA-41C8-98F8-8D93E08CA192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910800" y="7408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74280" y="4687560"/>
            <a:ext cx="54054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6"/>
          </p:nvPr>
        </p:nvSpPr>
        <p:spPr>
          <a:xfrm>
            <a:off x="-360" y="937224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7"/>
          </p:nvPr>
        </p:nvSpPr>
        <p:spPr>
          <a:xfrm>
            <a:off x="3827160" y="937224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73E7-7CAF-4764-8515-7E763995AB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91116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4054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Means rep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Means 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1116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4054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 = “doument” | “rpc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A0538-5A6F-4F63-8D60-58D5444BE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2244A-DFED-42E9-9777-E86CEEC4F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5C6F1-976B-4FAF-8EAE-7A7547FDB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A0D80-DD58-44E6-9D10-7238086E9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B93B5-FE39-416C-AB54-F784FF602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F8B47-C7A5-43AE-AB69-A686EC9909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D6269-0B5D-4992-865C-C19C38CB2F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63C05-AA3B-4302-823D-5EB944D071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A8E73-17EF-45F5-BC0B-7DC9B86D964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7E9B8-E8C3-490B-9FB6-B73C2C065C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A3D56-A078-4BA1-AFEE-FB9B744D1D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0FDCF-F111-4365-A69E-275A16A57B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58779-4FC9-49EF-A621-EF776571AF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0945D-A915-4EB4-83C3-2F29C8DA2E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27AC7-B219-43FD-84BC-3B7A6FF9F1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F8375-90DF-41FD-B548-F50547BC3E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28858-1715-4D1E-8962-0D2D6B8C1D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CE6F0-BD09-4B54-9419-A2A990282BE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F96EE-1086-41E2-934A-7D93AA51EF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4FE74-4449-4A23-AD8D-E79D54870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CA094-1EAB-4A9D-AC8F-8DFA98FF0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7F5D5-EC88-403B-8A4E-F26B60249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2875E-F92C-4CD4-AF13-256D83DCA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4DAD2-B538-43CA-85EA-EC209E2DD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ECE9-4EAA-418E-B889-0666877A8F7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ftr" idx="3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footer&gt;</a:t>
            </a: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WSDL and SO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Num" idx="4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3C6D-7BD5-476E-A898-D00180DF6F0E}" type="slidenum"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109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14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658332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Arial"/>
              </a:rPr>
              <a:t>ISSGC’05 – June 2005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914400" algn="ctr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1af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3.org/TR/soap12-part0" TargetMode="External"/><Relationship Id="rId2" Type="http://schemas.openxmlformats.org/officeDocument/2006/relationships/hyperlink" Target="http://www.w3.org/TR/NOTE-SOAP-20000508" TargetMode="External"/><Relationship Id="rId3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b519a"/>
                </a:solidFill>
                <a:latin typeface="Arial"/>
              </a:rPr>
              <a:t>ISSGC’05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Web Services Descriptions and SOAP messages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160720" y="3676680"/>
            <a:ext cx="69832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Richard Hopkins, 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National e-Science Centre, Edinburgh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108320" y="57038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tandard Fault Cod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env:VersionMismatch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Un-recognised namespace for the env:Envelop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env:MustUnderstand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A mandatory header entry was not understood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env:Clien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It’s your fault (e.g. wrong info. In body); re-send won’t work.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Must have detail elemen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env:Server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It’s our fault (e.g an upstream processing node not responding).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Might succeed if sent later.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Can have detail elemen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B99C6-B6F8-4C9B-90B7-90BB3DC238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0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indefinite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indefinite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indefinite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SD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To be able to understand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SDL definition for a standard SOAP bind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 soap mess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AP Messag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 Structure of WSD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abstract Service Defini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Physical Service Definition - Co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hysical Service Definition - Extension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473720" y="3506760"/>
            <a:ext cx="4670280" cy="328680"/>
          </a:xfrm>
          <a:prstGeom prst="leftArrow">
            <a:avLst>
              <a:gd name="adj1" fmla="val 50000"/>
              <a:gd name="adj2" fmla="val 35523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79E02-F4AF-49B6-BF3D-502C1C5EF3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WSDL 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58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n XML forma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or describing network servic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Operates either 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Docum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Procedure call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Describes the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exposed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interface –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what the consumer sees of the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onstitutes a contract with the cli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Provides a specification of what is offered by the service provider which can be relied on by the service consumer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upports Separation of  concern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bstract structure – operations and mess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binding to a specific underlying protoco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definition of a particular deployed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o allow common definition and re-combin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Here using WSDL 1.1 – a W3C submission (March 2001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2.0 – is a last call working draft (Aug 2004) – many differenc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C1711-503E-44BC-ADEE-D520B95C16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Structure 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ompany Provides two types of Service (PortTypes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 Servic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et general information (GenInfo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Open an Account (OpenAcc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ustomers Service (being a “Customer” = having an account)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Purchase Order (PurchOrder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Invoice (Inv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Payment Advice (PayAdv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et Statement (GetStmt)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Notify overdue payment (Overdue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Both over two kinds of binding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Web  - HTTP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mail - SMTP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3767C-9B4B-4940-AA45-6D7E7FEAA7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stract Definition - PortTyp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080" y="808200"/>
            <a:ext cx="82627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tart with PortType = Interf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et of operation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For each operation, a number of messages – input; output; fault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Message is defined separately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53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as a number of message part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53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each part has a type (using schema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53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92240" y="3367080"/>
            <a:ext cx="232884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Gener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Info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OpenAcc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303960" y="2029680"/>
            <a:ext cx="2617920" cy="23151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Custo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urchOr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Oin, Error1,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GetStmt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Inv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PayAdv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Overdue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33640" y="3997440"/>
            <a:ext cx="29354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s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POin…Error1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06760" y="3225960"/>
            <a:ext cx="143028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Type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2651760" y="401400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rot="16200000">
            <a:off x="6050880" y="40042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051440" y="36147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590720" y="2857680"/>
            <a:ext cx="2057400" cy="11905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7FA9B-139A-4961-B4EA-3F00E5D16D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Definition -  Bin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1760" y="4713120"/>
            <a:ext cx="2087640" cy="325800"/>
          </a:xfrm>
          <a:prstGeom prst="rect">
            <a:avLst/>
          </a:prstGeom>
          <a:noFill/>
          <a:ln w="540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HT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51160" y="4713120"/>
            <a:ext cx="2087640" cy="325800"/>
          </a:xfrm>
          <a:prstGeom prst="rect">
            <a:avLst/>
          </a:prstGeom>
          <a:noFill/>
          <a:ln w="540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SM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713120" y="4713120"/>
            <a:ext cx="2087640" cy="325800"/>
          </a:xfrm>
          <a:prstGeom prst="rect">
            <a:avLst/>
          </a:prstGeom>
          <a:noFill/>
          <a:ln w="540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HT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42240" y="4713120"/>
            <a:ext cx="2087640" cy="325800"/>
          </a:xfrm>
          <a:prstGeom prst="rect">
            <a:avLst/>
          </a:prstGeom>
          <a:noFill/>
          <a:ln w="540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SM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07964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357280" y="43480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5480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17084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2240" y="3367080"/>
            <a:ext cx="232884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Gener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Info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OpenAcc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303960" y="3355920"/>
            <a:ext cx="261792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Custo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urchOr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…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933640" y="3997440"/>
            <a:ext cx="29354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s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POin…Error1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506760" y="3225960"/>
            <a:ext cx="143028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Type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5400000">
            <a:off x="2651760" y="401400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rot="16200000">
            <a:off x="6050880" y="40042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051440" y="36147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" y="830160"/>
            <a:ext cx="8396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Binding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68000" indent="-1800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 binding of a portType to a communication protocol for using i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68000" indent="-1800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pecifies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720000" indent="-1440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e portTyp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720000" indent="-1440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e underlying protocol(s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720000" indent="-1440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How the logical structure is represented using the underlying protoco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68000" indent="-1800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Here two bindings for each PortType – web, e-mai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6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CBEDA-085C-4096-8F5B-18A7719F98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8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3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8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8" dur="5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Definition -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31760" y="4713120"/>
            <a:ext cx="20876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HT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22400" y="5419800"/>
            <a:ext cx="4173480" cy="104436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25560" bIns="25560"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ervic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eral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22400" y="5427720"/>
            <a:ext cx="208728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Verdana"/>
              </a:rPr>
              <a:t>www. …/WS-we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351160" y="4713120"/>
            <a:ext cx="20876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SM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713120" y="4713120"/>
            <a:ext cx="20876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HT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942240" y="4713120"/>
            <a:ext cx="20876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SM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20824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WS-em@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36960" y="5408640"/>
            <a:ext cx="4173840" cy="105552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25560" bIns="25560"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ervic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Customer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83696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Verdana"/>
              </a:rPr>
              <a:t>www. …/WS-we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92316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WS-em@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07964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31760" y="505296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041640" y="50529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432400" y="505296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423200" y="50529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357280" y="43480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45480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17084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2240" y="3367080"/>
            <a:ext cx="232884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Gener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Info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OpenAcc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03960" y="3355920"/>
            <a:ext cx="261792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Custo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urchOr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…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933640" y="3997440"/>
            <a:ext cx="29354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s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POin…Error1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506760" y="3225960"/>
            <a:ext cx="143028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Type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5400000">
            <a:off x="2651760" y="401400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rot="16200000">
            <a:off x="6050880" y="40042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51440" y="36147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" y="919080"/>
            <a:ext cx="8396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ervice – defines one or more ports, each with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Location – URL – here sharing of locations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Binding and thus portTyp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The interface provided by the port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how it is realised over a particular protoco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Here one service for each portType – there are alternatives ….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72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ED91B-41B5-422C-9883-1D6264C200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0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7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2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2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7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391440" y="2941200"/>
            <a:ext cx="23288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Im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66680" y="2941200"/>
            <a:ext cx="23288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Im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tioning of WSD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31760" y="4713120"/>
            <a:ext cx="20876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HT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22400" y="6113520"/>
            <a:ext cx="417348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ervic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eral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22400" y="5427720"/>
            <a:ext cx="208728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Verdana"/>
              </a:rPr>
              <a:t>www. …/W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351160" y="4713120"/>
            <a:ext cx="20876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SM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713120" y="4713120"/>
            <a:ext cx="20876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HT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2240" y="4713120"/>
            <a:ext cx="20876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SM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0824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WS-EM@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836960" y="6113520"/>
            <a:ext cx="41738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ervic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Customer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83696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Verdana"/>
              </a:rPr>
              <a:t>www. …/W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92316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WS-EM@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07964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031760" y="505296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041640" y="50529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432400" y="505296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423200" y="50529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57280" y="43480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5480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7084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92240" y="3367080"/>
            <a:ext cx="232884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Gener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Info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OpenAcc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303960" y="3355920"/>
            <a:ext cx="261792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Custo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urchOrder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…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933640" y="3997440"/>
            <a:ext cx="29354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s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POin…Error1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506760" y="3225960"/>
            <a:ext cx="143028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Type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5400000">
            <a:off x="2651760" y="401400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 rot="16200000">
            <a:off x="6050880" y="40042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051440" y="36147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080" y="863640"/>
            <a:ext cx="90979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ould put all definitions in one WSDL file – that’s what is produced by JAX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For hand-crafted WSDL, could spread over multiple files, e.g. -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one WSDL file per service –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Gives control over publication use – CustomerService not in public registr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Different services may have semi-independent develop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common message and type definitions – may be shared between interfac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5440" y="4551480"/>
            <a:ext cx="4419720" cy="1949400"/>
          </a:xfrm>
          <a:prstGeom prst="rect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865600" y="3063960"/>
            <a:ext cx="3065400" cy="1365120"/>
          </a:xfrm>
          <a:prstGeom prst="rect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657680" y="4551480"/>
            <a:ext cx="4419720" cy="1949400"/>
          </a:xfrm>
          <a:prstGeom prst="rect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46320" y="2971800"/>
            <a:ext cx="1581120" cy="133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5894280" y="2970360"/>
            <a:ext cx="1570320" cy="66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235560" y="2860560"/>
            <a:ext cx="2841840" cy="1698840"/>
          </a:xfrm>
          <a:prstGeom prst="rect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5440" y="2863800"/>
            <a:ext cx="2546640" cy="1685880"/>
          </a:xfrm>
          <a:prstGeom prst="rect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3AF71-B2B6-4920-B8C2-BD6D688BB3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 flipV="1">
            <a:off x="7775640" y="2297160"/>
            <a:ext cx="706320" cy="1092240"/>
          </a:xfrm>
          <a:custGeom>
            <a:avLst/>
            <a:gdLst>
              <a:gd name="textAreaLeft" fmla="*/ 94320 w 706320"/>
              <a:gd name="textAreaRight" fmla="*/ 612000 w 706320"/>
              <a:gd name="textAreaTop" fmla="*/ 224640 h 1092240"/>
              <a:gd name="textAreaBottom" fmla="*/ 75816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93" stAng="-5400000" swAng="5400000"/>
                <a:lnTo>
                  <a:pt x="21600" y="10548"/>
                </a:lnTo>
                <a:arcTo wR="21600" hR="8893" stAng="0" swAng="3145378"/>
                <a:lnTo>
                  <a:pt x="6523" y="21185"/>
                </a:lnTo>
                <a:lnTo>
                  <a:pt x="0" y="18613"/>
                </a:lnTo>
                <a:lnTo>
                  <a:pt x="6523" y="15210"/>
                </a:lnTo>
                <a:lnTo>
                  <a:pt x="6523" y="17370"/>
                </a:lnTo>
                <a:arcTo wR="21600" hR="8893" stAng="3145378" swAng="-3013169"/>
                <a:lnTo>
                  <a:pt x="21506" y="9720"/>
                </a:lnTo>
                <a:arcTo wR="21600" hR="8893" stAng="-132209" swAng="-5267791"/>
                <a:close/>
              </a:path>
              <a:path fill="darkenLess" w="21600" h="21600">
                <a:moveTo>
                  <a:pt x="0" y="0"/>
                </a:moveTo>
                <a:arcTo wR="21600" hR="8893" stAng="-5400000" swAng="5400000"/>
                <a:lnTo>
                  <a:pt x="21600" y="10548"/>
                </a:lnTo>
                <a:arcTo wR="21600" hR="8893" stAng="0" swAng="-132209"/>
                <a:lnTo>
                  <a:pt x="21506" y="9720"/>
                </a:lnTo>
                <a:arcTo wR="21600" hR="8893" stAng="-132209" swAng="-5267791"/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7773840" y="2625120"/>
            <a:ext cx="700200" cy="2041560"/>
          </a:xfrm>
          <a:custGeom>
            <a:avLst/>
            <a:gdLst>
              <a:gd name="textAreaLeft" fmla="*/ 93600 w 700200"/>
              <a:gd name="textAreaRight" fmla="*/ 606600 w 700200"/>
              <a:gd name="textAreaTop" fmla="*/ 419760 h 2041560"/>
              <a:gd name="textAreaBottom" fmla="*/ 1416960 h 204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93" stAng="-5400000" swAng="5400000"/>
                <a:lnTo>
                  <a:pt x="21600" y="10548"/>
                </a:lnTo>
                <a:arcTo wR="21600" hR="8893" stAng="0" swAng="3145378"/>
                <a:lnTo>
                  <a:pt x="6523" y="21185"/>
                </a:lnTo>
                <a:lnTo>
                  <a:pt x="0" y="18613"/>
                </a:lnTo>
                <a:lnTo>
                  <a:pt x="6523" y="15210"/>
                </a:lnTo>
                <a:lnTo>
                  <a:pt x="6523" y="17370"/>
                </a:lnTo>
                <a:arcTo wR="21600" hR="8893" stAng="3145378" swAng="-3013169"/>
                <a:lnTo>
                  <a:pt x="21506" y="9720"/>
                </a:lnTo>
                <a:arcTo wR="21600" hR="8893" stAng="-132209" swAng="-5267791"/>
                <a:close/>
              </a:path>
              <a:path fill="darkenLess" w="21600" h="21600">
                <a:moveTo>
                  <a:pt x="0" y="0"/>
                </a:moveTo>
                <a:arcTo wR="21600" hR="8893" stAng="-5400000" swAng="5400000"/>
                <a:lnTo>
                  <a:pt x="21600" y="10548"/>
                </a:lnTo>
                <a:arcTo wR="21600" hR="8893" stAng="0" swAng="-132209"/>
                <a:lnTo>
                  <a:pt x="21506" y="9720"/>
                </a:lnTo>
                <a:arcTo wR="21600" hR="8893" stAng="-132209" swAng="-5267791"/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569880" y="1057320"/>
            <a:ext cx="7118280" cy="423360"/>
            <a:chOff x="569880" y="1057320"/>
            <a:chExt cx="7118280" cy="423360"/>
          </a:xfrm>
        </p:grpSpPr>
        <p:sp>
          <p:nvSpPr>
            <p:cNvPr id="433" name=""/>
            <p:cNvSpPr/>
            <p:nvPr/>
          </p:nvSpPr>
          <p:spPr>
            <a:xfrm>
              <a:off x="782640" y="1057320"/>
              <a:ext cx="690552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&lt;import&gt; incorporate external definitions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9880" y="1170000"/>
              <a:ext cx="161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569880" y="5105520"/>
            <a:ext cx="7112160" cy="312120"/>
            <a:chOff x="569880" y="5105520"/>
            <a:chExt cx="7112160" cy="312120"/>
          </a:xfrm>
        </p:grpSpPr>
        <p:sp>
          <p:nvSpPr>
            <p:cNvPr id="436" name=""/>
            <p:cNvSpPr/>
            <p:nvPr/>
          </p:nvSpPr>
          <p:spPr>
            <a:xfrm>
              <a:off x="790560" y="5106960"/>
              <a:ext cx="689148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&lt;binding&gt;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 how messages will be transmitted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9880" y="5105520"/>
              <a:ext cx="161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69880" y="2706840"/>
            <a:ext cx="7112160" cy="785160"/>
            <a:chOff x="569880" y="2706840"/>
            <a:chExt cx="7112160" cy="785160"/>
          </a:xfrm>
        </p:grpSpPr>
        <p:sp>
          <p:nvSpPr>
            <p:cNvPr id="439" name=""/>
            <p:cNvSpPr/>
            <p:nvPr/>
          </p:nvSpPr>
          <p:spPr>
            <a:xfrm>
              <a:off x="790560" y="2706840"/>
              <a:ext cx="689148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&lt;message&gt;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 transmittable messages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9880" y="2768760"/>
              <a:ext cx="161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184560" y="3154320"/>
              <a:ext cx="446400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&lt;part&gt;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844720" y="3181320"/>
              <a:ext cx="2844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69880" y="5653080"/>
            <a:ext cx="7112160" cy="786960"/>
            <a:chOff x="569880" y="5653080"/>
            <a:chExt cx="7112160" cy="786960"/>
          </a:xfrm>
        </p:grpSpPr>
        <p:sp>
          <p:nvSpPr>
            <p:cNvPr id="444" name=""/>
            <p:cNvSpPr/>
            <p:nvPr/>
          </p:nvSpPr>
          <p:spPr>
            <a:xfrm>
              <a:off x="790560" y="5653080"/>
              <a:ext cx="689148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&lt;service&gt;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 how a service is accessed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9880" y="5680080"/>
              <a:ext cx="161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84560" y="6129360"/>
              <a:ext cx="449100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&lt;port&gt;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	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 web-address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	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	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ref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44720" y="6108840"/>
              <a:ext cx="2844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69880" y="3583080"/>
            <a:ext cx="7112160" cy="1209240"/>
            <a:chOff x="569880" y="3583080"/>
            <a:chExt cx="7112160" cy="1209240"/>
          </a:xfrm>
        </p:grpSpPr>
        <p:sp>
          <p:nvSpPr>
            <p:cNvPr id="449" name=""/>
            <p:cNvSpPr/>
            <p:nvPr/>
          </p:nvSpPr>
          <p:spPr>
            <a:xfrm>
              <a:off x="790560" y="3583080"/>
              <a:ext cx="689148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&lt;portType&gt;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 interface – operations and assoc. messages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69880" y="3645000"/>
              <a:ext cx="161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84560" y="4035600"/>
              <a:ext cx="446544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&lt;operation&gt;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44720" y="4062240"/>
              <a:ext cx="2844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37080" y="4481640"/>
              <a:ext cx="309564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&lt;MESSAGETYPE&gt;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59080" y="4460760"/>
              <a:ext cx="2844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331920" y="919080"/>
            <a:ext cx="7448400" cy="5621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7775640" y="3382200"/>
            <a:ext cx="706320" cy="1925640"/>
          </a:xfrm>
          <a:custGeom>
            <a:avLst/>
            <a:gdLst>
              <a:gd name="textAreaLeft" fmla="*/ 94320 w 706320"/>
              <a:gd name="textAreaRight" fmla="*/ 612000 w 706320"/>
              <a:gd name="textAreaTop" fmla="*/ 414000 h 1925640"/>
              <a:gd name="textAreaBottom" fmla="*/ 1318320 h 19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00" stAng="-5400000" swAng="5400000"/>
                <a:lnTo>
                  <a:pt x="21600" y="10140"/>
                </a:lnTo>
                <a:arcTo wR="21600" hR="9300" stAng="0" swAng="3219375"/>
                <a:lnTo>
                  <a:pt x="6523" y="21166"/>
                </a:lnTo>
                <a:lnTo>
                  <a:pt x="0" y="19020"/>
                </a:lnTo>
                <a:lnTo>
                  <a:pt x="6523" y="16006"/>
                </a:lnTo>
                <a:lnTo>
                  <a:pt x="6523" y="18166"/>
                </a:lnTo>
                <a:arcTo wR="21600" hR="9300" stAng="3219375" swAng="-3152470"/>
                <a:lnTo>
                  <a:pt x="21578" y="9720"/>
                </a:lnTo>
                <a:arcTo wR="21600" hR="9300" stAng="-66905" swAng="-5333095"/>
                <a:close/>
              </a:path>
              <a:path fill="darkenLess" w="21600" h="21600">
                <a:moveTo>
                  <a:pt x="0" y="0"/>
                </a:moveTo>
                <a:arcTo wR="21600" hR="9300" stAng="-5400000" swAng="5400000"/>
                <a:lnTo>
                  <a:pt x="21600" y="10140"/>
                </a:lnTo>
                <a:arcTo wR="21600" hR="9300" stAng="0" swAng="-66905"/>
                <a:lnTo>
                  <a:pt x="21578" y="9720"/>
                </a:lnTo>
                <a:arcTo wR="21600" hR="9300" stAng="-66905" swAng="-5333095"/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567360" y="1471680"/>
            <a:ext cx="7114680" cy="1126440"/>
            <a:chOff x="567360" y="1471680"/>
            <a:chExt cx="7114680" cy="1126440"/>
          </a:xfrm>
        </p:grpSpPr>
        <p:sp>
          <p:nvSpPr>
            <p:cNvPr id="458" name=""/>
            <p:cNvSpPr/>
            <p:nvPr/>
          </p:nvSpPr>
          <p:spPr>
            <a:xfrm>
              <a:off x="790560" y="1471680"/>
              <a:ext cx="689148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&lt;types&gt;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 logic structure of data being transmitted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67360" y="1552680"/>
              <a:ext cx="1465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?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84560" y="1895400"/>
              <a:ext cx="441972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&lt;schema&gt;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44720" y="1922400"/>
              <a:ext cx="2844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48240" y="2287440"/>
              <a:ext cx="305604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&lt;TYPE&gt;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95880" y="2271600"/>
              <a:ext cx="2840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52280" y="4951440"/>
            <a:ext cx="87724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52280" y="1414440"/>
            <a:ext cx="87724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10800000">
            <a:off x="8646840" y="2656440"/>
            <a:ext cx="45468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Abstrac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10800000">
            <a:off x="8689680" y="5031720"/>
            <a:ext cx="4546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Physic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7775640" y="5288040"/>
            <a:ext cx="706320" cy="1092240"/>
          </a:xfrm>
          <a:custGeom>
            <a:avLst/>
            <a:gdLst>
              <a:gd name="textAreaLeft" fmla="*/ 94320 w 706320"/>
              <a:gd name="textAreaRight" fmla="*/ 612000 w 706320"/>
              <a:gd name="textAreaTop" fmla="*/ 224640 h 1092240"/>
              <a:gd name="textAreaBottom" fmla="*/ 75816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93" stAng="-5400000" swAng="5400000"/>
                <a:lnTo>
                  <a:pt x="21600" y="10548"/>
                </a:lnTo>
                <a:arcTo wR="21600" hR="8893" stAng="0" swAng="3145378"/>
                <a:lnTo>
                  <a:pt x="6523" y="21185"/>
                </a:lnTo>
                <a:lnTo>
                  <a:pt x="0" y="18613"/>
                </a:lnTo>
                <a:lnTo>
                  <a:pt x="6523" y="15210"/>
                </a:lnTo>
                <a:lnTo>
                  <a:pt x="6523" y="17370"/>
                </a:lnTo>
                <a:arcTo wR="21600" hR="8893" stAng="3145378" swAng="-3013169"/>
                <a:lnTo>
                  <a:pt x="21506" y="9720"/>
                </a:lnTo>
                <a:arcTo wR="21600" hR="8893" stAng="-132209" swAng="-5267791"/>
                <a:close/>
              </a:path>
              <a:path fill="darkenLess" w="21600" h="21600">
                <a:moveTo>
                  <a:pt x="0" y="0"/>
                </a:moveTo>
                <a:arcTo wR="21600" hR="8893" stAng="-5400000" swAng="5400000"/>
                <a:lnTo>
                  <a:pt x="21600" y="10548"/>
                </a:lnTo>
                <a:arcTo wR="21600" hR="8893" stAng="0" swAng="-132209"/>
                <a:lnTo>
                  <a:pt x="21506" y="9720"/>
                </a:lnTo>
                <a:arcTo wR="21600" hR="8893" stAng="-132209" swAng="-5267791"/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50439-CD2A-482B-8D67-50DC3B20A1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indefinite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indefinite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indefinite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reaucrac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9840" y="888840"/>
            <a:ext cx="6040440" cy="56156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?xml version=“1.0” encoding="UTF-8"?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definitions  name=“CustServWSDL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wsdl:targetNamespace =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TTP://ex.org/wsdl/Cus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xmlns: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w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=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TTP://ex.org/wsdl/Cus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xmlns:wsdl=“…xmlsoap.org/wsdl/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xmlns:soap =“…xmlsoap.org/wsdl/soap/”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xmlns:y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Verdana"/>
              </a:rPr>
              <a:t>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xmlns: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=“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 … …   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import namespac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 location=“Yloc”&gt;   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types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schema targetNameSpace=“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&gt; …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   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message&gt; …. &lt;/&gt;….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portType&gt; …. &lt;/&gt;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binding&gt; ….    &lt;/&gt;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service&gt; ….   &lt;/&gt;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360120" y="1674720"/>
            <a:ext cx="2747880" cy="6422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Name – optional,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Lightweight documenta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4644720" y="1477440"/>
            <a:ext cx="1703160" cy="21132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5468400" y="1904760"/>
            <a:ext cx="878040" cy="55692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357960" y="3452760"/>
            <a:ext cx="2638080" cy="6422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Use definitions for: wsdl;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its SOAP extension; …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358680" y="4176720"/>
            <a:ext cx="2598480" cy="6422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Namespaces prefixes fo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imported schemas/wsdls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58320" y="4902120"/>
            <a:ext cx="2624400" cy="6422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Namespaces prefixes for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local schema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357960" y="887400"/>
            <a:ext cx="1914120" cy="3106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An XML docu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4749480" y="1012680"/>
            <a:ext cx="1616040" cy="3816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4730400" y="1379160"/>
            <a:ext cx="1639800" cy="972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356880" y="1281240"/>
            <a:ext cx="2170440" cy="3106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Root  –  WSDL Defn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 flipV="1">
            <a:off x="5385960" y="2599920"/>
            <a:ext cx="981000" cy="91764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600280" y="3029040"/>
            <a:ext cx="3702240" cy="1190520"/>
          </a:xfrm>
          <a:custGeom>
            <a:avLst/>
            <a:gdLst/>
            <a:ahLst/>
            <a:rect l="l" t="t" r="r" b="b"/>
            <a:pathLst>
              <a:path w="2312" h="758">
                <a:moveTo>
                  <a:pt x="2312" y="758"/>
                </a:moveTo>
                <a:lnTo>
                  <a:pt x="1901" y="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00760" y="3718080"/>
            <a:ext cx="1344600" cy="868320"/>
          </a:xfrm>
          <a:custGeom>
            <a:avLst/>
            <a:gdLst/>
            <a:ahLst/>
            <a:rect l="l" t="t" r="r" b="b"/>
            <a:pathLst>
              <a:path w="639" h="619">
                <a:moveTo>
                  <a:pt x="639" y="619"/>
                </a:moveTo>
                <a:lnTo>
                  <a:pt x="360" y="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844720" y="3402000"/>
            <a:ext cx="3463920" cy="1595520"/>
          </a:xfrm>
          <a:custGeom>
            <a:avLst/>
            <a:gdLst/>
            <a:ahLst/>
            <a:rect l="l" t="t" r="r" b="b"/>
            <a:pathLst>
              <a:path w="2312" h="758">
                <a:moveTo>
                  <a:pt x="2312" y="758"/>
                </a:moveTo>
                <a:lnTo>
                  <a:pt x="1901" y="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5386320" y="4383000"/>
            <a:ext cx="944640" cy="74160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427560" y="4861080"/>
            <a:ext cx="226800" cy="1319040"/>
          </a:xfrm>
          <a:custGeom>
            <a:avLst/>
            <a:gdLst>
              <a:gd name="textAreaLeft" fmla="*/ 0 w 226800"/>
              <a:gd name="textAreaRight" fmla="*/ 81720 w 226800"/>
              <a:gd name="textAreaTop" fmla="*/ 34200 h 1319040"/>
              <a:gd name="textAreaBottom" fmla="*/ 1284840 h 13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357240" y="5662440"/>
            <a:ext cx="2639880" cy="6422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Declaration of multiple –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messages, portTypes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3754440" y="5487840"/>
            <a:ext cx="2581200" cy="25416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358320" y="2398680"/>
            <a:ext cx="2002680" cy="9738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targetNameSpace,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for internal namin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Define  prefix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214960" y="2333520"/>
            <a:ext cx="203040" cy="498600"/>
          </a:xfrm>
          <a:custGeom>
            <a:avLst/>
            <a:gdLst>
              <a:gd name="textAreaLeft" fmla="*/ 0 w 203040"/>
              <a:gd name="textAreaRight" fmla="*/ 73440 w 203040"/>
              <a:gd name="textAreaTop" fmla="*/ 12960 h 498600"/>
              <a:gd name="textAreaBottom" fmla="*/ 485640 h 49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51480" y="2084400"/>
            <a:ext cx="1760400" cy="1035000"/>
          </a:xfrm>
          <a:custGeom>
            <a:avLst/>
            <a:gdLst/>
            <a:ahLst/>
            <a:rect l="l" t="t" r="r" b="b"/>
            <a:pathLst>
              <a:path w="2457" h="695">
                <a:moveTo>
                  <a:pt x="2457" y="695"/>
                </a:moveTo>
                <a:lnTo>
                  <a:pt x="2045" y="15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36520" y="1405080"/>
            <a:ext cx="0" cy="45972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6520" y="36892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99960" y="4008600"/>
            <a:ext cx="0" cy="3315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19160" y="1398600"/>
            <a:ext cx="27936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6520" y="53434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6520" y="40086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11120" y="43369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6520" y="60069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6520" y="50306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6520" y="56610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2DB08-991C-487C-9921-7F03BD6F0A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To be able to understand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SDL definition for a standard SOAP bind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 soap mess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AP Messag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 Structure of WSD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abstract Service Defini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Physical Service Definition - Co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hysical Service Definition - Extension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27480" y="3156120"/>
            <a:ext cx="5816520" cy="328320"/>
          </a:xfrm>
          <a:prstGeom prst="leftArrow">
            <a:avLst>
              <a:gd name="adj1" fmla="val 50000"/>
              <a:gd name="adj2" fmla="val 44290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B6831-6390-4401-8AF4-725126053D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STRACT SERVICE DEFINI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To be able to understand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SDL definition for a standard SOAP bind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 soap mess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AP Messag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 Structure of WSD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abstract Service Defini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Physical Service Definition - Co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hysical Service Definition - Extension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72080" y="3911760"/>
            <a:ext cx="3571920" cy="328320"/>
          </a:xfrm>
          <a:prstGeom prst="leftArrow">
            <a:avLst>
              <a:gd name="adj1" fmla="val 50000"/>
              <a:gd name="adj2" fmla="val 27198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E0157-FE35-4DC5-872C-A32A13C6E0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and Messag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63440" y="2454120"/>
            <a:ext cx="5810400" cy="3943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18000" tIns="18000" bIns="180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?xml version="1.0" encoding="UTF-8" ?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 definitions ….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xmlns:m = “…/mytypes/serviceA”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 types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xsd: schema …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targetNamespace= “…/mytypes/serviceA”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xs:complexType name="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relude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"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xs:sequence&gt;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xs:element name="Account“ type=“xs:string”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xs:element name="Date" type="xs:date"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xs:complexType name="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entries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"&gt; …. 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…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103800" y="959760"/>
            <a:ext cx="2895840" cy="23151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Typ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relude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OentriesT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208560" y="333216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362720" y="1857240"/>
            <a:ext cx="1116000" cy="2435400"/>
          </a:xfrm>
          <a:custGeom>
            <a:avLst/>
            <a:gdLst/>
            <a:ahLst/>
            <a:rect l="l" t="t" r="r" b="b"/>
            <a:pathLst>
              <a:path w="613" h="1261">
                <a:moveTo>
                  <a:pt x="352" y="1261"/>
                </a:moveTo>
                <a:lnTo>
                  <a:pt x="582" y="1261"/>
                </a:lnTo>
                <a:lnTo>
                  <a:pt x="613" y="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1320" y="918720"/>
            <a:ext cx="5568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YPES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Each type is for one or more message part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Need a target namespace, as for any Schema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 prefix  for use in message part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073920" y="3762360"/>
            <a:ext cx="2935080" cy="26467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: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Oi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a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relud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a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Oentries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GetStmtI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art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Prelud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Error1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497720" y="1722600"/>
            <a:ext cx="1087560" cy="3551040"/>
          </a:xfrm>
          <a:custGeom>
            <a:avLst/>
            <a:gdLst/>
            <a:ahLst/>
            <a:rect l="l" t="t" r="r" b="b"/>
            <a:pathLst>
              <a:path w="613" h="1261">
                <a:moveTo>
                  <a:pt x="352" y="1261"/>
                </a:moveTo>
                <a:lnTo>
                  <a:pt x="582" y="1261"/>
                </a:lnTo>
                <a:lnTo>
                  <a:pt x="613" y="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362720" y="1857240"/>
            <a:ext cx="1116000" cy="2435400"/>
          </a:xfrm>
          <a:custGeom>
            <a:avLst/>
            <a:gdLst/>
            <a:ahLst/>
            <a:rect l="l" t="t" r="r" b="b"/>
            <a:pathLst>
              <a:path w="613" h="1261">
                <a:moveTo>
                  <a:pt x="352" y="1261"/>
                </a:moveTo>
                <a:lnTo>
                  <a:pt x="582" y="1261"/>
                </a:lnTo>
                <a:lnTo>
                  <a:pt x="613" y="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691400" y="2771640"/>
            <a:ext cx="604800" cy="1838520"/>
          </a:xfrm>
          <a:custGeom>
            <a:avLst/>
            <a:gdLst/>
            <a:ahLst/>
            <a:rect l="l" t="t" r="r" b="b"/>
            <a:pathLst>
              <a:path w="613" h="1261">
                <a:moveTo>
                  <a:pt x="352" y="1261"/>
                </a:moveTo>
                <a:lnTo>
                  <a:pt x="582" y="1261"/>
                </a:lnTo>
                <a:lnTo>
                  <a:pt x="613" y="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5145120" y="1719360"/>
            <a:ext cx="595440" cy="22795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787920" y="2093760"/>
            <a:ext cx="365040" cy="9907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89080" y="2919240"/>
            <a:ext cx="0" cy="3311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9240" y="2919240"/>
            <a:ext cx="18396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79360" y="354348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12920" y="3546360"/>
            <a:ext cx="0" cy="26290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23720" y="3851280"/>
            <a:ext cx="1954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06520" y="3857760"/>
            <a:ext cx="0" cy="21970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04720" y="5958000"/>
            <a:ext cx="2685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28560" y="4471920"/>
            <a:ext cx="0" cy="2761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04720" y="4457880"/>
            <a:ext cx="2685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38280" y="475632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09640" y="4759200"/>
            <a:ext cx="0" cy="5749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8480" y="504360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98480" y="534204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3A023-3265-4A63-BC6B-186619FB09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452920" y="4724280"/>
            <a:ext cx="35769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25faf"/>
                </a:solidFill>
                <a:latin typeface="Verdana"/>
              </a:rPr>
              <a:t>Defined type – the namespace of the in-line schema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and Messa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3480" y="932040"/>
            <a:ext cx="87980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ess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29680" indent="-2296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Has a name – so message can be referenced by a portType defini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29680" indent="-2296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nsists of one or more parts,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97520" indent="-1911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ach part is a logical unit, e.g. a parameter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765720" indent="-1530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o parts in WSDL 2.0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97520" indent="-1911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Has a name so that it can be referenced by a Binding defini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765720" indent="-1530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.g to put one part in a header and the other part in the bod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97520" indent="-1911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Has a type –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765720" indent="-1530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 Schema type definition or a Schema element defini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765720" indent="-1530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 standard type – from an imported Schema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2400" y="4367160"/>
            <a:ext cx="5176800" cy="19684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message name=“POin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“Prelude” typ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Prelude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 “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Oentries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yp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accInfo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message name=“OverdueIn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“excuse” type=“xs:string”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51680" y="4121280"/>
            <a:ext cx="29923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25faf"/>
                </a:solidFill>
                <a:latin typeface="Verdana"/>
              </a:rPr>
              <a:t>Input message for the purchase order operation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3530520" y="4521240"/>
            <a:ext cx="2689200" cy="921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61120" y="4807080"/>
            <a:ext cx="142920" cy="450720"/>
          </a:xfrm>
          <a:custGeom>
            <a:avLst/>
            <a:gdLst>
              <a:gd name="textAreaLeft" fmla="*/ 0 w 142920"/>
              <a:gd name="textAreaRight" fmla="*/ 51480 w 142920"/>
              <a:gd name="textAreaTop" fmla="*/ 11520 h 450720"/>
              <a:gd name="textAreaBottom" fmla="*/ 439200 h 45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4743360" y="5850000"/>
            <a:ext cx="7444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456160" y="5518080"/>
            <a:ext cx="36878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25faf"/>
                </a:solidFill>
                <a:latin typeface="Verdana"/>
              </a:rPr>
              <a:t>Input (response) message for the Overdue Payment operation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 flipV="1">
            <a:off x="4830480" y="6176880"/>
            <a:ext cx="685800" cy="201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6213600"/>
            <a:ext cx="3467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25faf"/>
                </a:solidFill>
                <a:latin typeface="Verdana"/>
              </a:rPr>
              <a:t>standard type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1E2B9-DD70-491C-8A7F-5727B9BAF9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0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rtTyp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67760" y="929880"/>
            <a:ext cx="648828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PORTTYPE – an interface comprising a set of operation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Organisation of functionality into portTypes and operations is similar to O-O desig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A portType is a coherent unit of exposed functionality – operations make sense togeth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.g. Currency conversion might be a service used in processing customer transac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But would not expect a convertCurrency operation for this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But … larger granularity than O-O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Deployment consideration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plit between General and Customer may be that say General has a wider range of available bindings/locatio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Each operation declares a number of messages which can be communicated as the interface to the oper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These messages conform to one of four message exchange patterns – input/output sequencing …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23160" y="947880"/>
            <a:ext cx="2135160" cy="3641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Custo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urchOr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Oi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Oou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Faul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Error1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verdu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013520" y="4739400"/>
            <a:ext cx="2000160" cy="1652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Gener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Info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OpenAcc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9DE09-8374-4C95-9C36-7777726506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8" dur="indefinite" restart="never" nodeType="tmRoot">
          <p:childTnLst>
            <p:seq>
              <p:cTn id="1629" dur="indefinite" nodeType="mainSeq">
                <p:childTnLst>
                  <p:par>
                    <p:cTn id="1630" fill="hold">
                      <p:stCondLst>
                        <p:cond delay="0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ssage Exchange Patter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96840" y="3367080"/>
            <a:ext cx="232884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Gener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Info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OpenAcc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08720" y="2361240"/>
            <a:ext cx="2617920" cy="19836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Custo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urchOrder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GetStmt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Inv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PayAdv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Overdue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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806560" y="2666880"/>
            <a:ext cx="3202200" cy="1652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s: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Oin, POout, Err1,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InvoiceOut,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ayAdvIn,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ODueOut, ODueResp, Err2,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87480" y="2906640"/>
            <a:ext cx="143028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Type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rot="5400000">
            <a:off x="2556360" y="401400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 rot="16200000">
            <a:off x="6155640" y="40042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1440" y="912960"/>
            <a:ext cx="5210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Four  patterns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25faf"/>
                </a:solidFill>
                <a:latin typeface="Wingdings"/>
                <a:ea typeface="Wingdings"/>
              </a:rPr>
              <a:t>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IN then OUT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Request/Response – most usua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325fa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UT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Notify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25faf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IN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ne-way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Wingdings"/>
                <a:ea typeface="Wingdings"/>
              </a:rPr>
              <a:t>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UT then IN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Solicit/Respons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921280" y="919080"/>
            <a:ext cx="24876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*</a:t>
            </a: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Reversed rol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ervice Provider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proactive = clien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ervice Consum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reactive = serv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08200" y="5119560"/>
            <a:ext cx="30456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128600" y="5246640"/>
            <a:ext cx="226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706400" y="4892760"/>
            <a:ext cx="631800" cy="337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POi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139760" y="5391000"/>
            <a:ext cx="226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90120" y="5408640"/>
            <a:ext cx="755280" cy="337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POou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89240" y="454500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Provid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17840" y="5119560"/>
            <a:ext cx="30492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122280" y="454500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Consum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08200" y="6134040"/>
            <a:ext cx="30456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1128600" y="6261120"/>
            <a:ext cx="226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417840" y="6134040"/>
            <a:ext cx="30492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305720" y="5907240"/>
            <a:ext cx="1050840" cy="337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PayAdvI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884840" y="454500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Provid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203800" y="5835600"/>
            <a:ext cx="30492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524560" y="5962680"/>
            <a:ext cx="2268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104880" y="5608800"/>
            <a:ext cx="1284120" cy="337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OverdueOu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5535360" y="6107040"/>
            <a:ext cx="2268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74040" y="6124680"/>
            <a:ext cx="1872360" cy="337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OverdueRespons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813800" y="5835600"/>
            <a:ext cx="30456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518240" y="454500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Consum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203800" y="5099040"/>
            <a:ext cx="30492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813800" y="5099040"/>
            <a:ext cx="30456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02760" y="4871880"/>
            <a:ext cx="1151640" cy="337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InvoiceOu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524560" y="5214960"/>
            <a:ext cx="2268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 rot="16200000">
            <a:off x="2552400" y="284724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739960" y="1457280"/>
            <a:ext cx="25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54360" y="1943280"/>
            <a:ext cx="16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870600" y="478476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388280" y="553392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664400" y="615168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45133-D71F-4066-8744-B9DEA1A515F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2" dur="indefinite" restart="never" nodeType="tmRoot">
          <p:childTnLst>
            <p:seq>
              <p:cTn id="1663" dur="indefinite" nodeType="mainSeq">
                <p:childTnLst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indefinite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indefinite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indefinite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indefinite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indefinite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indefinite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indefinite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indefinite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indefinite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indefinite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indefinite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indefinite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indefinite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indefinite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indefinite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indefinite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indefinite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indefinite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indefinite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indefinite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indefinite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indefinite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indefinite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indefinite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indefinite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indefinite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indefinite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ssage Exchange Patter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68120" y="930240"/>
            <a:ext cx="481032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essage exchange pattern is determined by sequence of message declaration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Wingdings"/>
                <a:ea typeface="Wingdings"/>
              </a:rPr>
              <a:t>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Request-Response –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8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output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8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fault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*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Wingdings"/>
                <a:ea typeface="Wingdings"/>
              </a:rPr>
              <a:t>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olicit-Response –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output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8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input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8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fault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otify –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One-way (Request) –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ingle message patterns can’t have fault mess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(in WSDL 2.0 this is explicit and more general – named patterns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68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040440" y="947880"/>
            <a:ext cx="3017880" cy="43045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Custo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urchOr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Oi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Oou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Faul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Error1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du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OverdueOu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OverdueI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Fault: ErrorThreat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ut: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InvOu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ayAdv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In: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ayAdvI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E2A63-7A44-417E-A3FE-98A53A99B5A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fill="hold">
                      <p:stCondLst>
                        <p:cond delay="0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est - Respon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20680" y="5408640"/>
            <a:ext cx="5086440" cy="973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message name=“POin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“Prelude” typ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Prelude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 “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Oentries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yp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accInfo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20240" y="853920"/>
            <a:ext cx="88311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b519a"/>
                </a:solidFill>
                <a:latin typeface="Arial"/>
              </a:rPr>
              <a:t>Message to service provider; reply to service consumer; possible fault messages</a:t>
            </a: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 logical pattern, Binding might be e.g. An HTTP request/response or two  HTTP request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880" y="2015640"/>
            <a:ext cx="5165280" cy="32947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18000" tIns="18000" bIns="1800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portType name=“CustomerP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“PurchOrder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m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rchOrderRequest”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message=“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POin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utpu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rchOrderRespons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POou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ul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“Error1”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Error1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…&gt; &lt;/&gt; …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527280" y="3160800"/>
            <a:ext cx="2198880" cy="2433600"/>
          </a:xfrm>
          <a:custGeom>
            <a:avLst/>
            <a:gdLst/>
            <a:ahLst/>
            <a:rect l="l" t="t" r="r" b="b"/>
            <a:pathLst>
              <a:path w="1385" h="1533">
                <a:moveTo>
                  <a:pt x="421" y="0"/>
                </a:moveTo>
                <a:lnTo>
                  <a:pt x="1385" y="84"/>
                </a:lnTo>
                <a:lnTo>
                  <a:pt x="1379" y="1508"/>
                </a:lnTo>
                <a:lnTo>
                  <a:pt x="0" y="1533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010200" y="2500200"/>
            <a:ext cx="30862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vide a name for that message in this context, to be referenced by Binding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fault message name –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peration + request/respons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4948200" y="2641680"/>
            <a:ext cx="1152720" cy="10800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716360" y="2720880"/>
            <a:ext cx="1384560" cy="68112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745240" y="4351320"/>
            <a:ext cx="335124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fer to a message defini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sing the WSDL’s target namespac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.xmlns=“…/wsdl/…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hereas messages use schema namespa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.xlmns=“…/types/…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503600" y="3848040"/>
            <a:ext cx="1098720" cy="2486160"/>
          </a:xfrm>
          <a:custGeom>
            <a:avLst/>
            <a:gdLst/>
            <a:ahLst/>
            <a:rect l="l" t="t" r="r" b="b"/>
            <a:pathLst>
              <a:path w="692" h="1566">
                <a:moveTo>
                  <a:pt x="0" y="0"/>
                </a:moveTo>
                <a:lnTo>
                  <a:pt x="692" y="74"/>
                </a:lnTo>
                <a:lnTo>
                  <a:pt x="691" y="1540"/>
                </a:lnTo>
                <a:lnTo>
                  <a:pt x="569" y="1566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578560" y="1771560"/>
            <a:ext cx="30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vide a Port/OP.  names, to be referenced by Binding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4208400" y="1974960"/>
            <a:ext cx="1419120" cy="16992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08000" y="1986120"/>
            <a:ext cx="0" cy="33019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08000" y="215280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41200" y="2155680"/>
            <a:ext cx="0" cy="3124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72960" y="2495520"/>
            <a:ext cx="0" cy="2368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50920" y="249552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4120" y="282888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4120" y="349560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4120" y="414324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0920" y="516240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4300560" y="2021040"/>
            <a:ext cx="1373040" cy="42840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D7FEA-2FDF-4957-9E39-FAE567311B4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icit - Respon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68120" y="930240"/>
            <a:ext cx="883152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essage from service provider to consumer; reply from consumer to provider; possible fault messag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502960" y="5589720"/>
            <a:ext cx="307476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Default message name –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operation + solicit/response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35000" y="2746440"/>
            <a:ext cx="8161200" cy="26316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portType name=“CustomerP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“Overdue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m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verdueSolicit”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message=“w:OverdueOu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m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verdueRespons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ssage=“w:OverdueIn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ul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me=“Threat” message=“w:ErrorThrea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…&gt; &lt;/&gt; …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607E0-5532-4708-816F-738BBBDBAF7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2" dur="indefinite" restart="never" nodeType="tmRoot">
          <p:childTnLst>
            <p:seq>
              <p:cTn id="1923" dur="indefinite" nodeType="mainSeq">
                <p:childTnLst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gle Messa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68120" y="930240"/>
            <a:ext cx="8831520" cy="24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Notify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Message from service provider to consumer, with no repl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xample – “Invoice”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end an invo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One-way -  Request with no repl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Message from service consumer to provider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xample – “payment advice”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ompany gets notification from customer that a payment has been mad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25360" y="3713040"/>
            <a:ext cx="7243920" cy="2300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portType name=“CustomerP”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“Inv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m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v”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message=“w:InvOut”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“w:PayAdv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m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ayAdv”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message=“w:PayAdvIn”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97440" y="6134040"/>
            <a:ext cx="4927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Default message name – operation name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210440" y="4541760"/>
            <a:ext cx="299880" cy="449280"/>
          </a:xfrm>
          <a:custGeom>
            <a:avLst/>
            <a:gdLst>
              <a:gd name="textAreaLeft" fmla="*/ 0 w 299880"/>
              <a:gd name="textAreaRight" fmla="*/ 108360 w 299880"/>
              <a:gd name="textAreaTop" fmla="*/ 11520 h 449280"/>
              <a:gd name="textAreaBottom" fmla="*/ 43776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192480" y="1768320"/>
            <a:ext cx="5802120" cy="3013200"/>
          </a:xfrm>
          <a:custGeom>
            <a:avLst/>
            <a:gdLst/>
            <a:ahLst/>
            <a:rect l="l" t="t" r="r" b="b"/>
            <a:pathLst>
              <a:path w="3655" h="1898">
                <a:moveTo>
                  <a:pt x="2758" y="1898"/>
                </a:moveTo>
                <a:lnTo>
                  <a:pt x="3655" y="1873"/>
                </a:lnTo>
                <a:lnTo>
                  <a:pt x="3655" y="29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688320" y="5095800"/>
            <a:ext cx="330120" cy="569880"/>
          </a:xfrm>
          <a:custGeom>
            <a:avLst/>
            <a:gdLst>
              <a:gd name="textAreaLeft" fmla="*/ 0 w 330120"/>
              <a:gd name="textAreaRight" fmla="*/ 119160 w 330120"/>
              <a:gd name="textAreaTop" fmla="*/ 14760 h 569880"/>
              <a:gd name="textAreaBottom" fmla="*/ 555120 h 56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255600" y="3014640"/>
            <a:ext cx="606240" cy="2382840"/>
          </a:xfrm>
          <a:custGeom>
            <a:avLst/>
            <a:gdLst/>
            <a:ahLst/>
            <a:rect l="l" t="t" r="r" b="b"/>
            <a:pathLst>
              <a:path w="1274" h="2200">
                <a:moveTo>
                  <a:pt x="340" y="2200"/>
                </a:moveTo>
                <a:lnTo>
                  <a:pt x="1237" y="2172"/>
                </a:lnTo>
                <a:lnTo>
                  <a:pt x="1274" y="0"/>
                </a:lnTo>
                <a:lnTo>
                  <a:pt x="0" y="38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3966A-036C-4235-88D8-D823A0DDEFB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8" dur="indefinite" restart="never" nodeType="tmRoot">
          <p:childTnLst>
            <p:seq>
              <p:cTn id="1929" dur="indefinite" nodeType="mainSeq">
                <p:childTnLst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9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3" dur="5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SERVICE DEFINI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To be able to understand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SDL definition for a standard SOAP bind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 soap mess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AP Messag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 Structure of WSD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abstract Service Defini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Physical Service Definition - Co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hysical Service Definition - Extension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505560" y="4346640"/>
            <a:ext cx="2638440" cy="328680"/>
          </a:xfrm>
          <a:prstGeom prst="leftArrow">
            <a:avLst>
              <a:gd name="adj1" fmla="val 50000"/>
              <a:gd name="adj2" fmla="val 20068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AD117-F332-4AD4-9D14-3C3A5500FD6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AP” what it i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ame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riginally – Simple Object Access Protoco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emporarily – Service Oriented Architecture Protocol ?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ow (SOAP 1.2) – Not an acronym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Purpos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 extensible protocol to enable the exchange of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tructured and typed information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between peers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in a decentralised, distributed environmen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tat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AP 1.2 – </a:t>
            </a:r>
            <a:r>
              <a:rPr b="0" lang="en-US" sz="2100" spc="-1" strike="noStrike" u="sng">
                <a:solidFill>
                  <a:srgbClr val="ac3b8b"/>
                </a:solidFill>
                <a:uFillTx/>
                <a:latin typeface="Arial"/>
                <a:hlinkClick r:id="rId1"/>
              </a:rPr>
              <a:t>http:www.w3.org/TR/soap12-part0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W3C recommendation, June 2003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8f"/>
                </a:solidFill>
                <a:latin typeface="Arial"/>
              </a:rPr>
              <a:t>SOAP 1.1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– </a:t>
            </a:r>
            <a:r>
              <a:rPr b="0" lang="en-US" sz="2100" spc="-1" strike="noStrike" u="sng">
                <a:solidFill>
                  <a:srgbClr val="ac3b8b"/>
                </a:solidFill>
                <a:uFillTx/>
                <a:latin typeface="Arial"/>
                <a:hlinkClick r:id="rId2"/>
              </a:rPr>
              <a:t>http://www.w3.org/TR/NOTE-SOAP-20000508</a:t>
            </a:r>
            <a:r>
              <a:rPr b="0" lang="en-US" sz="2100" spc="-1" strike="noStrike" u="sng">
                <a:solidFill>
                  <a:srgbClr val="00338f"/>
                </a:solidFill>
                <a:uFillTx/>
                <a:latin typeface="Arial"/>
              </a:rPr>
              <a:t>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W3C submission May 2000 – but that’s what people use currently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B4531-9B52-4330-922D-BAACDC50BF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indefinite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indefinite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indefinite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NDING - Gener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45600" y="851040"/>
            <a:ext cx="8589960" cy="23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 Binding define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 particular PortType – named as its “type”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Particular message format and communication protocol detail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By extensibility poi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 standard extension is SOAP bind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 binding name, for use in service defini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31760" y="4713120"/>
            <a:ext cx="2087640" cy="3258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HT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22400" y="5419800"/>
            <a:ext cx="4173480" cy="104436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25560" bIns="25560"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ervic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eral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22400" y="5427720"/>
            <a:ext cx="208728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Verdana"/>
              </a:rPr>
              <a:t>www. …/W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51160" y="4713120"/>
            <a:ext cx="2087640" cy="3258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SM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713120" y="4713120"/>
            <a:ext cx="2087640" cy="3258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HT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942240" y="4713120"/>
            <a:ext cx="2087640" cy="3258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SM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20824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WS-EM@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836960" y="5408640"/>
            <a:ext cx="4173840" cy="105552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25560" bIns="25560"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ervic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Customer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83696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Verdana"/>
              </a:rPr>
              <a:t>www. …/W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92316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WS-EM@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07964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031760" y="505296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041640" y="50529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432400" y="505296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423200" y="50529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357280" y="43480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45480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17084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92240" y="3367080"/>
            <a:ext cx="232884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Gener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Info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OpenAcc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303960" y="3355920"/>
            <a:ext cx="261792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Custo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urchOrder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…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933640" y="3997440"/>
            <a:ext cx="29354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s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POin…Error1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506760" y="3225960"/>
            <a:ext cx="143028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Type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rot="5400000">
            <a:off x="2651760" y="401400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rot="16200000">
            <a:off x="6050880" y="40042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051440" y="36147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C16BF-1350-46A7-AED5-D69E605F553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0" dur="indefinite" restart="never" nodeType="tmRoot">
          <p:childTnLst>
            <p:seq>
              <p:cTn id="1961" dur="indefinite" nodeType="mainSeq">
                <p:childTnLst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fill="hold">
                      <p:stCondLst>
                        <p:cond delay="indefinite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cture of Binding El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280" y="1071720"/>
            <a:ext cx="3990600" cy="52840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portTyp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“CustomerP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“PurchOrder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input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“PurchOrderRequest”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=“w:POin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utput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“PurchOrderResponse”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=“w:POou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fault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“Error1”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=“w:Error1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 Other fault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…&gt; &lt;/&gt; …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969440" y="1425600"/>
            <a:ext cx="4002480" cy="49525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binding name=“CustWebB”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CustomerP”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inding info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“PurchOrder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inding info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input&gt;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inding info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utput&gt;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inding info … 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faul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=“Error1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inding info … 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faults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…&gt; ….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208400" y="906120"/>
            <a:ext cx="39052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Binding follows structure of PortTyp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900080" y="1398600"/>
            <a:ext cx="3824280" cy="530280"/>
          </a:xfrm>
          <a:custGeom>
            <a:avLst/>
            <a:gdLst/>
            <a:ahLst/>
            <a:rect l="l" t="t" r="r" b="b"/>
            <a:pathLst>
              <a:path w="2409" h="334">
                <a:moveTo>
                  <a:pt x="2409" y="334"/>
                </a:moveTo>
                <a:lnTo>
                  <a:pt x="1568" y="1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076480" y="2093760"/>
            <a:ext cx="2965320" cy="473400"/>
          </a:xfrm>
          <a:custGeom>
            <a:avLst/>
            <a:gdLst/>
            <a:ahLst/>
            <a:rect l="l" t="t" r="r" b="b"/>
            <a:pathLst>
              <a:path w="1868" h="298">
                <a:moveTo>
                  <a:pt x="1868" y="298"/>
                </a:moveTo>
                <a:lnTo>
                  <a:pt x="1429" y="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801800" y="2698920"/>
            <a:ext cx="3522600" cy="465120"/>
          </a:xfrm>
          <a:custGeom>
            <a:avLst/>
            <a:gdLst/>
            <a:ahLst/>
            <a:rect l="l" t="t" r="r" b="b"/>
            <a:pathLst>
              <a:path w="2111" h="362">
                <a:moveTo>
                  <a:pt x="2111" y="362"/>
                </a:moveTo>
                <a:lnTo>
                  <a:pt x="1602" y="0"/>
                </a:lnTo>
                <a:lnTo>
                  <a:pt x="0" y="1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812960" y="3722760"/>
            <a:ext cx="3551040" cy="156960"/>
          </a:xfrm>
          <a:custGeom>
            <a:avLst/>
            <a:gdLst/>
            <a:ahLst/>
            <a:rect l="l" t="t" r="r" b="b"/>
            <a:pathLst>
              <a:path w="2111" h="362">
                <a:moveTo>
                  <a:pt x="2111" y="362"/>
                </a:moveTo>
                <a:lnTo>
                  <a:pt x="1602" y="0"/>
                </a:lnTo>
                <a:lnTo>
                  <a:pt x="0" y="1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1812960" y="4575960"/>
            <a:ext cx="3513240" cy="173160"/>
          </a:xfrm>
          <a:custGeom>
            <a:avLst/>
            <a:gdLst/>
            <a:ahLst/>
            <a:rect l="l" t="t" r="r" b="b"/>
            <a:pathLst>
              <a:path w="2111" h="362">
                <a:moveTo>
                  <a:pt x="2111" y="362"/>
                </a:moveTo>
                <a:lnTo>
                  <a:pt x="1602" y="0"/>
                </a:lnTo>
                <a:lnTo>
                  <a:pt x="0" y="1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2571840" y="5258520"/>
            <a:ext cx="3198600" cy="297000"/>
          </a:xfrm>
          <a:custGeom>
            <a:avLst/>
            <a:gdLst/>
            <a:ahLst/>
            <a:rect l="l" t="t" r="r" b="b"/>
            <a:pathLst>
              <a:path w="2111" h="362">
                <a:moveTo>
                  <a:pt x="2111" y="362"/>
                </a:moveTo>
                <a:lnTo>
                  <a:pt x="1602" y="0"/>
                </a:lnTo>
                <a:lnTo>
                  <a:pt x="0" y="1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3755880" y="5917320"/>
            <a:ext cx="1309680" cy="297000"/>
          </a:xfrm>
          <a:custGeom>
            <a:avLst/>
            <a:gdLst/>
            <a:ahLst/>
            <a:rect l="l" t="t" r="r" b="b"/>
            <a:pathLst>
              <a:path w="2111" h="362">
                <a:moveTo>
                  <a:pt x="2111" y="362"/>
                </a:moveTo>
                <a:lnTo>
                  <a:pt x="1602" y="0"/>
                </a:lnTo>
                <a:lnTo>
                  <a:pt x="0" y="1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999240" y="4183200"/>
            <a:ext cx="95508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Multiple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faults so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need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Name -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No prefix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079880" y="145908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prefix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008240" y="185904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no prefix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8000" y="1081080"/>
            <a:ext cx="0" cy="5273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4480" y="122868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89080" y="1241280"/>
            <a:ext cx="0" cy="50482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39560" y="1924200"/>
            <a:ext cx="0" cy="36543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95200" y="190512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47840" y="256212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47840" y="354348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47840" y="454356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95200" y="619128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DC020-2F35-4B55-B138-B7A85413D9E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0" dur="indefinite" restart="never" nodeType="tmRoot">
          <p:childTnLst>
            <p:seq>
              <p:cTn id="2021" dur="indefinite" nodeType="mainSeq">
                <p:childTnLst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2" fill="hold">
                      <p:stCondLst>
                        <p:cond delay="indefinite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tocol Specific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8600" y="2165400"/>
            <a:ext cx="6127560" cy="4289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binding name=“CustWebB” typ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P”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inding info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“PurchOrder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inding info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input&gt;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some binding info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utput&gt;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some binding info … 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fault name=“Error1”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inding info … 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faults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“Inv”&gt; ….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Other operations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64480" y="14860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To be referenced by port def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836800" y="1893960"/>
            <a:ext cx="1800" cy="320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319640" y="145584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Ref’s PortTyp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4809600" y="1833480"/>
            <a:ext cx="274680" cy="408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225760" y="1368360"/>
            <a:ext cx="3739320" cy="1351080"/>
            <a:chOff x="5225760" y="1368360"/>
            <a:chExt cx="3739320" cy="1351080"/>
          </a:xfrm>
        </p:grpSpPr>
        <p:sp>
          <p:nvSpPr>
            <p:cNvPr id="681" name=""/>
            <p:cNvSpPr/>
            <p:nvPr/>
          </p:nvSpPr>
          <p:spPr>
            <a:xfrm flipH="1">
              <a:off x="5225760" y="2262240"/>
              <a:ext cx="1289160" cy="457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587640" y="1368360"/>
              <a:ext cx="2377440" cy="973800"/>
            </a:xfrm>
            <a:prstGeom prst="rect">
              <a:avLst/>
            </a:prstGeom>
            <a:noFill/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Protocol-specific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information applying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to all operations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5275440" y="2705040"/>
            <a:ext cx="3689640" cy="1305360"/>
            <a:chOff x="5275440" y="2705040"/>
            <a:chExt cx="3689640" cy="1305360"/>
          </a:xfrm>
        </p:grpSpPr>
        <p:sp>
          <p:nvSpPr>
            <p:cNvPr id="684" name=""/>
            <p:cNvSpPr/>
            <p:nvPr/>
          </p:nvSpPr>
          <p:spPr>
            <a:xfrm>
              <a:off x="6587640" y="2705040"/>
              <a:ext cx="2377440" cy="1305360"/>
            </a:xfrm>
            <a:prstGeom prst="rect">
              <a:avLst/>
            </a:prstGeom>
            <a:noFill/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Protocol-specific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information applying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to both input and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output message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275440" y="3292560"/>
              <a:ext cx="1271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116320" y="3760560"/>
            <a:ext cx="3956400" cy="2179440"/>
            <a:chOff x="5116320" y="3760560"/>
            <a:chExt cx="3956400" cy="2179440"/>
          </a:xfrm>
        </p:grpSpPr>
        <p:sp>
          <p:nvSpPr>
            <p:cNvPr id="687" name=""/>
            <p:cNvSpPr/>
            <p:nvPr/>
          </p:nvSpPr>
          <p:spPr>
            <a:xfrm>
              <a:off x="6578640" y="4200480"/>
              <a:ext cx="2494080" cy="1739520"/>
            </a:xfrm>
            <a:prstGeom prst="rect">
              <a:avLst/>
            </a:prstGeom>
            <a:noFill/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1. Protocol specific information applying to particular message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2. How message parts map into protocol and data formats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flipV="1">
              <a:off x="5327640" y="3760560"/>
              <a:ext cx="1208160" cy="6015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flipV="1">
              <a:off x="5206680" y="4088880"/>
              <a:ext cx="1298520" cy="3603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5116320" y="4540320"/>
              <a:ext cx="1401480" cy="442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154080" y="863640"/>
            <a:ext cx="89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Binding definition is framework for extension points – a bit intangibl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08000" y="2147760"/>
            <a:ext cx="0" cy="4321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14480" y="232416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50920" y="2338560"/>
            <a:ext cx="0" cy="39211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47680" y="300024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03200" y="3014640"/>
            <a:ext cx="0" cy="19303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09680" y="364824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09680" y="399096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09680" y="429588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47680" y="562932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86D77-6505-4DD4-B86F-C4E170ED8C7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0" dur="indefinite" restart="never" nodeType="tmRoot">
          <p:childTnLst>
            <p:seq>
              <p:cTn id="2131" dur="indefinite" nodeType="mainSeq">
                <p:childTnLst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 DEFINI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45600" y="789120"/>
            <a:ext cx="85899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-1954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an have multiple services in one WSDL definition docu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95480" indent="-1954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Each Service can have multiple ports, each bound to a bind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95480" indent="-1954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For WSDL 2.0 – all ports of a service must have the same portTyp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23360" indent="-162720">
              <a:spcBef>
                <a:spcPts val="2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an have different portTypes in WSDL 1.1 –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233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onsumer may need all functionalities for the service to be useful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195480" indent="-1954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Two ports having the same portType means same semantic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95480" indent="-1954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Gives the location, a URL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23360" indent="-162720">
              <a:spcBef>
                <a:spcPts val="2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is is a SOAP extension of WSDL, not WSDL cor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195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42920" y="4848120"/>
            <a:ext cx="8861400" cy="1636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service name=“CustomerService”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port name=“CustWebSP” binding=“w:CustWebB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oa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address location= “http://www.ex.org/W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port name=“CustEmailSP” binding=“w:CustEmailB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oa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address location=“mailto:WS-EM@www.ex.org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46160" y="3413160"/>
            <a:ext cx="8715240" cy="1305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binding name=“CustEmailB”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= “w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ustomerP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… 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binding name=“CustWebB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= “w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ustomerP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… 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852720" y="4259160"/>
            <a:ext cx="3057840" cy="1123920"/>
          </a:xfrm>
          <a:custGeom>
            <a:avLst/>
            <a:gdLst/>
            <a:ahLst/>
            <a:rect l="l" t="t" r="r" b="b"/>
            <a:pathLst>
              <a:path w="1926" h="708">
                <a:moveTo>
                  <a:pt x="1709" y="704"/>
                </a:moveTo>
                <a:lnTo>
                  <a:pt x="1926" y="708"/>
                </a:lnTo>
                <a:lnTo>
                  <a:pt x="1926" y="4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033800" y="3584520"/>
            <a:ext cx="4630680" cy="2443320"/>
          </a:xfrm>
          <a:custGeom>
            <a:avLst/>
            <a:gdLst/>
            <a:ahLst/>
            <a:rect l="l" t="t" r="r" b="b"/>
            <a:pathLst>
              <a:path w="2917" h="1539">
                <a:moveTo>
                  <a:pt x="1840" y="1539"/>
                </a:moveTo>
                <a:lnTo>
                  <a:pt x="2917" y="1501"/>
                </a:lnTo>
                <a:lnTo>
                  <a:pt x="2917" y="100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47D4C-F84E-414A-B0E5-33AE2CF9F28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4" dur="indefinite" restart="never" nodeType="tmRoot">
          <p:childTnLst>
            <p:seq>
              <p:cTn id="2145" dur="indefinite" nodeType="mainSeq">
                <p:childTnLst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fill="hold">
                      <p:stCondLst>
                        <p:cond delay="indefinite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STANDARD EXTEN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To be able to understand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SDL definition for a standard SOAP bind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 soap mess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AP Messag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 Structure of WSD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Abstract Service Defini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Physical Service Definition - Co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hysical Service Definition - Extension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997600" y="4724280"/>
            <a:ext cx="3146400" cy="328680"/>
          </a:xfrm>
          <a:prstGeom prst="leftArrow">
            <a:avLst>
              <a:gd name="adj1" fmla="val 50000"/>
              <a:gd name="adj2" fmla="val 239321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D5DD9-D8AC-4319-87CE-AD97E4F6D99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NDING Exten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here are a number of defined bindings to be used in the extension point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OAP – identifying the SOAP 1.1 standar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Over </a:t>
            </a:r>
            <a:r>
              <a:rPr b="1" i="1" lang="en-US" sz="1800" spc="-1" strike="noStrike">
                <a:solidFill>
                  <a:srgbClr val="00338f"/>
                </a:solidFill>
                <a:latin typeface="Arial"/>
              </a:rPr>
              <a:t>HTTP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Over SMTP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…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.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tyl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8f"/>
                </a:solidFill>
                <a:latin typeface="Arial"/>
              </a:rPr>
              <a:t>RPC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8f"/>
                </a:solidFill>
                <a:latin typeface="Arial"/>
              </a:rPr>
              <a:t>Document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Us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8f"/>
                </a:solidFill>
                <a:latin typeface="Arial"/>
              </a:rPr>
              <a:t>Litera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8f"/>
                </a:solidFill>
                <a:latin typeface="Arial"/>
              </a:rPr>
              <a:t>Encoded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OAP over HTTP is most commonly used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ll we will deal with her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F6463-207D-4A62-A070-9408A5AEACB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oap Binding Extens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3640" y="903240"/>
            <a:ext cx="6101280" cy="19684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binding name=“CustWebB” type=“w:CustomerP”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oa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binding   style=“document”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transport=“http://schemas.xmlsoap.org/soap/http”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operation name=“PurchOrder”&gt; … 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operation name=“…”&gt;…&lt;/&gt; ….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&gt;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292560" y="3220920"/>
            <a:ext cx="2816280" cy="218628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style=…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- Default for all operations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= “rpc” – body is parameters/retur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= “document” – body is one document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ptiona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default = “document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254640" y="3156120"/>
            <a:ext cx="2835360" cy="86796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Transport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URI to identify some protoco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ptiona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43000" y="3298680"/>
            <a:ext cx="2793960" cy="169956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soap:binding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element mean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Using SOAP standards. Message structure is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&lt;soap:envelo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&lt;soap:header&gt;…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&lt;soap:body&gt;…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315120" y="1149480"/>
            <a:ext cx="2793960" cy="81720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PORT LEVE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Replaces an ANY extension point in general definitio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1287360"/>
            <a:ext cx="171720" cy="614520"/>
          </a:xfrm>
          <a:custGeom>
            <a:avLst/>
            <a:gdLst>
              <a:gd name="textAreaLeft" fmla="*/ 0 w 171720"/>
              <a:gd name="textAreaRight" fmla="*/ 61920 w 171720"/>
              <a:gd name="textAreaTop" fmla="*/ 15840 h 614520"/>
              <a:gd name="textAreaBottom" fmla="*/ 598680 h 6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87520" y="1563840"/>
            <a:ext cx="1387440" cy="0"/>
          </a:xfrm>
          <a:prstGeom prst="line">
            <a:avLst/>
          </a:prstGeom>
          <a:ln w="381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241720" y="1563840"/>
            <a:ext cx="1571400" cy="0"/>
          </a:xfrm>
          <a:prstGeom prst="line">
            <a:avLst/>
          </a:prstGeom>
          <a:ln w="381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915840" y="1922400"/>
            <a:ext cx="4869000" cy="0"/>
          </a:xfrm>
          <a:prstGeom prst="line">
            <a:avLst/>
          </a:prstGeom>
          <a:ln w="381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04760" y="925560"/>
            <a:ext cx="0" cy="19587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17360" y="1092240"/>
            <a:ext cx="2588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20680" y="1116000"/>
            <a:ext cx="0" cy="15890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39760" y="1441440"/>
            <a:ext cx="288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39760" y="2077920"/>
            <a:ext cx="288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39760" y="2406600"/>
            <a:ext cx="288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B9081-BDBE-44B0-BF9C-3D4A57C6E49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6" dur="indefinite" restart="never" nodeType="tmRoot">
          <p:childTnLst>
            <p:seq>
              <p:cTn id="2197" dur="indefinite" nodeType="mainSeq">
                <p:childTnLst>
                  <p:par>
                    <p:cTn id="2198" fill="hold">
                      <p:stCondLst>
                        <p:cond delay="indefinite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2" dur="5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5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5" dur="50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50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oap Binding Exten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35800" y="4105440"/>
            <a:ext cx="2895480" cy="52308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style 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ver-rides port-level sty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16000" y="4076640"/>
            <a:ext cx="5172120" cy="125316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soapAction 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URI, the value for the HTTP header “SOAPaction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Mandatory for SOAP/HTTP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For “document” style gives the operatio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For JAX-RPC – empty, “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920" y="903240"/>
            <a:ext cx="6037200" cy="29631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binding name=“CustWebB” type=“w:CustomerP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oa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binding   style=“document”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transport=“http://schemas.xmlsoap.org/soap/http”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operation name=“PurchOrder”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oa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operation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soapAction=“http://ex.org/PO”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style=“rpc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input&gt; … &lt;/&gt; ….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operation name=“…”&gt;…&lt;/&gt; …. &lt;/&gt;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087960" y="2243160"/>
            <a:ext cx="222480" cy="973080"/>
          </a:xfrm>
          <a:custGeom>
            <a:avLst/>
            <a:gdLst>
              <a:gd name="textAreaLeft" fmla="*/ 0 w 222480"/>
              <a:gd name="textAreaRight" fmla="*/ 80280 w 222480"/>
              <a:gd name="textAreaTop" fmla="*/ 25200 h 973080"/>
              <a:gd name="textAreaBottom" fmla="*/ 947880 h 9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315120" y="1533600"/>
            <a:ext cx="2793960" cy="81720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PERATION LEVE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Replaces an ANY extension point in general definitio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305000" y="2868480"/>
            <a:ext cx="2959200" cy="0"/>
          </a:xfrm>
          <a:prstGeom prst="line">
            <a:avLst/>
          </a:prstGeom>
          <a:ln w="381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334200" y="1149480"/>
            <a:ext cx="279396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PORT LEVE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118200" y="1287360"/>
            <a:ext cx="192240" cy="614520"/>
          </a:xfrm>
          <a:custGeom>
            <a:avLst/>
            <a:gdLst>
              <a:gd name="textAreaLeft" fmla="*/ 0 w 192240"/>
              <a:gd name="textAreaRight" fmla="*/ 69480 w 192240"/>
              <a:gd name="textAreaTop" fmla="*/ 15840 h 614520"/>
              <a:gd name="textAreaBottom" fmla="*/ 598680 h 6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665360" y="3197160"/>
            <a:ext cx="1253880" cy="0"/>
          </a:xfrm>
          <a:prstGeom prst="line">
            <a:avLst/>
          </a:prstGeom>
          <a:ln w="381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4760" y="925560"/>
            <a:ext cx="0" cy="2933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17360" y="1092240"/>
            <a:ext cx="2588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20680" y="1116000"/>
            <a:ext cx="0" cy="26668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30040" y="144144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30040" y="207792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20680" y="372276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65040" y="2071800"/>
            <a:ext cx="0" cy="14652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74760" y="2398680"/>
            <a:ext cx="288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07960" y="2411280"/>
            <a:ext cx="0" cy="10954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00040" y="341640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97941-D170-4551-91F3-C54E1272673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3" dur="indefinite" restart="never" nodeType="tmRoot">
          <p:childTnLst>
            <p:seq>
              <p:cTn id="2234" dur="indefinite" nodeType="mainSeq">
                <p:childTnLst>
                  <p:par>
                    <p:cTn id="2235" fill="hold">
                      <p:stCondLst>
                        <p:cond delay="0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1" dur="5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5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oap Binding Exten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280" y="903240"/>
            <a:ext cx="6101280" cy="4289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binding name=“CustWebB” type=“w:CustomerP”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oa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binding   style=“document”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transport=“http://schemas.xmlsoap.org/soap/http”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operation name=“PurchOrder”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oa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operation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soapAction=“http://ex.org/PO”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style=“rpc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input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oa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body use=“encoded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encodingStyle="http://.../encoding/"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namespace=“http://ex.org/wsdl/Cust" 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operation name=“…”&gt;…&lt;/&gt; ….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087960" y="2243160"/>
            <a:ext cx="222480" cy="973080"/>
          </a:xfrm>
          <a:custGeom>
            <a:avLst/>
            <a:gdLst>
              <a:gd name="textAreaLeft" fmla="*/ 0 w 222480"/>
              <a:gd name="textAreaRight" fmla="*/ 80280 w 222480"/>
              <a:gd name="textAreaTop" fmla="*/ 25200 h 973080"/>
              <a:gd name="textAreaBottom" fmla="*/ 947880 h 9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315120" y="1533600"/>
            <a:ext cx="279396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PERATION LEVE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334200" y="1149480"/>
            <a:ext cx="279396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PORT LEVE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108840" y="1287360"/>
            <a:ext cx="201600" cy="614520"/>
          </a:xfrm>
          <a:custGeom>
            <a:avLst/>
            <a:gdLst>
              <a:gd name="textAreaLeft" fmla="*/ 0 w 201600"/>
              <a:gd name="textAreaRight" fmla="*/ 72720 w 201600"/>
              <a:gd name="textAreaTop" fmla="*/ 15840 h 614520"/>
              <a:gd name="textAreaBottom" fmla="*/ 598680 h 6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299280" y="1839960"/>
            <a:ext cx="0" cy="566640"/>
          </a:xfrm>
          <a:prstGeom prst="line">
            <a:avLst/>
          </a:prstGeom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315120" y="2519280"/>
            <a:ext cx="279396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MESSAGE LEVE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87960" y="3548160"/>
            <a:ext cx="222480" cy="973080"/>
          </a:xfrm>
          <a:custGeom>
            <a:avLst/>
            <a:gdLst>
              <a:gd name="textAreaLeft" fmla="*/ 0 w 222480"/>
              <a:gd name="textAreaRight" fmla="*/ 80280 w 222480"/>
              <a:gd name="textAreaTop" fmla="*/ 25200 h 973080"/>
              <a:gd name="textAreaBottom" fmla="*/ 947880 h 9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299280" y="2806560"/>
            <a:ext cx="0" cy="906480"/>
          </a:xfrm>
          <a:prstGeom prst="line">
            <a:avLst/>
          </a:prstGeom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414520" y="3855960"/>
            <a:ext cx="1438200" cy="0"/>
          </a:xfrm>
          <a:prstGeom prst="line">
            <a:avLst/>
          </a:prstGeom>
          <a:ln w="381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171440" y="4195800"/>
            <a:ext cx="3411720" cy="0"/>
          </a:xfrm>
          <a:prstGeom prst="line">
            <a:avLst/>
          </a:prstGeom>
          <a:ln w="381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71440" y="4524480"/>
            <a:ext cx="3884760" cy="0"/>
          </a:xfrm>
          <a:prstGeom prst="line">
            <a:avLst/>
          </a:prstGeom>
          <a:ln w="381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302520" y="4216320"/>
            <a:ext cx="2833560" cy="227736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Use</a:t>
            </a: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= “Encoded”</a:t>
            </a: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 : each message part references a type – an abstract type encoded using the scheme(s) identified by </a:t>
            </a: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encodingSty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Use = “literal”</a:t>
            </a: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 : each message part ref’s a type or element which gives the concrete forma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343560" y="2905200"/>
            <a:ext cx="2793960" cy="119088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Namespace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the namespace to be used for validating the outermost element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76320" y="5654520"/>
            <a:ext cx="5814720" cy="57384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encodingStyle</a:t>
            </a: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= “..”</a:t>
            </a: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 a URI list to identify encoding scheme(s)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Soap-encoding is http://schemas.xmlsoap.org/soap/encodin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04760" y="925560"/>
            <a:ext cx="0" cy="42796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17360" y="1092240"/>
            <a:ext cx="2588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0680" y="1116000"/>
            <a:ext cx="0" cy="39924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30040" y="141300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0040" y="207792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20680" y="502776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65040" y="2071800"/>
            <a:ext cx="0" cy="2717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74760" y="2398680"/>
            <a:ext cx="288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57120" y="341640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01480" y="3417840"/>
            <a:ext cx="0" cy="3240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1480" y="373536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F4708-D081-4120-AFA0-1BBB7616F95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9" dur="indefinite" restart="never" nodeType="tmRoot">
          <p:childTnLst>
            <p:seq>
              <p:cTn id="2270" dur="indefinite" nodeType="mainSeq">
                <p:childTnLst>
                  <p:par>
                    <p:cTn id="2271" fill="hold">
                      <p:stCondLst>
                        <p:cond delay="0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4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6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3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5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2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3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4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6" dur="50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50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0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PC vs Docu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45600" y="3749760"/>
            <a:ext cx="8589960" cy="29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RPC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Hint that this is best dealt with as a procedure call (/return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Message parts are parameters which are wrapped as one component of Bod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s in the SOAP RPC standar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Docu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is is a document to be processed – message parts are directly in bod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Wrapped convention – single message part – looks like RPC styl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3002400" y="1074600"/>
            <a:ext cx="5215680" cy="2848320"/>
            <a:chOff x="3002400" y="1074600"/>
            <a:chExt cx="5215680" cy="2848320"/>
          </a:xfrm>
        </p:grpSpPr>
        <p:grpSp>
          <p:nvGrpSpPr>
            <p:cNvPr id="778" name=""/>
            <p:cNvGrpSpPr/>
            <p:nvPr/>
          </p:nvGrpSpPr>
          <p:grpSpPr>
            <a:xfrm>
              <a:off x="3009960" y="2963520"/>
              <a:ext cx="740880" cy="959400"/>
              <a:chOff x="3009960" y="2963520"/>
              <a:chExt cx="740880" cy="959400"/>
            </a:xfrm>
          </p:grpSpPr>
          <p:grpSp>
            <p:nvGrpSpPr>
              <p:cNvPr id="779" name=""/>
              <p:cNvGrpSpPr/>
              <p:nvPr/>
            </p:nvGrpSpPr>
            <p:grpSpPr>
              <a:xfrm>
                <a:off x="3009960" y="2963520"/>
                <a:ext cx="740880" cy="897840"/>
                <a:chOff x="3009960" y="2963520"/>
                <a:chExt cx="740880" cy="89784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3009960" y="2963520"/>
                  <a:ext cx="740880" cy="695160"/>
                </a:xfrm>
                <a:prstGeom prst="cloudCallout">
                  <a:avLst>
                    <a:gd name="adj1" fmla="val -43736"/>
                    <a:gd name="adj2" fmla="val 7000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51"/>
                    </a:spcBef>
                    <a:buClr>
                      <a:srgbClr val="ffcc66"/>
                    </a:buClr>
                    <a:buFont typeface="Verdan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3009960" y="3609360"/>
                  <a:ext cx="202320" cy="25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2" name=""/>
              <p:cNvSpPr/>
              <p:nvPr/>
            </p:nvSpPr>
            <p:spPr>
              <a:xfrm>
                <a:off x="3047400" y="2997360"/>
                <a:ext cx="63648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t1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inst. 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3943080" y="2963520"/>
              <a:ext cx="741240" cy="959400"/>
              <a:chOff x="3943080" y="2963520"/>
              <a:chExt cx="741240" cy="959400"/>
            </a:xfrm>
          </p:grpSpPr>
          <p:grpSp>
            <p:nvGrpSpPr>
              <p:cNvPr id="784" name=""/>
              <p:cNvGrpSpPr/>
              <p:nvPr/>
            </p:nvGrpSpPr>
            <p:grpSpPr>
              <a:xfrm>
                <a:off x="3943080" y="2963520"/>
                <a:ext cx="741240" cy="897840"/>
                <a:chOff x="3943080" y="2963520"/>
                <a:chExt cx="741240" cy="89784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3943080" y="2963520"/>
                  <a:ext cx="741240" cy="695160"/>
                </a:xfrm>
                <a:prstGeom prst="cloudCallout">
                  <a:avLst>
                    <a:gd name="adj1" fmla="val -43736"/>
                    <a:gd name="adj2" fmla="val 7000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51"/>
                    </a:spcBef>
                    <a:buClr>
                      <a:srgbClr val="ffcc66"/>
                    </a:buClr>
                    <a:buFont typeface="Verdan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3943080" y="3609360"/>
                  <a:ext cx="202320" cy="25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7" name=""/>
              <p:cNvSpPr/>
              <p:nvPr/>
            </p:nvSpPr>
            <p:spPr>
              <a:xfrm>
                <a:off x="3980520" y="2997360"/>
                <a:ext cx="63648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t3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inst. 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6543720" y="2963520"/>
              <a:ext cx="740880" cy="959400"/>
              <a:chOff x="6543720" y="2963520"/>
              <a:chExt cx="740880" cy="959400"/>
            </a:xfrm>
          </p:grpSpPr>
          <p:grpSp>
            <p:nvGrpSpPr>
              <p:cNvPr id="789" name=""/>
              <p:cNvGrpSpPr/>
              <p:nvPr/>
            </p:nvGrpSpPr>
            <p:grpSpPr>
              <a:xfrm>
                <a:off x="6543720" y="2963520"/>
                <a:ext cx="740880" cy="897840"/>
                <a:chOff x="6543720" y="2963520"/>
                <a:chExt cx="740880" cy="89784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6543720" y="2963520"/>
                  <a:ext cx="740880" cy="695160"/>
                </a:xfrm>
                <a:prstGeom prst="cloudCallout">
                  <a:avLst>
                    <a:gd name="adj1" fmla="val -43736"/>
                    <a:gd name="adj2" fmla="val 7000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51"/>
                    </a:spcBef>
                    <a:buClr>
                      <a:srgbClr val="ffcc66"/>
                    </a:buClr>
                    <a:buFont typeface="Verdan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6543720" y="3609360"/>
                  <a:ext cx="202320" cy="25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2" name=""/>
              <p:cNvSpPr/>
              <p:nvPr/>
            </p:nvSpPr>
            <p:spPr>
              <a:xfrm>
                <a:off x="6581160" y="2997360"/>
                <a:ext cx="63648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t2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inst. 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7477200" y="2963520"/>
              <a:ext cx="740880" cy="959400"/>
              <a:chOff x="7477200" y="2963520"/>
              <a:chExt cx="740880" cy="959400"/>
            </a:xfrm>
          </p:grpSpPr>
          <p:grpSp>
            <p:nvGrpSpPr>
              <p:cNvPr id="794" name=""/>
              <p:cNvGrpSpPr/>
              <p:nvPr/>
            </p:nvGrpSpPr>
            <p:grpSpPr>
              <a:xfrm>
                <a:off x="7477200" y="2963520"/>
                <a:ext cx="740880" cy="897840"/>
                <a:chOff x="7477200" y="2963520"/>
                <a:chExt cx="740880" cy="89784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7477200" y="2963520"/>
                  <a:ext cx="740880" cy="695160"/>
                </a:xfrm>
                <a:prstGeom prst="cloudCallout">
                  <a:avLst>
                    <a:gd name="adj1" fmla="val -43736"/>
                    <a:gd name="adj2" fmla="val 7000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51"/>
                    </a:spcBef>
                    <a:buClr>
                      <a:srgbClr val="ffcc66"/>
                    </a:buClr>
                    <a:buFont typeface="Verdan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7477200" y="3609360"/>
                  <a:ext cx="202320" cy="25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7" name=""/>
              <p:cNvSpPr/>
              <p:nvPr/>
            </p:nvSpPr>
            <p:spPr>
              <a:xfrm>
                <a:off x="7514640" y="2997360"/>
                <a:ext cx="63648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t3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inst. 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5686200" y="2963520"/>
              <a:ext cx="741240" cy="959400"/>
              <a:chOff x="5686200" y="2963520"/>
              <a:chExt cx="741240" cy="959400"/>
            </a:xfrm>
          </p:grpSpPr>
          <p:grpSp>
            <p:nvGrpSpPr>
              <p:cNvPr id="799" name=""/>
              <p:cNvGrpSpPr/>
              <p:nvPr/>
            </p:nvGrpSpPr>
            <p:grpSpPr>
              <a:xfrm>
                <a:off x="5686200" y="2963520"/>
                <a:ext cx="741240" cy="897840"/>
                <a:chOff x="5686200" y="2963520"/>
                <a:chExt cx="741240" cy="89784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686200" y="2963520"/>
                  <a:ext cx="741240" cy="695160"/>
                </a:xfrm>
                <a:prstGeom prst="cloudCallout">
                  <a:avLst>
                    <a:gd name="adj1" fmla="val -43736"/>
                    <a:gd name="adj2" fmla="val 7000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51"/>
                    </a:spcBef>
                    <a:buClr>
                      <a:srgbClr val="ffcc66"/>
                    </a:buClr>
                    <a:buFont typeface="Verdan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686200" y="3609360"/>
                  <a:ext cx="202320" cy="25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2" name=""/>
              <p:cNvSpPr/>
              <p:nvPr/>
            </p:nvSpPr>
            <p:spPr>
              <a:xfrm>
                <a:off x="5723640" y="2997360"/>
                <a:ext cx="63648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t4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inst. 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3002400" y="1074600"/>
              <a:ext cx="3512160" cy="36828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.P(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↓p1::t1, ↑p2::t2, ↕p3::t3):: t4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854520" y="2462040"/>
              <a:ext cx="8856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3474720" y="2555640"/>
              <a:ext cx="376200" cy="31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19815000">
              <a:off x="3475080" y="2448360"/>
              <a:ext cx="2624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rot="1785000">
              <a:off x="4116960" y="2472480"/>
              <a:ext cx="2624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3894120" y="2057040"/>
              <a:ext cx="1440" cy="40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3641760" y="2068200"/>
              <a:ext cx="1724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411360" y="2879280"/>
              <a:ext cx="8892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343400" y="2879280"/>
              <a:ext cx="8892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4225320" y="1533240"/>
              <a:ext cx="924120" cy="457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451680" y="1558440"/>
              <a:ext cx="116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25faf"/>
                  </a:solidFill>
                  <a:latin typeface="Verdana"/>
                </a:rPr>
                <a:t>invocation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992560" y="155844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25faf"/>
                  </a:solidFill>
                  <a:latin typeface="Verdana"/>
                </a:rPr>
                <a:t>response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962160" y="2555640"/>
              <a:ext cx="376560" cy="31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399080" y="2462040"/>
              <a:ext cx="8892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7019640" y="2555640"/>
              <a:ext cx="376200" cy="31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19815000">
              <a:off x="7118640" y="2663280"/>
              <a:ext cx="2624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 rot="2603400">
              <a:off x="7534080" y="2704320"/>
              <a:ext cx="2624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7439040" y="2057040"/>
              <a:ext cx="1440" cy="40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956280" y="2879280"/>
              <a:ext cx="8892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888320" y="2879280"/>
              <a:ext cx="8892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507080" y="2555640"/>
              <a:ext cx="376200" cy="31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6191280" y="2496960"/>
              <a:ext cx="1179360" cy="43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099120" y="2879280"/>
              <a:ext cx="8892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20478600">
              <a:off x="6248520" y="2489040"/>
              <a:ext cx="791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turned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800240" y="1558440"/>
              <a:ext cx="1035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25faf"/>
                  </a:solidFill>
                  <a:latin typeface="Verdana"/>
                </a:rPr>
                <a:t>RPC 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25faf"/>
                  </a:solidFill>
                  <a:latin typeface="Verdana"/>
                </a:rPr>
                <a:t>mapping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441760" y="1533240"/>
              <a:ext cx="924120" cy="457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983D3-3B0E-444D-9B73-BB7829214CB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3" dur="indefinite" restart="never" nodeType="tmRoot">
          <p:childTnLst>
            <p:seq>
              <p:cTn id="2324" dur="indefinite" nodeType="mainSeq">
                <p:childTnLst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 Architectural Fea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XML based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Higher order Protocol –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Built on some underlying protocol - binding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Extensibility – can define binding for any underlying protoco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Usually HTTP – a specific standard extension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ngle Message Protoco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fines standard for a single message communica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Multi-message conversations require a means to associate one message with another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Via underlying protocol (e.g. use of same connection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Via the application (specific message-id information as part of the soap message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ulti-stage message processing –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he soap Processing mod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76294-3008-494E-A2B5-E3B29E1709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indefinite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indefinite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indefinite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indefinite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indefinite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indefinite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indefinite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indefinite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PC vs Documen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57040" y="1066680"/>
            <a:ext cx="3996000" cy="1305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message name=“POin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prelude  type=…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POentries  type=…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23920" y="2492280"/>
            <a:ext cx="8262720" cy="973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“PurchOrder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m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rchOrderRequest”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message=“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POin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utpu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rchOrderRespons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ssag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POou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459320" y="1066680"/>
            <a:ext cx="4486320" cy="1305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message name=“POou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Result  type=…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delivSched  type=…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89000" y="3733920"/>
            <a:ext cx="3108240" cy="130536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env:Bod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PurchOrderRequest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Prelude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POentries&gt; … &lt;/&gt;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44440" y="5405400"/>
            <a:ext cx="3024360" cy="97380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env:Bod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Prelude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POentries&gt; … &lt;/&gt;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152960" y="3733920"/>
            <a:ext cx="3257640" cy="130536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env:Bod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PurchOrderResponse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Result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delivSched&gt; … &lt;/&gt;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341520" y="4302000"/>
            <a:ext cx="597240" cy="131760"/>
          </a:xfrm>
          <a:prstGeom prst="rightArrow">
            <a:avLst>
              <a:gd name="adj1" fmla="val 50000"/>
              <a:gd name="adj2" fmla="val 11332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311640" y="5710320"/>
            <a:ext cx="627120" cy="100080"/>
          </a:xfrm>
          <a:prstGeom prst="rightArrow">
            <a:avLst>
              <a:gd name="adj1" fmla="val 50000"/>
              <a:gd name="adj2" fmla="val 15665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152960" y="5421240"/>
            <a:ext cx="3268440" cy="97380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env:Bod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Result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delivSched&gt; … &lt;/&gt;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4081320" y="1523520"/>
            <a:ext cx="2113200" cy="1328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7129080" y="2393640"/>
            <a:ext cx="103320" cy="83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85680" y="3591000"/>
            <a:ext cx="8991720" cy="15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08000" y="5346720"/>
            <a:ext cx="8969400" cy="1120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746120" y="3666960"/>
            <a:ext cx="12506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RPC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Actual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messag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38560" y="5400720"/>
            <a:ext cx="13053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Docu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Actual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messag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6E346-9655-4013-9ABF-D800362BD82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3" dur="indefinite" restart="never" nodeType="tmRoot">
          <p:childTnLst>
            <p:seq>
              <p:cTn id="2334" dur="indefinite" nodeType="mainSeq">
                <p:childTnLst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WSDL 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Defines abstract structure of service interacti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cluding  logical content of messages exchanged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Defines binding – how the messages are carried and represente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tandard binding is for SOAP over HTTP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Message is an XML document, with a particular structur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Using particular types 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Defines Service as a number of ports, each being address and binding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 site where you can obtain WSDL definitions of services and  see what SOAPmessages are produced -http://xmethods.com/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212EA-4A14-4F23-BD89-15C068D92C9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9" dur="indefinite" restart="never" nodeType="tmRoot">
          <p:childTnLst>
            <p:seq>
              <p:cTn id="2360" dur="indefinite" nodeType="mainSeq">
                <p:childTnLst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5" dur="500" fill="hold"/>
                                        <p:tgtEl>
                                          <p:spTgt spid="8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500" fill="hold"/>
                                        <p:tgtEl>
                                          <p:spTgt spid="8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7" dur="500"/>
                                        <p:tgtEl>
                                          <p:spTgt spid="8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 E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338f"/>
                </a:solidFill>
                <a:latin typeface="Arial"/>
              </a:rPr>
              <a:t>THE END</a:t>
            </a:r>
            <a:endParaRPr b="0" i="1" lang="en-US" sz="6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78DC9-2B28-4788-A0FB-EF058D93558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349960" y="1843200"/>
            <a:ext cx="3382920" cy="4367160"/>
          </a:xfrm>
          <a:prstGeom prst="rect">
            <a:avLst/>
          </a:prstGeom>
          <a:solidFill>
            <a:srgbClr val="f1af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54520" y="2313000"/>
            <a:ext cx="2895840" cy="1825560"/>
          </a:xfrm>
          <a:prstGeom prst="rect">
            <a:avLst/>
          </a:prstGeom>
          <a:solidFill>
            <a:srgbClr val="ac3b8b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OAP Header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ssage 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219320"/>
            <a:ext cx="483876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ach SOAP message will have: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Outer layer(s) for underlying protocol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Only consider HTTP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nvelope (XML root element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Header (optional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Multiple header blocks/entri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For different purposes – factorisa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For different processing stages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Actor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Body (mandatory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The payloa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Zero or more XML element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May be  a Fault el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pecific fault reporting standar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97320" y="1092240"/>
            <a:ext cx="3657600" cy="536724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54520" y="4235400"/>
            <a:ext cx="2895840" cy="1865520"/>
          </a:xfrm>
          <a:prstGeom prst="rect">
            <a:avLst/>
          </a:prstGeom>
          <a:solidFill>
            <a:srgbClr val="ac3b8b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SOAP BODY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24480" y="188280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SOAP ENVELOPE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59440" y="4707000"/>
            <a:ext cx="2305080" cy="387360"/>
          </a:xfrm>
          <a:prstGeom prst="rect">
            <a:avLst/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Body Entry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73640" y="1473120"/>
            <a:ext cx="3505320" cy="487512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22800" y="2797200"/>
            <a:ext cx="2170440" cy="379440"/>
          </a:xfrm>
          <a:prstGeom prst="rect">
            <a:avLst/>
          </a:prstGeom>
          <a:solidFill>
            <a:srgbClr val="ffcc99"/>
          </a:solidFill>
          <a:ln w="93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HEADER ENTR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12960" y="105264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Transport protoco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12600" y="150984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HTTP hea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32520" y="3352680"/>
            <a:ext cx="2170080" cy="379440"/>
          </a:xfrm>
          <a:prstGeom prst="rect">
            <a:avLst/>
          </a:prstGeom>
          <a:solidFill>
            <a:srgbClr val="ffcc99"/>
          </a:solidFill>
          <a:ln w="93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HEADER ENTR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780240" y="3675240"/>
            <a:ext cx="57456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80240" y="5638680"/>
            <a:ext cx="57456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59440" y="5232240"/>
            <a:ext cx="2305080" cy="387360"/>
          </a:xfrm>
          <a:prstGeom prst="rect">
            <a:avLst/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Body Entry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24234-3B62-4F0E-9D1A-13321E69F9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indefinite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indefinite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indefinite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indefinite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indefinite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indefinite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indefinite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indefinite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 Message Representation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440" y="857160"/>
            <a:ext cx="4688640" cy="56732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 HTTP 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?xml version=“1.0”?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Envelope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xmlns: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…xmlsoap.org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xlmns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=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ttp://ex.org/soa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xlmns: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=“http://ex.org/customer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Header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authentication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env:actor=“</a:t>
            </a: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...ex.org…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username&gt;Fred&lt;/&gt;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password&gt;yhjik154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authorisation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env:actor=“</a:t>
            </a: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…ex.org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accountNumber&gt;17-365-37a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Bod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PurchaseOrder&gt; …. &lt;/&gt;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1200" y="1755720"/>
            <a:ext cx="0" cy="42991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1200" y="30402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4640" y="3059280"/>
            <a:ext cx="0" cy="16570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04640" y="3375000"/>
            <a:ext cx="216000" cy="324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0560" y="3394080"/>
            <a:ext cx="0" cy="9604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2640" y="4724280"/>
            <a:ext cx="0" cy="6620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03280" y="4081320"/>
            <a:ext cx="2649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3840" y="1738440"/>
            <a:ext cx="2793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04720" y="4370400"/>
            <a:ext cx="2635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4640" y="4714920"/>
            <a:ext cx="216000" cy="324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03280" y="5375160"/>
            <a:ext cx="2649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200" y="60451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4640" y="6064200"/>
            <a:ext cx="0" cy="3081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4640" y="6370560"/>
            <a:ext cx="216000" cy="324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8200" y="876240"/>
            <a:ext cx="407196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uter protocol – HTTP headers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961160" y="1292400"/>
            <a:ext cx="337248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HTTP message is an XML documen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961160" y="1708200"/>
            <a:ext cx="336168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XML root element is SOAP envelo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963320" y="2106720"/>
            <a:ext cx="4106880" cy="86796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http://schemas.xmlsoap.org/soap/envelope/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Identifies SOAP namespace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and the SOAP version being used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50720" y="3208320"/>
            <a:ext cx="294732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Identify application namespac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649600" y="1015920"/>
            <a:ext cx="221616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843280" y="1405080"/>
            <a:ext cx="202248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030400" y="1747800"/>
            <a:ext cx="283536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822480" y="2098800"/>
            <a:ext cx="104292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84600" y="2382840"/>
            <a:ext cx="1201680" cy="863640"/>
          </a:xfrm>
          <a:custGeom>
            <a:avLst/>
            <a:gdLst/>
            <a:ahLst/>
            <a:rect l="l" t="t" r="r" b="b"/>
            <a:pathLst>
              <a:path w="757" h="544">
                <a:moveTo>
                  <a:pt x="757" y="544"/>
                </a:moveTo>
                <a:lnTo>
                  <a:pt x="628" y="250"/>
                </a:lnTo>
                <a:lnTo>
                  <a:pt x="512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11640" y="2724120"/>
            <a:ext cx="674640" cy="587520"/>
          </a:xfrm>
          <a:custGeom>
            <a:avLst/>
            <a:gdLst/>
            <a:ahLst/>
            <a:rect l="l" t="t" r="r" b="b"/>
            <a:pathLst>
              <a:path w="757" h="544">
                <a:moveTo>
                  <a:pt x="757" y="544"/>
                </a:moveTo>
                <a:lnTo>
                  <a:pt x="628" y="250"/>
                </a:lnTo>
                <a:lnTo>
                  <a:pt x="512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4160" y="3641760"/>
            <a:ext cx="122652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Two header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35640" y="2927520"/>
            <a:ext cx="336240" cy="2788920"/>
          </a:xfrm>
          <a:custGeom>
            <a:avLst/>
            <a:gdLst>
              <a:gd name="textAreaLeft" fmla="*/ 0 w 336240"/>
              <a:gd name="textAreaRight" fmla="*/ 121320 w 336240"/>
              <a:gd name="textAreaTop" fmla="*/ 72720 h 2788920"/>
              <a:gd name="textAreaBottom" fmla="*/ 271620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4716"/>
                </a:lnTo>
                <a:cubicBezTo>
                  <a:pt x="10800" y="5616"/>
                  <a:pt x="16200" y="6516"/>
                  <a:pt x="21600" y="6516"/>
                </a:cubicBezTo>
                <a:cubicBezTo>
                  <a:pt x="16200" y="6516"/>
                  <a:pt x="10800" y="7416"/>
                  <a:pt x="10800" y="831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038480"/>
            <a:ext cx="3916440" cy="86796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URIs for application-specific actor names –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http://ex.org/actors/authentication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http://ex.org/actors/authorisation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406680" y="3713040"/>
            <a:ext cx="1495440" cy="80496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33680" y="4799160"/>
            <a:ext cx="1486080" cy="23652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34160" y="5950080"/>
            <a:ext cx="95688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The body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35640" y="5770440"/>
            <a:ext cx="336240" cy="679680"/>
          </a:xfrm>
          <a:custGeom>
            <a:avLst/>
            <a:gdLst>
              <a:gd name="textAreaLeft" fmla="*/ 0 w 336240"/>
              <a:gd name="textAreaRight" fmla="*/ 121320 w 336240"/>
              <a:gd name="textAreaTop" fmla="*/ 17640 h 679680"/>
              <a:gd name="textAreaBottom" fmla="*/ 662040 h 67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49"/>
                </a:lnTo>
                <a:cubicBezTo>
                  <a:pt x="10800" y="10449"/>
                  <a:pt x="16200" y="11349"/>
                  <a:pt x="21600" y="11349"/>
                </a:cubicBezTo>
                <a:cubicBezTo>
                  <a:pt x="16200" y="11349"/>
                  <a:pt x="10800" y="12249"/>
                  <a:pt x="10800" y="1314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EDFBF-DE9F-4C28-B39B-8EBDD6D0B0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indefinite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indefinite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indefinite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indefinite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indefinite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indefinite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indefinite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indefinite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indefinite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indefinite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indefinite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2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9920" y="905040"/>
            <a:ext cx="8699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imple value in a SOAP message will have a type as in Schemas standard, which defines their lexical form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67760" indent="-1677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oap provides two compound types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363960" indent="-1400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e:Struct – components are uniquely name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363960" indent="-1400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e:Array – components are identified by posi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67760" indent="-1677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Array is of type SEnc:Array or some derivative thereof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67760" indent="-1677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an specify shape and component type using attribute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SEnc:arrayType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67760" indent="-1677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7680" y="3906720"/>
            <a:ext cx="5578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A SEnc:arrayType=“xsd:integer [2,3] [2]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A1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n&g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111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n&gt; &lt;n&g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112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n&gt; &lt;n&g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113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n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n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&gt;121&lt;/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n&gt; &lt;n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&gt;122&lt;/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n&gt; &lt;n&g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123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n&gt;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A2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n&g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211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n&gt; &lt;n&g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112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n&gt; &lt;n&g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213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n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n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&gt;221&lt;/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n&gt; &lt;n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&gt;122&lt;/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n&gt; &lt;n&g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223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n&gt;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&gt;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9120" y="3322800"/>
            <a:ext cx="7407360" cy="36828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element name=“A” type=“SEnc:Array”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23080" y="4460760"/>
            <a:ext cx="303840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[2] - An array of 2 elements -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[2,3] Each is a 2 x 3 array of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Xsd:integer –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tandard schema typ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770960" y="329580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Schem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861160" y="391968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Messag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57720" y="4280040"/>
            <a:ext cx="293760" cy="0"/>
          </a:xfrm>
          <a:prstGeom prst="line">
            <a:avLst/>
          </a:prstGeom>
          <a:ln w="25560">
            <a:solidFill>
              <a:srgbClr val="305b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76760" y="4280040"/>
            <a:ext cx="293760" cy="0"/>
          </a:xfrm>
          <a:prstGeom prst="line">
            <a:avLst/>
          </a:prstGeom>
          <a:ln w="25560">
            <a:solidFill>
              <a:srgbClr val="305b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57440" y="4280040"/>
            <a:ext cx="1020960" cy="0"/>
          </a:xfrm>
          <a:prstGeom prst="line">
            <a:avLst/>
          </a:prstGeom>
          <a:ln w="25560">
            <a:solidFill>
              <a:srgbClr val="305b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3160" y="3916440"/>
            <a:ext cx="5041800" cy="25765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52BF2-AD78-40E2-AD14-D587629AF0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8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indefinite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6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indefinite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AP Fault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10960" y="1063440"/>
            <a:ext cx="5632560" cy="11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aults reported in the body – single ele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Zero or more header entries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or detail error information pertaining to original  header entrie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979960" y="1539720"/>
            <a:ext cx="2982960" cy="3454560"/>
          </a:xfrm>
          <a:prstGeom prst="rect">
            <a:avLst/>
          </a:prstGeom>
          <a:solidFill>
            <a:srgbClr val="f1af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1943280"/>
            <a:ext cx="2554200" cy="1825560"/>
          </a:xfrm>
          <a:prstGeom prst="rect">
            <a:avLst/>
          </a:prstGeom>
          <a:solidFill>
            <a:srgbClr val="ac3b8b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OAP Header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845320" y="895320"/>
            <a:ext cx="3225600" cy="422604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248520" y="3854520"/>
            <a:ext cx="2554200" cy="982440"/>
          </a:xfrm>
          <a:prstGeom prst="rect">
            <a:avLst/>
          </a:prstGeom>
          <a:solidFill>
            <a:srgbClr val="ac3b8b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SOAP BODY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46920" y="157464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SOAP ENVELOPE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516720" y="4246560"/>
            <a:ext cx="2033640" cy="433440"/>
          </a:xfrm>
          <a:prstGeom prst="rect">
            <a:avLst/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ault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11920" y="1222200"/>
            <a:ext cx="3092400" cy="383256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573960" y="2359080"/>
            <a:ext cx="1912680" cy="425520"/>
          </a:xfrm>
          <a:prstGeom prst="rect">
            <a:avLst/>
          </a:prstGeom>
          <a:solidFill>
            <a:srgbClr val="ffcc99"/>
          </a:solidFill>
          <a:ln w="93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HEADER ENTR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36840" y="86184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Transport protoco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36480" y="120024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HTTP hea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573960" y="2894040"/>
            <a:ext cx="1912680" cy="426960"/>
          </a:xfrm>
          <a:prstGeom prst="rect">
            <a:avLst/>
          </a:prstGeom>
          <a:solidFill>
            <a:srgbClr val="ffcc99"/>
          </a:solidFill>
          <a:ln w="93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HEADER ENTR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240680" y="3355920"/>
            <a:ext cx="50796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4120" y="2584440"/>
            <a:ext cx="24033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aul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aultcod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b519a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aultstrin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aultacto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detail ?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1819440" y="2859120"/>
            <a:ext cx="1280880" cy="544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91320" y="2548080"/>
            <a:ext cx="23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a Qname, e.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env:mustUnderstand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310560" y="354636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Human readable tex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1949400" y="3740040"/>
            <a:ext cx="1408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085480" y="4105080"/>
            <a:ext cx="1287720" cy="245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358080" y="4037040"/>
            <a:ext cx="22212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Actor that was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operating (URI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Option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(default =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ultimate destination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1608120" y="4425840"/>
            <a:ext cx="1419120" cy="145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41400" y="5796000"/>
            <a:ext cx="59659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Any structure of further application-specific informa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Its presence means body was processe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42582-8BC5-4612-99C6-BE21D068BC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indefinite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indefinite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indefinite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ult Message 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52640" y="961920"/>
            <a:ext cx="5020920" cy="40154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nv:Envelope …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nv:Body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nv:Fault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nv:faultcode&gt;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nv:Ser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nv:faultstring&gt;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rver 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nv:detail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lmns:f=“http://ex.org/faults”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:encodingStyle=“…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:faultdetail1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:faultcode&gt;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2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:excuse&gt;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 my fault rea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/&gt;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:faultdetail2&gt; …. &lt;/&gt;&lt;/&gt;&lt;/&gt;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61920" y="193500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andard error code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18360" y="3638520"/>
            <a:ext cx="201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Application-specific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Error code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23400" y="227160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Explanatio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13520" y="1995480"/>
            <a:ext cx="149040" cy="276120"/>
          </a:xfrm>
          <a:custGeom>
            <a:avLst/>
            <a:gdLst>
              <a:gd name="textAreaLeft" fmla="*/ 0 w 149040"/>
              <a:gd name="textAreaRight" fmla="*/ 53640 w 149040"/>
              <a:gd name="textAreaTop" fmla="*/ 7200 h 276120"/>
              <a:gd name="textAreaBottom" fmla="*/ 26892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13520" y="2316240"/>
            <a:ext cx="149040" cy="276120"/>
          </a:xfrm>
          <a:custGeom>
            <a:avLst/>
            <a:gdLst>
              <a:gd name="textAreaLeft" fmla="*/ 0 w 149040"/>
              <a:gd name="textAreaRight" fmla="*/ 53640 w 149040"/>
              <a:gd name="textAreaTop" fmla="*/ 7200 h 276120"/>
              <a:gd name="textAreaBottom" fmla="*/ 26892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13520" y="3871800"/>
            <a:ext cx="99720" cy="250920"/>
          </a:xfrm>
          <a:custGeom>
            <a:avLst/>
            <a:gdLst>
              <a:gd name="textAreaLeft" fmla="*/ 0 w 99720"/>
              <a:gd name="textAreaRight" fmla="*/ 36000 w 99720"/>
              <a:gd name="textAreaTop" fmla="*/ 6480 h 250920"/>
              <a:gd name="textAreaBottom" fmla="*/ 244440 h 2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13520" y="4272120"/>
            <a:ext cx="149040" cy="276120"/>
          </a:xfrm>
          <a:custGeom>
            <a:avLst/>
            <a:gdLst>
              <a:gd name="textAreaLeft" fmla="*/ 0 w 149040"/>
              <a:gd name="textAreaRight" fmla="*/ 53640 w 149040"/>
              <a:gd name="textAreaTop" fmla="*/ 7200 h 276120"/>
              <a:gd name="textAreaBottom" fmla="*/ 26892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423400" y="419400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Explanatio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4200" y="968400"/>
            <a:ext cx="15840" cy="40053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7120" y="1152360"/>
            <a:ext cx="0" cy="341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2760" y="1157400"/>
            <a:ext cx="2793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1000" y="1501920"/>
            <a:ext cx="2793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27120" y="2160720"/>
            <a:ext cx="2793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93560" y="1506600"/>
            <a:ext cx="0" cy="3207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98600" y="1838160"/>
            <a:ext cx="2793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1800" y="1849320"/>
            <a:ext cx="0" cy="9590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68240" y="2852640"/>
            <a:ext cx="0" cy="19717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7120" y="2484360"/>
            <a:ext cx="2793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27120" y="2828880"/>
            <a:ext cx="2793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5000" y="3811680"/>
            <a:ext cx="279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25560" y="3835440"/>
            <a:ext cx="0" cy="6062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23760" y="4135320"/>
            <a:ext cx="279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23760" y="4449600"/>
            <a:ext cx="279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65000" y="4803840"/>
            <a:ext cx="279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DB46A-1AFE-49F9-8F8D-83904AC37A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0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indefinite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indefinite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indefinite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indefinite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1:59:54Z</dcterms:created>
  <dc:creator>Richard Hopkins</dc:creator>
  <dc:description/>
  <dc:language>en-US</dc:language>
  <cp:lastModifiedBy>Richard Hopkins</cp:lastModifiedBy>
  <dcterms:modified xsi:type="dcterms:W3CDTF">2005-07-11T20:57:32Z</dcterms:modified>
  <cp:revision>71</cp:revision>
  <dc:subject/>
  <dc:title>XML</dc:title>
</cp:coreProperties>
</file>