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21330-38D8-4C1B-A2B6-3430EAD77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95E27-CCBF-4058-96C5-9CD15CC06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95E20-6353-41A2-A571-87E3BE6B4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81E89-09CF-4955-B4A6-65BE04B47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C2F3A-EAB3-4407-B78B-1525CB6F1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7CB23-5FC2-4804-B2F5-822D08D078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9AE61-74F5-49D1-B6AC-7104DBFD95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124C7-A8DD-400A-A1A3-AC59529804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D41CC-3A6B-48CC-9900-E1ABBFD5E9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9E322-A954-4610-9836-5F08DCD1BE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DA327-3781-478A-9D1D-4B27C2487D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7B013-A1DA-40BF-A475-D41E90977E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100CD-DB52-49A3-BC27-C2CCB2F98E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108B9-1639-42BC-BBD8-842AAB1D27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47CCB-0966-476E-898D-8970DC6736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03B53-0E6F-4BF0-BF26-7950A6755D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A5FE8-EEAA-4F39-88CE-0CDBB5EF1A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97642-E6C0-4709-B8BE-600BC6054F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D3F2C-87DB-4697-95A9-FAD7B0C06E9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EACF3-B0F7-4907-9118-629E7683B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797D0-893C-4CC4-936B-AA7175362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34B34-029F-495E-A08B-8541E2D4F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33D9B-E967-4449-ABC5-E40BFB820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30721-7172-4D7F-85C7-13EE35801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8D72-B7B0-44A6-B638-FE45CDE41D2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Introduction to Web Servi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BF67-2EC1-480E-A5F3-5810910FEC4F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109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" y="6576840"/>
            <a:ext cx="31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b519a"/>
                </a:solidFill>
                <a:latin typeface="Arial"/>
              </a:rPr>
              <a:t>ISSGC’05, Vico Equense,July 2005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108320" y="5703840"/>
            <a:ext cx="133200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b519a"/>
                </a:solidFill>
                <a:latin typeface="Arial"/>
              </a:rPr>
              <a:t>ISSGC’05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Introduction to Web Services 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983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NeSC Training Team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erspective on  Web Services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7980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hared Variable Model - Close coupl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he programmers of user side of an interaction know all about represent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hared implement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uitable for single-programmer leve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nteraction of order of nanosecon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Fine granual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lmost no work in a variable assign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implest of tasks involves many interactions with variabl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Object Oriented Model - Medium Coupl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ser side of interaction knows – what classes exist and their interfa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But not their represent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hared class desig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uitable for single-organisation leve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nteraction of order of micro/milli-sec (possibly distributed objects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Medium granuality – do some work in a method invocation – 20 lines of cod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Within an object, typically use the Shared Variable mode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16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47600" y="432720"/>
            <a:ext cx="514440" cy="5791320"/>
          </a:xfrm>
          <a:custGeom>
            <a:avLst/>
            <a:gdLst>
              <a:gd name="textAreaLeft" fmla="*/ 68760 w 514440"/>
              <a:gd name="textAreaRight" fmla="*/ 445680 w 514440"/>
              <a:gd name="textAreaTop" fmla="*/ 1131120 h 5791320"/>
              <a:gd name="textAreaBottom" fmla="*/ 360864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40" stAng="-5400000" swAng="-5400000"/>
                <a:lnTo>
                  <a:pt x="0" y="9240"/>
                </a:lnTo>
                <a:arcTo wR="21600" hR="8440" stAng="10800000" swAng="-1967560"/>
                <a:lnTo>
                  <a:pt x="10399" y="20377"/>
                </a:lnTo>
                <a:lnTo>
                  <a:pt x="21600" y="17280"/>
                </a:lnTo>
                <a:lnTo>
                  <a:pt x="10399" y="11737"/>
                </a:lnTo>
                <a:lnTo>
                  <a:pt x="10399" y="15657"/>
                </a:lnTo>
                <a:arcTo wR="21600" hR="8440" stAng="8832440" swAng="1903834"/>
                <a:lnTo>
                  <a:pt x="24" y="8840"/>
                </a:lnTo>
                <a:arcTo wR="21600" hR="8440" stAng="-10736274" swAng="5336274"/>
                <a:close/>
              </a:path>
              <a:path fill="darkenLess" w="21600" h="21600">
                <a:moveTo>
                  <a:pt x="21600" y="0"/>
                </a:moveTo>
                <a:arcTo wR="21600" hR="8440" stAng="-5400000" swAng="-5400000"/>
                <a:lnTo>
                  <a:pt x="0" y="8440"/>
                </a:lnTo>
                <a:arcTo wR="21600" hR="8440" stAng="10800000" swAng="-63726"/>
                <a:lnTo>
                  <a:pt x="24" y="8840"/>
                </a:lnTo>
                <a:arcTo wR="21600" hR="8440" stAng="-10736274" swAng="5336274"/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D9FA6-5E4D-458D-BABA-26DA941059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erspective on  Web Services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Shared Variable Model - Close coupling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Shared implementation ; single-programmer ; nanosec interaction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nanosecond interaction; fine granuality;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Object-Oriented Model – Medium Coupling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Shard Class Design ; single organisation ;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Micro/milli-sec interaction; medium granuality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eb Services - Loose coupl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rogrammers on  user side knows how to programme the discovery of a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hared standards and knowledge of standard repositor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nteraction of order of second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Coarse granuality – do enough work in a service request to justify the time taken by the communication overhea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Within a service, typically use the Object-oriented model – service request-response is mapped to method invocation-retur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rogressively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looser coupling; more time-expensive interaction, coarser granual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Each model builds on the previous one – uses it internall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147600" y="1788480"/>
            <a:ext cx="514440" cy="3436920"/>
          </a:xfrm>
          <a:custGeom>
            <a:avLst/>
            <a:gdLst>
              <a:gd name="textAreaLeft" fmla="*/ 68760 w 514440"/>
              <a:gd name="textAreaRight" fmla="*/ 445680 w 514440"/>
              <a:gd name="textAreaTop" fmla="*/ 671040 h 3436920"/>
              <a:gd name="textAreaBottom" fmla="*/ 2141280 h 343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40" stAng="-5400000" swAng="-5400000"/>
                <a:lnTo>
                  <a:pt x="0" y="9240"/>
                </a:lnTo>
                <a:arcTo wR="21600" hR="8440" stAng="10800000" swAng="-1967560"/>
                <a:lnTo>
                  <a:pt x="10399" y="20377"/>
                </a:lnTo>
                <a:lnTo>
                  <a:pt x="21600" y="17280"/>
                </a:lnTo>
                <a:lnTo>
                  <a:pt x="10399" y="11737"/>
                </a:lnTo>
                <a:lnTo>
                  <a:pt x="10399" y="15657"/>
                </a:lnTo>
                <a:arcTo wR="21600" hR="8440" stAng="8832440" swAng="1903834"/>
                <a:lnTo>
                  <a:pt x="24" y="8840"/>
                </a:lnTo>
                <a:arcTo wR="21600" hR="8440" stAng="-10736274" swAng="5336274"/>
                <a:close/>
              </a:path>
              <a:path fill="darkenLess" w="21600" h="21600">
                <a:moveTo>
                  <a:pt x="21600" y="0"/>
                </a:moveTo>
                <a:arcTo wR="21600" hR="8440" stAng="-5400000" swAng="-5400000"/>
                <a:lnTo>
                  <a:pt x="0" y="8440"/>
                </a:lnTo>
                <a:arcTo wR="21600" hR="8440" stAng="10800000" swAng="-63726"/>
                <a:lnTo>
                  <a:pt x="24" y="8840"/>
                </a:lnTo>
                <a:arcTo wR="21600" hR="8440" stAng="-10736274" swAng="5336274"/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47600" y="831240"/>
            <a:ext cx="514440" cy="1314360"/>
          </a:xfrm>
          <a:custGeom>
            <a:avLst/>
            <a:gdLst>
              <a:gd name="textAreaLeft" fmla="*/ 68760 w 514440"/>
              <a:gd name="textAreaRight" fmla="*/ 445680 w 514440"/>
              <a:gd name="textAreaTop" fmla="*/ 256320 h 1314360"/>
              <a:gd name="textAreaBottom" fmla="*/ 818640 h 13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40" stAng="-5400000" swAng="-5400000"/>
                <a:lnTo>
                  <a:pt x="0" y="9240"/>
                </a:lnTo>
                <a:arcTo wR="21600" hR="8440" stAng="10800000" swAng="-1967560"/>
                <a:lnTo>
                  <a:pt x="10399" y="20377"/>
                </a:lnTo>
                <a:lnTo>
                  <a:pt x="21600" y="17280"/>
                </a:lnTo>
                <a:lnTo>
                  <a:pt x="10399" y="11737"/>
                </a:lnTo>
                <a:lnTo>
                  <a:pt x="10399" y="15657"/>
                </a:lnTo>
                <a:arcTo wR="21600" hR="8440" stAng="8832440" swAng="1903834"/>
                <a:lnTo>
                  <a:pt x="24" y="8840"/>
                </a:lnTo>
                <a:arcTo wR="21600" hR="8440" stAng="-10736274" swAng="5336274"/>
                <a:close/>
              </a:path>
              <a:path fill="darkenLess" w="21600" h="21600">
                <a:moveTo>
                  <a:pt x="21600" y="0"/>
                </a:moveTo>
                <a:arcTo wR="21600" hR="8440" stAng="-5400000" swAng="-5400000"/>
                <a:lnTo>
                  <a:pt x="0" y="8440"/>
                </a:lnTo>
                <a:arcTo wR="21600" hR="8440" stAng="10800000" swAng="-63726"/>
                <a:lnTo>
                  <a:pt x="24" y="8840"/>
                </a:lnTo>
                <a:arcTo wR="21600" hR="8440" stAng="-10736274" swAng="5336274"/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3A982-27CA-4511-BFF9-41A349CC77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n Appreciation of the role and context of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Web Services in genera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e Web Services Resource Framework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Java-based tool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tructure of Standard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Web Servi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utline of JAVA tools and their us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tandards Structu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857920" y="4037040"/>
            <a:ext cx="3286080" cy="353880"/>
          </a:xfrm>
          <a:prstGeom prst="leftArrow">
            <a:avLst>
              <a:gd name="adj1" fmla="val 50000"/>
              <a:gd name="adj2" fmla="val 232146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E1935-346D-4DDA-9F35-1110AF7941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900840" y="2090880"/>
            <a:ext cx="2130480" cy="37972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93960" y="2090880"/>
            <a:ext cx="2220840" cy="37972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89560" y="4559400"/>
            <a:ext cx="1222200" cy="149436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HTTP message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-O (JAVA)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09520" y="2359080"/>
            <a:ext cx="1441440" cy="2313000"/>
            <a:chOff x="209520" y="2359080"/>
            <a:chExt cx="1441440" cy="2313000"/>
          </a:xfrm>
        </p:grpSpPr>
        <p:sp>
          <p:nvSpPr>
            <p:cNvPr id="281" name=""/>
            <p:cNvSpPr/>
            <p:nvPr/>
          </p:nvSpPr>
          <p:spPr>
            <a:xfrm>
              <a:off x="276120" y="2894040"/>
              <a:ext cx="273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2920" y="2925720"/>
              <a:ext cx="0" cy="16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1760" y="2523960"/>
              <a:ext cx="1814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2920" y="3166920"/>
              <a:ext cx="97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85920" y="2894040"/>
              <a:ext cx="27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6480" y="3179880"/>
              <a:ext cx="599040" cy="60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B.Op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  </a:t>
              </a: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(a,b)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13000" y="2925720"/>
              <a:ext cx="0" cy="155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9240" y="2917800"/>
              <a:ext cx="663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519a"/>
                  </a:solidFill>
                  <a:latin typeface="Arial"/>
                </a:rPr>
                <a:t>invoke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412560" y="4187880"/>
              <a:ext cx="966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33840" y="4200480"/>
              <a:ext cx="145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7080" y="3900600"/>
              <a:ext cx="60048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519a"/>
                  </a:solidFill>
                  <a:latin typeface="Arial"/>
                </a:rPr>
                <a:t>return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18320" y="2523960"/>
              <a:ext cx="1814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9520" y="2359080"/>
              <a:ext cx="1441440" cy="2313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0" y="1468440"/>
            <a:ext cx="3662280" cy="2593800"/>
            <a:chOff x="0" y="1468440"/>
            <a:chExt cx="3662280" cy="2593800"/>
          </a:xfrm>
        </p:grpSpPr>
        <p:sp>
          <p:nvSpPr>
            <p:cNvPr id="295" name=""/>
            <p:cNvSpPr/>
            <p:nvPr/>
          </p:nvSpPr>
          <p:spPr>
            <a:xfrm>
              <a:off x="1738440" y="3787920"/>
              <a:ext cx="893520" cy="274320"/>
            </a:xfrm>
            <a:prstGeom prst="rightArrow">
              <a:avLst>
                <a:gd name="adj1" fmla="val 50000"/>
                <a:gd name="adj2" fmla="val 8143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1468440"/>
              <a:ext cx="366228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25800" indent="-3258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519a"/>
                  </a:solidFill>
                  <a:latin typeface="Arial"/>
                </a:rPr>
                <a:t>Insert the web into the invoke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 marL="325800" indent="-3258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519a"/>
                  </a:solidFill>
                  <a:latin typeface="Arial"/>
                </a:rPr>
                <a:t>and into the return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13040" y="2154240"/>
              <a:ext cx="136440" cy="1649520"/>
            </a:xfrm>
            <a:prstGeom prst="line">
              <a:avLst/>
            </a:prstGeom>
            <a:ln w="25560">
              <a:solidFill>
                <a:srgbClr val="325fa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805120" y="5956200"/>
            <a:ext cx="2370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rvice </a:t>
            </a: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consu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54080" indent="-154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(client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047000" y="2563920"/>
            <a:ext cx="614160" cy="3157560"/>
            <a:chOff x="7047000" y="2563920"/>
            <a:chExt cx="614160" cy="3157560"/>
          </a:xfrm>
        </p:grpSpPr>
        <p:sp>
          <p:nvSpPr>
            <p:cNvPr id="300" name=""/>
            <p:cNvSpPr/>
            <p:nvPr/>
          </p:nvSpPr>
          <p:spPr>
            <a:xfrm>
              <a:off x="7066080" y="2894040"/>
              <a:ext cx="27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2520" y="2925720"/>
              <a:ext cx="0" cy="279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47000" y="2563920"/>
              <a:ext cx="6141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Stack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729920" y="2260440"/>
            <a:ext cx="518400" cy="3461040"/>
            <a:chOff x="7729920" y="2260440"/>
            <a:chExt cx="518400" cy="3461040"/>
          </a:xfrm>
        </p:grpSpPr>
        <p:sp>
          <p:nvSpPr>
            <p:cNvPr id="304" name=""/>
            <p:cNvSpPr/>
            <p:nvPr/>
          </p:nvSpPr>
          <p:spPr>
            <a:xfrm>
              <a:off x="7775640" y="2894040"/>
              <a:ext cx="27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29920" y="2260440"/>
              <a:ext cx="51840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Cont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ainer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64560" y="2925720"/>
              <a:ext cx="0" cy="279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956280" y="5956200"/>
            <a:ext cx="2187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rvice </a:t>
            </a: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provi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54080" indent="-154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(server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13400" y="3063960"/>
            <a:ext cx="2573280" cy="660240"/>
          </a:xfrm>
          <a:custGeom>
            <a:avLst/>
            <a:gdLst/>
            <a:ahLst/>
            <a:rect l="l" t="t" r="r" b="b"/>
            <a:pathLst>
              <a:path w="1376" h="416">
                <a:moveTo>
                  <a:pt x="0" y="416"/>
                </a:moveTo>
                <a:lnTo>
                  <a:pt x="356" y="231"/>
                </a:lnTo>
                <a:lnTo>
                  <a:pt x="1138" y="218"/>
                </a:lnTo>
                <a:lnTo>
                  <a:pt x="1376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13400" y="4167360"/>
            <a:ext cx="2562120" cy="660240"/>
          </a:xfrm>
          <a:custGeom>
            <a:avLst/>
            <a:gdLst/>
            <a:ahLst/>
            <a:rect l="l" t="t" r="r" b="b"/>
            <a:pathLst>
              <a:path w="1376" h="416">
                <a:moveTo>
                  <a:pt x="1376" y="416"/>
                </a:moveTo>
                <a:lnTo>
                  <a:pt x="1151" y="231"/>
                </a:lnTo>
                <a:lnTo>
                  <a:pt x="389" y="23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70920" y="4616280"/>
            <a:ext cx="62496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Ret(c)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33840" y="4583160"/>
            <a:ext cx="1138320" cy="867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Soap envelope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906640" y="2523960"/>
            <a:ext cx="273240" cy="3197520"/>
            <a:chOff x="2906640" y="2523960"/>
            <a:chExt cx="273240" cy="3197520"/>
          </a:xfrm>
        </p:grpSpPr>
        <p:sp>
          <p:nvSpPr>
            <p:cNvPr id="313" name=""/>
            <p:cNvSpPr/>
            <p:nvPr/>
          </p:nvSpPr>
          <p:spPr>
            <a:xfrm>
              <a:off x="2906640" y="2894040"/>
              <a:ext cx="273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43080" y="2925720"/>
              <a:ext cx="0" cy="279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42280" y="2523960"/>
              <a:ext cx="1814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749400" y="2279520"/>
            <a:ext cx="473400" cy="3441960"/>
            <a:chOff x="3749400" y="2279520"/>
            <a:chExt cx="473400" cy="3441960"/>
          </a:xfrm>
        </p:grpSpPr>
        <p:sp>
          <p:nvSpPr>
            <p:cNvPr id="317" name=""/>
            <p:cNvSpPr/>
            <p:nvPr/>
          </p:nvSpPr>
          <p:spPr>
            <a:xfrm>
              <a:off x="3949560" y="2894040"/>
              <a:ext cx="273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49400" y="2279520"/>
              <a:ext cx="44532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B-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stub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52880" y="2925720"/>
              <a:ext cx="0" cy="279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311000" y="2554200"/>
            <a:ext cx="577800" cy="3071880"/>
            <a:chOff x="4311000" y="2554200"/>
            <a:chExt cx="577800" cy="3071880"/>
          </a:xfrm>
        </p:grpSpPr>
        <p:sp>
          <p:nvSpPr>
            <p:cNvPr id="321" name=""/>
            <p:cNvSpPr/>
            <p:nvPr/>
          </p:nvSpPr>
          <p:spPr>
            <a:xfrm>
              <a:off x="4510080" y="2894040"/>
              <a:ext cx="27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11000" y="2554200"/>
              <a:ext cx="5778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Stack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626000" y="2925720"/>
              <a:ext cx="0" cy="27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8658360" y="2471760"/>
            <a:ext cx="272880" cy="3154320"/>
            <a:chOff x="8658360" y="2471760"/>
            <a:chExt cx="272880" cy="3154320"/>
          </a:xfrm>
        </p:grpSpPr>
        <p:sp>
          <p:nvSpPr>
            <p:cNvPr id="325" name=""/>
            <p:cNvSpPr/>
            <p:nvPr/>
          </p:nvSpPr>
          <p:spPr>
            <a:xfrm>
              <a:off x="8658360" y="2894040"/>
              <a:ext cx="272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44400" y="2471760"/>
              <a:ext cx="1814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74280" y="2925720"/>
              <a:ext cx="0" cy="27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043080" y="2917800"/>
            <a:ext cx="1552680" cy="882000"/>
            <a:chOff x="3043080" y="2917800"/>
            <a:chExt cx="1552680" cy="882000"/>
          </a:xfrm>
        </p:grpSpPr>
        <p:sp>
          <p:nvSpPr>
            <p:cNvPr id="329" name=""/>
            <p:cNvSpPr/>
            <p:nvPr/>
          </p:nvSpPr>
          <p:spPr>
            <a:xfrm>
              <a:off x="3043080" y="3166920"/>
              <a:ext cx="1019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42800" y="3191040"/>
              <a:ext cx="637200" cy="60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Bs.Op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  </a:t>
              </a: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(a,b)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08680" y="2917800"/>
              <a:ext cx="663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519a"/>
                  </a:solidFill>
                  <a:latin typeface="Arial"/>
                </a:rPr>
                <a:t>invoke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70520" y="3387600"/>
              <a:ext cx="52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78520" y="3387600"/>
              <a:ext cx="253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…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7202520" y="3063960"/>
            <a:ext cx="1554120" cy="932400"/>
            <a:chOff x="7202520" y="3063960"/>
            <a:chExt cx="1554120" cy="932400"/>
          </a:xfrm>
        </p:grpSpPr>
        <p:sp>
          <p:nvSpPr>
            <p:cNvPr id="335" name=""/>
            <p:cNvSpPr/>
            <p:nvPr/>
          </p:nvSpPr>
          <p:spPr>
            <a:xfrm flipV="1">
              <a:off x="7202520" y="3159000"/>
              <a:ext cx="66204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01160" y="3191040"/>
              <a:ext cx="253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…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862760" y="3387600"/>
              <a:ext cx="89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72920" y="3387600"/>
              <a:ext cx="599040" cy="60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B.Op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  </a:t>
              </a: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(a,b)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36200" y="3063960"/>
              <a:ext cx="663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519a"/>
                  </a:solidFill>
                  <a:latin typeface="Arial"/>
                </a:rPr>
                <a:t>invoke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202520" y="4143240"/>
            <a:ext cx="1552680" cy="768600"/>
            <a:chOff x="7202520" y="4143240"/>
            <a:chExt cx="1552680" cy="768600"/>
          </a:xfrm>
        </p:grpSpPr>
        <p:sp>
          <p:nvSpPr>
            <p:cNvPr id="341" name=""/>
            <p:cNvSpPr/>
            <p:nvPr/>
          </p:nvSpPr>
          <p:spPr>
            <a:xfrm flipH="1">
              <a:off x="7202520" y="4599000"/>
              <a:ext cx="652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78920" y="4616280"/>
              <a:ext cx="253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…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904160" y="4430880"/>
              <a:ext cx="85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09160" y="4443480"/>
              <a:ext cx="145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132760" y="4143240"/>
              <a:ext cx="60048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519a"/>
                  </a:solidFill>
                  <a:latin typeface="Arial"/>
                </a:rPr>
                <a:t>return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042720" y="4300560"/>
            <a:ext cx="1552680" cy="600480"/>
            <a:chOff x="3042720" y="4300560"/>
            <a:chExt cx="1552680" cy="600480"/>
          </a:xfrm>
        </p:grpSpPr>
        <p:sp>
          <p:nvSpPr>
            <p:cNvPr id="347" name=""/>
            <p:cNvSpPr/>
            <p:nvPr/>
          </p:nvSpPr>
          <p:spPr>
            <a:xfrm flipH="1">
              <a:off x="3042720" y="4587840"/>
              <a:ext cx="1019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64360" y="4605480"/>
              <a:ext cx="145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387600" y="4300560"/>
              <a:ext cx="60048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519a"/>
                  </a:solidFill>
                  <a:latin typeface="Arial"/>
                </a:rPr>
                <a:t>return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070160" y="4375080"/>
              <a:ext cx="52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78520" y="4375080"/>
              <a:ext cx="25308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…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8218440" y="2647800"/>
            <a:ext cx="4111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992840" y="3506760"/>
            <a:ext cx="1989000" cy="892080"/>
            <a:chOff x="4992840" y="3506760"/>
            <a:chExt cx="1989000" cy="892080"/>
          </a:xfrm>
        </p:grpSpPr>
        <p:sp>
          <p:nvSpPr>
            <p:cNvPr id="354" name="Cloud"/>
            <p:cNvSpPr/>
            <p:nvPr/>
          </p:nvSpPr>
          <p:spPr>
            <a:xfrm>
              <a:off x="5189400" y="3506760"/>
              <a:ext cx="1330560" cy="89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97560" y="36352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92840" y="3948120"/>
              <a:ext cx="1989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56080" y="1925640"/>
            <a:ext cx="1222560" cy="1494360"/>
            <a:chOff x="5356080" y="1925640"/>
            <a:chExt cx="1222560" cy="1494360"/>
          </a:xfrm>
        </p:grpSpPr>
        <p:sp>
          <p:nvSpPr>
            <p:cNvPr id="358" name=""/>
            <p:cNvSpPr/>
            <p:nvPr/>
          </p:nvSpPr>
          <p:spPr>
            <a:xfrm>
              <a:off x="5400720" y="1978200"/>
              <a:ext cx="1138320" cy="86796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Soap envelope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56080" y="1925640"/>
              <a:ext cx="1222560" cy="149436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HTTP message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38880" y="2009880"/>
              <a:ext cx="76824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Op(a,b)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960720" y="1015920"/>
            <a:ext cx="4416480" cy="1538280"/>
            <a:chOff x="3960720" y="1015920"/>
            <a:chExt cx="4416480" cy="1538280"/>
          </a:xfrm>
        </p:grpSpPr>
        <p:sp>
          <p:nvSpPr>
            <p:cNvPr id="362" name=""/>
            <p:cNvSpPr/>
            <p:nvPr/>
          </p:nvSpPr>
          <p:spPr>
            <a:xfrm>
              <a:off x="5808960" y="1015920"/>
              <a:ext cx="89316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JAXRPC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20120" y="1015920"/>
              <a:ext cx="1178280" cy="295560"/>
            </a:xfrm>
            <a:prstGeom prst="rect">
              <a:avLst/>
            </a:prstGeom>
            <a:noFill/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WSDL for B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22880" y="1166760"/>
              <a:ext cx="55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960720" y="1292400"/>
              <a:ext cx="1860480" cy="97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83400" y="1324080"/>
              <a:ext cx="1693800" cy="1230120"/>
            </a:xfrm>
            <a:custGeom>
              <a:avLst/>
              <a:gdLst/>
              <a:ahLst/>
              <a:rect l="l" t="t" r="r" b="b"/>
              <a:pathLst>
                <a:path w="1067" h="775">
                  <a:moveTo>
                    <a:pt x="0" y="0"/>
                  </a:moveTo>
                  <a:lnTo>
                    <a:pt x="1047" y="252"/>
                  </a:lnTo>
                  <a:lnTo>
                    <a:pt x="1067" y="77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38640" y="1384200"/>
              <a:ext cx="11509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519a"/>
                  </a:solidFill>
                  <a:latin typeface="Arial"/>
                </a:rPr>
                <a:t>compile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77000" y="1049400"/>
              <a:ext cx="1065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519a"/>
                  </a:solidFill>
                  <a:latin typeface="Arial"/>
                </a:rPr>
                <a:t>deploy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D88CB-9286-4CAE-B321-5B6AFC8C0B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– how and wh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SDL is keystone of web service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Defines a service’s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bstract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interface – operations and message structur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Defines the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physical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protocol and a data formants used to realise that abstract interfa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e WSDL is publish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ervice consumer uses the WSDL to determine how to communicate with the service – stub gener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b519a"/>
                </a:solidFill>
                <a:latin typeface="Arial"/>
              </a:rPr>
              <a:t>There are different approaches to how WSDL is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Produced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Automatically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Manually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mi-automatically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Consum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tatic Binding – access the WSDL at compile-time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Dynamic Binding – access the WSDL at run-time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09573-96CF-4379-A9E7-5F7AED6262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Provider  Op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133120" y="1301760"/>
            <a:ext cx="89316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JAXRPC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44480" y="1301760"/>
            <a:ext cx="663120" cy="295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WSDL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713720" y="1452600"/>
            <a:ext cx="411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646960" y="1204920"/>
            <a:ext cx="1682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ublish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6" name="Document"/>
          <p:cNvSpPr/>
          <p:nvPr/>
        </p:nvSpPr>
        <p:spPr>
          <a:xfrm>
            <a:off x="4152960" y="1417680"/>
            <a:ext cx="1697040" cy="36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5694480" y="1512720"/>
            <a:ext cx="1334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8" name="Cloud"/>
          <p:cNvSpPr/>
          <p:nvPr/>
        </p:nvSpPr>
        <p:spPr>
          <a:xfrm>
            <a:off x="4060800" y="1851120"/>
            <a:ext cx="2430360" cy="952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43600" y="2092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133880" y="1163520"/>
            <a:ext cx="190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http://www…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85120" y="1903320"/>
            <a:ext cx="1099800" cy="71604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475400" y="1609560"/>
            <a:ext cx="1155960" cy="540000"/>
          </a:xfrm>
          <a:custGeom>
            <a:avLst/>
            <a:gdLst/>
            <a:ahLst/>
            <a:rect l="l" t="t" r="r" b="b"/>
            <a:pathLst>
              <a:path w="1364" h="340">
                <a:moveTo>
                  <a:pt x="1363" y="0"/>
                </a:moveTo>
                <a:lnTo>
                  <a:pt x="1364" y="334"/>
                </a:lnTo>
                <a:lnTo>
                  <a:pt x="0" y="34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232680" y="2205000"/>
            <a:ext cx="178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975200" y="2895480"/>
            <a:ext cx="1203480" cy="3286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23480" y="2892600"/>
            <a:ext cx="1958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1240" y="1185480"/>
            <a:ext cx="389736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anual - 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irectly write WSDL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Unnatural for JAVA develop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SDL is hard to write from scratch?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24560" y="1751040"/>
            <a:ext cx="353880" cy="1320840"/>
          </a:xfrm>
          <a:custGeom>
            <a:avLst/>
            <a:gdLst/>
            <a:ahLst/>
            <a:rect l="l" t="t" r="r" b="b"/>
            <a:pathLst>
              <a:path w="223" h="946">
                <a:moveTo>
                  <a:pt x="11" y="0"/>
                </a:moveTo>
                <a:lnTo>
                  <a:pt x="0" y="941"/>
                </a:lnTo>
                <a:lnTo>
                  <a:pt x="223" y="946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541840" y="2060640"/>
            <a:ext cx="1060560" cy="819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438680" y="2124000"/>
            <a:ext cx="1604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eplo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1240" y="3668760"/>
            <a:ext cx="412596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utomatic -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erive WSDL from JAV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Natural for JAVA develop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May compromise interoperabil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oo JAVA specific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on’t have extensibil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This is what you will do in the tutori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16800" y="3627360"/>
            <a:ext cx="244152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JAVA Interface Definition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691480" y="3916440"/>
            <a:ext cx="0" cy="338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133120" y="4243320"/>
            <a:ext cx="89316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JAXRPC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44480" y="4243320"/>
            <a:ext cx="663120" cy="295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WSDL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7713720" y="4394160"/>
            <a:ext cx="411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646960" y="4146480"/>
            <a:ext cx="1682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ublish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7" name="Document"/>
          <p:cNvSpPr/>
          <p:nvPr/>
        </p:nvSpPr>
        <p:spPr>
          <a:xfrm>
            <a:off x="4152960" y="4359240"/>
            <a:ext cx="1697040" cy="370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694480" y="4454640"/>
            <a:ext cx="1334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9" name="Cloud"/>
          <p:cNvSpPr/>
          <p:nvPr/>
        </p:nvSpPr>
        <p:spPr>
          <a:xfrm>
            <a:off x="4060800" y="4792680"/>
            <a:ext cx="2430360" cy="952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043600" y="5033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133880" y="4105440"/>
            <a:ext cx="1903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http://www…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585120" y="4844880"/>
            <a:ext cx="1099800" cy="71604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75400" y="4551480"/>
            <a:ext cx="1155960" cy="539640"/>
          </a:xfrm>
          <a:custGeom>
            <a:avLst/>
            <a:gdLst/>
            <a:ahLst/>
            <a:rect l="l" t="t" r="r" b="b"/>
            <a:pathLst>
              <a:path w="1364" h="340">
                <a:moveTo>
                  <a:pt x="1363" y="0"/>
                </a:moveTo>
                <a:lnTo>
                  <a:pt x="1364" y="334"/>
                </a:lnTo>
                <a:lnTo>
                  <a:pt x="0" y="34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32680" y="5146560"/>
            <a:ext cx="178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975200" y="5837400"/>
            <a:ext cx="1203480" cy="32832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23480" y="5834160"/>
            <a:ext cx="1958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24560" y="4692600"/>
            <a:ext cx="353880" cy="1320840"/>
          </a:xfrm>
          <a:custGeom>
            <a:avLst/>
            <a:gdLst/>
            <a:ahLst/>
            <a:rect l="l" t="t" r="r" b="b"/>
            <a:pathLst>
              <a:path w="223" h="946">
                <a:moveTo>
                  <a:pt x="11" y="0"/>
                </a:moveTo>
                <a:lnTo>
                  <a:pt x="0" y="941"/>
                </a:lnTo>
                <a:lnTo>
                  <a:pt x="223" y="946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5541840" y="5002200"/>
            <a:ext cx="1060560" cy="819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438680" y="5065560"/>
            <a:ext cx="1604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eplo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1E71E-6804-4B7A-B2CD-D2A90FEA34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Provider Op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1240" y="1131840"/>
            <a:ext cx="814680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mi-Automatic –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tart with JAVA interf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erive initial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Modify it fo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interoperabil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extensibil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eploy (, test) and publish tha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Natural for JAVA develop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ddresses interoperability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nd extensibil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evelopment Issu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For new version with extended interface, do you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tart again from JAVA interface definition, and re-tune it al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ork directly from the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16800" y="1076400"/>
            <a:ext cx="244152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JAVA Interface Definition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691480" y="1365120"/>
            <a:ext cx="0" cy="338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133120" y="1692360"/>
            <a:ext cx="89316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JAXRPC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44480" y="1692360"/>
            <a:ext cx="663120" cy="295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WSDL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7713720" y="1843200"/>
            <a:ext cx="411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46960" y="2614680"/>
            <a:ext cx="1682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ublish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8" name="Document"/>
          <p:cNvSpPr/>
          <p:nvPr/>
        </p:nvSpPr>
        <p:spPr>
          <a:xfrm>
            <a:off x="4152960" y="2827440"/>
            <a:ext cx="1697040" cy="36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5694480" y="2922480"/>
            <a:ext cx="1334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0" name="Cloud"/>
          <p:cNvSpPr/>
          <p:nvPr/>
        </p:nvSpPr>
        <p:spPr>
          <a:xfrm>
            <a:off x="4060800" y="3260880"/>
            <a:ext cx="2430360" cy="9522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43600" y="3571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133880" y="2573280"/>
            <a:ext cx="190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519a"/>
                </a:solidFill>
                <a:latin typeface="Arial"/>
              </a:rPr>
              <a:t>http://www…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585120" y="3313080"/>
            <a:ext cx="1099800" cy="71604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75400" y="3019320"/>
            <a:ext cx="1155960" cy="540000"/>
          </a:xfrm>
          <a:custGeom>
            <a:avLst/>
            <a:gdLst/>
            <a:ahLst/>
            <a:rect l="l" t="t" r="r" b="b"/>
            <a:pathLst>
              <a:path w="1364" h="340">
                <a:moveTo>
                  <a:pt x="1363" y="0"/>
                </a:moveTo>
                <a:lnTo>
                  <a:pt x="1364" y="334"/>
                </a:lnTo>
                <a:lnTo>
                  <a:pt x="0" y="34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32680" y="3614760"/>
            <a:ext cx="178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75200" y="4302000"/>
            <a:ext cx="1203480" cy="3286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623480" y="4299120"/>
            <a:ext cx="1958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24560" y="3157560"/>
            <a:ext cx="353880" cy="1320840"/>
          </a:xfrm>
          <a:custGeom>
            <a:avLst/>
            <a:gdLst/>
            <a:ahLst/>
            <a:rect l="l" t="t" r="r" b="b"/>
            <a:pathLst>
              <a:path w="223" h="946">
                <a:moveTo>
                  <a:pt x="11" y="0"/>
                </a:moveTo>
                <a:lnTo>
                  <a:pt x="0" y="941"/>
                </a:lnTo>
                <a:lnTo>
                  <a:pt x="223" y="946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5541840" y="3470400"/>
            <a:ext cx="1060560" cy="819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438680" y="3533760"/>
            <a:ext cx="1604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eplo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294680" y="2001960"/>
            <a:ext cx="0" cy="70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79720" y="2089080"/>
            <a:ext cx="1997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Hand-tun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133120" y="2709720"/>
            <a:ext cx="893160" cy="29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JAXRPC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044480" y="2709720"/>
            <a:ext cx="663120" cy="295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WSDL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713720" y="2860560"/>
            <a:ext cx="411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096BB-E7A9-4339-BF98-E9A2C13EDC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ocument"/>
          <p:cNvSpPr/>
          <p:nvPr/>
        </p:nvSpPr>
        <p:spPr>
          <a:xfrm>
            <a:off x="3200400" y="1133640"/>
            <a:ext cx="1576440" cy="36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– Consumer Op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Cloud"/>
          <p:cNvSpPr/>
          <p:nvPr/>
        </p:nvSpPr>
        <p:spPr>
          <a:xfrm>
            <a:off x="1627200" y="1927080"/>
            <a:ext cx="1154160" cy="952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911600" y="2201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030480" y="879480"/>
            <a:ext cx="1903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http://www…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06600" y="2333520"/>
            <a:ext cx="1100160" cy="71604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63880" y="2523960"/>
            <a:ext cx="178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2680" y="1843200"/>
            <a:ext cx="1417680" cy="13888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-235440" y="1111320"/>
            <a:ext cx="2062080" cy="597600"/>
            <a:chOff x="-235440" y="1111320"/>
            <a:chExt cx="2062080" cy="597600"/>
          </a:xfrm>
        </p:grpSpPr>
        <p:sp>
          <p:nvSpPr>
            <p:cNvPr id="445" name=""/>
            <p:cNvSpPr/>
            <p:nvPr/>
          </p:nvSpPr>
          <p:spPr>
            <a:xfrm>
              <a:off x="933480" y="1111320"/>
              <a:ext cx="893160" cy="29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JAXRPC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-235440" y="1461960"/>
              <a:ext cx="15508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b519a"/>
                  </a:solidFill>
                  <a:latin typeface="Arial"/>
                </a:rPr>
                <a:t>compile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-140760" y="2895480"/>
            <a:ext cx="1958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58760" y="2465280"/>
            <a:ext cx="249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2600" y="2495520"/>
            <a:ext cx="0" cy="4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82600" y="2597040"/>
            <a:ext cx="933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82240" y="2784600"/>
            <a:ext cx="933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30240" y="1920960"/>
            <a:ext cx="505080" cy="1030320"/>
            <a:chOff x="930240" y="1920960"/>
            <a:chExt cx="505080" cy="1030320"/>
          </a:xfrm>
        </p:grpSpPr>
        <p:sp>
          <p:nvSpPr>
            <p:cNvPr id="453" name=""/>
            <p:cNvSpPr/>
            <p:nvPr/>
          </p:nvSpPr>
          <p:spPr>
            <a:xfrm>
              <a:off x="1112760" y="2465280"/>
              <a:ext cx="250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30240" y="1920960"/>
              <a:ext cx="505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static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b0000"/>
                  </a:solidFill>
                  <a:latin typeface="Arial"/>
                </a:rPr>
                <a:t>stub</a:t>
              </a:r>
              <a:endParaRPr b="0" lang="en-US" sz="17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208160" y="2495520"/>
              <a:ext cx="0" cy="45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169920" y="1903320"/>
            <a:ext cx="57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Appli-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cation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1836360" y="131436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00240" y="1434960"/>
            <a:ext cx="0" cy="50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20760" y="2676600"/>
            <a:ext cx="2085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206080" y="1163520"/>
            <a:ext cx="663120" cy="295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WSDL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871360" y="1314360"/>
            <a:ext cx="344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000" y="4051440"/>
            <a:ext cx="2236680" cy="23716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00160" y="6037200"/>
            <a:ext cx="1276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8760" y="4691160"/>
            <a:ext cx="249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2600" y="4721400"/>
            <a:ext cx="0" cy="130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82600" y="4822920"/>
            <a:ext cx="933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112760" y="4691160"/>
            <a:ext cx="23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82240" y="5794200"/>
            <a:ext cx="933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76400" y="4379760"/>
            <a:ext cx="276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DII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08160" y="4721400"/>
            <a:ext cx="0" cy="126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9920" y="4129200"/>
            <a:ext cx="57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Appli-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cation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02560" y="4894200"/>
            <a:ext cx="663120" cy="295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0000"/>
                </a:solidFill>
                <a:latin typeface="Arial"/>
              </a:rPr>
              <a:t>WSDL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732040" y="4741920"/>
            <a:ext cx="2149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etch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0480" y="5651640"/>
            <a:ext cx="2085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306600" y="5326200"/>
            <a:ext cx="1100160" cy="71568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963880" y="5516640"/>
            <a:ext cx="178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806480" y="5219640"/>
            <a:ext cx="0" cy="420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8" name="Cloud"/>
          <p:cNvSpPr/>
          <p:nvPr/>
        </p:nvSpPr>
        <p:spPr>
          <a:xfrm>
            <a:off x="2382840" y="4608360"/>
            <a:ext cx="768240" cy="16002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60960" y="5211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064120" y="882720"/>
            <a:ext cx="407988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tatic Binding -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Manually obtain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Use it to compile a stu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hich interacts with the 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Need to recompile if WSDL chang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an test before going liv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This is what we will do in the Tutori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1" name="Document"/>
          <p:cNvSpPr/>
          <p:nvPr/>
        </p:nvSpPr>
        <p:spPr>
          <a:xfrm>
            <a:off x="3200400" y="4254480"/>
            <a:ext cx="1576440" cy="370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30480" y="4000680"/>
            <a:ext cx="1903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http://www…wsd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069640" y="4641840"/>
            <a:ext cx="147348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064120" y="3436920"/>
            <a:ext cx="407988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ynamic Binding -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Via DII – Dynamic Invocation Interf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On each use of service,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get the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Use that to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onstruct message to the 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interpret the response messag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lways using latest 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But un-test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Possibly ineffici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67149-E8C7-4DA9-AF1D-BD9B76B902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n Appreciation of the role and context of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Web Services in genera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e Web Services Resource Framework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Java-based tool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tructure of Standard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Web Servi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utline of JAVA tools and their us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tandards Structu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390920" y="4402080"/>
            <a:ext cx="4753080" cy="354240"/>
          </a:xfrm>
          <a:prstGeom prst="leftArrow">
            <a:avLst>
              <a:gd name="adj1" fmla="val 50000"/>
              <a:gd name="adj2" fmla="val 33544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42946-02F0-40AE-B2AB-FFE82E1993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exible Stand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45600" y="838080"/>
            <a:ext cx="85899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llaboration is on defining generic standard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wo main standards bodie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3C – web commun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ctually produces “recommendations” not standar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OASIS – industry – IBM, Microsoft, Sun, ….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hese standards are factored to allow partial adoption and combin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he core standar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S-I – clarifications to aid interoperabil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Higher level standards built on them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ake-up is pragmatic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tandards have built-in extensibilit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 standard typically defines some document –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E.g. The WSDL document for defining the interface to a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he definition of the WSDL structure incorporates specific points where that structure can be extend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410E6-2838-4525-AF4D-B7FB57CA14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n Appreciation of the role and context of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Web Services in genera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Java-based tool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tructure of Standard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 –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Web Services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utline of JAVA tools and their us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tandards Structu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21D56-83C7-4E02-BB27-0205ED4D55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e W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XML – the standard format for all inform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CHEMA – the standard language for defining the structure (syntax/type) of a unit of inform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DTD is a deprecated predecessor of Schema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OAP – the standard message forma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– the language for defining a service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Operations; Logical Message Structure; Bindings; loca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49400" y="4535640"/>
            <a:ext cx="5260680" cy="2004840"/>
            <a:chOff x="149400" y="4535640"/>
            <a:chExt cx="5260680" cy="2004840"/>
          </a:xfrm>
        </p:grpSpPr>
        <p:sp>
          <p:nvSpPr>
            <p:cNvPr id="493" name=""/>
            <p:cNvSpPr/>
            <p:nvPr/>
          </p:nvSpPr>
          <p:spPr>
            <a:xfrm>
              <a:off x="3994560" y="5927760"/>
              <a:ext cx="76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XML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035600" y="5551560"/>
              <a:ext cx="0" cy="44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950280" y="510552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SCHEMAS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225520" y="489096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DL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141720" y="4944960"/>
              <a:ext cx="788760" cy="107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208320" y="4932360"/>
              <a:ext cx="76824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3061800" y="6118200"/>
              <a:ext cx="82260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67080" y="5857920"/>
              <a:ext cx="6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DTD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52640" y="4535640"/>
              <a:ext cx="3457440" cy="1931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429560" y="4714920"/>
              <a:ext cx="747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Core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67200" y="4883040"/>
              <a:ext cx="90360" cy="9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81600" y="5408640"/>
              <a:ext cx="90360" cy="9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36960" y="6049800"/>
              <a:ext cx="90360" cy="9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11600" y="5419800"/>
              <a:ext cx="90360" cy="9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19960" y="542448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SOAP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63800" y="5486400"/>
              <a:ext cx="9907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9400" y="6172200"/>
              <a:ext cx="239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-Interoperability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BFBC4-51BA-448A-BBFB-96E3A15296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Further Standa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19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S-Security – Framework for authentication and confidentialit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S-Transaction Framework – for robustness of correlated interactions, e.g. two phase – provisionally book everything, then confirm everyth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UDDI – standard repository interface (included in WS-I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WS-MetaDataExchange – how to communicate meta-data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…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49400" y="4535640"/>
            <a:ext cx="5260680" cy="2004840"/>
            <a:chOff x="149400" y="4535640"/>
            <a:chExt cx="5260680" cy="2004840"/>
          </a:xfrm>
        </p:grpSpPr>
        <p:sp>
          <p:nvSpPr>
            <p:cNvPr id="513" name=""/>
            <p:cNvSpPr/>
            <p:nvPr/>
          </p:nvSpPr>
          <p:spPr>
            <a:xfrm>
              <a:off x="3994560" y="5927760"/>
              <a:ext cx="76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XML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35600" y="5551560"/>
              <a:ext cx="0" cy="44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950280" y="510552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SCHEMAS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25520" y="489096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DL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41720" y="4944960"/>
              <a:ext cx="788760" cy="107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08320" y="4932360"/>
              <a:ext cx="76824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3061800" y="6118200"/>
              <a:ext cx="82260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467080" y="5857920"/>
              <a:ext cx="6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DTD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952640" y="4535640"/>
              <a:ext cx="3457440" cy="1931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29560" y="4714920"/>
              <a:ext cx="747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Core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67200" y="4883040"/>
              <a:ext cx="90360" cy="9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81600" y="5408640"/>
              <a:ext cx="90360" cy="9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36960" y="6049800"/>
              <a:ext cx="90360" cy="9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811600" y="5419800"/>
              <a:ext cx="90360" cy="9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019960" y="542448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SOAP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63800" y="5486400"/>
              <a:ext cx="9907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49400" y="6172200"/>
              <a:ext cx="239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-Interoperability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2295360" y="4013280"/>
            <a:ext cx="29844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98520" y="3863880"/>
            <a:ext cx="9072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325880" y="3546360"/>
            <a:ext cx="10249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secur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3571560" y="3968640"/>
            <a:ext cx="98280" cy="536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30600" y="3819600"/>
            <a:ext cx="9036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832120" y="3489480"/>
            <a:ext cx="1995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Transac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Framework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586040" y="3978360"/>
            <a:ext cx="477720" cy="623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30480" y="35305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UDDI</a:t>
            </a:r>
            <a:r>
              <a:rPr b="1" lang="en-US" sz="1800" spc="-1" strike="noStrike">
                <a:solidFill>
                  <a:srgbClr val="325faf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046840" y="387972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290440" y="3689280"/>
            <a:ext cx="5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5faf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87000" y="5715000"/>
            <a:ext cx="16452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MetaDat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Exchang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242040" y="601488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 flipV="1">
            <a:off x="5258880" y="6081840"/>
            <a:ext cx="93060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713E9-846F-4554-84C5-01DE47A54C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Further Standa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S-Addressing - For communication of identities between servic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S-Notification -  Framework of notification interaction – subscribe, publish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SRF – Web Services Resource Framework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Collection of standards concerning stateful dynamic resources –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E.g model a reservation as a stateful resour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Dynamically create new instance with extended lifetim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9400" y="4535640"/>
            <a:ext cx="5260680" cy="2004840"/>
            <a:chOff x="149400" y="4535640"/>
            <a:chExt cx="5260680" cy="2004840"/>
          </a:xfrm>
        </p:grpSpPr>
        <p:sp>
          <p:nvSpPr>
            <p:cNvPr id="546" name=""/>
            <p:cNvSpPr/>
            <p:nvPr/>
          </p:nvSpPr>
          <p:spPr>
            <a:xfrm>
              <a:off x="3994560" y="5927760"/>
              <a:ext cx="76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XML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35600" y="5551560"/>
              <a:ext cx="0" cy="44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50280" y="510552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SCHEMAS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25520" y="489096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DL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41720" y="4944960"/>
              <a:ext cx="788760" cy="107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08320" y="4932360"/>
              <a:ext cx="76824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flipV="1">
              <a:off x="3061800" y="6118200"/>
              <a:ext cx="82260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67080" y="5857920"/>
              <a:ext cx="6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DTD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952640" y="4535640"/>
              <a:ext cx="3457440" cy="1931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29560" y="4714920"/>
              <a:ext cx="747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Core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67200" y="4883040"/>
              <a:ext cx="90360" cy="9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81600" y="5408640"/>
              <a:ext cx="90360" cy="9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36960" y="6049800"/>
              <a:ext cx="90360" cy="9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811600" y="5419800"/>
              <a:ext cx="90360" cy="90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019960" y="542448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SOAP</a:t>
              </a: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863800" y="5486400"/>
              <a:ext cx="9907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49400" y="6172200"/>
              <a:ext cx="239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WS-Interoperability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5619600" y="4124160"/>
            <a:ext cx="654120" cy="744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205320" y="455616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RF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59280" y="4438800"/>
            <a:ext cx="9072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43440" y="4587840"/>
            <a:ext cx="9072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032520" y="457344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284880" y="5378400"/>
            <a:ext cx="9036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453360" y="525636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addressin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5549400" y="5499000"/>
            <a:ext cx="708120" cy="7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54760" y="4843440"/>
            <a:ext cx="355680" cy="50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45400" y="3827520"/>
            <a:ext cx="654120" cy="439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018120" y="4422600"/>
            <a:ext cx="9072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59280" y="4286160"/>
            <a:ext cx="9072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18120" y="4270320"/>
            <a:ext cx="9072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985080" y="4000680"/>
            <a:ext cx="9036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273800" y="3986280"/>
            <a:ext cx="9072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46520" y="349740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notific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295360" y="4013280"/>
            <a:ext cx="29844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6248160" y="4187880"/>
            <a:ext cx="631800" cy="120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6269040" y="4262040"/>
            <a:ext cx="757080" cy="2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98520" y="3863880"/>
            <a:ext cx="9072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571560" y="3968640"/>
            <a:ext cx="98280" cy="536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630600" y="3819600"/>
            <a:ext cx="9036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32120" y="3489480"/>
            <a:ext cx="1995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Transac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Framework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4586040" y="3978360"/>
            <a:ext cx="477720" cy="623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30480" y="35305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UDDI</a:t>
            </a:r>
            <a:r>
              <a:rPr b="1" lang="en-US" sz="1800" spc="-1" strike="noStrike">
                <a:solidFill>
                  <a:srgbClr val="325faf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046840" y="387972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290440" y="3689280"/>
            <a:ext cx="5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5faf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5189040" y="4519440"/>
            <a:ext cx="414360" cy="351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87000" y="5715000"/>
            <a:ext cx="16452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MetaDat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Exchang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242040" y="601488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258880" y="6081840"/>
            <a:ext cx="93060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25880" y="3546360"/>
            <a:ext cx="10249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-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securit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3643C-7ED0-4A24-92CA-08CD3248CF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indefinite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indefinite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indefinite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indefinite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indefinite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indefinite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indefinite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indefinite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indefinite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maining  Tal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28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– the language for defining a service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This is our focus – this is what you will need to be able to read (and write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This is what you will see in the practical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Will explain this in detail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epends on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CHEMA – the standard language for defining the information structures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XML – the standard format for all information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OAP – the standard message format – used in defining binding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35480" indent="-28296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Will first explain these in outline – sufficient to understand a WSDL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975840" y="592776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XM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5600" y="555156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931920" y="510552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SCHEMA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06800" y="489096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D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41720" y="4944960"/>
            <a:ext cx="788760" cy="1074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208320" y="4932360"/>
            <a:ext cx="768240" cy="477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3061800" y="6118200"/>
            <a:ext cx="82260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467080" y="585792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DT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52640" y="4535640"/>
            <a:ext cx="3457440" cy="19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429560" y="4714920"/>
            <a:ext cx="747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Cor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W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067200" y="488304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81600" y="5408640"/>
            <a:ext cx="9036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936960" y="6049800"/>
            <a:ext cx="90360" cy="9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1600" y="5419800"/>
            <a:ext cx="90360" cy="9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001240" y="542448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SOAP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863800" y="5486400"/>
            <a:ext cx="9907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13F23-159C-4AA6-9814-AAECC32AD9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 E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338f"/>
                </a:solidFill>
                <a:latin typeface="Arial"/>
              </a:rPr>
              <a:t>THE END</a:t>
            </a:r>
            <a:endParaRPr b="0" i="1" lang="en-US" sz="6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6A165-0B47-4B76-A599-7AAB42E7B8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olution of Electronic inter-enterprise intera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eb Services is the next step in the automation of inter-enterprise interaction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eb Brows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Human travel agent provides “organise holiday” service by surfing the web to look for and invoking services – book a hotel; book a plane; book a car hire; ….; confirm bookings of best options to meet client needs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eb Servic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The aspiration of Web services is to provide a framework that allows that same model to be used in writing an application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hich is itself becomes an “organise a holiday” service, finding and using useful servic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Mode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human intervention at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ervice provider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ervice consum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-mail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eb browsing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eb Services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71800" y="5600880"/>
            <a:ext cx="457200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Yes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o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No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F012C-1C4A-4014-B6F3-FDD5474F84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 flipV="1">
            <a:off x="7315200" y="1980720"/>
            <a:ext cx="76320" cy="2210040"/>
          </a:xfrm>
          <a:prstGeom prst="line">
            <a:avLst/>
          </a:prstGeom>
          <a:ln w="28440">
            <a:solidFill>
              <a:srgbClr val="2b519a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5334120"/>
            <a:ext cx="1828800" cy="868320"/>
          </a:xfrm>
          <a:custGeom>
            <a:avLst/>
            <a:gdLst>
              <a:gd name="textAreaLeft" fmla="*/ 0 w 1828800"/>
              <a:gd name="textAreaRight" fmla="*/ 1829160 w 1828800"/>
              <a:gd name="textAreaTop" fmla="*/ 112320 h 868320"/>
              <a:gd name="textAreaBottom" fmla="*/ 756000 h 868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86600" y="3200400"/>
            <a:ext cx="1871640" cy="762120"/>
          </a:xfrm>
          <a:custGeom>
            <a:avLst/>
            <a:gdLst>
              <a:gd name="textAreaLeft" fmla="*/ 0 w 1871640"/>
              <a:gd name="textAreaRight" fmla="*/ 1872000 w 187164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Intera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5410080"/>
            <a:ext cx="1295640" cy="762120"/>
          </a:xfrm>
          <a:custGeom>
            <a:avLst/>
            <a:gdLst>
              <a:gd name="textAreaLeft" fmla="*/ 0 w 1295640"/>
              <a:gd name="textAreaRight" fmla="*/ 1296000 w 129564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8160" y="561168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 book planes</a:t>
            </a:r>
            <a:r>
              <a:rPr b="0" lang="en-US" sz="1400" spc="-1" strike="noStrike">
                <a:solidFill>
                  <a:srgbClr val="2b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5486400"/>
            <a:ext cx="7596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54280" y="5334120"/>
            <a:ext cx="1460520" cy="693720"/>
          </a:xfrm>
          <a:custGeom>
            <a:avLst/>
            <a:gdLst>
              <a:gd name="textAreaLeft" fmla="*/ 0 w 1460520"/>
              <a:gd name="textAreaRight" fmla="*/ 1460880 w 1460520"/>
              <a:gd name="textAreaTop" fmla="*/ 89640 h 693720"/>
              <a:gd name="textAreaBottom" fmla="*/ 604080 h 693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400" y="5410080"/>
            <a:ext cx="107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0000"/>
                </a:solidFill>
                <a:latin typeface="Arial"/>
              </a:rPr>
              <a:t>I book car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0000"/>
                </a:solidFill>
                <a:latin typeface="Arial"/>
              </a:rPr>
              <a:t>Rentals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79760" y="5384880"/>
            <a:ext cx="74520" cy="101592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5334120"/>
            <a:ext cx="1305000" cy="618840"/>
          </a:xfrm>
          <a:custGeom>
            <a:avLst/>
            <a:gdLst>
              <a:gd name="textAreaLeft" fmla="*/ 0 w 1305000"/>
              <a:gd name="textAreaRight" fmla="*/ 1305360 w 1305000"/>
              <a:gd name="textAreaTop" fmla="*/ 79920 h 618840"/>
              <a:gd name="textAreaBottom" fmla="*/ 538920 h 618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64960" y="54594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 book hotels</a:t>
            </a:r>
            <a:r>
              <a:rPr b="1" lang="en-US" sz="1400" spc="-1" strike="noStrike">
                <a:solidFill>
                  <a:srgbClr val="2b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5380200"/>
            <a:ext cx="106560" cy="109692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6172200"/>
            <a:ext cx="30492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145280" y="3351240"/>
            <a:ext cx="17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 locate services</a:t>
            </a:r>
            <a:r>
              <a:rPr b="1" lang="en-US" sz="1400" spc="-1" strike="noStrike">
                <a:solidFill>
                  <a:srgbClr val="2b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039800" y="3276720"/>
            <a:ext cx="7452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219320"/>
            <a:ext cx="1871640" cy="761760"/>
          </a:xfrm>
          <a:custGeom>
            <a:avLst/>
            <a:gdLst>
              <a:gd name="textAreaLeft" fmla="*/ 0 w 1871640"/>
              <a:gd name="textAreaRight" fmla="*/ 1872000 w 1871640"/>
              <a:gd name="textAreaTop" fmla="*/ 98640 h 761760"/>
              <a:gd name="textAreaBottom" fmla="*/ 663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59400" y="121932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 organi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holidays</a:t>
            </a:r>
            <a:r>
              <a:rPr b="0" lang="en-US" sz="1400" spc="-1" strike="noStrike">
                <a:solidFill>
                  <a:srgbClr val="2b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295280"/>
            <a:ext cx="7632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320" y="1295280"/>
            <a:ext cx="3429000" cy="2971800"/>
          </a:xfrm>
          <a:prstGeom prst="bevel">
            <a:avLst>
              <a:gd name="adj" fmla="val 3611"/>
            </a:avLst>
          </a:prstGeom>
          <a:solidFill>
            <a:srgbClr val="ffcc99">
              <a:alpha val="66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4648320" y="2057400"/>
            <a:ext cx="2590560" cy="2209680"/>
          </a:xfrm>
          <a:prstGeom prst="line">
            <a:avLst/>
          </a:prstGeom>
          <a:ln w="28440">
            <a:solidFill>
              <a:srgbClr val="2b519a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1508040"/>
            <a:ext cx="3429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Get a car rental quot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locate servi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ask for quot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s quote good enough?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Reserve car, provisionally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get other resources reserved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Confirm reserva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320000">
            <a:off x="4191120" y="3381120"/>
            <a:ext cx="114300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Service Identifi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19840" y="545940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 convert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currency</a:t>
            </a:r>
            <a:r>
              <a:rPr b="1" lang="en-US" sz="1400" spc="-1" strike="noStrike">
                <a:solidFill>
                  <a:srgbClr val="2b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81680" y="5380200"/>
            <a:ext cx="106560" cy="109692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191120" y="4267080"/>
            <a:ext cx="3047760" cy="1067040"/>
          </a:xfrm>
          <a:prstGeom prst="line">
            <a:avLst/>
          </a:prstGeom>
          <a:ln w="28440">
            <a:solidFill>
              <a:srgbClr val="2b519a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486400" y="4343400"/>
            <a:ext cx="1752480" cy="1066680"/>
          </a:xfrm>
          <a:prstGeom prst="line">
            <a:avLst/>
          </a:prstGeom>
          <a:ln w="28440">
            <a:solidFill>
              <a:srgbClr val="2b519a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15200" y="4343400"/>
            <a:ext cx="609480" cy="990720"/>
          </a:xfrm>
          <a:prstGeom prst="line">
            <a:avLst/>
          </a:prstGeom>
          <a:ln w="28440">
            <a:solidFill>
              <a:srgbClr val="2b519a"/>
            </a:solidFill>
            <a:prstDash val="dash"/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81680" y="1219320"/>
            <a:ext cx="1828800" cy="868320"/>
          </a:xfrm>
          <a:custGeom>
            <a:avLst/>
            <a:gdLst>
              <a:gd name="textAreaLeft" fmla="*/ 0 w 1828800"/>
              <a:gd name="textAreaRight" fmla="*/ 1829160 w 1828800"/>
              <a:gd name="textAreaTop" fmla="*/ 112320 h 868320"/>
              <a:gd name="textAreaBottom" fmla="*/ 756000 h 868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1295280"/>
            <a:ext cx="106200" cy="1096920"/>
          </a:xfrm>
          <a:prstGeom prst="rect">
            <a:avLst/>
          </a:prstGeom>
          <a:solidFill>
            <a:srgbClr val="0000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85640" y="1295280"/>
            <a:ext cx="135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I know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0000"/>
                </a:solidFill>
                <a:latin typeface="Arial"/>
              </a:rPr>
              <a:t>the weather</a:t>
            </a:r>
            <a:r>
              <a:rPr b="1" lang="en-US" sz="1400" spc="-1" strike="noStrike">
                <a:solidFill>
                  <a:srgbClr val="2b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6172200"/>
            <a:ext cx="30492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617220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617220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62920" y="411480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0" y="2133720"/>
            <a:ext cx="304920" cy="3045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1280" y="3886200"/>
            <a:ext cx="1524240" cy="1371600"/>
          </a:xfrm>
          <a:prstGeom prst="line">
            <a:avLst/>
          </a:prstGeom>
          <a:ln w="9360">
            <a:solidFill>
              <a:srgbClr val="2b519a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00400" y="2133720"/>
            <a:ext cx="304920" cy="3045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3543000">
            <a:off x="2289960" y="4579560"/>
            <a:ext cx="80676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quot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1981080"/>
            <a:ext cx="4952880" cy="205740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2133720"/>
            <a:ext cx="5029200" cy="2057400"/>
          </a:xfrm>
          <a:prstGeom prst="line">
            <a:avLst/>
          </a:prstGeom>
          <a:ln w="28440">
            <a:solidFill>
              <a:srgbClr val="2b519a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2362320"/>
            <a:ext cx="1828800" cy="297180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2438280"/>
            <a:ext cx="1904760" cy="2971800"/>
          </a:xfrm>
          <a:prstGeom prst="line">
            <a:avLst/>
          </a:prstGeom>
          <a:ln w="28440">
            <a:solidFill>
              <a:srgbClr val="2b519a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3276720"/>
            <a:ext cx="1600200" cy="205740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4038480"/>
            <a:ext cx="1143000" cy="1371600"/>
          </a:xfrm>
          <a:prstGeom prst="line">
            <a:avLst/>
          </a:prstGeom>
          <a:ln w="28440">
            <a:solidFill>
              <a:srgbClr val="2b51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68D47-6B1A-4001-ABBE-6E5ED92DB7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sential Requir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45600" y="1147320"/>
            <a:ext cx="879804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Need to achieve effective cooperation even though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he different services are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produced by different organisations,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without any design collaboration,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on different platform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Requires “interoperability”</a:t>
            </a:r>
            <a:endParaRPr b="0" i="1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he services are autonomously evolving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Requires 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Loose Coupling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125FC-CA20-40FF-B37E-4836F7E20C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up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UPLING – about intensity of communic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Execution Coupling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Frequency and extent of communication relative to process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telephone conversation is tightly coupled, e-mail conversation is loosely coupl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For web services – very loose coupl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teraction of order of a secon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hereas centralised object invocation – micro-secon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Coarse granularity – do enough work in a service request to justify the time taken by the communication overhea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Design Coupling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How much design knowledge has to be communicated between the designers of the software at the two ends of an interac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hich they then build into their softwar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The extent of statically shared knowledge between two ends of an interaction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5F9A4-5373-4859-B95C-7DE5D04E2B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ose Design Coup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Loose (Design) coupling – minimum prior shared information between the designer of the two components of an interac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Dynamically accessible Machine processable Meta data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elf-describing data in standard format – XML docum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Description of structure of communications – SCHEMAS (types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ervice description – WSDL, using SCHEMAS for message structur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Means for obtaining it – from a repository, using standard such as UDDI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Communication protocol that supports this – SOAP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verything is a SCHEMA-described XML document – soap message, WSDL definition, schemas themselves (meta-schema)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Tolerance of partial understa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chemas allows extension points – one participant may have an older WSDL definition which accommodates extensions with additional inform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A91D2-179C-4F9D-9CEA-4FA0F79032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 vs O-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45600" y="911160"/>
            <a:ext cx="8589960" cy="58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 service is a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/W system designed to support interoperable machine-to-machine interaction over a network. (W3C Glossary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Has some of the characteristics of O-O archite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he O-O class roughly corresponds to a PortType (i.e. Interface)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collection of operations each with defined input and output data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Object roughly corresponds to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Service – an instantiation of a PortType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t a particular web loc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using a particular communication protocol and message represent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But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Less constrained than O-O model - interoperabil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Focussed on very loose coupl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 O-O – new instances created dynamically by user reques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8f"/>
                </a:solidFill>
                <a:latin typeface="Arial"/>
              </a:rPr>
              <a:t>Not true of basic WS – I Services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8f"/>
                </a:solidFill>
                <a:latin typeface="Arial"/>
              </a:rPr>
              <a:t>For that behaviour in Web Services use Resource Framework - WSRF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5F764-F043-4213-8F5A-EBC8F376C8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erspective on  Web Services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OUPLING – about intensity of communic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Degree of statically shared knowledge between two end of an interaction (knowledge which the programmer/designer has to know and build-in) – how much has to be communicat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requency and extent of communication relative to process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 scale of looser coupling (in both senses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hared variable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interaction i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One end updating a variable; other end using i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Object-Orient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One end invoking method; other end being invoke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eb Servic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One end (service consumer) requesting a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Other end (service provider) servicing the reques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Quite similar to O-O (but might not be a reply!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0B508-F355-477F-89E5-6DAE7700FC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59:54Z</dcterms:created>
  <dc:creator>Richard Hopkins</dc:creator>
  <dc:description/>
  <dc:language>en-US</dc:language>
  <cp:lastModifiedBy>dfmac</cp:lastModifiedBy>
  <dcterms:modified xsi:type="dcterms:W3CDTF">2005-07-12T06:50:00Z</dcterms:modified>
  <cp:revision>89</cp:revision>
  <dc:subject/>
  <dc:title>XML</dc:title>
</cp:coreProperties>
</file>