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C2EEF-CBAE-48E0-84C9-BC504EA10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3F72-7B1D-443C-98DF-F3188C16D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BCAB-3D8E-4B57-A3ED-EE5F6A82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2E4C-A48A-4106-9321-2C73CA870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80C0-6F84-43C2-AA17-A4B8A5E96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5A237-9423-4AC7-9AA8-11EB32CBA1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F5CC2-8FDD-4C01-94D4-281B03DE37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C510B-6A22-4C42-8552-5D459E4598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9A125-4418-457A-BA38-CE50B803E0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F9E7D-B41E-487C-B877-F824A36DA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029B-6681-4A69-8C66-720B0FDC9F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8B195-436C-4C52-8D80-F04B0181AD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05BDE-C292-40F9-B62D-40434BF873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1DC6-B065-4D99-A9B1-A09AB77120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3765C-3E89-4F81-8FDF-A4BFEB2C34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6AAC2-AF17-4CBA-A66F-56A374D6A2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E5CA7-0508-44F3-8585-F95C17AD21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23600-5BB9-4BA8-BDD5-2A3F753F0B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3387-1525-4E11-96F4-D531D52EB1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5916-35F3-45AB-BD5B-6EABD066C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B2BB-F90D-426E-9E75-529011BB9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AF96-F357-42C3-9264-E74F9E22D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08B5-81A8-4DF0-B306-E32AFFE12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DF0C-A60E-4C8B-BFEE-FE6ED1A3D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0C0-EA25-4917-B0DA-10A29B4E32A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Schema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A76-D4AA-44F7-A7EC-725F79A78EC4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Schemas (XSD)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20" y="1289160"/>
            <a:ext cx="424800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da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Sdate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Kdate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240" y="1279440"/>
            <a:ext cx="0" cy="1522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1474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3520" y="14572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774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6720" y="17892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4120" y="2081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21067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040" y="2384280"/>
            <a:ext cx="0" cy="138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5880" y="2386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5880" y="266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08640" y="128916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S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08640" y="2589120"/>
            <a:ext cx="357660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UK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24/10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29120" y="1957320"/>
            <a:ext cx="500040" cy="809640"/>
          </a:xfrm>
          <a:custGeom>
            <a:avLst/>
            <a:gdLst>
              <a:gd name="textAreaLeft" fmla="*/ 0 w 500040"/>
              <a:gd name="textAreaRight" fmla="*/ 180360 w 50004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92800" y="1931760"/>
            <a:ext cx="933120" cy="4237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473800" y="1650960"/>
            <a:ext cx="247680" cy="477720"/>
          </a:xfrm>
          <a:custGeom>
            <a:avLst/>
            <a:gdLst>
              <a:gd name="textAreaLeft" fmla="*/ 0 w 247680"/>
              <a:gd name="textAreaRight" fmla="*/ 89280 w 247680"/>
              <a:gd name="textAreaTop" fmla="*/ 12240 h 477720"/>
              <a:gd name="textAreaBottom" fmla="*/ 4654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85680" y="2989440"/>
            <a:ext cx="235080" cy="439560"/>
          </a:xfrm>
          <a:custGeom>
            <a:avLst/>
            <a:gdLst>
              <a:gd name="textAreaLeft" fmla="*/ -360 w 235080"/>
              <a:gd name="textAreaRight" fmla="*/ 84600 w 235080"/>
              <a:gd name="textAreaTop" fmla="*/ 11160 h 439560"/>
              <a:gd name="textAreaBottom" fmla="*/ 42840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05400" y="2341440"/>
            <a:ext cx="966600" cy="9018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DF379-6AC2-4AE2-8059-E6565C1D1A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Elements – Mod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5600" y="4313160"/>
            <a:ext cx="858996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Model –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each component matched in this order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8f"/>
                </a:solidFill>
                <a:latin typeface="Arial"/>
              </a:rPr>
              <a:t>Choice</a:t>
            </a: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 – one and only one component is matched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any order – use for “Struct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Each component must match one or zero elements – maxOccurs=“1”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520" y="1289160"/>
            <a:ext cx="4165920" cy="151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customer“ …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deliver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bill“ … 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520" y="1292400"/>
            <a:ext cx="0" cy="1522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4480" y="148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4160" y="146988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1200" y="17874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7360" y="180180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4760" y="2093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560" y="2119320"/>
            <a:ext cx="0" cy="54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" y="2397240"/>
            <a:ext cx="0" cy="137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6520" y="23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6520" y="2676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9960" y="118260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9960" y="2798640"/>
            <a:ext cx="4000680" cy="14130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eliv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bill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&lt;addr&gt;…&lt;/&gt; &lt;terms&gt; 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2560" y="1917720"/>
            <a:ext cx="459000" cy="809640"/>
          </a:xfrm>
          <a:custGeom>
            <a:avLst/>
            <a:gdLst>
              <a:gd name="textAreaLeft" fmla="*/ 0 w 459000"/>
              <a:gd name="textAreaRight" fmla="*/ 165600 w 45900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39"/>
                </a:lnTo>
                <a:cubicBezTo>
                  <a:pt x="10800" y="10239"/>
                  <a:pt x="16200" y="11139"/>
                  <a:pt x="21600" y="11139"/>
                </a:cubicBezTo>
                <a:cubicBezTo>
                  <a:pt x="16200" y="11139"/>
                  <a:pt x="10800" y="12039"/>
                  <a:pt x="10800" y="129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413240" y="1931760"/>
            <a:ext cx="806400" cy="384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172120" y="155880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72120" y="3174840"/>
            <a:ext cx="208080" cy="730440"/>
          </a:xfrm>
          <a:custGeom>
            <a:avLst/>
            <a:gdLst>
              <a:gd name="textAreaLeft" fmla="*/ 360 w 208080"/>
              <a:gd name="textAreaRight" fmla="*/ 75600 w 208080"/>
              <a:gd name="textAreaTop" fmla="*/ 18720 h 730440"/>
              <a:gd name="textAreaBottom" fmla="*/ 71172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3240" y="2367000"/>
            <a:ext cx="806400" cy="1154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EFB56-2AF9-4B46-B515-3FBD076402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0240" y="4894200"/>
            <a:ext cx="85899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ntryT inherits the components of entryT - extend the sequen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00" y="939960"/>
            <a:ext cx="5200560" cy="386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X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if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urgency" type="xs:string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1520" y="927000"/>
            <a:ext cx="0" cy="3595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3360" y="987480"/>
            <a:ext cx="180720" cy="1393920"/>
          </a:xfrm>
          <a:custGeom>
            <a:avLst/>
            <a:gdLst>
              <a:gd name="textAreaLeft" fmla="*/ 0 w 180720"/>
              <a:gd name="textAreaRight" fmla="*/ 65160 w 180720"/>
              <a:gd name="textAreaTop" fmla="*/ 36360 h 1393920"/>
              <a:gd name="textAreaBottom" fmla="*/ 1357560 h 13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2960" y="406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9440" y="3778200"/>
            <a:ext cx="0" cy="59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2960" y="4365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27400" y="1246320"/>
            <a:ext cx="1292040" cy="2109600"/>
          </a:xfrm>
          <a:custGeom>
            <a:avLst/>
            <a:gdLst/>
            <a:ahLst/>
            <a:rect l="l" t="t" r="r" b="b"/>
            <a:pathLst>
              <a:path w="814" h="1329">
                <a:moveTo>
                  <a:pt x="0" y="1329"/>
                </a:moveTo>
                <a:lnTo>
                  <a:pt x="781" y="1212"/>
                </a:lnTo>
                <a:lnTo>
                  <a:pt x="814" y="236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29240" y="927000"/>
            <a:ext cx="208728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28520" y="3095640"/>
            <a:ext cx="228240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X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…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ify&gt;caretaker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rgency&gt;ver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83360" y="2868480"/>
            <a:ext cx="241200" cy="1855800"/>
          </a:xfrm>
          <a:custGeom>
            <a:avLst/>
            <a:gdLst>
              <a:gd name="textAreaLeft" fmla="*/ 0 w 241200"/>
              <a:gd name="textAreaRight" fmla="*/ 87120 w 241200"/>
              <a:gd name="textAreaTop" fmla="*/ 48240 h 1855800"/>
              <a:gd name="textAreaBottom" fmla="*/ 18075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786"/>
                </a:lnTo>
                <a:cubicBezTo>
                  <a:pt x="10800" y="7686"/>
                  <a:pt x="16200" y="8586"/>
                  <a:pt x="21600" y="8586"/>
                </a:cubicBezTo>
                <a:cubicBezTo>
                  <a:pt x="16200" y="8586"/>
                  <a:pt x="10800" y="9486"/>
                  <a:pt x="10800" y="103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2E098-742B-4984-AA23-04506B6CF0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 Types -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0240" y="4082760"/>
            <a:ext cx="8589960" cy="3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on which adds no content – used to denote a  special cas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920" y="939960"/>
            <a:ext cx="414144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entryT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“not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prodCode”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“quant”&gt; 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“Urgent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xtension bas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    &lt;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1520" y="927000"/>
            <a:ext cx="0" cy="3003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80" y="11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160" y="1104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1200" y="1422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7360" y="1436760"/>
            <a:ext cx="0" cy="86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760" y="1728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" y="28893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1200" y="3191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2960" y="34783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160" y="288936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360" y="31957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0560" y="37638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7040" y="349092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4760" y="199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4760" y="22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12920" y="3613320"/>
            <a:ext cx="223920" cy="291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8BD5-0F5E-47D2-9FEC-E660F1B31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Elements/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720" y="1036800"/>
            <a:ext cx="457092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accNo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….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accNoT"/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note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… 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optional restrictions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24520" y="907920"/>
            <a:ext cx="3060720" cy="114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 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to collect &lt;/&gt;  …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3578040" y="1298160"/>
            <a:ext cx="371160" cy="2148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901960" y="4016520"/>
            <a:ext cx="133200" cy="66168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" y="1014480"/>
            <a:ext cx="0" cy="506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80" y="122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4160" y="1244520"/>
            <a:ext cx="0" cy="325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1200" y="1549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7360" y="153684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1200" y="2701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960" y="2994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7360" y="2690640"/>
            <a:ext cx="0" cy="28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480" y="2405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4160" y="2411280"/>
            <a:ext cx="0" cy="285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720" y="30081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4280" y="3298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4280" y="3908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4480" y="4749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1200" y="50468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4160" y="4756320"/>
            <a:ext cx="0" cy="28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9960" y="5367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7360" y="5064120"/>
            <a:ext cx="0" cy="284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200" y="5392800"/>
            <a:ext cx="0" cy="29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51360" y="2232000"/>
            <a:ext cx="4292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ccurrences (local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fault / Fixed valu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illa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 featur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Restri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ase simple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ultimately a primitive xsd: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Restriction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atterns, enumerations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Un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erivation as Lis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99795-9AC3-4061-B942-FB8DDD7D2B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09520" y="3565080"/>
            <a:ext cx="718488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an associate attributes with a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in-lin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naming a globally declared attribute - see la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ttribute has featur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me simple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ault/fix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 – optional (default), prohibited, requir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f it has an attribute, it must be a complex 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 naturally complex type, just add it in at the first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or an actually simple type -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60" y="984240"/>
            <a:ext cx="5398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prodCode" type="prodCodeT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attribute name="collect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xs:boolean" use="optional" default="false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46600" y="907920"/>
            <a:ext cx="333864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1520" y="1014480"/>
            <a:ext cx="0" cy="20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480" y="116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4160" y="1174680"/>
            <a:ext cx="0" cy="115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145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720" y="1467000"/>
            <a:ext cx="0" cy="612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9960" y="176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2343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680160" y="1467000"/>
            <a:ext cx="1238400" cy="325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6640" y="2232000"/>
            <a:ext cx="4816440" cy="560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6A02-D868-4A34-B7D6-CBA1ACED5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attributes to simple 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5680" y="4599000"/>
            <a:ext cx="3478320" cy="15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as attribute - is complex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But it is simple conten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xtends a simple type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with an attribute -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could be several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4920" y="939960"/>
            <a:ext cx="5006880" cy="298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default="metric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restriction base="xs:string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imperial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numeration value="metric"/&gt;&lt;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entryT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“ type=“xs:decimal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29160" y="907920"/>
            <a:ext cx="3556080" cy="1681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collect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15-75-87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 units=“metric”&gt;17.3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040" y="950760"/>
            <a:ext cx="0" cy="299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000" y="1116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6680" y="112716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3440" y="1406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600" y="1419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2480" y="17193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9280" y="1741320"/>
            <a:ext cx="0" cy="552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0080" y="20145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0080" y="22939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28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6120" y="4529160"/>
            <a:ext cx="5130360" cy="1807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impleContent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xtension base="xs:decimal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ttribute name="units" use="requir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 &lt;/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6680" y="2921040"/>
            <a:ext cx="0" cy="2556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3440" y="3182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600" y="31957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2480" y="349560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2480" y="471816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7200" y="4740120"/>
            <a:ext cx="0" cy="290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0080" y="5022720"/>
            <a:ext cx="2876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6880" y="5035680"/>
            <a:ext cx="0" cy="2649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0120" y="530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6840" y="5305320"/>
            <a:ext cx="0" cy="273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00080" y="559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28600" y="5618160"/>
            <a:ext cx="0" cy="272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20680" y="5897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0920" y="3330720"/>
            <a:ext cx="4294440" cy="307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4600440"/>
            <a:ext cx="4529160" cy="1694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24440" y="3654360"/>
            <a:ext cx="11160" cy="97164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A0E1-AE38-4CA1-90AC-934C363375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indefinite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-SCHEMA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49800" y="3122640"/>
            <a:ext cx="4894200" cy="328680"/>
          </a:xfrm>
          <a:prstGeom prst="leftArrow">
            <a:avLst>
              <a:gd name="adj1" fmla="val 50000"/>
              <a:gd name="adj2" fmla="val 372262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287E3-8B0A-4898-9D77-7DAC904323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rget  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5320" y="2908080"/>
            <a:ext cx="85899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name of the language for which this schema defines the synt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chema will only match an instance if its namespace matches -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3120" y="1042920"/>
            <a:ext cx="8653680" cy="1276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argetNameSpace= “http://company.org/forms/namespace”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“PO”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3120" y="4335480"/>
            <a:ext cx="8653680" cy="67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?xml version="1.0"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:PO   xmlns:it=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ttp://company.org/forms/namespace  i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1=“…”&gt;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5680" y="5578560"/>
            <a:ext cx="858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f schema has no targetNameSpace – it can only match un-qualified nam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83D03-B52E-4AEB-AA8E-35A18DF40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2680" y="3243240"/>
            <a:ext cx="41450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 must be same targe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ms one logical schema as the combination of physically distinct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.e. referencing main as the schema allows document to be an PO or an SE (stock enqui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llows individual document definitions to share type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54800" y="1163520"/>
            <a:ext cx="3538440" cy="15631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26800" y="7905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19880" y="309888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35080" y="27255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Type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64080" y="5073480"/>
            <a:ext cx="3565800" cy="161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…/Forms/Types.xsd"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8640" y="47005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Inv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240" y="1230480"/>
            <a:ext cx="4273560" cy="1892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 …/forms/ns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PO.xsd"/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include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schemaLocation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       “…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ww…/Forms/Inv.xs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8280" y="8478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…</a:t>
            </a: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www… /Forms/main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348080" y="1191960"/>
            <a:ext cx="1165320" cy="89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48080" y="2671920"/>
            <a:ext cx="1101960" cy="23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8945640" y="253692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8945640" y="4545000"/>
            <a:ext cx="9360" cy="51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3033360" y="144432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0800000">
            <a:off x="8359920" y="1404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800000">
            <a:off x="8451360" y="33652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8346600" y="53128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73C52-D512-49D2-A610-953EA77DE5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and Schema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11400" y="317808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9A7DB-FAF0-429E-BB03-311D21D2D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clude is to distribute the definition of this namespace (language) over multiple Schema defini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mport is to allow use of other namespaces (languages) in the definition for this languag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19880" y="2631960"/>
            <a:ext cx="3554280" cy="1391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targetNameSpac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www. 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impleType    name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&gt;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other types 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4200" y="22636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Standards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9120" y="2884320"/>
            <a:ext cx="5113440" cy="2884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NameSpace= “…www. …/form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:st =“…www…/Standards/n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“…www…/Standards/ns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Lo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“…www… /Standards.xsd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element    name=“PO“&gt; …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name=“USdate” type=“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2b519a"/>
                </a:solidFill>
                <a:latin typeface="Arial"/>
              </a:rPr>
              <a:t>USdat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”\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&gt;&lt;/&gt;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0400" y="25160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www… /Forms/PO.xs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5960" y="5851440"/>
            <a:ext cx="8589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ust have namespace definition for import’s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21440" y="4065480"/>
            <a:ext cx="48564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0800000">
            <a:off x="4146120" y="360468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0800000">
            <a:off x="4451400" y="4320720"/>
            <a:ext cx="490320" cy="88920"/>
          </a:xfrm>
          <a:prstGeom prst="rightArrow">
            <a:avLst>
              <a:gd name="adj1" fmla="val 50000"/>
              <a:gd name="adj2" fmla="val 137854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8652960" y="2955600"/>
            <a:ext cx="490680" cy="88920"/>
          </a:xfrm>
          <a:prstGeom prst="rightArrow">
            <a:avLst>
              <a:gd name="adj1" fmla="val 50000"/>
              <a:gd name="adj2" fmla="val 13795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FBB7C-5199-4F4C-89B1-FC15481516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poi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8760" y="3138480"/>
            <a:ext cx="880272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eb Services needs to accommodate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O can be “extended” with client’s own information about an order item – e.g. how the user allocates the cost -This is just reflected back in the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element will be from the client’s namespace – unknown when writing the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vered by an Any element (“wildcard”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Any element can define the allowed namesp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tensibility covers two kinds of language enhancemen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alisation – namespace=“##other” anything but this names space – could view user-PO as a specialisation of P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Versioning – namespace=“##local” this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600" y="909720"/>
            <a:ext cx="548028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complexType name="entryT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:element ref="note" minOccurs="0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prodCode" …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element name="quant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xs:any namespace="##other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Occurs="0" maxOccurs="unbounded"/&gt;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1120" y="900000"/>
            <a:ext cx="0" cy="2119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4080" y="110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3760" y="1130400"/>
            <a:ext cx="0" cy="233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160" y="13971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6960" y="1422360"/>
            <a:ext cx="0" cy="1160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4360" y="1703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4360" y="19940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4360" y="22845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360" y="25750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61080" y="907920"/>
            <a:ext cx="331164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xmln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ser=“www. …”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&gt; 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not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prodCode&gt; .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quant&gt;….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&lt;user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hargeto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…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95680" y="2557440"/>
            <a:ext cx="27288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4280" y="2295360"/>
            <a:ext cx="0" cy="154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06800" y="2252520"/>
            <a:ext cx="23036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73400" y="1974960"/>
            <a:ext cx="221004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7480" y="1684440"/>
            <a:ext cx="1800000" cy="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44401-FCAD-4537-87BA-2EDBD2306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LITY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905360"/>
            <a:ext cx="6019920" cy="328680"/>
          </a:xfrm>
          <a:prstGeom prst="leftArrow">
            <a:avLst>
              <a:gd name="adj1" fmla="val 50000"/>
              <a:gd name="adj2" fmla="val 45788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96708-B2E4-4D12-88D9-E8F30FFBE0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ma  Gener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chemas are a moderately sophisticated typ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hoice; all; an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on; pattern;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ore sophisticated than e.g. Java type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of the Schema generality depends on inter-operability issu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Low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configuration table for your particular appli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only for human consum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User does not write programs that use the tabl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uld use full generality of schema definition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High Interoperability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SDL for your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used to define the structure of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chema must be usable by any web services toolk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ype structure must be translatable into any programming language type sche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owest common denominator –   WS-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BFD9F-5415-45E7-84B4-E066D5DF61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hemas within WSD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plex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equence for distinctly-named component fiel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tandard type for Arra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imple Ele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A collection of standard typ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clud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xtens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ho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l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Repitition / optionality (maxoccurrs, minoccurrs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ixed cont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8A8E7-4057-4438-8C20-71A1B4D217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SCH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hema defines the syntax for an XML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XML document can have an associa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t is valid if it meets the syntax rules of that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is can import syntax for (parts of) other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uch like programming language type declarations, But some peculiari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as declaration of attributes - needed to define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ree ways to define the “type” of a valu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iving the sub-structure directly – anonymous 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 Typ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Referring to an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llows extension poi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a complex structure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s itself an XML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asier to read than to wri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xample – Purchase Order document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338f"/>
                </a:solidFill>
                <a:uFillTx/>
                <a:latin typeface="Arial"/>
              </a:rPr>
              <a:t>http://www.gs.unina.it/repository/tuesday-12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F8CF4-6A76-47DA-B036-7F540DD83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idation / Gen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2577960"/>
            <a:ext cx="85899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chema is a typ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fines a range of possible instan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8f"/>
                </a:solidFill>
                <a:latin typeface="Arial"/>
              </a:rPr>
              <a:t>The set of all instances which are “validated by the schema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stance is validated by the schema” – it satisfies the  schema defini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ternative terminology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 matches the instance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instance matches the schema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24520" y="1263600"/>
            <a:ext cx="3060720" cy="87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320" y="1236600"/>
            <a:ext cx="1989360" cy="9255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51120" y="2273400"/>
            <a:ext cx="311724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Schema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59560" y="2273400"/>
            <a:ext cx="318096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stance –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32080" y="145728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360" y="11397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Validat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332080" y="1893960"/>
            <a:ext cx="3511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34760" y="156672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s Validated B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9200" y="11397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9200" y="15508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atch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1AAD0-23DC-4046-8F9F-1C81E2709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EMENTS etc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Schemas (XS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lements, types and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-schema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ality check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94280" y="2757600"/>
            <a:ext cx="4149720" cy="328680"/>
          </a:xfrm>
          <a:prstGeom prst="leftArrow">
            <a:avLst>
              <a:gd name="adj1" fmla="val 50000"/>
              <a:gd name="adj2" fmla="val 31563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6ED46-E91F-49D3-9C9F-EE1545E7EB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24520" y="958680"/>
            <a:ext cx="3060720" cy="4102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bill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terms&gt;7-day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delive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addr&gt;…&lt;/&gt; &lt;/&gt;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00" y="958680"/>
            <a:ext cx="5313240" cy="533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chema ….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mlns:xs="http://www.w3.org/2001/XMLSchema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3680" y="1162080"/>
            <a:ext cx="0" cy="4940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3680" y="203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16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3680" y="2336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2200" y="233352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3680" y="2593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2200" y="2619360"/>
            <a:ext cx="0" cy="293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2200" y="20480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2200" y="2922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1600" y="2933640"/>
            <a:ext cx="0" cy="277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120" y="32227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560" y="3247920"/>
            <a:ext cx="0" cy="200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3522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2160" y="3540240"/>
            <a:ext cx="0" cy="110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3680" y="5851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" y="3805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040" y="4078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160" y="4078440"/>
            <a:ext cx="0" cy="306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8640" y="43768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4394160"/>
            <a:ext cx="0" cy="11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040" y="4684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8040" y="52578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32600" y="513072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20080" y="519120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92360" y="525456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83080" y="533232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57160" y="539280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50760" y="545472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2680" y="549432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58E2E-C588-49A1-8FB8-BC64CFB4CA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indefinite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indefinite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indefinite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indefinite"/>
                                        <p:tgtEl>
                                          <p:spTgt spid="2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2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T VISIBLE COMMENTS OF PREVIOUS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2080" y="1006560"/>
            <a:ext cx="287316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1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schema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“envelope”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xs” =  schem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namespace. Or “xsd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9960" y="1927080"/>
            <a:ext cx="3909600" cy="125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2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P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- global complex element -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 sequence of child elements -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Date, accno, customer, note,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Entry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An anonymous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4080" y="3324240"/>
            <a:ext cx="242208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3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Da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see lat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840" y="3736800"/>
            <a:ext cx="3895920" cy="27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4. </a:t>
            </a:r>
            <a:r>
              <a:rPr b="0" lang="en-GB" sz="1600" spc="-1" strike="noStrike">
                <a:solidFill>
                  <a:srgbClr val="2b0000"/>
                </a:solidFill>
                <a:latin typeface="Verdana"/>
              </a:rPr>
              <a:t>AccNo</a:t>
            </a:r>
            <a:r>
              <a:rPr b="0" lang="en-GB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5280" y="4206960"/>
            <a:ext cx="309564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5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customer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info –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sted complex ele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720" y="4883040"/>
            <a:ext cx="3711600" cy="76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6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note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reference to a globa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ement – same name and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0 – 3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800" y="5811840"/>
            <a:ext cx="3795480" cy="52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7. </a:t>
            </a:r>
            <a:r>
              <a:rPr b="0" lang="en-US" sz="1600" spc="-1" strike="noStrike">
                <a:solidFill>
                  <a:srgbClr val="2b0000"/>
                </a:solidFill>
                <a:latin typeface="Verdana"/>
              </a:rPr>
              <a:t>entr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element of global ty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peated 1 or more tim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B9075-86CD-4856-A0AA-8BE38F2654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I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95800" y="947880"/>
            <a:ext cx="3867120" cy="12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nnotation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Documentation  (also appinfo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an also go deeper in 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o annotate parts of structur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4320" y="958680"/>
            <a:ext cx="4740120" cy="3020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chema 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anno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documentation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Here is a Schema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simple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accNo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PO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0" i="1" lang="en-GB" sz="18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"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760" y="1162080"/>
            <a:ext cx="0" cy="2727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760" y="1808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6240" y="114156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760" y="281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760" y="3165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280" y="1830240"/>
            <a:ext cx="0" cy="351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280" y="2174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760" y="34797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280" y="2822400"/>
            <a:ext cx="0" cy="152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280" y="316548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280" y="3495600"/>
            <a:ext cx="0" cy="112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760" y="3797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280" y="3827520"/>
            <a:ext cx="0" cy="9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7080" y="1693800"/>
            <a:ext cx="3605040" cy="901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9160" y="6078600"/>
            <a:ext cx="458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der of global items is not significa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7080" y="2649600"/>
            <a:ext cx="4730760" cy="663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8400" y="2436840"/>
            <a:ext cx="3829320" cy="97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lobal (named) Types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or complex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n giving type of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7080" y="3343320"/>
            <a:ext cx="4730760" cy="609480"/>
          </a:xfrm>
          <a:prstGeom prst="rect">
            <a:avLst/>
          </a:prstGeom>
          <a:noFill/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40" y="4229280"/>
            <a:ext cx="8569440" cy="1579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lements - two rol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instance document can have an instance of this as its roo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O  or Note – not what’s intended !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be referenced from elsewhere as another way of giving “type”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must use same 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720" y="6097680"/>
            <a:ext cx="39531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ther things e.g. attributes, group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07727-F089-448D-91D1-F0F3BAC4F9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 of Complex 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" y="4157640"/>
            <a:ext cx="8985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Nillable – can match element with attribu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si:nil = “true”,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and no 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Occurrences – minOccurs , maxOccurs. Default is 1..1. max can be “unboun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is schema item can match N occurrences of the element, Min&lt;=N&lt;=Ma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odel (feature of type)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equenc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each component matched in this 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each component may actually match no elements or multiple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f there are any notes – after customer and before first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24520" y="907920"/>
            <a:ext cx="3060720" cy="302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da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USdate&gt; 10/24/04  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accN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Z135-ACE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xsi:nil=“true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gt; …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0" y="907920"/>
            <a:ext cx="5514840" cy="3278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468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PO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sequence&gt; …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customer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“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nillable=“1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complexType&gt;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ref="</a:t>
            </a:r>
            <a:r>
              <a:rPr b="1" i="1" lang="en-GB" sz="1600" spc="-1" strike="noStrike">
                <a:solidFill>
                  <a:srgbClr val="2b0000"/>
                </a:solidFill>
                <a:latin typeface="Arial"/>
              </a:rPr>
              <a:t>note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inOccurs="0" maxOccurs="3"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&lt;xs:element name="</a:t>
            </a:r>
            <a:r>
              <a:rPr b="1" lang="en-GB" sz="1600" spc="-1" strike="noStrike">
                <a:solidFill>
                  <a:srgbClr val="2b0000"/>
                </a:solidFill>
                <a:latin typeface="Arial"/>
              </a:rPr>
              <a:t>entry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type="</a:t>
            </a:r>
            <a:r>
              <a:rPr b="0" i="1" lang="en-GB" sz="1600" spc="-1" strike="noStrike">
                <a:solidFill>
                  <a:srgbClr val="2b0000"/>
                </a:solidFill>
                <a:latin typeface="Arial"/>
              </a:rPr>
              <a:t>entryT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"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2b0000"/>
                </a:solidFill>
                <a:latin typeface="Arial"/>
              </a:rPr>
              <a:t>maxOccurs="unbounded"/&gt;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240" y="898560"/>
            <a:ext cx="0" cy="3284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840" y="10936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" y="1076400"/>
            <a:ext cx="0" cy="32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393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720" y="1407960"/>
            <a:ext cx="0" cy="27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120" y="1700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" y="1725480"/>
            <a:ext cx="0" cy="2468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0680" y="19922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040" y="2003400"/>
            <a:ext cx="0" cy="24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0680" y="28544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0680" y="3449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3120" y="1825560"/>
            <a:ext cx="4160520" cy="8748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03800" y="2050920"/>
            <a:ext cx="2649600" cy="516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43120" y="2752560"/>
            <a:ext cx="416052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4200" y="2608200"/>
            <a:ext cx="1616040" cy="544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560" y="1547640"/>
            <a:ext cx="4691160" cy="29232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73640" y="1855800"/>
            <a:ext cx="0" cy="1854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9360" y="1974960"/>
            <a:ext cx="149868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0720" y="2887560"/>
            <a:ext cx="222732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92640" y="3471840"/>
            <a:ext cx="189540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00640" y="1974960"/>
            <a:ext cx="876240" cy="1983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248440" y="268920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2887560"/>
            <a:ext cx="903240" cy="93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248440" y="3259080"/>
            <a:ext cx="982440" cy="20016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00640" y="3486240"/>
            <a:ext cx="890640" cy="396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436A6-D18F-43D0-B31E-2264E9ADA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1:33:27Z</dcterms:modified>
  <cp:revision>100</cp:revision>
  <dc:subject/>
  <dc:title>XML</dc:title>
</cp:coreProperties>
</file>