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8832-5CE4-4985-BF74-C85F879D3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089F-B63C-4324-BC1F-4FE1B9A2C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E02C-1328-477A-9B60-2D64A903A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FB53-F048-43D1-B632-DF83BCA49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3DF3-F494-497D-903C-7789DF248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9297-F412-4AB5-BDC5-215D8CF17E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00D74-40A8-4185-99D6-B527C97FA1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AEC40-98AE-4378-8F64-D6E36DC116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B7727-6228-461A-8EE5-453FCED307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A70E-686C-4E35-BC56-61331B17A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6C07-8D8D-4A1B-9827-17E8F4356F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BB20-FCBC-4D0E-8694-8C373A4A7D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9FECF-1324-4CFA-BDFC-6C31849F93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E09D-C4BC-4287-BA36-FDC495CBA3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1694-8900-47DE-95FD-BE127F7211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8690-C1FA-44C2-A261-C8D33C974C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1B79A-FE10-44F0-8301-491920B4E5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8C35-0983-4E7E-9A50-631CB7B740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5682-DEC6-42E7-AE1E-024222022B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4BAF-EB84-4F1E-9C2A-2CE89B500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6BD4-E4FA-4058-9F17-2BACE58C0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E4D6-0721-4F12-828D-1E9D91690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8785-115E-4B6A-92BD-D5BD4B052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E5E3-6C65-4635-8FA1-2F4E10502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5F7-61BD-4A69-8334-370EF2E076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eb Services Too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D9C0-61D5-4941-AED6-47AA05D43B12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 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 05</a:t>
            </a: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 Tool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operation m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JAX-RPC allows two modes of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ynchronous – two-way 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nvolves blocking the client until it receives a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similar to a traditional java method cal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ven if no actual return value – Public void request (…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ve wait for a success/exception respon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RPC - Asynchronou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client block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performs a operation without replying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 analogous to traditional method call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annot throw an excep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917C5-4EED-4646-9633-5E9A1AF591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 method defin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177920"/>
            <a:ext cx="8745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 java web service end point interface must obey the following ru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interface must extend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endpoint interfaces may be extensions of other interfac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terface methods must declare that it throw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rmi.Remote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ervice dependent exceptions can be thrown if they are checked exceptions derived from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va.lang.Excep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93714-765B-480A-864B-86507F4A9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960" y="931680"/>
            <a:ext cx="898668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ypes That can be in th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ava primitives (eg.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, int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imitive wrappers (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Boolean, Integer, Float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tandard java c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lang.String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Calendar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util.Date,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Decimal,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va.math.BigInteg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lder class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types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 has a public no-argument constructo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extended from any other class, may have static and instance methods, may implement any interface (except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java.rmi.Remot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and any derive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have static fields, instance fields that are public, protected, package private or private but these must be supported types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rays (where all elements are supported typ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920" y="594828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bject by reference is not support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8CC47-061F-41A0-B6B0-5D1B73F74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-) serial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789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web services (also C based ones) allow a developer to treat service classes as if they are local  - i.e. stubs are crea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ll web services messages are XML (SOAP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means that objects sent across web services must be translated to XML and back – (de-)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What is serialised is the “accessible state”; 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irectly accessible fiel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elds with mutator/accessor metho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values returned by service methods are in fact local classes created by JAX-RPC from the XML 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lasses seen by either side may not be identica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avoid comparisons using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==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; </a:t>
            </a:r>
            <a:r>
              <a:rPr b="0" lang="en-GB" sz="1800" spc="-1" strike="noStrike">
                <a:solidFill>
                  <a:srgbClr val="00338f"/>
                </a:solidFill>
                <a:latin typeface="Courier New"/>
              </a:rPr>
              <a:t>equals()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should be used inst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f you want to pass an un-supported java class you have to create your own serialiser / de-serialiser to translate to and from XML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is not a trivial task as there is no JAX-RPC framework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7800" y="100800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86240" y="993600"/>
            <a:ext cx="779400" cy="63216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0280" y="952560"/>
            <a:ext cx="779400" cy="631800"/>
          </a:xfrm>
          <a:prstGeom prst="rect">
            <a:avLst/>
          </a:prstGeom>
          <a:solidFill>
            <a:srgbClr val="ccec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6880" y="113508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4240" y="11556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4320" y="107784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39480" y="974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11320" y="13986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811680"/>
            <a:ext cx="9144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3040" y="122868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4200" y="1228680"/>
            <a:ext cx="185544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42680" y="1393920"/>
            <a:ext cx="185580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286160" y="1393920"/>
            <a:ext cx="1835280" cy="0"/>
          </a:xfrm>
          <a:prstGeom prst="line">
            <a:avLst/>
          </a:prstGeom>
          <a:ln w="936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1320" y="9684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De-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93840" y="14158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erial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49C4-D8A8-4F70-9C81-C48B923AA8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02320" y="1050480"/>
            <a:ext cx="313056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odel”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artially compiled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sage Modes –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face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Model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el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Interface,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226548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25520" y="126360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2840" y="1158840"/>
            <a:ext cx="1143000" cy="5335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52440" y="1063800"/>
            <a:ext cx="111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f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60560" y="958680"/>
            <a:ext cx="1506600" cy="7542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000" y="1063800"/>
            <a:ext cx="102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VA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7280" y="958680"/>
            <a:ext cx="1408320" cy="7653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52680" y="1730520"/>
            <a:ext cx="276120" cy="5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421000"/>
            <a:ext cx="116676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9960" y="2519280"/>
            <a:ext cx="1299240" cy="63144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sid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96960" y="1444680"/>
            <a:ext cx="38592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87600" y="1741320"/>
            <a:ext cx="1440" cy="50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687400" y="1743120"/>
            <a:ext cx="11160" cy="550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160440" y="1446120"/>
            <a:ext cx="716040" cy="814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28840" y="1674720"/>
            <a:ext cx="658800" cy="74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96880" y="2522520"/>
            <a:ext cx="33192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0" y="2544840"/>
            <a:ext cx="68256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EC99-7CAD-4E62-BF40-11F7C38DB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 – usage pattern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39120" y="1171440"/>
            <a:ext cx="27291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cal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ame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5600" y="1157400"/>
            <a:ext cx="140832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928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384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0244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8320" y="179388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1240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61960" y="148896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6800" y="1892160"/>
            <a:ext cx="121284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468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35320" y="1897200"/>
            <a:ext cx="287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339120" y="3186000"/>
            <a:ext cx="2995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lient and Serv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fferent organ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44720" y="29559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5160" y="29624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9400" y="35845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80280" y="35798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7880" y="35989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89880" y="35640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241880" y="32940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0252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4880" y="37018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89600" y="3129120"/>
            <a:ext cx="141912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7960" y="26938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ublish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40200" y="5014800"/>
            <a:ext cx="2782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emot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ing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Rather tha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15200" y="478476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43480" y="479124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4032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3824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6912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16200" y="5427720"/>
            <a:ext cx="55728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79080" y="539280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210200" y="5122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9136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828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91040" y="5530680"/>
            <a:ext cx="2872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09840" y="110016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812808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9840" y="287352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8305920" y="326232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49880" y="540864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74720" y="541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60960" y="5530680"/>
            <a:ext cx="3542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09840" y="4726080"/>
            <a:ext cx="712440" cy="3373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8128080" y="511488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6720" y="3038400"/>
            <a:ext cx="0" cy="2789280"/>
          </a:xfrm>
          <a:prstGeom prst="line">
            <a:avLst/>
          </a:prstGeom>
          <a:ln w="25560">
            <a:solidFill>
              <a:srgbClr val="325f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42E06-CDF7-48E0-8F26-945D3F68BC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56120" y="4262400"/>
            <a:ext cx="5987880" cy="328680"/>
          </a:xfrm>
          <a:prstGeom prst="leftArrow">
            <a:avLst>
              <a:gd name="adj1" fmla="val 50000"/>
              <a:gd name="adj2" fmla="val 45544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67A5E-CF87-4BD9-8BB8-E3CA2B826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aining  the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WSDL can be downloaded from a UDDI registr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f the service uses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JAXRPCServlet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you can attach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WSD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 (or </a:t>
            </a:r>
            <a:r>
              <a:rPr b="1" lang="en-GB" sz="2000" spc="-1" strike="noStrike">
                <a:solidFill>
                  <a:srgbClr val="2b519a"/>
                </a:solidFill>
                <a:latin typeface="Courier New"/>
              </a:rPr>
              <a:t>?mode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) to the URL request to get the WSDL (or model file)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338f"/>
                </a:solidFill>
                <a:latin typeface="Courier New"/>
              </a:rPr>
              <a:t>http://localhost:8080/Service/Servicename?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5E3D3-0128-4078-9463-1B2C87D60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scomp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8400" y="915840"/>
            <a:ext cx="7845840" cy="69984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client 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86120" y="4782960"/>
            <a:ext cx="6847560" cy="1031400"/>
          </a:xfrm>
          <a:prstGeom prst="rect">
            <a:avLst/>
          </a:prstGeom>
          <a:solidFill>
            <a:srgbClr val="ccec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wscompil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–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gen:server –d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outputdir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classpath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1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–keep –s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dir2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- model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mfile.z </a:t>
            </a:r>
            <a:r>
              <a:rPr b="0" lang="en-GB" sz="1800" spc="-1" strike="noStrike">
                <a:solidFill>
                  <a:srgbClr val="2b0000"/>
                </a:solidFill>
                <a:latin typeface="Verdana"/>
              </a:rPr>
              <a:t>                                                         </a:t>
            </a:r>
            <a:r>
              <a:rPr b="0" i="1" lang="en-GB" sz="1800" spc="-1" strike="noStrike">
                <a:solidFill>
                  <a:srgbClr val="2b0000"/>
                </a:solidFill>
                <a:latin typeface="Verdana"/>
              </a:rPr>
              <a:t>config.xm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6960" y="19209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Client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658880" y="182988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581120" y="117612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213720" y="106560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68800" y="1830240"/>
            <a:ext cx="0" cy="103824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3960" y="287172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p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0520" y="2859120"/>
            <a:ext cx="140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overri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classpa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903920" y="1805040"/>
            <a:ext cx="25200" cy="1149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785480" y="98316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546960" y="905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98320" y="2176560"/>
            <a:ext cx="147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retai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Java 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utput; an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here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ut i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088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8089920" y="116676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182080" y="1830240"/>
            <a:ext cx="0" cy="46512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40280" y="2176560"/>
            <a:ext cx="123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f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rvic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5760" y="6221520"/>
            <a:ext cx="72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To generate a model file and where to put it – for use by ws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1944720" y="5025600"/>
            <a:ext cx="166680" cy="1811160"/>
          </a:xfrm>
          <a:custGeom>
            <a:avLst/>
            <a:gdLst>
              <a:gd name="textAreaLeft" fmla="*/ 106560 w 166680"/>
              <a:gd name="textAreaRight" fmla="*/ 166680 w 166680"/>
              <a:gd name="textAreaTop" fmla="*/ 47160 h 1811160"/>
              <a:gd name="textAreaBottom" fmla="*/ 1764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3920" y="5994360"/>
            <a:ext cx="0" cy="3081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49120" y="4068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25faf"/>
                </a:solidFill>
                <a:uFillTx/>
                <a:latin typeface="Verdana"/>
              </a:rPr>
              <a:t>server-side u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58880" y="4368960"/>
            <a:ext cx="0" cy="2206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 rot="5400000">
            <a:off x="1581120" y="4109760"/>
            <a:ext cx="164880" cy="1133640"/>
          </a:xfrm>
          <a:custGeom>
            <a:avLst/>
            <a:gdLst>
              <a:gd name="textAreaLeft" fmla="*/ 105480 w 164880"/>
              <a:gd name="textAreaRight" fmla="*/ 165240 w 16488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5400000">
            <a:off x="3213720" y="3987360"/>
            <a:ext cx="128520" cy="1365120"/>
          </a:xfrm>
          <a:custGeom>
            <a:avLst/>
            <a:gdLst>
              <a:gd name="textAreaLeft" fmla="*/ 82080 w 128520"/>
              <a:gd name="textAreaRight" fmla="*/ 128880 w 128520"/>
              <a:gd name="textAreaTop" fmla="*/ 35280 h 1365120"/>
              <a:gd name="textAreaBottom" fmla="*/ 1329840 h 13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68800" y="3708360"/>
            <a:ext cx="0" cy="8812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903920" y="3795840"/>
            <a:ext cx="17280" cy="81900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 rot="5400000">
            <a:off x="4785480" y="3850920"/>
            <a:ext cx="230040" cy="1584360"/>
          </a:xfrm>
          <a:custGeom>
            <a:avLst/>
            <a:gdLst>
              <a:gd name="textAreaLeft" fmla="*/ 146880 w 230040"/>
              <a:gd name="textAreaRight" fmla="*/ 230400 w 2300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 rot="5400000">
            <a:off x="6546960" y="3848040"/>
            <a:ext cx="155520" cy="1666800"/>
          </a:xfrm>
          <a:custGeom>
            <a:avLst/>
            <a:gdLst>
              <a:gd name="textAreaLeft" fmla="*/ 99360 w 155520"/>
              <a:gd name="textAreaRight" fmla="*/ 155520 w 155520"/>
              <a:gd name="textAreaTop" fmla="*/ 43200 h 1666800"/>
              <a:gd name="textAreaBottom" fmla="*/ 1623600 h 16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08880" y="412416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 rot="5400000">
            <a:off x="8089920" y="4097880"/>
            <a:ext cx="166680" cy="1153800"/>
          </a:xfrm>
          <a:custGeom>
            <a:avLst/>
            <a:gdLst>
              <a:gd name="textAreaLeft" fmla="*/ 106560 w 166680"/>
              <a:gd name="textAreaRight" fmla="*/ 166680 w 166680"/>
              <a:gd name="textAreaTop" fmla="*/ 29880 h 1153800"/>
              <a:gd name="textAreaBottom" fmla="*/ 1123920 h 115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182080" y="4123800"/>
            <a:ext cx="0" cy="4654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6240" y="23274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stu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1160" y="3753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rtefact=t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1422360" y="2662200"/>
            <a:ext cx="998640" cy="94608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656160"/>
            <a:ext cx="835200" cy="169560"/>
          </a:xfrm>
          <a:prstGeom prst="line">
            <a:avLst/>
          </a:prstGeom>
          <a:ln w="25560">
            <a:solidFill>
              <a:srgbClr val="325f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A250E-CADE-4442-BBF4-695D4F235F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interfa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998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name=“……..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argetNamespace=“ …// …/…/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typeNamespace=“…// …/…/types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interface name=“…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ervantName=“…”/&gt;&lt;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7560" y="4268880"/>
            <a:ext cx="7546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service for WSDL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argetNamespace = namespace of WSDL for names associated with th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ice e.g. port 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ypeNamespac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space of WSDL for data 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interface 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the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ervantName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the name of the class that implements the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69280" y="1139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070760" y="214164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04040" y="240336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73600" y="24145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0E6DC-3960-4009-8B39-32127D5328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89160" y="3468600"/>
            <a:ext cx="6954840" cy="328680"/>
          </a:xfrm>
          <a:prstGeom prst="leftArrow">
            <a:avLst>
              <a:gd name="adj1" fmla="val 50000"/>
              <a:gd name="adj2" fmla="val 52899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93786-2A41-4225-9E1E-CDDDB9064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File – from  WSDL /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5160" y="1243080"/>
            <a:ext cx="4575240" cy="21175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wsdl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..//…/serviceDef .wsdl”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packageName=“….”/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7000" y="3321000"/>
            <a:ext cx="609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URL for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ackageName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= name of java package to be genera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160" y="909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Verdana"/>
              </a:rPr>
              <a:t>config.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73600" y="11397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4040" y="1157400"/>
            <a:ext cx="1407960" cy="3124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00880" y="175896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17000" y="17794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01160" y="1774800"/>
            <a:ext cx="83484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87440" y="1332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070760" y="148896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905600" y="1884240"/>
            <a:ext cx="31608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102000" y="1897200"/>
            <a:ext cx="237960" cy="14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75760" y="238932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Interf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18440" y="2394000"/>
            <a:ext cx="1407960" cy="31284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70760" y="2125800"/>
            <a:ext cx="14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96120" y="60213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Model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54720" y="6016680"/>
            <a:ext cx="835200" cy="34596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64680" y="6000840"/>
            <a:ext cx="1256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Verdana"/>
              </a:rPr>
              <a:t>wscompi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76240" y="6138720"/>
            <a:ext cx="2876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8280000" y="5730840"/>
            <a:ext cx="18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91120" y="4491000"/>
            <a:ext cx="1034280" cy="121968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rtefact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O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-165240" y="4697280"/>
            <a:ext cx="5217120" cy="1513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?xml version=“1.0” encoding=“UTF-8” ?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configur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xmlns=“http://java.sun.com/.../config”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odel </a:t>
            </a: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location-”myModel.z”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&lt;/configuration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0" y="6176880"/>
            <a:ext cx="54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= file name of previously generated mode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764EC-07B9-40B4-96DB-80505D00F7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ed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1640" y="9223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me of the client side generated fil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45960" y="1400040"/>
          <a:ext cx="6643800" cy="4191120"/>
        </p:xfrm>
        <a:graphic>
          <a:graphicData uri="http://schemas.openxmlformats.org/drawingml/2006/table">
            <a:tbl>
              <a:tblPr/>
              <a:tblGrid>
                <a:gridCol w="1473480"/>
                <a:gridCol w="51703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rvice_Impl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_SerializerRegistry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Exception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Valu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Serializ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o_SOAPBuilder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terface_Stub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hod.java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2F37-0E95-40EE-B6C4-7C84F8F864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ng the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.java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file corresponds to the definition of the interface for the web service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5960" y="3621240"/>
            <a:ext cx="8589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 object implementing the interface is like a “service factory”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tServicePort returns an instance of (the stub for) the actual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The required service factory is Service_Impl </a:t>
            </a:r>
            <a:endParaRPr b="0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(Unfortunately this name is only recommended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56520" y="2035080"/>
            <a:ext cx="8187120" cy="1362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ackage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import javax.xml.rpc.*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Public interface Service extends javax.aml.rpc.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{  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public </a:t>
            </a:r>
            <a:r>
              <a:rPr b="1" i="1" lang="en-GB" sz="1800" spc="-1" strike="noStrike">
                <a:solidFill>
                  <a:srgbClr val="ac3b8b"/>
                </a:solidFill>
                <a:latin typeface="Courier New"/>
              </a:rPr>
              <a:t>servicePackage</a:t>
            </a:r>
            <a:r>
              <a:rPr b="1" lang="en-GB" sz="1800" spc="-1" strike="noStrike">
                <a:solidFill>
                  <a:srgbClr val="ac3b8b"/>
                </a:solidFill>
                <a:latin typeface="Courier New"/>
              </a:rPr>
              <a:t> getServicePort();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24120" y="5226120"/>
            <a:ext cx="7227000" cy="6998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Service_Impl service = new Service_Impl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*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= (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valu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)service.getServicePort ()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960" y="6083280"/>
            <a:ext cx="8589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ith this reference you can call the methods of the service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B0005-6B74-438D-AE1A-BBC933BC5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loying to a web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Create a WAR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 for service endpoint interfa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class files for service implementation and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Courier New"/>
              </a:rPr>
              <a:t>web.xml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 file containing deployment inform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lass files for JAX-RPC tie class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 tie classes are implementation specific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5E139-BC79-4918-AB30-CCF61433A2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WAR files required for JWSD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45960" y="2144880"/>
          <a:ext cx="8589960" cy="425916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11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web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eb application deployment descriptor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jaxrpc-ri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JWSDP-specific deployment inform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EB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odel file generated by </a:t>
                      </a:r>
                      <a:r>
                        <a:rPr b="1" lang="en-GB" sz="2000" spc="-1" strike="noStrike">
                          <a:solidFill>
                            <a:srgbClr val="2b519a"/>
                          </a:solidFill>
                          <a:latin typeface="Courier New"/>
                        </a:rPr>
                        <a:t>wscomp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5D687-68B4-4D16-8C95-D365639680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b.xml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?xml version=“1.0” encoding=“UTF-8” ?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!DOCTYPE web-ap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PUBLIC “-//Sun Microsystems, Inc.//DTD Web Application 2.3//EN”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http://java.sun.com/j2ee/dtds/web-app_2_3.dtd”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isplay-name&gt;Service Name&lt;/display-name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description&gt;A web service application&lt;/description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lt;/web-app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AD8DB-74D7-4418-8C01-0824CB4997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g a deployable WAR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sdeploy –o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targetFileNam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2b519a"/>
                </a:solidFill>
                <a:latin typeface="Courier New"/>
              </a:rPr>
              <a:t>portableWarFile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process is informed by the content of the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 jaxrpc-ri.xml 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fil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The archive contains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lass files and resour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the ti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compiled class files for serializer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WSDL (in WEB-INF director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el file for the service ( in WEB-INF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modified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web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-runtime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 (based on </a:t>
            </a:r>
            <a:r>
              <a:rPr b="1" lang="en-GB" sz="1800" spc="-1" strike="noStrike">
                <a:solidFill>
                  <a:srgbClr val="2b519a"/>
                </a:solidFill>
                <a:latin typeface="Courier New"/>
              </a:rPr>
              <a:t>jaxrpc-ri.xml</a:t>
            </a:r>
            <a:r>
              <a:rPr b="1" lang="en-GB" sz="1800" spc="-1" strike="noStrike">
                <a:solidFill>
                  <a:srgbClr val="2b519a"/>
                </a:solidFill>
                <a:latin typeface="Arial Unicode MS"/>
              </a:rPr>
              <a:t>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9164-C287-4AB3-98A1-6D2D1BDC6D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age Structure for JAX-RPC Service Endpoi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686800" cy="51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68B0D-7BF6-4D74-99C0-7B6D24E5F3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les required in the J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45960" y="1058760"/>
          <a:ext cx="8589960" cy="5098680"/>
        </p:xfrm>
        <a:graphic>
          <a:graphicData uri="http://schemas.openxmlformats.org/drawingml/2006/table">
            <a:tbl>
              <a:tblPr/>
              <a:tblGrid>
                <a:gridCol w="4294800"/>
                <a:gridCol w="429516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 typ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File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ac3b8b">
                        <a:alpha val="50000"/>
                      </a:srgbClr>
                    </a:solidFill>
                  </a:tcPr>
                </a:tc>
              </a:tr>
              <a:tr h="408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end point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nam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Info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Excep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 interfa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service.Servi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Application implementation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lasspath.client.ServiceAppClient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WSDL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ervice.wsd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eployment descriptors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application-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pping.xml or META-INF/mode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webservicesclient.xm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anifest fil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META-INF/MANIFEST.MF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FF52B-2642-46A7-8BBD-2FFD841B3250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L / C-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ER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OAP::LITE   - Collection of Perl modules which provides a simple and lightweight interface to SOAP on both client and server side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-Ba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SOAP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 and C++ toolkit which provides C/C++ - XML bindings for web services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rom developers suggest that this implementation is fragile and can be bugg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NE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icrosoft web services implementation based on C# super-set of C.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mments form developers – easy entry but lacks flexibility in more complex situ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AB23-BD4E-407A-9E12-A483512AFD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erces (originally Java, also C++ now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d in JWSDP modules, Ax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DOM (Document Object Mode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reates representation of document structure in mem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X (Simple API for XM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r but less powerful parsing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B1E64-3B75-4CE1-B6C6-03FBED97B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Build Tool –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tain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dd functionality to web server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Tomca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originally designed to add servlets to web servers – became used to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xis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new development to specifically support web servi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Axis also includes a web services development environ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Development environm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2 Enterprise Edition (J2EE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Java Bean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Java Web Services Development Package (JWSDP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E742-0617-4990-8CAE-F3B97833B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WSD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o Understand the context and basic workings of the JAVA Web Services Development Pack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JWSDP (JAX-RPC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me Detail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3843360"/>
            <a:ext cx="5456160" cy="328680"/>
          </a:xfrm>
          <a:prstGeom prst="leftArrow">
            <a:avLst>
              <a:gd name="adj1" fmla="val 50000"/>
              <a:gd name="adj2" fmla="val 41500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186D-AC11-4BE9-9E0D-3EA64D709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WSDP pack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WSDP Packag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aaj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oap with attachments API for jav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p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parsing (XM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b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XML 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  <a:ea typeface="Arial"/>
              </a:rPr>
              <a:t>→</a:t>
            </a: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va “bindings” = de-serial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ax for regi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jax-rp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338f"/>
                </a:solidFill>
                <a:uFillTx/>
                <a:latin typeface="Arial"/>
              </a:rPr>
              <a:t>Jax remote procedure c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0D459-72D0-4C0D-A9C9-F75A221FA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JAX-RPC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60" y="974520"/>
            <a:ext cx="90154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The jax-rpc provides packages which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iven WSDL or Java Interface defini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generate ‘stub’ classes for web service providers or consumer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Java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  <a:ea typeface="Arial"/>
              </a:rPr>
              <a:t>↔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XML serialisations / de-serialis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Handle the generation of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API Pack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Core classes for the client side programming mod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encoding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 objects &lt;-&gt; XML SOAP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processing XML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andler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holder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upport the use of holder lass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erver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minimal API for web service implement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Javax.xml.rpc.soap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specific SOAP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6A851-1BD2-4723-BB23-169D2EDF0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X-RPC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720" y="1243080"/>
            <a:ext cx="1758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Applic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2200" y="1243080"/>
            <a:ext cx="6490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57360" y="1243080"/>
            <a:ext cx="22629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Web Services Endpoi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7880" y="2071800"/>
            <a:ext cx="6260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ub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9296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5552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lient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568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556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24320" y="5381640"/>
            <a:ext cx="1704600" cy="892080"/>
            <a:chOff x="3424320" y="5381640"/>
            <a:chExt cx="1704600" cy="892080"/>
          </a:xfrm>
        </p:grpSpPr>
        <p:sp>
          <p:nvSpPr>
            <p:cNvPr id="232" name="Cloud"/>
            <p:cNvSpPr/>
            <p:nvPr/>
          </p:nvSpPr>
          <p:spPr>
            <a:xfrm>
              <a:off x="3424320" y="5381640"/>
              <a:ext cx="170460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5200" y="56163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312600" y="2871720"/>
            <a:ext cx="121284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JAX-RPC API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6800" y="2071800"/>
            <a:ext cx="47088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Ti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75160" y="3673440"/>
            <a:ext cx="1328760" cy="6314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er Si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PC Runtim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778280"/>
            <a:ext cx="61560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1680" y="5589720"/>
            <a:ext cx="592560" cy="337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0" rIns="468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68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19120" y="162252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068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9068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9068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330960" y="162252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330960" y="24336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330960" y="32338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30960" y="434808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330960" y="5149800"/>
            <a:ext cx="0" cy="42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85040" y="16221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4040" y="1897200"/>
            <a:ext cx="55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095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33920" y="1612800"/>
            <a:ext cx="131436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09960" y="1405080"/>
            <a:ext cx="1122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1720" y="5791320"/>
            <a:ext cx="966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77520" y="5791320"/>
            <a:ext cx="966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F1A3-A60B-45E5-9D88-02EC03DF7F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46:51Z</dcterms:modified>
  <cp:revision>95</cp:revision>
  <dc:subject/>
  <dc:title>XML</dc:title>
</cp:coreProperties>
</file>