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7DEB-14F3-4657-BC09-D0907FCEFF1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C31C-01AF-4230-8BF6-A54F5A6163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eans rep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Mean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= “doument” | “rp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0118-3BF9-493C-911D-AEAF86976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2A0A-EB3E-4A9E-A6A4-D5BFEFD64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43B2-386F-47BA-BDE1-B81E587A1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4955-B24A-4D0E-B56C-5E7CCC29C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3BA4-C8D3-4375-917B-0197195EE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876D7-1B49-4D33-8A87-F4DDCC924B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CD1B2-D1E6-4CB1-9B8E-05835F5C3D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199C6-C3E4-45A8-929F-3E0D2394C0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D3F01-F34D-4BC7-9778-F08919ED2C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BC166-DCE7-4DFC-8710-96FC0D1F2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10A9-3F12-41B0-B4D4-0B35142525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F2325-1EF8-4271-AD63-0E325B5E37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9EF60-E726-4886-B6F6-ED29FA2FCA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6C2B1-8A29-4F3D-897E-EA727171BF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B40D8-E0CC-4827-809D-C04C1AC983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41BE8-03E8-4A21-809D-DB1C1D268B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966CB-8D9A-401A-9BE3-08F8EA81EB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44AFF-F0B3-4892-BEB2-CE3812B014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8687-E3EC-4C02-BD9F-B1D8B5B20B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AD50-3EC1-4556-A2DD-D66515424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73F6-4E25-41C1-813A-7CE732C6D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81C8-D721-4401-890B-606616873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F3A1-096A-4F09-94AC-6DBD5DA15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3225-B577-4542-B593-DE55D43DF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AC2F-C653-4A14-8500-C9298E7EF03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WSDL and SO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3E11-8820-4EE3-AD64-574D996821E8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658332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TR/soap12-part0" TargetMode="External"/><Relationship Id="rId2" Type="http://schemas.openxmlformats.org/officeDocument/2006/relationships/hyperlink" Target="http://www.w3.org/TR/NOTE-SOAP-20000508" TargetMode="External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Web Services Descriptions and SOAP message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andard Fault Co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VersionMisma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Un-recognised namespace for the env:Envelop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MustUnderstan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 mandatory header entry was not understoo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Cli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t’s your fault (e.g. wrong info. In body); re-send won’t work.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Must have detail ele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nv:Serv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t’s our fault (e.g an upstream processing node not responding).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Might succeed if sent later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an have detail ele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E44AF-D67F-4AF3-9600-1A57D506BB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indefinite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indefinite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indefinite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indefinite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indefinite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indefinite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SD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73720" y="3506760"/>
            <a:ext cx="4670280" cy="328680"/>
          </a:xfrm>
          <a:prstGeom prst="leftArrow">
            <a:avLst>
              <a:gd name="adj1" fmla="val 50000"/>
              <a:gd name="adj2" fmla="val 35523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7842B-706E-4887-8AE3-CBCDAE66A2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WSDL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n XML forma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 describing network servic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perates either 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rocedure call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scribes the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posed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interfac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hat the consumer sees of the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stitutes a contract with the cli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rovides a specification of what is offered by the service provider which can be relied on by the service consum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pports Separation of  concer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bstract structure – operations and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inding to a specific underlying protoco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definition of a particular deployed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o allow common definition and re-combin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ere using WSDL 1.1 – a W3C submission (March 2001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2.0 – is a last call working draft (Aug 2004) – many differen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85C13-1375-4B12-868C-6495E63172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Structure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pany Provides two types of Service (PortType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t general information (GenInfo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pen an Account (OpenAcc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stomers Service (being a “Customer” = having an account)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urchase Order (PurchOrder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voice (Inv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ayment Advice (PayAdv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t Statement (GetStmt)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tify overdue payment (Overdu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Both over two kinds of bind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eb  - HT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mail - SM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354DD-7543-467C-8F8A-C204E5F629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tract Definition - Port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080" y="808200"/>
            <a:ext cx="8262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tart with PortType =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et of opera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each operation, a number of messages – input; output; faul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Message is defined separately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s a number of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part has a type (using schema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3960" y="2029680"/>
            <a:ext cx="2617920" cy="231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, Error1,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Inv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ayAdv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590720" y="2857680"/>
            <a:ext cx="2057400" cy="11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A6196-1F74-40FD-A44A-A2C60364FC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Definition -  Bi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54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" y="830160"/>
            <a:ext cx="839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inding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binding of a portType to a communication protocol for u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port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e underlying protocol(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ow the logical structure is represented using the underlying protoco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-1800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ere two bindings for each PortType – web, e-mai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6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9F3FE-2289-4B62-8EA1-D2DDC783A0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8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Definition -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2400" y="5419800"/>
            <a:ext cx="4173480" cy="10443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-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36960" y="5408640"/>
            <a:ext cx="4173840" cy="10555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-we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" y="919080"/>
            <a:ext cx="8396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rvice – defines one or more ports, each with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Location – URL – here sharing of locations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inding and thus portTyp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The interface provided by the port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how it is realised over a particular protoco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ere one service for each portType – there are alternatives …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72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9638A-BE3D-4157-88DC-FEF444C457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391440" y="2941200"/>
            <a:ext cx="2328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m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6680" y="2941200"/>
            <a:ext cx="2328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m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tioning of WSD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2400" y="6113520"/>
            <a:ext cx="41734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36960" y="6113520"/>
            <a:ext cx="41738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080" y="863640"/>
            <a:ext cx="90979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uld put all definitions in one WSDL file – that’s what is produced by JAX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For hand-crafted WSDL, could spread over multiple files, e.g. -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ne WSDL file per servic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Gives control over publication use – CustomerService not in public regist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ifferent services may have semi-independent develop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49720" indent="-21132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mmon message and type definitions – may be shared between interfac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440" y="4551480"/>
            <a:ext cx="4419720" cy="19494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65600" y="3063960"/>
            <a:ext cx="3065400" cy="136512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57680" y="4551480"/>
            <a:ext cx="4419720" cy="194940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46320" y="2971800"/>
            <a:ext cx="1581120" cy="133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894280" y="2970360"/>
            <a:ext cx="1570320" cy="66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35560" y="2860560"/>
            <a:ext cx="2841840" cy="169884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440" y="2863800"/>
            <a:ext cx="2546640" cy="1685880"/>
          </a:xfrm>
          <a:prstGeom prst="rect">
            <a:avLst/>
          </a:pr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EBB15-E0BB-406E-8C3D-AEC328A1BA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 flipV="1">
            <a:off x="7775640" y="2297160"/>
            <a:ext cx="706320" cy="1092240"/>
          </a:xfrm>
          <a:custGeom>
            <a:avLst/>
            <a:gdLst>
              <a:gd name="textAreaLeft" fmla="*/ 94320 w 706320"/>
              <a:gd name="textAreaRight" fmla="*/ 612000 w 706320"/>
              <a:gd name="textAreaTop" fmla="*/ 224640 h 1092240"/>
              <a:gd name="textAreaBottom" fmla="*/ 75816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773840" y="2625120"/>
            <a:ext cx="700200" cy="2041560"/>
          </a:xfrm>
          <a:custGeom>
            <a:avLst/>
            <a:gdLst>
              <a:gd name="textAreaLeft" fmla="*/ 93600 w 700200"/>
              <a:gd name="textAreaRight" fmla="*/ 606600 w 700200"/>
              <a:gd name="textAreaTop" fmla="*/ 419760 h 2041560"/>
              <a:gd name="textAreaBottom" fmla="*/ 1416960 h 204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69880" y="1057320"/>
            <a:ext cx="7118280" cy="423360"/>
            <a:chOff x="569880" y="1057320"/>
            <a:chExt cx="7118280" cy="423360"/>
          </a:xfrm>
        </p:grpSpPr>
        <p:sp>
          <p:nvSpPr>
            <p:cNvPr id="433" name=""/>
            <p:cNvSpPr/>
            <p:nvPr/>
          </p:nvSpPr>
          <p:spPr>
            <a:xfrm>
              <a:off x="782640" y="1057320"/>
              <a:ext cx="690552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import&gt; incorporate external definition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9880" y="117000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69880" y="5105520"/>
            <a:ext cx="7112160" cy="312120"/>
            <a:chOff x="569880" y="5105520"/>
            <a:chExt cx="7112160" cy="312120"/>
          </a:xfrm>
        </p:grpSpPr>
        <p:sp>
          <p:nvSpPr>
            <p:cNvPr id="436" name=""/>
            <p:cNvSpPr/>
            <p:nvPr/>
          </p:nvSpPr>
          <p:spPr>
            <a:xfrm>
              <a:off x="790560" y="510696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binding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how messages will be transmitt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9880" y="510552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69880" y="2706840"/>
            <a:ext cx="7112160" cy="785160"/>
            <a:chOff x="569880" y="2706840"/>
            <a:chExt cx="7112160" cy="785160"/>
          </a:xfrm>
        </p:grpSpPr>
        <p:sp>
          <p:nvSpPr>
            <p:cNvPr id="439" name=""/>
            <p:cNvSpPr/>
            <p:nvPr/>
          </p:nvSpPr>
          <p:spPr>
            <a:xfrm>
              <a:off x="790560" y="270684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messag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transmittable message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9880" y="276876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84560" y="3154320"/>
              <a:ext cx="446400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part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44720" y="318132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69880" y="5653080"/>
            <a:ext cx="7112160" cy="786960"/>
            <a:chOff x="569880" y="5653080"/>
            <a:chExt cx="7112160" cy="786960"/>
          </a:xfrm>
        </p:grpSpPr>
        <p:sp>
          <p:nvSpPr>
            <p:cNvPr id="444" name=""/>
            <p:cNvSpPr/>
            <p:nvPr/>
          </p:nvSpPr>
          <p:spPr>
            <a:xfrm>
              <a:off x="790560" y="56530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servic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how a service is access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9880" y="568008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84560" y="6129360"/>
              <a:ext cx="449100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port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web-address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	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ref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44720" y="610884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69880" y="3583080"/>
            <a:ext cx="7112160" cy="1209240"/>
            <a:chOff x="569880" y="3583080"/>
            <a:chExt cx="7112160" cy="1209240"/>
          </a:xfrm>
        </p:grpSpPr>
        <p:sp>
          <p:nvSpPr>
            <p:cNvPr id="449" name=""/>
            <p:cNvSpPr/>
            <p:nvPr/>
          </p:nvSpPr>
          <p:spPr>
            <a:xfrm>
              <a:off x="790560" y="35830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portType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interface – operations and assoc. message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9880" y="3645000"/>
              <a:ext cx="161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84560" y="4035600"/>
              <a:ext cx="44654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operation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44720" y="406224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7080" y="4481640"/>
              <a:ext cx="30956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MESSAGETYPE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59080" y="446076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31920" y="919080"/>
            <a:ext cx="7448400" cy="562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775640" y="3382200"/>
            <a:ext cx="706320" cy="1925640"/>
          </a:xfrm>
          <a:custGeom>
            <a:avLst/>
            <a:gdLst>
              <a:gd name="textAreaLeft" fmla="*/ 94320 w 706320"/>
              <a:gd name="textAreaRight" fmla="*/ 612000 w 706320"/>
              <a:gd name="textAreaTop" fmla="*/ 414000 h 1925640"/>
              <a:gd name="textAreaBottom" fmla="*/ 13183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0" stAng="-5400000" swAng="5400000"/>
                <a:lnTo>
                  <a:pt x="21600" y="10140"/>
                </a:lnTo>
                <a:arcTo wR="21600" hR="9300" stAng="0" swAng="3219375"/>
                <a:lnTo>
                  <a:pt x="6523" y="21166"/>
                </a:lnTo>
                <a:lnTo>
                  <a:pt x="0" y="19020"/>
                </a:lnTo>
                <a:lnTo>
                  <a:pt x="6523" y="16006"/>
                </a:lnTo>
                <a:lnTo>
                  <a:pt x="6523" y="18166"/>
                </a:lnTo>
                <a:arcTo wR="21600" hR="9300" stAng="3219375" swAng="-3152470"/>
                <a:lnTo>
                  <a:pt x="21578" y="9720"/>
                </a:lnTo>
                <a:arcTo wR="21600" hR="9300" stAng="-66905" swAng="-5333095"/>
                <a:close/>
              </a:path>
              <a:path fill="darkenLess" w="21600" h="21600">
                <a:moveTo>
                  <a:pt x="0" y="0"/>
                </a:moveTo>
                <a:arcTo wR="21600" hR="9300" stAng="-5400000" swAng="5400000"/>
                <a:lnTo>
                  <a:pt x="21600" y="10140"/>
                </a:lnTo>
                <a:arcTo wR="21600" hR="9300" stAng="0" swAng="-66905"/>
                <a:lnTo>
                  <a:pt x="21578" y="9720"/>
                </a:lnTo>
                <a:arcTo wR="21600" hR="9300" stAng="-66905" swAng="-5333095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67360" y="1471680"/>
            <a:ext cx="7114680" cy="1126440"/>
            <a:chOff x="567360" y="1471680"/>
            <a:chExt cx="7114680" cy="1126440"/>
          </a:xfrm>
        </p:grpSpPr>
        <p:sp>
          <p:nvSpPr>
            <p:cNvPr id="458" name=""/>
            <p:cNvSpPr/>
            <p:nvPr/>
          </p:nvSpPr>
          <p:spPr>
            <a:xfrm>
              <a:off x="790560" y="1471680"/>
              <a:ext cx="689148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&lt;types&gt;</a:t>
              </a: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 logic structure of data being transmitted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7360" y="1552680"/>
              <a:ext cx="1465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84560" y="1895400"/>
              <a:ext cx="441972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schema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44720" y="1922400"/>
              <a:ext cx="28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8240" y="2287440"/>
              <a:ext cx="3056040" cy="310680"/>
            </a:xfrm>
            <a:prstGeom prst="rect">
              <a:avLst/>
            </a:prstGeom>
            <a:noFill/>
            <a:ln w="25560">
              <a:solidFill>
                <a:srgbClr val="2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&lt;TYPE&gt;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95880" y="2271600"/>
              <a:ext cx="2840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25faf"/>
                  </a:solidFill>
                  <a:latin typeface="Verdana"/>
                </a:rPr>
                <a:t>*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52280" y="4951440"/>
            <a:ext cx="8772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1414440"/>
            <a:ext cx="8772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8646840" y="2656440"/>
            <a:ext cx="454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bstrac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0800000">
            <a:off x="8689680" y="503172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hysic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775640" y="5288040"/>
            <a:ext cx="706320" cy="1092240"/>
          </a:xfrm>
          <a:custGeom>
            <a:avLst/>
            <a:gdLst>
              <a:gd name="textAreaLeft" fmla="*/ 94320 w 706320"/>
              <a:gd name="textAreaRight" fmla="*/ 612000 w 706320"/>
              <a:gd name="textAreaTop" fmla="*/ 224640 h 1092240"/>
              <a:gd name="textAreaBottom" fmla="*/ 75816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3145378"/>
                <a:lnTo>
                  <a:pt x="6523" y="21185"/>
                </a:lnTo>
                <a:lnTo>
                  <a:pt x="0" y="18613"/>
                </a:lnTo>
                <a:lnTo>
                  <a:pt x="6523" y="15210"/>
                </a:lnTo>
                <a:lnTo>
                  <a:pt x="6523" y="17370"/>
                </a:lnTo>
                <a:arcTo wR="21600" hR="8893" stAng="3145378" swAng="-3013169"/>
                <a:lnTo>
                  <a:pt x="21506" y="9720"/>
                </a:lnTo>
                <a:arcTo wR="21600" hR="8893" stAng="-132209" swAng="-5267791"/>
                <a:close/>
              </a:path>
              <a:path fill="darkenLess" w="21600" h="21600">
                <a:moveTo>
                  <a:pt x="0" y="0"/>
                </a:moveTo>
                <a:arcTo wR="21600" hR="8893" stAng="-5400000" swAng="5400000"/>
                <a:lnTo>
                  <a:pt x="21600" y="10548"/>
                </a:lnTo>
                <a:arcTo wR="21600" hR="8893" stAng="0" swAng="-132209"/>
                <a:lnTo>
                  <a:pt x="21506" y="9720"/>
                </a:lnTo>
                <a:arcTo wR="21600" hR="8893" stAng="-132209" swAng="-5267791"/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27D09-18A1-4D57-B1A6-B74876251A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indefinite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indefinite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reaucrac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9840" y="888840"/>
            <a:ext cx="6040440" cy="5615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“1.0” encoding="UTF-8"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definitions  name=“CustServWSDL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dl:targetNamespace 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wsdl/Cu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wsdl/Cu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wsdl=“…xmlsoap.org/wsdl/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soap =“…xmlsoap.org/wsdl/soap/”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y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… …   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import namespac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location=“Yloc”&gt;   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type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chema targetNameSpace=“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 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message&gt; …. &lt;/&gt;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Type&gt; …. &lt;/&gt;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&gt; ….    &lt;/&gt;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ervice&gt; ….   &lt;/&gt;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360120" y="1674720"/>
            <a:ext cx="27478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 – optional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Lightweight document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4644720" y="1477440"/>
            <a:ext cx="1703160" cy="2113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5468400" y="1904760"/>
            <a:ext cx="878040" cy="5569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57960" y="3452760"/>
            <a:ext cx="26380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Use definitions for: wsdl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ts SOAP extension; …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358680" y="4176720"/>
            <a:ext cx="25984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spaces prefixes f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mported schemas/wsdl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58320" y="4902120"/>
            <a:ext cx="262440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spaces prefixes fo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local schema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57960" y="887400"/>
            <a:ext cx="1914120" cy="3106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n XML docu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49480" y="1012680"/>
            <a:ext cx="1616040" cy="381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730400" y="1379160"/>
            <a:ext cx="1639800" cy="97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56880" y="1281240"/>
            <a:ext cx="2170440" cy="3106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Root  –  WSDL Defn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5385960" y="2599920"/>
            <a:ext cx="981000" cy="91764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00280" y="3029040"/>
            <a:ext cx="3702240" cy="1190520"/>
          </a:xfrm>
          <a:custGeom>
            <a:avLst/>
            <a:gdLst/>
            <a:ahLst/>
            <a:rect l="l" t="t" r="r" b="b"/>
            <a:pathLst>
              <a:path w="2312" h="758">
                <a:moveTo>
                  <a:pt x="2312" y="758"/>
                </a:moveTo>
                <a:lnTo>
                  <a:pt x="1901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00760" y="3718080"/>
            <a:ext cx="1344600" cy="868320"/>
          </a:xfrm>
          <a:custGeom>
            <a:avLst/>
            <a:gdLst/>
            <a:ahLst/>
            <a:rect l="l" t="t" r="r" b="b"/>
            <a:pathLst>
              <a:path w="639" h="619">
                <a:moveTo>
                  <a:pt x="639" y="619"/>
                </a:moveTo>
                <a:lnTo>
                  <a:pt x="36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44720" y="3402000"/>
            <a:ext cx="3463920" cy="1595520"/>
          </a:xfrm>
          <a:custGeom>
            <a:avLst/>
            <a:gdLst/>
            <a:ahLst/>
            <a:rect l="l" t="t" r="r" b="b"/>
            <a:pathLst>
              <a:path w="2312" h="758">
                <a:moveTo>
                  <a:pt x="2312" y="758"/>
                </a:moveTo>
                <a:lnTo>
                  <a:pt x="1901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5386320" y="4383000"/>
            <a:ext cx="944640" cy="7416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27560" y="4861080"/>
            <a:ext cx="226800" cy="1319040"/>
          </a:xfrm>
          <a:custGeom>
            <a:avLst/>
            <a:gdLst>
              <a:gd name="textAreaLeft" fmla="*/ 0 w 226800"/>
              <a:gd name="textAreaRight" fmla="*/ 81720 w 226800"/>
              <a:gd name="textAreaTop" fmla="*/ 34200 h 1319040"/>
              <a:gd name="textAreaBottom" fmla="*/ 1284840 h 13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57240" y="5662440"/>
            <a:ext cx="2639880" cy="642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eclaration of multiple –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messages, portType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3754440" y="5487840"/>
            <a:ext cx="2581200" cy="2541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358320" y="2398680"/>
            <a:ext cx="2002680" cy="973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targetNameSpace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for internal nam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Define  prefix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14960" y="2333520"/>
            <a:ext cx="203040" cy="498600"/>
          </a:xfrm>
          <a:custGeom>
            <a:avLst/>
            <a:gdLst>
              <a:gd name="textAreaLeft" fmla="*/ 0 w 203040"/>
              <a:gd name="textAreaRight" fmla="*/ 73440 w 203040"/>
              <a:gd name="textAreaTop" fmla="*/ 12960 h 498600"/>
              <a:gd name="textAreaBottom" fmla="*/ 4856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51480" y="2084400"/>
            <a:ext cx="1760400" cy="1035000"/>
          </a:xfrm>
          <a:custGeom>
            <a:avLst/>
            <a:gdLst/>
            <a:ahLst/>
            <a:rect l="l" t="t" r="r" b="b"/>
            <a:pathLst>
              <a:path w="2457" h="695">
                <a:moveTo>
                  <a:pt x="2457" y="695"/>
                </a:moveTo>
                <a:lnTo>
                  <a:pt x="2045" y="15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36520" y="1405080"/>
            <a:ext cx="0" cy="4597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6520" y="36892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9960" y="4008600"/>
            <a:ext cx="0" cy="3315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9160" y="1398600"/>
            <a:ext cx="2793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6520" y="534348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6520" y="40086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1120" y="43369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6520" y="600696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6520" y="503064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6520" y="5661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54910-D4BB-474A-B6D2-6ED9E98B1F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27480" y="3156120"/>
            <a:ext cx="5816520" cy="328320"/>
          </a:xfrm>
          <a:prstGeom prst="leftArrow">
            <a:avLst>
              <a:gd name="adj1" fmla="val 50000"/>
              <a:gd name="adj2" fmla="val 4429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89A27-6923-4B13-B3E3-B1FA5776F0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TRACT 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72080" y="3911760"/>
            <a:ext cx="3571920" cy="328320"/>
          </a:xfrm>
          <a:prstGeom prst="leftArrow">
            <a:avLst>
              <a:gd name="adj1" fmla="val 50000"/>
              <a:gd name="adj2" fmla="val 27198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25477-2338-4733-80A7-C459344273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and Messag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3440" y="2454120"/>
            <a:ext cx="5810400" cy="394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"1.0" encoding="UTF-8"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 definitions 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xmlns:m = “…/mytypes/serviceA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 type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d: schema …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argetNamespace= “…/mytypes/serviceA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relude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sequence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element name="Account“ type=“xs:string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element name="Date" type="xs:date"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xs:complexType name="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entries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"&gt; ….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103800" y="959760"/>
            <a:ext cx="2895840" cy="2315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relude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T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208560" y="33321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62720" y="1857240"/>
            <a:ext cx="1116000" cy="243540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320" y="918720"/>
            <a:ext cx="55688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YPE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ach type is for one or more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 a target namespace, as for any Schema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prefix  for use in message par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73920" y="3762360"/>
            <a:ext cx="2935080" cy="2646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relud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entri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art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relu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Error1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497720" y="1722600"/>
            <a:ext cx="1087560" cy="355104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362720" y="1857240"/>
            <a:ext cx="1116000" cy="243540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91400" y="2771640"/>
            <a:ext cx="604800" cy="1838520"/>
          </a:xfrm>
          <a:custGeom>
            <a:avLst/>
            <a:gdLst/>
            <a:ahLst/>
            <a:rect l="l" t="t" r="r" b="b"/>
            <a:pathLst>
              <a:path w="613" h="1261">
                <a:moveTo>
                  <a:pt x="352" y="1261"/>
                </a:moveTo>
                <a:lnTo>
                  <a:pt x="582" y="1261"/>
                </a:lnTo>
                <a:lnTo>
                  <a:pt x="613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5145120" y="1719360"/>
            <a:ext cx="595440" cy="2279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787920" y="2093760"/>
            <a:ext cx="365040" cy="99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9080" y="2919240"/>
            <a:ext cx="0" cy="3311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240" y="2919240"/>
            <a:ext cx="1839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9360" y="35434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2920" y="3546360"/>
            <a:ext cx="0" cy="2629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3720" y="3851280"/>
            <a:ext cx="1954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6520" y="3857760"/>
            <a:ext cx="0" cy="2197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4720" y="5958000"/>
            <a:ext cx="2685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8560" y="4471920"/>
            <a:ext cx="0" cy="276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4720" y="4457880"/>
            <a:ext cx="2685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8280" y="47563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09640" y="4759200"/>
            <a:ext cx="0" cy="574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8480" y="50436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8480" y="53420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13E47-3423-4740-8767-77EC6D5827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452920" y="4724280"/>
            <a:ext cx="35769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Defined type – the namespace of the in-line schema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and Mess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3480" y="932040"/>
            <a:ext cx="87980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29680" indent="-2296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Has a name – so message can be referenced by a portType defini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29680" indent="-2296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nsists of one or more parts,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part is a logical unit, e.g. a paramet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 parts in WSDL 2.0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s a name so that it can be referenced by a Binding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.g to put one part in a header and the other part in the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97520" indent="-1911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as a type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chema type definition or a Schema element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765720" indent="-1530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tandard type – from an imported Schema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2400" y="4367160"/>
            <a:ext cx="5176800" cy="1968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Prelude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relude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 “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ccInfo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message name=“Overdue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excuse” type=“xs:string”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51680" y="4121280"/>
            <a:ext cx="2992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Input message for the purchase order oper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3530520" y="4521240"/>
            <a:ext cx="2689200" cy="92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61120" y="4807080"/>
            <a:ext cx="142920" cy="450720"/>
          </a:xfrm>
          <a:custGeom>
            <a:avLst/>
            <a:gdLst>
              <a:gd name="textAreaLeft" fmla="*/ 0 w 142920"/>
              <a:gd name="textAreaRight" fmla="*/ 51480 w 142920"/>
              <a:gd name="textAreaTop" fmla="*/ 11520 h 450720"/>
              <a:gd name="textAreaBottom" fmla="*/ 439200 h 45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743360" y="585000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56160" y="5518080"/>
            <a:ext cx="36878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Input (response) message for the Overdue Payment operation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4830480" y="6176880"/>
            <a:ext cx="685800" cy="20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6213600"/>
            <a:ext cx="3467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25faf"/>
                </a:solidFill>
                <a:latin typeface="Verdana"/>
              </a:rPr>
              <a:t>standard typ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13BA0-1D5A-43B6-AA9C-7366C063E7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t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7760" y="929880"/>
            <a:ext cx="64882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PORTTYPE – an interface comprising a set of opera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rganisation of functionality into portTypes and operations is similar to O-O desig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 portType is a coherent unit of exposed functionality – operations make sense toge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.g. Currency conversion might be a service used in processing customer transac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ut would not expect a convertCurrency operation for this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ut … larger granularity than O-O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ployment considera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lit between General and Customer may be that say General has a wider range of available bindings/loc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operation declares a number of messages which can be communicated as the interface to the ope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se messages conform to one of four message exchange patterns – input/output sequencing …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23160" y="947880"/>
            <a:ext cx="2135160" cy="3641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Error1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d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013520" y="4739400"/>
            <a:ext cx="2000160" cy="165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B98BD-D116-414B-8750-ED2E41E51E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Exchange Patt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68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08720" y="2361240"/>
            <a:ext cx="2617920" cy="1983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GetStmt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Inv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ayAdv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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06560" y="2666880"/>
            <a:ext cx="3202200" cy="165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in, POout, Err1,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InvoiceOut,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ayAdvIn,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ODueOut, ODueResp, Err2,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87480" y="290664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25563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rot="16200000">
            <a:off x="615564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1440" y="912960"/>
            <a:ext cx="5210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ur  pattern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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N then OUT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quest/Response – most usu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Notif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ne-way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Wingdings"/>
                <a:ea typeface="Wingdings"/>
              </a:rPr>
              <a:t>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 then IN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Solicit/Respon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21280" y="919080"/>
            <a:ext cx="24876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eversed rol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Provider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active = cli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ervice 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reactive = serv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08200" y="511956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28600" y="524664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06400" y="4892760"/>
            <a:ext cx="63180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Oi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39760" y="539100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90120" y="5408640"/>
            <a:ext cx="75528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O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9240" y="454500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vid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17840" y="511956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22280" y="45450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8200" y="613404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128600" y="6261120"/>
            <a:ext cx="226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17840" y="613404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305720" y="5907240"/>
            <a:ext cx="105084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PayAdvI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84840" y="454500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Provid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03800" y="58356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24560" y="596268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04880" y="5608800"/>
            <a:ext cx="128412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Overdue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5535360" y="610704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74040" y="6124680"/>
            <a:ext cx="187236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OverdueRespons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813800" y="583560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518240" y="454500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Consum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203800" y="5099040"/>
            <a:ext cx="30492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813800" y="5099040"/>
            <a:ext cx="304560" cy="304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02760" y="4871880"/>
            <a:ext cx="1151640" cy="337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InvoiceOu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24560" y="521496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 rot="16200000">
            <a:off x="2552400" y="284724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739960" y="145728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4360" y="194328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870600" y="47847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388280" y="55339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64400" y="61516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5826A-679B-4EAC-9957-1D8B96E9BD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indefinite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indefinite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indefinite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indefinite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indefinite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indefinite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indefinite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indefinite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indefinite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indefinite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indefinite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indefinite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indefinite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indefinite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indefinite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indefinite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indefinite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indefinite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indefinite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indefinite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indefinite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indefinite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indefinite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indefinite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indefinite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indefinite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Exchange Patt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481032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 exchange pattern is determined by sequence of message declaration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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Request-Response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*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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olicit-Response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otify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ne-way (Request) –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ingle message patterns can’t have fault mess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(in WSDL 2.0 this is explicit and more general – named patterns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8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040440" y="947880"/>
            <a:ext cx="3017880" cy="4304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O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Error1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du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Overdue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Fault: ErrorThrea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ut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InvOu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ayAdv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In: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ayAdvI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43514-DEAB-4AD4-A319-9BD84ADF08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est -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0680" y="5408640"/>
            <a:ext cx="5086440" cy="97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“Prelude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relude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 “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POentri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accInfo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0240" y="853920"/>
            <a:ext cx="88311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Message to service provider; reply to service consumer; possible fault messages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logical pattern, Binding might be e.g. An HTTP request/response or two  HTTP request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880" y="2015640"/>
            <a:ext cx="5165280" cy="32947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ques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Error1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Error1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27280" y="3160800"/>
            <a:ext cx="2198880" cy="2433600"/>
          </a:xfrm>
          <a:custGeom>
            <a:avLst/>
            <a:gdLst/>
            <a:ahLst/>
            <a:rect l="l" t="t" r="r" b="b"/>
            <a:pathLst>
              <a:path w="1385" h="1533">
                <a:moveTo>
                  <a:pt x="421" y="0"/>
                </a:moveTo>
                <a:lnTo>
                  <a:pt x="1385" y="84"/>
                </a:lnTo>
                <a:lnTo>
                  <a:pt x="1379" y="1508"/>
                </a:lnTo>
                <a:lnTo>
                  <a:pt x="0" y="1533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010200" y="2500200"/>
            <a:ext cx="3086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vide a name for that message in this context, to be referenced by Binding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fault message name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eration + request/respons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4948200" y="2641680"/>
            <a:ext cx="1152720" cy="1080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716360" y="2720880"/>
            <a:ext cx="1384560" cy="6811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45240" y="4351320"/>
            <a:ext cx="33512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fer to a message defin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ing the WSDL’s target namespac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.xmlns=“…/wsdl/…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hereas messages use schema namespa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.xlmns=“…/types/…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03600" y="3848040"/>
            <a:ext cx="1098720" cy="2486160"/>
          </a:xfrm>
          <a:custGeom>
            <a:avLst/>
            <a:gdLst/>
            <a:ahLst/>
            <a:rect l="l" t="t" r="r" b="b"/>
            <a:pathLst>
              <a:path w="692" h="1566">
                <a:moveTo>
                  <a:pt x="0" y="0"/>
                </a:moveTo>
                <a:lnTo>
                  <a:pt x="692" y="74"/>
                </a:lnTo>
                <a:lnTo>
                  <a:pt x="691" y="1540"/>
                </a:lnTo>
                <a:lnTo>
                  <a:pt x="569" y="1566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78560" y="1771560"/>
            <a:ext cx="30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vide a Port/OP.  names, to be referenced by Binding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208400" y="1974960"/>
            <a:ext cx="1419120" cy="16992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8000" y="1986120"/>
            <a:ext cx="0" cy="33019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08000" y="21528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41200" y="2155680"/>
            <a:ext cx="0" cy="3124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2960" y="2495520"/>
            <a:ext cx="0" cy="2368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50920" y="24955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4120" y="28288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4120" y="34956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4120" y="4143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0920" y="516240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300560" y="2021040"/>
            <a:ext cx="1373040" cy="42840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FE9E0-6910-4392-9D65-1303FF9DA4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icit -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883152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essage from service provider to consumer; reply from consumer to provider; possible fault mess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02960" y="5589720"/>
            <a:ext cx="30747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Default message name –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operation + solicit/respons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5000" y="2746440"/>
            <a:ext cx="8161200" cy="26316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Overdue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verdueSolici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Overdue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verdue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=“w:Overdue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Threat” message=“w:ErrorThrea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3143F-B354-4D68-9A1B-C7D9189B51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gle Mess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68120" y="930240"/>
            <a:ext cx="8831520" cy="24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otify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from service provider to consumer, with no repl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xample – “Invoic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nd an invo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ne-way -  Request with no repl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from service consumer to provider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xample – “payment advic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mpany gets notification from customer that a payment has been ma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25360" y="3713040"/>
            <a:ext cx="7243920" cy="2300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portType name=“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Inv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v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InvOut”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w:PayAdv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yAdv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w:PayAdvIn”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97440" y="6134040"/>
            <a:ext cx="4927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Default message name – operation name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10440" y="4541760"/>
            <a:ext cx="299880" cy="449280"/>
          </a:xfrm>
          <a:custGeom>
            <a:avLst/>
            <a:gdLst>
              <a:gd name="textAreaLeft" fmla="*/ 0 w 299880"/>
              <a:gd name="textAreaRight" fmla="*/ 108360 w 299880"/>
              <a:gd name="textAreaTop" fmla="*/ 11520 h 449280"/>
              <a:gd name="textAreaBottom" fmla="*/ 43776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92480" y="1768320"/>
            <a:ext cx="5802120" cy="3013200"/>
          </a:xfrm>
          <a:custGeom>
            <a:avLst/>
            <a:gdLst/>
            <a:ahLst/>
            <a:rect l="l" t="t" r="r" b="b"/>
            <a:pathLst>
              <a:path w="3655" h="1898">
                <a:moveTo>
                  <a:pt x="2758" y="1898"/>
                </a:moveTo>
                <a:lnTo>
                  <a:pt x="3655" y="1873"/>
                </a:lnTo>
                <a:lnTo>
                  <a:pt x="3655" y="2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88320" y="5095800"/>
            <a:ext cx="330120" cy="569880"/>
          </a:xfrm>
          <a:custGeom>
            <a:avLst/>
            <a:gdLst>
              <a:gd name="textAreaLeft" fmla="*/ 0 w 330120"/>
              <a:gd name="textAreaRight" fmla="*/ 119160 w 330120"/>
              <a:gd name="textAreaTop" fmla="*/ 14760 h 569880"/>
              <a:gd name="textAreaBottom" fmla="*/ 55512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55600" y="3014640"/>
            <a:ext cx="606240" cy="2382840"/>
          </a:xfrm>
          <a:custGeom>
            <a:avLst/>
            <a:gdLst/>
            <a:ahLst/>
            <a:rect l="l" t="t" r="r" b="b"/>
            <a:pathLst>
              <a:path w="1274" h="2200">
                <a:moveTo>
                  <a:pt x="340" y="2200"/>
                </a:moveTo>
                <a:lnTo>
                  <a:pt x="1237" y="2172"/>
                </a:lnTo>
                <a:lnTo>
                  <a:pt x="1274" y="0"/>
                </a:lnTo>
                <a:lnTo>
                  <a:pt x="0" y="38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CAB8C-D39B-4685-85EB-1EE48D80C6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8" dur="indefinite" restart="never" nodeType="tmRoot">
          <p:childTnLst>
            <p:seq>
              <p:cTn id="1929" dur="indefinite" nodeType="mainSeq">
                <p:childTnLst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05560" y="4346640"/>
            <a:ext cx="2638440" cy="328680"/>
          </a:xfrm>
          <a:prstGeom prst="leftArrow">
            <a:avLst>
              <a:gd name="adj1" fmla="val 50000"/>
              <a:gd name="adj2" fmla="val 20068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29685-9215-4DF1-BA09-B7408D792B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” what it i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m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riginally – Simple Object Access Protoco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emporarily – Service Oriented Architecture Protocol ?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w (SOAP 1.2) – Not an acrony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urpos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 extensible protocol to enable the exchange of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ructured and typed information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etween peers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 a decentralised, distributed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at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1.2 – </a:t>
            </a: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www.w3.org/TR/soap12-part0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3C recommendation, June 2003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8f"/>
                </a:solidFill>
                <a:latin typeface="Arial"/>
              </a:rPr>
              <a:t>SOAP 1.1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lang="en-US" sz="2100" spc="-1" strike="noStrike" u="sng">
                <a:solidFill>
                  <a:srgbClr val="ac3b8b"/>
                </a:solidFill>
                <a:uFillTx/>
                <a:latin typeface="Arial"/>
                <a:hlinkClick r:id="rId2"/>
              </a:rPr>
              <a:t>http://www.w3.org/TR/NOTE-SOAP-20000508</a:t>
            </a:r>
            <a:r>
              <a:rPr b="0" lang="en-US" sz="2100" spc="-1" strike="noStrike" u="sng">
                <a:solidFill>
                  <a:srgbClr val="00338f"/>
                </a:solidFill>
                <a:uFillTx/>
                <a:latin typeface="Arial"/>
              </a:rPr>
              <a:t>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W3C submission May 2000 – but that’s what people use currentl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5F1C5-796B-4F47-9B34-4F0574545A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NDING - Gene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45600" y="851040"/>
            <a:ext cx="858996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A Binding defin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particular PortType – named as its “typ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Particular message format and communication protocol detail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By extensibility po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standard extension is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 binding name, for use in service defini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176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2400" y="5419800"/>
            <a:ext cx="4173480" cy="10443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eral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2400" y="5427720"/>
            <a:ext cx="208728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5116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71312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HT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42240" y="4713120"/>
            <a:ext cx="2087640" cy="3258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Binding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..SMTP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824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36960" y="5408640"/>
            <a:ext cx="4173840" cy="10555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25560" bIns="25560"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CustomerServi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369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Verdana"/>
              </a:rPr>
              <a:t>www. …/W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923160" y="5427720"/>
            <a:ext cx="2087640" cy="657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WS-EM@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0796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03176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4164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32400" y="505296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423200" y="50529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57280" y="43480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45480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170840" y="434808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2240" y="3367080"/>
            <a:ext cx="232884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Gener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GenInfo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OpenAcc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303960" y="3355920"/>
            <a:ext cx="2617920" cy="988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b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PortType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Custom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O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 PurchOrder </a:t>
            </a:r>
            <a:r>
              <a:rPr b="0" lang="en-US" sz="1800" spc="-1" strike="noStrike">
                <a:solidFill>
                  <a:srgbClr val="2b0000"/>
                </a:solidFill>
                <a:latin typeface="Wingdings"/>
                <a:ea typeface="Wingdings"/>
              </a:rPr>
              <a:t>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  …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933640" y="3997440"/>
            <a:ext cx="293544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Messages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POin…Error1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06760" y="3225960"/>
            <a:ext cx="1430280" cy="325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Type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400000">
            <a:off x="2651760" y="401400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rot="16200000">
            <a:off x="6050880" y="4004280"/>
            <a:ext cx="106560" cy="368280"/>
          </a:xfrm>
          <a:prstGeom prst="upArrow">
            <a:avLst>
              <a:gd name="adj1" fmla="val 50000"/>
              <a:gd name="adj2" fmla="val 86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051440" y="3614760"/>
            <a:ext cx="106200" cy="368280"/>
          </a:xfrm>
          <a:prstGeom prst="upArrow">
            <a:avLst>
              <a:gd name="adj1" fmla="val 50000"/>
              <a:gd name="adj2" fmla="val 866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" rIns="25200" tIns="25200" bIns="252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BF7A8-B5A1-4649-A19E-F2570952F3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e of Binding El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280" y="1071720"/>
            <a:ext cx="3990600" cy="5284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port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Request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PurchOrderResponse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Error1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=“w:Error1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 Other faul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…&gt; &lt;/&gt; …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969440" y="1425600"/>
            <a:ext cx="4002480" cy="4952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=“Error1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ault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…&gt; ….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208400" y="906120"/>
            <a:ext cx="39052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Binding follows structure of Port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00080" y="1398600"/>
            <a:ext cx="3824280" cy="530280"/>
          </a:xfrm>
          <a:custGeom>
            <a:avLst/>
            <a:gdLst/>
            <a:ahLst/>
            <a:rect l="l" t="t" r="r" b="b"/>
            <a:pathLst>
              <a:path w="2409" h="334">
                <a:moveTo>
                  <a:pt x="2409" y="334"/>
                </a:moveTo>
                <a:lnTo>
                  <a:pt x="1568" y="1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76480" y="2093760"/>
            <a:ext cx="2965320" cy="473400"/>
          </a:xfrm>
          <a:custGeom>
            <a:avLst/>
            <a:gdLst/>
            <a:ahLst/>
            <a:rect l="l" t="t" r="r" b="b"/>
            <a:pathLst>
              <a:path w="1868" h="298">
                <a:moveTo>
                  <a:pt x="1868" y="298"/>
                </a:moveTo>
                <a:lnTo>
                  <a:pt x="1429" y="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01800" y="2698920"/>
            <a:ext cx="3522600" cy="46512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12960" y="3722760"/>
            <a:ext cx="3551040" cy="15696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812960" y="4575960"/>
            <a:ext cx="3513240" cy="17316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571840" y="5258520"/>
            <a:ext cx="3198600" cy="29700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755880" y="5917320"/>
            <a:ext cx="1309680" cy="297000"/>
          </a:xfrm>
          <a:custGeom>
            <a:avLst/>
            <a:gdLst/>
            <a:ahLst/>
            <a:rect l="l" t="t" r="r" b="b"/>
            <a:pathLst>
              <a:path w="2111" h="362">
                <a:moveTo>
                  <a:pt x="2111" y="362"/>
                </a:moveTo>
                <a:lnTo>
                  <a:pt x="1602" y="0"/>
                </a:lnTo>
                <a:lnTo>
                  <a:pt x="0" y="1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99240" y="4183200"/>
            <a:ext cx="9550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Multiple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faults so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eed 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ame -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o 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079880" y="14590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08240" y="185904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5faf"/>
                </a:solidFill>
                <a:latin typeface="Verdana"/>
              </a:rPr>
              <a:t>no prefix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8000" y="1081080"/>
            <a:ext cx="0" cy="527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4480" y="12286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9080" y="1241280"/>
            <a:ext cx="0" cy="50482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9560" y="1924200"/>
            <a:ext cx="0" cy="3654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95200" y="19051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7840" y="25621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47840" y="35434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47840" y="45435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5200" y="61912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13A7B-A43F-4164-B66A-37368AFCAB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ocol Specific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8600" y="2165400"/>
            <a:ext cx="6127560" cy="4289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 typ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in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some binding info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utput&gt;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fault name=“Error1”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inding info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aults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Inv”&gt; ….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ther operations …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64480" y="14860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To be referenced by port def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836800" y="1893960"/>
            <a:ext cx="1800" cy="320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319640" y="145584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ef’s PortTyp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809600" y="1833480"/>
            <a:ext cx="274680" cy="408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225760" y="1368360"/>
            <a:ext cx="3739320" cy="1351080"/>
            <a:chOff x="5225760" y="1368360"/>
            <a:chExt cx="3739320" cy="1351080"/>
          </a:xfrm>
        </p:grpSpPr>
        <p:sp>
          <p:nvSpPr>
            <p:cNvPr id="681" name=""/>
            <p:cNvSpPr/>
            <p:nvPr/>
          </p:nvSpPr>
          <p:spPr>
            <a:xfrm flipH="1">
              <a:off x="5225760" y="2262240"/>
              <a:ext cx="128916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587640" y="1368360"/>
              <a:ext cx="2377440" cy="97380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Protocol-specific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information applying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to all operations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5275440" y="2705040"/>
            <a:ext cx="3689640" cy="1305360"/>
            <a:chOff x="5275440" y="2705040"/>
            <a:chExt cx="3689640" cy="1305360"/>
          </a:xfrm>
        </p:grpSpPr>
        <p:sp>
          <p:nvSpPr>
            <p:cNvPr id="684" name=""/>
            <p:cNvSpPr/>
            <p:nvPr/>
          </p:nvSpPr>
          <p:spPr>
            <a:xfrm>
              <a:off x="6587640" y="2705040"/>
              <a:ext cx="2377440" cy="130536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Protocol-specific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information applying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to both input and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output messag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275440" y="3292560"/>
              <a:ext cx="1271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116320" y="3760560"/>
            <a:ext cx="3956400" cy="2179440"/>
            <a:chOff x="5116320" y="3760560"/>
            <a:chExt cx="3956400" cy="2179440"/>
          </a:xfrm>
        </p:grpSpPr>
        <p:sp>
          <p:nvSpPr>
            <p:cNvPr id="687" name=""/>
            <p:cNvSpPr/>
            <p:nvPr/>
          </p:nvSpPr>
          <p:spPr>
            <a:xfrm>
              <a:off x="6578640" y="4200480"/>
              <a:ext cx="2494080" cy="173952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18000" tIns="18000" bIns="180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1. Protocol specific information applying to particular message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25faf"/>
                  </a:solidFill>
                  <a:latin typeface="Verdana"/>
                </a:rPr>
                <a:t>2. How message parts map into protocol and data formats 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5327640" y="3760560"/>
              <a:ext cx="1208160" cy="601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5206680" y="4088880"/>
              <a:ext cx="1298520" cy="360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116320" y="4540320"/>
              <a:ext cx="1401480" cy="442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154080" y="863640"/>
            <a:ext cx="89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Binding definition is framework for extension points – a bit intangibl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8000" y="2147760"/>
            <a:ext cx="0" cy="43214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4480" y="23241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0920" y="2338560"/>
            <a:ext cx="0" cy="3921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7680" y="3000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200" y="3014640"/>
            <a:ext cx="0" cy="19303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9680" y="364824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9680" y="399096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09680" y="429588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7680" y="5629320"/>
            <a:ext cx="26820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182BB-E079-4F36-829D-4712E21E37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0" dur="indefinite" restart="never" nodeType="tmRoot">
          <p:childTnLst>
            <p:seq>
              <p:cTn id="2131" dur="indefinite" nodeType="mainSeq">
                <p:childTnLst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DEFIN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45600" y="789120"/>
            <a:ext cx="85899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have multiple services in one WSDL definition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ach Service can have multiple ports, each bound to a bind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For WSDL 2.0 – all ports of a service must have the same portTyp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23360" indent="-16272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have different portTypes in WSDL 1.1 –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233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onsumer may need all functionalities for the service to be useful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wo ports having the same portType means same semantic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95480" indent="-195480">
              <a:spcBef>
                <a:spcPts val="2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Gives the location, a URL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23360" indent="-162720">
              <a:spcBef>
                <a:spcPts val="2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s a SOAP extension of WSDL, not WSDL co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195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2920" y="4848120"/>
            <a:ext cx="8861400" cy="16369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service name=“CustomerService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 name=“CustWebSP” binding=“w:CustWebB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oa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ddress location= “http://www.ex.org/W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port name=“CustEmailSP” binding=“w:CustEmailB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soap: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address location=“mailto:WS-EM@www.ex.org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6160" y="3413160"/>
            <a:ext cx="871524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EmailB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 “w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stomerP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…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binding name=“CustWebB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= “w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stomerP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… 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52720" y="4259160"/>
            <a:ext cx="3057840" cy="1123920"/>
          </a:xfrm>
          <a:custGeom>
            <a:avLst/>
            <a:gdLst/>
            <a:ahLst/>
            <a:rect l="l" t="t" r="r" b="b"/>
            <a:pathLst>
              <a:path w="1926" h="708">
                <a:moveTo>
                  <a:pt x="1709" y="704"/>
                </a:moveTo>
                <a:lnTo>
                  <a:pt x="1926" y="708"/>
                </a:lnTo>
                <a:lnTo>
                  <a:pt x="1926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033800" y="3584520"/>
            <a:ext cx="4630680" cy="2443320"/>
          </a:xfrm>
          <a:custGeom>
            <a:avLst/>
            <a:gdLst/>
            <a:ahLst/>
            <a:rect l="l" t="t" r="r" b="b"/>
            <a:pathLst>
              <a:path w="2917" h="1539">
                <a:moveTo>
                  <a:pt x="1840" y="1539"/>
                </a:moveTo>
                <a:lnTo>
                  <a:pt x="2917" y="1501"/>
                </a:lnTo>
                <a:lnTo>
                  <a:pt x="2917" y="10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02216-CA0B-4192-A88E-C152424088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STANDARD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To be able to understand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WSDL definition for a standard SOAP bind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 soap mess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OAP Messag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neral Structure of WSD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Abstract Service Defini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tails of Physical Service Definition - Co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hysical Service Definition - Extens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997600" y="4724280"/>
            <a:ext cx="3146400" cy="328680"/>
          </a:xfrm>
          <a:prstGeom prst="leftArrow">
            <a:avLst>
              <a:gd name="adj1" fmla="val 50000"/>
              <a:gd name="adj2" fmla="val 23932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1C055-492A-45E5-BEAB-208EE77F3E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NDING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here are a number of defined bindings to be used in the extension poi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SOAP – identifying the SOAP 1.1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ver 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HTTP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ver SMTP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RPC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Docume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Litera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Encoded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OAP over HTTP is most commonly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ll we will deal with her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40672-EBF8-467F-B032-588E4F74DA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640" y="903240"/>
            <a:ext cx="6101280" cy="1968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… 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292560" y="3220920"/>
            <a:ext cx="2816280" cy="21862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tyle=…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- Default for all operations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= “rpc” – body is parameters/retur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= “document” – body is one document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default = “document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254640" y="3156120"/>
            <a:ext cx="283536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Transport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 to identify some protoco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3000" y="3298680"/>
            <a:ext cx="2793960" cy="16995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oap:binding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element mean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sing SOAP standards. Message structure i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envelop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header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&lt;soap:body&gt;…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315120" y="1149480"/>
            <a:ext cx="2793960" cy="81720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places an ANY extension point in general defini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1287360"/>
            <a:ext cx="171720" cy="614520"/>
          </a:xfrm>
          <a:custGeom>
            <a:avLst/>
            <a:gdLst>
              <a:gd name="textAreaLeft" fmla="*/ 0 w 171720"/>
              <a:gd name="textAreaRight" fmla="*/ 61920 w 17172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87520" y="1563840"/>
            <a:ext cx="138744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41720" y="1563840"/>
            <a:ext cx="15714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915840" y="1922400"/>
            <a:ext cx="48690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4760" y="925560"/>
            <a:ext cx="0" cy="1958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20680" y="1116000"/>
            <a:ext cx="0" cy="1589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39760" y="144144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9760" y="207792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9760" y="240660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6AE9D-3362-4AD5-BB0C-D8ACCF7D65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6" dur="indefinite" restart="never" nodeType="tmRoot">
          <p:childTnLst>
            <p:seq>
              <p:cTn id="2197" dur="indefinite" nodeType="mainSeq">
                <p:childTnLst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2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35800" y="4105440"/>
            <a:ext cx="2895480" cy="5230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tyle 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ver-rides port-level sty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6000" y="4076640"/>
            <a:ext cx="5172120" cy="12531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soapAction =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, the value for the HTTP header “SOAPac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Mandatory for SOAP/HTTP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r “document” style gives the oper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For JAX-RPC – empty, “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920" y="903240"/>
            <a:ext cx="6037200" cy="29631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operation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oapAction=“http://ex.org/PO”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tyle=“rpc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input&gt; … &lt;/&gt; …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&lt;/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87960" y="2243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15120" y="1533600"/>
            <a:ext cx="2793960" cy="81720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ERATION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Replaces an ANY extension point in general defini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305000" y="2868480"/>
            <a:ext cx="29592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334200" y="11494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8200" y="1287360"/>
            <a:ext cx="192240" cy="614520"/>
          </a:xfrm>
          <a:custGeom>
            <a:avLst/>
            <a:gdLst>
              <a:gd name="textAreaLeft" fmla="*/ 0 w 192240"/>
              <a:gd name="textAreaRight" fmla="*/ 69480 w 19224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65360" y="3197160"/>
            <a:ext cx="125388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4760" y="925560"/>
            <a:ext cx="0" cy="2933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20680" y="1116000"/>
            <a:ext cx="0" cy="26668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0040" y="144144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0040" y="207792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0680" y="37227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65040" y="2071800"/>
            <a:ext cx="0" cy="1465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74760" y="239868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7960" y="2411280"/>
            <a:ext cx="0" cy="1095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00040" y="34164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CAFCC-93CD-4BA4-A79F-787617D099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0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ap Binding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280" y="903240"/>
            <a:ext cx="6101280" cy="4289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binding name=“CustWebB” type=“w:CustomerP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inding   style=“document”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transport=“http://schemas.xmlsoap.org/soap/http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PurchOrder”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operation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oapAction=“http://ex.org/PO”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tyle=“rpc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input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ody use=“encoded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codingStyle="http://.../encoding/"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amespace=“http://ex.org/wsdl/Cust" 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   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wsdl:operation name=“…”&gt;…&lt;/&gt; ….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087960" y="2243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15120" y="153360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PERATION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34200" y="11494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PORT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108840" y="1287360"/>
            <a:ext cx="201600" cy="614520"/>
          </a:xfrm>
          <a:custGeom>
            <a:avLst/>
            <a:gdLst>
              <a:gd name="textAreaLeft" fmla="*/ 0 w 201600"/>
              <a:gd name="textAreaRight" fmla="*/ 72720 w 201600"/>
              <a:gd name="textAreaTop" fmla="*/ 15840 h 614520"/>
              <a:gd name="textAreaBottom" fmla="*/ 598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299280" y="1839960"/>
            <a:ext cx="0" cy="566640"/>
          </a:xfrm>
          <a:prstGeom prst="line">
            <a:avLst/>
          </a:prstGeom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15120" y="2519280"/>
            <a:ext cx="2793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MESSAGE LEV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87960" y="3548160"/>
            <a:ext cx="222480" cy="973080"/>
          </a:xfrm>
          <a:custGeom>
            <a:avLst/>
            <a:gdLst>
              <a:gd name="textAreaLeft" fmla="*/ 0 w 222480"/>
              <a:gd name="textAreaRight" fmla="*/ 80280 w 222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299280" y="2806560"/>
            <a:ext cx="0" cy="906480"/>
          </a:xfrm>
          <a:prstGeom prst="line">
            <a:avLst/>
          </a:prstGeom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414520" y="3855960"/>
            <a:ext cx="143820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71440" y="4195800"/>
            <a:ext cx="341172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71440" y="4524480"/>
            <a:ext cx="3884760" cy="0"/>
          </a:xfrm>
          <a:prstGeom prst="line">
            <a:avLst/>
          </a:prstGeom>
          <a:ln w="381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302520" y="4216320"/>
            <a:ext cx="2833560" cy="22773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Use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= “Encoded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: each message part references a type – an abstract type encoded using the scheme(s) identified by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encodingStyl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Use = “literal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: each message part ref’s a type or element which gives the concrete forma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343560" y="2905200"/>
            <a:ext cx="2793960" cy="119088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amespace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he namespace to be used for validating the outermost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6320" y="5654520"/>
            <a:ext cx="5814720" cy="57384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encodingStyle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0000"/>
                </a:solidFill>
                <a:latin typeface="Arial"/>
              </a:rPr>
              <a:t>= “..”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 a URI list to identify encoding scheme(s)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Soap-encoding is http://schemas.xmlsoap.org/soap/encodin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04760" y="925560"/>
            <a:ext cx="0" cy="42796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7360" y="1092240"/>
            <a:ext cx="25884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0680" y="1116000"/>
            <a:ext cx="0" cy="3992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0040" y="14130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0040" y="207792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0680" y="50277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65040" y="2071800"/>
            <a:ext cx="0" cy="2717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4760" y="2398680"/>
            <a:ext cx="288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57120" y="341640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1480" y="3417840"/>
            <a:ext cx="0" cy="3240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1480" y="3735360"/>
            <a:ext cx="2890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4C2B6-58BA-4977-8F29-CA829BF970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9" dur="indefinite" restart="never" nodeType="tmRoot">
          <p:childTnLst>
            <p:seq>
              <p:cTn id="2270" dur="indefinite" nodeType="mainSeq">
                <p:childTnLst>
                  <p:par>
                    <p:cTn id="2271" fill="hold">
                      <p:stCondLst>
                        <p:cond delay="0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6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0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PC vs Doc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45600" y="3749760"/>
            <a:ext cx="8589960" cy="29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RPC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Hint that this is best dealt with as a procedure call (/return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Message parts are parameters which are wrapped as one component of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As in the SOAP RPC standar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is is a document to be processed – message parts are directly in 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Wrapped convention – single message part – looks like RPC styl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002400" y="1074600"/>
            <a:ext cx="5215680" cy="2848320"/>
            <a:chOff x="3002400" y="1074600"/>
            <a:chExt cx="5215680" cy="2848320"/>
          </a:xfrm>
        </p:grpSpPr>
        <p:grpSp>
          <p:nvGrpSpPr>
            <p:cNvPr id="778" name=""/>
            <p:cNvGrpSpPr/>
            <p:nvPr/>
          </p:nvGrpSpPr>
          <p:grpSpPr>
            <a:xfrm>
              <a:off x="3009960" y="2963520"/>
              <a:ext cx="740880" cy="959400"/>
              <a:chOff x="3009960" y="2963520"/>
              <a:chExt cx="740880" cy="95940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3009960" y="2963520"/>
                <a:ext cx="740880" cy="897840"/>
                <a:chOff x="3009960" y="2963520"/>
                <a:chExt cx="740880" cy="8978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300996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00996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>
                <a:off x="304740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1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3943080" y="2963520"/>
              <a:ext cx="741240" cy="959400"/>
              <a:chOff x="3943080" y="2963520"/>
              <a:chExt cx="741240" cy="95940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3943080" y="2963520"/>
                <a:ext cx="741240" cy="897840"/>
                <a:chOff x="3943080" y="2963520"/>
                <a:chExt cx="741240" cy="8978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943080" y="2963520"/>
                  <a:ext cx="74124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94308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>
                <a:off x="398052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3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543720" y="2963520"/>
              <a:ext cx="740880" cy="959400"/>
              <a:chOff x="6543720" y="2963520"/>
              <a:chExt cx="740880" cy="959400"/>
            </a:xfrm>
          </p:grpSpPr>
          <p:grpSp>
            <p:nvGrpSpPr>
              <p:cNvPr id="789" name=""/>
              <p:cNvGrpSpPr/>
              <p:nvPr/>
            </p:nvGrpSpPr>
            <p:grpSpPr>
              <a:xfrm>
                <a:off x="6543720" y="2963520"/>
                <a:ext cx="740880" cy="897840"/>
                <a:chOff x="6543720" y="2963520"/>
                <a:chExt cx="740880" cy="89784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654372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54372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>
                <a:off x="658116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2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477200" y="2963520"/>
              <a:ext cx="740880" cy="959400"/>
              <a:chOff x="7477200" y="2963520"/>
              <a:chExt cx="740880" cy="95940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7477200" y="2963520"/>
                <a:ext cx="740880" cy="897840"/>
                <a:chOff x="7477200" y="2963520"/>
                <a:chExt cx="740880" cy="89784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7477200" y="2963520"/>
                  <a:ext cx="74088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47720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"/>
              <p:cNvSpPr/>
              <p:nvPr/>
            </p:nvSpPr>
            <p:spPr>
              <a:xfrm>
                <a:off x="751464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3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686200" y="2963520"/>
              <a:ext cx="741240" cy="959400"/>
              <a:chOff x="5686200" y="2963520"/>
              <a:chExt cx="741240" cy="95940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5686200" y="2963520"/>
                <a:ext cx="741240" cy="897840"/>
                <a:chOff x="5686200" y="2963520"/>
                <a:chExt cx="741240" cy="89784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686200" y="2963520"/>
                  <a:ext cx="741240" cy="695160"/>
                </a:xfrm>
                <a:prstGeom prst="cloudCallout">
                  <a:avLst>
                    <a:gd name="adj1" fmla="val -43736"/>
                    <a:gd name="adj2" fmla="val 7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51"/>
                    </a:spcBef>
                    <a:buClr>
                      <a:srgbClr val="ffcc66"/>
                    </a:buClr>
                    <a:buFont typeface="Verdan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686200" y="3609360"/>
                  <a:ext cx="2023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5723640" y="2997360"/>
                <a:ext cx="63648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4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inst. </a:t>
                </a: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3002400" y="1074600"/>
              <a:ext cx="3512160" cy="36828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.P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↓p1::t1, ↑p2::t2, ↕p3::t3):: t4</a:t>
              </a: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54520" y="2462040"/>
              <a:ext cx="8856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47472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9815000">
              <a:off x="3475080" y="244836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785000">
              <a:off x="4116960" y="247248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894120" y="2057040"/>
              <a:ext cx="1440" cy="40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641760" y="2068200"/>
              <a:ext cx="17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1136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4340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4225320" y="1533240"/>
              <a:ext cx="92412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51680" y="155844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invocation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992560" y="15584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response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62160" y="2555640"/>
              <a:ext cx="37656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99080" y="246204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01964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9815000">
              <a:off x="7118640" y="266328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rot="2603400">
              <a:off x="7534080" y="2704320"/>
              <a:ext cx="262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439040" y="2057040"/>
              <a:ext cx="1440" cy="40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5628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8832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07080" y="2555640"/>
              <a:ext cx="376200" cy="31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6191280" y="2496960"/>
              <a:ext cx="117936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9120" y="2879280"/>
              <a:ext cx="88920" cy="8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20478600">
              <a:off x="6248520" y="2489040"/>
              <a:ext cx="791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ed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240" y="1558440"/>
              <a:ext cx="1035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RPC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25faf"/>
                  </a:solidFill>
                  <a:latin typeface="Verdana"/>
                </a:rPr>
                <a:t>mapping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41760" y="1533240"/>
              <a:ext cx="92412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41E5C-5181-4B41-B1F5-70D28CC4CB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3" dur="indefinite" restart="never" nodeType="tmRoot">
          <p:childTnLst>
            <p:seq>
              <p:cTn id="2324" dur="indefinite" nodeType="mainSeq">
                <p:childTnLst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Architectural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XML ba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igher order Protocol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Built on some underlying protocol - bindin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xtensibility – can define binding for any underlying protoco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Usually HTTP – a specific standard extension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ngle Message Protoco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fines standard for a single message communic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ulti-message conversations require a means to associate one message with another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a underlying protocol (e.g. use of same connectio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a the application (specific message-id information as part of the soap messag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ulti-stage message processing –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soap Processing mod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16B2E-F56F-4ED7-AA9D-6D91FF3474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PC vs Docume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7040" y="1066680"/>
            <a:ext cx="399600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prelude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POentries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3920" y="2492280"/>
            <a:ext cx="8262720" cy="9738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operation name=“PurchOrder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quest”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message=“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Oin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sdl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rchOrderRespons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459320" y="1066680"/>
            <a:ext cx="4486320" cy="1305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l:message name=“POout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Result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art name=delivSched  type=…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9000" y="3733920"/>
            <a:ext cx="3108240" cy="1305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urchOrderRequest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relude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Oentries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44440" y="5405400"/>
            <a:ext cx="3024360" cy="97380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relude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Oentries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52960" y="3733920"/>
            <a:ext cx="3257640" cy="1305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PurchOrderResponse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Result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delivSched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341520" y="4302000"/>
            <a:ext cx="597240" cy="131760"/>
          </a:xfrm>
          <a:prstGeom prst="rightArrow">
            <a:avLst>
              <a:gd name="adj1" fmla="val 50000"/>
              <a:gd name="adj2" fmla="val 11332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311640" y="5710320"/>
            <a:ext cx="627120" cy="100080"/>
          </a:xfrm>
          <a:prstGeom prst="rightArrow">
            <a:avLst>
              <a:gd name="adj1" fmla="val 50000"/>
              <a:gd name="adj2" fmla="val 1566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52960" y="5421240"/>
            <a:ext cx="3268440" cy="97380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nv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Result&gt; …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delivSched&gt; …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4081320" y="1523520"/>
            <a:ext cx="2113200" cy="1328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129080" y="2393640"/>
            <a:ext cx="103320" cy="83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5680" y="3591000"/>
            <a:ext cx="8991720" cy="15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08000" y="5346720"/>
            <a:ext cx="8969400" cy="112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746120" y="3666960"/>
            <a:ext cx="1250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PC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ctua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38560" y="5400720"/>
            <a:ext cx="1305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Docu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Actua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AC14D-0A1E-472D-B8E1-79DDC51D5B9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3" dur="indefinite" restart="never" nodeType="tmRoot">
          <p:childTnLst>
            <p:seq>
              <p:cTn id="2334" dur="indefinite" nodeType="mainSeq">
                <p:childTnLst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SDL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abstract structure of service interac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cluding  logical content of messages exchang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binding – how the messages are carried and represent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ndard binding is for SOAP over HTTP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essage is an XML document, with a particular structu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Using particular types 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efines Service as a number of ports, each being address and bind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te where you can obtain WSDL definitions of services and  see what SOAPmessages are produced -http://xmethods.com/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66171-1FE9-4E14-B37D-62260302089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8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8f"/>
                </a:solidFill>
                <a:latin typeface="Arial"/>
              </a:rPr>
              <a:t>THE END</a:t>
            </a:r>
            <a:endParaRPr b="0" i="1" lang="en-US" sz="6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4B9EF-D44A-4D92-800D-6AD23ED7F4A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49960" y="1843200"/>
            <a:ext cx="3382920" cy="436716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4520" y="2313000"/>
            <a:ext cx="2895840" cy="182556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AP Header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219320"/>
            <a:ext cx="483876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ach SOAP message will have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uter layer(s) for underlying protocol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nly consider HTTP</a:t>
            </a:r>
            <a:endParaRPr b="0" lang="en-US" sz="17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nvelope (XML root element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ultiple header blocks/entri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different purposes – factoris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different processing stag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8f"/>
                </a:solidFill>
                <a:latin typeface="Arial"/>
              </a:rPr>
              <a:t>Actor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ody (mandatory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 payloa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Zero or more XML ele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May be  a Fault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pecific fault reporting standar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97320" y="1092240"/>
            <a:ext cx="3657600" cy="536724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4520" y="4235400"/>
            <a:ext cx="2895840" cy="186552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24480" y="188280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ENVELOP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59440" y="4707000"/>
            <a:ext cx="230508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Body Entr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73640" y="1473120"/>
            <a:ext cx="3505320" cy="48751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22800" y="2797200"/>
            <a:ext cx="2170440" cy="37944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2960" y="10526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ransport protoco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2600" y="15098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 hea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32520" y="3352680"/>
            <a:ext cx="2170080" cy="37944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0240" y="3675240"/>
            <a:ext cx="5745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80240" y="5638680"/>
            <a:ext cx="5745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59440" y="5232240"/>
            <a:ext cx="230508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Body Entr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A6AAD-CC5A-486F-A63D-751E8C95B2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indefinite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Message Represent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440" y="857160"/>
            <a:ext cx="4688640" cy="56732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468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. HTTP  …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?xml version=“1.0”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Envelope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mlns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…xmlsoap.org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lmns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=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ex.org/soap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xlmns: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=“http://ex.org/customer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Header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uthentic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v:actor=“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...ex.org…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username&gt;Fred&lt;/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assword&gt;yhjik154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uthorisation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env:actor=“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…ex.org…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accountNumber&gt;17-365-37a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Bod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:PurchaseOrder&gt; …. 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200" y="1755720"/>
            <a:ext cx="0" cy="4299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200" y="30402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4640" y="3059280"/>
            <a:ext cx="0" cy="16570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4640" y="337500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0560" y="3394080"/>
            <a:ext cx="0" cy="96048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640" y="4724280"/>
            <a:ext cx="0" cy="662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03280" y="4081320"/>
            <a:ext cx="2649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840" y="173844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04720" y="4370400"/>
            <a:ext cx="2635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4640" y="471492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03280" y="5375160"/>
            <a:ext cx="2649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200" y="604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4640" y="6064200"/>
            <a:ext cx="0" cy="3081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4640" y="6370560"/>
            <a:ext cx="216000" cy="324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8200" y="876240"/>
            <a:ext cx="407196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Outer protocol – HTTP headers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61160" y="1292400"/>
            <a:ext cx="33724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 message is an XML documen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61160" y="1708200"/>
            <a:ext cx="33616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XML root element is SOAP envelop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63320" y="2106720"/>
            <a:ext cx="410688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schemas.xmlsoap.org/soap/envelope/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dentifies SOAP namespac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and the SOAP version being us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0720" y="3208320"/>
            <a:ext cx="294732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Identify application namespace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49600" y="1015920"/>
            <a:ext cx="22161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3280" y="1405080"/>
            <a:ext cx="202248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030400" y="1747800"/>
            <a:ext cx="28353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822480" y="2098800"/>
            <a:ext cx="104292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84600" y="2382840"/>
            <a:ext cx="1201680" cy="863640"/>
          </a:xfrm>
          <a:custGeom>
            <a:avLst/>
            <a:gdLst/>
            <a:ahLst/>
            <a:rect l="l" t="t" r="r" b="b"/>
            <a:pathLst>
              <a:path w="757" h="544">
                <a:moveTo>
                  <a:pt x="757" y="544"/>
                </a:moveTo>
                <a:lnTo>
                  <a:pt x="628" y="250"/>
                </a:lnTo>
                <a:lnTo>
                  <a:pt x="512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2724120"/>
            <a:ext cx="674640" cy="587520"/>
          </a:xfrm>
          <a:custGeom>
            <a:avLst/>
            <a:gdLst/>
            <a:ahLst/>
            <a:rect l="l" t="t" r="r" b="b"/>
            <a:pathLst>
              <a:path w="757" h="544">
                <a:moveTo>
                  <a:pt x="757" y="544"/>
                </a:moveTo>
                <a:lnTo>
                  <a:pt x="628" y="250"/>
                </a:lnTo>
                <a:lnTo>
                  <a:pt x="512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4160" y="3641760"/>
            <a:ext cx="122652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Two headers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35640" y="2927520"/>
            <a:ext cx="336240" cy="2788920"/>
          </a:xfrm>
          <a:custGeom>
            <a:avLst/>
            <a:gdLst>
              <a:gd name="textAreaLeft" fmla="*/ 0 w 336240"/>
              <a:gd name="textAreaRight" fmla="*/ 121320 w 336240"/>
              <a:gd name="textAreaTop" fmla="*/ 72720 h 2788920"/>
              <a:gd name="textAreaBottom" fmla="*/ 271620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716"/>
                </a:lnTo>
                <a:cubicBezTo>
                  <a:pt x="10800" y="5616"/>
                  <a:pt x="16200" y="6516"/>
                  <a:pt x="21600" y="6516"/>
                </a:cubicBezTo>
                <a:cubicBezTo>
                  <a:pt x="16200" y="6516"/>
                  <a:pt x="10800" y="7416"/>
                  <a:pt x="10800" y="83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038480"/>
            <a:ext cx="3916440" cy="86796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URIs for application-specific actor names –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ex.org/actors/authentica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http://ex.org/actors/authorisation”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406680" y="3713040"/>
            <a:ext cx="1495440" cy="8049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33680" y="4799160"/>
            <a:ext cx="1486080" cy="2365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4160" y="5950080"/>
            <a:ext cx="956880" cy="279720"/>
          </a:xfrm>
          <a:prstGeom prst="rect">
            <a:avLst/>
          </a:prstGeom>
          <a:noFill/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8000" tIns="18000" bIns="180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The body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35640" y="5770440"/>
            <a:ext cx="336240" cy="679680"/>
          </a:xfrm>
          <a:custGeom>
            <a:avLst/>
            <a:gdLst>
              <a:gd name="textAreaLeft" fmla="*/ 0 w 336240"/>
              <a:gd name="textAreaRight" fmla="*/ 121320 w 336240"/>
              <a:gd name="textAreaTop" fmla="*/ 17640 h 679680"/>
              <a:gd name="textAreaBottom" fmla="*/ 662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49"/>
                </a:lnTo>
                <a:cubicBezTo>
                  <a:pt x="10800" y="10449"/>
                  <a:pt x="16200" y="11349"/>
                  <a:pt x="21600" y="11349"/>
                </a:cubicBezTo>
                <a:cubicBezTo>
                  <a:pt x="16200" y="11349"/>
                  <a:pt x="10800" y="12249"/>
                  <a:pt x="10800" y="1314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63F83-8C5A-4694-853B-F37281C36B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indefinite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indefinite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920" y="905040"/>
            <a:ext cx="8699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imple value in a SOAP message will have a type as in Schemas standard, which defines their lexical form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oap provides two compound type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363960" indent="-1400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:Struct – components are uniquely nam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363960" indent="-1400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e:Array – components are identified by posi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rray is of type SEnc:Array or some derivative thereo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Can specify shape and component type using attribute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SEnc:arrayType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167760" indent="-1677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7680" y="3906720"/>
            <a:ext cx="5578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 SEnc:arrayType=“xsd:integer [2,3] [2]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1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1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2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1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2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2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A2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11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112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1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221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&gt;122&lt;/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n&gt; &lt;n&gt;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223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n&gt;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9120" y="3322800"/>
            <a:ext cx="7407360" cy="36828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0000"/>
                </a:solidFill>
                <a:latin typeface="Arial"/>
              </a:rPr>
              <a:t>&lt;element name=“A” type=“SEnc:Array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23080" y="4460760"/>
            <a:ext cx="30384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[2] - An array of 2 elements -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[2,3] Each is a 2 x 3 array of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Xsd:integer –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tandard schema type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0960" y="32958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Schem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61160" y="39196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Messag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57720" y="4280040"/>
            <a:ext cx="2937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76760" y="4280040"/>
            <a:ext cx="2937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57440" y="4280040"/>
            <a:ext cx="1020960" cy="0"/>
          </a:xfrm>
          <a:prstGeom prst="line">
            <a:avLst/>
          </a:prstGeom>
          <a:ln w="25560">
            <a:solidFill>
              <a:srgbClr val="305b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3160" y="3916440"/>
            <a:ext cx="5041800" cy="257652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D94FE-58F6-4E9F-9B9F-6792F4C3D8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indefinite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indefinite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AP Fault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10960" y="1063440"/>
            <a:ext cx="563256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s reported in the body – single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Zero or more header entrie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or detail error information pertaining to original  header entrie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79960" y="1539720"/>
            <a:ext cx="2982960" cy="3454560"/>
          </a:xfrm>
          <a:prstGeom prst="rect">
            <a:avLst/>
          </a:prstGeom>
          <a:solidFill>
            <a:srgbClr val="f1af00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1943280"/>
            <a:ext cx="2554200" cy="182556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AP Header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45320" y="895320"/>
            <a:ext cx="3225600" cy="422604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3854520"/>
            <a:ext cx="2554200" cy="982440"/>
          </a:xfrm>
          <a:prstGeom prst="rect">
            <a:avLst/>
          </a:prstGeom>
          <a:solidFill>
            <a:srgbClr val="ac3b8b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46920" y="15746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OAP ENVELOP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16720" y="4246560"/>
            <a:ext cx="2033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ault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11920" y="1222200"/>
            <a:ext cx="3092400" cy="383256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73960" y="2359080"/>
            <a:ext cx="1912680" cy="42552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36840" y="86184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Transport protoco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36480" y="12002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 head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73960" y="2894040"/>
            <a:ext cx="1912680" cy="426960"/>
          </a:xfrm>
          <a:prstGeom prst="rect">
            <a:avLst/>
          </a:prstGeom>
          <a:solidFill>
            <a:srgbClr val="ffcc99"/>
          </a:solidFill>
          <a:ln w="9360">
            <a:solidFill>
              <a:srgbClr val="325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EADER ENTR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40680" y="3355920"/>
            <a:ext cx="5079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120" y="2584440"/>
            <a:ext cx="24033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cod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str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faultacto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detail ?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819440" y="2859120"/>
            <a:ext cx="1280880" cy="544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91320" y="25480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 Qname, e.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v:mustUnderstand</a:t>
            </a:r>
            <a:r>
              <a:rPr b="0" lang="en-US" sz="16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10560" y="354636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Human readable tex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949400" y="3740040"/>
            <a:ext cx="1408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085480" y="4105080"/>
            <a:ext cx="1287720" cy="24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58080" y="4037040"/>
            <a:ext cx="22212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ctor that was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perating (URI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(default =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ultimate destination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608120" y="4425840"/>
            <a:ext cx="1419120" cy="145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41400" y="5796000"/>
            <a:ext cx="5965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ny structure of further application-specific inform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Its presence means body was process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E1025-6156-4C0D-9974-9111EC1AED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indefinite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ult Message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640" y="961920"/>
            <a:ext cx="5020920" cy="40154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Envelope …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Body 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cod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v: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faultstring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rver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v:detail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lmns:f=“http://ex.org/faults”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:encodingStyle=“…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detail1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code&gt;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excuse&gt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my fault re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:faultdetail2&gt; …. &lt;/&gt;&lt;/&gt;&lt;/&gt;&lt;/&gt;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61920" y="19350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Standard error co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8360" y="3638520"/>
            <a:ext cx="201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Application-specific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rror code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23400" y="22716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xplan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13520" y="199548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13520" y="231624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13520" y="3871800"/>
            <a:ext cx="99720" cy="250920"/>
          </a:xfrm>
          <a:custGeom>
            <a:avLst/>
            <a:gdLst>
              <a:gd name="textAreaLeft" fmla="*/ 0 w 99720"/>
              <a:gd name="textAreaRight" fmla="*/ 36000 w 99720"/>
              <a:gd name="textAreaTop" fmla="*/ 6480 h 250920"/>
              <a:gd name="textAreaBottom" fmla="*/ 24444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13520" y="4272120"/>
            <a:ext cx="149040" cy="276120"/>
          </a:xfrm>
          <a:custGeom>
            <a:avLst/>
            <a:gdLst>
              <a:gd name="textAreaLeft" fmla="*/ 0 w 149040"/>
              <a:gd name="textAreaRight" fmla="*/ 53640 w 149040"/>
              <a:gd name="textAreaTop" fmla="*/ 7200 h 276120"/>
              <a:gd name="textAreaBottom" fmla="*/ 26892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23400" y="41940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faf"/>
                </a:solidFill>
                <a:latin typeface="Verdana"/>
              </a:rPr>
              <a:t>Explan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4200" y="968400"/>
            <a:ext cx="15840" cy="4005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7120" y="1152360"/>
            <a:ext cx="0" cy="341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2760" y="115740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1000" y="150192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7120" y="216072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560" y="1506600"/>
            <a:ext cx="0" cy="3207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8600" y="183816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1800" y="1849320"/>
            <a:ext cx="0" cy="9590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8240" y="2852640"/>
            <a:ext cx="0" cy="19717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7120" y="248436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7120" y="2828880"/>
            <a:ext cx="279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5000" y="381168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25560" y="3835440"/>
            <a:ext cx="0" cy="606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23760" y="413532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23760" y="444960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5000" y="4803840"/>
            <a:ext cx="27972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C9BE3-8C12-4F4C-8CE3-58A6AF773A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indefinite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indefinite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20:57:32Z</dcterms:modified>
  <cp:revision>71</cp:revision>
  <dc:subject/>
  <dc:title>XML</dc:title>
</cp:coreProperties>
</file>