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1D86E-3583-4440-8EBC-01240AE2D7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A3B53-6DFD-44EA-B268-7994936E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772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D8F62-B450-4DA9-88F3-9BAD2E88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97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364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97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364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10DA8-9304-4877-BAE3-3BC1849450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6553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D8C50-B922-46E3-B326-632A5EDC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0772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0772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397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364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397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364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B9F7B-86F6-4F76-9C08-F4E13BF3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9FE91-187D-4600-BA7C-E71C233C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C737B-85FA-4FF7-94D2-ABFF12067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6553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935E7-73AB-4852-94E1-7C40B962D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722F0-6F06-4395-94DC-AC44A377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772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B1DBB-55D4-4F0A-B9A3-3FABFC27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9BC2E-CC2B-456D-AFF8-E9801801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162560" y="647712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FB47-96BA-4E38-862C-B2BFA543AC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1905120" y="6553080"/>
            <a:ext cx="57150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ujitsu Laboratories of Europe ©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6"/>
          <a:srcRect l="0" t="20844" r="0" b="32329"/>
          <a:stretch/>
        </p:blipFill>
        <p:spPr>
          <a:xfrm>
            <a:off x="7924680" y="38160"/>
            <a:ext cx="1219320" cy="5713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7"/>
          <a:stretch/>
        </p:blipFill>
        <p:spPr>
          <a:xfrm>
            <a:off x="152280" y="6095880"/>
            <a:ext cx="2514600" cy="61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1280" y="0"/>
            <a:ext cx="5415120" cy="1173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4"/>
          </p:nvPr>
        </p:nvSpPr>
        <p:spPr>
          <a:xfrm>
            <a:off x="3047760" y="640080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ujitsu Laboratories of Europe ©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title"/>
          </p:nvPr>
        </p:nvSpPr>
        <p:spPr>
          <a:xfrm>
            <a:off x="685440" y="228564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486400" y="228600"/>
            <a:ext cx="3397320" cy="828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3.png"/><Relationship Id="rId8" Type="http://schemas.openxmlformats.org/officeDocument/2006/relationships/image" Target="../media/image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image" Target="../media/image9.png"/><Relationship Id="rId6" Type="http://schemas.openxmlformats.org/officeDocument/2006/relationships/image" Target="../media/image13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image" Target="../media/image2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image" Target="../media/image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0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3.png"/><Relationship Id="rId6" Type="http://schemas.openxmlformats.org/officeDocument/2006/relationships/image" Target="../media/image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 Black"/>
              </a:rPr>
              <a:t>OGSA, WSRF, and the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0033cc"/>
                </a:solidFill>
                <a:latin typeface="Arial Black"/>
              </a:rPr>
              <a:t>Foundations of Grid</a:t>
            </a:r>
            <a:endParaRPr b="1" lang="en-US" sz="36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484520"/>
            <a:ext cx="64008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Dr. David Snelling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Fujitsu Laboratories of Europe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David.Snelling@ UK.Fujitsu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Credit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Most of the material is the result of collaborative effort from: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teve Graham, Jeff Frey, Jay Unger, Steve Tuecke and Tom Maguire.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State: A Grid Fundamental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tateful Entities Exist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n a purchase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 for a data base or structured data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usage agreement for resour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rics associated with work load on a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Hitherto: No WS Standards for State Management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ystem does it in an “idiosyncratic wa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on imped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OGSA Needs to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lize a mechanism to represent “stat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SRF specifications provide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Reconciling State and SOA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eb Services: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 execution available at an endpoint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 defined in terms of the operations it imp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peration is defined in terms of a message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SDL, SOAP, and all tha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ible  using WS-Addressing Endpoint Refer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fecycle of a Web service is described in terms of de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there or it isn’t. No factory pattern, only discov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he Web Service itself is typically Stateless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rids Need Access to Stateful Resources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Factory Pattern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When you need a Resource you need it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a Job to do thi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result data set combining thes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me management interface for this experiment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SA provides for dynamic creation of resou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Find it or Create it?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fference is moo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MeAThing (Description) -&gt; HandleT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MeAThing (Description) -&gt; HandleT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WSRF 101: The Web Service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4691160" y="3914640"/>
            <a:ext cx="384120" cy="18097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Condensed Bold"/>
                <a:ea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72040" y="3917880"/>
            <a:ext cx="1225440" cy="1808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76520" y="4202280"/>
            <a:ext cx="908280" cy="834840"/>
          </a:xfrm>
          <a:custGeom>
            <a:avLst/>
            <a:gdLst/>
            <a:ahLst/>
            <a:rect l="l" t="t" r="r" b="b"/>
            <a:pathLst>
              <a:path w="933" h="859">
                <a:moveTo>
                  <a:pt x="0" y="859"/>
                </a:moveTo>
                <a:lnTo>
                  <a:pt x="0" y="324"/>
                </a:lnTo>
                <a:lnTo>
                  <a:pt x="478" y="0"/>
                </a:lnTo>
                <a:lnTo>
                  <a:pt x="933" y="308"/>
                </a:lnTo>
                <a:lnTo>
                  <a:pt x="925" y="859"/>
                </a:lnTo>
                <a:lnTo>
                  <a:pt x="0" y="85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29080" y="4543560"/>
            <a:ext cx="798480" cy="4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11400" y="4175280"/>
            <a:ext cx="907920" cy="834840"/>
          </a:xfrm>
          <a:custGeom>
            <a:avLst/>
            <a:gdLst/>
            <a:ahLst/>
            <a:rect l="l" t="t" r="r" b="b"/>
            <a:pathLst>
              <a:path w="933" h="859">
                <a:moveTo>
                  <a:pt x="0" y="859"/>
                </a:moveTo>
                <a:lnTo>
                  <a:pt x="0" y="324"/>
                </a:lnTo>
                <a:lnTo>
                  <a:pt x="478" y="0"/>
                </a:lnTo>
                <a:lnTo>
                  <a:pt x="933" y="308"/>
                </a:lnTo>
                <a:lnTo>
                  <a:pt x="925" y="859"/>
                </a:lnTo>
                <a:lnTo>
                  <a:pt x="0" y="85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63600" y="3641760"/>
            <a:ext cx="798480" cy="4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98440" y="4481640"/>
            <a:ext cx="900360" cy="538200"/>
          </a:xfrm>
          <a:custGeom>
            <a:avLst/>
            <a:gdLst/>
            <a:ahLst/>
            <a:rect l="l" t="t" r="r" b="b"/>
            <a:pathLst>
              <a:path w="925" h="552">
                <a:moveTo>
                  <a:pt x="0" y="552"/>
                </a:moveTo>
                <a:lnTo>
                  <a:pt x="0" y="8"/>
                </a:lnTo>
                <a:lnTo>
                  <a:pt x="478" y="260"/>
                </a:lnTo>
                <a:lnTo>
                  <a:pt x="925" y="0"/>
                </a:lnTo>
                <a:lnTo>
                  <a:pt x="925" y="552"/>
                </a:lnTo>
                <a:lnTo>
                  <a:pt x="0" y="55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166760" y="4173480"/>
            <a:ext cx="993960" cy="576000"/>
            <a:chOff x="1166760" y="4173480"/>
            <a:chExt cx="993960" cy="576000"/>
          </a:xfrm>
        </p:grpSpPr>
        <p:sp>
          <p:nvSpPr>
            <p:cNvPr id="204" name=""/>
            <p:cNvSpPr/>
            <p:nvPr/>
          </p:nvSpPr>
          <p:spPr>
            <a:xfrm>
              <a:off x="1209600" y="4494600"/>
              <a:ext cx="907200" cy="254880"/>
            </a:xfrm>
            <a:custGeom>
              <a:avLst/>
              <a:gdLst/>
              <a:ahLst/>
              <a:rect l="l" t="t" r="r" b="b"/>
              <a:pathLst>
                <a:path w="931" h="262">
                  <a:moveTo>
                    <a:pt x="931" y="0"/>
                  </a:moveTo>
                  <a:lnTo>
                    <a:pt x="0" y="0"/>
                  </a:lnTo>
                  <a:lnTo>
                    <a:pt x="474" y="262"/>
                  </a:lnTo>
                  <a:lnTo>
                    <a:pt x="931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66760" y="4173480"/>
              <a:ext cx="99396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192320" y="4483080"/>
            <a:ext cx="909360" cy="536760"/>
          </a:xfrm>
          <a:prstGeom prst="rect">
            <a:avLst/>
          </a:prstGeom>
          <a:solidFill>
            <a:srgbClr val="ff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81160" y="459432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Condensed Bold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427560" y="4197240"/>
            <a:ext cx="993600" cy="576000"/>
            <a:chOff x="3427560" y="4197240"/>
            <a:chExt cx="993600" cy="576000"/>
          </a:xfrm>
        </p:grpSpPr>
        <p:sp>
          <p:nvSpPr>
            <p:cNvPr id="209" name=""/>
            <p:cNvSpPr/>
            <p:nvPr/>
          </p:nvSpPr>
          <p:spPr>
            <a:xfrm>
              <a:off x="3470400" y="4518360"/>
              <a:ext cx="906840" cy="254880"/>
            </a:xfrm>
            <a:custGeom>
              <a:avLst/>
              <a:gdLst/>
              <a:ahLst/>
              <a:rect l="l" t="t" r="r" b="b"/>
              <a:pathLst>
                <a:path w="931" h="262">
                  <a:moveTo>
                    <a:pt x="931" y="0"/>
                  </a:moveTo>
                  <a:lnTo>
                    <a:pt x="0" y="0"/>
                  </a:lnTo>
                  <a:lnTo>
                    <a:pt x="474" y="262"/>
                  </a:lnTo>
                  <a:lnTo>
                    <a:pt x="931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27560" y="4197240"/>
              <a:ext cx="99360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489480" y="4508640"/>
            <a:ext cx="900000" cy="538200"/>
          </a:xfrm>
          <a:custGeom>
            <a:avLst/>
            <a:gdLst/>
            <a:ahLst/>
            <a:rect l="l" t="t" r="r" b="b"/>
            <a:pathLst>
              <a:path w="925" h="552">
                <a:moveTo>
                  <a:pt x="0" y="552"/>
                </a:moveTo>
                <a:lnTo>
                  <a:pt x="0" y="8"/>
                </a:lnTo>
                <a:lnTo>
                  <a:pt x="478" y="260"/>
                </a:lnTo>
                <a:lnTo>
                  <a:pt x="925" y="0"/>
                </a:lnTo>
                <a:lnTo>
                  <a:pt x="925" y="552"/>
                </a:lnTo>
                <a:lnTo>
                  <a:pt x="0" y="55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49400" y="1960560"/>
            <a:ext cx="961920" cy="4809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Endpoin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01920" y="2430360"/>
            <a:ext cx="134640" cy="2176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2932200"/>
            <a:ext cx="5729400" cy="3335400"/>
          </a:xfrm>
          <a:prstGeom prst="roundRect">
            <a:avLst>
              <a:gd name="adj" fmla="val 16079"/>
            </a:avLst>
          </a:prstGeom>
          <a:solidFill>
            <a:srgbClr val="00cc9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  <a:ea typeface="Arial"/>
              </a:rPr>
              <a:t>Run-tim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indefinite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1043 L -0.00035 0.12975 E">
                                      <p:cBhvr>
                                        <p:cTn id="120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2.4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377"/>
                            </p:stCondLst>
                            <p:childTnLst>
                              <p:par>
                                <p:cTn id="1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377"/>
                            </p:stCondLst>
                            <p:childTnLst>
                              <p:par>
                                <p:cTn id="16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2" dur="1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25 0 E">
                                      <p:cBhvr>
                                        <p:cTn id="164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377"/>
                            </p:stCondLst>
                            <p:childTnLst>
                              <p:par>
                                <p:cTn id="166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877"/>
                            </p:stCondLst>
                            <p:childTnLst>
                              <p:par>
                                <p:cTn id="1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7377"/>
                            </p:stCondLst>
                            <p:childTnLst>
                              <p:par>
                                <p:cTn id="190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7877"/>
                            </p:stCondLst>
                            <p:childTnLst>
                              <p:par>
                                <p:cTn id="196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31789E-006 L 0.00035 -0.05445 L 0.02275 -0.0848 L 0.0665 -0.0848 E">
                                      <p:cBhvr>
                                        <p:cTn id="197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WSRF 101: Stateful Resource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 Resource: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pecific set of state data expressible as an XML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not typically all of the resource’s stat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a well-defined identity and lifecyc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n to, and acted upon, by one or more Web 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any Possible Instances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s, Database tables, EJB Entities, XML documents, Compositions of multiple data sources, Virtualized executions of application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 WS-Resource has: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ty: Can be uniquely identified/referen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fetime: Often created &amp; destroyed by cl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: Part of the state can be projected as X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: Its Web service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WSRF 101: Resource Access 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334120" y="3279600"/>
            <a:ext cx="2857320" cy="1575360"/>
            <a:chOff x="5334120" y="3279600"/>
            <a:chExt cx="2857320" cy="1575360"/>
          </a:xfrm>
        </p:grpSpPr>
        <p:sp>
          <p:nvSpPr>
            <p:cNvPr id="219" name=""/>
            <p:cNvSpPr/>
            <p:nvPr/>
          </p:nvSpPr>
          <p:spPr>
            <a:xfrm>
              <a:off x="5334120" y="3279600"/>
              <a:ext cx="2857320" cy="1333800"/>
            </a:xfrm>
            <a:prstGeom prst="roundRect">
              <a:avLst>
                <a:gd name="adj" fmla="val 4542"/>
              </a:avLst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858000" y="4489560"/>
              <a:ext cx="71136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Condensed Bold"/>
                </a:rPr>
                <a:t>con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4691160" y="3914640"/>
            <a:ext cx="384120" cy="18097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Condensed Bold"/>
                <a:ea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72040" y="3917880"/>
            <a:ext cx="1225440" cy="1808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76520" y="4202280"/>
            <a:ext cx="908280" cy="834840"/>
          </a:xfrm>
          <a:custGeom>
            <a:avLst/>
            <a:gdLst/>
            <a:ahLst/>
            <a:rect l="l" t="t" r="r" b="b"/>
            <a:pathLst>
              <a:path w="933" h="859">
                <a:moveTo>
                  <a:pt x="0" y="859"/>
                </a:moveTo>
                <a:lnTo>
                  <a:pt x="0" y="324"/>
                </a:lnTo>
                <a:lnTo>
                  <a:pt x="478" y="0"/>
                </a:lnTo>
                <a:lnTo>
                  <a:pt x="933" y="308"/>
                </a:lnTo>
                <a:lnTo>
                  <a:pt x="925" y="859"/>
                </a:lnTo>
                <a:lnTo>
                  <a:pt x="0" y="85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29080" y="4543560"/>
            <a:ext cx="798480" cy="4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27280" y="4632480"/>
            <a:ext cx="798480" cy="3855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11400" y="4175280"/>
            <a:ext cx="907920" cy="834840"/>
          </a:xfrm>
          <a:custGeom>
            <a:avLst/>
            <a:gdLst/>
            <a:ahLst/>
            <a:rect l="l" t="t" r="r" b="b"/>
            <a:pathLst>
              <a:path w="933" h="859">
                <a:moveTo>
                  <a:pt x="0" y="859"/>
                </a:moveTo>
                <a:lnTo>
                  <a:pt x="0" y="324"/>
                </a:lnTo>
                <a:lnTo>
                  <a:pt x="478" y="0"/>
                </a:lnTo>
                <a:lnTo>
                  <a:pt x="933" y="308"/>
                </a:lnTo>
                <a:lnTo>
                  <a:pt x="925" y="859"/>
                </a:lnTo>
                <a:lnTo>
                  <a:pt x="0" y="85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63600" y="3641760"/>
            <a:ext cx="798480" cy="4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63600" y="3022560"/>
            <a:ext cx="798480" cy="385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98440" y="4481640"/>
            <a:ext cx="900360" cy="538200"/>
          </a:xfrm>
          <a:custGeom>
            <a:avLst/>
            <a:gdLst/>
            <a:ahLst/>
            <a:rect l="l" t="t" r="r" b="b"/>
            <a:pathLst>
              <a:path w="925" h="552">
                <a:moveTo>
                  <a:pt x="0" y="552"/>
                </a:moveTo>
                <a:lnTo>
                  <a:pt x="0" y="8"/>
                </a:lnTo>
                <a:lnTo>
                  <a:pt x="478" y="260"/>
                </a:lnTo>
                <a:lnTo>
                  <a:pt x="925" y="0"/>
                </a:lnTo>
                <a:lnTo>
                  <a:pt x="925" y="552"/>
                </a:lnTo>
                <a:lnTo>
                  <a:pt x="0" y="55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166760" y="4173480"/>
            <a:ext cx="993960" cy="576000"/>
            <a:chOff x="1166760" y="4173480"/>
            <a:chExt cx="993960" cy="576000"/>
          </a:xfrm>
        </p:grpSpPr>
        <p:sp>
          <p:nvSpPr>
            <p:cNvPr id="231" name=""/>
            <p:cNvSpPr/>
            <p:nvPr/>
          </p:nvSpPr>
          <p:spPr>
            <a:xfrm>
              <a:off x="1209600" y="4494600"/>
              <a:ext cx="907200" cy="254880"/>
            </a:xfrm>
            <a:custGeom>
              <a:avLst/>
              <a:gdLst/>
              <a:ahLst/>
              <a:rect l="l" t="t" r="r" b="b"/>
              <a:pathLst>
                <a:path w="931" h="262">
                  <a:moveTo>
                    <a:pt x="931" y="0"/>
                  </a:moveTo>
                  <a:lnTo>
                    <a:pt x="0" y="0"/>
                  </a:lnTo>
                  <a:lnTo>
                    <a:pt x="474" y="262"/>
                  </a:lnTo>
                  <a:lnTo>
                    <a:pt x="931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66760" y="4173480"/>
              <a:ext cx="99396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1204920" y="4494240"/>
            <a:ext cx="909720" cy="536400"/>
          </a:xfrm>
          <a:prstGeom prst="rect">
            <a:avLst/>
          </a:prstGeom>
          <a:solidFill>
            <a:srgbClr val="ff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81160" y="459432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Condensed Bold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3429000" y="4197240"/>
            <a:ext cx="993600" cy="576000"/>
            <a:chOff x="3429000" y="4197240"/>
            <a:chExt cx="993600" cy="576000"/>
          </a:xfrm>
        </p:grpSpPr>
        <p:sp>
          <p:nvSpPr>
            <p:cNvPr id="236" name=""/>
            <p:cNvSpPr/>
            <p:nvPr/>
          </p:nvSpPr>
          <p:spPr>
            <a:xfrm>
              <a:off x="3471840" y="4518360"/>
              <a:ext cx="906840" cy="254880"/>
            </a:xfrm>
            <a:custGeom>
              <a:avLst/>
              <a:gdLst/>
              <a:ahLst/>
              <a:rect l="l" t="t" r="r" b="b"/>
              <a:pathLst>
                <a:path w="931" h="262">
                  <a:moveTo>
                    <a:pt x="931" y="0"/>
                  </a:moveTo>
                  <a:lnTo>
                    <a:pt x="0" y="0"/>
                  </a:lnTo>
                  <a:lnTo>
                    <a:pt x="474" y="262"/>
                  </a:lnTo>
                  <a:lnTo>
                    <a:pt x="931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429000" y="4197240"/>
              <a:ext cx="99360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3489480" y="4508640"/>
            <a:ext cx="900000" cy="538200"/>
          </a:xfrm>
          <a:custGeom>
            <a:avLst/>
            <a:gdLst/>
            <a:ahLst/>
            <a:rect l="l" t="t" r="r" b="b"/>
            <a:pathLst>
              <a:path w="925" h="552">
                <a:moveTo>
                  <a:pt x="0" y="552"/>
                </a:moveTo>
                <a:lnTo>
                  <a:pt x="0" y="8"/>
                </a:lnTo>
                <a:lnTo>
                  <a:pt x="478" y="260"/>
                </a:lnTo>
                <a:lnTo>
                  <a:pt x="925" y="0"/>
                </a:lnTo>
                <a:lnTo>
                  <a:pt x="925" y="552"/>
                </a:lnTo>
                <a:lnTo>
                  <a:pt x="0" y="55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91480" y="3490920"/>
            <a:ext cx="939600" cy="927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 Condensed Bold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707080" y="3448080"/>
            <a:ext cx="1224000" cy="322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688760" y="2417760"/>
            <a:ext cx="66600" cy="682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41360" y="2430360"/>
            <a:ext cx="295200" cy="2176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12960" y="2919240"/>
            <a:ext cx="5729400" cy="3335400"/>
          </a:xfrm>
          <a:prstGeom prst="roundRect">
            <a:avLst>
              <a:gd name="adj" fmla="val 16079"/>
            </a:avLst>
          </a:prstGeom>
          <a:solidFill>
            <a:srgbClr val="00cc9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  <a:ea typeface="Arial"/>
              </a:rPr>
              <a:t>Run-tim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049400" y="1960560"/>
            <a:ext cx="961920" cy="480960"/>
          </a:xfrm>
          <a:prstGeom prst="roundRect">
            <a:avLst>
              <a:gd name="adj" fmla="val 16667"/>
            </a:avLst>
          </a:prstGeom>
          <a:solidFill>
            <a:srgbClr val="8fe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Endpoin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1043 L -0.00035 0.12975 E">
                                      <p:cBhvr>
                                        <p:cTn id="223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20482E-006 L -8.33333E-007 0.2266 E">
                                      <p:cBhvr>
                                        <p:cTn id="240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20482E-006 L -8.33333E-007 0.2266 E">
                                      <p:cBhvr>
                                        <p:cTn id="242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500"/>
                            </p:stCondLst>
                            <p:childTnLst>
                              <p:par>
                                <p:cTn id="2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500"/>
                            </p:stCondLst>
                            <p:childTnLst>
                              <p:par>
                                <p:cTn id="2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2.4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877"/>
                            </p:stCondLst>
                            <p:childTnLst>
                              <p:par>
                                <p:cTn id="2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377"/>
                            </p:stCondLst>
                            <p:childTnLst>
                              <p:par>
                                <p:cTn id="28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88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25 0 E">
                                      <p:cBhvr>
                                        <p:cTn id="290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7377"/>
                            </p:stCondLst>
                            <p:childTnLst>
                              <p:par>
                                <p:cTn id="292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7877"/>
                            </p:stCondLst>
                            <p:childTnLst>
                              <p:par>
                                <p:cTn id="2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8377"/>
                            </p:stCondLst>
                            <p:childTnLst>
                              <p:par>
                                <p:cTn id="320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2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path" presetID="4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7.41427E-007 L 0.0033 -0.15779 L 0.18073 -0.20273 E">
                                      <p:cBhvr>
                                        <p:cTn id="330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500"/>
                            </p:stCondLst>
                            <p:childTnLst>
                              <p:par>
                                <p:cTn id="340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31789E-006 L 0.00035 -0.05445 L 0.02275 -0.0848 L 0.0665 -0.0848 E">
                                      <p:cBhvr>
                                        <p:cTn id="341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WSRF 101: Multiple Resource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297400" y="4516560"/>
            <a:ext cx="2857320" cy="1543680"/>
            <a:chOff x="5297400" y="4516560"/>
            <a:chExt cx="2857320" cy="1543680"/>
          </a:xfrm>
        </p:grpSpPr>
        <p:sp>
          <p:nvSpPr>
            <p:cNvPr id="247" name=""/>
            <p:cNvSpPr/>
            <p:nvPr/>
          </p:nvSpPr>
          <p:spPr>
            <a:xfrm>
              <a:off x="5297400" y="4516560"/>
              <a:ext cx="2857320" cy="1333800"/>
            </a:xfrm>
            <a:prstGeom prst="roundRect">
              <a:avLst>
                <a:gd name="adj" fmla="val 4542"/>
              </a:avLst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85280" y="5753160"/>
              <a:ext cx="8071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Condensed Bold"/>
                </a:rPr>
                <a:t>con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4691160" y="3914640"/>
            <a:ext cx="384120" cy="18097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Condensed Bold"/>
                <a:ea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72040" y="3917880"/>
            <a:ext cx="1225440" cy="1808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476520" y="4202280"/>
            <a:ext cx="908280" cy="834840"/>
          </a:xfrm>
          <a:custGeom>
            <a:avLst/>
            <a:gdLst/>
            <a:ahLst/>
            <a:rect l="l" t="t" r="r" b="b"/>
            <a:pathLst>
              <a:path w="933" h="859">
                <a:moveTo>
                  <a:pt x="0" y="859"/>
                </a:moveTo>
                <a:lnTo>
                  <a:pt x="0" y="324"/>
                </a:lnTo>
                <a:lnTo>
                  <a:pt x="478" y="0"/>
                </a:lnTo>
                <a:lnTo>
                  <a:pt x="933" y="308"/>
                </a:lnTo>
                <a:lnTo>
                  <a:pt x="925" y="859"/>
                </a:lnTo>
                <a:lnTo>
                  <a:pt x="0" y="85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29080" y="4543560"/>
            <a:ext cx="798480" cy="4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527280" y="4632480"/>
            <a:ext cx="798480" cy="3855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11400" y="4175280"/>
            <a:ext cx="907920" cy="834840"/>
          </a:xfrm>
          <a:custGeom>
            <a:avLst/>
            <a:gdLst/>
            <a:ahLst/>
            <a:rect l="l" t="t" r="r" b="b"/>
            <a:pathLst>
              <a:path w="933" h="859">
                <a:moveTo>
                  <a:pt x="0" y="859"/>
                </a:moveTo>
                <a:lnTo>
                  <a:pt x="0" y="324"/>
                </a:lnTo>
                <a:lnTo>
                  <a:pt x="478" y="0"/>
                </a:lnTo>
                <a:lnTo>
                  <a:pt x="933" y="308"/>
                </a:lnTo>
                <a:lnTo>
                  <a:pt x="925" y="859"/>
                </a:lnTo>
                <a:lnTo>
                  <a:pt x="0" y="85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63600" y="3641760"/>
            <a:ext cx="798480" cy="4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63600" y="3022560"/>
            <a:ext cx="798480" cy="385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98440" y="4481640"/>
            <a:ext cx="900360" cy="538200"/>
          </a:xfrm>
          <a:custGeom>
            <a:avLst/>
            <a:gdLst/>
            <a:ahLst/>
            <a:rect l="l" t="t" r="r" b="b"/>
            <a:pathLst>
              <a:path w="925" h="552">
                <a:moveTo>
                  <a:pt x="0" y="552"/>
                </a:moveTo>
                <a:lnTo>
                  <a:pt x="0" y="8"/>
                </a:lnTo>
                <a:lnTo>
                  <a:pt x="478" y="260"/>
                </a:lnTo>
                <a:lnTo>
                  <a:pt x="925" y="0"/>
                </a:lnTo>
                <a:lnTo>
                  <a:pt x="925" y="552"/>
                </a:lnTo>
                <a:lnTo>
                  <a:pt x="0" y="55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166760" y="4173480"/>
            <a:ext cx="993960" cy="576000"/>
            <a:chOff x="1166760" y="4173480"/>
            <a:chExt cx="993960" cy="576000"/>
          </a:xfrm>
        </p:grpSpPr>
        <p:sp>
          <p:nvSpPr>
            <p:cNvPr id="259" name=""/>
            <p:cNvSpPr/>
            <p:nvPr/>
          </p:nvSpPr>
          <p:spPr>
            <a:xfrm>
              <a:off x="1209600" y="4494600"/>
              <a:ext cx="907200" cy="254880"/>
            </a:xfrm>
            <a:custGeom>
              <a:avLst/>
              <a:gdLst/>
              <a:ahLst/>
              <a:rect l="l" t="t" r="r" b="b"/>
              <a:pathLst>
                <a:path w="931" h="262">
                  <a:moveTo>
                    <a:pt x="931" y="0"/>
                  </a:moveTo>
                  <a:lnTo>
                    <a:pt x="0" y="0"/>
                  </a:lnTo>
                  <a:lnTo>
                    <a:pt x="474" y="262"/>
                  </a:lnTo>
                  <a:lnTo>
                    <a:pt x="931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166760" y="4173480"/>
              <a:ext cx="99396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204920" y="4494240"/>
            <a:ext cx="909720" cy="536400"/>
          </a:xfrm>
          <a:prstGeom prst="rect">
            <a:avLst/>
          </a:prstGeom>
          <a:solidFill>
            <a:srgbClr val="ff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81160" y="459432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Condensed Bold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3429000" y="4197240"/>
            <a:ext cx="993600" cy="576000"/>
            <a:chOff x="3429000" y="4197240"/>
            <a:chExt cx="993600" cy="576000"/>
          </a:xfrm>
        </p:grpSpPr>
        <p:sp>
          <p:nvSpPr>
            <p:cNvPr id="264" name=""/>
            <p:cNvSpPr/>
            <p:nvPr/>
          </p:nvSpPr>
          <p:spPr>
            <a:xfrm>
              <a:off x="3471840" y="4518360"/>
              <a:ext cx="906840" cy="254880"/>
            </a:xfrm>
            <a:custGeom>
              <a:avLst/>
              <a:gdLst/>
              <a:ahLst/>
              <a:rect l="l" t="t" r="r" b="b"/>
              <a:pathLst>
                <a:path w="931" h="262">
                  <a:moveTo>
                    <a:pt x="931" y="0"/>
                  </a:moveTo>
                  <a:lnTo>
                    <a:pt x="0" y="0"/>
                  </a:lnTo>
                  <a:lnTo>
                    <a:pt x="474" y="262"/>
                  </a:lnTo>
                  <a:lnTo>
                    <a:pt x="931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29000" y="4197240"/>
              <a:ext cx="99360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3489480" y="4508640"/>
            <a:ext cx="900000" cy="538200"/>
          </a:xfrm>
          <a:custGeom>
            <a:avLst/>
            <a:gdLst/>
            <a:ahLst/>
            <a:rect l="l" t="t" r="r" b="b"/>
            <a:pathLst>
              <a:path w="925" h="552">
                <a:moveTo>
                  <a:pt x="0" y="552"/>
                </a:moveTo>
                <a:lnTo>
                  <a:pt x="0" y="8"/>
                </a:lnTo>
                <a:lnTo>
                  <a:pt x="478" y="260"/>
                </a:lnTo>
                <a:lnTo>
                  <a:pt x="925" y="0"/>
                </a:lnTo>
                <a:lnTo>
                  <a:pt x="925" y="552"/>
                </a:lnTo>
                <a:lnTo>
                  <a:pt x="0" y="55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91480" y="3490920"/>
            <a:ext cx="939600" cy="927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 Condensed Bold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670720" y="5325840"/>
            <a:ext cx="1234800" cy="369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1689120" y="2468520"/>
            <a:ext cx="117360" cy="631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41360" y="2467080"/>
            <a:ext cx="295200" cy="2139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921360" y="4805280"/>
            <a:ext cx="939960" cy="927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 Condensed Bold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049400" y="1960560"/>
            <a:ext cx="961920" cy="480960"/>
          </a:xfrm>
          <a:prstGeom prst="roundRect">
            <a:avLst>
              <a:gd name="adj" fmla="val 16667"/>
            </a:avLst>
          </a:prstGeom>
          <a:solidFill>
            <a:srgbClr val="8fe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Endpoin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25360" y="2025720"/>
            <a:ext cx="962280" cy="480960"/>
          </a:xfrm>
          <a:prstGeom prst="roundRect">
            <a:avLst>
              <a:gd name="adj" fmla="val 16667"/>
            </a:avLst>
          </a:prstGeom>
          <a:solidFill>
            <a:srgbClr val="fcd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Endpoin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700360" y="2932200"/>
            <a:ext cx="5729400" cy="3335400"/>
          </a:xfrm>
          <a:prstGeom prst="roundRect">
            <a:avLst>
              <a:gd name="adj" fmla="val 16079"/>
            </a:avLst>
          </a:prstGeom>
          <a:solidFill>
            <a:srgbClr val="00cc9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  <a:ea typeface="Arial"/>
              </a:rPr>
              <a:t>Run-tim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indefinite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5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45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1043 L -0.00035 0.12975 E">
                                      <p:cBhvr>
                                        <p:cTn id="383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20482E-006 L -8.33333E-007 0.2266 E">
                                      <p:cBhvr>
                                        <p:cTn id="400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20482E-006 L -8.33333E-007 0.2266 E">
                                      <p:cBhvr>
                                        <p:cTn id="402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50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3000"/>
                            </p:stCondLst>
                            <p:childTnLst>
                              <p:par>
                                <p:cTn id="4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3500"/>
                            </p:stCondLst>
                            <p:childTnLst>
                              <p:par>
                                <p:cTn id="4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4500"/>
                            </p:stCondLst>
                            <p:childTnLst>
                              <p:par>
                                <p:cTn id="4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2.4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877"/>
                            </p:stCondLst>
                            <p:childTnLst>
                              <p:par>
                                <p:cTn id="4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877"/>
                            </p:stCondLst>
                            <p:childTnLst>
                              <p:par>
                                <p:cTn id="44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48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9" nodeType="with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25 0 E">
                                      <p:cBhvr>
                                        <p:cTn id="450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7877"/>
                            </p:stCondLst>
                            <p:childTnLst>
                              <p:par>
                                <p:cTn id="452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3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8377"/>
                            </p:stCondLst>
                            <p:childTnLst>
                              <p:par>
                                <p:cTn id="4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8877"/>
                            </p:stCondLst>
                            <p:childTnLst>
                              <p:par>
                                <p:cTn id="480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4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22222E-006 L -0.00104 -0.11597 L 0.12465 -0.11597 L 0.16927 0.13264 E">
                                      <p:cBhvr>
                                        <p:cTn id="490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500"/>
                            </p:stCondLst>
                            <p:childTnLst>
                              <p:par>
                                <p:cTn id="49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3500"/>
                            </p:stCondLst>
                            <p:childTnLst>
                              <p:par>
                                <p:cTn id="500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7037E-006 L 0.00035 -0.0544 L 0.02275 -0.08473 L 0.07049 -0.08727 L 0.09618 0.09282 E">
                                      <p:cBhvr>
                                        <p:cTn id="501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3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6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9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WSRF 101: Factory Pattern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1204920" y="4183200"/>
            <a:ext cx="907920" cy="834840"/>
          </a:xfrm>
          <a:custGeom>
            <a:avLst/>
            <a:gdLst/>
            <a:ahLst/>
            <a:rect l="l" t="t" r="r" b="b"/>
            <a:pathLst>
              <a:path w="933" h="859">
                <a:moveTo>
                  <a:pt x="0" y="859"/>
                </a:moveTo>
                <a:lnTo>
                  <a:pt x="0" y="324"/>
                </a:lnTo>
                <a:lnTo>
                  <a:pt x="478" y="0"/>
                </a:lnTo>
                <a:lnTo>
                  <a:pt x="933" y="308"/>
                </a:lnTo>
                <a:lnTo>
                  <a:pt x="925" y="859"/>
                </a:lnTo>
                <a:lnTo>
                  <a:pt x="0" y="85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62520" y="3905280"/>
            <a:ext cx="384120" cy="68580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Condensed Bold"/>
                <a:ea typeface="Arial"/>
              </a:rPr>
              <a:t>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43400" y="3908520"/>
            <a:ext cx="1225800" cy="684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Arial"/>
              </a:rPr>
              <a:t>W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76520" y="4202280"/>
            <a:ext cx="908280" cy="834840"/>
          </a:xfrm>
          <a:custGeom>
            <a:avLst/>
            <a:gdLst/>
            <a:ahLst/>
            <a:rect l="l" t="t" r="r" b="b"/>
            <a:pathLst>
              <a:path w="933" h="859">
                <a:moveTo>
                  <a:pt x="0" y="859"/>
                </a:moveTo>
                <a:lnTo>
                  <a:pt x="0" y="324"/>
                </a:lnTo>
                <a:lnTo>
                  <a:pt x="478" y="0"/>
                </a:lnTo>
                <a:lnTo>
                  <a:pt x="933" y="308"/>
                </a:lnTo>
                <a:lnTo>
                  <a:pt x="925" y="859"/>
                </a:lnTo>
                <a:lnTo>
                  <a:pt x="0" y="85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529080" y="4543560"/>
            <a:ext cx="798480" cy="4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97000" y="4181400"/>
            <a:ext cx="907920" cy="835200"/>
          </a:xfrm>
          <a:custGeom>
            <a:avLst/>
            <a:gdLst/>
            <a:ahLst/>
            <a:rect l="l" t="t" r="r" b="b"/>
            <a:pathLst>
              <a:path w="933" h="859">
                <a:moveTo>
                  <a:pt x="0" y="859"/>
                </a:moveTo>
                <a:lnTo>
                  <a:pt x="0" y="324"/>
                </a:lnTo>
                <a:lnTo>
                  <a:pt x="478" y="0"/>
                </a:lnTo>
                <a:lnTo>
                  <a:pt x="933" y="308"/>
                </a:lnTo>
                <a:lnTo>
                  <a:pt x="925" y="859"/>
                </a:lnTo>
                <a:lnTo>
                  <a:pt x="0" y="85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263600" y="3641760"/>
            <a:ext cx="798480" cy="4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98440" y="4481640"/>
            <a:ext cx="900360" cy="538200"/>
          </a:xfrm>
          <a:custGeom>
            <a:avLst/>
            <a:gdLst/>
            <a:ahLst/>
            <a:rect l="l" t="t" r="r" b="b"/>
            <a:pathLst>
              <a:path w="925" h="552">
                <a:moveTo>
                  <a:pt x="0" y="552"/>
                </a:moveTo>
                <a:lnTo>
                  <a:pt x="0" y="8"/>
                </a:lnTo>
                <a:lnTo>
                  <a:pt x="478" y="260"/>
                </a:lnTo>
                <a:lnTo>
                  <a:pt x="925" y="0"/>
                </a:lnTo>
                <a:lnTo>
                  <a:pt x="925" y="552"/>
                </a:lnTo>
                <a:lnTo>
                  <a:pt x="0" y="55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168560" y="4167360"/>
            <a:ext cx="993600" cy="575640"/>
            <a:chOff x="1168560" y="4167360"/>
            <a:chExt cx="993600" cy="575640"/>
          </a:xfrm>
        </p:grpSpPr>
        <p:sp>
          <p:nvSpPr>
            <p:cNvPr id="285" name=""/>
            <p:cNvSpPr/>
            <p:nvPr/>
          </p:nvSpPr>
          <p:spPr>
            <a:xfrm>
              <a:off x="1211400" y="4488480"/>
              <a:ext cx="906840" cy="254520"/>
            </a:xfrm>
            <a:custGeom>
              <a:avLst/>
              <a:gdLst/>
              <a:ahLst/>
              <a:rect l="l" t="t" r="r" b="b"/>
              <a:pathLst>
                <a:path w="931" h="262">
                  <a:moveTo>
                    <a:pt x="931" y="0"/>
                  </a:moveTo>
                  <a:lnTo>
                    <a:pt x="0" y="0"/>
                  </a:lnTo>
                  <a:lnTo>
                    <a:pt x="474" y="262"/>
                  </a:lnTo>
                  <a:lnTo>
                    <a:pt x="931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168560" y="4167360"/>
              <a:ext cx="99360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1192320" y="4483080"/>
            <a:ext cx="909360" cy="536760"/>
          </a:xfrm>
          <a:prstGeom prst="rect">
            <a:avLst/>
          </a:prstGeom>
          <a:solidFill>
            <a:srgbClr val="ff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81160" y="459432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Condensed Bold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049400" y="1960560"/>
            <a:ext cx="961920" cy="4809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Endpoin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501920" y="2430360"/>
            <a:ext cx="134640" cy="2176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91480" y="3490920"/>
            <a:ext cx="939600" cy="927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 Condensed Bold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54400" y="3448080"/>
            <a:ext cx="874800" cy="480960"/>
          </a:xfrm>
          <a:prstGeom prst="roundRect">
            <a:avLst>
              <a:gd name="adj" fmla="val 16667"/>
            </a:avLst>
          </a:prstGeom>
          <a:solidFill>
            <a:srgbClr val="8fe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Endpoin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3362400" y="3902040"/>
            <a:ext cx="1517040" cy="233640"/>
            <a:chOff x="3362400" y="3902040"/>
            <a:chExt cx="1517040" cy="233640"/>
          </a:xfrm>
        </p:grpSpPr>
        <p:sp>
          <p:nvSpPr>
            <p:cNvPr id="294" name=""/>
            <p:cNvSpPr/>
            <p:nvPr/>
          </p:nvSpPr>
          <p:spPr>
            <a:xfrm>
              <a:off x="3362400" y="3902040"/>
              <a:ext cx="1517040" cy="166680"/>
            </a:xfrm>
            <a:custGeom>
              <a:avLst/>
              <a:gdLst/>
              <a:ahLst/>
              <a:rect l="l" t="t" r="r" b="b"/>
              <a:pathLst>
                <a:path w="836" h="105">
                  <a:moveTo>
                    <a:pt x="836" y="102"/>
                  </a:moveTo>
                  <a:cubicBezTo>
                    <a:pt x="836" y="102"/>
                    <a:pt x="463" y="102"/>
                    <a:pt x="90" y="102"/>
                  </a:cubicBezTo>
                  <a:cubicBezTo>
                    <a:pt x="0" y="105"/>
                    <a:pt x="13" y="0"/>
                    <a:pt x="13" y="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prstDash val="dash"/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26600" y="3952800"/>
              <a:ext cx="6026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Condensed Bold"/>
                </a:rPr>
                <a:t>addre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4140360" y="3486240"/>
            <a:ext cx="2814480" cy="242640"/>
            <a:chOff x="4140360" y="3486240"/>
            <a:chExt cx="2814480" cy="242640"/>
          </a:xfrm>
        </p:grpSpPr>
        <p:sp>
          <p:nvSpPr>
            <p:cNvPr id="297" name=""/>
            <p:cNvSpPr/>
            <p:nvPr/>
          </p:nvSpPr>
          <p:spPr>
            <a:xfrm>
              <a:off x="4140360" y="3597120"/>
              <a:ext cx="2814480" cy="131760"/>
            </a:xfrm>
            <a:custGeom>
              <a:avLst/>
              <a:gdLst/>
              <a:ahLst/>
              <a:rect l="l" t="t" r="r" b="b"/>
              <a:pathLst>
                <a:path w="1773" h="83">
                  <a:moveTo>
                    <a:pt x="1773" y="83"/>
                  </a:moveTo>
                  <a:cubicBezTo>
                    <a:pt x="1773" y="83"/>
                    <a:pt x="1715" y="0"/>
                    <a:pt x="1584" y="3"/>
                  </a:cubicBezTo>
                  <a:cubicBezTo>
                    <a:pt x="792" y="3"/>
                    <a:pt x="0" y="3"/>
                    <a:pt x="0" y="3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prstDash val="dash"/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19680" y="3486240"/>
              <a:ext cx="2174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Condensed Bold"/>
                </a:rPr>
                <a:t>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448080" y="4191120"/>
            <a:ext cx="993600" cy="575640"/>
            <a:chOff x="3448080" y="4191120"/>
            <a:chExt cx="993600" cy="575640"/>
          </a:xfrm>
        </p:grpSpPr>
        <p:sp>
          <p:nvSpPr>
            <p:cNvPr id="300" name=""/>
            <p:cNvSpPr/>
            <p:nvPr/>
          </p:nvSpPr>
          <p:spPr>
            <a:xfrm>
              <a:off x="3490920" y="4512240"/>
              <a:ext cx="906840" cy="254520"/>
            </a:xfrm>
            <a:custGeom>
              <a:avLst/>
              <a:gdLst/>
              <a:ahLst/>
              <a:rect l="l" t="t" r="r" b="b"/>
              <a:pathLst>
                <a:path w="931" h="262">
                  <a:moveTo>
                    <a:pt x="931" y="0"/>
                  </a:moveTo>
                  <a:lnTo>
                    <a:pt x="0" y="0"/>
                  </a:lnTo>
                  <a:lnTo>
                    <a:pt x="474" y="262"/>
                  </a:lnTo>
                  <a:lnTo>
                    <a:pt x="931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448080" y="4191120"/>
              <a:ext cx="99360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489480" y="4508640"/>
            <a:ext cx="900000" cy="538200"/>
          </a:xfrm>
          <a:custGeom>
            <a:avLst/>
            <a:gdLst/>
            <a:ahLst/>
            <a:rect l="l" t="t" r="r" b="b"/>
            <a:pathLst>
              <a:path w="925" h="552">
                <a:moveTo>
                  <a:pt x="0" y="552"/>
                </a:moveTo>
                <a:lnTo>
                  <a:pt x="0" y="8"/>
                </a:lnTo>
                <a:lnTo>
                  <a:pt x="478" y="260"/>
                </a:lnTo>
                <a:lnTo>
                  <a:pt x="925" y="0"/>
                </a:lnTo>
                <a:lnTo>
                  <a:pt x="925" y="552"/>
                </a:lnTo>
                <a:lnTo>
                  <a:pt x="0" y="55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709720" y="2954160"/>
            <a:ext cx="5729400" cy="3335400"/>
          </a:xfrm>
          <a:prstGeom prst="roundRect">
            <a:avLst>
              <a:gd name="adj" fmla="val 16079"/>
            </a:avLst>
          </a:prstGeom>
          <a:solidFill>
            <a:srgbClr val="00cc9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  <a:ea typeface="Arial"/>
              </a:rPr>
              <a:t>Run-tim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indefinite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1043 L -0.00035 0.12975 E">
                                      <p:cBhvr>
                                        <p:cTn id="531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500"/>
                            </p:stCondLst>
                            <p:childTnLst>
                              <p:par>
                                <p:cTn id="5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2500"/>
                            </p:stCondLst>
                            <p:childTnLst>
                              <p:par>
                                <p:cTn id="540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9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2.4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4377"/>
                            </p:stCondLst>
                            <p:childTnLst>
                              <p:par>
                                <p:cTn id="5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377"/>
                            </p:stCondLst>
                            <p:childTnLst>
                              <p:par>
                                <p:cTn id="57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73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4" nodeType="with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25 0 E">
                                      <p:cBhvr>
                                        <p:cTn id="575" dur="2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7377"/>
                            </p:stCondLst>
                            <p:childTnLst>
                              <p:par>
                                <p:cTn id="577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8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7877"/>
                            </p:stCondLst>
                            <p:childTnLst>
                              <p:par>
                                <p:cTn id="5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0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8377"/>
                            </p:stCondLst>
                            <p:childTnLst>
                              <p:par>
                                <p:cTn id="606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7037E-006 L 0.00035 -0.0544 L 0.01042 -0.06899 L 0.07257 -0.06852 L 0.10799 -0.04908 E">
                                      <p:cBhvr>
                                        <p:cTn id="607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377"/>
                            </p:stCondLst>
                            <p:childTnLst>
                              <p:par>
                                <p:cTn id="6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48148E-006 C 4.16667E-006 0.00023 0.02118 0.03148 0.02552 0.04398 C 0.02968 0.05718 0.02656 0.13658 0.02586 0.15625 E">
                                      <p:cBhvr>
                                        <p:cTn id="633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3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2500"/>
                            </p:stCondLst>
                            <p:childTnLst>
                              <p:par>
                                <p:cTn id="6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46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48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638 0.15509 L -0.22362 0.15625 E">
                                      <p:cBhvr>
                                        <p:cTn id="650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4500"/>
                            </p:stCondLst>
                            <p:childTnLst>
                              <p:par>
                                <p:cTn id="6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0"/>
                            </p:stCondLst>
                            <p:childTnLst>
                              <p:par>
                                <p:cTn id="656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500"/>
                            </p:stCondLst>
                            <p:childTnLst>
                              <p:par>
                                <p:cTn id="66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223 0.15686 L -0.10782 -0.21803 E">
                                      <p:cBhvr>
                                        <p:cTn id="661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7500"/>
                            </p:stCondLst>
                            <p:childTnLst>
                              <p:par>
                                <p:cTn id="6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7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0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3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Advert!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990720" y="2666880"/>
            <a:ext cx="7391160" cy="18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Advert!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his is UniGrids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Based on Unicore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Grid environment started in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nicore has been a major contributor to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G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omponents: BES, ByteIO, Naming, RSS, JSD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AS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S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S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S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Resource Propertie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he Specification Defines How to: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XML to model elements of resource st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e state with a WSDL port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andard operations for getting, setting, query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andard mechanisms to subscribe to state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y: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s for standard resource inspection, monitoring, and stat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Intuition: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 of Resource Properties as an XML projection of the actual state of the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Modeling State in XML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 WS-Resource’s “Resource Properties Document”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s of state are modeled as child elements of the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job:JobProperties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&lt;job:JobName&gt;Daves Job&lt;job:JobNam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&lt;job:executionState&gt;Submitted&lt;/job:executionStat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&lt;job:handle&gt; 2824 &lt;/job:handl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&lt;wsrl:CurrentTime&gt; 23 Apr 2004 19:45:29 GMT &lt;/ … 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&lt;wsrl:TerminationTime xsi:nil=“true” 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job:JobPropertie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ortType Attribute Declares the RPD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wsdl:portType ..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wsrf-rp:ResourceProperties=”xsd:QName”? ... &gt;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SD:ref is used to “combine” Resource Properties from various definitions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element references by QN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Resource Property Operation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GetResourceProperty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single resource property element g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return multiple instances of the named 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wsrf-rp:GetResourceProperty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job:hand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wsrf-rp:GetResourceProper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wsrf-rp:GetResourcePropertyResponse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&lt;job:handle&gt; 1577 &lt;/job:handle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wsrf-rp:GetResourceProperty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Resource Property Operation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etMultipleResourceProperties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sophisticated multiple property value retrie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wsrf-rp:GetMultipleResourceProperties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lt;wsrf-rp:ResourceProperty&gt;job:handle &lt;/job:handl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lt;wsrf-rp:ResourceProperty&gt;job:executionState &lt;/ …&gt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lt;wsrf-rp:ResourceProperty&gt;job:JobName &lt;/job:JobNam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wsrf-rp:GetMultipleResourcePropertie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wsrf-rp:GetMultipleResourcePropertiesRespons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lt;job:handle&gt; 2824 &lt;/job:handl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lt;job:executionState&gt; Submitted &lt;/job:executionStat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lt;job:JobName&gt; xclock &lt;/job:JobNam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wsrf-rp:GetMultipleResourcePropertiesResponse&gt;</a:t>
            </a:r>
            <a:br>
              <a:rPr sz="16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Resource Property Operation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QueryResourceProperties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an expression against the resource properties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wsrf-rp:QueryResourceProperties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&lt;wsrf-rp:QueryExpression Dialect=”URI”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xsd:an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&lt;/wsrf-rp:QueryExpression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wsrf-rp:QueryResourceProperties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QueryExpression defines dialect by URI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Path 1.0, 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R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Set Resource Propertie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hree modes can be applied many times in any order in a single message.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: Add a new resource prop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: Replace all properties with a given n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: Remove all properties with a given n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However they must appear to happen in order.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he final version of the RPD must validate.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Faults: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partial completion, final state of RPD is implementation depen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ure to validate final RP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here are also individual Insert, Update, and Delete operations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Whole Document Operation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etResourcePropertyDocument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the entire resource property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utResourcePropertyDocument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 the entire RPD with a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mantics are service specific, and very lo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resulting document is different than the provided document, the resulting document is retur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irtually Identical Semantics to WS-Transfer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ocument type in WS-Transfer less restri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Lifetime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efines: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ediate, synchronous destruction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-based, scheduled destruction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-state” or “leased” lifetim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tion time not required to increase monotonical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Resource properties: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Time: Can be used to determine clock sk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tionTime: Current scheduled terminati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otification of resource termination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y: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clear means by which resources can be destr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the Grid to “Garbage Collect” itself automa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Lifetime Operation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mmediate Destruction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wsrf-rl:Destroy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cheduled Termination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wsrf-rl:SetTerminationTime&gt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[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&lt;wsrf-rl:RequestedTerminationTime xsi:nil=”xsd:boolean”?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xsd:dateTim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&lt;/wsrf-rl:RequestedTerminationTim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] | [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&lt;wsrf-rl:RequestedLifetimeDuration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xsd:dur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&lt;/wsrf-rl:RequestedLifetimeDuration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wsrf-rl:SetTermination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Notification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S-Notification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ngs publish and subscribe messaging to Web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sely coupled, asynchronous messaging in W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S Notification composes with WSRF and other W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Brokered notification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intermediates, queuing, aggregation, distribution, filtering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opics and Topic Spaces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a mechanism to advertise topics for subscrip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se of WS-Notification in WS-RF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 notification changes to the Resource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What do Grids do?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48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Resource Sharing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an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ollaboration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ecurity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CO Reduction for throughput systems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6120" y="1600200"/>
            <a:ext cx="3848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ore Categories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Base Notification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Defines direct notification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hree primary roles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criber deals directly with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r which sen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ications to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 ba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subscri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he Subscription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s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ications th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7208640" y="3111480"/>
            <a:ext cx="1443240" cy="1030320"/>
            <a:chOff x="7208640" y="3111480"/>
            <a:chExt cx="1443240" cy="1030320"/>
          </a:xfrm>
        </p:grpSpPr>
        <p:sp>
          <p:nvSpPr>
            <p:cNvPr id="329" name=""/>
            <p:cNvSpPr/>
            <p:nvPr/>
          </p:nvSpPr>
          <p:spPr>
            <a:xfrm flipH="1">
              <a:off x="7208280" y="3111480"/>
              <a:ext cx="1204920" cy="1028880"/>
            </a:xfrm>
            <a:prstGeom prst="rect">
              <a:avLst/>
            </a:prstGeom>
            <a:solidFill>
              <a:srgbClr val="00bc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8f8f8"/>
                  </a:solidFill>
                  <a:latin typeface="Arial Condensed Bold"/>
                </a:rPr>
                <a:t>Consum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409240" y="3111480"/>
              <a:ext cx="242640" cy="103032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280120" y="5343480"/>
            <a:ext cx="420480" cy="390600"/>
          </a:xfrm>
          <a:custGeom>
            <a:avLst/>
            <a:gdLst>
              <a:gd name="textAreaLeft" fmla="*/ 95760 w 420480"/>
              <a:gd name="textAreaRight" fmla="*/ 324720 w 420480"/>
              <a:gd name="textAreaTop" fmla="*/ 88920 h 390600"/>
              <a:gd name="textAreaBottom" fmla="*/ 301680 h 390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5019840" y="4246560"/>
            <a:ext cx="1635120" cy="1033200"/>
            <a:chOff x="5019840" y="4246560"/>
            <a:chExt cx="1635120" cy="1033200"/>
          </a:xfrm>
        </p:grpSpPr>
        <p:sp>
          <p:nvSpPr>
            <p:cNvPr id="333" name=""/>
            <p:cNvSpPr/>
            <p:nvPr/>
          </p:nvSpPr>
          <p:spPr>
            <a:xfrm>
              <a:off x="5019840" y="4249440"/>
              <a:ext cx="243000" cy="103032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257800" y="4249440"/>
              <a:ext cx="1204920" cy="1028880"/>
            </a:xfrm>
            <a:prstGeom prst="rect">
              <a:avLst/>
            </a:prstGeom>
            <a:solidFill>
              <a:srgbClr val="00bc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8f8f8"/>
                  </a:solidFill>
                  <a:latin typeface="Arial Condensed Bold"/>
                </a:rPr>
                <a:t>Produc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11960" y="4246560"/>
              <a:ext cx="243000" cy="103032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6919560" y="1284120"/>
            <a:ext cx="1443240" cy="1030320"/>
            <a:chOff x="6919560" y="1284120"/>
            <a:chExt cx="1443240" cy="1030320"/>
          </a:xfrm>
        </p:grpSpPr>
        <p:sp>
          <p:nvSpPr>
            <p:cNvPr id="337" name=""/>
            <p:cNvSpPr/>
            <p:nvPr/>
          </p:nvSpPr>
          <p:spPr>
            <a:xfrm flipH="1">
              <a:off x="6919200" y="1284120"/>
              <a:ext cx="1204920" cy="1028880"/>
            </a:xfrm>
            <a:prstGeom prst="rect">
              <a:avLst/>
            </a:prstGeom>
            <a:solidFill>
              <a:srgbClr val="00bc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8f8f8"/>
                  </a:solidFill>
                  <a:latin typeface="Arial Condensed Bold"/>
                </a:rPr>
                <a:t>Subscrib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8120160" y="1284120"/>
              <a:ext cx="242640" cy="103032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7950240" y="5705640"/>
            <a:ext cx="577800" cy="520560"/>
          </a:xfrm>
          <a:prstGeom prst="can">
            <a:avLst>
              <a:gd name="adj" fmla="val 33842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510240" y="1739880"/>
            <a:ext cx="550800" cy="507960"/>
          </a:xfrm>
          <a:custGeom>
            <a:avLst/>
            <a:gdLst/>
            <a:ahLst/>
            <a:rect l="l" t="t" r="r" b="b"/>
            <a:pathLst>
              <a:path w="933" h="859">
                <a:moveTo>
                  <a:pt x="0" y="859"/>
                </a:moveTo>
                <a:lnTo>
                  <a:pt x="0" y="324"/>
                </a:lnTo>
                <a:lnTo>
                  <a:pt x="478" y="0"/>
                </a:lnTo>
                <a:lnTo>
                  <a:pt x="933" y="308"/>
                </a:lnTo>
                <a:lnTo>
                  <a:pt x="925" y="859"/>
                </a:lnTo>
                <a:lnTo>
                  <a:pt x="0" y="85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236000" y="1655640"/>
            <a:ext cx="452160" cy="2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Condensed Bold"/>
              </a:rPr>
              <a:t>subscri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12040" y="1927080"/>
            <a:ext cx="552240" cy="327240"/>
          </a:xfrm>
          <a:custGeom>
            <a:avLst/>
            <a:gdLst/>
            <a:ahLst/>
            <a:rect l="l" t="t" r="r" b="b"/>
            <a:pathLst>
              <a:path w="572" h="340">
                <a:moveTo>
                  <a:pt x="0" y="340"/>
                </a:moveTo>
                <a:lnTo>
                  <a:pt x="0" y="6"/>
                </a:lnTo>
                <a:lnTo>
                  <a:pt x="293" y="161"/>
                </a:lnTo>
                <a:lnTo>
                  <a:pt x="572" y="0"/>
                </a:lnTo>
                <a:lnTo>
                  <a:pt x="567" y="340"/>
                </a:lnTo>
                <a:lnTo>
                  <a:pt x="0" y="3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389480" y="4557600"/>
            <a:ext cx="550800" cy="497160"/>
          </a:xfrm>
          <a:custGeom>
            <a:avLst/>
            <a:gdLst/>
            <a:ahLst/>
            <a:rect l="l" t="t" r="r" b="b"/>
            <a:pathLst>
              <a:path w="933" h="859">
                <a:moveTo>
                  <a:pt x="0" y="859"/>
                </a:moveTo>
                <a:lnTo>
                  <a:pt x="0" y="324"/>
                </a:lnTo>
                <a:lnTo>
                  <a:pt x="478" y="0"/>
                </a:lnTo>
                <a:lnTo>
                  <a:pt x="933" y="308"/>
                </a:lnTo>
                <a:lnTo>
                  <a:pt x="925" y="859"/>
                </a:lnTo>
                <a:lnTo>
                  <a:pt x="0" y="85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435560" y="4776840"/>
            <a:ext cx="452520" cy="2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Condensed Bold"/>
              </a:rPr>
              <a:t>subscri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513480" y="1930320"/>
            <a:ext cx="553680" cy="320400"/>
            <a:chOff x="6513480" y="1930320"/>
            <a:chExt cx="553680" cy="320400"/>
          </a:xfrm>
        </p:grpSpPr>
        <p:sp>
          <p:nvSpPr>
            <p:cNvPr id="346" name=""/>
            <p:cNvSpPr/>
            <p:nvPr/>
          </p:nvSpPr>
          <p:spPr>
            <a:xfrm>
              <a:off x="6515280" y="1930320"/>
              <a:ext cx="548640" cy="320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513480" y="1933560"/>
              <a:ext cx="553680" cy="145080"/>
            </a:xfrm>
            <a:custGeom>
              <a:avLst/>
              <a:gdLst/>
              <a:ahLst/>
              <a:rect l="l" t="t" r="r" b="b"/>
              <a:pathLst>
                <a:path w="346" h="90">
                  <a:moveTo>
                    <a:pt x="346" y="0"/>
                  </a:moveTo>
                  <a:lnTo>
                    <a:pt x="173" y="90"/>
                  </a:lnTo>
                  <a:lnTo>
                    <a:pt x="0" y="4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5361120" y="5421240"/>
            <a:ext cx="242640" cy="2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6194520" y="5224320"/>
            <a:ext cx="1758960" cy="7797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261120" y="4408560"/>
            <a:ext cx="550800" cy="507960"/>
          </a:xfrm>
          <a:custGeom>
            <a:avLst/>
            <a:gdLst/>
            <a:ahLst/>
            <a:rect l="l" t="t" r="r" b="b"/>
            <a:pathLst>
              <a:path w="933" h="859">
                <a:moveTo>
                  <a:pt x="0" y="859"/>
                </a:moveTo>
                <a:lnTo>
                  <a:pt x="0" y="324"/>
                </a:lnTo>
                <a:lnTo>
                  <a:pt x="478" y="0"/>
                </a:lnTo>
                <a:lnTo>
                  <a:pt x="933" y="308"/>
                </a:lnTo>
                <a:lnTo>
                  <a:pt x="925" y="859"/>
                </a:lnTo>
                <a:lnTo>
                  <a:pt x="0" y="85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43440" y="4976640"/>
            <a:ext cx="452520" cy="2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Condensed Bold"/>
              </a:rPr>
              <a:t>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484520" y="5199120"/>
            <a:ext cx="446400" cy="261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Condensed Bold"/>
              </a:rPr>
              <a:t>E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4935600" y="5397480"/>
            <a:ext cx="450720" cy="138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402080" y="4745160"/>
            <a:ext cx="552600" cy="312480"/>
          </a:xfrm>
          <a:custGeom>
            <a:avLst/>
            <a:gdLst/>
            <a:ahLst/>
            <a:rect l="l" t="t" r="r" b="b"/>
            <a:pathLst>
              <a:path w="572" h="340">
                <a:moveTo>
                  <a:pt x="0" y="340"/>
                </a:moveTo>
                <a:lnTo>
                  <a:pt x="0" y="6"/>
                </a:lnTo>
                <a:lnTo>
                  <a:pt x="293" y="161"/>
                </a:lnTo>
                <a:lnTo>
                  <a:pt x="572" y="0"/>
                </a:lnTo>
                <a:lnTo>
                  <a:pt x="567" y="340"/>
                </a:lnTo>
                <a:lnTo>
                  <a:pt x="0" y="3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4387680" y="4735440"/>
            <a:ext cx="553680" cy="320400"/>
            <a:chOff x="4387680" y="4735440"/>
            <a:chExt cx="553680" cy="320400"/>
          </a:xfrm>
        </p:grpSpPr>
        <p:sp>
          <p:nvSpPr>
            <p:cNvPr id="356" name=""/>
            <p:cNvSpPr/>
            <p:nvPr/>
          </p:nvSpPr>
          <p:spPr>
            <a:xfrm>
              <a:off x="4389480" y="4735440"/>
              <a:ext cx="548640" cy="320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387680" y="4738680"/>
              <a:ext cx="553680" cy="145080"/>
            </a:xfrm>
            <a:custGeom>
              <a:avLst/>
              <a:gdLst/>
              <a:ahLst/>
              <a:rect l="l" t="t" r="r" b="b"/>
              <a:pathLst>
                <a:path w="346" h="90">
                  <a:moveTo>
                    <a:pt x="346" y="0"/>
                  </a:moveTo>
                  <a:lnTo>
                    <a:pt x="173" y="90"/>
                  </a:lnTo>
                  <a:lnTo>
                    <a:pt x="0" y="4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6261120" y="4584600"/>
            <a:ext cx="552600" cy="327240"/>
          </a:xfrm>
          <a:custGeom>
            <a:avLst/>
            <a:gdLst/>
            <a:ahLst/>
            <a:rect l="l" t="t" r="r" b="b"/>
            <a:pathLst>
              <a:path w="572" h="340">
                <a:moveTo>
                  <a:pt x="0" y="340"/>
                </a:moveTo>
                <a:lnTo>
                  <a:pt x="0" y="6"/>
                </a:lnTo>
                <a:lnTo>
                  <a:pt x="293" y="161"/>
                </a:lnTo>
                <a:lnTo>
                  <a:pt x="572" y="0"/>
                </a:lnTo>
                <a:lnTo>
                  <a:pt x="567" y="340"/>
                </a:lnTo>
                <a:lnTo>
                  <a:pt x="0" y="3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6257880" y="4600440"/>
            <a:ext cx="553680" cy="320400"/>
            <a:chOff x="6257880" y="4600440"/>
            <a:chExt cx="553680" cy="320400"/>
          </a:xfrm>
        </p:grpSpPr>
        <p:sp>
          <p:nvSpPr>
            <p:cNvPr id="360" name=""/>
            <p:cNvSpPr/>
            <p:nvPr/>
          </p:nvSpPr>
          <p:spPr>
            <a:xfrm>
              <a:off x="6259680" y="4600440"/>
              <a:ext cx="548640" cy="320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57880" y="4603680"/>
              <a:ext cx="553680" cy="145080"/>
            </a:xfrm>
            <a:custGeom>
              <a:avLst/>
              <a:gdLst/>
              <a:ahLst/>
              <a:rect l="l" t="t" r="r" b="b"/>
              <a:pathLst>
                <a:path w="346" h="90">
                  <a:moveTo>
                    <a:pt x="346" y="0"/>
                  </a:moveTo>
                  <a:lnTo>
                    <a:pt x="173" y="90"/>
                  </a:lnTo>
                  <a:lnTo>
                    <a:pt x="0" y="4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500"/>
                            </p:stCondLst>
                            <p:childTnLst>
                              <p:par>
                                <p:cTn id="7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22222E-006 L -0.04757 -0.0331 L -0.07344 -0.03403 L -0.07344 0.04375 E">
                                      <p:cBhvr>
                                        <p:cTn id="707" dur="1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2500"/>
                            </p:stCondLst>
                            <p:childTnLst>
                              <p:par>
                                <p:cTn id="709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1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3000"/>
                            </p:stCondLst>
                            <p:childTnLst>
                              <p:par>
                                <p:cTn id="7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3000"/>
                            </p:stCondLst>
                            <p:childTnLst>
                              <p:par>
                                <p:cTn id="7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0.00208 L -0.07656 0.00579 L -0.23003 0.33912 L -0.23177 0.40741 E">
                                      <p:cBhvr>
                                        <p:cTn id="723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0"/>
                            </p:stCondLst>
                            <p:childTnLst>
                              <p:par>
                                <p:cTn id="7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5000"/>
                            </p:stCondLst>
                            <p:childTnLst>
                              <p:par>
                                <p:cTn id="7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3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500"/>
                            </p:stCondLst>
                            <p:childTnLst>
                              <p:par>
                                <p:cTn id="7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052 -0.06227 L 0.07101 -0.04213 E">
                                      <p:cBhvr>
                                        <p:cTn id="738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7500"/>
                            </p:stCondLst>
                            <p:childTnLst>
                              <p:par>
                                <p:cTn id="7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9500"/>
                            </p:stCondLst>
                            <p:childTnLst>
                              <p:par>
                                <p:cTn id="7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5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500"/>
                            </p:stCondLst>
                            <p:childTnLst>
                              <p:par>
                                <p:cTn id="7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52178E-006 L 0.06475 -0.06672 L 0.06441 -0.10982 L -0.00139 -0.18118 L -0.00278 -0.06047 E">
                                      <p:cBhvr>
                                        <p:cTn id="758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0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6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7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500"/>
                            </p:stCondLst>
                            <p:childTnLst>
                              <p:par>
                                <p:cTn id="7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11111E-006 L 0.00017 -0.06389 L 0.15694 -0.4037 L 0.22934 -0.41088 E">
                                      <p:cBhvr>
                                        <p:cTn id="779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-0.06111 L -0.00348 -0.12708 L 0.15295 -0.46898 L 0.22587 -0.47338 E">
                                      <p:cBhvr>
                                        <p:cTn id="781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2000"/>
                            </p:stCondLst>
                            <p:childTnLst>
                              <p:par>
                                <p:cTn id="7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4000"/>
                            </p:stCondLst>
                            <p:childTnLst>
                              <p:par>
                                <p:cTn id="792" nodeType="after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3" dur="3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4" dur="150" autoRev="1" fill="hold"/>
                                        <p:tgtEl>
                                          <p:spTgt spid="3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7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5800"/>
                            </p:stCondLst>
                            <p:childTnLst>
                              <p:par>
                                <p:cTn id="799" nodeType="afterEffect" fill="hold" presetClass="exit" presetID="1" repeatCount="100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6200"/>
                            </p:stCondLst>
                            <p:childTnLst>
                              <p:par>
                                <p:cTn id="8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7200"/>
                            </p:stCondLst>
                            <p:childTnLst>
                              <p:par>
                                <p:cTn id="8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4" dur="250" autoRev="1" fill="hold"/>
                                        <p:tgtEl>
                                          <p:spTgt spid="3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0.00209 L -0.00278 -0.10533 L 0.05903 -0.15695 L 0.06198 -0.05232 E">
                                      <p:cBhvr>
                                        <p:cTn id="820" dur="1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2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22045E-016 L 0.00018 -0.06389 L 0.04583 -0.15139 L 0.11979 -0.15139 E">
                                      <p:cBhvr>
                                        <p:cTn id="836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0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Advanced Topic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dvanced Resource Properties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herence issues and relationship to service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ervice Groups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Base Faults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Dynamic Resource Propertie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Recall that Resource Properties are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XML representation of a resource’s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be thought of as a projection of actual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ynamic Properties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not actually exist until their value is requ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ue Length on a Batch Sub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Time on any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RPs’ XMP representations can be created on the f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his has interesting implications for the Query Operations and for the Resource Property Document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Coherency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67" name=""/>
          <p:cNvSpPr/>
          <p:nvPr/>
        </p:nvSpPr>
        <p:spPr>
          <a:xfrm>
            <a:off x="3992400" y="1731960"/>
            <a:ext cx="4313520" cy="3643200"/>
          </a:xfrm>
          <a:prstGeom prst="roundRect">
            <a:avLst>
              <a:gd name="adj" fmla="val 4542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699240" y="5294160"/>
            <a:ext cx="10731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Condensed Bold"/>
              </a:rPr>
              <a:t>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349800" y="2367000"/>
            <a:ext cx="406080" cy="31957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Condensed Bold"/>
                <a:ea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730680" y="2370240"/>
            <a:ext cx="1298520" cy="31924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248520" y="3429000"/>
            <a:ext cx="1854000" cy="1828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 Condensed Bold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371600" y="1371600"/>
            <a:ext cx="7238880" cy="4724280"/>
          </a:xfrm>
          <a:prstGeom prst="roundRect">
            <a:avLst>
              <a:gd name="adj" fmla="val 16079"/>
            </a:avLst>
          </a:prstGeom>
          <a:solidFill>
            <a:srgbClr val="00cc9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  <a:ea typeface="Arial"/>
              </a:rPr>
              <a:t>Run-tim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0" y="3657600"/>
            <a:ext cx="762120" cy="380880"/>
          </a:xfrm>
          <a:prstGeom prst="hexagon">
            <a:avLst>
              <a:gd name="adj" fmla="val 50024"/>
              <a:gd name="vf" fmla="val 115470"/>
            </a:avLst>
          </a:prstGeom>
          <a:solidFill>
            <a:srgbClr val="b500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0" y="4648320"/>
            <a:ext cx="762120" cy="380880"/>
          </a:xfrm>
          <a:prstGeom prst="hexagon">
            <a:avLst>
              <a:gd name="adj" fmla="val 50024"/>
              <a:gd name="vf" fmla="val 115470"/>
            </a:avLst>
          </a:prstGeom>
          <a:solidFill>
            <a:srgbClr val="b500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34120" y="2209680"/>
            <a:ext cx="1295280" cy="381240"/>
          </a:xfrm>
          <a:prstGeom prst="hexagon">
            <a:avLst>
              <a:gd name="adj" fmla="val 84939"/>
              <a:gd name="vf" fmla="val 115470"/>
            </a:avLst>
          </a:prstGeom>
          <a:solidFill>
            <a:srgbClr val="ff64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bar-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334120" y="2666880"/>
            <a:ext cx="1295280" cy="381240"/>
          </a:xfrm>
          <a:prstGeom prst="hexagon">
            <a:avLst>
              <a:gd name="adj" fmla="val 84939"/>
              <a:gd name="vf" fmla="val 115470"/>
            </a:avLst>
          </a:prstGeom>
          <a:solidFill>
            <a:srgbClr val="ff64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-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334120" y="3124080"/>
            <a:ext cx="1295280" cy="381240"/>
          </a:xfrm>
          <a:prstGeom prst="hexagon">
            <a:avLst>
              <a:gd name="adj" fmla="val 84939"/>
              <a:gd name="vf" fmla="val 115470"/>
            </a:avLst>
          </a:prstGeom>
          <a:solidFill>
            <a:srgbClr val="ff64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-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3" idx="0"/>
            <a:endCxn id="376" idx="3"/>
          </p:cNvCxnSpPr>
          <p:nvPr/>
        </p:nvCxnSpPr>
        <p:spPr>
          <a:xfrm flipV="1" rot="16200000">
            <a:off x="6533640" y="2952360"/>
            <a:ext cx="800640" cy="610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"/>
          <p:cNvCxnSpPr>
            <a:stCxn id="374" idx="1"/>
            <a:endCxn id="377" idx="2"/>
          </p:cNvCxnSpPr>
          <p:nvPr/>
        </p:nvCxnSpPr>
        <p:spPr>
          <a:xfrm rot="10800000">
            <a:off x="5981040" y="3504600"/>
            <a:ext cx="876960" cy="133416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0" name=""/>
          <p:cNvCxnSpPr>
            <a:stCxn id="373" idx="3"/>
            <a:endCxn id="375" idx="3"/>
          </p:cNvCxnSpPr>
          <p:nvPr/>
        </p:nvCxnSpPr>
        <p:spPr>
          <a:xfrm flipH="1" flipV="1">
            <a:off x="6629040" y="2399760"/>
            <a:ext cx="991440" cy="1448280"/>
          </a:xfrm>
          <a:prstGeom prst="curvedConnector5">
            <a:avLst>
              <a:gd name="adj1" fmla="val -23065"/>
              <a:gd name="adj2" fmla="val 50000"/>
              <a:gd name="adj3" fmla="val -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4" idx="3"/>
            <a:endCxn id="375" idx="3"/>
          </p:cNvCxnSpPr>
          <p:nvPr/>
        </p:nvCxnSpPr>
        <p:spPr>
          <a:xfrm flipH="1" flipV="1">
            <a:off x="6629040" y="2399760"/>
            <a:ext cx="991440" cy="2439000"/>
          </a:xfrm>
          <a:prstGeom prst="curvedConnector5">
            <a:avLst>
              <a:gd name="adj1" fmla="val -57355"/>
              <a:gd name="adj2" fmla="val 50000"/>
              <a:gd name="adj3" fmla="val -573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2362320" y="2590920"/>
            <a:ext cx="1218960" cy="304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362320" y="3124080"/>
            <a:ext cx="121896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362320" y="4572000"/>
            <a:ext cx="121896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indefinite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Service Group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efines: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service interfaces for representing collections of Web services or WS-Resources, referenced by EP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G entry includes member EPR + associated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SRF-RP used for representing the e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s may be homogenous or heterogene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have rules constraining membership and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a registration interface for adding e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SRF-RL used for removing e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y: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riad of reasons for groups: E.g. Registries, collective operations, federated service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Service Group Model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401760" y="1809720"/>
            <a:ext cx="819468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Model Continued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erviceGroup 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llection of Web services and the information that pertains to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 is application domain spec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erviceGroupEntry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S-Resource that models the membership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s associated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erviceGroupRegistration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exchange for adding new members to s 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ship may occur in other 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ember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service, WS-Resource, Something identified by an E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Service Group Characteristic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erviceGroup Destruction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GroupEntries should also be destroyed, i.e. the membership relationship id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 members are not aff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Membership Largely Unrestricted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mber may belong to several Service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mber may belong to the same ServiceGroup more then o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mber of a ServiceGroup may implement message exchanges from various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Resource Properties Relationship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MembershipContentRule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elements specify the constraints on membership of the servic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the supported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dates the presence of specified Resource Properties in the Entry’s Resource Property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ntry Resource Properties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elements may represent a projection of the Resource Properties of Member WS-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content is also permit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Base Fault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efines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“common” properties of a fa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ntion for specializing “common” fa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“common” fault type is used in WS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hy?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the likelihood that service requestors to automatically (without human intervention) understand and/or adapt to faults requires interface designers to define rich, structured fault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fault messages encourage tooling that can assist interface designers, service implementers, and client impleme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What do Grids do?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48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curity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e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ization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Virtual Organizations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ization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ata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ca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ing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6120" y="1600200"/>
            <a:ext cx="3848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Execution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000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rvice Composition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contrac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scovery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2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2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2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37280" y="5872320"/>
            <a:ext cx="353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Is OGSA up to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Mini Workshop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Each Group Takes a Topic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esign How to Implement the Service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nly operation you can add is a ‘create’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thers must be from WS-Addressing, WSRF, or WS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ee how sophisticated you can make the service.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omment on your design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is really such a good ide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possible problems with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constraints could you add to the environment to make it bet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standards play and further role in this process? Wh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..et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Mini Workshop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roup 1: Job Submit Service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a JSDL Document for a job, execute the job on a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ain a reference (EPR) to the 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ll the job facility and Maximum runtime fac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a message when the job finis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ain output from the jo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roup 2: Registry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s supporting a number of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s have standard properties for load and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s are public or “members only”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ain references to the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ain the availability of the services (directly and indirect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mechanisms for keeping the registry up to d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Mini Workshop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roup 3: Data Streaming Service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acility that allow a service to provide a continuous supply of data to a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should not be provided more than o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s information should be provi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about the stream should be provi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the data be made available to clients behind the firew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roup 4: A VO Manager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nd remove me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s join for a set time and extend their membership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must be advertised and enforced membership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Mini Workshop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roup 5: Virtualized Data Source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ccess to the data from an experiment or the results of some comp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chema/format of the data source must be discove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is always available once created, until the service is no longer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roup 6: Identity Mapping Service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users have an X509 Certif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may also have several other identities in various formats. The service maps to one of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acility to advertise what mappings are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acility to add a new mapping for a us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the security implications, if this is a remote serv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Mini Workshop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roup 7: Third Party File Transfer Service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two URI’s for two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rvice that will transfer the source to the dest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information on the status of the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rvice should have an option to tell the user when it is finis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cel the transfer or give it longer to fin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roup 8: Application Steering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an application is running and supports WS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ould you expose a steering interf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a few simple steering contro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need a facility to obtain data from the application and provide for a feedback mech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Mini Workshop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Group 9: Authorization Service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 user identity (X509 cert), the EPR for a service, and maximum comput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 service to authorize users for particular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ation and removal of authorized users is also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security implications, if this is a remote ser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Extra Credit: Include accounting based authorization, e.g. “No you can’t run it. You spent all your money already.”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What is OGSA?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Open Grid Services Architecture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tandard for building Grids.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s some things about what a Grid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s a process for making Grids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he “Service” in OGSA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GSA is based on Service Oriented Architecture manifested in Web Servi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he “Open” in OGSA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 by which the architecture is defined is open to all and trans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Standards Development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GF, OASIS, W3C, IETF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WS 101: The Web Service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4691160" y="3914640"/>
            <a:ext cx="384120" cy="18097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Condensed Bold"/>
                <a:ea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72040" y="3917880"/>
            <a:ext cx="1225440" cy="1808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76520" y="4202280"/>
            <a:ext cx="908280" cy="834840"/>
          </a:xfrm>
          <a:custGeom>
            <a:avLst/>
            <a:gdLst/>
            <a:ahLst/>
            <a:rect l="l" t="t" r="r" b="b"/>
            <a:pathLst>
              <a:path w="933" h="859">
                <a:moveTo>
                  <a:pt x="0" y="859"/>
                </a:moveTo>
                <a:lnTo>
                  <a:pt x="0" y="324"/>
                </a:lnTo>
                <a:lnTo>
                  <a:pt x="478" y="0"/>
                </a:lnTo>
                <a:lnTo>
                  <a:pt x="933" y="308"/>
                </a:lnTo>
                <a:lnTo>
                  <a:pt x="925" y="859"/>
                </a:lnTo>
                <a:lnTo>
                  <a:pt x="0" y="85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29080" y="4543560"/>
            <a:ext cx="798480" cy="4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11400" y="4175280"/>
            <a:ext cx="907920" cy="834840"/>
          </a:xfrm>
          <a:custGeom>
            <a:avLst/>
            <a:gdLst/>
            <a:ahLst/>
            <a:rect l="l" t="t" r="r" b="b"/>
            <a:pathLst>
              <a:path w="933" h="859">
                <a:moveTo>
                  <a:pt x="0" y="859"/>
                </a:moveTo>
                <a:lnTo>
                  <a:pt x="0" y="324"/>
                </a:lnTo>
                <a:lnTo>
                  <a:pt x="478" y="0"/>
                </a:lnTo>
                <a:lnTo>
                  <a:pt x="933" y="308"/>
                </a:lnTo>
                <a:lnTo>
                  <a:pt x="925" y="859"/>
                </a:lnTo>
                <a:lnTo>
                  <a:pt x="0" y="85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63600" y="3641760"/>
            <a:ext cx="798480" cy="4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98440" y="4481640"/>
            <a:ext cx="900360" cy="538200"/>
          </a:xfrm>
          <a:custGeom>
            <a:avLst/>
            <a:gdLst/>
            <a:ahLst/>
            <a:rect l="l" t="t" r="r" b="b"/>
            <a:pathLst>
              <a:path w="925" h="552">
                <a:moveTo>
                  <a:pt x="0" y="552"/>
                </a:moveTo>
                <a:lnTo>
                  <a:pt x="0" y="8"/>
                </a:lnTo>
                <a:lnTo>
                  <a:pt x="478" y="260"/>
                </a:lnTo>
                <a:lnTo>
                  <a:pt x="925" y="0"/>
                </a:lnTo>
                <a:lnTo>
                  <a:pt x="925" y="552"/>
                </a:lnTo>
                <a:lnTo>
                  <a:pt x="0" y="55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166760" y="4173480"/>
            <a:ext cx="993960" cy="576000"/>
            <a:chOff x="1166760" y="4173480"/>
            <a:chExt cx="993960" cy="576000"/>
          </a:xfrm>
        </p:grpSpPr>
        <p:sp>
          <p:nvSpPr>
            <p:cNvPr id="107" name=""/>
            <p:cNvSpPr/>
            <p:nvPr/>
          </p:nvSpPr>
          <p:spPr>
            <a:xfrm>
              <a:off x="1209600" y="4494600"/>
              <a:ext cx="907200" cy="254880"/>
            </a:xfrm>
            <a:custGeom>
              <a:avLst/>
              <a:gdLst/>
              <a:ahLst/>
              <a:rect l="l" t="t" r="r" b="b"/>
              <a:pathLst>
                <a:path w="931" h="262">
                  <a:moveTo>
                    <a:pt x="931" y="0"/>
                  </a:moveTo>
                  <a:lnTo>
                    <a:pt x="0" y="0"/>
                  </a:lnTo>
                  <a:lnTo>
                    <a:pt x="474" y="262"/>
                  </a:lnTo>
                  <a:lnTo>
                    <a:pt x="931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66760" y="4173480"/>
              <a:ext cx="99396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192320" y="4483080"/>
            <a:ext cx="909360" cy="536760"/>
          </a:xfrm>
          <a:prstGeom prst="rect">
            <a:avLst/>
          </a:prstGeom>
          <a:solidFill>
            <a:srgbClr val="ff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81160" y="459432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Condensed Bold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427560" y="4197240"/>
            <a:ext cx="993600" cy="576000"/>
            <a:chOff x="3427560" y="4197240"/>
            <a:chExt cx="993600" cy="576000"/>
          </a:xfrm>
        </p:grpSpPr>
        <p:sp>
          <p:nvSpPr>
            <p:cNvPr id="112" name=""/>
            <p:cNvSpPr/>
            <p:nvPr/>
          </p:nvSpPr>
          <p:spPr>
            <a:xfrm>
              <a:off x="3470400" y="4518360"/>
              <a:ext cx="906840" cy="254880"/>
            </a:xfrm>
            <a:custGeom>
              <a:avLst/>
              <a:gdLst/>
              <a:ahLst/>
              <a:rect l="l" t="t" r="r" b="b"/>
              <a:pathLst>
                <a:path w="931" h="262">
                  <a:moveTo>
                    <a:pt x="931" y="0"/>
                  </a:moveTo>
                  <a:lnTo>
                    <a:pt x="0" y="0"/>
                  </a:lnTo>
                  <a:lnTo>
                    <a:pt x="474" y="262"/>
                  </a:lnTo>
                  <a:lnTo>
                    <a:pt x="931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7560" y="4197240"/>
              <a:ext cx="99360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489480" y="4508640"/>
            <a:ext cx="900000" cy="538200"/>
          </a:xfrm>
          <a:custGeom>
            <a:avLst/>
            <a:gdLst/>
            <a:ahLst/>
            <a:rect l="l" t="t" r="r" b="b"/>
            <a:pathLst>
              <a:path w="925" h="552">
                <a:moveTo>
                  <a:pt x="0" y="552"/>
                </a:moveTo>
                <a:lnTo>
                  <a:pt x="0" y="8"/>
                </a:lnTo>
                <a:lnTo>
                  <a:pt x="478" y="260"/>
                </a:lnTo>
                <a:lnTo>
                  <a:pt x="925" y="0"/>
                </a:lnTo>
                <a:lnTo>
                  <a:pt x="925" y="552"/>
                </a:lnTo>
                <a:lnTo>
                  <a:pt x="0" y="55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49400" y="1960560"/>
            <a:ext cx="961920" cy="4809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Endpoin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Condensed Bold"/>
              </a:rPr>
              <a:t>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01920" y="2430360"/>
            <a:ext cx="134640" cy="2176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00360" y="2932200"/>
            <a:ext cx="5729400" cy="3335400"/>
          </a:xfrm>
          <a:prstGeom prst="roundRect">
            <a:avLst>
              <a:gd name="adj" fmla="val 16079"/>
            </a:avLst>
          </a:prstGeom>
          <a:solidFill>
            <a:srgbClr val="00cc9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  <a:ea typeface="Arial"/>
              </a:rPr>
              <a:t>Run-tim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1043 L -0.00035 0.12975 E">
                                      <p:cBhvr>
                                        <p:cTn id="17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2.4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377"/>
                            </p:stCondLst>
                            <p:childTnLst>
                              <p:par>
                                <p:cTn id="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377"/>
                            </p:stCondLst>
                            <p:childTnLst>
                              <p:par>
                                <p:cTn id="5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9" dur="1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25 0 E">
                                      <p:cBhvr>
                                        <p:cTn id="6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377"/>
                            </p:stCondLst>
                            <p:childTnLst>
                              <p:par>
                                <p:cTn id="63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877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7377"/>
                            </p:stCondLst>
                            <p:childTnLst>
                              <p:par>
                                <p:cTn id="8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7877"/>
                            </p:stCondLst>
                            <p:childTnLst>
                              <p:par>
                                <p:cTn id="93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31789E-006 L 0.00035 -0.05445 L 0.02275 -0.0848 L 0.0665 -0.0848 E">
                                      <p:cBhvr>
                                        <p:cTn id="94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6629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OGSA Evolution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44792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nomy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Gr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464832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ysiology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Gr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43200" y="144792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GSA V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43200" y="2209680"/>
            <a:ext cx="1371600" cy="60984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GSA Glo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144792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74c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G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05520" y="2209680"/>
            <a:ext cx="1371600" cy="609840"/>
          </a:xfrm>
          <a:prstGeom prst="roundRect">
            <a:avLst>
              <a:gd name="adj" fmla="val 16667"/>
            </a:avLst>
          </a:prstGeom>
          <a:solidFill>
            <a:srgbClr val="74c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c Exec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05520" y="297180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74c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05520" y="373392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74c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66880" y="464832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74c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 Gr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464832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74c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5410080"/>
            <a:ext cx="1371600" cy="609840"/>
          </a:xfrm>
          <a:prstGeom prst="roundRect">
            <a:avLst>
              <a:gd name="adj" fmla="val 16667"/>
            </a:avLst>
          </a:prstGeom>
          <a:solidFill>
            <a:srgbClr val="74c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67480" y="114300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467480" y="1981080"/>
            <a:ext cx="1371600" cy="609840"/>
          </a:xfrm>
          <a:prstGeom prst="roundRect">
            <a:avLst>
              <a:gd name="adj" fmla="val 16667"/>
            </a:avLst>
          </a:prstGeom>
          <a:solidFill>
            <a:srgbClr val="74c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05120" y="1752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5120" y="1752480"/>
            <a:ext cx="8380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1752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14800" y="17524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1752480"/>
            <a:ext cx="9907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14800" y="1752480"/>
            <a:ext cx="99072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828800" y="4952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49528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4952880"/>
            <a:ext cx="10670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8580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OGSA Specifications Landscape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1523880"/>
            <a:ext cx="5638680" cy="4572000"/>
          </a:xfrm>
          <a:custGeom>
            <a:avLst/>
            <a:gdLst/>
            <a:ahLst/>
            <a:rect l="l" t="t" r="r" b="b"/>
            <a:pathLst>
              <a:path w="3552" h="2880">
                <a:moveTo>
                  <a:pt x="0" y="2880"/>
                </a:moveTo>
                <a:lnTo>
                  <a:pt x="1152" y="0"/>
                </a:lnTo>
                <a:lnTo>
                  <a:pt x="2352" y="0"/>
                </a:lnTo>
                <a:lnTo>
                  <a:pt x="3552" y="2880"/>
                </a:lnTo>
                <a:lnTo>
                  <a:pt x="0" y="288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513880" y="1523880"/>
            <a:ext cx="6172200" cy="4557960"/>
          </a:xfrm>
          <a:custGeom>
            <a:avLst/>
            <a:gdLst/>
            <a:ahLst/>
            <a:rect l="l" t="t" r="r" b="b"/>
            <a:pathLst>
              <a:path w="3120" h="2304">
                <a:moveTo>
                  <a:pt x="0" y="0"/>
                </a:moveTo>
                <a:lnTo>
                  <a:pt x="816" y="0"/>
                </a:lnTo>
                <a:lnTo>
                  <a:pt x="3120" y="2304"/>
                </a:lnTo>
                <a:lnTo>
                  <a:pt x="0" y="2304"/>
                </a:lnTo>
                <a:lnTo>
                  <a:pt x="0" y="0"/>
                </a:lnTo>
                <a:close/>
              </a:path>
            </a:pathLst>
          </a:custGeom>
          <a:solidFill>
            <a:srgbClr val="ffdd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81080" y="1523880"/>
            <a:ext cx="6172200" cy="4557960"/>
          </a:xfrm>
          <a:custGeom>
            <a:avLst/>
            <a:gdLst/>
            <a:ahLst/>
            <a:rect l="l" t="t" r="r" b="b"/>
            <a:pathLst>
              <a:path w="3120" h="2304">
                <a:moveTo>
                  <a:pt x="0" y="0"/>
                </a:moveTo>
                <a:lnTo>
                  <a:pt x="816" y="0"/>
                </a:lnTo>
                <a:lnTo>
                  <a:pt x="3120" y="2304"/>
                </a:lnTo>
                <a:lnTo>
                  <a:pt x="0" y="2304"/>
                </a:lnTo>
                <a:lnTo>
                  <a:pt x="0" y="0"/>
                </a:lnTo>
                <a:close/>
              </a:path>
            </a:pathLst>
          </a:custGeom>
          <a:solidFill>
            <a:srgbClr val="ff066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70720" y="1496880"/>
            <a:ext cx="196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901920" y="1496880"/>
            <a:ext cx="171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UT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08200" y="1496880"/>
            <a:ext cx="171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916360"/>
            <a:ext cx="868680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1920" y="4419720"/>
            <a:ext cx="17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ore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876920"/>
            <a:ext cx="868680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600" y="5635800"/>
            <a:ext cx="164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Basic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095880"/>
            <a:ext cx="868680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33720" y="5791320"/>
            <a:ext cx="121896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WS-Addr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72000"/>
            <a:ext cx="121932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Priv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19520" y="5410080"/>
            <a:ext cx="121896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WSRF-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3809880"/>
            <a:ext cx="121932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WSD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14800" y="5410080"/>
            <a:ext cx="121932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WS-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191120"/>
            <a:ext cx="121896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Na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429000"/>
            <a:ext cx="121932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OGSA-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3429000"/>
            <a:ext cx="121932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OGSA Self Mg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19920" y="4572000"/>
            <a:ext cx="121896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Others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4191120"/>
            <a:ext cx="121932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GGF-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24280" y="4191120"/>
            <a:ext cx="121932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Dat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5791320"/>
            <a:ext cx="121932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HTTP(S)/SO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19920" y="3809880"/>
            <a:ext cx="121896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Disco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10080" y="5410080"/>
            <a:ext cx="121932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SAML/XAC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24280" y="5791320"/>
            <a:ext cx="121932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WSD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5791320"/>
            <a:ext cx="121896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WSRF-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24280" y="4572000"/>
            <a:ext cx="121932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19920" y="3429000"/>
            <a:ext cx="121896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WS-D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3048120"/>
            <a:ext cx="121932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VO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29000" y="3809880"/>
            <a:ext cx="121932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67840" y="2229120"/>
            <a:ext cx="26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Distributed query proces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26520" y="261036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A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13240" y="222912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Data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3800" y="2133720"/>
            <a:ext cx="164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Use Cases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67920" y="2610360"/>
            <a:ext cx="13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Collab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17600" y="2610360"/>
            <a:ext cx="11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Multi 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00080" y="2610360"/>
            <a:ext cx="168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Persistent Arch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15200" y="5791320"/>
            <a:ext cx="121932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WSRF-R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5410080"/>
            <a:ext cx="121896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X.5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24280" y="5029200"/>
            <a:ext cx="121932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5029200"/>
            <a:ext cx="121932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Servic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5029200"/>
            <a:ext cx="1218960" cy="228600"/>
          </a:xfrm>
          <a:prstGeom prst="rect">
            <a:avLst/>
          </a:prstGeom>
          <a:solidFill>
            <a:srgbClr val="88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WS-I B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Basic WSRF/WSN Concepts</a:t>
            </a:r>
            <a:endParaRPr b="1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tate as a Grid Fundamental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WSRF 101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Basic Properties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Lifetime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otification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4T12:40:41Z</dcterms:created>
  <dc:creator>David Snelling</dc:creator>
  <dc:description/>
  <dc:language>en-US</dc:language>
  <cp:lastModifiedBy>David Snelling</cp:lastModifiedBy>
  <cp:lastPrinted>2005-07-18T17:49:21Z</cp:lastPrinted>
  <dcterms:modified xsi:type="dcterms:W3CDTF">2005-07-19T10:39:20Z</dcterms:modified>
  <cp:revision>37</cp:revision>
  <dc:subject/>
  <dc:title>OGSA, WSRF, and the  Foundations of Grid</dc:title>
</cp:coreProperties>
</file>