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142-E3A8-4268-B348-0AFE0488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132-DFDD-4DC7-AD58-79D8F70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CF6-4999-4B78-9C4E-5F70E65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B88-68E3-4D91-A50C-36D5AF6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2C4-2782-4F9A-805A-7A10526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63A-CEFF-4B61-8445-EF5ACF3F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907-EC0D-42A9-ACD4-51546C5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B99-4034-47AE-B11E-B357532F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246-DEE8-4976-AAF4-16911B5D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F75-4573-40BE-A60E-56D905FD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FD8-D354-40FD-B05E-B3404EE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E93-F2AF-4229-8B7F-223B2558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6F6-EAFE-426B-BB9F-6B82A651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-unix.mcs.anl.gov/~ranantha/tutorial/javadocs" TargetMode="External"/><Relationship Id="rId2" Type="http://schemas.openxmlformats.org/officeDocument/2006/relationships/hyperlink" Target="http://www.gs.unina.it/repository/friday-15/" TargetMode="External"/><Relationship Id="rId3" Type="http://schemas.openxmlformats.org/officeDocument/2006/relationships/hyperlink" Target="http://localhost:8080/wsrf/services/SequenceGenerator" TargetMode="External"/><Relationship Id="rId4" Type="http://schemas.openxmlformats.org/officeDocument/2006/relationships/hyperlink" Target="http://localhost:8080/wsrf/services/Surface1Service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y the days learning to a more substantial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T4 tool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efu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RF mech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rther develop the progressive exercise with new asp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ource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Saturday’s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4120" y="217440"/>
            <a:ext cx="72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ive Exercise – Using GT4 / WS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3900600"/>
            <a:ext cx="9144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83040" y="217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ervi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05320" y="2028960"/>
            <a:ext cx="83448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1812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72120" y="195264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02800" y="2986200"/>
            <a:ext cx="158724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2907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6440" y="283356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40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91440" y="404028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03520" y="5119560"/>
            <a:ext cx="112392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424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24280"/>
            <a:ext cx="914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6960" y="3747960"/>
            <a:ext cx="94284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F 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6033960"/>
            <a:ext cx="91440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958000"/>
            <a:ext cx="914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0080" y="5881680"/>
            <a:ext cx="91512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6110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9320" y="5881680"/>
            <a:ext cx="1064520" cy="307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. P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2040" y="62625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90988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640" y="39765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File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3670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3080" y="420516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809880" y="4129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7880" y="45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90720"/>
            <a:ext cx="480060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4200" y="114300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24920" y="114300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3880" y="11430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3080" y="114300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2480" y="10666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ly u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all the Service interface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file resource is identified by its unique EPR, allocated by Fil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 the CLI you need to identify some files by a meaningful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 a file on your own machine to store the epr of the target file resou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0920" y="80172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325296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86560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32280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of the services are resource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have read-only resourc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ad the WSDL to discover what they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fetime – scheduled and immediate ter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943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etime and scheduled termin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 significant part of the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1890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Resources are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s can require larg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d by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user has an allocation – maximum total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toring data, can fail due to insufficient remaining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be throwing away the cycles and elapsed time taken to do the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allow reservation of space on 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reate could fail unnecess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much of an issue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later on may becom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8640" y="6494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54040"/>
            <a:ext cx="82296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 to stop competing teams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aling your resources - file spac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aling you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cation, responsibility of  FileStoreFactory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 is identified by Distinguished Name in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sStoreFactory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d with allocation for tha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cked and updated whenever used filespac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08520" indent="-61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 Contents, responsibility of Fil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ngle File Service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s are identified by EPR – an obscur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0520" indent="-7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you know the file’s ERP, you can read it and dele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81600" y="914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7880" y="10152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7002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20" y="15228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4948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6080" y="152280"/>
            <a:ext cx="11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212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280"/>
            <a:ext cx="115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49680" y="7761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02320" y="1295280"/>
            <a:ext cx="0" cy="43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36640" y="152280"/>
            <a:ext cx="654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56280" y="8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143000"/>
            <a:ext cx="15228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852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55120" y="19836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0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9280" y="852480"/>
            <a:ext cx="140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SF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)[D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1219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1523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08920" y="1614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32600" y="1461960"/>
            <a:ext cx="152280" cy="152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600" y="16905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9440" y="14619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14776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2400" y="191916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S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)[D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209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89800" y="260496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13480" y="2452680"/>
            <a:ext cx="15264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529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8600" y="27576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9440" y="25290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5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" y="3595680"/>
            <a:ext cx="84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Surl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pr1,epr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37479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3519360"/>
            <a:ext cx="81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752120" y="397656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1400" y="3976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45100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4480" y="4281480"/>
            <a:ext cx="12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t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752120" y="5195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24280" y="4662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062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0600" y="3062160"/>
            <a:ext cx="12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ta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2600" y="466236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9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560" y="49672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5195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8240" y="5348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294600"/>
            <a:ext cx="152280" cy="152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3240" y="629460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on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3920" y="6599160"/>
            <a:ext cx="221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DN] – secured via certificate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54880" y="6051600"/>
            <a:ext cx="5110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Xurl.op(…) – operation,addressed to pre-known Service 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rN.op(…) – operation addressed to dynamically obtained RQ-E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ity there are more parameters and possibly different operati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96320" y="914400"/>
            <a:ext cx="11476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– creates a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es size and life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StoreFactory Resource d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qu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96320" y="2666880"/>
            <a:ext cx="11318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StoreFactory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a change in file siz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be  rejected 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quota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8600" y="3352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623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2000" y="623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3560" y="152280"/>
            <a:ext cx="509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7002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7002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4240" y="53352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4680" y="1981080"/>
            <a:ext cx="102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zeChange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67280" y="1600200"/>
            <a:ext cx="11430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124080" y="1371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4080" y="2286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3640" y="3429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" y="220968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" y="259092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" y="29718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1840" y="179244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716120"/>
            <a:ext cx="121932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0760" y="12952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560" y="388620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81952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9400" y="12952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fu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960" y="5334120"/>
            <a:ext cx="2842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2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0880" y="26820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440" y="6110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0560" y="1716120"/>
            <a:ext cx="121932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048120" y="4266720"/>
            <a:ext cx="24382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1720" y="3429000"/>
            <a:ext cx="28429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3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4304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6960" y="1676520"/>
            <a:ext cx="279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-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kes all services’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4304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762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4360" y="762120"/>
            <a:ext cx="150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th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2208960"/>
            <a:ext cx="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5440" y="251316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ode from test-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4960" y="5334120"/>
            <a:ext cx="2925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## Explorer3 – 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andom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(box, count, N,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ource management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19040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5800" y="469260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5440" y="3429000"/>
            <a:ext cx="83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5800" y="2209680"/>
            <a:ext cx="852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q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5800" y="2590920"/>
            <a:ext cx="1050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XPro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5800" y="2971800"/>
            <a:ext cx="97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3640" y="1792440"/>
            <a:ext cx="1024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isu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4360" y="3886200"/>
            <a:ext cx="944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e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7960" y="32767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 Pr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8680" y="38862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 Fa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3920" y="42670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35053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39621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590920" y="41144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3581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8680" y="47242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Q-E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909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4280" y="47242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71800" y="41907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6120" y="6162840"/>
            <a:ext cx="845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#us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00240" y="63151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3080" y="5857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4 –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8000" y="914400"/>
            <a:ext cx="8049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1 – Build the Test-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instruction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2 – Port your explor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est Cl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Services 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e code from existing explorer and test-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.3 – Enhance your Explorer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3.4 / 3.5 – Investigate some su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960" y="5502240"/>
            <a:ext cx="62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ll a team exercis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the work can be done in 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138240"/>
            <a:ext cx="83818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seful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  ~lcc/part2/student/gridSchool0705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client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clients/ws/clients/src/org/globus/tutorial/tutorial/client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WS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filestore/schema/filestor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randgen/schema/rand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surface/schema/rand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visualiser/schema/visual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s-xprod/schema/xp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vaDoc for client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unix.mcs.anl.gov/~ranantha/tutorial/javado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s.unina.it/repository/friday-1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ented WS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ercise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vice URLs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ocalhost:8080/wsrf/services/Sequence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calhost:8080/wsrf/services/Surface1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Hopkins</cp:lastModifiedBy>
  <dcterms:modified xsi:type="dcterms:W3CDTF">2005-07-15T17:45:1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