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C59-1E67-45E1-AD6A-CCB3C00A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97B-3371-46D4-AE68-9C6D5B7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3F6-D7A9-46D2-B2AB-5FA01AA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B9E-B4B5-4AA8-8F15-D063D8AC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7BF-6EAC-42DA-869C-1CBF3D91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25B-D32D-4D9D-8DEA-1538576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734-CFD4-40C8-A9B2-5E4C4383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AA2-4B08-4993-960D-A3F6CA1E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FBB-C07D-4903-8F79-78EA7D01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75C-702B-4AFF-A9D3-47E8146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15C-7096-4B29-B226-CF631B2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52E-5288-4ABF-962B-81C20A5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FF2-CD08-44BD-98B5-232ADA2C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-unix.mcs.anl.gov/~ranantha/tutorial/javadocs" TargetMode="External"/><Relationship Id="rId2" Type="http://schemas.openxmlformats.org/officeDocument/2006/relationships/hyperlink" Target="http://www.gs.unina.it/repository/friday-15/" TargetMode="External"/><Relationship Id="rId3" Type="http://schemas.openxmlformats.org/officeDocument/2006/relationships/hyperlink" Target="http://localhost:8080/wsrf/services/SequenceGenerator" TargetMode="External"/><Relationship Id="rId4" Type="http://schemas.openxmlformats.org/officeDocument/2006/relationships/hyperlink" Target="http://localhost:8080/wsrf/services/Surface1Service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y the days learning to a more substantial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T4 tool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RF mech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rther develop the progressive exercise with new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ource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Saturday’s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4120" y="217440"/>
            <a:ext cx="72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ive Exercise – Using GT4 / W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3900600"/>
            <a:ext cx="9144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83040" y="217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rvi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05320" y="2028960"/>
            <a:ext cx="83448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1812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2120" y="195264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02800" y="2986200"/>
            <a:ext cx="15872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2907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6440" y="283356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0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91440" y="40402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3520" y="5119560"/>
            <a:ext cx="112392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424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24280"/>
            <a:ext cx="914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6960" y="3747960"/>
            <a:ext cx="94284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F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6033960"/>
            <a:ext cx="9144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958000"/>
            <a:ext cx="914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0080" y="5881680"/>
            <a:ext cx="9151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6110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9320" y="58816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2040" y="62625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90988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640" y="39765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File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3670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42051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809880" y="4129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7880" y="45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90720"/>
            <a:ext cx="480060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4200" y="114300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24920" y="1143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3880" y="11430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080" y="114300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2480" y="10666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ly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all the Service interface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ile resource is identified by its unique EPR, allocated by Fi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the CLI you need to identify some files by a meaningful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 a file on your own machine to store the epr of the target file re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0920" y="80172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25296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86560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2280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of the services are resource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have read-only resourc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ad the WSDL to discover what they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etime – scheduled and immediate ter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43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etime and scheduled termin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 significant part of the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Resources ar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 can require larg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d by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user has an allocation – maximum total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toring data, can fail due to insufficient remaining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be throwing away the cycles and elapsed time taken to do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allow reservation of space on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reate could fail un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uch of an issu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later on may becom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6494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54040"/>
            <a:ext cx="82296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stop competing team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ources - file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on, responsibility of  FileStoreFacto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 is identified by Distinguished Name in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StoreFactory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d with allocation for tha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ed and updated whenever used filespac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Contents, responsibility of Fil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le File Service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 are identified by EPR – an obscur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know the file’s ERP, you can read it and dele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81600" y="914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002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20" y="1522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4948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6080" y="152280"/>
            <a:ext cx="11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212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280"/>
            <a:ext cx="115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49680" y="7761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295280"/>
            <a:ext cx="0" cy="43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36640" y="152280"/>
            <a:ext cx="6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5628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1430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55120" y="19836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0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9280" y="852480"/>
            <a:ext cx="140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F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19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523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08920" y="16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1461960"/>
            <a:ext cx="152280" cy="152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600" y="16905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9440" y="14619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147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400" y="191916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209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89800" y="260496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13480" y="2452680"/>
            <a:ext cx="15264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52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8600" y="27576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440" y="25290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5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" y="3595680"/>
            <a:ext cx="84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pr1,ep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7479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3519360"/>
            <a:ext cx="81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39765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1400" y="3976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510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4480" y="428148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120" y="5195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24280" y="4662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062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0600" y="306216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2600" y="466236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9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560" y="49672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5195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240" y="5348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2946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240" y="62946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3920" y="6599160"/>
            <a:ext cx="221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DN] – secured via certificate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54880" y="6051600"/>
            <a:ext cx="5110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Xurl.op(…) – operation,addressed to pre-known Service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rN.op(…) – operation addressed to dynamically obtained RQ-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ity there are more parameters and possibly different operati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96320" y="914400"/>
            <a:ext cx="11476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– creates a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es size and life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Resource d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qu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96320" y="2666880"/>
            <a:ext cx="1131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StoreFactory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a change in file siz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be  rejected 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quota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" y="3352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200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3560" y="15228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4240" y="53352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4680" y="198108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67280" y="1600200"/>
            <a:ext cx="11430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1240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4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36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18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760" y="12952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5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81952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9400" y="1295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960" y="533412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0880" y="2682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440" y="611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056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48120" y="4266720"/>
            <a:ext cx="24382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1720" y="342900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04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6960" y="1676520"/>
            <a:ext cx="279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-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kes all services’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4304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762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4360" y="76212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208960"/>
            <a:ext cx="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5440" y="251316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de from test-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4960" y="5334120"/>
            <a:ext cx="2925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urce managemen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19040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5800" y="469260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4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58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58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58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36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43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32767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P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8680" y="38862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3920" y="42670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5053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39621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90920" y="41144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581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8680" y="47242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Q-E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909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4280" y="47242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71800" y="41907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6120" y="6162840"/>
            <a:ext cx="84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u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00240" y="63151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3080" y="5857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4 –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8000" y="914400"/>
            <a:ext cx="804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1 – Build the Test-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instruction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2 – Port your explor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est Cl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Services 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 code from existing explorer and test-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3 – Enhance your Explore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3.4 / 3.5 – Investigate some su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960" y="5502240"/>
            <a:ext cx="62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a team exercis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the work can be done in 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138240"/>
            <a:ext cx="83818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ful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  ~lcc/part2/student/gridSchool0705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client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clients/ws/clients/src/org/globus/tutorial/tutorial/clien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filestore/schema/filesto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randgen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surface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visualiser/schema/vis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xprod/schema/xp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vaDoc for cli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unix.mcs.anl.gov/~ranantha/tutorial/javado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s.unina.it/repository/friday-1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ented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rcise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URLs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ocalhost:8080/wsrf/services/Sequence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calhost:8080/wsrf/services/Surface1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5T17:45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