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BFE-F184-4E73-BC43-855F114B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897-5991-48FC-9227-9097FEB1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CDC-7118-43C6-8717-11C556D5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4DA-1166-4328-84CC-6DC80A88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77F-E6AE-4F26-A4CD-D1CB8938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69E-8CB8-4218-9715-5CA3016B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B17-DF74-4A66-B69D-5D834C5F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C36-8A8D-4508-94CC-B457388A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5280" y="27432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4AD-0E01-49C5-92F6-8D18E7E6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54E-5295-4CAC-B669-31DB04F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CE8-F0C1-4EDD-8414-5C42B8A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74E-BCF8-4D77-9AB1-439EFF3B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D5FC-B1CC-4C41-80FE-17EA5E269F14}" type="datetime">
              <a:rPr b="0" lang="en-GB" sz="1400" spc="-1" strike="noStrike">
                <a:solidFill>
                  <a:srgbClr val="333399"/>
                </a:solidFill>
                <a:latin typeface="Arial"/>
              </a:rPr>
              <a:t>30/07/26</a:t>
            </a:fld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fld id="{894AD835-190C-4BAF-8135-D8B218205ADA}" type="datetime10">
              <a:rPr b="0" lang="en-GB" sz="1400" spc="-1" strike="noStrike">
                <a:solidFill>
                  <a:srgbClr val="333399"/>
                </a:solidFill>
                <a:latin typeface="Arial"/>
              </a:rPr>
              <a:t>0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A893-9882-45F0-B2D4-4A8D5C3601AE}" type="slidenum">
              <a:rPr b="0" lang="it-IT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www.jedit.org/" TargetMode="External"/><Relationship Id="rId3" Type="http://schemas.openxmlformats.org/officeDocument/2006/relationships/hyperlink" Target="http://www.eclipse.org/" TargetMode="External"/><Relationship Id="rId4" Type="http://schemas.openxmlformats.org/officeDocument/2006/relationships/hyperlink" Target="http://www.mindview.net/Books/TIJ" TargetMode="External"/><Relationship Id="rId5" Type="http://schemas.openxmlformats.org/officeDocument/2006/relationships/hyperlink" Target="http://www.cs.princeton.edu/introcs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0920" y="0"/>
          <a:ext cx="5143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143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Java Refresh Exercis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bject Oriented Programming with Java: an introductio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Raffaele Montell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University of Naples “Parthenope”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ook at the Cod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ach statement line ends with a semicolon ; as in C/C++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ach code block is inside curly brackets {,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Variables defined inside a code block are local to i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ava is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not positional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arrige return and space sequences outside quotes are ignored: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class HelloWorld { public static void main(String[] args) { System.out.println(“Hello World!”);}}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is a correct code, but very hard to be managed by humans!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28640"/>
            <a:ext cx="457200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24720" y="2708280"/>
            <a:ext cx="61128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5000"/>
            <a:ext cx="457200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6000" y="1844640"/>
            <a:ext cx="50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213000"/>
            <a:ext cx="50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EDD-BE8A-4B71-BE07-301F923124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1BF69-E8F4-44A7-81D0-E13D0B17D1A4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++ style comment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this is a single line slash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slash C++ style commen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 style comment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* this are few comment lines in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a C style fashion */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avadoc auto documentation comments</a:t>
            </a:r>
            <a:br>
              <a:rPr sz="1600"/>
            </a:br>
            <a:br>
              <a:rPr sz="16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**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* @params args Command Line Argument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**/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	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ore information about Javadoc later in this lesso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28640"/>
            <a:ext cx="457200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932000" y="1125360"/>
            <a:ext cx="43164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E6F-B35E-4EDC-AE9C-2ACA6EEEB3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93C5C-6B36-473B-8183-535AB0D45EAA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ackages and Namespa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classes definitions are grouped into namespaced packages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ackages stored in compressed zip or jar (Java ARchive) files must be specified in the CLASSPATH environment variable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Namespaces are used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o avoid omonimous class ambiguity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o produce better c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import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statement imports a package namespace: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Imports all namespaces in java.io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Imports the specified namespac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mport java.io.InputStreamReade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524-8ADC-4CCF-B6D2-B8875A2F54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D8ACC-0590-44B8-B3F1-C8B0D4BE4C80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imitive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primitive types are similar to their C counterparts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nt num1=0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float num2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num2=5.3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double num3=10.0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boolean condition=tru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 variable can b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clared and assigned a value in two different steps…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r in one statemen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ny variable specified as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final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is considered as a constant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final double pi=3.1415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9E7-49AA-4B15-8B15-42889A95DD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C79F1-066E-48BF-AABD-F2D4B6427D34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Type, compile and run the HelloWorld.java program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F0B-245C-45DF-9306-DD8C992298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96A9F-9577-4CB8-9812-833E0E5F06D0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: HelloWorld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HelloWorld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“Hello World!”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69C-8DFE-4AB9-897E-7CA99DFB11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74481-365B-4065-8B2C-160CB7456246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Defining a Cla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keleton of a Java program is the class defini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ne file can contain more than one class defini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nly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ublic class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can be defined for each .java fi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Nested classes are allowe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 class can extends another one by inheritanc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57360"/>
            <a:ext cx="4500720" cy="79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866920" y="1484280"/>
            <a:ext cx="36036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628640"/>
            <a:ext cx="4464000" cy="4483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File HelloWorld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demo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B extend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565360"/>
            <a:ext cx="4500720" cy="7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219280" y="256536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292360" y="342900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012000" y="4149720"/>
            <a:ext cx="28872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363640" y="450864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573360"/>
            <a:ext cx="450072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81360"/>
            <a:ext cx="4500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373720"/>
            <a:ext cx="4500720" cy="71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270828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1A2-656B-4837-80CA-CEB60FF4B1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BBE18-5B0D-469D-987C-846B484BDA2E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 class represents an abstract data typ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 class is an object generaliza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n object is an instance of a specific clas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2800"/>
            </a:b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myComputingMachine object is an instance of the ComputingMachine class of obj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class is the ‘idea’, the general model, of an objec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82F-4F35-4D74-841C-54194DD855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2714C-AA57-446E-A153-25E692607C9A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bjec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 object stores some data (its state)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vides methods to access and manipulate that data (its behavior)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epresents an individual unit (its identity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example: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computing machine object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108-A9FF-43B4-A944-7396D695D1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44261-F053-4565-80D0-CD80D6C6DB02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6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he ComputingMachine Objec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state of a computing machine might be characterized by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type of CPU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number of CPU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peed of each CPU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can communicate with the computing machine and do something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can identify a computing machine by its fully qualified domain name or IP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652-503E-4A43-B3AC-A4C06EBEA7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BCF01-D3C7-4BB6-BB72-E1ED7A8ACDA3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troduction to Jav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HelloWorld program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ode featur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omment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ackages and Namespac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OOP Basics: Classes, Objects, Methods and Attribut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rimitive and Class Typ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Loops and Condition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Exception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put / Outpu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06F-8E3A-40FC-B4FA-6B916978BF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E71A3-F29D-41C7-86D4-81448EA3F2FF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he Computing Machine Cla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ding the ComputingMachine class in Java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File: ComputingMachine.java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Using the ComputingMachine class in Java:</a:t>
            </a:r>
            <a:br>
              <a:rPr sz="1800"/>
            </a:br>
            <a:br>
              <a:rPr sz="18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 myCM=new ComputingMachine()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myCM.fqdn=“193.205.230.114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 myResult = myCM.doSomething(14.5f, 40.85f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2565360"/>
            <a:ext cx="1511280" cy="719280"/>
          </a:xfrm>
          <a:prstGeom prst="wedgeRectCallout">
            <a:avLst>
              <a:gd name="adj1" fmla="val -71430"/>
              <a:gd name="adj2" fmla="val -65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s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753080" cy="1223640"/>
          </a:xfrm>
          <a:prstGeom prst="wedgeRectCallout">
            <a:avLst>
              <a:gd name="adj1" fmla="val -57046"/>
              <a:gd name="adj2" fmla="val -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utingMachine class is public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mplemented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utingMachine.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2637000"/>
            <a:ext cx="2521080" cy="649080"/>
          </a:xfrm>
          <a:prstGeom prst="wedgeRectCallout">
            <a:avLst>
              <a:gd name="adj1" fmla="val -85328"/>
              <a:gd name="adj2" fmla="val -5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4221000"/>
            <a:ext cx="2520720" cy="609840"/>
          </a:xfrm>
          <a:prstGeom prst="wedgeRectCallout">
            <a:avLst>
              <a:gd name="adj1" fmla="val -67004"/>
              <a:gd name="adj2" fmla="val -140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6C8-E034-4A77-B3EA-7192C33740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16B69-C14D-4892-B905-B8F851A8E1FE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OP Basics: </a:t>
            </a:r>
            <a:br>
              <a:rPr sz="3600"/>
            </a:b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ccess Specifi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ttributes and methods can be declared with the following access specifier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 both inside and outside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only inside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inside the class and inside derived classes, but not outsi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9E3-A92A-4449-AE09-A1327ACD3C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46738-B318-47F1-9171-DC1B99054A1D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tores the object stat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both primitive and abstract data typ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defined as static</a:t>
            </a:r>
            <a:br>
              <a:rPr sz="2400"/>
            </a:b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shared between all object instances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vate float cpuLoad;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atic int coun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84360" y="1916280"/>
            <a:ext cx="1295640" cy="43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076640"/>
            <a:ext cx="2879640" cy="64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7800" y="1916280"/>
            <a:ext cx="2735280" cy="43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645000"/>
            <a:ext cx="2879640" cy="43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2349360"/>
            <a:ext cx="86364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724280"/>
            <a:ext cx="3024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813-55AB-4E71-AE74-6887D21387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7F76B-2B8D-4402-8350-CA4D41F527A1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re functions acting on the object behaviour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qualified as public, private and protected like attribut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defined as static</a:t>
            </a:r>
            <a:br>
              <a:rPr sz="2400"/>
            </a:b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allowing the invocation by statically used objects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return result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vate void updateCPULoad()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...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92360" y="1989000"/>
            <a:ext cx="86364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8360" y="4581360"/>
            <a:ext cx="3585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1989000"/>
            <a:ext cx="1008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68360" y="5300640"/>
            <a:ext cx="360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359-BA15-4162-B462-FB1A3CFF56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DB1DC-7CF4-40F5-8138-B57189BE9B20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Constructo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s a special method invoked when the object is instanced using the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new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opera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name of the constructor must be the same of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there is no destructor counterpart as in C++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(except the finalize method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(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qdn=“0.0.0.0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yType=“Unknown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uSpeed=0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uCount=0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5280" y="2133720"/>
            <a:ext cx="7345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68360" y="349992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339640" y="414972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79D-2D32-46AB-B1C0-C495ADF87B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41C69-44D9-48F2-9988-9F0554654D1B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Main Method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s the entry point for a Java progra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faces the program with the command line shell throw parameters and returned value </a:t>
            </a:r>
            <a:br>
              <a:rPr sz="1800"/>
            </a:b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(using System.exit(..)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ny public class can have one main method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main method MUST be defined as public AND static so the JVM can execute i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For class testing purposes I suggest to write a main method for each class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28640"/>
            <a:ext cx="457200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708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133720"/>
            <a:ext cx="4572000" cy="10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244000" y="2060640"/>
            <a:ext cx="57600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57720"/>
            <a:ext cx="4572000" cy="50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341360"/>
            <a:ext cx="28872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93080" y="1773360"/>
            <a:ext cx="28728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005360"/>
            <a:ext cx="457200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278100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198900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5C8-8FB8-4414-B5FB-2DF21FC17B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D34EC-B244-49FB-AB1D-DB441441731E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re considered as reference to object instance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omputingMachine myCM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is a reference to an object belonging to ComputingMachine class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is not the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We can use only static attributes and methods of ComputingMachine clas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constructor is not invoke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Have to be first declared and then instanced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myCM=new ComputingMachine()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references to an instance of a ComputingMachine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ComputingMachine constructor is invoke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We can use any kind of attributes and methods (both static and not static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There is no destructor: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the Java garbage collector frees automatically allocated, but unreferenced object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A3B-2DDC-48CD-8EC3-1FE39F4D23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F9352-4DD6-4746-A1E4-CD7ACD6EEB33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Implement the ComputingMachine class in the file named ComputingMachine.java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HelloWorld main method to show the result of the ComputerMachine doSomething method invocatio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7F8-B28C-4303-BC92-8F01B556B7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CA6A6-5847-408D-A46F-4C12DC5169A3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File: ComputingMachine.java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500"/>
            </a:b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File: Exercise2.java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class Exercise2 {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ComputingMachine cm = new ComputingMachine(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double r = cm.doSomething(3.5,2.7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System.out.println(“doSomething=” + r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472-9574-453B-BD59-555C6D52ED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58AC6-3B82-4825-9BDF-6CA13BB9BDCE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es for Primitive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r each primitive type there is a predefined wrapper clas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Static members for primitive types operation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o string conversio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3429000"/>
            <a:ext cx="6337440" cy="720720"/>
          </a:xfrm>
          <a:prstGeom prst="wedgeRectCallout">
            <a:avLst>
              <a:gd name="adj1" fmla="val -53379"/>
              <a:gd name="adj2" fmla="val 211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earOfBirth=“1972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ge=2005-Integer.parseInt(yearOfBir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3213000"/>
            <a:ext cx="6337440" cy="936720"/>
          </a:xfrm>
          <a:prstGeom prst="wedgeRectCallout">
            <a:avLst>
              <a:gd name="adj1" fmla="val -22694"/>
              <a:gd name="adj2" fmla="val 2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yAge = a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“I’m ” + my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“ years ol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A0B-88AE-4B88-BE74-0CE2E6071E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2F535-32B5-4A05-B452-56498520E18C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Java world (1/2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ava wa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veloped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at Sun Microsystems in the first part of ’90s with the following goal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 languag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 binar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ore architectur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he same  running application!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Java compiler produces a “bytecode” binary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bytecode binary is executed by a virtual machine (JVM, Java Virtual Machine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A79-F67B-4822-98B7-C1FBA611E9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3CBCC-28AD-46CC-AB33-0A69936A1CD4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String cla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s a class with a special behaviour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ings are used as primitive typ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new operator is not need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1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1 = “ISS on Grid Computing 2005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2 = “”;         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3 = “Hello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ing concatenation is done with the + opera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1 = s2 + “ there!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tring s3 = “number “+1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FEA-012C-4C65-930B-B479B51A8FB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D76EA-15F8-4F08-8A2F-4FE28E4C5B19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tring class method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String class is provided by power manipulation method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len = s1.length(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comp = s1.compareTo(s2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boolean eq = s1.equals(s3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p = s1.indexOf(“&lt;form”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tring[] astrParts=s1.split(“,”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24360" y="2060640"/>
            <a:ext cx="4968720" cy="609480"/>
          </a:xfrm>
          <a:prstGeom prst="wedgeRectCallout">
            <a:avLst>
              <a:gd name="adj1" fmla="val -44634"/>
              <a:gd name="adj2" fmla="val 12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number of chars belonging to the string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508640"/>
            <a:ext cx="5041800" cy="936360"/>
          </a:xfrm>
          <a:prstGeom prst="wedgeRectCallout">
            <a:avLst>
              <a:gd name="adj1" fmla="val 9476"/>
              <a:gd name="adj2" fmla="val -99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s the string s1 with s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turned value is the same of the strcmp C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357720"/>
            <a:ext cx="4968720" cy="609480"/>
          </a:xfrm>
          <a:prstGeom prst="wedgeRectCallout">
            <a:avLst>
              <a:gd name="adj1" fmla="val 47861"/>
              <a:gd name="adj2" fmla="val 111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s the string s1 with s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rue if s1==s3, false other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5516640"/>
            <a:ext cx="4969080" cy="609480"/>
          </a:xfrm>
          <a:prstGeom prst="wedgeRectCallout">
            <a:avLst>
              <a:gd name="adj1" fmla="val 10064"/>
              <a:gd name="adj2" fmla="val -147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index of the first occurrence of the “&lt;form” string in s1, -1 if the string isn’t in s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3357720"/>
            <a:ext cx="3313080" cy="1008000"/>
          </a:xfrm>
          <a:prstGeom prst="wedgeRectCallout">
            <a:avLst>
              <a:gd name="adj1" fmla="val -39699"/>
              <a:gd name="adj2" fmla="val 115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s the string s1 in an array of Strings using the specified separator “,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DC0-A579-4B64-9AD4-DCB69CF088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74FE8-9BF5-431B-8C27-36B86056CD96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an be declared and instantiated using the new operato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array elements values can be assigned in a separate step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[] a1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1 = new int[5]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uble[] a2 = new double[10]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2[0] = 1.0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lements can be initialized when the array is declare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tring[] colors = {“red”,”blue”,”green”}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len = colors.length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length of an array is stored in the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class attribute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D9B-F538-489A-94D9-681C5A65E9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21E15-01BF-4920-9652-03BBA2010504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mmand Line Argu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re passed to the main method using an array of string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ShowArguments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int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.length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0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1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2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D6D-CB27-45AA-8B7C-A47F96294E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94442-A833-4D4E-A1E3-6C7221D4CC7E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Loop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oops are implemented in the same way as in C/C++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or(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et_index_variable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loop_condition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teration_alteration_to_index) {…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while (condition) {…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do {…} while (conditio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or (a=0;a&lt;args.length:a++) System.out.println(args[a]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F18-9633-485F-A2AA-FDA874FF825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68975-D6A2-4189-AFAB-F6E7A15C287F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HelloWorld program to show each argument passed in separate rows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C69-1B35-415B-8BE2-7308A06F48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C8F33-CE88-4D40-A6B0-C54A8573F2A6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 Exercise3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Exercise3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(int i=0;i&lt;args.length;i++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i+”:”+args[i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96B-8C47-403E-8C36-D44B7DE538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B7A69-955A-4AC1-B3AF-E8B65CBD0D63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ndi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if –else  statement is the same as in C/C++ and can take three form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){…} else 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1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seif (condition2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se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here a condition can be formed using the comparative and logical operators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==, &gt;, &lt;, &gt;=, &lt;=, !=, &amp;&amp;, ||)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759-F84B-478E-AD40-8AFF915DF6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3F349-E985-4EF7-B084-A97E81399F91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previous exercise to accept just and only 3 parameters on the command lin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336-C20C-4583-ACC1-97CFE704C7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D6863-1158-476D-8972-1DCACC883898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 Exercise4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Exercise4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args.length==3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(int i=0;i&lt;args.length;i++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i+”:”+args[i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020-3470-46C5-B68C-2C4CF3F9AA3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2ECDB-B370-42AE-8C66-23BA919E84BB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Java world (2/2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JVM abstracts the real machin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ame compiled code can be executed on different hardware and software architectures each provided by a JV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ava is freely downloadable from Sun websit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Development Kit (JDK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Runtime Environment (JRE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DK &amp; JRE are not Open Source, but an Open Source implementation is avalaiable (Kaffe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A19-DD06-4D67-94A8-DCB81453D4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FD7A1-6AA8-45B1-AD9B-B298FE46B705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nverting strings to numb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ll text input is treated as a str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ny number must be converted to their primitive typ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is can be done using static methods contained in the classes corresponding to each primitive typ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tring number_string = “1.5”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double number = Double.parseDouble(number_string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tring number_string2 = “10”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number2 = Integer.parseInt(number_string2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t run-time there is the possibility that the String variable may not contain the string representation of a number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ather than leaving the program to crash, this possibility is managed by enclosing the conversion in a try-catch statement to handle an exceptional condition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BC0-C43D-4D1D-B932-73C8797FD8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775BF-2445-4B14-BC3F-281673CF51CF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OP Basics: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term exception is shorthand for the phrase "exceptional event.“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finition: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 exception is an event that occurs during the execution of a program that disrupts the normal instructions flow.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Java has an efficient way to catch and manage exceptions derived as an evolution of C++ fashion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E31-09B1-48C1-B808-37B1450FCE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DD77F-18C3-429C-8B6C-443882327B9B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atch them all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try/catch construct permits to catch exceptions thrown inside a code block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lock of cod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catch (Exception ex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xception manager code bloc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f inside the try block of code an exception rises, is executed the code inside the catch block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49B-7B12-47BB-82CA-227C57FA313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49B6E-C16A-452F-B1AE-FFFF36F28AD6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ample: string to numbe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n the conversion fails an exception of type NumberFormatException is thrown by the parse method and the program jumps to the statements in the catch block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number = Double.parseDouble(number_string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atch(NumberFormatException nfe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rr.println(“Error in converting to doubl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xit(1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the catch block does not include a statement for the program to exit, the program will continue with any statements that come after i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rror messages are printed using the standard error stream System.err rather than System.out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is useful when the program output is redirected to a file. 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042-31F7-4BDC-88C7-BDB8FFAA7C1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C28F2-A5C9-4FB5-98A4-41077D280163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adder program accepting operands on command line and displaying the result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767-0632-4B63-9BBC-D450C85F4A7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8FEB5-D4DF-41DC-9E75-68FEBF9831EE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File Exercise5.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Exercise5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double r=0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or(int i=0;i&lt;args.length;i++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r=r+Double.parseDouble(args[i]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NumberFormatException nfe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args[i] +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 “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s not a valid operan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Result=“+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F2D-F747-4DC0-923F-034147E22EE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16153-52BC-4A54-BEC8-451A759C3FD0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Stack Trac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The stack trace output is a very useful feature used to discover the position of a runtime error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Example: string to number conversion excep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Test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 d = Double.parseDouble(args[0]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out.println(d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Passing the value ‘foo’ as argument (foo is not convertible to double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Exception in thread "main" java.lang.NumberFormatException: For input string: “foo"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sun.misc.FloatingDecimal.readJavaFormatString(FloatingDecimal.java:1224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java.lang.Double.parseDouble(Double.java:482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Test.main(Test.java:4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D14-93AB-431C-BF57-E752E00933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ED969-6EFE-4C74-A044-C647BD6E0571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Input and output stream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previous examples inputs have been performed via the command line argument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ow we will read the input from the console using the stream System.i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put and output streams allow the use of file redirecting with Java program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E5C-7DBC-4732-8C7B-0A858A51786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F0AE9-04AD-433B-96D8-03DDBC032D20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input stre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ystem.in can only read bytes.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ystem.in is used to initialize an InputStreamReader objec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InputStreamReader object is passed as argument to the BufferedReader object constructor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line of text can be read using the BufferedReader method readLine(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putStreamReader isr = new InputStreamReader(System.in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BufferedReader br = new BufferedReader(isr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tring name = br.readLine()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AB4-8240-44F7-8450-E9210D2699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4923C-99F4-471D-A616-6CB20A77153C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Input stream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/O problems can occur when trying to perform the reading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readLine() method throws a IOExcep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read operation must be enclosed in an appropriate try-catch block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fter all input is read from the stream it should be closed using br.close(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779-1256-490A-881D-A5528D84D2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6941F-3A36-476A-A01A-28E7CC0984E3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 Features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imple and powerful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use of best practices and design patterns is suggest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ecur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executable code is very far from the real machin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bject Oriented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everything is an object: from the ‘main class’ to ‘Integer’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Robust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No pointers allowed, only referenc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ongly typ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333-696F-4C8B-8CC7-E4FDC9015A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624D5-F5A2-4490-BA9F-384379C804AE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Read input stream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class ReadInputStream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static void main(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ry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putStreamReader isr = new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putStreamReader(System.in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ufferedReader br = new BufferedReader(isr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out.println(nam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atch(IOException ioe)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rr.println(“Error in reading nam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Courier New"/>
              </a:rPr>
              <a:t>System.exit(1</a:t>
            </a:r>
            <a:r>
              <a:rPr b="1" lang="en-GB" sz="1600" spc="-1" strike="noStrike">
                <a:solidFill>
                  <a:srgbClr val="0000cc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178-09CB-4A8D-929A-669F258087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4B7E8-A753-4768-BD7A-F42D8DD92C61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Manage multiple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following not trivial example points out the multiple exception management tecniqu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lock of c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IOException exIO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 input output exception blo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ArithmeticException exAr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 arithmetic exception blo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finall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n any case do something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Different exception types are handled in separate catch block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finally clause specifies a block of code executed in any cas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161-83C6-48E0-B467-E8B2A8B40A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1B9F2-8240-427D-8B5C-8D75DE44DA0C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6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adder program accepting 2 operands from the standard input and showing the output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Remember to manage both NumberFormatException and IOException!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40B-782B-4A5A-9C6D-DDAB5C8825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ADF11-AF69-4134-8069-37CF1C9A9A3B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6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// Exercise6.java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public class Exercise6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private double getOperand(String prompt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double operand=0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(prompt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BufferedReader br = new BufferedReader(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new InputStreamReader(System.in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operand = Double.parseDouble(br.readLin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 catch (IOException exIO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ln(exIO.getMessag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 catch (NumberFormatException exNF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ln(exIO.getMessag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return operand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cc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028-0EEC-42E5-B34E-DDD0666611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90AEB-7841-4F74-8A3B-37A0F1047536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6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Exercse6 e6 = new Exercise6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a = e6.getOperand(“A: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b = e6.getOperand(“B: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sum = a + b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System.out.println(“A+B=“+sum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E29-54DA-4E13-8088-F175AC6F48A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1AB07-A5BD-4F71-89B2-9DD20129C73F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output stre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utput to the console can be handled in a similar way using the stream System.ou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stream can be converted to a OutputStreamReader object and then to a PrintWriter objec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PrintWriter class has the methods print() and println() for print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However, this is unecessary because, the stream System.out already has methods println() and print()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Solution 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OutputStreamReader osw = new OutputStreamReader(System.out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rintWriter pw = new PrintWriter(osw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println(“Hello Worl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Solution 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Hello Worl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B9F-EA50-439C-8EB1-37731CF84B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29193-7B1F-4EFB-976A-EC972B7E99CC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Reading and Writing fi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ather than read the inputs from a file using a stream, a file can be read directly programmatically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ilar to streams, a FileReader object, which reads characters, can be created using the name of the input file and this is used to initialize a BufferedReader object for reading a line of text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ileReader fr = new FileReader(“filename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ufferedReader br = new BufferedReader(f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(IOException ioe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Error reading name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661-5578-4212-BC64-D6AE50B9ADFA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A6076-430B-4D17-9333-5D5E2232075D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File Troub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previous code is enough to read from a file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t does not provide any useful information on the source of an I/O problem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input file does not exist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input filename does not refer to a file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permissions on the file are such the file cannot be read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le is empty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le contains not enough data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lmost all of these events can be tested using a File object,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DCD-F39A-4A43-A6CD-3CBADC77852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50759-3B85-44BC-821C-3A06BC4A80E3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File Objec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ile inFile = new File(“filenam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exists()) throw new IOException(“Input file does not exist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isFile()) throw new IOException(“Input file is not a fil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canRead()) throw new IOException(“Cannot read input fil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inFile.length() == 0) throw new IOException(“Input file is empty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ileReader fr = new FileReader(inFile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BufferedReader br = new BufferedReader(fr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r.close(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atch(IOException ioe)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rr.println(“Error reading nam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rr.println(ioe.getMessage()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xit(1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The File methods exists(), isFile() etc do not automatically throw an IOExecep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If a problem is detected an exception can be thrown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 FileReader object can also be created using a File object..</a:t>
            </a: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956-D903-4689-8D1E-B636D8EFA1E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1D4AA-B317-4E8A-921D-44033632B331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Writing Fi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riting to a file follows a similar pattern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File outFile = new File(“filenam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if(!outFile.createNewFile())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throw new IOException(“Output file already exists.“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FileWriter fw = new FileWriter(outFil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ntWriter pw = new PrintWriter(fw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w.println(nam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w.clos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code is enclosed in a suitable try-catch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 new file is created for the output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an existing file is to be used, the File method canWrite() can be used to check that the file is writeable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e statemen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ileWriter fw = new FileWriter(outFile,true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ll cause output to be appended to the file.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C3C-ADD4-47C3-B60E-E96A7EECE2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BF3D1-8B76-4B7F-B4E4-0442EF500DC6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 Features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activ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Graphical User Interfac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ultithrea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Networking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rchitecture independent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verything runs inside the virtual machin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same binary code runs on Linux, Mac-OS, Windows, etc…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preted, but “high performance”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bytecode is easy to translate into machine cod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ust in time compilers can improve this featur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NB: high performance, but not so high for high performance computing!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Easy to learn: I will demonstrate it…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021-2770-4B24-9B24-AC435E4F4C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2BD7D-B54D-438B-B5BB-8775E9566FAB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7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program reading a text file, showing it line by line on the console window and then write it on another fil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Get input and output filenames from the comand lin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A0F-8828-48EA-8E35-4F7CF9D3C1E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64D8B-2B35-4A1A-B519-276D95DF8BDC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7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Exercise7.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Exercise7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ufferedReader br=new BufferedReader(new FileReader(args[0]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rintWriter pw=new PrintWriter(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new FileWriter( args[1] 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tring i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while (in = br.readLine() != null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i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println(i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5B7-F6C5-4FBE-A2B2-2AD3D6BC97C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DE361-75AC-4F79-B501-3F79F53D33A1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7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(IOException ex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ex.getMessage(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(IOException ex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ex.getMessage(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55C-6AB5-4DCB-9C53-FDB61FD63B1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A2443-2F9E-4AB5-8477-11E62F0A3658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Html pages of API documentation can be automatically generated from the source code using documentation comments that are included in the program and the javadoc tool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comments are of the form /** comment */ and appear (immediately) before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class definition,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attribute declaration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finitions of the constructor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finitions of methods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comments should describe the class, attributes and methods without detailing the implementation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mplementation details can be added using  // or /* comments */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182-0235-4FE0-9BB5-E23A1925F50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05C55-B238-48D5-B4F4-BC300D3F1E09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 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The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omputingMachin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lass is a grid computing n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author R. Montell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version 0.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 with all document comments it must be placed immediately before the declaration/definition it is describ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f an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impor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statement is placed between ‘*/’ and ‘public ..’ the comment will not be found by the javadoc tool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comment begins with a brief description of the class and is followed by two tagged comments.: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uthor’,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ersion’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FD6-7914-4FED-9B12-48C4621D89D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71424-5B8E-4DCB-87F3-FDC8A6BDEFF7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ttribute 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Fully Qualified Domain Name 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The type of CPU as vendor and/or model 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Both public and private attributes and methods can be commente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ith default javadoc settings only public methods and attributes are published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F82-77C1-4EF8-9A45-E2000014F2E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72378-3E3E-43AF-BA94-B5FAD7145318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onstructor and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Methods Commen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Do a very computing intensive task: the su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param a the first operand of sum opera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param b the second operand of sum opera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return the sum of a and b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/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format for constructors and methods is to start with a brief description followed by the tagged parameter comment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 methods which return a value, a tagged return commen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return tagged comment is avoided in the case of void method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F94-F5DB-4698-B2FE-C1022D9591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1DB70-22E4-4862-9539-F467D33B3288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ducing Document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Generating the html documentation is straightforward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e comman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javadoc ComputingMachine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ll generate the file ComputingMachine.html containing the class documentation and additional html files giving information on class hierarchy and including a help guide and an index of methods and classe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command uses the default settings and will only document public attributes, constructors and method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ivate class members can be included using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javadoc –private ComputingMachine.jav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the documentation comments are omitted, the html file will still be generated but without any description of the class or  of  its member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8BC-73B8-461D-AF52-651102AEF1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E6F64-FB9D-4A79-9302-55E5F94A9AD3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8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documented version of ComputingMachine class implementation and generate both public and private HTML documentatio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C66-2D90-40BB-B6C8-D8C20C1A5A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E2BC2-2EEF-4FBB-8414-5F8D33F7A8DD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8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The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class is a grid computing nod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author R. Montella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version 0.1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/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Fully Qualified Domain Name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The type of CPU as vendor and/or model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Number of  CPUs in SMP nodes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CPU speed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Do a very computing intensive task: the sum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param a the first operand of sum opera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param b the second operand of sum opera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return the sum of a and b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/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9AA-739F-4969-AF91-59986E6F1B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CF73C-50EA-4A8C-AECB-CD03C971B682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@Work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What you need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Development Ki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 text edi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vi or notepad are enough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jEdit is a dedicated editor (developed in Java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Netbeans and Eclipse are powerful, free and very cool (IDE, Integrated Development Environment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mmercial tools: JBuilder, IBM Visual Age for 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 book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Thinking in Java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” by </a:t>
            </a:r>
            <a:r>
              <a:rPr b="0" i="1" lang="it-IT" sz="1800" spc="-1" strike="noStrike">
                <a:solidFill>
                  <a:srgbClr val="0000cc"/>
                </a:solidFill>
                <a:latin typeface="Arial"/>
              </a:rPr>
              <a:t>Bruce Eckel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(freely downloadabl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ll needed files are on the ISSGC05 repository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BDE-DB08-449A-8559-3320833D54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A6324-DE26-49F2-9DCB-1D2C7CC16C2F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Link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ava Development Ki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va.sun.co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Edi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jedit.or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clipse.or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inking in Jav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indview.net/Books/TIJ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n online cours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cs.princeton.edu/introcs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A5A-9E23-48DC-A5E0-7195CA4DBF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1F56C-42C0-4553-A685-F40AD7AFBF2D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Hello World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e break the process of programming in Java into three step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reate the program by typing it into a text editor and saving it to a file named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HelloWorld.jav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vi HelloWorld.jav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mpile it by typing in the terminal window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javac HelloWorld.jav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un (or execute) it by typing in the terminal window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java HelloWorl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08D-F176-43D2-A533-3C943C5F5E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8BAE8-6AB2-484B-8592-39E3AE4E2947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HelloWorld.jav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ava public classes are implemented in a file named as the clas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ny Java public class can contain one main metho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Here you are the HelloWorld.java fil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A very simple HelloWorld Java co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 class HelloWorld {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System.out.println("Hello World!"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CFF-F052-4FC6-95D5-5CE62C25FE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3964B-52F0-4C77-8046-132D62E140DE}" type="datetime8">
              <a:rPr lang="en-US"/>
              <a:t>07/30/26 09: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8:23:28Z</dcterms:created>
  <dc:creator>Roger Rabbit</dc:creator>
  <dc:description/>
  <dc:language>en-US</dc:language>
  <cp:lastModifiedBy>Roger Rabbit</cp:lastModifiedBy>
  <dcterms:modified xsi:type="dcterms:W3CDTF">2005-07-11T12:01:03Z</dcterms:modified>
  <cp:revision>112</cp:revision>
  <dc:subject/>
  <dc:title>Java Primer and Renewal</dc:title>
</cp:coreProperties>
</file>