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001-DE35-4033-9207-2F3E8DD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A2E-E378-4B32-BDD9-B63CCDA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B8E-99DF-4F0F-88C5-6E3A2F96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0FC-2C7B-4007-AD7E-FB72230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761-2C3E-414E-8BCF-04874D0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687-43FE-463F-8494-DC356170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8A9-8B9E-44E4-8A0E-0204A1EA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71C-890B-4C60-9581-953DDA1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FED-04A3-4823-BDE4-EEF76F35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B45-14CB-42B2-BB05-61873DC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DFB-DA45-4091-BBA3-07F6C3E6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555-85BC-4C24-87DD-2D8FFC6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4544-01A3-406E-9955-66C209ED8727}" type="datetime">
              <a:rPr b="0" lang="en-GB" sz="1400" spc="-1" strike="noStrike">
                <a:solidFill>
                  <a:srgbClr val="333399"/>
                </a:solidFill>
                <a:latin typeface="Arial"/>
              </a:rPr>
              <a:t>31/07/26</a:t>
            </a:fld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fld id="{BFC7FA77-8CA8-452D-ACE1-1B04D9739D83}" type="datetime10">
              <a:rPr b="0" lang="en-GB" sz="1400" spc="-1" strike="noStrike">
                <a:solidFill>
                  <a:srgbClr val="333399"/>
                </a:solidFill>
                <a:latin typeface="Arial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283-887D-466C-8FC5-A4CAC8C063F3}" type="slidenum">
              <a:rPr b="0" lang="it-IT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www.jedit.org/" TargetMode="External"/><Relationship Id="rId3" Type="http://schemas.openxmlformats.org/officeDocument/2006/relationships/hyperlink" Target="http://www.eclipse.org/" TargetMode="External"/><Relationship Id="rId4" Type="http://schemas.openxmlformats.org/officeDocument/2006/relationships/hyperlink" Target="http://www.mindview.net/Books/TIJ" TargetMode="External"/><Relationship Id="rId5" Type="http://schemas.openxmlformats.org/officeDocument/2006/relationships/hyperlink" Target="http://www.cs.princeton.edu/introcs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0920" y="0"/>
          <a:ext cx="5143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14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Java Refresh Exercis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bject Oriented Programming with Java: an intro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Raffaele Montell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University of Naples “Parthenope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ok at the Co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statement line ends with a semicolon ; as in C/C++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code block is inside curly brackets {,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Variables defined inside a code block are local to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 is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not positional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arrige return and space sequences outside quotes are ignored: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class HelloWorld { public static void main(String[] args) { System.out.println(“Hello World!”);}}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is a correct code, but very hard to be managed by humans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28640"/>
            <a:ext cx="4572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24720" y="2708280"/>
            <a:ext cx="6112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5000"/>
            <a:ext cx="457200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84464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21300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A28-CD89-4555-9A89-E42B25F3D1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0309B-C79A-43DE-8D81-55E5A8F20786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++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this is a single line slash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slash C++ style commen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* this are few comment lines in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a C style fashion */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doc auto documentation comments</a:t>
            </a:r>
            <a:br>
              <a:rPr sz="1600"/>
            </a:br>
            <a:br>
              <a:rPr sz="16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**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 @params args Command Line Argument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ore information about Javadoc later in this lesso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28640"/>
            <a:ext cx="457200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32000" y="112536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836-01A1-491F-BBE1-CBB04B562C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D32CE-476A-4C48-8E0B-1C23E8728E4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ackages and Namespa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classes definitions are grouped into namespaced packages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stored in compressed zip or jar (Java ARchive) files must be specified in the CLASSPATH environment variabl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amespaces are used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avoid omonimous class ambiguit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produce better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statement imports a package namespac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all namespaces in java.io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the specified namespac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InputStreamRead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5C4-FBF1-4BF6-B358-52D6835884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E34C1-45AD-45FB-88DA-BC64B98A2F2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primitive types are similar to their C counterparts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nt num1=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loat num2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num2=5.3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double num3=10.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boolean condition=tru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variable can b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clared and assigned a value in two different steps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r in one statemen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ny variable specified as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final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is considered as a constant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inal double pi=3.141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5B9-B17F-4284-B706-959527BA97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79BEA-A8A3-4E70-B444-787FA0129A8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Type, compile and run the HelloWorld.java progra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581-A110-490E-9E13-2F45AFED96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1CB78-DF31-41CC-B847-ADD7228E2783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: HelloWorld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HelloWorld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748-F398-4F72-863C-01D76CFB9C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F7618-54F2-48E2-AA39-73FCE4D3FA4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efining a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keleton of a Java program is th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e file can contain more than on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ly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ublic clas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can be defined for each .java fi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Nested classes are allowe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 class can extends another one by inheritan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450072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1484280"/>
            <a:ext cx="360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628640"/>
            <a:ext cx="4464000" cy="4483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File 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demo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B extend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65360"/>
            <a:ext cx="4500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219280" y="256536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92360" y="342900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12000" y="414972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363640" y="450864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3360"/>
            <a:ext cx="450072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81360"/>
            <a:ext cx="4500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73720"/>
            <a:ext cx="450072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270828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99F-AC3E-4BEB-8D77-635B13F338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1D90-BB80-44F7-994D-7F1A4DEF807F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represents an abstract data typ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is an object generaliz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bject is an instance of a specific clas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myComputingMachine object is an instance of the ComputingMachine class of obj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class is the ‘idea’, the general model, of an objec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BBD-FB9A-4758-B81E-77C728FCD2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DDBBC-5BDB-48BE-85D1-8450739D5041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object stores some data (its state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vides methods to access and manipulate that data (its behavior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esents an individual unit (its identity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example: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computing machine object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E3F-1F17-4BD1-8916-59EE63F277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D815-B607-47C7-83AA-253F976809E6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6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Machine Objec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tate of a computing machine might be characterized b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type of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number of CPU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peed of each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communicate with the computing machine and do something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identify a computing machine by its fully qualified domain name or IP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956-BB2A-49E2-BF30-A5B789FAEF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F600-A3A7-4216-B26A-7F32AE748151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troduction to 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HelloWorld program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de featur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and Namespa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OOP Basics: Classes, Objects, Methods and Attribut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rimitive and Class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Loops and Condi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Excep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put / Outpu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C85-21AC-4158-86C1-D5808838E6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A72F0-38A8-4436-A3E5-F0320B8FCB04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 Machine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ding the ComputingMachine class in Java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Using the ComputingMachine class in Java:</a:t>
            </a:r>
            <a:br>
              <a:rPr sz="1800"/>
            </a:br>
            <a:br>
              <a:rPr sz="18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myCM=new ComputingMachine()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myCM.fqdn=“193.205.230.114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myResult = myCM.doSomething(14.5f, 40.85f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2565360"/>
            <a:ext cx="1511280" cy="719280"/>
          </a:xfrm>
          <a:prstGeom prst="wedgeRectCallout">
            <a:avLst>
              <a:gd name="adj1" fmla="val -71430"/>
              <a:gd name="adj2" fmla="val -65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753080" cy="1223640"/>
          </a:xfrm>
          <a:prstGeom prst="wedgeRectCallout">
            <a:avLst>
              <a:gd name="adj1" fmla="val -57046"/>
              <a:gd name="adj2" fmla="val -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ingMachine class is public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mplemented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ingMachine.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637000"/>
            <a:ext cx="2521080" cy="649080"/>
          </a:xfrm>
          <a:prstGeom prst="wedgeRectCallout">
            <a:avLst>
              <a:gd name="adj1" fmla="val -85328"/>
              <a:gd name="adj2" fmla="val -5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4221000"/>
            <a:ext cx="2520720" cy="609840"/>
          </a:xfrm>
          <a:prstGeom prst="wedgeRectCallout">
            <a:avLst>
              <a:gd name="adj1" fmla="val -67004"/>
              <a:gd name="adj2" fmla="val -140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50C-D165-4CF2-AE84-C1CD228254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3E162-AC50-4886-90FA-0C2DFF7A264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</a:t>
            </a:r>
            <a:br>
              <a:rPr sz="3600"/>
            </a:b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ccess Specifi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ttributes and methods can be declared with the following access specifier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 both inside and out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only in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inside the class and inside derived classes, but not outs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142-F970-47CE-AEA1-60613A9846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7B28B-285A-4234-AB93-9253256E1280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tores the object sta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both primitive and abstract data typ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shared between all object instance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float cpuLoad;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int coun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1916280"/>
            <a:ext cx="129564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076640"/>
            <a:ext cx="287964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1916280"/>
            <a:ext cx="273528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645000"/>
            <a:ext cx="287964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349360"/>
            <a:ext cx="86364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724280"/>
            <a:ext cx="302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69B-D495-4278-897D-4BC353DA9B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4DC7E-D2A9-426F-B7AB-1201D6DC6099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functions acting on the object behaviou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qualified as public, private and protected like attribut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llowing the invocation by statically used object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return resul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void updateCPULoad(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92360" y="198900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8360" y="4581360"/>
            <a:ext cx="3585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1989000"/>
            <a:ext cx="1008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8360" y="5300640"/>
            <a:ext cx="360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D47-F1BC-4A9A-8965-982AAAD238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BE36F-C1FD-4AEF-8347-3411B8F0908D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Constru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s a special method invoked when the object is instanced using 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new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ame of the constructor must be the same of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there is no destructor counterpart as in C++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(except the finalize method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(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qdn=“0.0.0.0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yType=“Unknown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Speed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Count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5280" y="2133720"/>
            <a:ext cx="7345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68360" y="349992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39640" y="414972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940-1A9C-49C3-86CF-084900DCFC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86AC-3828-4F5D-938D-8B1D4EEC629A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Main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s the entry point for a Java progr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faces the program with the command line shell throw parameters and returned value </a:t>
            </a:r>
            <a:br>
              <a:rPr sz="1800"/>
            </a:b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(using System.exit(..)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ny public class can have one main metho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main method MUST be defined as public AND static so the JVM can execute i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or class testing purposes I suggest to write a main method for each class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28640"/>
            <a:ext cx="457200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708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33720"/>
            <a:ext cx="45720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44000" y="2060640"/>
            <a:ext cx="576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57720"/>
            <a:ext cx="457200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341360"/>
            <a:ext cx="288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93080" y="1773360"/>
            <a:ext cx="28728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05360"/>
            <a:ext cx="4572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278100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989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2A6-9EF9-47E1-AA46-2D34B2AC0F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BA0A6-584F-4029-9A89-18B04F622D8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e considered as reference to object instanc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myCM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a reference to an object belonging to ComputingMachine class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not th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only static attributes and methods of ComputingMachine clas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nstructor is not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Have to be first declared and then instanced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myCM=new ComputingMachine()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references to an instance of a ComputingMachin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mputingMachine constructor is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any kind of attributes and methods (both static and not static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There is no destructor: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the Java garbage collector frees automatically allocated, but unreferenced object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C2D-24C1-4308-B455-7051A3049C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6C05B-2A9B-4B85-9A04-C33AC504CA49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Implement the ComputingMachine class in the file named ComputingMachine.java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main method to show the result of the ComputerMachine doSomething method invoc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323-7F94-4CE7-8E8E-F9A3979D00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5E67B-C220-417B-9C1F-3EC2093A3F3D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Exercise2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Exercise2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ComputingMachine cm = new ComputingMachine(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double r = cm.doSomething(3.5,2.7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System.out.println(“doSomething=” + r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093-EA69-4E0B-A8C6-4200E791FB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C135F-2E31-4469-946F-1283EA16794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es for 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r each primitive type there is a predefined wrapper clas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Static members for primitive types operat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o string convers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3429000"/>
            <a:ext cx="6337440" cy="720720"/>
          </a:xfrm>
          <a:prstGeom prst="wedgeRectCallout">
            <a:avLst>
              <a:gd name="adj1" fmla="val -53379"/>
              <a:gd name="adj2" fmla="val 21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earOfBirth=“1972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ge=2005-Integer.parseInt(yearOfBir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213000"/>
            <a:ext cx="6337440" cy="936720"/>
          </a:xfrm>
          <a:prstGeom prst="wedgeRectCallout">
            <a:avLst>
              <a:gd name="adj1" fmla="val -22694"/>
              <a:gd name="adj2" fmla="val 2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yAge = 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I’m ” + my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“ years ol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04-D57B-4B13-A412-E5261E53FB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00FCA-8DAF-46A1-A8C0-5D53D20138E9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1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wa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veloped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at Sun Microsystems in the first part of ’90s with the following goal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languag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binar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re architect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he same  running application!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Java compiler produces a “bytecode” binar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bytecode binary is executed by a virtual machine (JVM, Java Virtual Machine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A85-550B-4208-83D5-5D04806C14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A2B5-DBA1-4CC8-9AF4-863F2556626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ring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s a class with a special behaviour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s are used as primitive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ew operator is not need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1 = “ISS on Grid Computing 2005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2 = “”;        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3 = “Hello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 concatenation is done with the +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1 = s2 + “ there!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s3 = “number “+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90A-3E77-42FE-897D-C373ABBB95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A33BC-403D-448C-A3A5-F3DA3139D2F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tring class method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String class is provided by power manipulation method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len = s1.length(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comp = s1.compareTo(s2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oolean eq = s1.equals(s3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p = s1.indexOf(“&lt;form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ring[] astrParts=s1.split(“,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24360" y="2060640"/>
            <a:ext cx="4968720" cy="609480"/>
          </a:xfrm>
          <a:prstGeom prst="wedgeRectCallout">
            <a:avLst>
              <a:gd name="adj1" fmla="val -44634"/>
              <a:gd name="adj2" fmla="val 12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number of chars belonging to the string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508640"/>
            <a:ext cx="5041800" cy="936360"/>
          </a:xfrm>
          <a:prstGeom prst="wedgeRectCallout">
            <a:avLst>
              <a:gd name="adj1" fmla="val 9476"/>
              <a:gd name="adj2" fmla="val -9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ed value is the same of the strcmp C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57720"/>
            <a:ext cx="4968720" cy="609480"/>
          </a:xfrm>
          <a:prstGeom prst="wedgeRectCallout">
            <a:avLst>
              <a:gd name="adj1" fmla="val 47861"/>
              <a:gd name="adj2" fmla="val 11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rue if s1==s3, false 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5516640"/>
            <a:ext cx="4969080" cy="609480"/>
          </a:xfrm>
          <a:prstGeom prst="wedgeRectCallout">
            <a:avLst>
              <a:gd name="adj1" fmla="val 10064"/>
              <a:gd name="adj2" fmla="val -14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index of the first occurrence of the “&lt;form” string in s1, -1 if the string isn’t in s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3357720"/>
            <a:ext cx="3313080" cy="1008000"/>
          </a:xfrm>
          <a:prstGeom prst="wedgeRectCallout">
            <a:avLst>
              <a:gd name="adj1" fmla="val -39699"/>
              <a:gd name="adj2" fmla="val 1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the string s1 in an array of Strings using the specified separator “,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874-5D40-4935-998C-6635AB45EC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5E7E7-ACD8-49F6-9A24-24571734973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n be declared and instantiated using the new operato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array elements values can be assigned in a separate ste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[] a1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1 = new int[5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uble[] a2 = new double[10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2[0] = 1.0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ements can be initialized when the array is declare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tring[] colors = {“red”,”blue”,”green”}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len = colors.length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length of an array is stored in the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class attribute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5E3-D13B-4163-8763-AE28F195E9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260A-6ADA-4DC5-96E4-A15F50D6C80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and Line Arg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passed to the main method using an array of string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ShowArguments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int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.length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0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1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2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76D-5942-4BAB-B865-BF47F7F8A1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9D1C-5FE9-4371-822E-7A686F62D7F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oop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ops are implemented in the same way as in C/C+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et_index_variable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loop_condition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teration_alteration_to_index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condition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 {…} while (conditio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or (a=0;a&lt;args.length:a++) System.out.println(args[a]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4B2-CF98-418C-A967-138C4A294C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EDBC5-D7AE-46B2-86DC-101A360B3DB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program to show each argument passed in separate rows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1CB-F6B3-4B48-89E5-0FB794CCDA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36691-FC7C-4B0D-9220-AD39FD6F62EA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3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3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33C-248C-4CFD-9B70-AC29025031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43839-413E-4781-90AD-A6F20CBBA75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di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f –else  statement is the same as in C/C++ and can take three form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 else 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1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if (condition2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here a condition can be formed using the comparative and logical operators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==, &gt;, &lt;, &gt;=, &lt;=, !=, &amp;&amp;, ||)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571-ABD7-4D62-8A2A-662F37E64D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6D0A-C43B-4B81-828F-1BC43AD12A4F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previous exercise to accept just and only 3 parameters on the com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297-9D1F-4672-A946-36F4EEB369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FC032-08AC-46D8-8942-6C212C8688FA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4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4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args.length==3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209-E0A8-4B70-A114-097E617367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028D8-B3DE-479A-B56D-D28B7DFAF834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2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JVM abstracts the real machin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ame compiled code can be executed on different hardware and software architectures each provided by a JV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is freely downloadable from Sun websi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 (JDK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Runtime Environment (JRE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DK &amp; JRE are not Open Source, but an Open Source implementation is avalaiable (Kaffe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44C-3F89-443C-B661-702A915A5E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915EE-BA2D-4A5A-84B2-403974FA501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verting strings to numb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text input is treated as a str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y number must be converted to their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an be done using static methods contained in the classes corresponding to each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 = “1.5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uble number = Double.parseDouble(number_string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2 = “10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number2 = Integer.parseInt(number_string2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t run-time there is the possibility that the String variable may not contain the string representation of a number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leaving the program to crash, this possibility is managed by enclosing the conversion in a try-catch statement to handle an exceptional condition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4F3-4105-4826-B46C-E7043F6D1B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9B3F3-4C7A-4E6D-B420-59C4AEE1A3BE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term exception is shorthand for the phrase "exceptional event.“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finition: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exception is an event that occurs during the execution of a program that disrupts the normal instructions flow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ava has an efficient way to catch and manage exceptions derived as an evolution of C++ fashion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FB5-A44F-4D12-ACC6-2BF4556AEF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4B566-D145-4622-BA84-00888410BF25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atch them all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try/catch construct permits to catch exceptions thrown inside a code block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catch (Exception ex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xception manager code bloc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f inside the try block of code an exception rises, is executed the code inside the catch block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8C3-6838-4E30-B61C-F4FCD87B46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D046-ABC6-46C9-B0DD-25A60A1F45F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ample: string to numb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n the conversion fails an exception of type NumberFormatException is thrown by the parse method and the program jumps to the statements in the catch block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umber = Double.parseDouble(number_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NumberFormatException nfe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converting to doubl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catch block does not include a statement for the program to exit, the program will continue with any statements that come after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ror messages are printed using the standard error stream System.err rather than System.o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is useful when the program output is redirected to a file.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8BF-9888-46B0-AAE0-55F644AAB2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84D2E-DD13-4BA6-9331-A7CF1A3A499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operands on command line and displaying the resul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558-09E6-4BD6-B535-B0B7CE2F5FB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F7FDE-4D84-4389-81E6-B44A2461FA9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File Exercise5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5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uble r=0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r=r+Double.parseDouble(args[i]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NumberFormatException nf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args[i] +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 “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s not a valid operan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Result=“+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574-602D-4D30-80E4-6FE0897A00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FC01E-91C6-459E-8F09-F1C2D68110AD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ack Tra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The stack trace output is a very useful feature used to discover the position of a runtime error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Example: string to number conversion ex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Test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d = Double.parseDouble(args[0]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out.println(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Passing the value ‘foo’ as argument (foo is not convertible to double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Exception in thread "main" java.lang.NumberFormatException: For input string: “foo"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sun.misc.FloatingDecimal.readJavaFormatString(FloatingDecimal.java:122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java.lang.Double.parseDouble(Double.java:482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Test.main(Test.java: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8CE-FFD4-4F56-84A8-A31A12DEBD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0F381-2CB7-43D9-B3E6-D202533B28C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and output strea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previous examples inputs have been performed via the command line argument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ow we will read the input from the console using the stream System.i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put and output streams allow the use of file redirecting with Java program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530-0389-4424-A30D-0817FED342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31A22-01F8-4692-8432-B34B3BD0C23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in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can only read bytes.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is used to initialize an InputStreamReader objec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nputStreamReader object is passed as argument to the BufferedReader object constructor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line of text can be read using the BufferedReader method readLine(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putStreamReader isr = new InputStreamReader(System.in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name = br.readLine(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777-DF29-4924-B8D1-23B4FED997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836BC-E5F3-4087-B06C-5667CB8B218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stream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/O problems can occur when trying to perform the reading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Line() method throws a IOExcep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 operation must be enclosed in an appropriate try-catch block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fter all input is read from the stream it should be closed using br.close(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90A-156C-4002-B64F-083746A896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8271F-A2DB-4A7B-B9B6-3585649D5E8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imple and powerful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use of best practices and design patterns is sugges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ecur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executable code is very far from the real machin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bject Orient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everything is an object: from the ‘main class’ to ‘Integer’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Robust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o pointers allowed, only referen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ongly typ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CBB-1B88-41FC-9083-FC881ED42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07CFE-4691-4AA0-A684-96B549562923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Read input stream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class ReadInputStream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static void main(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 isr = new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(System.in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IOException ioe)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reading 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System.exit(1</a:t>
            </a:r>
            <a:r>
              <a:rPr b="1" lang="en-GB" sz="1600" spc="-1" strike="noStrike">
                <a:solidFill>
                  <a:srgbClr val="0000cc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D2F-EEDA-4312-98FA-15BEBA9AAC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ED8E3-97C4-4FCA-A892-98FF83FDB626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Manage multiple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ollowing not trivial example points out the multiple exception management tecniqu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input output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ArithmeticException exAr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arithmetic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finall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n any case do somethi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ifferent exception types are handled in separate catch block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inally clause specifies a block of code executed in any cas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31A-DF87-4D96-AEE8-55066BAA5E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FCB2-5B16-471C-8048-0EBEB6F5994B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2 operands from the standard input and showing the outpu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Remember to manage both NumberFormatException and IOException!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300-F2BB-452F-BCA8-C8321CE615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12F0E-0389-4741-A405-169CB48C60AE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// Exercise6.java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ublic class Exercise6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rivate double getOperand(String prompt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double operand=0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(prompt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BufferedReader br = new BufferedReader(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new InputStreamReader(System.in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operand = Double.parseDouble(br.readLin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NumberFormatException exNF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return operand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cc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C11-0D6A-4B0D-B8D9-9CC2B22B8A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A630B-5BAF-4FB6-8996-35CD0116334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Exercse6 e6 = new Exercise6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a = e6.getOperand(“A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b = e6.getOperand(“B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sum = a + b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System.out.println(“A+B=“+sum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ECB-3B2E-49BC-8862-C870E0E46F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5F92A-2B01-44E7-85C8-B3F0DF808CD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out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utput to the console can be handled in a similar way using the stream System.ou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stream can be converted to a OutputStreamReader object and then to a PrintWriter objec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PrintWriter class has the methods print() and println() for print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owever, this is unecessary because, the stream System.out already has methods println() and print()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OutputStreamReader osw = new OutputStreamReader(System.out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 = new PrintWriter(osw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79C-C5C9-4E48-9185-2ECDA0A934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FC6CF-2D34-4846-9D54-7BA91BFEA5BD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Reading and 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read the inputs from a file using a stream, a file can be read directly programmatically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ilar to streams, a FileReader object, which reads characters, can be created using the name of the input file and this is used to initialize a BufferedReader object for reading a line of tex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ileReader fr = new FileReader(“file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Error reading 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AA-0DEA-4EFB-81EC-AEC875FFCFF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F6151-04A7-4343-B17F-C93D77E4774F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File Trou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previous code is enough to read from a fil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does not provide any useful information on the source of an I/O problem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 does not exist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name does not refer to a file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permissions on the file are such the file cannot be read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is empty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contains not enough data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lmost all of these events can be tested using a File object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B21-90DC-42D1-8FFC-D9C03F8A58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47943-091A-494C-A261-0D16CDFC9F6E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File Objec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 inFile = new File(“file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exists()) throw new IOException(“Input file does not exist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isFile()) throw new IOException(“Input file is not a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canRead()) throw new IOException(“Cannot read input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inFile.length() == 0) throw new IOException(“Input file is empty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Reader fr = new FileReader(inFile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r.clos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“Error reading 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ioe.getMessage()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he File methods exists(), isFile() etc do not automatically throw an IOExe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f a problem is detected an exception can be thrown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 FileReader object can also be created using a File object..</a:t>
            </a: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2DE-3451-49D2-B84A-AF32E33BEBF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04099-EDC6-4D7D-9C84-158C7C7308D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ing to a file follows a similar pattern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 outFile = new File(“file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if(!outFile.createNewFile()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throw new IOException(“Output file already exists.“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Writer fw = new FileWriter(outFil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ntWriter pw = new PrintWriter(fw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de is enclosed in a suitable try-catch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 new file is created for the outp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an existing file is to be used, the File method canWrite() can be used to check that the file is writeable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stateme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ileWriter fw = new FileWriter(outFile,true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cause output to be appended to the file.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11B-4A94-49B1-A9EF-5176DA7BB7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09AC0-AA23-41AF-B854-0A16A7B608E4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activ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Graphical User Interfac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ultithrea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etworking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chitecture independen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verything runs inside the virtual machin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same binary code runs on Linux, Mac-OS, Windows, etc…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preted, but “high performance”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bytecode is easy to translate into machine cod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ust in time compilers can improve this featur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B: high performance, but not so high for high performance computing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Easy to learn: I will demonstrate it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1DB-E98E-4B99-A793-A513672B47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72ABC-44F3-4E3C-942E-13798C38341C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7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program reading a text file, showing it line by line on the console window and then write it on another fil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Get input and output filenames from the co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EA6-6FA4-4690-83AC-95CE9A7E79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A1EBF-2367-4C35-BA75-269A4A1182CA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Exercise7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7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=new BufferedReader(new FileReader(args[0]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=new PrintWrite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new FileWriter( args[1] 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i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in = br.readLine() != null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C15-AC7F-48A2-8207-370C72DE2B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11605-1B67-4650-B306-41665D387F7F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356-DE5C-4BE7-82C6-833AA9CFE6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2A3F0-1741-4B1B-BA67-58875C7DEBF2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tml pages of API documentation can be automatically generated from the source code using documentation comments that are included in the program and the javadoc tool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are of the form /** comment */ and appear (immediately) before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lass definition,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attribute declaration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the constructo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methods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should describe the class, attributes and methods without detailing the implementation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lementation details can be added using  // or /* comments */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CA0-570B-46E8-9A98-5A66F536B95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3A830-7BAE-44BA-9EBA-B05AF3293F8D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 with all document comments it must be placed immediately before the declaration/definition it is describ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f an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statement is placed between ‘*/’ and ‘public ..’ the comment will not be found by the javadoc tool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omment begins with a brief description of the class and is followed by two tagged comments.: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thor’,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ersion’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065-1B20-4B66-96DB-DABBD388FA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6CAEE-AB87-414C-B1D7-57AE6E6EC62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ttribute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oth public and private attributes and methods can be comment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ith default javadoc settings only public methods and attributes are published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61C-5B95-4E28-880E-E15F701AAF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DA93F-8E71-4A27-BC41-EB91549E947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onstructor and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 Comme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format for constructors and methods is to start with a brief description followed by the tagged parameter comment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 methods which return a value, a tagged return commen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return tagged comment is avoided in the case of void method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35B-F17B-4D8C-AC31-FA17196C74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2AA75-3016-45CE-B690-B6DDED30A348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ducing 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enerating the html documentation is straightforward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comman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ComputingMachin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generate the file ComputingMachine.html containing the class documentation and additional html files giving information on class hierarchy and including a help guide and an index of methods and classe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mmand uses the default settings and will only document public attributes, constructors and method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ivate class members can be included us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–private ComputingMachine.jav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documentation comments are omitted, the html file will still be generated but without any description of the class or  of  its member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82B-FEE9-411A-8F7A-B6FB2C23CC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0791-F030-4A69-AF30-E718CC7341B9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documented version of ComputingMachine class implementation and generate both public and private HTML document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537-3E8F-42A2-91F6-72661C9CF0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6529A-13FB-49D1-BDE7-AF011FF118EE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Number of  CPUs in SMP nodes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CPU speed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8F9-27D3-4A26-AD03-1B5DF0B79D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B2E35-FCFA-46A4-B5DB-28D79B2B7D10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@Work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What you ne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text edi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i or notepad are enough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jEdit is a dedicated editor (developed in Jav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tbeans and Eclipse are powerful, free and very cool (IDE, Integrated Development Environmen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mmercial tools: JBuilder, IBM Visual Age for 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boo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” by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</a:rPr>
              <a:t>Bruce Eckel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(freely downloadabl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ll needed files are on the ISSGC05 repository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F89-EA6A-4A59-B7A5-E954A3E37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2AD8A-C942-4627-BBA2-E0FD184E15D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Ed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edit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lipse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ndview.net/Books/TI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nline cour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cs.princeton.edu/introc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8F4-946A-4A49-ADA9-638AC96974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A9AAD-480A-4580-AF86-0240AB00F889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 World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e break the process of programming in Java into three step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the program by typing it into a text editor and saving it to a file named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HelloWorld.jav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vi HelloWorld.jav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mpile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c HelloWorld.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un (or execute)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 HelloWor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DFD-96BC-4461-9D2D-C1BA85B724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08C11-2A55-4B11-B7C0-83AE86C714AA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World.jav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public classes are implemented in a file named as the clas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ny Java public class can contain one main metho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Here you are the HelloWorld.java fi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A very simple HelloWorld Java co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class HelloWorld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System.out.println("Hello World!"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75E-E8EA-48CE-933E-07EFF09A34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D0844-107C-42EB-8ACF-A460C35E38B7}" type="datetime8">
              <a:rPr lang="en-US"/>
              <a:t>07/31/26 19: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23:28Z</dcterms:created>
  <dc:creator>Roger Rabbit</dc:creator>
  <dc:description/>
  <dc:language>en-US</dc:language>
  <cp:lastModifiedBy>Roger Rabbit</cp:lastModifiedBy>
  <dcterms:modified xsi:type="dcterms:W3CDTF">2005-07-11T12:01:03Z</dcterms:modified>
  <cp:revision>112</cp:revision>
  <dc:subject/>
  <dc:title>Java Primer and Renewal</dc:title>
</cp:coreProperties>
</file>