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8164-44B5-4346-9914-B6872365001A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01E-78B2-4E94-B3A6-D545F65C8C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3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this is very artificial example, e.g. there is a standard for date representation which should be used  rather than a US date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39CA-B083-43C2-94FE-1C37B275B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BBE2-C7D9-4224-BD72-2BF0EACB5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33C7-66D4-48DC-9DE7-70A3A0B6F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23D7-CC7C-4500-83CE-DAE0DE0BF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49E8-3DD7-4FB4-99BB-EA40FF76A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ABE65-30C0-4D3C-8FD1-4B5080A637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DFE95-9550-4B3D-AE3C-18F8F74D6C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16C84-2DC5-4A56-90ED-AC5B7852F2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DEDF1-C8A4-463D-984F-36F81A8E2C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D430B-C581-43E1-A058-9B5FEDD58C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F15A-3F95-4EC9-8A57-A8CC88E6C7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AA9BC-1938-46E7-B972-FC58711E2D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C61F6-422E-4B1F-A595-D6D060461B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71AE-9709-467B-8BEF-89B686E55A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0E958-68A4-4592-ABF3-E2F974AF75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03229-5C6F-43EA-AE39-DB11F92506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8B515-9AA0-4292-B60A-BD2317C3AF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0BA12-9D32-45E3-9D37-E7E2AD8069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BC84-447E-4333-84B2-805F83A532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6415-A431-4CD0-9894-D8A6B137B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4C71-CF4D-4D09-8063-05D3D5435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00B0-D264-4063-B9E1-3FC8E27A6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D21C-F4BF-4A45-B56E-22BFB2CBE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48E8-FC1D-4761-AF33-A89338D27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320F-56D7-4986-8858-FEBDB9CECC7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X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7542-1D02-440E-9179-AFDD0C4A234D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REC-xml-names" TargetMode="External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document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55440"/>
            <a:ext cx="8589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ain structure of documen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log – like headers; usualy standard and un-interest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– the actual document – recursively has nested eleme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mmediately following the prolo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iscellaneou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white space and “supplementals” allowed throughout with some restric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upplemental –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Com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ocessing Instruction (PI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1680" y="4373640"/>
            <a:ext cx="6165720" cy="2026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“1.0”  encoding=“UTF-8”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- - This is an example XML document - -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-stylesheet  type=“text/ccs”  href=“greet.ccs” 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voice&gt; …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5400" y="4460760"/>
            <a:ext cx="212760" cy="1009800"/>
          </a:xfrm>
          <a:custGeom>
            <a:avLst/>
            <a:gdLst>
              <a:gd name="textAreaLeft" fmla="*/ 0 w 212760"/>
              <a:gd name="textAreaRight" fmla="*/ 76680 w 2127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13720" y="5732640"/>
            <a:ext cx="285840" cy="539640"/>
          </a:xfrm>
          <a:custGeom>
            <a:avLst/>
            <a:gdLst>
              <a:gd name="textAreaLeft" fmla="*/ 0 w 285840"/>
              <a:gd name="textAreaRight" fmla="*/ 103320 w 28584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6640" y="478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pro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59680" y="5668920"/>
            <a:ext cx="106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oo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00" y="44402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56876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9840" y="4732200"/>
            <a:ext cx="44136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273640"/>
            <a:ext cx="13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44480" y="4928760"/>
            <a:ext cx="638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DA836-C11E-4D85-B476-0E4F4C99A7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incipal element structur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art Tag – &lt;…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of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Zero or more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a name-value pai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quely named; 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rder insignifica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tent – possibly nested </a:t>
            </a:r>
            <a:r>
              <a:rPr b="0" lang="en-US" sz="1800" spc="-1" strike="noStrike" u="sng">
                <a:solidFill>
                  <a:srgbClr val="00338f"/>
                </a:solidFill>
                <a:uFillTx/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, and other thing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nd Tag - &lt;/ … 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– MUST be same name as in matching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ike HTML – but stricter – must have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5760" y="1471680"/>
            <a:ext cx="6611760" cy="127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6000" y="15987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66000" y="24019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66000" y="20019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00920" y="154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1640" y="2332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01640" y="1954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835560" y="939960"/>
            <a:ext cx="142920" cy="78912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89120"/>
              <a:gd name="textAreaBottom" fmla="*/ 76860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7600" y="833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603520" y="171000"/>
            <a:ext cx="142920" cy="2327400"/>
          </a:xfrm>
          <a:custGeom>
            <a:avLst/>
            <a:gdLst>
              <a:gd name="textAreaLeft" fmla="*/ 0 w 142920"/>
              <a:gd name="textAreaRight" fmla="*/ 51480 w 142920"/>
              <a:gd name="textAreaTop" fmla="*/ 60480 h 2327400"/>
              <a:gd name="textAreaBottom" fmla="*/ 22669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244120" y="563760"/>
            <a:ext cx="150840" cy="1549440"/>
          </a:xfrm>
          <a:custGeom>
            <a:avLst/>
            <a:gdLst>
              <a:gd name="textAreaLeft" fmla="*/ 0 w 150840"/>
              <a:gd name="textAreaRight" fmla="*/ 54360 w 150840"/>
              <a:gd name="textAreaTop" fmla="*/ 40320 h 1549440"/>
              <a:gd name="textAreaBottom" fmla="*/ 150912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6400" y="833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4880" y="8334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: name-value pai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594A9-5E7B-4790-B012-038827CAB1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1661760"/>
            <a:ext cx="858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-value pair that is included in the start tag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 is part of specific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may also be part of a specific language – QName – qualified 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ore properly the above might b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Type =“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Style=“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”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tarts to get convoluted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ecessary for designing for multi-lingual documents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760" y="1047600"/>
            <a:ext cx="8737560" cy="450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 ….  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4CF27-045B-4A5E-909A-1D7E6A261B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ty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3486240"/>
            <a:ext cx="858996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mpty Element Tag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orthand for element with no cont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ust attributes perhap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dicated by   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&gt;     not    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me a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&gt;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account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6640" y="1312920"/>
            <a:ext cx="5505120" cy="2056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6920" y="134460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1320" y="29113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00840" y="1724040"/>
            <a:ext cx="192240" cy="1069920"/>
          </a:xfrm>
          <a:custGeom>
            <a:avLst/>
            <a:gdLst>
              <a:gd name="textAreaLeft" fmla="*/ 0 w 192240"/>
              <a:gd name="textAreaRight" fmla="*/ 69480 w 192240"/>
              <a:gd name="textAreaTop" fmla="*/ 27720 h 1069920"/>
              <a:gd name="textAreaBottom" fmla="*/ 10422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1840" y="128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5400" y="2898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54280" y="2084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1800" y="2013120"/>
            <a:ext cx="183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mpty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85120" y="2100240"/>
            <a:ext cx="196920" cy="263520"/>
          </a:xfrm>
          <a:custGeom>
            <a:avLst/>
            <a:gdLst>
              <a:gd name="textAreaLeft" fmla="*/ 0 w 196920"/>
              <a:gd name="textAreaRight" fmla="*/ 70920 w 196920"/>
              <a:gd name="textAreaTop" fmla="*/ 6840 h 263520"/>
              <a:gd name="textAreaBottom" fmla="*/ 2566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9B397-5C80-4148-9888-C45424E7B6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ted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600" y="3968640"/>
            <a:ext cx="85899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ccount and Items are child element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on-unique nam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order is signific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is not a usual programming language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est if each compound item is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tructure (Struct) – uniquely 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rray – multiple same-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920" y="1103400"/>
            <a:ext cx="5227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ustomerType=“trade” dateStyle=“US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No=“17-36-2” terms=“days3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5840" y="1112760"/>
            <a:ext cx="2831040" cy="269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tem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4200" y="1298520"/>
            <a:ext cx="0" cy="2059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8080" y="15922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8080" y="19000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8080" y="33544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43880" y="2023920"/>
            <a:ext cx="0" cy="760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4680" y="276372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4680" y="247320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218268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1CD34-B32E-4F8D-9164-F8340B12E4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Character  (Simple) 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600" y="3195720"/>
            <a:ext cx="858996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0000"/>
                </a:solidFill>
                <a:latin typeface="Arial"/>
              </a:rPr>
              <a:t>&lt;price&gt; 17.35 &lt;/price&gt;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is an element with just character dat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A simple valu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l simple values are text strings, but may have particular syntax and interpretation as decimal, integer, date, …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3240" y="1128600"/>
            <a:ext cx="8074080" cy="1923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/29/0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173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73E6B-117C-4A52-A9FB-7B0B096BAB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4175280"/>
            <a:ext cx="8888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ill use XML a lot  - Schemas, Soap messages, WSDL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use clearer/briefer not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xtual – direct translation to actual XM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nerally will use indentation to indicat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bbreviate End Tags to just &lt;/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lways have to actually put name in end tag !!!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ree diagram – to emphasis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907920"/>
            <a:ext cx="7935840" cy="3111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ice currency=“Euro”&gt;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3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Cod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-23-57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000" y="1119240"/>
            <a:ext cx="0" cy="2168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840" y="109872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6600" y="136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6600" y="2765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600" y="329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76680"/>
            <a:ext cx="0" cy="168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1362240"/>
            <a:ext cx="0" cy="1082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560" y="165096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" y="192240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2082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246528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3305160"/>
            <a:ext cx="0" cy="468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560" y="35798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135B9-F482-475E-8DE7-2B993FB291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-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32080" y="2475000"/>
            <a:ext cx="5911920" cy="328680"/>
          </a:xfrm>
          <a:prstGeom prst="leftArrow">
            <a:avLst>
              <a:gd name="adj1" fmla="val 50000"/>
              <a:gd name="adj2" fmla="val 44967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3A8EC-69CE-46FB-8CAC-A8FA09FD4D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2948040"/>
            <a:ext cx="858996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space (= “language”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fines a collection of names (a vocabul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UK : {address, county, postCode, ….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has an associated syntax (e.g. Schema definition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ddress = … county, postCode,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yntax may be available to S/W proces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mplies a semantics – the (programmer writing) S/W processing a UK:address knows what it mea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vides a unique prefix for disambiguating names from different originator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K vs. US vs. 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7080" y="923760"/>
            <a:ext cx="8889840" cy="1869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voice&gt;                                                 &lt;!-- INT = International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livery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un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post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billing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9CB63-7B69-4D13-942E-4808F79F4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Na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o get uniqueness of namespace name, use a URI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postCode is really 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HTTP://www.UKstandards.org/Web/XMLForms:postCode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       (mythical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The URI </a:t>
            </a: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migh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be a real URL, for accessing the syntax definition, documentation, …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But it may be just an identifier within the internet domain owned by the namespace owner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85C33-5667-438A-9E11-C86230A29D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83536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A8F94-9EF5-436D-B391-831C49BE35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UK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 is really 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www.UKstandards.org/Web/XMLForms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t HTTP://www.UKstandards.org/Web/XML/Form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ostCode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ediously long to use throughout th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Outside XML name syntax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amespaces are not part of XM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supplementary standard </a:t>
            </a:r>
            <a:r>
              <a:rPr b="0" lang="en-GB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w3.org/TR/REC-xml-names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W3C recommend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 an XML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clare a namespace prefix, as an attribute of an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xmlns: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=“HTTP://www.UKstandards.org/Web/XML/Forms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n use that for names in that namespace - U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 code is called a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Nam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(qualified nam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C3BFD-4430-4697-924D-F9C5823CB5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 Decla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3703680"/>
            <a:ext cx="858996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space declaration occurs as an attribute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.e. within a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cope is from beginning of  that start tag to matching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xcluding scope of nested re-declarations of same prefix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an declare a defaul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xlmns=“www/3”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this is the name space for all un-qualified names in the scope of this declaration, eg. Stree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 defaulting for attributes – if no prefix, no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158840"/>
            <a:ext cx="7926480" cy="260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xlmns:BF=“www/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xlmns:UK=“www/2”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xmlns=“www/3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                                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delivery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ress&gt; …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ty&gt;…&lt;/&gt; &lt;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Code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lling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xlmns:US=“www. …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 …&lt;street&gt;…&lt;/&gt; …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invo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000" y="939960"/>
            <a:ext cx="78120" cy="204480"/>
          </a:xfrm>
          <a:custGeom>
            <a:avLst/>
            <a:gdLst/>
            <a:ahLst/>
            <a:rect l="l" t="t" r="r" b="b"/>
            <a:pathLst>
              <a:path w="49" h="129">
                <a:moveTo>
                  <a:pt x="49" y="0"/>
                </a:moveTo>
                <a:lnTo>
                  <a:pt x="0" y="129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360" y="949320"/>
            <a:ext cx="2286000" cy="2689200"/>
          </a:xfrm>
          <a:custGeom>
            <a:avLst/>
            <a:gdLst/>
            <a:ahLst/>
            <a:rect l="l" t="t" r="r" b="b"/>
            <a:pathLst>
              <a:path w="1446" h="1541">
                <a:moveTo>
                  <a:pt x="1446" y="117"/>
                </a:moveTo>
                <a:lnTo>
                  <a:pt x="1422" y="0"/>
                </a:lnTo>
                <a:lnTo>
                  <a:pt x="0" y="0"/>
                </a:lnTo>
                <a:lnTo>
                  <a:pt x="6" y="1507"/>
                </a:lnTo>
                <a:lnTo>
                  <a:pt x="919" y="1541"/>
                </a:lnTo>
                <a:lnTo>
                  <a:pt x="919" y="1412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8680" y="1795320"/>
            <a:ext cx="554040" cy="14616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332000" y="2481120"/>
            <a:ext cx="2023920" cy="41940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5920" y="2509920"/>
            <a:ext cx="922320" cy="39996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4320" y="2479680"/>
            <a:ext cx="2527200" cy="41112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94200" y="1469880"/>
            <a:ext cx="3530520" cy="487440"/>
          </a:xfrm>
          <a:custGeom>
            <a:avLst/>
            <a:gdLst/>
            <a:ahLst/>
            <a:rect l="l" t="t" r="r" b="b"/>
            <a:pathLst>
              <a:path w="2224" h="307">
                <a:moveTo>
                  <a:pt x="2224" y="0"/>
                </a:moveTo>
                <a:lnTo>
                  <a:pt x="110" y="152"/>
                </a:lnTo>
                <a:lnTo>
                  <a:pt x="0" y="307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8680" y="2448000"/>
            <a:ext cx="554040" cy="14580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996D1-7176-46DA-AA1D-42F11A0794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ll-formed and Val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Well-forme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XML syntax, e.g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rt and end tags nest properly with matching nam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Vali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syntax defined by the namespaces u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an’t check this without a definition of that syntax –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rmally a Schem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TD (document Type Definitions) – deprecat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thers type definition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some more sophisticated than Schema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3453D-9E0D-44D5-A77F-D22C2515FF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EN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8D389-9BFF-40D6-93A6-5F8365EF43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Markup Langua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rkup” means document is an intermixing o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Content – the actual information to be conveyed - payloa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Markup – information about the conten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22/10/1946&lt;/date&gt;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 … &lt;/date&gt;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 markup – says that the content is a dat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elf-describing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part of a markup vocabulary –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 collection of keywords used to identify syntax and semantics of constructs in an XML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B35BB-5356-49EF-B281-054115B9A5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xtensible” means the markup vocabulary is not fix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pare with similar NON-extensible languag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TML (Hypertext Markup Languag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ixed markup vocabulary  e.g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is a paragraph. I like it.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is 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another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paragraph &lt;/p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esentation </a:t>
            </a:r>
            <a:r>
              <a:rPr b="1" lang="en-GB" sz="1800" spc="-1" strike="noStrike" u="sng">
                <a:solidFill>
                  <a:srgbClr val="00338f"/>
                </a:solidFill>
                <a:uFillTx/>
                <a:latin typeface="Arial"/>
              </a:rPr>
              <a:t>language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for describing how a document should be presented for human consumption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a paragraph. I like it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paragraph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HTML the language is fixed and implicit in the fact that this is an HTML document – single-languag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requires explicit definition of th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ne document can combine multiple langu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3F9CD-EB8F-4D68-8969-B815B9DC5D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lingual 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680" y="3494160"/>
            <a:ext cx="900432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Forms:Invoi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Invoice construct within the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sinessForms (mythica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language defining structure of business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business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oesn’t prescribe the language of individual items such as da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aken from separate languages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notations:da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Language names are actually universally unique URIs – www.DesperatelyTryingToStandardise.org/BusinessForms -  see lat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040" y="895320"/>
            <a:ext cx="8666280" cy="2562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3B403-51BA-4509-8185-67C039E3F0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lingual  Pros  &amp; 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paration of concerns – Design Factor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ig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chase order structure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date format etc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re independent concer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-use of language definitions, e.g. date formats in many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tensibility – Purchase order accommodates new product identification schemes (e.g. ISBN for book sto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f course, only works if both ends “understand” all languages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kes things more complex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reating and identifying the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040" y="895320"/>
            <a:ext cx="8666280" cy="1930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318FE-FCE8-40F4-B60C-74AC684A7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XML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07560"/>
            <a:ext cx="879804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undamental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. SOAP - the language for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ap-envelope:head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ap-envelope: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soap message is an XML document and its parts are identified using this vocabula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oal is a factoring that gives pick-and-mix of combinabl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ssociated with any WS standard will be a Schema definition of its XML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munity conven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erhaps, our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alised Data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Java configuration t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fic Application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Program:parameter1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e language used in invoking particular operations of a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19EE1-681F-48DB-BB0C-5DD6CAD26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&amp; Machine Orient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94080" y="987120"/>
            <a:ext cx="46418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Human read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ort of - OK with decent editor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s de-buggab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mportant for meta-data documents,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hine process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elf description enabl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General tools for producing and consuming XML docum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Verbo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OK except for large data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Messages may have attachments not in 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1040" y="895320"/>
            <a:ext cx="3929040" cy="5515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w it really look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3-768-252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 businessForms:Invoice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11E2A-62A0-4D74-8A9F-5FB1679903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– DETAILED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2109960"/>
            <a:ext cx="5008680" cy="328320"/>
          </a:xfrm>
          <a:prstGeom prst="leftArrow">
            <a:avLst>
              <a:gd name="adj1" fmla="val 50000"/>
              <a:gd name="adj2" fmla="val 38138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FEFAE-DEC7-4059-9B4D-6E756CCCF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09:39:16Z</dcterms:modified>
  <cp:revision>100</cp:revision>
  <dc:subject/>
  <dc:title>XML</dc:title>
</cp:coreProperties>
</file>