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62C7-B9B1-4911-A834-C22E5A150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49CA-0569-4CF4-B296-2D84F647C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62B1-3C64-4C8E-8036-02D47084F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50F3-FEA1-4C17-8067-D0E4CB8A4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D86C3-EFB6-4B47-A83F-B568428A7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A4CB1-E227-47EC-AB51-19EE9FFB2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F0B9-65AC-4F63-B828-D087E9A7B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D37D-ADA1-416A-AD0C-8D58CF56A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F965C-7043-4C05-836C-BD3E75565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E8AB-0372-4917-9593-8FCEFE1EC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B8D2-20C6-4790-83D6-1C5A33433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66EA-F184-4FF8-AFC0-8DE50E623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ISSGC05, Vico Equense, 18.07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09D9-B99C-41FE-BBCE-CFF036A2067B}" type="slidenum">
              <a:rPr b="1" lang="en-GB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/Email%3Ddiego.romano@dma.unina.it" TargetMode="External"/><Relationship Id="rId2" Type="http://schemas.openxmlformats.org/officeDocument/2006/relationships/hyperlink" Target="mailto:/Email%3Ddiego.romano@dma.unina.it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indico.cern.ch/contributionDisplay.py?contribId=278&amp;sessionId=7&amp;confId=0" TargetMode="External"/><Relationship Id="rId2" Type="http://schemas.openxmlformats.org/officeDocument/2006/relationships/hyperlink" Target="http://goc.grid.sinica.edu.tw/gocwiki/How_to_set_up_an_LFC_service" TargetMode="External"/><Relationship Id="rId3" Type="http://schemas.openxmlformats.org/officeDocument/2006/relationships/hyperlink" Target="http://goc.grid.sinica.edu.tw/gocwiki/How_to_migrate_the_RLS_entries_into_the_LCG_File_Catalog_%28LFC%29" TargetMode="External"/><Relationship Id="rId4" Type="http://schemas.openxmlformats.org/officeDocument/2006/relationships/hyperlink" Target="mailto:Jean-Philippe.Baud@cern.ch" TargetMode="External"/><Relationship Id="rId5" Type="http://schemas.openxmlformats.org/officeDocument/2006/relationships/hyperlink" Target="mailto:Jean-Philippe.Baud@cern.ch" TargetMode="External"/><Relationship Id="rId6" Type="http://schemas.openxmlformats.org/officeDocument/2006/relationships/hyperlink" Target="mailto:Sophie.Lemaitre@cern.ch" TargetMode="External"/><Relationship Id="rId7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0" y="1630440"/>
            <a:ext cx="703908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Gilda Practicals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82880" y="2584440"/>
            <a:ext cx="651816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Valeria Ardizzone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Roberto Barber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Tony Calanducci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Emidio Giorgio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Giuseppe La Rocc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Giuseppe Platania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b519a"/>
                </a:solidFill>
                <a:latin typeface="Arial"/>
              </a:rPr>
              <a:t>ISSGC05, Vico Equense 20.07.2005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efault VO sett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2560" y="1584000"/>
            <a:ext cx="86151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edit the following file to set the default VO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glite/etc/glite_wmsui_cmd_var.conf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6480" y="8888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6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038400"/>
            <a:ext cx="7886880" cy="34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…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Vo = "gilda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utputStorage = "~/JobOutput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nk = - other.GlueCEStateEstimatedResponseTime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LogInfoLevel = 1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stenerStorage = "/tmp/glite/glite-ui"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tryCount = 3 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……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4160" y="3657600"/>
            <a:ext cx="622080" cy="495360"/>
          </a:xfrm>
          <a:prstGeom prst="rightArrow">
            <a:avLst>
              <a:gd name="adj1" fmla="val 50000"/>
              <a:gd name="adj2" fmla="val 31395"/>
            </a:avLst>
          </a:prstGeom>
          <a:solidFill>
            <a:srgbClr val="ac3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461000">
            <a:off x="7619760" y="1207080"/>
            <a:ext cx="1181160" cy="563760"/>
          </a:xfrm>
          <a:prstGeom prst="ellipse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Li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0681-5320-4465-8B1E-13763542FE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40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9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roducer &amp; Inserting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SQL INSERT statement may be used to add data to the system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INSERT INTO Table VALUES (’a’, ’b’, ’c’, ’d’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In R-GMA, data is inserted into the system using a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Producer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component which handles the INSERT statement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Using the command line tool you may work with one producer at a time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03ad"/>
                </a:solidFill>
                <a:latin typeface="Arial"/>
              </a:rPr>
              <a:t>The current producer type can be displayed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how produc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03ad"/>
                </a:solidFill>
                <a:latin typeface="Arial"/>
              </a:rPr>
              <a:t>The producer type can be set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et 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D3A16-B28B-4316-85FA-059A8EA6B70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1.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ert and Select using Primary Producer to support Continuos + History que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producer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insert into UserTable values('cod','string',1.4,66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query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maxage 1 minut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timeout 5 seco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lect * from UserTabl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6EA5-80BB-4593-BD10-85B0CAFF62C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econdary Produ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 instruct the secondary producer to consume from table MyTab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CONDARYPRODUCER My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Like the producer, the secondary producer may be configured to answer latest and/or history quer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SECONDARY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(By default the secondary producer can answer both latest and history queries. 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secondary producer type can be displayed using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SECONDARYPRODUC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D31E-FF73-4150-8CC0-19B2F3EB34D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ert and Select using the Secondary Producer to support the latest query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secondaryproducer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condaryproducer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how producers of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producer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insert into UserTable values ('cod','string',5.2,44)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select * from Use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DDB5-9FC9-40D4-9DAE-AAAD1A12445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000160" y="2287440"/>
            <a:ext cx="4608720" cy="14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be1908"/>
                </a:solidFill>
                <a:latin typeface="Bradley Hand ITC"/>
              </a:rPr>
              <a:t>THE END</a:t>
            </a:r>
            <a:r>
              <a:rPr b="1" lang="it-IT" sz="6000" spc="-1" strike="noStrike">
                <a:solidFill>
                  <a:srgbClr val="be1908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545F-C813-4DBD-BD9F-5270FD54FB5E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ore on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863640"/>
            <a:ext cx="869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Setting the endpoint of the gLite I/O Clien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d8a04"/>
                </a:solidFill>
                <a:latin typeface="Arial"/>
              </a:rPr>
              <a:t>&gt;vi UIPnPcomb/glite//etc/glite-io-client.properties.xml</a:t>
            </a: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5240" y="1689120"/>
            <a:ext cx="37972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Only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user whose workstation number (ws-XX) is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even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must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se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this value for io-client Server param: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Uncommen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the attribute &lt;value&gt; of param Server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670200"/>
            <a:ext cx="3149640" cy="520560"/>
          </a:xfrm>
          <a:prstGeom prst="rect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d8a04"/>
                </a:solidFill>
                <a:latin typeface="Arial"/>
              </a:rPr>
              <a:t>glite-se.ct.infn.it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1663560"/>
            <a:ext cx="4521240" cy="5001480"/>
          </a:xfrm>
          <a:prstGeom prst="rect">
            <a:avLst/>
          </a:prstGeom>
          <a:solidFill>
            <a:srgbClr val="fbb8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?xml version="1.0" encoding="UTF8"?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servic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components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component name="io-client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ini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Server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!--value&gt;glite-se.ct.infn.it&lt;/value--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25faf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lxcde08.pd.infn.it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ServerPort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9969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param name="EncryptName"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value&gt;true&lt;/valu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param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ini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component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components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b519a"/>
                </a:solidFill>
                <a:latin typeface="Arial"/>
              </a:rPr>
              <a:t>&lt;/service&gt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4400" y="4660920"/>
            <a:ext cx="1371600" cy="520560"/>
          </a:xfrm>
          <a:prstGeom prst="rect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d8a04"/>
                </a:solidFill>
                <a:latin typeface="Arial"/>
              </a:rPr>
              <a:t>9999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4457520" y="4203720"/>
            <a:ext cx="495360" cy="533160"/>
          </a:xfrm>
          <a:prstGeom prst="downArrow">
            <a:avLst>
              <a:gd name="adj1" fmla="val 50000"/>
              <a:gd name="adj2" fmla="val 26908"/>
            </a:avLst>
          </a:prstGeom>
          <a:solidFill>
            <a:srgbClr val="03c323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4444920" y="3098880"/>
            <a:ext cx="495360" cy="533520"/>
          </a:xfrm>
          <a:prstGeom prst="downArrow">
            <a:avLst>
              <a:gd name="adj1" fmla="val 50000"/>
              <a:gd name="adj2" fmla="val 26926"/>
            </a:avLst>
          </a:prstGeom>
          <a:solidFill>
            <a:srgbClr val="03c323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5240" y="4292640"/>
            <a:ext cx="2692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Then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comment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or delete the row for 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lxcde08.pd.infn.it 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and finally change the value of Server Port param.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1D24-F983-4452-8C91-8EE87FA54E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stallation 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2240" y="1774800"/>
            <a:ext cx="858996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Open the script file UIPnPcomb/install.sh and export this valu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be1908"/>
                </a:solidFill>
                <a:latin typeface="Arial"/>
              </a:rPr>
              <a:t>export LCG_GFAL_INFOSYS=server3.gs.unina.it:217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rom your home dir type the following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3d8a04"/>
                </a:solidFill>
                <a:latin typeface="Arial"/>
              </a:rPr>
              <a:t>&gt; source install.s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73280" y="1003320"/>
            <a:ext cx="32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FINAL STEP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3403440"/>
            <a:ext cx="8394840" cy="3022200"/>
          </a:xfrm>
          <a:prstGeom prst="rect">
            <a:avLst/>
          </a:prstGeom>
          <a:noFill/>
          <a:ln w="25560">
            <a:solidFill>
              <a:srgbClr val="0251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The installation script: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Updates the CRL’s if needed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reates the .globus directory (if does not exist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reates the $HOME/JobOutput directory (where the output of your jobs will be stored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Sets all the relevant environment variables in .bash_profil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Sets a cron job to update the CRL’s periodically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98000" y="928800"/>
            <a:ext cx="676080" cy="10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59F7-B813-4F35-838B-0FFB66D73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98080" y="3359160"/>
            <a:ext cx="8620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2b519a"/>
                </a:solidFill>
                <a:latin typeface="Arial"/>
              </a:rPr>
              <a:t>Proxy/MyProxy Management</a:t>
            </a:r>
            <a:endParaRPr b="1" lang="en-US" sz="4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9200" y="1092240"/>
            <a:ext cx="140472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3658-B6D3-4146-A984-433B5DC25E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ID Security: the play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77840" y="1407960"/>
            <a:ext cx="4965840" cy="3571920"/>
            <a:chOff x="177840" y="1407960"/>
            <a:chExt cx="4965840" cy="3571920"/>
          </a:xfrm>
        </p:grpSpPr>
        <p:sp>
          <p:nvSpPr>
            <p:cNvPr id="163" name=""/>
            <p:cNvSpPr/>
            <p:nvPr/>
          </p:nvSpPr>
          <p:spPr>
            <a:xfrm>
              <a:off x="177840" y="1407960"/>
              <a:ext cx="4965840" cy="357192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0960" y="2097000"/>
              <a:ext cx="3995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Large and dynamic population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Different accounts at different site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Personal and confidential data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Heterogeneous privileges (roles)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Desire Single Sign-On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79640" y="163980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Users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911760" y="1407960"/>
            <a:ext cx="4965480" cy="3571920"/>
            <a:chOff x="3911760" y="1407960"/>
            <a:chExt cx="4965480" cy="3571920"/>
          </a:xfrm>
        </p:grpSpPr>
        <p:sp>
          <p:nvSpPr>
            <p:cNvPr id="167" name=""/>
            <p:cNvSpPr/>
            <p:nvPr/>
          </p:nvSpPr>
          <p:spPr>
            <a:xfrm>
              <a:off x="3911760" y="1407960"/>
              <a:ext cx="4965480" cy="357192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70560" y="2641680"/>
              <a:ext cx="2117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“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Group” data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Access Pattern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Membershi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83160" y="2184480"/>
              <a:ext cx="15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roups”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95400" y="3467160"/>
            <a:ext cx="4965840" cy="2960640"/>
            <a:chOff x="1895400" y="3467160"/>
            <a:chExt cx="4965840" cy="2960640"/>
          </a:xfrm>
        </p:grpSpPr>
        <p:sp>
          <p:nvSpPr>
            <p:cNvPr id="171" name=""/>
            <p:cNvSpPr/>
            <p:nvPr/>
          </p:nvSpPr>
          <p:spPr>
            <a:xfrm>
              <a:off x="1895400" y="3467160"/>
              <a:ext cx="4965840" cy="2960640"/>
            </a:xfrm>
            <a:prstGeom prst="ellipse">
              <a:avLst/>
            </a:prstGeom>
            <a:solidFill>
              <a:srgbClr val="ff99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20960" y="537840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ites</a:t>
              </a:r>
              <a:endParaRPr b="0" lang="en-US" sz="24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1760" y="5194440"/>
              <a:ext cx="2458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Heterogeneous Resourc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Access Patterns 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Local polici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2b519a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 </a:t>
              </a:r>
              <a:r>
                <a:rPr b="0" i="1" lang="en-US" sz="1600" spc="-1" strike="noStrike">
                  <a:solidFill>
                    <a:srgbClr val="2b519a"/>
                  </a:solidFill>
                  <a:latin typeface="Times New Roman"/>
                </a:rPr>
                <a:t>Membership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74" name="Cloud"/>
          <p:cNvSpPr/>
          <p:nvPr/>
        </p:nvSpPr>
        <p:spPr>
          <a:xfrm>
            <a:off x="3506760" y="3247920"/>
            <a:ext cx="1866960" cy="1251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Grid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D5E8-FF01-4BF8-BDFF-BE18A69C65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he goal of authorization and autentication of users and resources is done through digital certificates, in X.509 forma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tification Authority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(CA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ssu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igital Certificat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or users and machin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heck the identity and the personal data of the reques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Registration Authorities (RAs) do the actual valid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CA’s periodically publish a list of compromised certificat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Certificate Revocation Lists</a:t>
            </a:r>
            <a:r>
              <a:rPr b="0" lang="it-IT" sz="1900" spc="-1" strike="noStrike">
                <a:solidFill>
                  <a:srgbClr val="00338f"/>
                </a:solidFill>
                <a:latin typeface="Arial"/>
              </a:rPr>
              <a:t> (CRL):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ntain all the revoked certificates yet to expi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A certificates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self-sign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or each </a:t>
            </a:r>
            <a:r>
              <a:rPr b="0" lang="it-IT" sz="2000" spc="-1" strike="noStrike" u="sng">
                <a:solidFill>
                  <a:srgbClr val="2b519a"/>
                </a:solidFill>
                <a:uFillTx/>
                <a:latin typeface="Arial"/>
              </a:rPr>
              <a:t>player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, a CA guarantees its autenticity with a certificat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6F24-E53F-42BD-B859-F39C3F77D3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ertificate 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gital certificates are split in public/private key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Public key is spread along the net, while the private stays encripted on the dis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efault location for public/private keys is </a:t>
            </a:r>
            <a:r>
              <a:rPr b="0" lang="it-IT" sz="2400" spc="-1" strike="noStrike">
                <a:solidFill>
                  <a:srgbClr val="2b519a"/>
                </a:solidFill>
                <a:latin typeface="Courier New"/>
              </a:rPr>
              <a:t>$HOME/.globus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2b519a"/>
                </a:solidFill>
                <a:latin typeface="Verdana"/>
              </a:rPr>
              <a:t>(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ention to file permissions</a:t>
            </a:r>
            <a:r>
              <a:rPr b="1" lang="it-IT" sz="2400" spc="-1" strike="noStrike">
                <a:solidFill>
                  <a:srgbClr val="2b519a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ls -l $HOME/.glob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b519a"/>
                </a:solidFill>
                <a:latin typeface="Courier New"/>
              </a:rPr>
              <a:t>-rw-r--r--    1 local    local    1143 Jun 30 16:01 usercert.pe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2b519a"/>
                </a:solidFill>
                <a:latin typeface="Courier New"/>
              </a:rPr>
              <a:t>-r--------    1 local    local    963 Jun 30 16:01 userkey.pe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CFD4-7325-4BB1-BFB6-7A4B7E812D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Verify your certific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o get information on your certificate, run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d6290c"/>
                </a:solidFill>
                <a:latin typeface="Courier New"/>
              </a:rPr>
              <a:t>openssl x509 -in .globus/usercert.pem –noout -tex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Certificat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Data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Version: 3 (0x2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erial Number: 1783 (0x6f7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ignature Algorithm: md5WithRSAEncryp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Issuer: C=IT, O=GILDA, CN=GILDA Certification Author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Validit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Not Before: Jun 30 07:14:13 2005 GM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Not After : Jul 30 07:14:13 2005 GM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Subject: C=IT, O=GILDA, OU=Personal Certificate, L=VICO-EQUENSE, CN=VICO-EQUENSE20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....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6FD6-B2CC-45E7-AE18-7FA5EFAFE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X.509 proxy certific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SI extension to X.509 Identity Certificat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igned by the normal end entity cert (or by another proxy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upport some important featur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elegation and Mutual authentic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as a limited lifetime (minimized risk of “compromised credentials”)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t is created by the 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grid-proxy-init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bb2c05"/>
                </a:solidFill>
                <a:latin typeface="Courier New"/>
              </a:rPr>
              <a:t>grid-proxy-in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Your identity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Enter GRID pass phrase for this identity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Creating proxy ................................................................. Don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Your proxy is valid until: Mon Jul 18 07:14:28 2005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89720" y="3048120"/>
            <a:ext cx="2413080" cy="86256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rid Pass Phrase: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VICO-EQUENS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1397-9C77-437F-A3A3-4961E249C3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specting your prox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4720" y="974880"/>
            <a:ext cx="8431200" cy="54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y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grid-proxy-info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inspect info about your prox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</a:t>
            </a:r>
            <a:r>
              <a:rPr b="1" lang="it-IT" sz="2000" spc="-1" strike="noStrike">
                <a:solidFill>
                  <a:srgbClr val="bb2c05"/>
                </a:solidFill>
                <a:latin typeface="Courier New"/>
              </a:rPr>
              <a:t>grid-proxy-info -al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ubject  : /C=IT/O=GILDA/OU=Personal Certificate/L=VICO-EQUENSE/CN=VICO-EQUENSE20/Email=diego.romano@dma.unina.it/CN=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ssuer   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dentity : /C=IT/O=GILDA/OU=Personal Certificate/L=VICO-EQUENSE/CN=VICO-EQUENSE20/Email=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ype     : full legacy globus 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rength : 512 bi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path     : /tmp/x509up_u50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imeleft : 11:57:24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200" y="6224760"/>
            <a:ext cx="306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553F-1029-4999-ADBC-E4D56D2DA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600" y="847800"/>
            <a:ext cx="85899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stallation and Configuration of the User Interface Plug And Play Combin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Resource Broker, BDII, Default VO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Proxy/Myproxy Manag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Explore GILDA Testb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Workload Manag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Job Description Languag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Examples and Exerci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ata Management (LFC and FireMan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Examples and Exercis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-GMA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-  Commands and Exerci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046C-4E43-4E09-9C82-E0103D86F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ong term prox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45600" y="936720"/>
            <a:ext cx="845028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roxy has limited lifetime (default is 12 h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Bad idea to have longer prox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owever, a grid task might need to use a proxy for a much longer tim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id jobs in HEP Data Challenges last up to 2 day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myproxy server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llows to create and store a long term proxy certificate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77b27"/>
                </a:solidFill>
                <a:latin typeface="Arial"/>
              </a:rPr>
              <a:t>-s &lt;host_name&gt;</a:t>
            </a:r>
            <a:r>
              <a:rPr b="1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pecifies the hostname of MyProxy serve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77b27"/>
                </a:solidFill>
                <a:latin typeface="Arial"/>
              </a:rPr>
              <a:t>-l &lt;user&gt; </a:t>
            </a:r>
            <a:r>
              <a:rPr b="0" lang="en-US" sz="1900" spc="-1" strike="noStrike">
                <a:solidFill>
                  <a:srgbClr val="2b519a"/>
                </a:solidFill>
                <a:latin typeface="Arial"/>
              </a:rPr>
              <a:t>define user that will own </a:t>
            </a:r>
            <a:r>
              <a:rPr b="1" lang="en-US" sz="1900" spc="-1" strike="noStrike">
                <a:solidFill>
                  <a:srgbClr val="2b519a"/>
                </a:solidFill>
                <a:latin typeface="Arial"/>
              </a:rPr>
              <a:t>remote</a:t>
            </a:r>
            <a:r>
              <a:rPr b="0" lang="en-US" sz="1900" spc="-1" strike="noStrike">
                <a:solidFill>
                  <a:srgbClr val="2b519a"/>
                </a:solidFill>
                <a:latin typeface="Arial"/>
              </a:rPr>
              <a:t> credentia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init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info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t information about stored long living prox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get-delegation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-s &lt;host_name&gt; -l &lt;user&gt;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t a new proxy from MyProxy server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bb2c05"/>
                </a:solidFill>
                <a:latin typeface="Arial"/>
              </a:rPr>
              <a:t>myproxy-destroy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-l &lt;user&gt; -s &lt;host_name&gt;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519a"/>
                </a:solidFill>
                <a:latin typeface="Arial"/>
              </a:rPr>
              <a:t>Destroy the credential into the serv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eck out the myproxy-xxx  --help  option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 dedicated service on the RB can renew automatically the prox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ntacts the myproxy server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BC0C-ED85-408A-90C8-14DF2F7C6F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tore credentials on MyProxy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760" y="974880"/>
            <a:ext cx="8767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grid-proxy-destroy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bb2c05"/>
                </a:solidFill>
                <a:latin typeface="Courier New"/>
              </a:rPr>
              <a:t>remove local credential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myproxy-init -s grid001.ct.infn.it –l &lt;UniqueUsername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Your identity: /C=IT/O=GILDA/OU=Personal Certificate/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=VICO-EQUENSE/CN=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&lt;UniqueUsername&gt;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/Email=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diego.romano@dma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nter GRID pass phrase for this identity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Creating proxy .......................Don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Proxy Verify OK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Your proxy is valid until: Sun Jul 24 18:53:44 2005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nter MyProxy pass phras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Verifying password - Enter MyProxy pass phras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A proxy valid for 168 hours (7.0 days) for user </a:t>
            </a:r>
            <a:r>
              <a:rPr b="1" lang="it-IT" sz="2000" spc="-1" strike="noStrike">
                <a:solidFill>
                  <a:srgbClr val="03c323"/>
                </a:solidFill>
                <a:latin typeface="Courier New"/>
              </a:rPr>
              <a:t>&lt;UniqueUsername&gt;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 now exists on grid001.ct.infn.it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Now your credentials are stored on MyProxy server, and are availabl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for delegation or renewal by RB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b3b15"/>
                </a:solidFill>
                <a:latin typeface="Courier New"/>
              </a:rPr>
              <a:t>ATTENTION! &lt;UniqueUsername&gt; MUST BE your PERSONA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b3b15"/>
                </a:solidFill>
                <a:latin typeface="Courier New"/>
              </a:rPr>
              <a:t>username (no local or titos!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2386-0BD4-4F36-9DB4-DF327A5D57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Get deleg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myproxy-get-delegation -s grid001.ct.infn.it -l &lt;UniqueUser&gt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Enter MyProxy pass phras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A proxy has been received for user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 in /tmp/x509up_u500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grid-proxy-info -al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subject  : /C=IT/O=GILDA/OU=Personal Certificate/L=VICO-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 u="sng">
                <a:solidFill>
                  <a:srgbClr val="ac3b8b"/>
                </a:solidFill>
                <a:uFillTx/>
                <a:latin typeface="Courier New"/>
                <a:hlinkClick r:id="rId1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CN=proxy/CN=proxy/CN=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issuer   : /C=IT/O=GILDA/OU=Personal Certificate/L=VICO-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 u="sng">
                <a:solidFill>
                  <a:srgbClr val="ac3b8b"/>
                </a:solidFill>
                <a:uFillTx/>
                <a:latin typeface="Courier New"/>
                <a:hlinkClick r:id="rId2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CN=proxy/CN=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identity : /C=IT/O=GILDA/OU=Personal Certificate/L=VICO-EQUENSE/CN= </a:t>
            </a:r>
            <a:r>
              <a:rPr b="1" lang="it-IT" sz="1800" spc="-1" strike="noStrike">
                <a:solidFill>
                  <a:srgbClr val="03c323"/>
                </a:solidFill>
                <a:latin typeface="Courier New"/>
              </a:rPr>
              <a:t>&lt;UniqueUser&gt;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/Email=diego.romano@dma.unina.i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type     : full legacy globus prox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strength : 512 bit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path     : /tmp/x509up_u500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timeleft : 11:56:58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8FBC-194D-4BF7-B5DA-9D71A4B538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98080" y="3092400"/>
            <a:ext cx="86202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2b519a"/>
                </a:solidFill>
                <a:latin typeface="Arial"/>
              </a:rPr>
              <a:t>Explore the GILDA Testbed</a:t>
            </a:r>
            <a:endParaRPr b="1" lang="en-US" sz="4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6720" y="1120680"/>
            <a:ext cx="1959120" cy="2014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387520" y="5994360"/>
            <a:ext cx="4521240" cy="368280"/>
          </a:xfrm>
          <a:prstGeom prst="rect">
            <a:avLst/>
          </a:prstGeom>
          <a:solidFill>
            <a:srgbClr val="fbb83f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Giuseppe La Rocc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5E95-F2E5-47C0-9A2C-EAEA14AA2D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How to discover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nce an user is logged into an User Interface and he/she has properly configured his/her grid environment (RB, BDII, File Catalog, MyProxy Server, …), he/she is ready to take advantage of the Grid Power for his/her own application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ut what are the resources available to accomplish his/her tasks?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he answer to this question comes through the interactions with t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formation System (IS)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he BDII (or IS) is a component that collects all the dynamic information coming from resources (CEs, SEs, …) that can be accessed and employed by authorized user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D4E3-1FF0-49F6-95EB-072AADFDDE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D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nly the resources published on it really exist (it means available for user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ovides information to the Resource Broker during the matchmaking process*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Needed by the data management tools (LFC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t is accessed us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DAP (Lightweight Directory Access Protocol)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quer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ll the stored information follow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e Schema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Note(*): A process on the RB queries BDII to retrieve all the 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  resources matching certain job requirements.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FD84-E129-4F3F-9967-5ACF394C75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4376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--vo &lt;your_vo&gt; feature –-is &lt;your_bdii&gt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•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t’s mandatory to include the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vo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and the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featur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•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Berlin Sans FB"/>
              </a:rPr>
              <a:t>is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option specifies the BDII you want to query.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  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f not supplied, the BDII defined into the environment variable                 </a:t>
            </a:r>
            <a:r>
              <a:rPr b="1" lang="en-US" sz="1800" spc="-1" strike="noStrike">
                <a:solidFill>
                  <a:srgbClr val="006600"/>
                </a:solidFill>
                <a:latin typeface="Berlin Sans FB"/>
              </a:rPr>
              <a:t>LCG_GFAL_INFOSYS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will be used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6600"/>
                </a:solidFill>
                <a:uFillTx/>
                <a:latin typeface="바탕"/>
              </a:rPr>
              <a:t>Features and descriptions:</a:t>
            </a: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         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3124080"/>
          <a:ext cx="8534520" cy="3327480"/>
        </p:xfrm>
        <a:graphic>
          <a:graphicData uri="http://schemas.openxmlformats.org/drawingml/2006/table">
            <a:tbl>
              <a:tblPr/>
              <a:tblGrid>
                <a:gridCol w="1306800"/>
                <a:gridCol w="7227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seS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ames of the CEs where the user’s VO is allowed to run together with their corresponding closest SEs</a:t>
                      </a: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</a:t>
                      </a:r>
                      <a:endParaRPr b="0" lang="en-US" sz="14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umber of CPUs, running and waiting jobs and names of the CE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Es names together with the available and used spac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fc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ame of the lfc Catalog for the user’s VO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t groups all the features just describe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lp</a:t>
                      </a:r>
                      <a:endParaRPr b="0" lang="en-US" sz="20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ints all the available options and exi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34C7-B321-4532-B6F3-60DA86A612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080" y="1000080"/>
            <a:ext cx="85899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To retrieve the status of all the available CEs serving the GILDA VO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–-vo gilda ce –-is server3.gs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1144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hese are the related data for gilda: (in terms of queues and CPUs)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#CPU    Free    Total Jobs      Running Waiting ComputingElemen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0              0        0    gilda-ce-01.pd.infn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0              0        0    gilda-ce-01.pd.infn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6      36       0              0        0    grid010.ct.infn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0       0       0              0        0    ced-ce0.datagrid.cnr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long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0      20       1              1        0    gilda-ce-01.pd.infn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short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4      39       1              0        1    skurut1.cesnet.cz:2119/jobmanager-lcgpbs-gilda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6       0              0        0    grid-ce.bio.dist.unige.it:2119/jobmanager-lcgpbs-infinite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1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FE0A-76BB-4B7E-B9F0-7B3655AEA6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Berlin Sans FB"/>
              </a:rPr>
              <a:t>Information on SEs available for the GILDA VO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sites –-vo gilda se –-is server3.gs.unina.i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hese are the related data for gilda: (in terms of SE)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Avail Space(Kb) Used Space(Kb)  Type    SEs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208464576       78813032        disk    grid009.ct.infn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4762864        3278524         disk    ced-se0.datagrid.cnr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70479800        3666968         disk    gilda-se-01.pd.infn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388044168       419624          disk    grid-se.bio.dist.unige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14425144        3263156         disk    grid004.grid.elettra.trieste.it</a:t>
            </a: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C163-899D-4039-9839-992635F967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82240" y="2104920"/>
            <a:ext cx="8589960" cy="45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rid010.ct.infn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rid009.ct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ced-ce0.datagrid.cnr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ced-se0.datagrid.cnr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rid010.ct.infn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rid009.ct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ced-ce0.datagrid.cnr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ced-se0.datagrid.cnr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ilda-ce-01.pd.infn.it:2119/jobmanager-lcgpbs-long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ilda-se-01.pd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E: gilda-ce-01.pd.infn.it:2119/jobmanager-lcgpbs-shor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 of the close SE:   gilda-se-01.pd.infn.it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3040" y="825480"/>
            <a:ext cx="821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0120" y="838080"/>
            <a:ext cx="88138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Berlin Sans FB"/>
              </a:rPr>
              <a:t>The names of the CEs where the user's VO is allowed to run together with their corresponding closest SEs are provided.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cg-infosites –-vo gilda closeSE –-is server3.gs.unina.it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15B2-D02E-4082-B530-B6D8DD25CC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45600" y="974880"/>
            <a:ext cx="858996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Installation and Configuration of the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User Interface 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b519a"/>
                </a:solidFill>
                <a:latin typeface="Arial"/>
              </a:rPr>
              <a:t>Plug And Play Combined</a:t>
            </a: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02000" y="3195720"/>
            <a:ext cx="1968480" cy="20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96baee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c3b8b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2984A-6D4E-4779-8CAE-5345523DCF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sites t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Berlin Sans FB"/>
              </a:rPr>
              <a:t>Test some lcg-infosites featur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lf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%lcg-infosites –-vo gilda al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D074-66BC-4D00-BD83-5E0A2AFF5E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int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s program allows the user to query, in a deeper way, the BDII. It requires the environmental variable </a:t>
            </a:r>
            <a:r>
              <a:rPr b="1" lang="en-US" sz="2400" spc="-1" strike="noStrike">
                <a:solidFill>
                  <a:srgbClr val="be1908"/>
                </a:solidFill>
                <a:latin typeface="Arial"/>
              </a:rPr>
              <a:t>LCG_GFAL_INFOSY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to be set to the value of the BDII to be queried, e.g. </a:t>
            </a:r>
            <a:r>
              <a:rPr b="1" lang="en-US" sz="2400" spc="-1" strike="noStrike">
                <a:solidFill>
                  <a:srgbClr val="ac3b8b"/>
                </a:solidFill>
                <a:latin typeface="Arial"/>
              </a:rPr>
              <a:t>server3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ints the list of the CEs or SEs satisfying a given </a:t>
            </a:r>
            <a:r>
              <a:rPr b="1" lang="en-US" sz="2400" spc="-1" strike="noStrike">
                <a:solidFill>
                  <a:srgbClr val="fb3b15"/>
                </a:solidFill>
                <a:latin typeface="Arial"/>
              </a:rPr>
              <a:t>query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along with a list of specified attributes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query syntax is like thi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1 op1 valueN, ... attrN opN value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attrN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is an attribute 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p is =, &gt;= or &lt;=, and the cuts are ANDed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 combination of attribute is supported.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cuts are comma-separated and spaces are not allowed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F821-C678-40CB-86BD-C9BEFC0576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5520" y="974520"/>
            <a:ext cx="87804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attrs  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Prints a list of attributes that can be queried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ce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Lists the CEs which satisfy a query, or all the CEs if no query is give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list-se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Lists the SEs which satisfy a query, or all the SEs if no query is give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query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Restricts the output to the CEs (SEs) which satisfy the given query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bdii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Allows to specify a BDII in the form &lt;hostname&gt;:&lt;port&gt;. If not given,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the value of the environmental variable LCG_GFAL_INFOSYS is used.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If that is not defined, the command returns an error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sed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Print the output in a "sed-friendly" format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attrs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Specifies the attributes whose values should be printed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--vo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   Restricts the output to CEs or SEs where the given VO is authorized.  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           Mandatory when VO-dependent attributes are queried upon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4441-EBF1-45DD-AC50-9979B49F16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0" y="1530000"/>
            <a:ext cx="85899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ttribute name  Glue object class     Glue attribute na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xTi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                GlueCEPolicyMaxWallClockTi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Stat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CE                GlueCEStateStat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tal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CE                GlueCEStateTotal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V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GlueCE                GlueCEAccessControlBaseRul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talCP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CE                GlueCEInfoTotalCP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eeCPU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CE                GlueCEStateFreeCPU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CE                GlueC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iting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GlueCE                GlueCEStateWaiting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unningJob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GlueCE                GlueCEStateRunningJobs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SEBindGroup     GlueCESEBindGroupC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CESEBindGroup     GlueCESEBindGroupS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V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GlueSA                GlueSAAccessControlBaseRul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dSp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A                GlueSAStateUsedSpac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vailableSp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GlueSA                GlueSAStateAvailableSpac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GlueSE                GlueSE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SE                GlueSE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SEAccessProtocol  GlueSEAccessProtocol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chTy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GlueSL                GlueSLArchitectureTyp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ss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ubCluster        GlueHostProcessorModel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GlueSubCluster        GlueHostOperatingSystemNam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us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GlueSubCluster        GlueSubClusterUniqueID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3b15"/>
                </a:solidFill>
                <a:latin typeface="Courier New"/>
              </a:rPr>
              <a:t>Tag             GlueSubCluster        GlueHostApplicationSoftwareRunTimeEnvironment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mor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GlueSubCluster        GlueHostMainMemoryRAMSiz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SVers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GlueSubCluster        GlueHostOperatingSystemRelease</a:t>
            </a:r>
            <a:endParaRPr b="1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6840" y="971640"/>
            <a:ext cx="8521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To get the list of all the “queryable” attribute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cg-info --list-attr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3B6DF-CD40-49C4-BD60-FF8909C897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5600" y="2139480"/>
            <a:ext cx="42181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49240" y="2477880"/>
            <a:ext cx="421956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DEMTOOLS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KIN-VALI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KIN-1.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IM-VALI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SOUND-4.13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MPICH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VIRGO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-OSCAR-2.4.5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HCb_dbase_common-v3r1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EANT4-6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VLC-0.7.2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EGEODE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RASTER3D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SCILAB-2.6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95-3.5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MAGIC-6.19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ODESA3D-1.0</a:t>
            </a: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5520" y="974880"/>
            <a:ext cx="8426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o find out which kind of software is supported for your jobs by the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Es 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cg-info --list-ce --attrs Ta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3040" y="1795320"/>
            <a:ext cx="482616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CE:  grid010.ct.infn.it:2119/jobmanager-lcgpbs-infinit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Arial"/>
              </a:rPr>
              <a:t>- Tag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1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1_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2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3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3_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CG-2_4_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R-GMA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FS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-1.1.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TLAS-6.0.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GATE-1.0.0-3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LHCb-1.1.1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IDL-5.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CMSIM-125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LICE-4.01.00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ALIEN-1.32.14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                        </a:t>
            </a:r>
            <a:r>
              <a:rPr b="1" lang="en-US" sz="1300" spc="-1" strike="noStrike">
                <a:solidFill>
                  <a:srgbClr val="2b519a"/>
                </a:solidFill>
                <a:latin typeface="Arial"/>
              </a:rPr>
              <a:t>POVRAY-3.5</a:t>
            </a: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3E63-BED2-422E-8CDB-AE4FB7964B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To get the list of all the CEs which satisfy the following attributes…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cg-info --list-ce –-attrs ‘FreeCPUs,TotalJobs,CloseSE’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grid009.ct.infn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ced-ce0.datagrid.cnr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ced-se0.datagrid.cnr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grid009.ct.infn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ced-ce0.datagrid.cnr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loseSE             ced-se0.datagrid.cnr.i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TotalJobs           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0D46-8F12-43BD-B107-9245967863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To get the list of all the CEs which satisfy the following query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lcg-info --list-ce –-attrs FreeCPUs --query 'FreeCPUs &gt;= 30'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grid010.ct.infn.it:2119/jobmanager-lcgpbs-infinit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36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long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gilda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short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CE: skurut1.cesnet.cz:2119/jobmanager-lcgpbs-infinit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2b519a"/>
                </a:solidFill>
                <a:latin typeface="Arial"/>
              </a:rPr>
              <a:t>- FreeCPUs            40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info examples (IV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A220-EFFF-4E6E-9DDC-A10DBB87A6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3489480"/>
            <a:ext cx="8620200" cy="93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b519a"/>
                </a:solidFill>
                <a:latin typeface="Arial"/>
              </a:rPr>
              <a:t>Workload Management System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71600" y="1165320"/>
            <a:ext cx="2697120" cy="2274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079960" y="6058080"/>
            <a:ext cx="379728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200" y="6058080"/>
            <a:ext cx="378468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DD9D-0EED-4002-86E6-6ADFC7E716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Workload Managements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user interacts with Grid via a </a:t>
            </a:r>
            <a:r>
              <a:rPr b="0" lang="en-GB" sz="2400" spc="-1" strike="noStrike">
                <a:solidFill>
                  <a:srgbClr val="99b816"/>
                </a:solidFill>
                <a:latin typeface="Arial"/>
              </a:rPr>
              <a:t>Workload Management System (WM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Goal of WMS is the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stributed scheduling and resource management in a Grid environment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What does it allow Grid users to do?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submit their job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execute them on the “best resources”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cc3300"/>
                </a:solidFill>
                <a:latin typeface="Arial"/>
              </a:rPr>
              <a:t>The WMS tries to optimize the usage of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get information about their stat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To retrieve their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A58-8B13-4802-9C5C-92E459D21A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320" y="949320"/>
            <a:ext cx="858996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formation to be specified when a job has to be submit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characteristic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requirements and preferences on the computing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lso including software dependenci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Job data requirement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formation specified using a Job Description Language (JDL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Based upon Condor’s </a:t>
            </a: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CLASSified ADvertisement language (ClassAd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Fully extensible languag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 ClassA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f"/>
                </a:solidFill>
                <a:latin typeface="Arial"/>
              </a:rPr>
              <a:t>Constructed with the classad construction operator []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8f"/>
                </a:solidFill>
                <a:latin typeface="Arial"/>
              </a:rPr>
              <a:t>It is a sequence of attributes separated by semi-colon (;).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o, the JDL allows definition of a set of attribute, the WMS takes into account when making its scheduling decis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C9B63-F36B-484D-BE52-227BB710BD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Local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30160" y="1825200"/>
            <a:ext cx="6291000" cy="2368440"/>
          </a:xfrm>
          <a:prstGeom prst="rect">
            <a:avLst/>
          </a:prstGeom>
          <a:solidFill>
            <a:srgbClr val="f4ce00"/>
          </a:solidFill>
          <a:ln w="9360">
            <a:solidFill>
              <a:srgbClr val="2b519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Host: ws-XX 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Username: local or titos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Password: vico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GridPassPhrase: VICO-EQUENSE</a:t>
            </a:r>
            <a:r>
              <a:rPr b="1" lang="it-IT" sz="2800" spc="-1" strike="noStrike">
                <a:solidFill>
                  <a:srgbClr val="2b519a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76A3-BE4B-402F-8BA9-3D807BDDF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Prepa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An attribute is a pair (key, value), where value can be a Boolean, an Integer, a list of strings, ...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&lt;attribute&gt; = &lt;value&gt;;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In case of literal string for valu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a string itself contains double quotes, they must be escaped with a backslas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1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Arguments = 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 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\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Hello\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lang="en-GB" sz="1700" spc="-1" strike="noStrike">
                <a:solidFill>
                  <a:srgbClr val="00338f"/>
                </a:solidFill>
                <a:latin typeface="Courier New"/>
              </a:rPr>
              <a:t> 10</a:t>
            </a:r>
            <a:r>
              <a:rPr b="1" lang="en-US" sz="17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0" lang="en-GB" sz="1700" spc="-1" strike="noStrike">
                <a:solidFill>
                  <a:srgbClr val="00338f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he character “'” cannot be specified in the JD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special characters such as &amp;, |, &gt;, &lt; are only allowed 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f specified inside a quoted string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f preceded by triple \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1000"/>
              </a:lnSpc>
              <a:spcBef>
                <a:spcPts val="451"/>
              </a:spcBef>
              <a:buClr>
                <a:srgbClr val="f1af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8f"/>
                </a:solidFill>
                <a:latin typeface="Courier New"/>
              </a:rPr>
              <a:t>Arguments = </a:t>
            </a:r>
            <a:r>
              <a:rPr b="1" i="1" lang="en-US" sz="16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1" i="1" lang="en-GB" sz="1800" spc="-1" strike="noStrike">
                <a:solidFill>
                  <a:srgbClr val="00338f"/>
                </a:solidFill>
                <a:latin typeface="Courier New"/>
              </a:rPr>
              <a:t>-f file1\\\&amp;file2</a:t>
            </a:r>
            <a:r>
              <a:rPr b="1" i="1" lang="en-US" sz="1600" spc="-1" strike="noStrike">
                <a:solidFill>
                  <a:srgbClr val="2b519a"/>
                </a:solidFill>
                <a:latin typeface="Courier New"/>
              </a:rPr>
              <a:t>"</a:t>
            </a:r>
            <a:r>
              <a:rPr b="0" i="1" lang="en-GB" sz="1800" spc="-1" strike="noStrike">
                <a:solidFill>
                  <a:srgbClr val="00338f"/>
                </a:solidFill>
                <a:latin typeface="Courier New"/>
              </a:rPr>
              <a:t>;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ments must be preceded by a sharp character (#) or have to follow the C++ syntax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The JDL is sensitive to blank characters and tab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hey should not follow the semicolon (;) at the end of a lin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6B6D-DD17-4CE7-8E7F-292DDA035B9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Description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supported attributes are grouped in two categories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00"/>
                </a:solidFill>
                <a:uFillTx/>
                <a:latin typeface="Arial"/>
              </a:rPr>
              <a:t>Job Attributes</a:t>
            </a:r>
            <a:r>
              <a:rPr b="0" lang="en-GB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Define the job itself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00"/>
                </a:solidFill>
                <a:uFillTx/>
                <a:latin typeface="Arial"/>
              </a:rPr>
              <a:t>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Taken into account by the RB for carrying out the matchmaking algorithm (to choose the “best” resource where to submit the job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Computing Resourc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Used to build expressions of Requirements and/or Rank attributes by the user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Have to be prefixed with “</a:t>
            </a:r>
            <a:r>
              <a:rPr b="0" i="1" lang="en-GB" sz="1800" spc="-1" strike="noStrike">
                <a:solidFill>
                  <a:srgbClr val="0033cc"/>
                </a:solidFill>
                <a:latin typeface="Arial"/>
              </a:rPr>
              <a:t>other.</a:t>
            </a: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”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338f"/>
                </a:solidFill>
                <a:latin typeface="Arial"/>
              </a:rPr>
              <a:t>Data and Storage resources (see talk Job Services With Data Requirement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8f"/>
                </a:solidFill>
                <a:latin typeface="Arial"/>
              </a:rPr>
              <a:t>Input data to process, SE where to store output data, protocols spoken by application when accessing SE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BB61-A6C8-4043-B556-3530BA17E7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– Relevant Attribu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4640" y="878040"/>
            <a:ext cx="8485200" cy="53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JobType</a:t>
            </a:r>
            <a:r>
              <a:rPr b="0" lang="en-GB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simple, sequential job)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teractiv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PI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eckpoin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combination of the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xecut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ndatory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mmand nam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Argume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 command line argument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Input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Output</a:t>
            </a:r>
            <a:r>
              <a:rPr b="0" lang="en-GB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dErr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input/output/error of the job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InputSandbo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files on the UI local disk needed by the job for running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isted files will automatically staged to the remote resour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OutputSandbo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files, generated by the job, which have to be retrieved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irtualOrganis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fferent way to specify the VO of the user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5DCE-CCDB-4722-9F7C-8EDC16F7E0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Sub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1600200"/>
            <a:ext cx="2016000" cy="2206440"/>
            <a:chOff x="6934320" y="1600200"/>
            <a:chExt cx="2016000" cy="220644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934320" y="1600200"/>
              <a:ext cx="201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7000560" y="3641760"/>
              <a:ext cx="1746360" cy="164880"/>
            </a:xfrm>
            <a:prstGeom prst="roundRect">
              <a:avLst>
                <a:gd name="adj" fmla="val 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16000" y="2862360"/>
            <a:ext cx="66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5faf"/>
                </a:solidFill>
                <a:latin typeface="Arial"/>
              </a:rPr>
              <a:t>Usage: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glite-job-submit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d2a500"/>
                </a:solidFill>
                <a:latin typeface="Arial"/>
              </a:rPr>
              <a:t>[options]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&lt;jdl file</a:t>
            </a:r>
            <a:r>
              <a:rPr b="0" lang="en-US" sz="18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8520" y="1163520"/>
            <a:ext cx="613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3960" y="1163520"/>
            <a:ext cx="54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1109520"/>
            <a:ext cx="59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glite-job-submit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performs the job submission to the WMS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5720" y="3959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7760" y="3706920"/>
            <a:ext cx="802296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25faf"/>
                </a:solidFill>
                <a:uFillTx/>
                <a:latin typeface="Arial"/>
              </a:rPr>
              <a:t>Principal Options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: 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v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vo name&gt; : perform submission with a different VO than the UI default on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output, -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output file&gt; save jobId on a file, instead of STDIN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resource, -r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&lt;resource value&gt;, specify the resource for execution (needs the GLUE UniqueId of the queue, obtainable with 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list-match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debug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show function calls and parameters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A111-E8DA-45FF-900E-0F05FAC288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life cycle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status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job execution status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output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If job status is done, allows output retriev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glite-job-cancel</a:t>
            </a:r>
            <a:r>
              <a:rPr b="1" lang="en-US" sz="24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290c"/>
                </a:solidFill>
                <a:latin typeface="Arial"/>
              </a:rPr>
              <a:t>&lt;job id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6290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perform job dele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All of these commands accepts (with the option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–i &lt;file&gt;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) input from a file.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glite-job-status  -i myjobI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3EE6-C07D-4924-997A-13EBB2E4E7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-- 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8560" y="1380960"/>
            <a:ext cx="8589960" cy="45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Type = "Job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JobType = "Normal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Executable = "/bin/ba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StdOutput = “std.out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StdError = “std.err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InputSandbox = {“yourscript.sh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OutputSandbox = {“std.err",“std.out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Arguments = "yourscript.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88E1-1C59-4A7A-BF05-4E3889BD40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9640" y="2612880"/>
            <a:ext cx="8589960" cy="3841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imple job submiss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338f"/>
                </a:solidFill>
                <a:latin typeface="Courier New"/>
              </a:rPr>
              <a:t>cp hostname.jdl exercise1.jdl</a:t>
            </a:r>
            <a:endParaRPr b="0" lang="en-US" sz="2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Modify exercise1.jdl file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Instead of running </a:t>
            </a:r>
            <a:r>
              <a:rPr b="1" lang="it-IT" sz="1900" spc="-1" strike="noStrike" u="sng">
                <a:solidFill>
                  <a:srgbClr val="00338f"/>
                </a:solidFill>
                <a:uFillTx/>
                <a:latin typeface="Arial"/>
              </a:rPr>
              <a:t>hostname</a:t>
            </a:r>
            <a:r>
              <a:rPr b="1" lang="it-IT" sz="1900" spc="-1" strike="noStrike">
                <a:solidFill>
                  <a:srgbClr val="00338f"/>
                </a:solidFill>
                <a:latin typeface="Arial"/>
              </a:rPr>
              <a:t> command, run a bash script you have just created (yourscript.sh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Submit the job, check its status and when done retrieve the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1200" y="977760"/>
            <a:ext cx="8674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&gt;cd UIPnPcomb/example_JDL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Create a bash script which displays hostname and current da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Save the script as yourscript.sh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2489-7506-4079-AEE5-B3C8FF0DC1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Requi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Job requirements on the resourc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pecified using GLUE attributes of resources published in the Information Servic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Its value is a boolean express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8f"/>
                </a:solidFill>
                <a:latin typeface="Arial"/>
              </a:rPr>
              <a:t>Only one requirements can be specifi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there are more than one, only the last one is taken into accoun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If you need several Requirements, combine them through logical operators (&amp;&amp;, ||, !, .....).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If not specified, default value defined in UI configuration file is consider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Default: </a:t>
            </a:r>
            <a:r>
              <a:rPr b="0" i="1" lang="en-GB" sz="1900" spc="-1" strike="noStrike">
                <a:solidFill>
                  <a:srgbClr val="ff0000"/>
                </a:solidFill>
                <a:latin typeface="Arial"/>
              </a:rPr>
              <a:t>other.GlueCEStateStatus == "Production"</a:t>
            </a: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 (the resource has to be able to accept jobs and dispatch them on WN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2777-331F-4F84-BE8E-31E3026D1E8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– Requirement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short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72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long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144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parse only the infinite queue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(other.GlueCEPolicyMaxWallClockTime &gt; 2880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#</a:t>
            </a:r>
            <a:r>
              <a:rPr b="1" lang="it-IT" sz="2000" spc="-1" strike="noStrike">
                <a:solidFill>
                  <a:srgbClr val="904490"/>
                </a:solidFill>
                <a:latin typeface="Courier New"/>
              </a:rPr>
              <a:t>Insert a requirement to stear the execution on a particular CE Queue</a:t>
            </a: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other.GlueCEUniqueID == "grid010.ct.infn.it:2119/jobmanager-lcgpbs-long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2DEC-CD79-47A1-A949-2208762E7E5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ob Sub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934320" y="1600200"/>
            <a:ext cx="2016000" cy="2206440"/>
            <a:chOff x="6934320" y="1600200"/>
            <a:chExt cx="2016000" cy="220644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6934320" y="1600200"/>
              <a:ext cx="201600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000560" y="3641760"/>
              <a:ext cx="1746360" cy="164880"/>
            </a:xfrm>
            <a:prstGeom prst="roundRect">
              <a:avLst>
                <a:gd name="adj" fmla="val 95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16000" y="3127320"/>
            <a:ext cx="66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5faf"/>
                </a:solidFill>
                <a:latin typeface="Arial"/>
              </a:rPr>
              <a:t>Usage: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glite-job-list-match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d2a500"/>
                </a:solidFill>
                <a:latin typeface="Arial"/>
              </a:rPr>
              <a:t>[options]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d6290c"/>
                </a:solidFill>
                <a:latin typeface="Arial"/>
              </a:rPr>
              <a:t>&lt;jdl file</a:t>
            </a:r>
            <a:r>
              <a:rPr b="0" lang="en-US" sz="1800" spc="-1" strike="noStrike">
                <a:solidFill>
                  <a:srgbClr val="d6290c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8520" y="1163520"/>
            <a:ext cx="613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3960" y="1163520"/>
            <a:ext cx="542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7720" y="1109520"/>
            <a:ext cx="5985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325faf"/>
                </a:solidFill>
                <a:latin typeface="Arial"/>
              </a:rPr>
              <a:t>glite-job-list-match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allows to check the suitable resources for execution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25faf"/>
                </a:solidFill>
                <a:latin typeface="Arial"/>
              </a:rPr>
              <a:t>No job submission is performed, just listmatch is performed 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5720" y="3959280"/>
            <a:ext cx="42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7760" y="3706920"/>
            <a:ext cx="802296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25faf"/>
                </a:solidFill>
                <a:uFillTx/>
                <a:latin typeface="Arial"/>
              </a:rPr>
              <a:t>Principal Options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: 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v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vo name&gt; : perform list-match with a different VO than the UI default on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--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rank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show resources in order of rankin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output, -o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&lt;output file&gt; redirect output on a file, instead of STDIN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--debug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show function calls and parameters 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325fa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C66B-F030-47BB-92F4-1552C46B6AE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Installation and configuration ste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320" y="1677600"/>
            <a:ext cx="8589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Login into your account and from your ho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rectory type following command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907320" y="973080"/>
            <a:ext cx="1968480" cy="2059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6240" y="3962520"/>
            <a:ext cx="8694720" cy="2534760"/>
          </a:xfrm>
          <a:prstGeom prst="rect">
            <a:avLst/>
          </a:prstGeom>
          <a:solidFill>
            <a:srgbClr val="f4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2b519a"/>
                </a:solidFill>
                <a:uFillTx/>
                <a:latin typeface="Arial"/>
              </a:rPr>
              <a:t>NOT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main reference to the UI PnP “combined” is: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u="sng">
                <a:solidFill>
                  <a:srgbClr val="0251c4"/>
                </a:solidFill>
                <a:uFillTx/>
                <a:latin typeface="Arial"/>
              </a:rPr>
              <a:t>https://gilda.ct.infn.it/UIPnPcomb/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(at this link you can find the short documentation)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03440" y="103032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603520"/>
            <a:ext cx="79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d8a04"/>
                </a:solidFill>
                <a:latin typeface="Arial"/>
              </a:rPr>
              <a:t>tar zxvf </a:t>
            </a:r>
            <a:r>
              <a:rPr b="1" i="1" lang="it-IT" sz="2800" spc="-1" strike="noStrike">
                <a:solidFill>
                  <a:srgbClr val="3d8a04"/>
                </a:solidFill>
                <a:latin typeface="Arial"/>
              </a:rPr>
              <a:t>UIPnPcomb.tar.gz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85E8-D45A-4040-9614-99034D4F9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imple job using Requi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Modify exercise1.jdl file so that user with a even workstation number will submit their job on a “long” queue, and the other to an “infinite” on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Verify the list of CE suitable for this job execu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338f"/>
                </a:solidFill>
                <a:latin typeface="Arial"/>
              </a:rPr>
              <a:t>Submit the job, check its status and retrieve the outpu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FCD3-4987-4C2A-B90E-B1ED2C79721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JDL -- Requir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Type = "Job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JobType = "Normal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Executable = "/bin/sh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dOutput = "povray_cubo.out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StdError = "povray_cubo.err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InputSandbox = {"start_povray_cubo.sh","cubo.pov"}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OutputSandbox = {"povray_cubo.out","povray_cubo.err","cubo.png"}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tryCount = 7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Arguments = "start_povray_cubo.sh"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Requirements = Member("POVRAY-3.5",other.GlueHostApplicationSoftwareRunTimeEnvironment)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FF22-D346-49A2-BBCD-731A386E94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tart_povray_cubo.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#!/bin/bas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mv cubo.pov OBJECT.POV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ename input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/usr/bin/povray /usr/share/povray-3.5/ini/res800.ini 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un povray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mv OBJECT.png cubo.png </a:t>
            </a:r>
            <a:r>
              <a:rPr b="1" lang="it-IT" sz="2400" spc="-1" strike="noStrike">
                <a:solidFill>
                  <a:srgbClr val="904490"/>
                </a:solidFill>
                <a:latin typeface="Courier New"/>
              </a:rPr>
              <a:t>#rename output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7416-8AD3-49E8-907D-2CEFE27C57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d UIPnPcomb/example_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Modify povray_cubo.jdl, specifying the resource for execution into the jdl 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heck job status and when done retrieve the output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.png file obtained as output, using ImageMagic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6A59-841F-439B-8AE4-A4FFCB2CB8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.BrokerInfo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5600" y="898200"/>
            <a:ext cx="85741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It is a mechanism by which a job can access at some information about itself…at execution time!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Resource Broker creates and attaches this file to the job when it i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ready to be transfered to the resource that best matches the request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wo ways for parsing elements from .BrokerInfo fi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1)Directly from the Worker Node at execution time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2)From User Interface, but only if you have inserted the name of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 “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.BrokerInfo” file in the JDL’s OutputSandbox, and you have just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retrieved job output, once that job has been Done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99880" y="4295880"/>
            <a:ext cx="8676000" cy="21938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739880" y="4140360"/>
            <a:ext cx="56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d8a04"/>
                </a:solidFill>
                <a:latin typeface="Arial"/>
              </a:rPr>
              <a:t>edg-brokerinfo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[options] function param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94A0-AEAD-4A73-BC80-CC1CB621B5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ample of .BrokerInfo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000" y="910800"/>
            <a:ext cx="4357800" cy="5581800"/>
          </a:xfrm>
          <a:prstGeom prst="rect">
            <a:avLst/>
          </a:prstGeom>
          <a:solidFill>
            <a:srgbClr val="96baee"/>
          </a:solidFill>
          <a:ln w="2232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        ComputingElement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CloseStorageElement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[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GlueSAStateAvailableSpace = 14029724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GlueCESEBindCEAccesspoint = "/flatfiles/SE00"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mount = GlueCESEBindCEAccessPoint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name = "grid003.cecalc.ula.ve"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freespace = GlueSAStateAvailableSpac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]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name = "grid006.cecalc.ula.ve:2119/jobmanager-lcgpbs-infinite"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]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InputFN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StorageElements =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{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}; 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        </a:t>
            </a:r>
            <a:r>
              <a:rPr b="1" lang="it-IT" sz="1400" spc="-1" strike="noStrike">
                <a:solidFill>
                  <a:srgbClr val="010167"/>
                </a:solidFill>
                <a:latin typeface="Arial"/>
              </a:rPr>
              <a:t>VirtualOrganisation = "gilda"    ]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977760"/>
            <a:ext cx="4419720" cy="494388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DataAccessProtocol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InputDat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CloseS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MountPoint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FreeSpace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Protocols &lt;SE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SEPort &lt;SE&gt; &lt;Protocol&gt;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VirtualOrganiza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25faf"/>
                </a:solidFill>
                <a:latin typeface="Arial"/>
              </a:rPr>
              <a:t>edg-brokerinfo getAccessCost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4B7B-4247-4AFB-BB25-2C7063C3310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10600" y="1037880"/>
            <a:ext cx="8813880" cy="5327640"/>
          </a:xfrm>
          <a:prstGeom prst="rect">
            <a:avLst/>
          </a:prstGeom>
          <a:solidFill>
            <a:srgbClr val="a4e90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Exercise 1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reate a file called </a:t>
            </a: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startScriptBrokerInfo.sh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with this content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#!/bin/sh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Y_NAME=“Your name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WORKER_NODE_NAME=`hostname`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cho "Hello $MY_NAME, from $WORKER_NODE_NAME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s -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cho "This job is running on this CE: "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/opt/edg/bin/edg-brokerinfo getC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D349-3302-4F6B-B39A-BDA2BFE9D6D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3560" y="1037880"/>
            <a:ext cx="8800920" cy="5327640"/>
          </a:xfrm>
          <a:prstGeom prst="rect">
            <a:avLst/>
          </a:prstGeom>
          <a:solidFill>
            <a:srgbClr val="a4e90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Exercise 2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Create a file called </a:t>
            </a: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scriptBrokerInfo.jdl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with this content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[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xecutable = "startScriptBrokerInfo.sh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tdOutput = "std.out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StdError = "std.err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VirtualOrganisation = "gilda"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putSandbox = {"startScriptBrokerInfo.sh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OutputSandbox = {"std.out","std.err",".BrokerInfo"}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RetryCount = 7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DF05-58C7-41BB-A1D4-6CC087CEB63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02680" y="936360"/>
            <a:ext cx="8636040" cy="5111640"/>
          </a:xfrm>
          <a:prstGeom prst="rect">
            <a:avLst/>
          </a:prstGeom>
          <a:solidFill>
            <a:srgbClr val="96baee"/>
          </a:solidFill>
          <a:ln w="19080">
            <a:solidFill>
              <a:srgbClr val="2b519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167"/>
                </a:solidFill>
                <a:latin typeface="Arial"/>
              </a:rPr>
              <a:t>Replace your name in the file script</a:t>
            </a: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startScriptBrokerInfo.sh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10167"/>
                </a:solidFill>
                <a:latin typeface="Arial"/>
              </a:rPr>
              <a:t>Submit / Query the status / Retrieve Output the JDL file</a:t>
            </a:r>
            <a:r>
              <a:rPr b="1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scriptBrokerInfo.jdl</a:t>
            </a:r>
            <a:r>
              <a:rPr b="1" lang="en-US" sz="2000" spc="-1" strike="noStrike">
                <a:solidFill>
                  <a:srgbClr val="325fa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67"/>
                </a:solidFill>
                <a:latin typeface="Arial"/>
              </a:rPr>
              <a:t>In JobOutput folder, go into directory of the job that you have just retrieved and inspect the .BrokerInfo file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220000"/>
              </a:lnSpc>
              <a:spcBef>
                <a:spcPts val="499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67"/>
                </a:solidFill>
                <a:latin typeface="Arial"/>
              </a:rPr>
              <a:t>Take practice with the edg-brokerinfo command and its functions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4764-21F4-43C1-981D-295B2611574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4840" y="2206440"/>
            <a:ext cx="858996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d UIPnPcomb/example_JDL/Catania/JobSubmiss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l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at source.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n the script startExe.sh set variable MYNAM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&gt;cat c_exe.jd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lnSpc>
                <a:spcPct val="160000"/>
              </a:lnSpc>
              <a:spcBef>
                <a:spcPts val="601"/>
              </a:spcBef>
              <a:buClr>
                <a:srgbClr val="f1a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ubmit / Query the status / Retrieve Output of the job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" y="977760"/>
            <a:ext cx="869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This exercise allows user to submit a job which compiles a C sourc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file and executes the binary obtained.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C4FD-057D-44A9-8849-595C4991D20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B (LCG)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5520" y="1998360"/>
            <a:ext cx="8848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LCG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esource Broker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3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uncomment this value for th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ribute </a:t>
            </a:r>
            <a:r>
              <a:rPr b="1" i="1" lang="it-IT" sz="2400" spc="-1" strike="noStrike">
                <a:solidFill>
                  <a:srgbClr val="fb2dec"/>
                </a:solidFill>
                <a:latin typeface="Arial"/>
              </a:rPr>
              <a:t>NS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and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B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in th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ollowing fil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dg/etc/gilda/edg_wl_ui.conf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95720" y="101592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4759200"/>
            <a:ext cx="8648640" cy="159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SAddresses = "server3.gs.unina.it:7772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BAddresses = "server3.gs.unina.it:9000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331600">
            <a:off x="851400" y="1154880"/>
            <a:ext cx="1098360" cy="563760"/>
          </a:xfrm>
          <a:prstGeom prst="octagon">
            <a:avLst>
              <a:gd name="adj" fmla="val 29287"/>
            </a:avLst>
          </a:prstGeom>
          <a:solidFill>
            <a:srgbClr val="3d8a04"/>
          </a:solidFill>
          <a:ln w="25560">
            <a:solidFill>
              <a:srgbClr val="f4c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4ce00"/>
                </a:solidFill>
                <a:latin typeface="Arial"/>
              </a:rPr>
              <a:t>LC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C3AB-4B1E-42EC-A8A6-717BB64027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269640" y="3095640"/>
            <a:ext cx="858996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b519a"/>
                </a:solidFill>
                <a:latin typeface="Arial"/>
              </a:rPr>
              <a:t>Practicals on LFC and lcg-utils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73040" y="109692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35160" y="4381560"/>
            <a:ext cx="3784680" cy="368280"/>
          </a:xfrm>
          <a:prstGeom prst="rect">
            <a:avLst/>
          </a:prstGeom>
          <a:solidFill>
            <a:srgbClr val="f4ce00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04490"/>
                </a:solidFill>
                <a:latin typeface="Arial"/>
              </a:rPr>
              <a:t>Tony Calanducci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1DDF-F3C3-4129-B5AE-AB9B2BB4B8B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up your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5600" y="1329840"/>
            <a:ext cx="858996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Set the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llowing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nvironment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variables to specify the catalog type and its location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ort LCG_CATALOG_TYPE=lf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export LFC_HOST=lfc-gilda.ct.infn.i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Ensure you have created a proxy certificate and it is still valid. If not create it b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grid-proxy-init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Remember: The Passphrase is </a:t>
            </a:r>
            <a:r>
              <a:rPr b="0" lang="it-IT" sz="2100" spc="-1" strike="noStrike">
                <a:solidFill>
                  <a:srgbClr val="ff0000"/>
                </a:solidFill>
                <a:latin typeface="Arial"/>
              </a:rPr>
              <a:t>VICO-EQUENS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29DA-4912-431D-8845-D4CC42438BB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sting the entries of a LFC directo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fc-ls  [-cdiLlRTu] [--comment] path…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pecifies the LFC pathname (mandatory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member that </a:t>
            </a:r>
            <a:r>
              <a:rPr b="1" lang="en-US" sz="2100" spc="-1" strike="noStrike">
                <a:solidFill>
                  <a:srgbClr val="2b519a"/>
                </a:solidFill>
                <a:latin typeface="Arial"/>
              </a:rPr>
              <a:t>LFC has a directory tree structur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/grid/&lt;VO_name&gt;/</a:t>
            </a:r>
            <a:r>
              <a:rPr b="0" lang="en-US" sz="2100" spc="-1" strike="noStrike">
                <a:solidFill>
                  <a:srgbClr val="0066ff"/>
                </a:solidFill>
                <a:latin typeface="Arial"/>
              </a:rPr>
              <a:t>&lt;you create it&gt;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All members of a given VO have read-write permissions under their director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-l</a:t>
            </a:r>
            <a:r>
              <a:rPr b="0" lang="en-US" sz="2100" spc="-1" strike="noStrike">
                <a:solidFill>
                  <a:srgbClr val="325faf"/>
                </a:solidFill>
                <a:latin typeface="Arial"/>
              </a:rPr>
              <a:t> (it is a lowercase “L”) outputs long list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0" lang="en-US" sz="2100" spc="-1" strike="noStrike">
                <a:solidFill>
                  <a:srgbClr val="325faf"/>
                </a:solidFill>
                <a:latin typeface="Arial"/>
              </a:rPr>
              <a:t> lists the contents of  directories recursively (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don’t use it so often!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You can set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LFC_HOME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 to use relative paths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LFC_HOME=/grid/gilda/myDir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8f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/grid/gilda/myDir/myFile</a:t>
            </a: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 becomes 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myFile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11640" y="3004200"/>
            <a:ext cx="2382840" cy="505440"/>
          </a:xfrm>
          <a:prstGeom prst="upArrowCallout">
            <a:avLst>
              <a:gd name="adj1" fmla="val 117870"/>
              <a:gd name="adj2" fmla="val 117860"/>
              <a:gd name="adj3" fmla="val 16667"/>
              <a:gd name="adj4" fmla="val 66660"/>
            </a:avLst>
          </a:prstGeom>
          <a:solidFill>
            <a:srgbClr val="ffffcc"/>
          </a:solidFill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Defined by the us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05000" y="3015360"/>
            <a:ext cx="1922400" cy="505440"/>
          </a:xfrm>
          <a:prstGeom prst="upArrowCallout">
            <a:avLst>
              <a:gd name="adj1" fmla="val 95094"/>
              <a:gd name="adj2" fmla="val 95085"/>
              <a:gd name="adj3" fmla="val 16667"/>
              <a:gd name="adj4" fmla="val 66660"/>
            </a:avLst>
          </a:prstGeom>
          <a:solidFill>
            <a:srgbClr val="ffffcc"/>
          </a:solidFill>
          <a:ln w="2844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25faf"/>
                </a:solidFill>
                <a:latin typeface="Arial"/>
              </a:rPr>
              <a:t>LFC Namespa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B258-1EFF-4E3A-98F9-E0026CB52ED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-ls exam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66480" y="1015920"/>
            <a:ext cx="858996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lfc-ls –l /grid/gild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2751120"/>
            <a:ext cx="45720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Examples: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lfc-ls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 lfc-ls -l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&gt; lfc-ls -l -R /grid/gilda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8600" y="1641600"/>
            <a:ext cx="8385120" cy="270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tutor02-rel-pippo-pluto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9 tutor14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tutor16-my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2 unitprot-ibcp02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6 uploadfi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6 uploadfilelfn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user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user.example2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valencia15.ejemplo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40 valencia15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3080" y="4402080"/>
            <a:ext cx="8589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export LFC_HOME=/grid/gilda/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$ lfc-ls –l user.example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9760" y="5506920"/>
            <a:ext cx="8478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-rw-rw-r--   1 4401     4400                      0 Jun 21 09:38 /grid/gilda/user.exampl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22ED-0E2F-4B2D-8917-AE2C95FB69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ing a symbolic link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ln -s file 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ln -s directory 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reate a link to the specifie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irectory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with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inkna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8f"/>
                </a:solidFill>
                <a:latin typeface="Arial"/>
              </a:rPr>
              <a:t>Example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$ lfc-ln -s /grid/gilda/user.example  /grid/gilda/vico/linkToUser.ex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et’s check the link using lfc-ls with long listing (-l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$ lfc-ls -l /grid/gilda/vico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rwxrwxrwx   1 4404     4400  0 Jul 17 12:06 linkToUser.ex -&gt; /grid/gilda/user.example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490400" y="3719160"/>
            <a:ext cx="1825560" cy="634320"/>
            <a:chOff x="1490400" y="3719160"/>
            <a:chExt cx="1825560" cy="634320"/>
          </a:xfrm>
        </p:grpSpPr>
        <p:sp>
          <p:nvSpPr>
            <p:cNvPr id="319" name=""/>
            <p:cNvSpPr/>
            <p:nvPr/>
          </p:nvSpPr>
          <p:spPr>
            <a:xfrm>
              <a:off x="1490400" y="3954600"/>
              <a:ext cx="1648440" cy="39888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5faf"/>
                  </a:solidFill>
                  <a:latin typeface="Arial"/>
                </a:rPr>
                <a:t>Original File</a:t>
              </a:r>
              <a:endParaRPr b="0" lang="en-US" sz="20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307960" y="3719160"/>
              <a:ext cx="1008000" cy="237960"/>
            </a:xfrm>
            <a:prstGeom prst="line">
              <a:avLst/>
            </a:prstGeom>
            <a:ln w="28440">
              <a:solidFill>
                <a:srgbClr val="2b519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478480" y="3692160"/>
            <a:ext cx="1841400" cy="686520"/>
            <a:chOff x="5478480" y="3692160"/>
            <a:chExt cx="1841400" cy="686520"/>
          </a:xfrm>
        </p:grpSpPr>
        <p:sp>
          <p:nvSpPr>
            <p:cNvPr id="322" name=""/>
            <p:cNvSpPr/>
            <p:nvPr/>
          </p:nvSpPr>
          <p:spPr>
            <a:xfrm>
              <a:off x="5478480" y="3979800"/>
              <a:ext cx="1841400" cy="398880"/>
            </a:xfrm>
            <a:prstGeom prst="rect">
              <a:avLst/>
            </a:prstGeom>
            <a:noFill/>
            <a:ln w="255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5faf"/>
                  </a:solidFill>
                  <a:latin typeface="Arial"/>
                </a:rPr>
                <a:t>Symbolic link</a:t>
              </a:r>
              <a:endParaRPr b="0" lang="en-US" sz="20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756120" y="3692160"/>
              <a:ext cx="0" cy="310680"/>
            </a:xfrm>
            <a:prstGeom prst="line">
              <a:avLst/>
            </a:prstGeom>
            <a:ln w="28440">
              <a:solidFill>
                <a:srgbClr val="2b519a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2412-8E5A-4B2C-998E-25B671D3982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eating directories in the LFC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100" spc="-1" strike="noStrike">
                <a:solidFill>
                  <a:srgbClr val="000000"/>
                </a:solidFill>
                <a:latin typeface="Arial"/>
              </a:rPr>
              <a:t>lfc-mkdir [-m mode] [-p] path...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Wher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i="1" lang="fr-FR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specifies the LFC pathnam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Remember that while registering a new file (using lcg-cr, for example) the corresponding destination directory must be created in the catalog befo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b519a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0000"/>
                </a:solidFill>
                <a:latin typeface="Arial"/>
              </a:rPr>
              <a:t>$ lfc-mkdir /grid/gilda/Exampl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You can just check the directory with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$ lfc-ls -l /grid/gild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ADF6-9900-4774-B211-5CC81BFB216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ding/deleting metadata inform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setcomment path com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lfc-delcomment path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fc-setcomment adds/replaces 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associated with a file/directory in the LFC Catalo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lfc-delcomment deletes a comment previously add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setcomment /grid/gilda/user.example “Hello Vico”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your job with.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ls --comment /grid/gilda/user.exampl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fc-ls --comment /grid/gilda/user.example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grid/gilda/user.example Hello Vico</a:t>
            </a:r>
            <a:endParaRPr b="0" lang="en-US" sz="14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8088-1DEE-4A02-A185-CAAE47ED28A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delcomment /grid/gilda/user.example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your job with.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fc-ls –l --comment /grid/gilda/user.example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rw-rw-r--   1 4401     4400         0 Jun 21 09:38 /grid/gilda/user.example</a:t>
            </a:r>
            <a:endParaRPr b="1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F3A3-677A-45B3-A623-7C31F709A2E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1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Log onto an UI and initialize your proxy credentials if not already don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set up properly the environment variables to use lfc-gilda.ct.infn.it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have a look inside the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reate a directory with your surnam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put inside the just created dir a link to an existing fil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add a comment to that file and verify i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EF4F-AFEF-4D4A-9879-3DE9D35A780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FC Catalog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93760" y="1722600"/>
          <a:ext cx="8589960" cy="4470120"/>
        </p:xfrm>
        <a:graphic>
          <a:graphicData uri="http://schemas.openxmlformats.org/drawingml/2006/table">
            <a:tbl>
              <a:tblPr/>
              <a:tblGrid>
                <a:gridCol w="2116080"/>
                <a:gridCol w="647388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chmo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access mode of the LFC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chow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owner and group of the LFC file-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del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the comment associated with the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getac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file/directory access control list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l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 symbolic link to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l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file/directory entries in a 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mkdi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 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renam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e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rm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a file/directory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setac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file/directory access control lists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fc-set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/replace a commen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62080" y="1084320"/>
            <a:ext cx="61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mmary of the LFC Catalog commands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9C3C-5805-401D-9B71-15A3ED501A0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B (gLite)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4200" y="1998360"/>
            <a:ext cx="8848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gLite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esource Broker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2.gs.unina.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uncomment this value for th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ttribute </a:t>
            </a:r>
            <a:r>
              <a:rPr b="1" i="1" lang="it-IT" sz="2400" spc="-1" strike="noStrike">
                <a:solidFill>
                  <a:srgbClr val="fb2dec"/>
                </a:solidFill>
                <a:latin typeface="Arial"/>
              </a:rPr>
              <a:t>NS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and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BAddress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in th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ollowing fil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glite/etc/gilda/glite_wmsui.conf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6480" y="9018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2360" y="4822920"/>
            <a:ext cx="8648640" cy="159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SAddresses = "server2.gs.unina.it:7772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BAddresses = "server2.gs.unina.it:9000";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78600">
            <a:off x="431640" y="1155960"/>
            <a:ext cx="1181160" cy="563760"/>
          </a:xfrm>
          <a:prstGeom prst="ellipse">
            <a:avLst/>
          </a:prstGeom>
          <a:solidFill>
            <a:srgbClr val="f4ce00"/>
          </a:solidFill>
          <a:ln w="25560">
            <a:solidFill>
              <a:srgbClr val="904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25faf"/>
                </a:solidFill>
                <a:latin typeface="Arial"/>
              </a:rPr>
              <a:t>gLite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5BAC-ABD5-4EB6-A646-C540ADC18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81345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The LCG Data Management tools (usually called </a:t>
            </a:r>
            <a:r>
              <a:rPr b="1" i="1" lang="en-US" sz="2400" spc="-1" strike="noStrike">
                <a:solidFill>
                  <a:srgbClr val="2b519a"/>
                </a:solidFill>
                <a:latin typeface="Arial"/>
              </a:rPr>
              <a:t>lcg-utils</a:t>
            </a: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) allow users to copy files between UI, CE, WN and a SE, to register entries in the File Catalogs and replicate files between SE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Check if LCG_GFAL_INFOSYS environment variable is correctly set to the local GILDA Information Index (BDII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port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_GFAL_INFOSYS=server3.gs.unina.it:2170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3664-B541-448A-A7C9-E9A7BC60FBF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load a file to a SE and register it into th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g-cr -d dest_file | dest_host -l lfn [-g guid] [-l lfn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-v | --verbose] --vo vo src_fi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t_ho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s the fully qualified hostname of the destination S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is a valid SURL (both sfn:// or srm:// format are valid)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id</a:t>
            </a:r>
            <a:r>
              <a:rPr b="1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Grid Unique IDentifier. If this option is not present, a GUID is generated internally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f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Logical File Name associated with the fil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20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src_file</a:t>
            </a:r>
            <a:r>
              <a:rPr b="1" i="1" lang="en-US" sz="1900" spc="-1" strike="noStrike">
                <a:solidFill>
                  <a:srgbClr val="00338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pecifies the source file name: the protocol can be </a:t>
            </a:r>
            <a:r>
              <a:rPr b="0" i="1" lang="en-US" sz="1900" spc="-1" strike="noStrike">
                <a:solidFill>
                  <a:srgbClr val="00338f"/>
                </a:solidFill>
                <a:latin typeface="Arial"/>
              </a:rPr>
              <a:t>file:///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or </a:t>
            </a:r>
            <a:r>
              <a:rPr b="0" i="1" lang="en-US" sz="1900" spc="-1" strike="noStrike">
                <a:solidFill>
                  <a:srgbClr val="00338f"/>
                </a:solidFill>
                <a:latin typeface="Arial"/>
              </a:rPr>
              <a:t>gsiftp:///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3477-B7B4-41B5-8A61-B2A6CF025AA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To discover which SEs the user is allowed to use, remember you can use 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cg-infosites </a:t>
            </a: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comm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infosites --vo gilda s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8f"/>
                </a:solidFill>
                <a:latin typeface="Arial"/>
              </a:rPr>
              <a:t>The output is a list of SEs and related information on available/used space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cr usage example: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4960" y="3346560"/>
            <a:ext cx="8589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4040" y="2563920"/>
            <a:ext cx="8410680" cy="348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$ lcg-cr -v -d grid-se.bio.dist.unige.it -l lfn:/grid/gilda/vico/note.txt --vo gilda file:///home/local/note.tx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Using grid catalog type: lfc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Source URL: file:///home/local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File size: 5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specified: grid-se.bio.dist.unige.i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URL for copy: gsiftp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# streams: 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Alias registered in Catalog: lfn:/grid/gilda/vico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ransfer took 11320 m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estination URL registered in Catalog: sfn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guid:4c10a8e3-2244-4c38-bc98-ed98ae7cb94e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8C4F-CD1B-4807-8A74-1646B6DBE4A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aa and lcg-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ding an alias for a given GUI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-aa --vo vo guid lf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uid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Grid Unique Identifier of the file you want to add the alia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fn </a:t>
            </a: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specifies the new alias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 lcg-aa --vo gilda guid:4c10a8e3-2244-4c38-bc98-ed98ae7cb94e lfn:/grid/gilda/vico/aliasToNote.txt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To check if the previous command was successful, you can us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cg-la </a:t>
            </a:r>
            <a:r>
              <a:rPr b="0" lang="en-US" sz="2100" spc="-1" strike="noStrike">
                <a:solidFill>
                  <a:srgbClr val="2b519a"/>
                </a:solidFill>
                <a:latin typeface="Arial"/>
              </a:rPr>
              <a:t>command to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list the aliases for a given LFN, GUID or SURL</a:t>
            </a:r>
            <a:endParaRPr b="1" lang="en-US" sz="21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$ lcg-la --vo gilda lfn:/grid/gilda/vico/aliasToNote.tx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fn:/grid/gilda/vico/aliasTo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681A-6034-4C37-847A-8C5D466D135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2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verify that your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CG_GFAL_INFOSYS </a:t>
            </a: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is correctly set up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reate a dummy file 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heck the available storage elements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opy and register the previous created file into your previously created dir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add an alias to the just uploaded file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b519a"/>
                </a:solidFill>
                <a:latin typeface="Arial"/>
              </a:rPr>
              <a:t>check if the alias was assigned correctly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C989-7F06-4B36-AB57-6AB4C1F928E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ing a file from one SE to another one and register it in the Catalog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cg-rep -d dest_file | dest_host [-v | --verbose] --vo vo src_fi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_hos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the fully qualified hostname of the destination SE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is a valid SURL (both sfn:// or srm:// are valid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rc_file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 the  source file name: the protocol can be LFN, GUID or SURL.  An SURL scheme can be sfn: for a classical SE or srm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7440" y="4334040"/>
            <a:ext cx="826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6960" y="3727440"/>
            <a:ext cx="8469360" cy="28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$ lcg-rep -v -d grid009.ct.infn.it --vo gilda lfn:/grid/gilda/vico/note.tx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grid catalog type: lfc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URL: lfn:/grid/gilda/vico/note.tx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ize: 5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specified: grid009.ct.infn.it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URL for copy: gsiftp://grid-se.bio.dist.unige.it/flatfiles/SE00/gilda/generated/2005-07-17/file1f0e73d8-7e3f-47d1-bc95-c03c92aae569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URL for copy: gsiftp://grid009.ct.infn.it/flatfiles/SE00/gilda/generated/2005-07-17/file4f3b4cb2-b5fe-467e-9a3e-1ef602465a17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# streams: 1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 took 2410 ms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tination URL registered in LRC: sfn://grid009.ct.infn.it/flatfiles/SE00/gilda/generated/2005-07-17/file4f3b4cb2-b5fe-467e-9a3e-1ef602465a17</a:t>
            </a:r>
            <a:endParaRPr b="0" lang="en-US" sz="12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C548-DACC-47AC-92A7-3A746F1AF07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sting of replicas for a given LFN, GUID or SURL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cg-lr  --vo vo fi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8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specifies the Logical File Name, the Grid Unique IDentifier or the Site  URL.   An  SURL scheme can be sfn: for a classical SE or srm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 lcg-lr --vo gilda lfn:/grid/gilda/vico/note.tx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fn://grid-se.bio.dist.unige.it/flatfiles/SE00/gilda/generated/2005-07-17/file1f0e73d8-7e3f-47d1-bc95-c03c92aae569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fn://grid009.ct.infn.it/flatfiles/SE00/gilda/generated/2005-07-17/file4f3b4cb2-b5fe-467e-9a3e-1ef602465a17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or we got the same output using its GUI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 lcg-lr --vo gilda guid:4c10a8e3-2244-4c38-bc98-ed98ae7cb94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F961-2DFF-4AB0-A5DB-3D1CE0636BC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cg-utils commands for replicas (II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leting replic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lcg-del  [ -a ] [ -s se ] [ -v | --verbose ] --vo vo file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s used</a:t>
            </a:r>
            <a:r>
              <a:rPr b="0" i="1" lang="en-US" sz="16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to delete all replicas of the given fil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SE from which you want to remove the replica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ecifies  the  Logical  File Name, the Grid Unique IDentifier or the Site URL.  An SURL scheme can be sfn: for a classical SE or srm:.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lete one replica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del --vo gilda -s grid009.ct.infn.it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delete all the replicas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del -a --vo gilda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let’s check if the previous command was successful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$ lcg-lr --vo gilda lfn:/grid/gilda/vico/note.tx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g_lr: No such file or directory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or by</a:t>
            </a: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lfs-ls /grid/gilda/vico </a:t>
            </a:r>
            <a:r>
              <a:rPr b="0" lang="en-US" sz="1700" spc="-1" strike="noStrike">
                <a:solidFill>
                  <a:srgbClr val="2b519a"/>
                </a:solidFill>
                <a:latin typeface="Arial"/>
              </a:rPr>
              <a:t>(you will not see anymore note.txt and its alias)</a:t>
            </a: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01C7-6A57-4352-BB11-5ACF5083156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cg-utils: lcg-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wnloading a Grid file in a SE to a local destination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cg-cp [ -v |  --verbose ] --vo vo src_file dest_fi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where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1" i="1" lang="en-US" sz="16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pecifies the Virtual Organization the user belongs to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src_file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specifies the source file name: the protocol can be LFN, GUID, SURL or  local  file.  An SURL scheme can be sfn: for a classical SE or srm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dest_file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specifies the destination. The protocol can be file:/// or gsiftp:///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$ lcg-cp --vo gilda lfn:/grid/gilda/vico/note2.txt file:/home/local/note2.tx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urce URL: lfn:/grid/gilda/vico/note2.txt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ile size: 51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ource URL for copy: 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gsiftp://gilda-se-01.pd.infn.it/shared/gilda/generated/2005-07-17/file06c3b28c-465f-489c-be3c-b68728e1ca16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Destination URL: file:/home/local/note2.txt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# streams: 1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Transfer took 1060 ms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58E9-BB95-4621-9A5E-9322A77056F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s-on se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519a"/>
                </a:solidFill>
                <a:latin typeface="Arial"/>
              </a:rPr>
              <a:t>Exercise No.3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reate two replicas of the file you previously uploaded (you could also use the alias to point it out)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Check if the operation was successful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ownload the file back in your UI 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elete just one replica and verify tha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Delete all the replicas and verify that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8f"/>
                </a:solidFill>
                <a:latin typeface="Arial"/>
              </a:rPr>
              <a:t>Verify if the entry is still into the catalog</a:t>
            </a: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4BF6-FE35-4C58-AF17-0C9230D0A2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BDII Environment Setting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3440" y="1591920"/>
            <a:ext cx="884880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To point at BDII (Berkeley Database Information Index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from your UIPnPcomb, edit </a:t>
            </a:r>
            <a:r>
              <a:rPr b="1" lang="it-IT" sz="2400" spc="-1" strike="noStrike">
                <a:solidFill>
                  <a:srgbClr val="62db07"/>
                </a:solidFill>
                <a:latin typeface="Arial"/>
              </a:rPr>
              <a:t>server3.gs.unina.it:2170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a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alue for variable </a:t>
            </a:r>
            <a:r>
              <a:rPr b="1" lang="it-IT" sz="2400" spc="-1" strike="noStrike">
                <a:solidFill>
                  <a:srgbClr val="fb2dec"/>
                </a:solidFill>
                <a:latin typeface="Arial"/>
              </a:rPr>
              <a:t>LCG_GFAL_INFOSY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nvironment.sh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6480" y="83808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4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849920"/>
            <a:ext cx="8636040" cy="120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xport LCG_GFAL_INFOSYS=server3.gs.unina.it:2170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A74B8-5954-4A90-B9D4-85E876164B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AL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ubmit a job that does data management: it will  retrieve a file previously registered into the catalog.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teps to follow up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reate a new file in your UI and put some data into it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oose a SE to upload the file to (hint: use 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infosites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nd use the appropriate command to accomplish at this operation </a:t>
            </a:r>
            <a:r>
              <a:rPr b="0" lang="en-US" sz="1900" spc="-1" strike="noStrike">
                <a:solidFill>
                  <a:srgbClr val="00338f"/>
                </a:solidFill>
                <a:latin typeface="Courier New"/>
              </a:rPr>
              <a:t>(</a:t>
            </a:r>
            <a:r>
              <a:rPr b="1" lang="en-US" sz="1900" spc="-1" strike="noStrike">
                <a:solidFill>
                  <a:srgbClr val="ff0000"/>
                </a:solidFill>
                <a:latin typeface="Courier New"/>
              </a:rPr>
              <a:t>lcg-cr –v –vo gilda –l lfn:/grid/gilda/vico/&lt;choose an lfn&gt; -d &lt;an SE host&gt; file:`pwd`/&lt;your new file&gt;</a:t>
            </a:r>
            <a:r>
              <a:rPr b="1" lang="en-US" sz="1900" spc="-1" strike="noStrike">
                <a:solidFill>
                  <a:srgbClr val="2b519a"/>
                </a:solidFill>
                <a:latin typeface="Courier New"/>
              </a:rPr>
              <a:t>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reate a script.sh file with the following content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3760" y="4068720"/>
            <a:ext cx="8395200" cy="159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#!/bin/sh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/bin/hostname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#Change the LFN_NAME to download from the Catalog.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cho "Start to download.."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cg-cp --vo gilda lfn:/grid/gilda/vico/&lt;lfn you choose&gt; file:`pwd`/output.dat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cho "Done.."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3AD8-292D-4F5B-A0C7-C4D9081D696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al exercise (I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reate the JobWithData.jdl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3760" y="1512720"/>
            <a:ext cx="8621640" cy="33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Type = "job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JobType = "Normal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ecutable = "/bin/sh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rguments = "script.sh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irtualOrganisation = "gilda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dOutput = "std.out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dError = "std.err"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putSandbox = {"script.sh"}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utputSandbox = {"std.out","std.err","output.dat"};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6520" y="5033880"/>
            <a:ext cx="8589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ubmit it to the grid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181800" indent="-1818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trieve the output and verify the content of output.dat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BC0C-C393-485A-90C5-A09BD3A1F18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of lcg-utils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218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plica Management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5760" y="1461960"/>
          <a:ext cx="8480160" cy="2151360"/>
        </p:xfrm>
        <a:graphic>
          <a:graphicData uri="http://schemas.openxmlformats.org/drawingml/2006/table">
            <a:tbl>
              <a:tblPr/>
              <a:tblGrid>
                <a:gridCol w="1466640"/>
                <a:gridCol w="701352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cp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es a grid file to a local destinatio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c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ies a file to a SE and registers the file in the catalog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de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ete one fil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ep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ication between SEs and registration of the replic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g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s the TURL for a given SURL and transfer protoco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s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s file status to “Done” for a given SURL in a SRM request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317880" y="367344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File Catalog Interaction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46040" y="4046400"/>
          <a:ext cx="8489520" cy="2362320"/>
        </p:xfrm>
        <a:graphic>
          <a:graphicData uri="http://schemas.openxmlformats.org/drawingml/2006/table">
            <a:tbl>
              <a:tblPr/>
              <a:tblGrid>
                <a:gridCol w="1230120"/>
                <a:gridCol w="725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a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 an alias in LFC for a given GUID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an alias in LFC for a given GUID 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rf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s in LFC a file placed in a S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uf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gisters in LFC a file placed in a SE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a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s the alias for a given SURL, GUID or LF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g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the GUID for a given LFN or SURL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lcg-lr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s the replicas for a given GUID, SURL or LFN</a:t>
                      </a:r>
                      <a:endParaRPr b="0" lang="en-US" sz="16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43F8-39FF-4192-BB31-F19B74C880F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ph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7320" y="1074600"/>
            <a:ext cx="845820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Information on the file catalog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, gfal, lcg-util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volution of LCG-2 Data Management (J-P Baud, J. Casey)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indico.cern.ch/contributionDisplay.py?contribId=278&amp;sessionId=7&amp;confId=0</a:t>
            </a: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 installation, administration, migration from RL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c3b8b"/>
                </a:solidFill>
                <a:latin typeface="Arial"/>
              </a:rPr>
              <a:t>Wiki entries indicated through the presentation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714680" indent="-343080">
              <a:spcBef>
                <a:spcPts val="34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goc.grid.sinica.edu.tw/gocwiki/How_to_set_up_an_LFC_service</a:t>
            </a:r>
            <a:r>
              <a:rPr b="0" i="1" lang="en-US" sz="1400" spc="-1" strike="noStrike">
                <a:solidFill>
                  <a:srgbClr val="00338f"/>
                </a:solidFill>
                <a:latin typeface="Arial"/>
              </a:rPr>
              <a:t> </a:t>
            </a:r>
            <a:endParaRPr b="0" i="1" lang="en-US" sz="1400" spc="-1" strike="noStrike">
              <a:solidFill>
                <a:srgbClr val="00338f"/>
              </a:solidFill>
              <a:latin typeface="Arial"/>
            </a:endParaRPr>
          </a:p>
          <a:p>
            <a:pPr lvl="3" marL="1714680" indent="-343080">
              <a:spcBef>
                <a:spcPts val="349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ac3b8b"/>
                </a:solidFill>
                <a:uFillTx/>
                <a:latin typeface="Arial"/>
                <a:hlinkClick r:id="rId3"/>
              </a:rPr>
              <a:t>http://goc.grid.sinica.edu.tw/gocwiki/How_to_migrate_the_RLS_entries_into_the_LCG_File_Catalog_%28LFC%29</a:t>
            </a:r>
            <a:endParaRPr b="0" i="1" lang="en-US" sz="14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8f"/>
              </a:solidFill>
              <a:latin typeface="Arial"/>
            </a:endParaRPr>
          </a:p>
          <a:p>
            <a:pPr lvl="1" marL="857160" indent="-39996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LFC contacts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4"/>
              </a:rPr>
              <a:t>Jean-</a:t>
            </a: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5"/>
              </a:rPr>
              <a:t>Philippe.Baud@cern.c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276200" indent="-3618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ac3b8b"/>
                </a:solidFill>
                <a:uFillTx/>
                <a:latin typeface="Arial"/>
                <a:hlinkClick r:id="rId6"/>
              </a:rPr>
              <a:t>Sophie.Lemaitre@cern.ch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E054-BD26-4BA6-8BC3-5D97BE56CD2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31480" y="2498400"/>
            <a:ext cx="858996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2b519a"/>
                </a:solidFill>
                <a:latin typeface="Arial"/>
              </a:rPr>
              <a:t>FireMan Practical</a:t>
            </a:r>
            <a:endParaRPr b="1" lang="en-US" sz="4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84480" y="5842080"/>
            <a:ext cx="4521240" cy="368280"/>
          </a:xfrm>
          <a:prstGeom prst="rect">
            <a:avLst/>
          </a:prstGeom>
          <a:solidFill>
            <a:srgbClr val="2b519a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Emidio Giorgio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FE06-A7DF-4040-9325-0191958A7CA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owsing the cata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catalog-ls &lt;file/directory to list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b519a"/>
                </a:solidFill>
                <a:latin typeface="Arial"/>
              </a:rPr>
              <a:t>Main options :</a:t>
            </a:r>
            <a:endParaRPr b="1" lang="en-US" sz="28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l 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long output (with permissions)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s 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URL, specify the service endpoint (i.e. the catalog to use)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-c 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Display the creation time instead of the modification tim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-g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Also display GUID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Check all the options with –h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ACL :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for regular files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for directory,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l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for symbolic links and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for virtual directories.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 indicates the permission to change attribute, whil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 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rights to delete the entry. Successive 12 bits indicates, for user (u), group (g), other (o), permission t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ad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rite,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ist contents or e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cute the content. Last two are reserved for metadata use, and so are currently unused. They will show the right to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t or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et the metadata.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Courier New"/>
              </a:rPr>
              <a:t>&gt; glite-catalog-ls -l /test1103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19a"/>
                </a:solidFill>
                <a:latin typeface="Courier New"/>
              </a:rPr>
              <a:t>-pdrwl-gs--r-l-g---------   30  2005-07-18 11:01:55 /test1103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0DF6-EE48-4CB5-AECA-B734D79E2A4F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Upload and register a file : glite-p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bb2c05"/>
                </a:solidFill>
                <a:latin typeface="Courier New"/>
              </a:rPr>
              <a:t>glite-put &lt;localfilename&gt; &lt;remotefilename&gt; [-m &lt;mode&gt;] [-c &lt;config&gt;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glite-put copies a local file to a gLite I/O server, updating also the File Catalog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file is copied in the IO server pointed by the UI’s IO client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b519a"/>
                </a:solidFill>
                <a:latin typeface="Arial"/>
              </a:rPr>
              <a:t>The catalog updated is the one associated with that IO server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519a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glite-put file2register lfn:///test1156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[glite_put] Total 0.00 MB |====================| 100.00 % [0.0 Mb/s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Transfer Comple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LFN                     : /test1156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GUID                    : 0002bb56-7ce9-12db-bf0e-c0a70228bee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SURL                    : srm://glite-se.ct.infn.it:8443/srm/managerv1?SFN=/pnfs/ct.infn.it/data/gilda/test1156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Data Written [bytes]    : 30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2b519a"/>
                </a:solidFill>
                <a:latin typeface="Courier New"/>
              </a:rPr>
              <a:t>Eff.Transfer Rate[Mb/s] : 0.000005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C569-633C-4418-AE15-1C38CB155CFE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eck FC entries : glite-catalog-sta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catalog-stat [options] URI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Courier New"/>
              </a:rPr>
              <a:t>glite-catalog-stat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gives all the informations on a catalog entries, including file/directory permissions, GUID, owner/group, SURL location…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It’s very useful to verify correct setting of permissions and ownership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CF3F-C0C1-4087-B3A3-68B17FED48C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ownload a file : glite-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6290c"/>
                </a:solidFill>
                <a:latin typeface="Courier New"/>
              </a:rPr>
              <a:t>glite-get &lt;remotefilename&gt; &lt;localfilename&gt; [-c &lt;config&gt;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Arial"/>
              </a:rPr>
              <a:t>glite-get download locally a file from the IO server pointed by the UI’s client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b519a"/>
                </a:solidFill>
                <a:latin typeface="Courier New"/>
              </a:rPr>
              <a:t>glite-get lfn:///emacs localcopy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                                       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[glite_get] Total 0.00 MB       |====================| 100.00 % [0.0 Mb/s]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Transfer Complete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LFN                     : /emacs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GUID                    : 0032f276-8402-12db-9124-c0a70219beef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SURL                    : srm://lxcde08.pd.infn.it:8443/srm/managerv1?SFN=/pnfs/pd.infn.it/data/gilda/emacs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Data Written [bytes]    : 237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0" lang="it-IT" sz="2000" spc="-1" strike="noStrike">
                <a:solidFill>
                  <a:srgbClr val="2b519a"/>
                </a:solidFill>
                <a:latin typeface="Courier New"/>
              </a:rPr>
              <a:t>Eff.Transfer Rate[Mb/s] : 0.000067 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9146-7C99-4CEF-9C56-3D032D45E40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Remove a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glite-rm &lt;remotefilename&gt; </a:t>
            </a:r>
            <a:r>
              <a:rPr b="1" lang="it-IT" sz="2400" spc="-1" strike="noStrike">
                <a:solidFill>
                  <a:srgbClr val="d6290c"/>
                </a:solidFill>
                <a:latin typeface="Courier New"/>
              </a:rPr>
              <a:t>[-c &lt;config&gt;]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glite-rm removes a file from the IO server pointed by the UI, updating also the fil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glite-rm lfn:///emacs                                                    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Unlink Completed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File          : lfn:///emacs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2b519a"/>
                </a:solidFill>
                <a:latin typeface="Courier New"/>
              </a:rPr>
              <a:t>Time [s]      : 4.255000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b2c05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34C2-DB1F-47E7-B729-61E486762A2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Default VO setting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31760" y="3324240"/>
            <a:ext cx="7701120" cy="305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ggingDestination = "server3.gs.unina.it:9002"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# Default NS logger level is set to 0 (null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# max value is 6 (very ugly)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SLogger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LogInfo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StatusLevel = 0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faultVo = "gilda";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1714680"/>
            <a:ext cx="8445240" cy="156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You can edit the following file to set the default Virtual Organisation (VO):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d8a04"/>
                </a:solidFill>
                <a:latin typeface="Arial"/>
              </a:rPr>
              <a:t>&gt;vi UIPnPcomb/edg/etc/edg_wl_ui_cmd_var.conf</a:t>
            </a:r>
            <a:endParaRPr b="0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6480" y="8888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ac3b8b"/>
                </a:solidFill>
                <a:latin typeface="Arial"/>
              </a:rPr>
              <a:t>STEP 5</a:t>
            </a:r>
            <a:endParaRPr b="0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435640"/>
            <a:ext cx="622080" cy="495360"/>
          </a:xfrm>
          <a:prstGeom prst="rightArrow">
            <a:avLst>
              <a:gd name="adj1" fmla="val 50000"/>
              <a:gd name="adj2" fmla="val 31395"/>
            </a:avLst>
          </a:prstGeom>
          <a:solidFill>
            <a:srgbClr val="3d8a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407000">
            <a:off x="7569000" y="1065960"/>
            <a:ext cx="1098360" cy="563760"/>
          </a:xfrm>
          <a:prstGeom prst="octagon">
            <a:avLst>
              <a:gd name="adj" fmla="val 29287"/>
            </a:avLst>
          </a:prstGeom>
          <a:solidFill>
            <a:srgbClr val="3d8a04"/>
          </a:solidFill>
          <a:ln w="25560">
            <a:solidFill>
              <a:srgbClr val="f4c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4ce00"/>
                </a:solidFill>
                <a:latin typeface="Arial"/>
              </a:rPr>
              <a:t>LCG</a:t>
            </a:r>
            <a:endParaRPr b="0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4245E-1B57-4905-AE81-5E17397E47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7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7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2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7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7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2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7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2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700"/>
                            </p:stCondLst>
                            <p:childTnLst>
                              <p:par>
                                <p:cTn id="3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reate a text file containing your name, surname and your birthpla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Copy and register the file assigning as remote file name your usernam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erify correct file creat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ownload the file you’ve just created, changing its local file nam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elete the file from the catalo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Verify the correct file deletion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C0DC-4BC9-45CF-9233-D7D94AE28CF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0400" y="2701800"/>
            <a:ext cx="858996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2b519a"/>
                </a:solidFill>
                <a:latin typeface="Arial"/>
              </a:rPr>
              <a:t>R-GMA Practical</a:t>
            </a:r>
            <a:endParaRPr b="1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00480" y="5613480"/>
            <a:ext cx="4520880" cy="368280"/>
          </a:xfrm>
          <a:prstGeom prst="rect">
            <a:avLst/>
          </a:prstGeom>
          <a:solidFill>
            <a:srgbClr val="96baee"/>
          </a:solidFill>
          <a:ln w="255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c3b8b"/>
                </a:solidFill>
                <a:latin typeface="Arial"/>
              </a:rPr>
              <a:t>Valeria Ardizzon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F5B44-4AC1-4452-8AD9-A965410DF66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45600" y="974880"/>
            <a:ext cx="8589960" cy="17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To Start the R-GMA command line tool run the following comman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UIPnPcomb&gt;rgma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On startup you should receive the following message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-GMA Command Line Tool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61800" y="3195720"/>
            <a:ext cx="8259840" cy="22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EC0A-8602-4DE8-BB10-7C5BB502FDD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Commands are entered by typing at the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prompt and hitting ‘enter’ to execute the comman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istory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of the commands executed can be accessed using the Up and Down arrow key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search a command from history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use CTRL-R and type the first few letters of the command to  recall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Command autocompletion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is supported (use Tab when you have partly entered a command)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ntering Comma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5BA6-79C0-42FC-9B80-AAF27E46462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General Comman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45600" y="784080"/>
            <a:ext cx="8589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13d3d"/>
                </a:solidFill>
                <a:uFillTx/>
                <a:latin typeface="Arial"/>
              </a:rPr>
              <a:t>General Comman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general help information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 &lt;command&gt;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help for a specific comman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elp exampl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list of example commands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exit or qui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Exit from R-GMA command line interface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Show t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Display the name of all tables existing in the Schem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Describe &lt;tablename&gt;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Show all information about the structure of a 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1843B-8DD5-426F-ADDC-3B46BCFF37A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ing Data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Querying data uses the standard SQL SELECT statement, e.g.: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LECT * FROM ServiceStat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behaviour of SELECT varies according to the type of query being executed. In R-GMA there are three basic types of query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LATEST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only the most recent tuple for each primary ke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HISTORY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all historical tuples for each primary ke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13d3d"/>
                </a:solidFill>
                <a:latin typeface="Arial"/>
              </a:rPr>
              <a:t>CONTINUOUS Queries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returns tuples continuously as they are inserted.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41119-D144-4EBB-A0EE-CEC6A7D1104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type of query can be changed using the SET QUERY command as follow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QUERY CONTINUOU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query type can be displayed using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QUER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ing Data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F636-555C-4F53-81B8-8641B8DF835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Exerci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647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1.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all the table of the Schem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how tabl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2.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Display information about Site 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describe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3.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Basic select query on the table named 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et query lates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how query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rgma&gt;</a:t>
            </a:r>
            <a:r>
              <a:rPr b="1" lang="it-IT" sz="2400" spc="-1" strike="noStrike">
                <a:solidFill>
                  <a:srgbClr val="ac3b8b"/>
                </a:solidFill>
                <a:latin typeface="Arial"/>
              </a:rPr>
              <a:t>select Name,Latitude,Longitude from 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D128-A2EC-401E-B9B6-94D743F46A4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aximum AGE of tu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maximum age of tuples to return can also be controlled. To limit the age of latest or historical tuples use the SET MAXAGE command. The following are equivalent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2 minut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120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maximum tuple age can be displayed using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HOW MAXAG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o disable the maximum age, set it to none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 SET MAXAGE non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C06A-47B3-421B-8AC5-38B23BC2DB1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Query Timeo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final property affecting queries is timeout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1b03ad"/>
                </a:solidFill>
                <a:latin typeface="Arial"/>
              </a:rPr>
              <a:t>For a latest or history query the timeout exists to prevent a problem (e.g. network failure) from stopping the query from completing.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1b03ad"/>
                </a:solidFill>
                <a:latin typeface="Arial"/>
              </a:rPr>
              <a:t>For a continuous query, timeout indicates how long the query will continue to return new tuples. Default timeout is 1 minute and it can be changed us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ET TIMEOUT 3 minutes </a:t>
            </a:r>
            <a:r>
              <a:rPr b="1" lang="it-IT" sz="2400" spc="-1" strike="noStrike">
                <a:solidFill>
                  <a:srgbClr val="2b519a"/>
                </a:solidFill>
                <a:latin typeface="Arial"/>
              </a:rPr>
              <a:t>or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SET TIMEOUT 180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03ad"/>
                </a:solidFill>
                <a:latin typeface="Arial"/>
              </a:rPr>
              <a:t>The current timeout can be displayed using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be0ea5"/>
                </a:solidFill>
                <a:latin typeface="Arial"/>
              </a:rPr>
              <a:t>rgma&gt;SHOW TIMEOU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rc-Elian Bégin - Demos - 1st EU re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64E4-8568-432C-BCDA-90173FC4067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5:19:35Z</dcterms:created>
  <dc:creator>Marc-Elian Bégin</dc:creator>
  <dc:description/>
  <dc:language>en-US</dc:language>
  <cp:lastModifiedBy>Rita</cp:lastModifiedBy>
  <dcterms:modified xsi:type="dcterms:W3CDTF">2005-07-19T10:51:01Z</dcterms:modified>
  <cp:revision>413</cp:revision>
  <dc:subject/>
  <dc:title>Slide 1</dc:title>
</cp:coreProperties>
</file>