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6.png" ContentType="image/png"/>
  <Override PartName="/ppt/media/image54.png" ContentType="image/png"/>
  <Override PartName="/ppt/media/image11.wmf" ContentType="image/x-wmf"/>
  <Override PartName="/ppt/media/image53.jpeg" ContentType="image/jpeg"/>
  <Override PartName="/ppt/media/image23.png" ContentType="image/png"/>
  <Override PartName="/ppt/media/image49.jpeg" ContentType="image/jpeg"/>
  <Override PartName="/ppt/media/image48.jpeg" ContentType="image/jpeg"/>
  <Override PartName="/ppt/media/image46.jpeg" ContentType="image/jpeg"/>
  <Override PartName="/ppt/media/image58.png" ContentType="image/png"/>
  <Override PartName="/ppt/media/image45.jpeg" ContentType="image/jpeg"/>
  <Override PartName="/ppt/media/image44.jpeg" ContentType="image/jpeg"/>
  <Override PartName="/ppt/media/image43.png" ContentType="image/png"/>
  <Override PartName="/ppt/media/image55.jpeg" ContentType="image/jpeg"/>
  <Override PartName="/ppt/media/image41.png" ContentType="image/png"/>
  <Override PartName="/ppt/media/image50.png" ContentType="image/png"/>
  <Override PartName="/ppt/media/image5.jpeg" ContentType="image/jpeg"/>
  <Override PartName="/ppt/media/image42.png" ContentType="image/png"/>
  <Override PartName="/ppt/media/image26.jpeg" ContentType="image/jpeg"/>
  <Override PartName="/ppt/media/image16.jpeg" ContentType="image/jpeg"/>
  <Override PartName="/ppt/media/image60.png" ContentType="image/png"/>
  <Override PartName="/ppt/media/image28.jpeg" ContentType="image/jpeg"/>
  <Override PartName="/ppt/media/image62.png" ContentType="image/png"/>
  <Override PartName="/ppt/media/image51.jpeg" ContentType="image/jpeg"/>
  <Override PartName="/ppt/media/image19.jpeg" ContentType="image/jpeg"/>
  <Override PartName="/ppt/media/image20.jpeg" ContentType="image/jpeg"/>
  <Override PartName="/ppt/media/image22.wmf" ContentType="image/x-wmf"/>
  <Override PartName="/ppt/media/image65.png" ContentType="image/png"/>
  <Override PartName="/ppt/media/image27.jpeg" ContentType="image/jpeg"/>
  <Override PartName="/ppt/media/image73.png" ContentType="image/png"/>
  <Override PartName="/ppt/media/image67.jpeg" ContentType="image/jpeg"/>
  <Override PartName="/ppt/media/image71.png" ContentType="image/png"/>
  <Override PartName="/ppt/media/image69.jpeg" ContentType="image/jpeg"/>
  <Override PartName="/ppt/media/image24.png" ContentType="image/png"/>
  <Override PartName="/ppt/media/image68.jpeg" ContentType="image/jpeg"/>
  <Override PartName="/ppt/media/image31.png" ContentType="image/png"/>
  <Override PartName="/ppt/media/image18.png" ContentType="image/png"/>
  <Override PartName="/ppt/media/image6.png" ContentType="image/png"/>
  <Override PartName="/ppt/media/image66.png" ContentType="image/png"/>
  <Override PartName="/ppt/media/image64.png" ContentType="image/png"/>
  <Override PartName="/ppt/media/image61.jpeg" ContentType="image/jpeg"/>
  <Override PartName="/ppt/media/image4.jpeg" ContentType="image/jpeg"/>
  <Override PartName="/ppt/media/image40.png" ContentType="image/png"/>
  <Override PartName="/ppt/media/image63.png" ContentType="image/png"/>
  <Override PartName="/ppt/media/image25.jpeg" ContentType="image/jpeg"/>
  <Override PartName="/ppt/media/image32.png" ContentType="image/png"/>
  <Override PartName="/ppt/media/image70.png" ContentType="image/png"/>
  <Override PartName="/ppt/media/image38.jpeg" ContentType="image/jpeg"/>
  <Override PartName="/ppt/media/image52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10.wmf" ContentType="image/x-wmf"/>
  <Override PartName="/ppt/media/image29.jpeg" ContentType="image/jpeg"/>
  <Override PartName="/ppt/media/image12.jpeg" ContentType="image/jpeg"/>
  <Override PartName="/ppt/media/image34.png" ContentType="image/png"/>
  <Override PartName="/ppt/media/image74.jpeg" ContentType="image/jpeg"/>
  <Override PartName="/ppt/media/image21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17.jpeg" ContentType="image/jpeg"/>
  <Override PartName="/ppt/media/image15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13.jpeg" ContentType="image/jpeg"/>
  <Override PartName="/ppt/media/image30.jpeg" ContentType="image/jpeg"/>
  <Override PartName="/ppt/media/image35.png" ContentType="image/png"/>
  <Override PartName="/ppt/media/image36.jpeg" ContentType="image/jpeg"/>
  <Override PartName="/ppt/media/image5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7F68-35E1-4ABE-AF88-7E3347DB0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D175A-958B-476F-A7B3-20BE8213A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BD698-3450-462A-85ED-6612203C9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688E-EF2C-410C-B4FE-A4648102C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DDC3A-98D8-4776-9DFA-4BD09CA27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B0D7E-72DB-42F0-9A78-D1B429CD7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710A-4EC4-4335-9F02-7C2D66C1C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41D0D-1A35-46BF-91A5-9F199A008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E9EB2-5FB2-45C8-9F96-0F063C632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2BA0-B014-4017-A593-F4F0A30AF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24104-4C2A-4F2D-BCA4-5469382E2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3D74F-618D-4801-AD49-3F1D7B4B8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2b51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A93F-1C34-42F8-B3D5-FBD31F34AE36}" type="slidenum">
              <a:rPr b="1" lang="en-US" sz="1200" spc="-1" strike="noStrike">
                <a:solidFill>
                  <a:srgbClr val="2b519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914400" algn="ctr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1af00"/>
              </a:buClr>
              <a:buFont typeface="Arial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8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pn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uni-koeln.de/math-nat-fak/geomet/meteo/winfos/euisoTTPPWW18.gif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hyperlink" Target="http://www.geant2.net/server/show/nav.00d" TargetMode="External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jpeg"/><Relationship Id="rId6" Type="http://schemas.openxmlformats.org/officeDocument/2006/relationships/image" Target="../media/image73.png"/><Relationship Id="rId7" Type="http://schemas.openxmlformats.org/officeDocument/2006/relationships/image" Target="../media/image74.jpe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u-egee.org/" TargetMode="External"/><Relationship Id="rId2" Type="http://schemas.openxmlformats.org/officeDocument/2006/relationships/hyperlink" Target="http://public.eu-egee.org/join/" TargetMode="External"/><Relationship Id="rId3" Type="http://schemas.openxmlformats.org/officeDocument/2006/relationships/hyperlink" Target="mailto:project-eu-egee-po@cern.ch" TargetMode="External"/><Relationship Id="rId4" Type="http://schemas.openxmlformats.org/officeDocument/2006/relationships/hyperlink" Target="mailto:project-eu-egee-po@cern.ch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gee-na4.ct.infn.it/requirements/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55320" y="1992240"/>
            <a:ext cx="651852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The EGEE project – Building a Global Production Grid 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160720" y="3676680"/>
            <a:ext cx="651816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b519a"/>
                </a:solidFill>
                <a:latin typeface="Arial"/>
              </a:rPr>
              <a:t>Fabrizio Gagliardi</a:t>
            </a:r>
            <a:endParaRPr b="1" i="1" lang="en-US" sz="24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b519a"/>
                </a:solidFill>
                <a:latin typeface="Arial"/>
              </a:rPr>
              <a:t>Project Director EGEE</a:t>
            </a:r>
            <a:endParaRPr b="1" i="1" lang="en-US" sz="18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b519a"/>
                </a:solidFill>
                <a:latin typeface="Arial"/>
              </a:rPr>
              <a:t>CERN, Switzerland</a:t>
            </a:r>
            <a:endParaRPr b="1" i="1" lang="en-US" sz="18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4941720"/>
            <a:ext cx="47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5faf"/>
                </a:solidFill>
                <a:latin typeface="Arial"/>
              </a:rPr>
              <a:t>Vico Equense, Naples, 18 June 2005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ite Interoper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teroperability with other Grids mainly needed at resourc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ame physical resource should be exploitable in different Grid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pproach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duce requirements on sit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mputing Element: globus gatekeeper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torage Element: SRM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lose connection with other projec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SG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Use EGEE architecture and design documents as basis for their blueprint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8f"/>
                </a:solidFill>
                <a:latin typeface="Arial"/>
              </a:rPr>
              <a:t>Common members in design teams</a:t>
            </a:r>
            <a:endParaRPr b="0" i="1" lang="en-US" sz="18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FF2C-F19A-43A7-B9CB-BBC5224CAE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lot appli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High-Energy Physics (HEP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Provides computing infrastructure (LCG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Challenging: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thousands of processors world-wid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enerating terabytes of data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‘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haotic’ use of grid with individual user </a:t>
            </a:r>
            <a:br>
              <a:rPr sz="1900"/>
            </a:b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nalysis (thousands of users interactively </a:t>
            </a:r>
            <a:br>
              <a:rPr sz="1900"/>
            </a:b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perating within experiment VOs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Biomedical 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imilar computing and </a:t>
            </a:r>
            <a:br>
              <a:rPr sz="2100"/>
            </a:b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ata storage requirem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ajor challenge: security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788160" y="981000"/>
            <a:ext cx="2104920" cy="2808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804000" y="4221000"/>
            <a:ext cx="2124000" cy="1787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859280" y="5013360"/>
            <a:ext cx="1871640" cy="13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8AED5-4E5F-4C5F-8AFF-F403AD2466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ioMed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Infra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~2.000 CPU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~21 TB disk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 12 countr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&gt;50 users in 7 countries working with 12 applicat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18 research lab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~80.000 jobs launched 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nce 04/2004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~10 CPU year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40360" y="1125360"/>
            <a:ext cx="3816360" cy="1511280"/>
            <a:chOff x="4140360" y="1125360"/>
            <a:chExt cx="3816360" cy="15112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4140360" y="1125360"/>
              <a:ext cx="38163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564680" y="220644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16760" y="159516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30960" y="191268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3800" y="176832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6720" y="155232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61160" y="170316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30960" y="133632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56400" y="154116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58080" y="181116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22920" y="146988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16760" y="169668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43640" y="1407960"/>
              <a:ext cx="54000" cy="54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4284720" y="4076640"/>
          <a:ext cx="4465440" cy="2097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720" y="4076640"/>
                    <a:ext cx="446544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6300720" y="609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Month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3344400" y="47210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5faf"/>
                </a:solidFill>
                <a:latin typeface="Arial"/>
              </a:rPr>
              <a:t>Number of job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0999-5CE4-4751-A713-96607CEA8B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53960" y="6624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798040" cy="56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GEANT4 Application to Tomography Emiss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Radiotherapy planning to improve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treatment of tumors computed from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re-treatment MR scan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EANT4-based software to model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hysics of nuclear medicin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Monte Carlo simulation to improve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ccuracy of computation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plitting the random number sequences needed for Monte Carlo simulations enables independent computation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arallelization reduces the total computation tim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computation time reduced BUT not sufficiently for clinical practic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further optimizations are on-going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large community of users is interested in GAT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8210520" y="0"/>
          <a:ext cx="93348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0520" y="0"/>
                    <a:ext cx="9334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3"/>
          <a:srcRect l="0" t="7498" r="0" b="0"/>
          <a:stretch/>
        </p:blipFill>
        <p:spPr>
          <a:xfrm>
            <a:off x="5904000" y="1455840"/>
            <a:ext cx="3060720" cy="26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C7E7-F568-489E-8DCE-3384E32DE1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5989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5600" y="974880"/>
            <a:ext cx="858996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Clinical Decision Support System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Extract clinically relevant knowledge to guide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ractitioners in their clinical practice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tarting from trained databas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Use classifier engine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Compare to annotated databases to classify data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Ubiquitous access to distributed databases and classifier engin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rid information system to publish and discover data sources and engin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utomatic management of login and security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12 classification engines availabl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1000 medical cases registered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ynamic discovery of all engines can be implemented on top of the grid information system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ccounting will be provided by the grid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1028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877080" y="1268280"/>
            <a:ext cx="1800360" cy="1712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659640" y="2924280"/>
            <a:ext cx="23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25faf"/>
                </a:solidFill>
                <a:latin typeface="Arial"/>
              </a:rPr>
              <a:t>Classification of </a:t>
            </a:r>
            <a:br>
              <a:rPr sz="1400"/>
            </a:br>
            <a:r>
              <a:rPr b="1" lang="en-US" sz="1400" spc="-1" strike="noStrike">
                <a:solidFill>
                  <a:srgbClr val="325faf"/>
                </a:solidFill>
                <a:latin typeface="Arial"/>
              </a:rPr>
              <a:t>tumours in soft tissues</a:t>
            </a:r>
            <a:endParaRPr b="0" lang="en-US" sz="1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42276-2C45-49CE-9BE4-B36F5F2A78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53960" y="66240"/>
            <a:ext cx="5918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armacokine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5960" y="974520"/>
            <a:ext cx="753912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Co-registration of Medical Image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Contrast Agent Diffusion to characterize tumour tissues without biopsy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Co-registration requires deformable registration method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compute intensiv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Processing of compute intensive co-registration and generation of diffusion maps for the 3D MRI Studies.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Parallel &amp; independent computations on different input data set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Last clinical test: </a:t>
            </a:r>
            <a:br>
              <a:rPr sz="1700"/>
            </a:b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12 patients with 13 MRI studies each</a:t>
            </a:r>
            <a:br>
              <a:rPr sz="1700"/>
            </a:b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each study comprises 24 512x512 12-bit slic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Processing of the registration algorithm takes around 12 hours per study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Registration parameters tuned with four possible combination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Each combination of parameter took 2 hour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72 times faster than with a single computer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244000" y="0"/>
            <a:ext cx="900000" cy="1028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028000" y="101772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8028000" y="213516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8028000" y="325296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8028000" y="436716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6"/>
          <a:stretch/>
        </p:blipFill>
        <p:spPr>
          <a:xfrm>
            <a:off x="8028000" y="5481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47953-7B98-476A-9592-6DBEAEFB12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5773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PS@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45600" y="907920"/>
            <a:ext cx="858996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rid Protein Structure Analysi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Integrating up-to-date databases and relevant algorithms for bio-informatic analysis of data from genome sequencing project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Protein databases are stored on the grid as flat fil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Protein sequence analysis tools run unchanged on grid resourc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Output is analysed and displayed in graphic format through the web interfac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Convenient way to distribute and access international </a:t>
            </a:r>
            <a:br>
              <a:rPr sz="1700"/>
            </a:b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databanks, and to store more and larger databas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Compute larger datasets with available algorithm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Open to a wider user community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9 bioinformatic softwares gridified so far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large number of rather short jobs (few minutes each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Optimizations on-going to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374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338f"/>
                </a:solidFill>
                <a:latin typeface="Arial"/>
              </a:rPr>
              <a:t>speed up access to databases</a:t>
            </a:r>
            <a:endParaRPr b="0" i="1" lang="en-US" sz="1500" spc="-1" strike="noStrike">
              <a:solidFill>
                <a:srgbClr val="00338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374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338f"/>
                </a:solidFill>
                <a:latin typeface="Arial"/>
              </a:rPr>
              <a:t>lower short jobs latencies</a:t>
            </a:r>
            <a:endParaRPr b="0" i="1" lang="en-US" sz="15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8047080" y="0"/>
            <a:ext cx="1096920" cy="1170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086600" y="3429000"/>
            <a:ext cx="202248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8C7C9-818A-4102-9303-B9D4E26EAC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3D Magnetic Resonance Image Simulato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Better understand MR physics by studying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MR sequences </a:t>
            </a: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in silico 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nd MR artefact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Validate MR Image processing algorithms on synthetic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but realistic imag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peeds up the simulation tim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Enables simulation of high resolution imag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Offers an access to MPI-enabled cluster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Manageable computation time for medium size imag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evelopment of a portal to ease access to the application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mplementation of new artifact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253960" y="66240"/>
            <a:ext cx="491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RI3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23040" y="162000"/>
            <a:ext cx="1828800" cy="439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380360" y="969840"/>
            <a:ext cx="1584360" cy="1568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739880" y="3021120"/>
            <a:ext cx="1606680" cy="906480"/>
          </a:xfrm>
          <a:prstGeom prst="roundRect">
            <a:avLst>
              <a:gd name="adj" fmla="val 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5280" y="2997360"/>
            <a:ext cx="1579320" cy="280800"/>
          </a:xfrm>
          <a:prstGeom prst="roundRect">
            <a:avLst>
              <a:gd name="adj" fmla="val 5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36720" y="3178080"/>
            <a:ext cx="1511280" cy="680760"/>
          </a:xfrm>
          <a:prstGeom prst="roundRect">
            <a:avLst>
              <a:gd name="adj" fmla="val 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netisation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ation 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77040" y="3254400"/>
            <a:ext cx="1110960" cy="462960"/>
          </a:xfrm>
          <a:prstGeom prst="roundRect">
            <a:avLst>
              <a:gd name="adj" fmla="val 2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ier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948360" y="2924280"/>
            <a:ext cx="936720" cy="877680"/>
            <a:chOff x="6948360" y="2924280"/>
            <a:chExt cx="936720" cy="877680"/>
          </a:xfrm>
        </p:grpSpPr>
        <p:sp>
          <p:nvSpPr>
            <p:cNvPr id="242" name=""/>
            <p:cNvSpPr/>
            <p:nvPr/>
          </p:nvSpPr>
          <p:spPr>
            <a:xfrm>
              <a:off x="6948360" y="2924280"/>
              <a:ext cx="936720" cy="877680"/>
            </a:xfrm>
            <a:custGeom>
              <a:avLst/>
              <a:gdLst/>
              <a:ahLst/>
              <a:rect l="l" t="t" r="r" b="b"/>
              <a:pathLst>
                <a:path w="3141" h="3141">
                  <a:moveTo>
                    <a:pt x="785" y="0"/>
                  </a:moveTo>
                  <a:lnTo>
                    <a:pt x="0" y="785"/>
                  </a:lnTo>
                  <a:lnTo>
                    <a:pt x="0" y="3140"/>
                  </a:lnTo>
                  <a:lnTo>
                    <a:pt x="2355" y="3140"/>
                  </a:lnTo>
                  <a:lnTo>
                    <a:pt x="3140" y="2355"/>
                  </a:lnTo>
                  <a:lnTo>
                    <a:pt x="3140" y="0"/>
                  </a:lnTo>
                  <a:lnTo>
                    <a:pt x="78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48360" y="2924280"/>
              <a:ext cx="936720" cy="221400"/>
            </a:xfrm>
            <a:custGeom>
              <a:avLst/>
              <a:gdLst/>
              <a:ahLst/>
              <a:rect l="l" t="t" r="r" b="b"/>
              <a:pathLst>
                <a:path w="3141" h="793">
                  <a:moveTo>
                    <a:pt x="0" y="792"/>
                  </a:moveTo>
                  <a:lnTo>
                    <a:pt x="2355" y="792"/>
                  </a:lnTo>
                  <a:lnTo>
                    <a:pt x="314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50720" y="3144600"/>
              <a:ext cx="1080" cy="657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028280" y="3218760"/>
              <a:ext cx="574560" cy="464040"/>
              <a:chOff x="7028280" y="3218760"/>
              <a:chExt cx="574560" cy="464040"/>
            </a:xfrm>
          </p:grpSpPr>
          <p:sp>
            <p:nvSpPr>
              <p:cNvPr id="246" name=""/>
              <p:cNvSpPr/>
              <p:nvPr/>
            </p:nvSpPr>
            <p:spPr>
              <a:xfrm>
                <a:off x="7030800" y="3218760"/>
                <a:ext cx="570600" cy="445680"/>
              </a:xfrm>
              <a:prstGeom prst="roundRect">
                <a:avLst>
                  <a:gd name="adj" fmla="val 27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028280" y="3218760"/>
                <a:ext cx="574560" cy="464040"/>
                <a:chOff x="7028280" y="3218760"/>
                <a:chExt cx="574560" cy="4640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030800" y="3218760"/>
                  <a:ext cx="567720" cy="444600"/>
                </a:xfrm>
                <a:prstGeom prst="roundRect">
                  <a:avLst>
                    <a:gd name="adj" fmla="val 27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7028280" y="3219840"/>
                  <a:ext cx="574560" cy="462960"/>
                  <a:chOff x="7028280" y="3219840"/>
                  <a:chExt cx="574560" cy="4629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7030800" y="3219840"/>
                    <a:ext cx="567720" cy="443520"/>
                  </a:xfrm>
                  <a:prstGeom prst="roundRect">
                    <a:avLst>
                      <a:gd name="adj" fmla="val 278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b51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028280" y="3219840"/>
                    <a:ext cx="574560" cy="462960"/>
                  </a:xfrm>
                  <a:prstGeom prst="roundRect">
                    <a:avLst>
                      <a:gd name="adj" fmla="val 278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MR</a:t>
                    </a:r>
                    <a:endParaRPr b="0" lang="en-US" sz="1600" spc="-1" strike="noStrike">
                      <a:solidFill>
                        <a:srgbClr val="2b519a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97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image</a:t>
                    </a:r>
                    <a:endParaRPr b="0" lang="en-US" sz="1600" spc="-1" strike="noStrike">
                      <a:solidFill>
                        <a:srgbClr val="2b519a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52" name=""/>
          <p:cNvGrpSpPr/>
          <p:nvPr/>
        </p:nvGrpSpPr>
        <p:grpSpPr>
          <a:xfrm>
            <a:off x="779400" y="2928960"/>
            <a:ext cx="912600" cy="931680"/>
            <a:chOff x="779400" y="2928960"/>
            <a:chExt cx="912600" cy="931680"/>
          </a:xfrm>
        </p:grpSpPr>
        <p:grpSp>
          <p:nvGrpSpPr>
            <p:cNvPr id="253" name=""/>
            <p:cNvGrpSpPr/>
            <p:nvPr/>
          </p:nvGrpSpPr>
          <p:grpSpPr>
            <a:xfrm>
              <a:off x="855360" y="3236760"/>
              <a:ext cx="719280" cy="574920"/>
              <a:chOff x="855360" y="3236760"/>
              <a:chExt cx="719280" cy="574920"/>
            </a:xfrm>
          </p:grpSpPr>
          <p:sp>
            <p:nvSpPr>
              <p:cNvPr id="254" name=""/>
              <p:cNvSpPr/>
              <p:nvPr/>
            </p:nvSpPr>
            <p:spPr>
              <a:xfrm>
                <a:off x="855360" y="3236760"/>
                <a:ext cx="719280" cy="574920"/>
              </a:xfrm>
              <a:prstGeom prst="roundRect">
                <a:avLst>
                  <a:gd name="adj" fmla="val 27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855360" y="3236760"/>
                <a:ext cx="717840" cy="573120"/>
                <a:chOff x="855360" y="3236760"/>
                <a:chExt cx="717840" cy="5731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855360" y="3236760"/>
                  <a:ext cx="717840" cy="573120"/>
                </a:xfrm>
                <a:prstGeom prst="roundRect">
                  <a:avLst>
                    <a:gd name="adj" fmla="val 27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b519a"/>
                    </a:solidFill>
                    <a:latin typeface="Arial"/>
                  </a:endParaRPr>
                </a:p>
              </p:txBody>
            </p:sp>
            <p:grpSp>
              <p:nvGrpSpPr>
                <p:cNvPr id="257" name=""/>
                <p:cNvGrpSpPr/>
                <p:nvPr/>
              </p:nvGrpSpPr>
              <p:grpSpPr>
                <a:xfrm>
                  <a:off x="855360" y="3236760"/>
                  <a:ext cx="717840" cy="573120"/>
                  <a:chOff x="855360" y="3236760"/>
                  <a:chExt cx="717840" cy="5731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855360" y="3236760"/>
                    <a:ext cx="717840" cy="573120"/>
                  </a:xfrm>
                  <a:prstGeom prst="roundRect">
                    <a:avLst>
                      <a:gd name="adj" fmla="val 278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b51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857520" y="3240000"/>
                    <a:ext cx="577440" cy="462960"/>
                  </a:xfrm>
                  <a:prstGeom prst="roundRect">
                    <a:avLst>
                      <a:gd name="adj" fmla="val 278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Virtual</a:t>
                    </a:r>
                    <a:endParaRPr b="0" lang="en-US" sz="1600" spc="-1" strike="noStrike">
                      <a:solidFill>
                        <a:srgbClr val="2b519a"/>
                      </a:solidFill>
                      <a:latin typeface="Arial"/>
                    </a:endParaRPr>
                  </a:p>
                  <a:p>
                    <a:pPr>
                      <a:lnSpc>
                        <a:spcPct val="97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object</a:t>
                    </a:r>
                    <a:endParaRPr b="0" lang="en-US" sz="1600" spc="-1" strike="noStrike">
                      <a:solidFill>
                        <a:srgbClr val="2b519a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0" name=""/>
            <p:cNvSpPr/>
            <p:nvPr/>
          </p:nvSpPr>
          <p:spPr>
            <a:xfrm>
              <a:off x="779400" y="3201840"/>
              <a:ext cx="901440" cy="658800"/>
            </a:xfrm>
            <a:prstGeom prst="roundRect">
              <a:avLst>
                <a:gd name="adj" fmla="val 2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831600" y="2928960"/>
              <a:ext cx="860400" cy="900000"/>
              <a:chOff x="831600" y="2928960"/>
              <a:chExt cx="860400" cy="900000"/>
            </a:xfrm>
          </p:grpSpPr>
          <p:sp>
            <p:nvSpPr>
              <p:cNvPr id="262" name=""/>
              <p:cNvSpPr/>
              <p:nvPr/>
            </p:nvSpPr>
            <p:spPr>
              <a:xfrm>
                <a:off x="831600" y="2928960"/>
                <a:ext cx="860400" cy="900000"/>
              </a:xfrm>
              <a:custGeom>
                <a:avLst/>
                <a:gdLst/>
                <a:ahLst/>
                <a:rect l="l" t="t" r="r" b="b"/>
                <a:pathLst>
                  <a:path w="3193" h="3109">
                    <a:moveTo>
                      <a:pt x="799" y="0"/>
                    </a:moveTo>
                    <a:lnTo>
                      <a:pt x="0" y="778"/>
                    </a:lnTo>
                    <a:lnTo>
                      <a:pt x="0" y="3108"/>
                    </a:lnTo>
                    <a:lnTo>
                      <a:pt x="2393" y="3108"/>
                    </a:lnTo>
                    <a:lnTo>
                      <a:pt x="3192" y="2330"/>
                    </a:lnTo>
                    <a:lnTo>
                      <a:pt x="3192" y="0"/>
                    </a:lnTo>
                    <a:lnTo>
                      <a:pt x="799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31600" y="2928960"/>
                <a:ext cx="860400" cy="227160"/>
              </a:xfrm>
              <a:custGeom>
                <a:avLst/>
                <a:gdLst/>
                <a:ahLst/>
                <a:rect l="l" t="t" r="r" b="b"/>
                <a:pathLst>
                  <a:path w="3193" h="784">
                    <a:moveTo>
                      <a:pt x="0" y="783"/>
                    </a:moveTo>
                    <a:lnTo>
                      <a:pt x="2393" y="783"/>
                    </a:lnTo>
                    <a:lnTo>
                      <a:pt x="3192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475640" y="3156120"/>
                <a:ext cx="720" cy="672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3635280" y="2925720"/>
            <a:ext cx="1584360" cy="934920"/>
            <a:chOff x="3635280" y="2925720"/>
            <a:chExt cx="1584360" cy="934920"/>
          </a:xfrm>
        </p:grpSpPr>
        <p:grpSp>
          <p:nvGrpSpPr>
            <p:cNvPr id="266" name=""/>
            <p:cNvGrpSpPr/>
            <p:nvPr/>
          </p:nvGrpSpPr>
          <p:grpSpPr>
            <a:xfrm>
              <a:off x="3635280" y="2925720"/>
              <a:ext cx="1584360" cy="934920"/>
              <a:chOff x="3635280" y="2925720"/>
              <a:chExt cx="1584360" cy="934920"/>
            </a:xfrm>
          </p:grpSpPr>
          <p:sp>
            <p:nvSpPr>
              <p:cNvPr id="267" name=""/>
              <p:cNvSpPr/>
              <p:nvPr/>
            </p:nvSpPr>
            <p:spPr>
              <a:xfrm>
                <a:off x="3635280" y="2925720"/>
                <a:ext cx="1584360" cy="934920"/>
              </a:xfrm>
              <a:custGeom>
                <a:avLst/>
                <a:gdLst/>
                <a:ahLst/>
                <a:rect l="l" t="t" r="r" b="b"/>
                <a:pathLst>
                  <a:path w="4406" h="3141">
                    <a:moveTo>
                      <a:pt x="1103" y="0"/>
                    </a:moveTo>
                    <a:lnTo>
                      <a:pt x="0" y="785"/>
                    </a:lnTo>
                    <a:lnTo>
                      <a:pt x="0" y="3140"/>
                    </a:lnTo>
                    <a:lnTo>
                      <a:pt x="3306" y="3140"/>
                    </a:lnTo>
                    <a:lnTo>
                      <a:pt x="4405" y="2355"/>
                    </a:lnTo>
                    <a:lnTo>
                      <a:pt x="4405" y="0"/>
                    </a:lnTo>
                    <a:lnTo>
                      <a:pt x="110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35280" y="2925720"/>
                <a:ext cx="1584360" cy="234720"/>
              </a:xfrm>
              <a:custGeom>
                <a:avLst/>
                <a:gdLst/>
                <a:ahLst/>
                <a:rect l="l" t="t" r="r" b="b"/>
                <a:pathLst>
                  <a:path w="4406" h="789">
                    <a:moveTo>
                      <a:pt x="0" y="788"/>
                    </a:moveTo>
                    <a:lnTo>
                      <a:pt x="3306" y="788"/>
                    </a:lnTo>
                    <a:lnTo>
                      <a:pt x="4405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805640" y="3172320"/>
                <a:ext cx="10440" cy="665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519a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635280" y="3254040"/>
              <a:ext cx="1152720" cy="462240"/>
            </a:xfrm>
            <a:prstGeom prst="roundRect">
              <a:avLst>
                <a:gd name="adj" fmla="val 2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k space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RF signals)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890720" y="3139920"/>
            <a:ext cx="1566720" cy="1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42120" y="3139920"/>
            <a:ext cx="1290600" cy="1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7561440" y="4834080"/>
            <a:ext cx="1403280" cy="14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A5F3C-E7ED-4721-8FD0-8B3B443084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5989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PTM3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3D Medical Image Analysis Softwa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Interactive volume reconstruction on large radiological data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Starting from hand-made initialization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Algorithm segments each slice of a medical volum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3D reconstruction by triangulating contours from consecutive slic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Interactive reconstruction time: less than 2mins and scalabl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Permanent availability of resources for fast reconstruction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Access to users at non grid-enabled </a:t>
            </a:r>
            <a:br>
              <a:rPr sz="1700"/>
            </a:b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sites (e.g. hospital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Unmodified medically optimized interfac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Successfully ported and demonstrated at </a:t>
            </a:r>
            <a:br>
              <a:rPr sz="1700"/>
            </a:b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first EGEE review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Streams to/from non EGEE-enabled sites </a:t>
            </a:r>
            <a:br>
              <a:rPr sz="1700"/>
            </a:b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specific protocol, CrossGrid glogin </a:t>
            </a:r>
            <a:br>
              <a:rPr sz="1700"/>
            </a:b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will be considered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Resource access QoS: ongoing work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388360" y="10152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8202600" y="814320"/>
            <a:ext cx="941400" cy="7174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781680" y="838080"/>
            <a:ext cx="1393920" cy="7527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796000" y="4221000"/>
            <a:ext cx="320364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92B5D-3EDF-4B88-A6F8-E6B0F79DD9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53960" y="66240"/>
            <a:ext cx="534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xmipp_ML_ref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Macromolecules structure analysis from electron microscop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3D reconstruction of molecular structural information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from cryo-electron microscopy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Multi-reference refinement of electron microscopy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tructures through a maximum likelihood statistical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pproach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Very compute intensive analysis of multiple structures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2D: one to several weeks on a single CPU 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3D: even more costly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Computation can be split in independent jobs that are executed in parallel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First results on 2D analysis show significant time gain: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two months on a local cluster (20 CPUs) versus one month on the grid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lgorithm still being optimized and ported to 3D case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MPI implementation is currently being developed that should significantly improve the computation tim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704000" y="104760"/>
            <a:ext cx="1440000" cy="587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732720" y="1484280"/>
            <a:ext cx="225720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930F-803D-4A84-A465-BE7DEA6711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SSG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 computing is emerging as one of the most cost effective computing paradigms for a large class of data and compute intensive applicat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af00"/>
                </a:solidFill>
                <a:latin typeface="Arial"/>
              </a:rPr>
              <a:t>Still a a stiff entry cost for computational scientis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ERN computing summer school initiated a Grid track back in 2002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xtraordinary succes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dea to start a dedicated summer school on Grid computing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Following excellent response in 2003 and 2004, here we are with the third run in 2005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From next year will continue with EU supported ICEAG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5F47-2EAE-440F-A18A-9D12C0EB2A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53960" y="66240"/>
            <a:ext cx="5413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xmipp_ML_CTF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lectron microscope images correction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Electron microscopy images impaired by electron sources and defocus of magnetic lenses used in experimental practic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mage aberrations are described by a Contrast Transfer Function (CTF) that need to be estimated to fix imag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CTF estimation lead to drastic image enhancement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uto regressive modelling is used to estimate parameters of the CTF and produce more reliable results than classical Fourier transform-based approach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Very compute intensive: complex functional,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low optimisation proces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arallelisation on different grid resourc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90449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2 months on a single CPU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90449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2 days on a local 20-CPUs cluster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90449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14 hours on the grid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704000" y="104760"/>
            <a:ext cx="1440000" cy="587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6659640" y="3979800"/>
            <a:ext cx="225720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6214-47F9-40CF-B15B-BD81307621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3960" y="66240"/>
            <a:ext cx="4910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 silico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Drug Discove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720" y="97452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rovide docking information to help in the search for new drug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Propose new inhibitors (drug candidates) addressed to neglected diseas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338f"/>
                </a:solidFill>
                <a:latin typeface="Arial"/>
              </a:rPr>
              <a:t>In silico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 virtual screening of drug candidate databas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Large scale molecular docking on malaria to compute millions of potential drugs with different software and parameters setting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rug discovery usually takes up to 12 years to complete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ocking much faster, but large databases lead to heavy computation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plit candidate drug input on different grid resource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Limited size computation (105 candidate drugs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tested for 1 protein target) achievable in 2 days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using the Grid compared to 6 months of CPU tim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Full data challenge planed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3x106 candidate drugs against 5 protein targets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Total computing time will reach 80 years of CPU </a:t>
            </a:r>
            <a:br>
              <a:rPr sz="1600"/>
            </a:b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and 6 TB of storage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8431200" y="0"/>
          <a:ext cx="71280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0" y="0"/>
                    <a:ext cx="7128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7151760" y="0"/>
            <a:ext cx="1285920" cy="7142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6084720" y="4508640"/>
            <a:ext cx="30513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CECD-4687-4CBA-A095-C03DF5CB35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LATCH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enome evolution modeling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Scientific obj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tudy human evolutionary genetics and answer questions such a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geographic origin of modern human populations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genetic signature of expanding populations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1a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8f"/>
                </a:solidFill>
                <a:latin typeface="Arial"/>
              </a:rPr>
              <a:t>genetic contacts between modern humans and Neanderthals</a:t>
            </a:r>
            <a:endParaRPr b="0" i="1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Method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imulate past demography of human populations in a geographically realistic landscap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Generate molecular diversity of samples of genes drawn from the current human’s range, and compare to observed contemporary molecular diversity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Grid added val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Due to the Bayesian approach used, the </a:t>
            </a:r>
            <a:br>
              <a:rPr sz="1700"/>
            </a:b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PLATCHE application is very compute intensiv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Independent simulations can be executed in parallel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1af00"/>
                </a:solidFill>
                <a:latin typeface="Arial"/>
              </a:rPr>
              <a:t>Results and perspectiv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Application prototype ported on the EGEE middlewar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Scale tests on the full grid infrastructure underway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093080" y="4402080"/>
            <a:ext cx="1834920" cy="18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EBC5-D3EF-4020-BB85-175E09B880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Appli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EGEE Generic Applications Advisory Panel (EGAAP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UNIQUE entry point for “external” applications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views proposals and make recommendations to EGEE managemen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eals with “scientific” aspects, not with technical detail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eneric Applications group in charge of introducing selected applications to the EGEE infrastructur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6 applications selected so far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arth sciences (I and II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MAGIC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mputational Chemistr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PLANCK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Drug Discovery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RACE (end Feb 2005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04EA-6C41-485E-A41D-BEAECDA15B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th sciences appli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Earth Observations by Satellit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ozone profil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olid Earth Physics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Fast Determination of mechanisms </a:t>
            </a:r>
            <a:br>
              <a:rPr sz="1900"/>
            </a:b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of important earthquak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Hydrology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Management of water resources </a:t>
            </a:r>
            <a:br>
              <a:rPr sz="1900"/>
            </a:b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 Mediterranean area (SWIMED)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Geology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eocluster: R&amp;D initiative of the </a:t>
            </a:r>
            <a:br>
              <a:rPr sz="1900"/>
            </a:b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Compagnie Générale de Géophysiq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 large variety of applications ported on EGEE which incites new user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teractive Collaboration of the teams around a project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3490920" cy="10083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1760760" cy="14954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5900760" y="3933720"/>
            <a:ext cx="1407960" cy="1289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7164360" y="2205000"/>
            <a:ext cx="1692360" cy="1263600"/>
          </a:xfrm>
          <a:prstGeom prst="rect">
            <a:avLst/>
          </a:prstGeom>
          <a:ln w="9360">
            <a:solidFill>
              <a:srgbClr val="2b519a"/>
            </a:solidFill>
            <a:miter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6531120" y="3855960"/>
            <a:ext cx="1425600" cy="1017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6"/>
          <a:stretch/>
        </p:blipFill>
        <p:spPr>
          <a:xfrm>
            <a:off x="7164360" y="4440240"/>
            <a:ext cx="1444680" cy="81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6696-E6E9-4310-BB09-79ECF8AD57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Ground based Air Cerenkov </a:t>
            </a:r>
            <a:br>
              <a:rPr sz="2400"/>
            </a:b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Telescope 17 m diameter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Physics Goals: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Origin of VHE Gamma ray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Active Galactic Nuclei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Supernova Remna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Unidentified EGRET sour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338f"/>
                </a:solidFill>
                <a:latin typeface="Arial"/>
              </a:rPr>
              <a:t>Gamma Ray Burs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b519a"/>
                </a:solidFill>
                <a:latin typeface="Arial"/>
              </a:rPr>
              <a:t>MAGIC II will come 2007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Grid added valu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 “(e-)scientific“ collaboration between partners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 the cooperation between different experimen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able the participation on Virtual Observator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219640" y="1096920"/>
            <a:ext cx="3635280" cy="2548080"/>
          </a:xfrm>
          <a:prstGeom prst="rect">
            <a:avLst/>
          </a:prstGeom>
          <a:ln w="63360">
            <a:solidFill>
              <a:srgbClr val="333399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659640" y="3825720"/>
            <a:ext cx="1046160" cy="10432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7956720" y="501336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7812000" y="3933720"/>
            <a:ext cx="1187640" cy="874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5"/>
          <a:stretch/>
        </p:blipFill>
        <p:spPr>
          <a:xfrm>
            <a:off x="4859280" y="3971880"/>
            <a:ext cx="1668600" cy="96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4B1F-9EE8-4697-BA63-96A893F9BF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ational Chemi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The Grid Enabled Molecular Simulator (GEMS)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otivation: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Modern computer simulations of biomolecular systems produce an abundance of data, which could be reused several times by different researchers. </a:t>
            </a:r>
            <a:br>
              <a:rPr sz="1900"/>
            </a:b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 data must be catalogued and searchabl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GEMS database and toolkit: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utonomous storage resourc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metadata specifica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utomatic storage allocation and </a:t>
            </a:r>
            <a:br>
              <a:rPr sz="1900"/>
            </a:b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replication polici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interface for distributed computation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384960" y="5194440"/>
            <a:ext cx="2363760" cy="12589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711600" y="5192640"/>
            <a:ext cx="2300400" cy="12607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1042920" y="5194440"/>
            <a:ext cx="2332080" cy="1258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6700680" y="3213000"/>
            <a:ext cx="226404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BC222-B70B-4653-8905-9E9EBC4A055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n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056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On the Grid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&gt; 12 time faster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(but ~5% failures)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Complex data </a:t>
            </a:r>
            <a:br>
              <a:rPr sz="2000"/>
            </a:b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structure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data handling </a:t>
            </a:r>
            <a:br>
              <a:rPr sz="1800"/>
            </a:br>
            <a:r>
              <a:rPr b="0" lang="en-GB" sz="1800" spc="-1" strike="noStrike">
                <a:solidFill>
                  <a:srgbClr val="2b519a"/>
                </a:solidFill>
                <a:latin typeface="Arial"/>
              </a:rPr>
              <a:t> importa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The Grid a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llaboration </a:t>
            </a:r>
            <a:br>
              <a:rPr sz="1800"/>
            </a:b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tool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common </a:t>
            </a:r>
            <a:br>
              <a:rPr sz="1800"/>
            </a:b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user-interface 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flexible environment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8f"/>
                </a:solidFill>
                <a:latin typeface="Arial"/>
              </a:rPr>
              <a:t>new approach to data and S/W sharing</a:t>
            </a: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916360" y="90792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F99A0-900E-4119-B861-D9AC5D2DDE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r information &amp; sup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ore than 140 </a:t>
            </a:r>
            <a:r>
              <a:rPr b="1" lang="en-US" sz="2400" spc="-1" strike="noStrike">
                <a:solidFill>
                  <a:srgbClr val="f1af00"/>
                </a:solidFill>
                <a:latin typeface="Arial"/>
              </a:rPr>
              <a:t>training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events (including the GGF grid school) across many countri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&gt;1200  people traine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induction; application developer; advanced; retrea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aterial archive coming online with ~200 presentat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ublic and technical websites constantly evolving to expand information available and keep it up to date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1af00"/>
                </a:solidFill>
                <a:latin typeface="Arial"/>
              </a:rPr>
              <a:t>conferences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organize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~ 300 @ Cork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~ 400 @ Den Haag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~450 @ Athe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4490"/>
                </a:solidFill>
                <a:latin typeface="Arial"/>
              </a:rPr>
              <a:t>Pisa: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4th project conference 24-28 October ’05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588000" y="4268880"/>
            <a:ext cx="2087640" cy="139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7BED-AA6D-47CB-8183-D9796088A7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Collabo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EGEE closely collaborates with other projects, e.g.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1af00"/>
                </a:solidFill>
                <a:latin typeface="Arial"/>
              </a:rPr>
              <a:t>Flooding Crisis</a:t>
            </a: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 (CrossGrid) demonstrated at 3</a:t>
            </a:r>
            <a:r>
              <a:rPr b="1" lang="de-AT" sz="2400" spc="-1" strike="noStrike" baseline="30000">
                <a:solidFill>
                  <a:srgbClr val="2b519a"/>
                </a:solidFill>
                <a:latin typeface="Arial"/>
              </a:rPr>
              <a:t>rd</a:t>
            </a: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 EGEE conference in Athe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338f"/>
                </a:solidFill>
                <a:latin typeface="Arial"/>
              </a:rPr>
              <a:t>Simulation of </a:t>
            </a:r>
            <a:br>
              <a:rPr sz="2100"/>
            </a:br>
            <a:r>
              <a:rPr b="0" lang="de-AT" sz="2100" spc="-1" strike="noStrike">
                <a:solidFill>
                  <a:srgbClr val="00338f"/>
                </a:solidFill>
                <a:latin typeface="Arial"/>
              </a:rPr>
              <a:t>flooding scenario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338f"/>
                </a:solidFill>
                <a:latin typeface="Arial"/>
              </a:rPr>
              <a:t>Display in Virtual Reality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338f"/>
                </a:solidFill>
                <a:latin typeface="Arial"/>
              </a:rPr>
              <a:t>Optimize data transpor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90449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won prize for “best demo”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28760" y="6173640"/>
            <a:ext cx="52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2b519a"/>
                </a:solidFill>
                <a:latin typeface="Tahoma"/>
              </a:rPr>
              <a:t>Collaboration with Slowak Academy of Sciences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0" y="6070680"/>
            <a:ext cx="1979640" cy="475920"/>
            <a:chOff x="0" y="6070680"/>
            <a:chExt cx="1979640" cy="475920"/>
          </a:xfrm>
        </p:grpSpPr>
        <p:sp>
          <p:nvSpPr>
            <p:cNvPr id="330" name=""/>
            <p:cNvSpPr/>
            <p:nvPr/>
          </p:nvSpPr>
          <p:spPr>
            <a:xfrm>
              <a:off x="0" y="6070680"/>
              <a:ext cx="197964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"/>
            <a:srcRect l="0" t="25189" r="0" b="44144"/>
            <a:stretch/>
          </p:blipFill>
          <p:spPr>
            <a:xfrm>
              <a:off x="74520" y="6138000"/>
              <a:ext cx="1905120" cy="294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4500720" cy="32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97758-1A97-472D-A7CD-B5445C060C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ing intensive sci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cience is becoming increasingly </a:t>
            </a:r>
            <a:r>
              <a:rPr b="1" lang="en-US" sz="2400" spc="-1" strike="noStrike">
                <a:solidFill>
                  <a:srgbClr val="f1af00"/>
                </a:solidFill>
                <a:latin typeface="Arial"/>
              </a:rPr>
              <a:t>digital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and needs to deal with increasing amounts of data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af00"/>
                </a:solidFill>
                <a:latin typeface="Arial"/>
              </a:rPr>
              <a:t>Simulations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get ever more detailed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anotechnology –</a:t>
            </a:r>
            <a:r>
              <a:rPr b="0" lang="en-US" sz="2100" spc="-1" strike="noStrike">
                <a:solidFill>
                  <a:srgbClr val="90449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sign of new materials from </a:t>
            </a:r>
            <a:br>
              <a:rPr sz="2100"/>
            </a:b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 molecular scal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odelling and predicting complex systems </a:t>
            </a:r>
            <a:br>
              <a:rPr sz="2100"/>
            </a:b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(weather forecasting, river floods, earthquake)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coding the human genom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Experimental Science uses ever more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ophisticated </a:t>
            </a:r>
            <a:r>
              <a:rPr b="1" lang="en-US" sz="2400" spc="-1" strike="noStrike">
                <a:solidFill>
                  <a:srgbClr val="f1af00"/>
                </a:solidFill>
                <a:latin typeface="Arial"/>
              </a:rPr>
              <a:t>sensors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 to make precise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measurement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0449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Need high statistics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0449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Huge amounts of data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0449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erves user communities around the worl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2924280"/>
            <a:ext cx="2158920" cy="2060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Geared molecules, from an image from NASA"/>
          <p:cNvPicPr/>
          <p:nvPr/>
        </p:nvPicPr>
        <p:blipFill>
          <a:blip r:embed="rId3"/>
          <a:stretch/>
        </p:blipFill>
        <p:spPr>
          <a:xfrm>
            <a:off x="6718320" y="1413000"/>
            <a:ext cx="2425680" cy="159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804000" y="5013360"/>
            <a:ext cx="1905120" cy="14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48925-827A-4615-BA90-83D04082D4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EE as partn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Ongoing collaboration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with non EU partners in EGEE: US, Israel, Russia, Korea, Taiwan…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with other European projects, in particular: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GÉANT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DEISA 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SEE-GRID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with non-European projects: 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OSG: OpenScienceGrid (USA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NAREGI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EGEE as incubator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338f"/>
                </a:solidFill>
                <a:latin typeface="Arial"/>
              </a:rPr>
              <a:t>16 recently submitted EU proposals supported, among them: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Baltic states (Baltic Grid proposal to EU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Latin America (EELA consortium on ALIS/CLARA networking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Mediterranean Area (EUMedConnect)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1a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China: EUGridChina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b519a"/>
                </a:solidFill>
                <a:latin typeface="Arial"/>
              </a:rPr>
              <a:t>EGEE supports Euro-India ICT Co-operation Initiativ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7451640" y="2852640"/>
            <a:ext cx="1225800" cy="11527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5219640" y="2349360"/>
            <a:ext cx="2028960" cy="986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GEANT2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1773360"/>
            <a:ext cx="153648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635CD-E7EF-4D35-8DE4-4FCF1A806C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95120" y="1319040"/>
            <a:ext cx="8745840" cy="1946520"/>
          </a:xfrm>
          <a:prstGeom prst="rect">
            <a:avLst/>
          </a:prstGeom>
          <a:solidFill>
            <a:srgbClr val="3366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ted projects under negoti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9640" y="6267600"/>
            <a:ext cx="858996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1af00"/>
                </a:solidFill>
                <a:latin typeface="Arial"/>
              </a:rPr>
              <a:t>Exact budget and partner roles to be confirmed during negotiation</a:t>
            </a:r>
            <a:endParaRPr b="1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79280" y="957240"/>
          <a:ext cx="8785440" cy="5238720"/>
        </p:xfrm>
        <a:graphic>
          <a:graphicData uri="http://schemas.openxmlformats.org/drawingml/2006/table">
            <a:tbl>
              <a:tblPr/>
              <a:tblGrid>
                <a:gridCol w="1656000"/>
                <a:gridCol w="4201920"/>
                <a:gridCol w="2927520"/>
              </a:tblGrid>
              <a:tr h="3614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4ce00"/>
                          </a:solidFill>
                          <a:latin typeface="Arial"/>
                        </a:rPr>
                        <a:t>Name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solidFill>
                      <a:srgbClr val="2b519a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4ce00"/>
                          </a:solidFill>
                          <a:latin typeface="Arial"/>
                        </a:rPr>
                        <a:t>Description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solidFill>
                      <a:srgbClr val="2b519a"/>
                    </a:solidFill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f4ce00"/>
                          </a:solidFill>
                          <a:latin typeface="Arial"/>
                        </a:rPr>
                        <a:t>Common partners with EGEE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solidFill>
                      <a:srgbClr val="2b519a"/>
                    </a:solidFill>
                  </a:tcPr>
                </a:tc>
              </a:tr>
              <a:tr h="47736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BalticGrid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GEE extension to Estonia, Latvia, Lithuania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KTH – PSNC – CERN 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ELA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GEE extension to Brazil, Chile, Cuba, Mexico, Argentina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SIC – UPV – INFN – CERN – LIP – RED.ES 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UChinaGRID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GEE extension to China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FN – CERN – DANTE – GARR – GRNET – IHEP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UMedGRID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GEE extension to Malta, Algeria, Morocco, Egypt, Syria, Tunisia, Turkey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FN – CERN – DANTE – GARR – GRNET – RED.ES 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SSeG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Site security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ERN – CSSI – FZK – CCLRC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IRGSP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olicies 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ERN – GRNET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TICS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Repository, Testing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ERN – INFN – UWM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CEAGE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Repository for Training &amp; Education, Schools on Grid Computing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UEDIN – CERN – KTH – SZTAKI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BELIEF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Digital Library of Grid documentation, organisation of workshops, conferences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UWM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BIOINFOGRID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Biomedical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INFN – CNRS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Health-e-Child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Biomedical – Integration of heterogeneous biomedical information for improved healthcare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CERN</a:t>
                      </a:r>
                      <a:endParaRPr b="0" lang="en-US" sz="15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E742-5530-4E91-87AA-640AF300DA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EE and Indus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dustry a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1af00"/>
                </a:solidFill>
                <a:latin typeface="Arial"/>
              </a:rPr>
              <a:t>partner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– to increase know-how on Grid technolog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1af00"/>
                </a:solidFill>
                <a:latin typeface="Arial"/>
              </a:rPr>
              <a:t>user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– for R&amp;D applicat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1af00"/>
                </a:solidFill>
                <a:latin typeface="Arial"/>
              </a:rPr>
              <a:t>provider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 – of established Grid services, </a:t>
            </a:r>
            <a:br>
              <a:rPr sz="2100"/>
            </a:b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such as call centres, support centres and </a:t>
            </a:r>
            <a:br>
              <a:rPr sz="2100"/>
            </a:b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computing resource provider centres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dustry Forum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aise awareness of the project </a:t>
            </a:r>
            <a:br>
              <a:rPr sz="2100"/>
            </a:b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mong industri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Encourage businesses to participat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90449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ability to “experience” EGEE Grid in early stages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796000" y="3048120"/>
            <a:ext cx="3052800" cy="203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E0D04-39FE-48EA-967A-2133EB60CD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485040" y="5589720"/>
            <a:ext cx="1627200" cy="9619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m Phase I to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7993080" cy="555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From 1st EGEE EU Review in February 2005: 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“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The reviewers found the overall performance of the project very good.”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“… </a:t>
            </a:r>
            <a:r>
              <a:rPr b="0" lang="en-US" sz="1700" spc="-1" strike="noStrike">
                <a:solidFill>
                  <a:srgbClr val="00338f"/>
                </a:solidFill>
                <a:latin typeface="Arial"/>
              </a:rPr>
              <a:t>remarkable achievement to set up this consortium, to realize appropriate structures to provide the necessary leadership, and to cope with changing requirements.”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GEE I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Large scale deployment of EGEE infrastructure to deliver </a:t>
            </a:r>
            <a:br>
              <a:rPr sz="1700"/>
            </a:b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production level Grid services with selected number of applications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b519a"/>
                </a:solidFill>
                <a:latin typeface="Arial"/>
              </a:rPr>
              <a:t>EGEE II</a:t>
            </a:r>
            <a:endParaRPr b="1" lang="en-US" sz="18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Natural continuation of the project’s first phas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Emphasis on providing an infrastructure for e-Scienc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90449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increased support for applications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90449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increased multidisciplinary Grid infrastructure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0449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90449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more involvement from Industry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Extending the Grid infrastructure world-wide</a:t>
            </a:r>
            <a:endParaRPr b="0" lang="en-US" sz="17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338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90449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b519a"/>
                </a:solidFill>
                <a:latin typeface="Arial"/>
              </a:rPr>
              <a:t>increased international collaboration </a:t>
            </a: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7413480" y="3500280"/>
            <a:ext cx="1730520" cy="10368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8085240" y="907920"/>
            <a:ext cx="1058760" cy="8002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300720" y="4581360"/>
            <a:ext cx="1203480" cy="10098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7020000" y="2313000"/>
            <a:ext cx="944640" cy="755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8028000" y="1773360"/>
            <a:ext cx="1014480" cy="1150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7740720" y="4869000"/>
            <a:ext cx="1209600" cy="91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9C59E-AE48-4FFA-A404-0C3F33BEF36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Conclusions 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rid deployment are creating a powerful new tool for science – as well as applications from other field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ral applications are already benefiting from Grid technologi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vestments in grid projects are growing world-wid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Europe is strong in the development of Grids also thanks to the success of EGE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F0852-67E9-423D-88FD-5025C101BC5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Conclusions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Collaboration across national and international programmes is very important: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Grids are above all about collaboration at a large scal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Science is international and therefore requires an international computing infrastructur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SSGC is now inspiring other similar schools such as the regional EGEE school in Budapest, other schools in the US and elsewher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Scientists attending these schools promote adoption of Grid computing worldwide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mportant to receive feedback and inputs from the school participan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EGEE will be presented in more details during the rest of this week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E49E-879F-450B-BA06-B08A255556F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EGEE Websit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//www.eu-egee.org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How to joi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ac3b8b"/>
                </a:solidFill>
                <a:uFillTx/>
                <a:latin typeface="Arial"/>
                <a:hlinkClick r:id="rId2"/>
              </a:rPr>
              <a:t>http://public.eu-egee.org/join/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EGEE Project Offic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ac3b8b"/>
                </a:solidFill>
                <a:uFillTx/>
                <a:latin typeface="Arial"/>
                <a:hlinkClick r:id="rId3"/>
              </a:rPr>
              <a:t>project-</a:t>
            </a:r>
            <a:r>
              <a:rPr b="0" lang="en-GB" sz="2100" spc="-1" strike="noStrike" u="sng">
                <a:solidFill>
                  <a:srgbClr val="ac3b8b"/>
                </a:solidFill>
                <a:uFillTx/>
                <a:latin typeface="Arial"/>
                <a:hlinkClick r:id="rId4"/>
              </a:rPr>
              <a:t>eu-egee-po@cern.ch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302E-94D4-4D8C-B402-E31C451831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olution: the Gri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1a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Integrating computing power </a:t>
            </a:r>
            <a:br>
              <a:rPr sz="2400"/>
            </a:b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and data storage capacities </a:t>
            </a:r>
            <a:br>
              <a:rPr sz="2400"/>
            </a:b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at major computer centr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1a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roviding users with seamless 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access to computing 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resources, 24/7, independent of </a:t>
            </a:r>
            <a:br>
              <a:rPr sz="2400"/>
            </a:b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geographic location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More effective and seamless collaboration of dispersed communities, both scientific and commercial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Ability to run large-scale applications comprising thousands of computers, for wide range of application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0449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 term “e-Science” has been coined to express these benefit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56240" y="1052640"/>
            <a:ext cx="3408480" cy="2830320"/>
            <a:chOff x="5556240" y="1052640"/>
            <a:chExt cx="3408480" cy="2830320"/>
          </a:xfrm>
        </p:grpSpPr>
        <p:grpSp>
          <p:nvGrpSpPr>
            <p:cNvPr id="115" name=""/>
            <p:cNvGrpSpPr/>
            <p:nvPr/>
          </p:nvGrpSpPr>
          <p:grpSpPr>
            <a:xfrm>
              <a:off x="5556240" y="1054080"/>
              <a:ext cx="3408480" cy="2828880"/>
              <a:chOff x="5556240" y="1054080"/>
              <a:chExt cx="3408480" cy="2828880"/>
            </a:xfrm>
          </p:grpSpPr>
          <p:pic>
            <p:nvPicPr>
              <p:cNvPr id="1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567400" y="1063800"/>
                <a:ext cx="3395520" cy="281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397720" y="1136520"/>
                <a:ext cx="565200" cy="64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56240" y="1054080"/>
                <a:ext cx="598320" cy="554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788240" y="1054080"/>
                <a:ext cx="1176480" cy="2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788240" y="1076400"/>
                <a:ext cx="1176480" cy="264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>
              <a:off x="5556240" y="107496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56240" y="1052640"/>
              <a:ext cx="3384360" cy="2830320"/>
            </a:xfrm>
            <a:prstGeom prst="rect">
              <a:avLst/>
            </a:prstGeom>
            <a:noFill/>
            <a:ln w="507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951F6-D56C-4E4C-BCD2-9612F487B0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E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5960" y="974520"/>
            <a:ext cx="50594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b519a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consistent, robust and secure service grid </a:t>
            </a:r>
            <a:r>
              <a:rPr b="0" lang="en-GB" sz="2000" spc="-1" strike="noStrike">
                <a:solidFill>
                  <a:srgbClr val="f1af00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improving and maintaining the </a:t>
            </a:r>
            <a:r>
              <a:rPr b="0" lang="en-GB" sz="2000" spc="-1" strike="noStrike">
                <a:solidFill>
                  <a:srgbClr val="f1af00"/>
                </a:solidFill>
                <a:latin typeface="Arial"/>
              </a:rPr>
              <a:t>middlewar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attracting </a:t>
            </a:r>
            <a:r>
              <a:rPr b="0" lang="en-GB" sz="2000" spc="-1" strike="noStrike">
                <a:solidFill>
                  <a:srgbClr val="f1af00"/>
                </a:solidFill>
                <a:latin typeface="Arial"/>
              </a:rPr>
              <a:t>new resources and users</a:t>
            </a:r>
            <a:r>
              <a:rPr b="0" lang="en-GB" sz="2000" spc="-1" strike="noStrike">
                <a:solidFill>
                  <a:srgbClr val="2b519a"/>
                </a:solidFill>
                <a:latin typeface="Arial"/>
              </a:rPr>
              <a:t> from industry as well as scienc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tructure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70 leading institutions in 27 countries, federated in regional Grids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leveraging national and regional grid activities worldwide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519a"/>
                </a:solidFill>
                <a:latin typeface="Arial"/>
              </a:rPr>
              <a:t>funded by the EU with ~32 M Euros for first 2 years starting 1st April 2004</a:t>
            </a:r>
            <a:endParaRPr b="0" lang="en-US" sz="2000" spc="-1" strike="noStrike">
              <a:solidFill>
                <a:srgbClr val="00338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69040" y="1579680"/>
            <a:ext cx="3566880" cy="35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5E08-56D8-455D-86D9-6A3D1301B1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836640"/>
            <a:ext cx="9144000" cy="6275520"/>
            <a:chOff x="0" y="836640"/>
            <a:chExt cx="9144000" cy="627552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0" y="836640"/>
              <a:ext cx="9144000" cy="62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5148360" y="17384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188280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48360" y="267516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16360" y="231480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62360" y="218916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95640" y="188280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24360" y="238788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238788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67280" y="209880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41880" y="211140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27640" y="224316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6000" y="195444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11640" y="188280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00720" y="19544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81640" y="207972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43280" y="209880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00720" y="166716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84720" y="159552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16360" y="159552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72360" y="260352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16720" y="31784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85080" y="274644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28000" y="29624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8360" y="2530800"/>
              <a:ext cx="7128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32000" y="231480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5280" y="195444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63640" y="317844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01080" y="2459160"/>
              <a:ext cx="71280" cy="73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84360" y="404352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6720" y="2603520"/>
              <a:ext cx="7164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0560" y="2151360"/>
              <a:ext cx="71280" cy="72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51280" y="1882800"/>
              <a:ext cx="71280" cy="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5160" y="5051520"/>
            <a:ext cx="3521160" cy="1762200"/>
            <a:chOff x="65160" y="5051520"/>
            <a:chExt cx="3521160" cy="1762200"/>
          </a:xfrm>
        </p:grpSpPr>
        <p:sp>
          <p:nvSpPr>
            <p:cNvPr id="161" name=""/>
            <p:cNvSpPr/>
            <p:nvPr/>
          </p:nvSpPr>
          <p:spPr>
            <a:xfrm>
              <a:off x="65160" y="5051520"/>
              <a:ext cx="3521160" cy="1762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a5a5c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3320" y="5153400"/>
              <a:ext cx="108000" cy="115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5840" y="5112000"/>
              <a:ext cx="3080880" cy="16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b519a"/>
                  </a:solidFill>
                  <a:latin typeface="Arial"/>
                </a:rPr>
                <a:t>Country providing resources</a:t>
              </a:r>
              <a:endParaRPr b="0" lang="en-US" sz="12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b519a"/>
                  </a:solidFill>
                  <a:latin typeface="Arial"/>
                </a:rPr>
                <a:t>Country anticipating joining EGEE/LCG </a:t>
              </a:r>
              <a:endParaRPr b="0" lang="en-US" sz="12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519a"/>
                  </a:solidFill>
                  <a:latin typeface="Arial"/>
                </a:rPr>
                <a:t>In EGEE-0: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buClr>
                  <a:srgbClr val="2b519a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519a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2b519a"/>
                  </a:solidFill>
                  <a:latin typeface="Arial"/>
                </a:rPr>
                <a:t>&gt;140 sites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buClr>
                  <a:srgbClr val="2b519a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519a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2b519a"/>
                  </a:solidFill>
                  <a:latin typeface="Arial"/>
                </a:rPr>
                <a:t>&gt;14 000 CPUs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  <a:p>
              <a:pPr>
                <a:buClr>
                  <a:srgbClr val="2b519a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519a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2b519a"/>
                  </a:solidFill>
                  <a:latin typeface="Arial"/>
                </a:rPr>
                <a:t>&gt;5 PB storage</a:t>
              </a:r>
              <a:endParaRPr b="0" lang="en-US" sz="16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1880" y="5351760"/>
              <a:ext cx="108000" cy="115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2b51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EE Infra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9618800">
            <a:off x="1821240" y="2636640"/>
            <a:ext cx="6526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ce00"/>
                </a:solidFill>
                <a:latin typeface="Arial"/>
              </a:rPr>
              <a:t>We are already exceeding </a:t>
            </a:r>
            <a:endParaRPr b="0" lang="en-US" sz="4000" spc="-1" strike="noStrike">
              <a:solidFill>
                <a:srgbClr val="2b519a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ce00"/>
                </a:solidFill>
                <a:latin typeface="Arial"/>
              </a:rPr>
              <a:t>original project plans</a:t>
            </a:r>
            <a:endParaRPr b="0" lang="en-US" sz="4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2571-0DB7-454B-B856-7166816415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ddlewar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Grid relies on advanced software, called </a:t>
            </a:r>
            <a:r>
              <a:rPr b="1" lang="en-US" sz="2400" spc="-1" strike="noStrike">
                <a:solidFill>
                  <a:srgbClr val="f1af00"/>
                </a:solidFill>
                <a:latin typeface="Arial"/>
              </a:rPr>
              <a:t>middleware</a:t>
            </a: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, which interfaces between resources and the applicat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e GRID middleware: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Finds convenient places for </a:t>
            </a:r>
            <a:br>
              <a:rPr sz="2100"/>
            </a:b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he application to be ru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ptimises use of resource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Organises efficient access to data 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eals with authentication to the </a:t>
            </a:r>
            <a:br>
              <a:rPr sz="2100"/>
            </a:b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different sites that are used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uns the job &amp; monitors progres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Recovers from problems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Transfers the result back to the scientist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580000" y="2637000"/>
            <a:ext cx="334332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68014-07B6-4913-91C1-B7AF36BAC3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76720" y="0"/>
            <a:ext cx="58672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GEE Middleware - gLite</a:t>
            </a:r>
            <a:endParaRPr b="0" lang="en-US" sz="2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25080" y="6132600"/>
            <a:ext cx="65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519a"/>
                </a:solidFill>
                <a:latin typeface="Arial"/>
              </a:rPr>
              <a:t>Application requirements </a:t>
            </a:r>
            <a:r>
              <a:rPr b="0" lang="en-US" sz="1800" spc="-1" strike="noStrike" u="sng">
                <a:solidFill>
                  <a:srgbClr val="ac3b8b"/>
                </a:solidFill>
                <a:uFillTx/>
                <a:latin typeface="Arial"/>
                <a:hlinkClick r:id="rId1"/>
              </a:rPr>
              <a:t>http://egee-na4.ct.infn.it/requirements/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6108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tended to replace present middleware with production quality services 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Developed from </a:t>
            </a:r>
            <a:r>
              <a:rPr b="1" lang="en-US" sz="2000" spc="-1" strike="noStrike">
                <a:solidFill>
                  <a:srgbClr val="f1af00"/>
                </a:solidFill>
                <a:latin typeface="Arial"/>
              </a:rPr>
              <a:t>existing component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Aims to address present shortcomings and </a:t>
            </a:r>
            <a:r>
              <a:rPr b="1" lang="en-US" sz="2000" spc="-1" strike="noStrike">
                <a:solidFill>
                  <a:srgbClr val="f1af00"/>
                </a:solidFill>
                <a:latin typeface="Arial"/>
              </a:rPr>
              <a:t>advanced needs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from applications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Prototyping </a:t>
            </a:r>
            <a:r>
              <a:rPr b="1" lang="en-US" sz="2000" spc="-1" strike="noStrike">
                <a:solidFill>
                  <a:srgbClr val="f1af00"/>
                </a:solidFill>
                <a:latin typeface="Arial"/>
              </a:rPr>
              <a:t>short development cycles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for fast user feedback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Initial web-services based </a:t>
            </a:r>
            <a:r>
              <a:rPr b="1" lang="en-US" sz="2000" spc="-1" strike="noStrike">
                <a:solidFill>
                  <a:srgbClr val="f1af00"/>
                </a:solidFill>
                <a:latin typeface="Arial"/>
              </a:rPr>
              <a:t>prototypes</a:t>
            </a:r>
            <a:r>
              <a:rPr b="1" lang="en-US" sz="2000" spc="-1" strike="noStrike">
                <a:solidFill>
                  <a:srgbClr val="2b519a"/>
                </a:solidFill>
                <a:latin typeface="Arial"/>
              </a:rPr>
              <a:t> being tested</a:t>
            </a:r>
            <a:endParaRPr b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73" name="Bob-MWdepl2" descr=""/>
          <p:cNvPicPr/>
          <p:nvPr/>
        </p:nvPicPr>
        <p:blipFill>
          <a:blip r:embed="rId2"/>
          <a:stretch/>
        </p:blipFill>
        <p:spPr>
          <a:xfrm>
            <a:off x="2209680" y="4114800"/>
            <a:ext cx="4953240" cy="1568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620800" y="5591160"/>
            <a:ext cx="1713240" cy="337320"/>
          </a:xfrm>
          <a:prstGeom prst="rect">
            <a:avLst/>
          </a:prstGeom>
          <a:solidFill>
            <a:srgbClr val="c0c0c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Globus 2 based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14960" y="5591160"/>
            <a:ext cx="257796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Web services based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5320" y="4653000"/>
            <a:ext cx="963720" cy="736560"/>
          </a:xfrm>
          <a:prstGeom prst="rightArrow">
            <a:avLst>
              <a:gd name="adj1" fmla="val 50000"/>
              <a:gd name="adj2" fmla="val 32710"/>
            </a:avLst>
          </a:prstGeom>
          <a:solidFill>
            <a:srgbClr val="325faf">
              <a:alpha val="80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Lite-2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1800" y="4653000"/>
            <a:ext cx="963360" cy="736560"/>
          </a:xfrm>
          <a:prstGeom prst="rightArrow">
            <a:avLst>
              <a:gd name="adj1" fmla="val 50000"/>
              <a:gd name="adj2" fmla="val 32698"/>
            </a:avLst>
          </a:prstGeom>
          <a:solidFill>
            <a:srgbClr val="325faf">
              <a:alpha val="80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Lite-1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17920" y="4653000"/>
            <a:ext cx="961920" cy="736560"/>
          </a:xfrm>
          <a:prstGeom prst="rightArrow">
            <a:avLst>
              <a:gd name="adj1" fmla="val 50000"/>
              <a:gd name="adj2" fmla="val 32649"/>
            </a:avLst>
          </a:prstGeom>
          <a:solidFill>
            <a:srgbClr val="c0c0c0">
              <a:alpha val="82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LCG-2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92440" y="4653000"/>
            <a:ext cx="961920" cy="736560"/>
          </a:xfrm>
          <a:prstGeom prst="rightArrow">
            <a:avLst>
              <a:gd name="adj1" fmla="val 50000"/>
              <a:gd name="adj2" fmla="val 32649"/>
            </a:avLst>
          </a:prstGeom>
          <a:solidFill>
            <a:srgbClr val="c0c0c0">
              <a:alpha val="82000"/>
            </a:srgbClr>
          </a:solidFill>
          <a:ln w="9360">
            <a:solidFill>
              <a:srgbClr val="2b51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19a"/>
                </a:solidFill>
                <a:latin typeface="Arial"/>
              </a:rPr>
              <a:t>LCG-1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334040"/>
            <a:ext cx="200160" cy="1334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FC0FE-C962-48C5-9666-716BBB347C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Li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rst release of gLite end of March 2005 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Focus on providing users early access to prototype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Lightweight service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Interoperability &amp; Co-existence with deployed infrastructur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Robust: Performance &amp; Fault Toleranc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Portabl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rvice oriented approach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8f"/>
                </a:solidFill>
                <a:latin typeface="Arial"/>
              </a:rPr>
              <a:t>Follow WSRF standardisation</a:t>
            </a:r>
            <a:endParaRPr b="0" lang="en-US" sz="21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te autonom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Open source license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743440" y="4214880"/>
            <a:ext cx="3141720" cy="195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SSGC05, 18 July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B9064-69EC-4FAF-8BF3-0CB1BE7F4E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09:39:44Z</dcterms:created>
  <dc:creator>hammerle</dc:creator>
  <dc:description/>
  <dc:language>en-US</dc:language>
  <cp:lastModifiedBy>fab</cp:lastModifiedBy>
  <dcterms:modified xsi:type="dcterms:W3CDTF">2005-07-18T08:46:18Z</dcterms:modified>
  <cp:revision>20</cp:revision>
  <dc:subject/>
  <dc:title>GRID Infrastructure:   PRESENT and FUTURE</dc:title>
</cp:coreProperties>
</file>