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3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3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50CA3-718D-4E52-86BD-A599EBD4F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C313-E656-4914-8014-CC1B51FBC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CABCA-507C-471D-BE50-869E565C9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6FF36-F4F5-4B9D-AB98-71CD2DE1A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FE668-BFB0-49A3-8697-667858927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00975-DBEB-4196-84DB-B875CB598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867E-19BF-42FD-AFEA-1D8A2DEC0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351E4-59D5-4995-8524-A824AD4F3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BFAC3-5470-4672-94AE-69FEC09F3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44C51-1806-41E4-B567-D4B558B68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A103E-B214-4283-8803-57E0B78D1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2908B-EA49-4C38-96F9-2C0FEFD71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ISSGC05, Vico Equense, 18.07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6935-A9FC-4B6C-99FD-A086985D7484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/Email%3Ddiego.romano@dma.unina.it" TargetMode="External"/><Relationship Id="rId2" Type="http://schemas.openxmlformats.org/officeDocument/2006/relationships/hyperlink" Target="mailto:/Email%3Ddiego.romano@dma.unina.it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http://indico.cern.ch/contributionDisplay.py?contribId=278&amp;sessionId=7&amp;confId=0" TargetMode="External"/><Relationship Id="rId2" Type="http://schemas.openxmlformats.org/officeDocument/2006/relationships/hyperlink" Target="http://goc.grid.sinica.edu.tw/gocwiki/How_to_set_up_an_LFC_service" TargetMode="External"/><Relationship Id="rId3" Type="http://schemas.openxmlformats.org/officeDocument/2006/relationships/hyperlink" Target="http://goc.grid.sinica.edu.tw/gocwiki/How_to_migrate_the_RLS_entries_into_the_LCG_File_Catalog_%28LFC%29" TargetMode="External"/><Relationship Id="rId4" Type="http://schemas.openxmlformats.org/officeDocument/2006/relationships/hyperlink" Target="mailto:Jean-Philippe.Baud@cern.ch" TargetMode="External"/><Relationship Id="rId5" Type="http://schemas.openxmlformats.org/officeDocument/2006/relationships/hyperlink" Target="mailto:Jean-Philippe.Baud@cern.ch" TargetMode="External"/><Relationship Id="rId6" Type="http://schemas.openxmlformats.org/officeDocument/2006/relationships/hyperlink" Target="mailto:Sophie.Lemaitre@cern.ch" TargetMode="External"/><Relationship Id="rId7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18800" y="1630440"/>
            <a:ext cx="703908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Gilda Practicals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82880" y="2584440"/>
            <a:ext cx="651816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Valeria Ardizzone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Roberto Barbera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Tony Calanducci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Emidio Giorgio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Giuseppe La Rocca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Giuseppe Platania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ISSGC05, Vico Equense 20.07.2005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Default VO setting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2560" y="1584000"/>
            <a:ext cx="861516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You can edit the following file to set the default VO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8a04"/>
                </a:solidFill>
                <a:latin typeface="Arial"/>
              </a:rPr>
              <a:t>&gt;vi UIPnPcomb/glite/etc/glite_wmsui_cmd_var.conf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6480" y="88884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ac3b8b"/>
                </a:solidFill>
                <a:latin typeface="Arial"/>
              </a:rPr>
              <a:t>STEP 6</a:t>
            </a:r>
            <a:endParaRPr b="0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3038400"/>
            <a:ext cx="7886880" cy="343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……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efaultVo = "gilda" 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OutputStorage = "~/JobOutput" 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ank = - other.GlueCEStateEstimatedResponseTime 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efaultLogInfoLevel = 1 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istenerStorage = "/tmp/glite/glite-ui" 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etryCount = 3 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……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4160" y="3657600"/>
            <a:ext cx="622080" cy="495360"/>
          </a:xfrm>
          <a:prstGeom prst="rightArrow">
            <a:avLst>
              <a:gd name="adj1" fmla="val 50000"/>
              <a:gd name="adj2" fmla="val 31395"/>
            </a:avLst>
          </a:prstGeom>
          <a:solidFill>
            <a:srgbClr val="ac3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461000">
            <a:off x="7619760" y="1207080"/>
            <a:ext cx="1181160" cy="563760"/>
          </a:xfrm>
          <a:prstGeom prst="ellipse">
            <a:avLst/>
          </a:prstGeom>
          <a:solidFill>
            <a:srgbClr val="f4ce00"/>
          </a:solidFill>
          <a:ln w="25560">
            <a:solidFill>
              <a:srgbClr val="904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gLite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F01D7-AE51-418F-99F1-A376D00C11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40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9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Producer &amp; Inserting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he SQL INSERT statement may be used to add data to the system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    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INSERT INTO Table VALUES (’a’, ’b’, ’c’, ’d’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In R-GMA, data is inserted into the system using a </a:t>
            </a: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Producer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component which handles the INSERT statement.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Using the command line tool you may work with one producer at a time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03ad"/>
                </a:solidFill>
                <a:latin typeface="Arial"/>
              </a:rPr>
              <a:t>The current producer type can be displayed using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show producer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03ad"/>
                </a:solidFill>
                <a:latin typeface="Arial"/>
              </a:rPr>
              <a:t>The producer type can be set using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set producer lates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1537F-27F3-43E5-9E32-2359089605EA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6476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1.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Insert and Select using Primary Producer to support Continuos + History quer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set producer continuo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insert into UserTable values('cod','string',1.4,66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set query continuo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set maxage 1 minut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set timeout 5 second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select * from UserTabl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7D372-C38C-4032-A6BC-8CDB15380F15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Secondary Produc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o instruct the secondary producer to consume from table MyTable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SECONDARYPRODUCER MyTab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Like the producer, the secondary producer may be configured to answer latest and/or history querie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SET SECONDARYPRODUCER lates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(By default the secondary producer can answer both latest and history queries. 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he current secondary producer type can be displayed using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SHOW SECONDARYPRODUCER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5ADC-8C98-4D94-A17B-FE2C66EEFF9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6476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Insert and Select using the Secondary Producer to support the latest query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set secondaryproducer lates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secondaryproducer UserTab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show producers of UserTab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set producer continuo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insert into UserTable values ('cod','string',5.2,44)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set query lates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select * from UserTab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6AFED-A860-4B02-811C-5ADE257F7DC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2000160" y="2287440"/>
            <a:ext cx="4608720" cy="14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200" spc="-1" strike="noStrike">
                <a:solidFill>
                  <a:srgbClr val="be1908"/>
                </a:solidFill>
                <a:latin typeface="Bradley Hand ITC"/>
              </a:rPr>
              <a:t>THE END</a:t>
            </a:r>
            <a:r>
              <a:rPr b="1" lang="it-IT" sz="6000" spc="-1" strike="noStrike">
                <a:solidFill>
                  <a:srgbClr val="be1908"/>
                </a:solidFill>
                <a:latin typeface="Arial"/>
              </a:rPr>
              <a:t> </a:t>
            </a:r>
            <a:endParaRPr b="1" lang="en-US" sz="6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6FAAA-79A3-4792-A843-ACB2D694B94E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more on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6000" y="863640"/>
            <a:ext cx="8699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Setting the endpoint of the gLite I/O Cli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d8a04"/>
                </a:solidFill>
                <a:latin typeface="Arial"/>
              </a:rPr>
              <a:t>&gt;vi UIPnPcomb/glite//etc/glite-io-client.properties.xml</a:t>
            </a: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5240" y="1689120"/>
            <a:ext cx="37972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e1908"/>
                </a:solidFill>
                <a:latin typeface="Arial"/>
              </a:rPr>
              <a:t>Only</a:t>
            </a: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 user whose workstation number (ws-XX) is </a:t>
            </a:r>
            <a:r>
              <a:rPr b="1" lang="it-IT" sz="2000" spc="-1" strike="noStrike">
                <a:solidFill>
                  <a:srgbClr val="be1908"/>
                </a:solidFill>
                <a:latin typeface="Arial"/>
              </a:rPr>
              <a:t>even</a:t>
            </a: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 must </a:t>
            </a:r>
            <a:r>
              <a:rPr b="1" lang="it-IT" sz="2000" spc="-1" strike="noStrike">
                <a:solidFill>
                  <a:srgbClr val="be1908"/>
                </a:solidFill>
                <a:latin typeface="Arial"/>
              </a:rPr>
              <a:t>set</a:t>
            </a: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 this value for io-client Server param: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e1908"/>
                </a:solidFill>
                <a:latin typeface="Arial"/>
              </a:rPr>
              <a:t>Uncomment</a:t>
            </a: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 the attribute &lt;value&gt; of param Server 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670200"/>
            <a:ext cx="3149640" cy="520560"/>
          </a:xfrm>
          <a:prstGeom prst="rect">
            <a:avLst/>
          </a:prstGeom>
          <a:solidFill>
            <a:srgbClr val="f4ce00"/>
          </a:solidFill>
          <a:ln w="25560">
            <a:solidFill>
              <a:srgbClr val="904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d8a04"/>
                </a:solidFill>
                <a:latin typeface="Arial"/>
              </a:rPr>
              <a:t>glite-se.ct.infn.it</a:t>
            </a:r>
            <a:endParaRPr b="0" lang="en-US" sz="2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1663560"/>
            <a:ext cx="4521240" cy="5001480"/>
          </a:xfrm>
          <a:prstGeom prst="rect">
            <a:avLst/>
          </a:prstGeom>
          <a:solidFill>
            <a:srgbClr val="fbb8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?xml version="1.0" encoding="UTF8"?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service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components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component name="io-client"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init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param name="Server"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!--value&gt;glite-se.ct.infn.it&lt;/value--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25faf"/>
                </a:solidFill>
                <a:latin typeface="Arial"/>
              </a:rPr>
              <a:t>  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value&gt;lxcde08.pd.infn.it&lt;/value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/param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param name="ServerPort"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value&gt;9969&lt;/value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/param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param name="EncryptName"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value&gt;true&lt;/value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/param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/init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/component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/components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/service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4400" y="4660920"/>
            <a:ext cx="1371600" cy="520560"/>
          </a:xfrm>
          <a:prstGeom prst="rect">
            <a:avLst/>
          </a:prstGeom>
          <a:solidFill>
            <a:srgbClr val="f4ce00"/>
          </a:solidFill>
          <a:ln w="25560">
            <a:solidFill>
              <a:srgbClr val="904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d8a04"/>
                </a:solidFill>
                <a:latin typeface="Arial"/>
              </a:rPr>
              <a:t>9999</a:t>
            </a:r>
            <a:endParaRPr b="0" lang="en-US" sz="2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4457520" y="4203720"/>
            <a:ext cx="495360" cy="533160"/>
          </a:xfrm>
          <a:prstGeom prst="downArrow">
            <a:avLst>
              <a:gd name="adj1" fmla="val 50000"/>
              <a:gd name="adj2" fmla="val 26908"/>
            </a:avLst>
          </a:prstGeom>
          <a:solidFill>
            <a:srgbClr val="03c323"/>
          </a:solidFill>
          <a:ln w="25560">
            <a:solidFill>
              <a:srgbClr val="904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4444920" y="3098880"/>
            <a:ext cx="495360" cy="533520"/>
          </a:xfrm>
          <a:prstGeom prst="downArrow">
            <a:avLst>
              <a:gd name="adj1" fmla="val 50000"/>
              <a:gd name="adj2" fmla="val 26926"/>
            </a:avLst>
          </a:prstGeom>
          <a:solidFill>
            <a:srgbClr val="03c323"/>
          </a:solidFill>
          <a:ln w="25560">
            <a:solidFill>
              <a:srgbClr val="904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5240" y="4292640"/>
            <a:ext cx="2692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Then </a:t>
            </a:r>
            <a:r>
              <a:rPr b="1" lang="it-IT" sz="2000" spc="-1" strike="noStrike">
                <a:solidFill>
                  <a:srgbClr val="be1908"/>
                </a:solidFill>
                <a:latin typeface="Arial"/>
              </a:rPr>
              <a:t>comment</a:t>
            </a: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 or delete the row for </a:t>
            </a:r>
            <a:r>
              <a:rPr b="1" lang="it-IT" sz="2000" spc="-1" strike="noStrike">
                <a:solidFill>
                  <a:srgbClr val="be1908"/>
                </a:solidFill>
                <a:latin typeface="Arial"/>
              </a:rPr>
              <a:t>lxcde08.pd.infn.it </a:t>
            </a: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and finally change the value of Server Port param.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57366-55EC-4745-9DB5-89F3C85ADC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stallation scrip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2240" y="1774800"/>
            <a:ext cx="858996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Open the script file UIPnPcomb/install.sh and export this value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e1908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be1908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be1908"/>
                </a:solidFill>
                <a:latin typeface="Arial"/>
              </a:rPr>
              <a:t>export LCG_GFAL_INFOSYS=server3.gs.unina.it:2170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From your home dir type the following command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d8a04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d8a04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d8a04"/>
                </a:solidFill>
                <a:latin typeface="Arial"/>
              </a:rPr>
              <a:t>&gt; source install.sh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73280" y="1003320"/>
            <a:ext cx="32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ac3b8b"/>
                </a:solidFill>
                <a:latin typeface="Arial"/>
              </a:rPr>
              <a:t>FINAL STEP</a:t>
            </a:r>
            <a:endParaRPr b="0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960" y="3403440"/>
            <a:ext cx="8394840" cy="3022200"/>
          </a:xfrm>
          <a:prstGeom prst="rect">
            <a:avLst/>
          </a:prstGeom>
          <a:noFill/>
          <a:ln w="25560">
            <a:solidFill>
              <a:srgbClr val="0251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The installation script: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Updates the CRL’s if needed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Creates the .globus directory (if does not exist)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Creates the $HOME/JobOutput directory (where the output of your jobs will be stored)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Sets all the relevant environment variables in .bash_profile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Sets a cron job to update the CRL’s periodically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98000" y="928800"/>
            <a:ext cx="676080" cy="10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F8106-31F5-4200-88E6-907D25425F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8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8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98080" y="3359160"/>
            <a:ext cx="86202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2b519a"/>
                </a:solidFill>
                <a:latin typeface="Arial"/>
              </a:rPr>
              <a:t>Proxy/MyProxy Management</a:t>
            </a:r>
            <a:endParaRPr b="1" lang="en-US" sz="44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9200" y="1092240"/>
            <a:ext cx="1404720" cy="2305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184480" y="5842080"/>
            <a:ext cx="4521240" cy="368280"/>
          </a:xfrm>
          <a:prstGeom prst="rect">
            <a:avLst/>
          </a:prstGeom>
          <a:solidFill>
            <a:srgbClr val="2b519a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Emidio Giorgio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E0918-CD50-4D29-8C5E-28E06C1609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ID Security: the play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7840" y="1407960"/>
            <a:ext cx="4965840" cy="3571920"/>
            <a:chOff x="177840" y="1407960"/>
            <a:chExt cx="4965840" cy="3571920"/>
          </a:xfrm>
        </p:grpSpPr>
        <p:sp>
          <p:nvSpPr>
            <p:cNvPr id="163" name=""/>
            <p:cNvSpPr/>
            <p:nvPr/>
          </p:nvSpPr>
          <p:spPr>
            <a:xfrm>
              <a:off x="177840" y="1407960"/>
              <a:ext cx="4965840" cy="3571920"/>
            </a:xfrm>
            <a:prstGeom prst="ellipse">
              <a:avLst/>
            </a:prstGeom>
            <a:solidFill>
              <a:srgbClr val="ff99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0960" y="2097000"/>
              <a:ext cx="39956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Large and dynamic population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Different accounts at different sites 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Personal and confidential data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Heterogeneous privileges (roles)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Desire Single Sign-On 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79640" y="16398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Users</a:t>
              </a:r>
              <a:endParaRPr b="0" lang="en-US" sz="24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911760" y="1407960"/>
            <a:ext cx="4965480" cy="3571920"/>
            <a:chOff x="3911760" y="1407960"/>
            <a:chExt cx="4965480" cy="3571920"/>
          </a:xfrm>
        </p:grpSpPr>
        <p:sp>
          <p:nvSpPr>
            <p:cNvPr id="167" name=""/>
            <p:cNvSpPr/>
            <p:nvPr/>
          </p:nvSpPr>
          <p:spPr>
            <a:xfrm>
              <a:off x="3911760" y="1407960"/>
              <a:ext cx="4965480" cy="3571920"/>
            </a:xfrm>
            <a:prstGeom prst="ellipse">
              <a:avLst/>
            </a:prstGeom>
            <a:solidFill>
              <a:srgbClr val="ff99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70560" y="2641680"/>
              <a:ext cx="2117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 “</a:t>
              </a: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Group” data 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Access Patterns 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Membership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83160" y="2184480"/>
              <a:ext cx="15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“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Groups”</a:t>
              </a:r>
              <a:endParaRPr b="0" lang="en-US" sz="24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895400" y="3467160"/>
            <a:ext cx="4965840" cy="2960640"/>
            <a:chOff x="1895400" y="3467160"/>
            <a:chExt cx="4965840" cy="2960640"/>
          </a:xfrm>
        </p:grpSpPr>
        <p:sp>
          <p:nvSpPr>
            <p:cNvPr id="171" name=""/>
            <p:cNvSpPr/>
            <p:nvPr/>
          </p:nvSpPr>
          <p:spPr>
            <a:xfrm>
              <a:off x="1895400" y="3467160"/>
              <a:ext cx="4965840" cy="2960640"/>
            </a:xfrm>
            <a:prstGeom prst="ellipse">
              <a:avLst/>
            </a:prstGeom>
            <a:solidFill>
              <a:srgbClr val="ff99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20960" y="537840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ites</a:t>
              </a:r>
              <a:endParaRPr b="0" lang="en-US" sz="24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11760" y="5194440"/>
              <a:ext cx="2458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Heterogeneous Resources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Access Patterns 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Local policies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Membership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74" name="Cloud"/>
          <p:cNvSpPr/>
          <p:nvPr/>
        </p:nvSpPr>
        <p:spPr>
          <a:xfrm>
            <a:off x="3506760" y="3247920"/>
            <a:ext cx="1866960" cy="1251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Grid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C4A9E-3F22-4437-AA18-7C54FAD4F3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Digital certific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The goal of authorization and autentication of users and resources is done through digital certificates, in X.509 forma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rtification Authority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(CA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ssue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Digital Certificates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for users and machin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Check the identity and the personal data of the requesto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Registration Authorities (RAs) do the actual valida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CA’s periodically publish a list of compromised certificat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338f"/>
                </a:solidFill>
                <a:latin typeface="Arial"/>
              </a:rPr>
              <a:t>Certificate Revocation Lists</a:t>
            </a:r>
            <a:r>
              <a:rPr b="0" lang="it-IT" sz="1900" spc="-1" strike="noStrike">
                <a:solidFill>
                  <a:srgbClr val="00338f"/>
                </a:solidFill>
                <a:latin typeface="Arial"/>
              </a:rPr>
              <a:t> (CRL): 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ontain all the revoked certificates yet to expir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CA certificates are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elf-signe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For each </a:t>
            </a:r>
            <a:r>
              <a:rPr b="0" lang="it-IT" sz="2000" spc="-1" strike="noStrike" u="sng">
                <a:solidFill>
                  <a:srgbClr val="2b519a"/>
                </a:solidFill>
                <a:uFillTx/>
                <a:latin typeface="Arial"/>
              </a:rPr>
              <a:t>player</a:t>
            </a: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, a CA guarantees its autenticity with a certificat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A9863-1603-47CE-8D74-BA84E6C512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Certificate 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Digital certificates are split in public/private key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Public key is spread along the net, while the private stays encripted on the disk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Default location for public/private keys is </a:t>
            </a:r>
            <a:r>
              <a:rPr b="0" lang="it-IT" sz="2400" spc="-1" strike="noStrike">
                <a:solidFill>
                  <a:srgbClr val="2b519a"/>
                </a:solidFill>
                <a:latin typeface="Courier New"/>
              </a:rPr>
              <a:t>$HOME/.globus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2b519a"/>
                </a:solidFill>
                <a:latin typeface="Verdana"/>
              </a:rPr>
              <a:t>(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attention to file permissions</a:t>
            </a:r>
            <a:r>
              <a:rPr b="1" lang="it-IT" sz="2400" spc="-1" strike="noStrike">
                <a:solidFill>
                  <a:srgbClr val="2b519a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ls -l $HOME/.glob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b519a"/>
                </a:solidFill>
                <a:latin typeface="Courier New"/>
              </a:rPr>
              <a:t>-rw-r--r--    1 local    local    1143 Jun 30 16:01 usercert.pem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b519a"/>
                </a:solidFill>
                <a:latin typeface="Courier New"/>
              </a:rPr>
              <a:t>-r--------    1 local    local    963 Jun 30 16:01 userkey.pem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A57C5-724A-471D-9F03-6AD9B2846D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Verify your certific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To get information on your certificate, run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&gt; </a:t>
            </a:r>
            <a:r>
              <a:rPr b="1" lang="en-US" sz="2000" spc="-1" strike="noStrike">
                <a:solidFill>
                  <a:srgbClr val="d6290c"/>
                </a:solidFill>
                <a:latin typeface="Courier New"/>
              </a:rPr>
              <a:t>openssl x509 -in .globus/usercert.pem –noout -tex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Certificate: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Data: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Version: 3 (0x2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Serial Number: 1783 (0x6f7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Signature Algorithm: md5WithRSAEncryp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Issuer: C=IT, O=GILDA, CN=GILDA Certification Authorit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Validit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Not Before: Jun 30 07:14:13 2005 GM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Not After : Jul 30 07:14:13 2005 GM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Subject: C=IT, O=GILDA, OU=Personal Certificate, L=VICO-EQUENSE, CN=VICO-EQUENSE20/Email=diego.romano@dma.unina.i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.....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6A5FD-4D3B-4A50-99C9-DFDE384E70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X.509 proxy certific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SI extension to X.509 Identity Certificat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igned by the normal end entity cert (or by another proxy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upport some important featur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Delegation and Mutual authentica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Has a limited lifetime (minimized risk of “compromised credentials”)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t is created by the </a:t>
            </a: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grid-proxy-init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command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&gt; </a:t>
            </a:r>
            <a:r>
              <a:rPr b="1" lang="en-US" sz="2000" spc="-1" strike="noStrike">
                <a:solidFill>
                  <a:srgbClr val="bb2c05"/>
                </a:solidFill>
                <a:latin typeface="Courier New"/>
              </a:rPr>
              <a:t>grid-proxy-ini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Your identity: /C=IT/O=GILDA/OU=Personal Certificate/L=VICO-EQUENSE/CN=VICO-EQUENSE20/Email=diego.romano@dma.unina.i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Enter GRID pass phrase for this identity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Creating proxy ................................................................. Don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Your proxy is valid until: Mon Jul 18 07:14:28 2005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89720" y="3048120"/>
            <a:ext cx="2413080" cy="862560"/>
          </a:xfrm>
          <a:prstGeom prst="rect">
            <a:avLst/>
          </a:prstGeom>
          <a:solidFill>
            <a:srgbClr val="f4ce00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Grid Pass Phrase: 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VICO-EQUENSE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7D632-9522-4CE0-B2BC-3441B35DCC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specting your prox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4720" y="974880"/>
            <a:ext cx="843120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By 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grid-proxy-info 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you can inspect info about your prox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&gt;</a:t>
            </a:r>
            <a:r>
              <a:rPr b="1" lang="it-IT" sz="2000" spc="-1" strike="noStrike">
                <a:solidFill>
                  <a:srgbClr val="bb2c05"/>
                </a:solidFill>
                <a:latin typeface="Courier New"/>
              </a:rPr>
              <a:t>grid-proxy-info -all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subject  : /C=IT/O=GILDA/OU=Personal Certificate/L=VICO-EQUENSE/CN=VICO-EQUENSE20/Email=diego.romano@dma.unina.it/CN=proxy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issuer   : /C=IT/O=GILDA/OU=Personal Certificate/L=VICO-EQUENSE/CN=VICO-EQUENSE20/Email=diego.romano@dma.unina.i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identity : /C=IT/O=GILDA/OU=Personal Certificate/L=VICO-EQUENSE/CN=VICO-EQUENSE20/Email=diego.romano@dma.unina.i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type     : full legacy globus proxy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strength : 512 bit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path     : /tmp/x509up_u500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timeleft : 11:57:24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7200" y="6224760"/>
            <a:ext cx="306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BF2FC-5DCE-4811-897E-1053C22BCC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600" y="847800"/>
            <a:ext cx="858996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Installation and Configuration of the User Interface Plug And Play Combine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857160" indent="-39996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338f"/>
                </a:solidFill>
                <a:latin typeface="Arial"/>
              </a:rPr>
              <a:t>Resource Broker, BDII, Default VO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Proxy/Myproxy Managemen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Explore GILDA Testbe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Workload Managemen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-  Job Description Languag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-  Command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-  Examples and Exercises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Data Management (LFC and FireMan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-  Command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-  Examples and Exercis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-GMA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-  Commands and Exercises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126F5-EEDF-48FB-B266-294100E711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Long term prox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45600" y="936720"/>
            <a:ext cx="8450280" cy="56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roxy has limited lifetime (default is 12 h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Bad idea to have longer prox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However, a grid task might need to use a proxy for a much longer time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rid jobs in HEP Data Challenges last up to 2 day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myproxy server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llows to create and store a long term proxy certificate: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77b27"/>
                </a:solidFill>
                <a:latin typeface="Arial"/>
              </a:rPr>
              <a:t>-s &lt;host_name&gt;</a:t>
            </a:r>
            <a:r>
              <a:rPr b="1" lang="en-US" sz="19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pecifies the hostname of MyProxy server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77b27"/>
                </a:solidFill>
                <a:latin typeface="Arial"/>
              </a:rPr>
              <a:t>-l &lt;user&gt; </a:t>
            </a:r>
            <a:r>
              <a:rPr b="0" lang="en-US" sz="1900" spc="-1" strike="noStrike">
                <a:solidFill>
                  <a:srgbClr val="2b519a"/>
                </a:solidFill>
                <a:latin typeface="Arial"/>
              </a:rPr>
              <a:t>define user that will own </a:t>
            </a:r>
            <a:r>
              <a:rPr b="1" lang="en-US" sz="1900" spc="-1" strike="noStrike">
                <a:solidFill>
                  <a:srgbClr val="2b519a"/>
                </a:solidFill>
                <a:latin typeface="Arial"/>
              </a:rPr>
              <a:t>remote</a:t>
            </a:r>
            <a:r>
              <a:rPr b="0" lang="en-US" sz="1900" spc="-1" strike="noStrike">
                <a:solidFill>
                  <a:srgbClr val="2b519a"/>
                </a:solidFill>
                <a:latin typeface="Arial"/>
              </a:rPr>
              <a:t> credential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bb2c05"/>
                </a:solidFill>
                <a:latin typeface="Arial"/>
              </a:rPr>
              <a:t>myproxy-init 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-s &lt;host_name&gt; -l &lt;user&gt;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bb2c05"/>
                </a:solidFill>
                <a:latin typeface="Arial"/>
              </a:rPr>
              <a:t>myproxy-info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 -s &lt;host_name&gt; -l &lt;user&gt;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Get information about stored long living proxy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bb2c05"/>
                </a:solidFill>
                <a:latin typeface="Arial"/>
              </a:rPr>
              <a:t>myproxy-get-delegation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 -s &lt;host_name&gt; -l &lt;user&gt;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Get a new proxy from MyProxy server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bb2c05"/>
                </a:solidFill>
                <a:latin typeface="Arial"/>
              </a:rPr>
              <a:t>myproxy-destroy 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-l &lt;user&gt; -s &lt;host_name&gt;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519a"/>
                </a:solidFill>
                <a:latin typeface="Arial"/>
              </a:rPr>
              <a:t>Destroy the credential into the server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heck out the myproxy-xxx  --help  option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 dedicated service on the RB can renew automatically the proxy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ontacts the myproxy server 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ACF1B-9E07-4C8E-BC77-D29E51C47B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Store credentials on MyProxy Ser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760" y="974880"/>
            <a:ext cx="8767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&gt; </a:t>
            </a:r>
            <a:r>
              <a:rPr b="1" lang="it-IT" sz="2000" spc="-1" strike="noStrike">
                <a:solidFill>
                  <a:srgbClr val="03c323"/>
                </a:solidFill>
                <a:latin typeface="Courier New"/>
              </a:rPr>
              <a:t>grid-proxy-destroy</a:t>
            </a: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bb2c05"/>
                </a:solidFill>
                <a:latin typeface="Courier New"/>
              </a:rPr>
              <a:t>remove local credentials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&gt; </a:t>
            </a:r>
            <a:r>
              <a:rPr b="1" lang="it-IT" sz="2000" spc="-1" strike="noStrike">
                <a:solidFill>
                  <a:srgbClr val="03c323"/>
                </a:solidFill>
                <a:latin typeface="Courier New"/>
              </a:rPr>
              <a:t>myproxy-init -s grid001.ct.infn.it –l &lt;UniqueUsername&gt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Your identity: /C=IT/O=GILDA/OU=Personal Certificate/L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=VICO-EQUENSE/CN=</a:t>
            </a:r>
            <a:r>
              <a:rPr b="1" lang="it-IT" sz="2000" spc="-1" strike="noStrike">
                <a:solidFill>
                  <a:srgbClr val="03c323"/>
                </a:solidFill>
                <a:latin typeface="Courier New"/>
              </a:rPr>
              <a:t>&lt;UniqueUsername&gt;</a:t>
            </a: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/Email=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diego.romano@dma.unina.i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Enter GRID pass phrase for this identity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Creating proxy .......................Don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Proxy Verify OK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Your proxy is valid until: Sun Jul 24 18:53:44 2005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Enter MyProxy pass phrase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Verifying password - Enter MyProxy pass phrase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A proxy valid for 168 hours (7.0 days) for user </a:t>
            </a:r>
            <a:r>
              <a:rPr b="1" lang="it-IT" sz="2000" spc="-1" strike="noStrike">
                <a:solidFill>
                  <a:srgbClr val="03c323"/>
                </a:solidFill>
                <a:latin typeface="Courier New"/>
              </a:rPr>
              <a:t>&lt;UniqueUsername&gt;</a:t>
            </a: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 now exists on grid001.ct.infn.it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Now your credentials are stored on MyProxy server, and are availabl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for delegation or renewal by RB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b3b15"/>
                </a:solidFill>
                <a:latin typeface="Courier New"/>
              </a:rPr>
              <a:t>ATTENTION! &lt;UniqueUsername&gt; MUST BE your PERSONAL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b3b15"/>
                </a:solidFill>
                <a:latin typeface="Courier New"/>
              </a:rPr>
              <a:t>username (no local or titos!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D8F5D-347C-4264-9F03-AAB45B4D51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Get deleg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&gt; </a:t>
            </a:r>
            <a:r>
              <a:rPr b="1" lang="it-IT" sz="1800" spc="-1" strike="noStrike">
                <a:solidFill>
                  <a:srgbClr val="03c323"/>
                </a:solidFill>
                <a:latin typeface="Courier New"/>
              </a:rPr>
              <a:t>myproxy-get-delegation -s grid001.ct.infn.it -l &lt;UniqueUser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Enter MyProxy pass phrase: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A proxy has been received for user </a:t>
            </a:r>
            <a:r>
              <a:rPr b="1" lang="it-IT" sz="1800" spc="-1" strike="noStrike">
                <a:solidFill>
                  <a:srgbClr val="03c323"/>
                </a:solidFill>
                <a:latin typeface="Courier New"/>
              </a:rPr>
              <a:t>&lt;UniqueUser&gt;</a:t>
            </a: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 in /tmp/x509up_u500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&gt; </a:t>
            </a:r>
            <a:r>
              <a:rPr b="1" lang="it-IT" sz="1800" spc="-1" strike="noStrike">
                <a:solidFill>
                  <a:srgbClr val="03c323"/>
                </a:solidFill>
                <a:latin typeface="Courier New"/>
              </a:rPr>
              <a:t>grid-proxy-info -al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subject  : /C=IT/O=GILDA/OU=Personal Certificate/L=VICO-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EQUENSE/CN= </a:t>
            </a:r>
            <a:r>
              <a:rPr b="1" lang="it-IT" sz="1800" spc="-1" strike="noStrike">
                <a:solidFill>
                  <a:srgbClr val="03c323"/>
                </a:solidFill>
                <a:latin typeface="Courier New"/>
              </a:rPr>
              <a:t>&lt;UniqueUser&gt;</a:t>
            </a:r>
            <a:r>
              <a:rPr b="1" lang="it-IT" sz="1800" spc="-1" strike="noStrike" u="sng">
                <a:solidFill>
                  <a:srgbClr val="ac3b8b"/>
                </a:solidFill>
                <a:uFillTx/>
                <a:latin typeface="Courier New"/>
                <a:hlinkClick r:id="rId1"/>
              </a:rPr>
              <a:t>/Email=diego.romano@dma.unina.i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/CN=proxy/CN=proxy/CN=prox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issuer   : /C=IT/O=GILDA/OU=Personal Certificate/L=VICO-EQUENSE/CN= </a:t>
            </a:r>
            <a:r>
              <a:rPr b="1" lang="it-IT" sz="1800" spc="-1" strike="noStrike">
                <a:solidFill>
                  <a:srgbClr val="03c323"/>
                </a:solidFill>
                <a:latin typeface="Courier New"/>
              </a:rPr>
              <a:t>&lt;UniqueUser&gt;</a:t>
            </a:r>
            <a:r>
              <a:rPr b="1" lang="it-IT" sz="1800" spc="-1" strike="noStrike" u="sng">
                <a:solidFill>
                  <a:srgbClr val="ac3b8b"/>
                </a:solidFill>
                <a:uFillTx/>
                <a:latin typeface="Courier New"/>
                <a:hlinkClick r:id="rId2"/>
              </a:rPr>
              <a:t>/Email=diego.romano@dma.unina.i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/CN=proxy/CN=prox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identity : /C=IT/O=GILDA/OU=Personal Certificate/L=VICO-EQUENSE/CN= </a:t>
            </a:r>
            <a:r>
              <a:rPr b="1" lang="it-IT" sz="1800" spc="-1" strike="noStrike">
                <a:solidFill>
                  <a:srgbClr val="03c323"/>
                </a:solidFill>
                <a:latin typeface="Courier New"/>
              </a:rPr>
              <a:t>&lt;UniqueUser&gt;</a:t>
            </a: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/Email=diego.romano@dma.unina.i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type     : full legacy globus prox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strength : 512 bi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path     : /tmp/x509up_u500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timeleft : 11:56:58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7450D-E4E9-4C79-8475-DD914ED8E0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98080" y="3092400"/>
            <a:ext cx="86202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2b519a"/>
                </a:solidFill>
                <a:latin typeface="Arial"/>
              </a:rPr>
              <a:t>Explore the GILDA Testbed</a:t>
            </a:r>
            <a:endParaRPr b="1" lang="en-US" sz="44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6720" y="1120680"/>
            <a:ext cx="1959120" cy="2014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387520" y="5994360"/>
            <a:ext cx="4521240" cy="368280"/>
          </a:xfrm>
          <a:prstGeom prst="rect">
            <a:avLst/>
          </a:prstGeom>
          <a:solidFill>
            <a:srgbClr val="fbb83f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Giuseppe La Rocc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A288B-B902-4C2B-8562-FACE178397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How to discover resou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Once an user is logged into an User Interface and he/she has properly configured his/her grid environment (RB, BDII, File Catalog, MyProxy Server, …), he/she is ready to take advantage of the Grid Power for his/her own application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But what are the resources available to accomplish his/her tasks?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The answer to this question comes through the interactions with the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Information System (IS)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The BDII (or IS) is a component that collects all the dynamic information coming from resources (CEs, SEs, …) that can be accessed and employed by authorized users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FC952-1F1E-4DEC-8DAE-29ECE054AC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D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Only the resources published on it really exist (it means available for users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rovides information to the Resource Broker during the matchmaking process*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eeded by the data management tools (LFC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t is accessed us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DAP (Lightweight Directory Access Protocol)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queri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ll the stored information follow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e Schema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Note(*): A process on the RB queries BDII to retrieve all the </a:t>
            </a: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  resources matching certain job requirements.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3B13-5244-4340-842A-4EBE2FD061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infosi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5960" y="974520"/>
            <a:ext cx="84376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cg-infosites --vo &lt;your_vo&gt; feature –-is &lt;your_bdii&gt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   • </a:t>
            </a: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It’s mandatory to include the </a:t>
            </a:r>
            <a:r>
              <a:rPr b="1" lang="en-US" sz="1800" spc="-1" strike="noStrike">
                <a:solidFill>
                  <a:srgbClr val="cc3300"/>
                </a:solidFill>
                <a:latin typeface="Berlin Sans FB"/>
              </a:rPr>
              <a:t>vo</a:t>
            </a: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 and the </a:t>
            </a:r>
            <a:r>
              <a:rPr b="1" lang="en-US" sz="1800" spc="-1" strike="noStrike">
                <a:solidFill>
                  <a:srgbClr val="cc3300"/>
                </a:solidFill>
                <a:latin typeface="Berlin Sans FB"/>
              </a:rPr>
              <a:t>fea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   • </a:t>
            </a: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--</a:t>
            </a: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Berlin Sans FB"/>
              </a:rPr>
              <a:t>is</a:t>
            </a: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 option specifies the BDII you want to query.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     </a:t>
            </a: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If not supplied, the BDII defined into the environment variable                 </a:t>
            </a:r>
            <a:r>
              <a:rPr b="1" lang="en-US" sz="1800" spc="-1" strike="noStrike">
                <a:solidFill>
                  <a:srgbClr val="006600"/>
                </a:solidFill>
                <a:latin typeface="Berlin Sans FB"/>
              </a:rPr>
              <a:t>LCG_GFAL_INFOSYS</a:t>
            </a: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 will be used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6600"/>
                </a:solidFill>
                <a:uFillTx/>
                <a:latin typeface="바탕"/>
              </a:rPr>
              <a:t>Features and descriptions:</a:t>
            </a: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         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80880" y="3124080"/>
          <a:ext cx="8534520" cy="3327480"/>
        </p:xfrm>
        <a:graphic>
          <a:graphicData uri="http://schemas.openxmlformats.org/drawingml/2006/table">
            <a:tbl>
              <a:tblPr/>
              <a:tblGrid>
                <a:gridCol w="1306800"/>
                <a:gridCol w="7227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loseS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ames of the CEs where the user’s VO is allowed to run together with their corresponding closest SEs</a:t>
                      </a: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 </a:t>
                      </a:r>
                      <a:endParaRPr b="0" lang="en-US" sz="14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umber of CPUs, running and waiting jobs and names of the CEs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Es names together with the available and used space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fc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ame of the lfc Catalog for the user’s VO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t groups all the features just described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lp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rints all the available options and exit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4889C-1463-4496-A98C-389AE5C37D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infosi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90080" y="1000080"/>
            <a:ext cx="858996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To retrieve the status of all the available CEs serving the GILDA VO: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cg-infosites –-vo gilda ce –-is server3.gs.unina.i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1144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These are the related data for gilda: (in terms of queues and CPUs)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#CPU    Free    Total Jobs      Running Waiting ComputingElement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36      36       0              0        0    grid010.ct.infn.it:2119/jobmanager-lcgpbs-long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0       0       0              0        0    ced-ce0.datagrid.cnr.it:2119/jobmanager-lcgpbs-long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36      36       0              0        0    grid010.ct.infn.it:2119/jobmanager-lcgpbs-short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0       0       0              0        0    ced-ce0.datagrid.cnr.it:2119/jobmanager-lcgpbs-short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20      20       0              0        0    gilda-ce-01.pd.infn.it:2119/jobmanager-lcgpbs-long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20      20       0              0        0    gilda-ce-01.pd.infn.it:2119/jobmanager-lcgpbs-short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36      36       0              0        0    grid010.ct.infn.it:2119/jobmanager-lcgpbs-infinite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0       0       0              0        0    ced-ce0.datagrid.cnr.it:2119/jobmanager-lcgpbs-infinite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6       6       0              0        0    grid-ce.bio.dist.unige.it:2119/jobmanager-lcgpbs-long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20      20       1              1        0    gilda-ce-01.pd.infn.it:2119/jobmanager-lcgpbs-infinite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6       6       0              0        0    grid-ce.bio.dist.unige.it:2119/jobmanager-lcgpbs-short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44      39       1              0        1    skurut1.cesnet.cz:2119/jobmanager-lcgpbs-gilda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6       6       0              0        0    grid-ce.bio.dist.unige.it:2119/jobmanager-lcgpbs-infinite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549A-0C59-42ED-BADF-AD7B98AFC7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infosites (I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Information on SEs available for the GILDA VO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cg-infosites –-vo gilda se –-is server3.gs.unina.i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</a:t>
            </a: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hese are the related data for gilda: (in terms of SE)</a:t>
            </a: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</a:t>
            </a: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vail Space(Kb) Used Space(Kb)  Type    SEs</a:t>
            </a: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</a:t>
            </a: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208464576       78813032        disk    grid009.ct.infn.it</a:t>
            </a: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14762864        3278524         disk    ced-se0.datagrid.cnr.it</a:t>
            </a: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70479800        3666968         disk    gilda-se-01.pd.infn.it</a:t>
            </a: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388044168       419624          disk    grid-se.bio.dist.unige.it</a:t>
            </a: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14425144        3263156         disk    grid004.grid.elettra.trieste.it</a:t>
            </a: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59F68-6FDC-445E-8DF9-D9E72257793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82240" y="2104920"/>
            <a:ext cx="858996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E: grid010.ct.infn.it:2119/jobmanager-lcgpbs-long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lose SE:   grid009.ct.infn.i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E: ced-ce0.datagrid.cnr.it:2119/jobmanager-lcgpbs-long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lose SE:   ced-se0.datagrid.cnr.i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E: grid010.ct.infn.it:2119/jobmanager-lcgpbs-shor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lose SE:   grid009.ct.infn.i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E: ced-ce0.datagrid.cnr.it:2119/jobmanager-lcgpbs-shor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lose SE:   ced-se0.datagrid.cnr.i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E: gilda-ce-01.pd.infn.it:2119/jobmanager-lcgpbs-long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lose SE:   gilda-se-01.pd.infn.i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E: gilda-ce-01.pd.infn.it:2119/jobmanager-lcgpbs-shor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lose SE:   gilda-se-01.pd.infn.i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infosites (II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3040" y="825480"/>
            <a:ext cx="821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0120" y="838080"/>
            <a:ext cx="88138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Berlin Sans FB"/>
              </a:rPr>
              <a:t>The names of the CEs where the user's VO is allowed to run together with their corresponding closest SEs are provided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cg-infosites –-vo gilda closeSE –-is server3.gs.unina.i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CFFE4-EB6F-4207-B0E1-3820C61724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45600" y="974880"/>
            <a:ext cx="8589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b519a"/>
                </a:solidFill>
                <a:latin typeface="Arial"/>
              </a:rPr>
              <a:t>Installation and Configuration of the 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b519a"/>
                </a:solidFill>
                <a:latin typeface="Arial"/>
              </a:rPr>
              <a:t>User Interface 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b519a"/>
                </a:solidFill>
                <a:latin typeface="Arial"/>
              </a:rPr>
              <a:t>Plug And Play Combined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02000" y="3195720"/>
            <a:ext cx="1968480" cy="20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84480" y="5842080"/>
            <a:ext cx="4521240" cy="368280"/>
          </a:xfrm>
          <a:prstGeom prst="rect">
            <a:avLst/>
          </a:prstGeom>
          <a:solidFill>
            <a:srgbClr val="96baee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c3b8b"/>
                </a:solidFill>
                <a:latin typeface="Arial"/>
              </a:rPr>
              <a:t>Valeria Ardizzon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6C98C-0A4D-4969-A212-AD264595E1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infosites te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Berlin Sans FB"/>
              </a:rPr>
              <a:t>Test some lcg-infosites features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ourier New"/>
              </a:rPr>
              <a:t>%lcg-infosites –-vo gilda c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ourier New"/>
              </a:rPr>
              <a:t>%lcg-infosites –-vo gilda s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ourier New"/>
              </a:rPr>
              <a:t>%lcg-infosites –-vo gilda lfc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ourier New"/>
              </a:rPr>
              <a:t>%lcg-infosites –-vo gilda al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BDE2D-8EE2-400E-96B5-CFF90DE84F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info intr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s program allows the user to query, in a deeper way, the BDII. It requires the environmental variable </a:t>
            </a:r>
            <a:r>
              <a:rPr b="1" lang="en-US" sz="2400" spc="-1" strike="noStrike">
                <a:solidFill>
                  <a:srgbClr val="be1908"/>
                </a:solidFill>
                <a:latin typeface="Arial"/>
              </a:rPr>
              <a:t>LCG_GFAL_INFOSYS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to be set to the value of the BDII to be queried, e.g. </a:t>
            </a:r>
            <a:r>
              <a:rPr b="1" lang="en-US" sz="2400" spc="-1" strike="noStrike">
                <a:solidFill>
                  <a:srgbClr val="ac3b8b"/>
                </a:solidFill>
                <a:latin typeface="Arial"/>
              </a:rPr>
              <a:t>server3.gs.unina.i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rints the list of the CEs or SEs satisfying a given </a:t>
            </a:r>
            <a:r>
              <a:rPr b="1" lang="en-US" sz="2400" spc="-1" strike="noStrike">
                <a:solidFill>
                  <a:srgbClr val="fb3b15"/>
                </a:solidFill>
                <a:latin typeface="Arial"/>
              </a:rPr>
              <a:t>query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along with a list of specified attributes.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 query syntax is like thi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ttr1 op1 valueN, ... attrN opN value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338f"/>
                </a:solidFill>
                <a:latin typeface="Arial"/>
              </a:rPr>
              <a:t>attrN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is an attribute nam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p is =, &gt;= or &lt;=, and the cuts are ANDed.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 combination of attribute is supported.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he cuts are comma-separated and spaces are not allowed.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29CCC-45FA-429E-9B05-87524B91B78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info op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5520" y="974520"/>
            <a:ext cx="87804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-list-attrs    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Prints a list of attributes that can be queried.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-list-ce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 Lists the CEs which satisfy a query, or all the CEs if no query is given.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-list-se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 Lists the SEs which satisfy a query, or all the SEs if no query is given.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-query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  Restricts the output to the CEs (SEs) which satisfy the given query.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-bdii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     Allows to specify a BDII in the form &lt;hostname&gt;:&lt;port&gt;. If not given,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    the value of the environmental variable LCG_GFAL_INFOSYS is used. 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    If that is not defined, the command returns an error.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-sed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     Print the output in a "sed-friendly" format.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-attrs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   Specifies the attributes whose values should be printed.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-vo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       Restricts the output to CEs or SEs where the given VO is authorized.  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    Mandatory when VO-dependent attributes are queried upon.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1F1ED-FEC8-421A-BBF1-1FA4EF4360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info examples (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5600" y="1530000"/>
            <a:ext cx="85899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ttribute name  Glue object class     Glue attribute nam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xTi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GlueCE                GlueCEPolicyMaxWallClockTim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Statu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GlueCE                GlueCEStateStatus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otalJob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GlueCE                GlueCEStateTotalJobs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VO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GlueCE                GlueCEAccessControlBaseRul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otalCPU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GlueCE                GlueCEInfoTotalCPUs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reeCPU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GlueCE                GlueCEStateFreeCPUs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GlueCE                GlueCEUniqueID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aitingJob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GlueCE                GlueCEStateWaitingJobs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unningJob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GlueCE                GlueCEStateRunningJobs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GlueCESEBindGroup     GlueCESEBindGroupCEUniqueID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GlueCESEBindGroup     GlueCESEBindGroupSEUniqueID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VO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GlueSA                GlueSAAccessControlBaseRul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edSpa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GlueSA                GlueSAStateUsedSpac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vailableSpa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GlueSA                GlueSAStateAvailableSpac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GlueSE                GlueSETyp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GlueSE                GlueSEUniqueID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toco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GlueSEAccessProtocol  GlueSEAccessProtocolTyp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chTy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GlueSL                GlueSLArchitectureTyp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sso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GlueSubCluster        GlueHostProcessorModel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GlueSubCluster        GlueHostOperatingSystemNam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us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GlueSubCluster        GlueSubClusterUniqueID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b3b15"/>
                </a:solidFill>
                <a:latin typeface="Courier New"/>
              </a:rPr>
              <a:t>Tag             GlueSubCluster        GlueHostApplicationSoftwareRunTimeEnvironment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GlueSubCluster        GlueHostMainMemoryRAMSiz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SVers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GlueSubCluster        GlueHostOperatingSystemReleas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6840" y="971640"/>
            <a:ext cx="85215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o get the list of all the “queryable” attributes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cg-info --list-attr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59421-4F51-4A9A-872E-A5E22F87EB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info examples (I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5600" y="2139480"/>
            <a:ext cx="421812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b519a"/>
                </a:solidFill>
                <a:latin typeface="Arial"/>
              </a:rPr>
              <a:t>  </a:t>
            </a:r>
            <a:endParaRPr b="1" lang="en-US" sz="1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49240" y="2477880"/>
            <a:ext cx="421956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DEMTOOLS-1.0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CMKIN-VALID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CMKIN-1.1.0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CMSIM-VALID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CSOUND-4.13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MPICH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VIRGO-1.0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CMS-OSCAR-2.4.5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LHCb_dbase_common-v3r1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GEANT4-6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VLC-0.7.2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EGEODE-1.0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RASTER3D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SCILAB-2.6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G95-3.5.0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MAGIC-6.19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CODESA3D-1.0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5520" y="974880"/>
            <a:ext cx="8426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To find out which kind of software is supported for your jobs by the 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CEs :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cg-info --list-ce --attrs Tag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3040" y="1795320"/>
            <a:ext cx="4826160" cy="51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CE:  grid010.ct.infn.it:2119/jobmanager-lcgpbs-infinite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- Tag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LCG-2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LCG-2_1_0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LCG-2_1_1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LCG-2_2_0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LCG-2_3_0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LCG-2_3_1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LCG-2_4_0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R-GMA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AFS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CMS-1.1.0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ATLAS-6.0.4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GATE-1.0.0-3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LHCb-1.1.1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IDL-5.4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CMSIM-125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ALICE-4.01.00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ALIEN-1.32.14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POVRAY-3.5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BF00E-8B2D-42B4-AC91-FE11E8F01BF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info examples (II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To get the list of all the CEs which satisfy the following attributes…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lcg-info --list-ce –-attrs ‘FreeCPUs,TotalJobs,CloseSE’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E: grid010.ct.infn.it:2119/jobmanager-lcgpbs-long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FreeCPUs          36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loseSE             grid009.ct.infn.it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TotalJobs           0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E: ced-ce0.datagrid.cnr.it:2119/jobmanager-lcgpbs-long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FreeCPUs          6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loseSE             ced-se0.datagrid.cnr.it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TotalJobs           0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E: grid010.ct.infn.it:2119/jobmanager-lcgpbs-short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FreeCPUs          36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loseSE             grid009.ct.infn.it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TotalJobs           0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E: ced-ce0.datagrid.cnr.it:2119/jobmanager-lcgpbs-short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FreeCPUs          6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loseSE             ced-se0.datagrid.cnr.it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TotalJobs           0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56CE8-A5CA-4840-8BB6-CB2B8308A28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To get the list of all the CEs which satisfy the following query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lcg-info --list-ce –-attrs FreeCPUs --query 'FreeCPUs &gt;= 30'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E: grid010.ct.infn.it:2119/jobmanager-lcgpbs-long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FreeCPUs            36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E: grid010.ct.infn.it:2119/jobmanager-lcgpbs-short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FreeCPUs            36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E: grid010.ct.infn.it:2119/jobmanager-lcgpbs-infinite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FreeCPUs            36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E: skurut1.cesnet.cz:2119/jobmanager-lcgpbs-long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FreeCPUs            40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E: skurut1.cesnet.cz:2119/jobmanager-lcgpbs-gilda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FreeCPUs            40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E: skurut1.cesnet.cz:2119/jobmanager-lcgpbs-short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FreeCPUs            40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E: skurut1.cesnet.cz:2119/jobmanager-lcgpbs-infinite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FreeCPUs            40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info examples (IV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61052-10D5-412A-A54D-ACA4FA3F9BB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-360" y="3489480"/>
            <a:ext cx="8620200" cy="9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2b519a"/>
                </a:solidFill>
                <a:latin typeface="Arial"/>
              </a:rPr>
              <a:t>Workload Management System</a:t>
            </a:r>
            <a:endParaRPr b="1" lang="en-US" sz="4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71600" y="1165320"/>
            <a:ext cx="2697120" cy="2274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079960" y="6058080"/>
            <a:ext cx="3797280" cy="368280"/>
          </a:xfrm>
          <a:prstGeom prst="rect">
            <a:avLst/>
          </a:prstGeom>
          <a:solidFill>
            <a:srgbClr val="2b519a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Emidio Giorgio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1200" y="6058080"/>
            <a:ext cx="3784680" cy="368280"/>
          </a:xfrm>
          <a:prstGeom prst="rect">
            <a:avLst/>
          </a:prstGeom>
          <a:solidFill>
            <a:srgbClr val="2b519a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Valeria Ardizzon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4E0D6-B6D8-49E4-A8CE-D222F2054CA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Workload Managements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The user interacts with Grid via a </a:t>
            </a:r>
            <a:r>
              <a:rPr b="0" lang="en-GB" sz="2400" spc="-1" strike="noStrike">
                <a:solidFill>
                  <a:srgbClr val="99b816"/>
                </a:solidFill>
                <a:latin typeface="Arial"/>
              </a:rPr>
              <a:t>Workload Management System (WMS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The Goal of WMS is the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istributed scheduling and resource management in a Grid environment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What does it allow Grid users to do?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To submit their job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To execute them on the “best resources”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cc3300"/>
                </a:solidFill>
                <a:latin typeface="Arial"/>
              </a:rPr>
              <a:t>The WMS tries to optimize the usage of resourc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To get information about their statu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To retrieve their outpu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35D07-42C3-42AF-BF3E-4349225CF0D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JD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74320" y="949320"/>
            <a:ext cx="858996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Information to be specified when a job has to be submitted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Job characteristic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Job requirements and preferences on the computing resourc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Also including software dependenci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Job data requirement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Information specified using a Job Description Language (JDL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Based upon Condor’s </a:t>
            </a:r>
            <a:r>
              <a:rPr b="0" i="1" lang="en-GB" sz="1900" spc="-1" strike="noStrike">
                <a:solidFill>
                  <a:srgbClr val="00338f"/>
                </a:solidFill>
                <a:latin typeface="Arial"/>
              </a:rPr>
              <a:t>CLASSified ADvertisement language (ClassAd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Fully extensible languag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A ClassAd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338f"/>
                </a:solidFill>
                <a:latin typeface="Arial"/>
              </a:rPr>
              <a:t>Constructed with the classad construction operator []</a:t>
            </a: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338f"/>
                </a:solidFill>
                <a:latin typeface="Arial"/>
              </a:rPr>
              <a:t>It is a sequence of attributes separated by semi-colon (;).</a:t>
            </a: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o, the JDL allows definition of a set of attribute, the WMS takes into account when making its scheduling decisio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E5427-EEB4-4163-A10C-95DAB19D40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Local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30160" y="1825200"/>
            <a:ext cx="6291000" cy="2368440"/>
          </a:xfrm>
          <a:prstGeom prst="rect">
            <a:avLst/>
          </a:prstGeom>
          <a:solidFill>
            <a:srgbClr val="f4ce00"/>
          </a:solidFill>
          <a:ln w="9360">
            <a:solidFill>
              <a:srgbClr val="2b519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b519a"/>
                </a:solidFill>
                <a:latin typeface="Arial"/>
              </a:rPr>
              <a:t>Host: ws-XX </a:t>
            </a: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b519a"/>
                </a:solidFill>
                <a:latin typeface="Arial"/>
              </a:rPr>
              <a:t>Username: local or titos</a:t>
            </a: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b519a"/>
                </a:solidFill>
                <a:latin typeface="Arial"/>
              </a:rPr>
              <a:t>Password: vico</a:t>
            </a: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b519a"/>
                </a:solidFill>
                <a:latin typeface="Arial"/>
              </a:rPr>
              <a:t>GridPassPhrase: VICO-EQUENSE</a:t>
            </a:r>
            <a:r>
              <a:rPr b="1" lang="it-IT" sz="2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43570-D304-40C8-9363-D2C2102D58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Job Prepa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n attribute is a pair (key, value), where value can be a Boolean, an Integer, a list of strings, ...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&lt;attribute&gt; = &lt;value&gt;;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In case of literal string for values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if a string itself contains double quotes, they must be escaped with a backslash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1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8f"/>
                </a:solidFill>
                <a:latin typeface="Courier New"/>
              </a:rPr>
              <a:t>Arguments = </a:t>
            </a:r>
            <a:r>
              <a:rPr b="1" lang="en-US" sz="1700" spc="-1" strike="noStrike">
                <a:solidFill>
                  <a:srgbClr val="2b519a"/>
                </a:solidFill>
                <a:latin typeface="Courier New"/>
              </a:rPr>
              <a:t>" </a:t>
            </a:r>
            <a:r>
              <a:rPr b="1" lang="en-GB" sz="1700" spc="-1" strike="noStrike">
                <a:solidFill>
                  <a:srgbClr val="00338f"/>
                </a:solidFill>
                <a:latin typeface="Courier New"/>
              </a:rPr>
              <a:t>\</a:t>
            </a:r>
            <a:r>
              <a:rPr b="1" lang="en-US" sz="1700" spc="-1" strike="noStrike">
                <a:solidFill>
                  <a:srgbClr val="2b519a"/>
                </a:solidFill>
                <a:latin typeface="Courier New"/>
              </a:rPr>
              <a:t>"</a:t>
            </a:r>
            <a:r>
              <a:rPr b="1" lang="en-GB" sz="1700" spc="-1" strike="noStrike">
                <a:solidFill>
                  <a:srgbClr val="00338f"/>
                </a:solidFill>
                <a:latin typeface="Courier New"/>
              </a:rPr>
              <a:t>Hello\</a:t>
            </a:r>
            <a:r>
              <a:rPr b="1" lang="en-US" sz="1700" spc="-1" strike="noStrike">
                <a:solidFill>
                  <a:srgbClr val="2b519a"/>
                </a:solidFill>
                <a:latin typeface="Courier New"/>
              </a:rPr>
              <a:t>"</a:t>
            </a:r>
            <a:r>
              <a:rPr b="1" lang="en-GB" sz="1700" spc="-1" strike="noStrike">
                <a:solidFill>
                  <a:srgbClr val="00338f"/>
                </a:solidFill>
                <a:latin typeface="Courier New"/>
              </a:rPr>
              <a:t> 10</a:t>
            </a:r>
            <a:r>
              <a:rPr b="1" lang="en-US" sz="1700" spc="-1" strike="noStrike">
                <a:solidFill>
                  <a:srgbClr val="2b519a"/>
                </a:solidFill>
                <a:latin typeface="Courier New"/>
              </a:rPr>
              <a:t>"</a:t>
            </a:r>
            <a:r>
              <a:rPr b="0" lang="en-GB" sz="1700" spc="-1" strike="noStrike">
                <a:solidFill>
                  <a:srgbClr val="00338f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the character “'” cannot be specified in the JD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special characters such as &amp;, |, &gt;, &lt; are only allowed 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if specified inside a quoted string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if preceded by triple \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lnSpc>
                <a:spcPct val="91000"/>
              </a:lnSpc>
              <a:spcBef>
                <a:spcPts val="451"/>
              </a:spcBef>
              <a:buClr>
                <a:srgbClr val="f1af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8f"/>
                </a:solidFill>
                <a:latin typeface="Courier New"/>
              </a:rPr>
              <a:t>Arguments = </a:t>
            </a:r>
            <a:r>
              <a:rPr b="1" i="1" lang="en-US" sz="1600" spc="-1" strike="noStrike">
                <a:solidFill>
                  <a:srgbClr val="2b519a"/>
                </a:solidFill>
                <a:latin typeface="Courier New"/>
              </a:rPr>
              <a:t>"</a:t>
            </a:r>
            <a:r>
              <a:rPr b="1" i="1" lang="en-GB" sz="1800" spc="-1" strike="noStrike">
                <a:solidFill>
                  <a:srgbClr val="00338f"/>
                </a:solidFill>
                <a:latin typeface="Courier New"/>
              </a:rPr>
              <a:t>-f file1\\\&amp;file2</a:t>
            </a:r>
            <a:r>
              <a:rPr b="1" i="1" lang="en-US" sz="1600" spc="-1" strike="noStrike">
                <a:solidFill>
                  <a:srgbClr val="2b519a"/>
                </a:solidFill>
                <a:latin typeface="Courier New"/>
              </a:rPr>
              <a:t>"</a:t>
            </a:r>
            <a:r>
              <a:rPr b="0" i="1" lang="en-GB" sz="1800" spc="-1" strike="noStrike">
                <a:solidFill>
                  <a:srgbClr val="00338f"/>
                </a:solidFill>
                <a:latin typeface="Courier New"/>
              </a:rPr>
              <a:t>;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Comments must be preceded by a sharp character (#) or have to follow the C++ syntax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The JDL is sensitive to blank characters and tab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they should not follow the semicolon (;) at the end of a lin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AB1F0-116C-4955-B3D8-CEABB4D941D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Job Description Langu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The supported attributes are grouped in two categorie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00"/>
                </a:solidFill>
                <a:uFillTx/>
                <a:latin typeface="Arial"/>
              </a:rPr>
              <a:t>Job Attributes</a:t>
            </a:r>
            <a:r>
              <a:rPr b="0" lang="en-GB" sz="21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Define the job itself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00"/>
                </a:solidFill>
                <a:uFillTx/>
                <a:latin typeface="Arial"/>
              </a:rPr>
              <a:t>Resour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Taken into account by the RB for carrying out the matchmaking algorithm (to choose the “best” resource where to submit the job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338f"/>
                </a:solidFill>
                <a:latin typeface="Arial"/>
              </a:rPr>
              <a:t>Computing Resourc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338f"/>
                </a:solidFill>
                <a:latin typeface="Arial"/>
              </a:rPr>
              <a:t>Used to build expressions of Requirements and/or Rank attributes by the user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338f"/>
                </a:solidFill>
                <a:latin typeface="Arial"/>
              </a:rPr>
              <a:t>Have to be prefixed with “</a:t>
            </a:r>
            <a:r>
              <a:rPr b="0" i="1" lang="en-GB" sz="1800" spc="-1" strike="noStrike">
                <a:solidFill>
                  <a:srgbClr val="0033cc"/>
                </a:solidFill>
                <a:latin typeface="Arial"/>
              </a:rPr>
              <a:t>other.</a:t>
            </a:r>
            <a:r>
              <a:rPr b="0" i="1" lang="en-GB" sz="1800" spc="-1" strike="noStrike">
                <a:solidFill>
                  <a:srgbClr val="00338f"/>
                </a:solidFill>
                <a:latin typeface="Arial"/>
              </a:rPr>
              <a:t>”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338f"/>
                </a:solidFill>
                <a:latin typeface="Arial"/>
              </a:rPr>
              <a:t>Data and Storage resources (see talk Job Services With Data Requirements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338f"/>
                </a:solidFill>
                <a:latin typeface="Arial"/>
              </a:rPr>
              <a:t>Input data to process, SE where to store output data, protocols spoken by application when accessing SEs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EDF5E-F090-453A-ADAB-A928135C72C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JDL – Relevant Attribu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4640" y="878040"/>
            <a:ext cx="8485200" cy="53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JobType</a:t>
            </a: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simple, sequential job)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teracti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PI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heckpoint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combination of them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Execut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mandatory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mmand nam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Argume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optional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b command line argumen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StdInput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StdOutput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StdErro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optional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ndard input/output/error of the jo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InputSandbo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optional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of files on the UI local disk needed by the job for runnin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isted files will automatically staged to the remote resour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OutputSandbo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optional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of files, generated by the job, which have to be retriev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VirtualOrganis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optional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ifferent way to specify the VO of the us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F2A78-A209-459E-9EDF-2606A783734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Job Submi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934320" y="1600200"/>
            <a:ext cx="2016000" cy="2206440"/>
            <a:chOff x="6934320" y="1600200"/>
            <a:chExt cx="2016000" cy="220644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934320" y="1600200"/>
              <a:ext cx="2016000" cy="22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7000560" y="3641760"/>
              <a:ext cx="1746360" cy="164880"/>
            </a:xfrm>
            <a:prstGeom prst="roundRect">
              <a:avLst>
                <a:gd name="adj" fmla="val 958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16000" y="2862360"/>
            <a:ext cx="66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5faf"/>
                </a:solidFill>
                <a:latin typeface="Arial"/>
              </a:rPr>
              <a:t>Usage: </a:t>
            </a:r>
            <a:r>
              <a:rPr b="1" lang="en-US" sz="2000" spc="-1" strike="noStrike">
                <a:solidFill>
                  <a:srgbClr val="d6290c"/>
                </a:solidFill>
                <a:latin typeface="Arial"/>
              </a:rPr>
              <a:t>glite-job-submit</a:t>
            </a:r>
            <a:r>
              <a:rPr b="1" lang="en-US" sz="20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d2a500"/>
                </a:solidFill>
                <a:latin typeface="Arial"/>
              </a:rPr>
              <a:t>[options]</a:t>
            </a:r>
            <a:r>
              <a:rPr b="1" lang="en-US" sz="20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d6290c"/>
                </a:solidFill>
                <a:latin typeface="Arial"/>
              </a:rPr>
              <a:t>&lt;jdl file</a:t>
            </a:r>
            <a:r>
              <a:rPr b="0" lang="en-US" sz="1800" spc="-1" strike="noStrike">
                <a:solidFill>
                  <a:srgbClr val="d6290c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8520" y="1163520"/>
            <a:ext cx="613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3960" y="1163520"/>
            <a:ext cx="542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7720" y="1109520"/>
            <a:ext cx="59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325faf"/>
                </a:solidFill>
                <a:latin typeface="Arial"/>
              </a:rPr>
              <a:t>glite-job-submit</a:t>
            </a:r>
            <a:r>
              <a:rPr b="0" lang="it-IT" sz="2400" spc="-1" strike="noStrike">
                <a:solidFill>
                  <a:srgbClr val="325faf"/>
                </a:solidFill>
                <a:latin typeface="Arial"/>
              </a:rPr>
              <a:t> performs the job submission to the WMS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5720" y="3959280"/>
            <a:ext cx="424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7760" y="3706920"/>
            <a:ext cx="8022960" cy="28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25faf"/>
                </a:solidFill>
                <a:uFillTx/>
                <a:latin typeface="Arial"/>
              </a:rPr>
              <a:t>Principal Options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 :  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--vo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  &lt;vo name&gt; : perform submission with a different VO than the UI default one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--output, -o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  &lt;output file&gt; save jobId on a file, instead of STDIN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--resource, -r   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&lt;resource value&gt;, specify the resource for execution (needs the GLUE UniqueId of the queue, obtainable with </a:t>
            </a: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list-match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--debug 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show function calls and parameters 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E3A87-C7A5-497C-AED4-FA0E795DE74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Job life cycle che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290c"/>
                </a:solidFill>
                <a:latin typeface="Arial"/>
              </a:rPr>
              <a:t>glite-job-status</a:t>
            </a: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d6290c"/>
                </a:solidFill>
                <a:latin typeface="Arial"/>
              </a:rPr>
              <a:t>&lt;job id</a:t>
            </a:r>
            <a:r>
              <a:rPr b="0" lang="en-US" sz="2400" spc="-1" strike="noStrike">
                <a:solidFill>
                  <a:srgbClr val="d6290c"/>
                </a:solidFill>
                <a:latin typeface="Arial"/>
              </a:rPr>
              <a:t>&gt;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290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check job execution status</a:t>
            </a:r>
            <a:r>
              <a:rPr b="0" lang="en-US" sz="2400" spc="-1" strike="noStrike">
                <a:solidFill>
                  <a:srgbClr val="d6290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290c"/>
                </a:solidFill>
                <a:latin typeface="Arial"/>
              </a:rPr>
              <a:t>glite-job-output</a:t>
            </a: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d6290c"/>
                </a:solidFill>
                <a:latin typeface="Arial"/>
              </a:rPr>
              <a:t>&lt;job id</a:t>
            </a:r>
            <a:r>
              <a:rPr b="0" lang="en-US" sz="2400" spc="-1" strike="noStrike">
                <a:solidFill>
                  <a:srgbClr val="d6290c"/>
                </a:solidFill>
                <a:latin typeface="Arial"/>
              </a:rPr>
              <a:t>&gt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290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If job status is done, allows output retriev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290c"/>
                </a:solidFill>
                <a:latin typeface="Arial"/>
              </a:rPr>
              <a:t>glite-job-cancel</a:t>
            </a: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d6290c"/>
                </a:solidFill>
                <a:latin typeface="Arial"/>
              </a:rPr>
              <a:t>&lt;job id</a:t>
            </a:r>
            <a:r>
              <a:rPr b="0" lang="en-US" sz="2400" spc="-1" strike="noStrike">
                <a:solidFill>
                  <a:srgbClr val="d6290c"/>
                </a:solidFill>
                <a:latin typeface="Arial"/>
              </a:rPr>
              <a:t>&gt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290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6290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perform job dele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All of these commands accepts (with the option 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–i &lt;file&gt;</a:t>
            </a: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) input from a file. 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ourier New"/>
              </a:rPr>
              <a:t>glite-job-status  -i myjobI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0C31A-A885-4727-B37D-5A016CDA236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JDL --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58560" y="1380960"/>
            <a:ext cx="8589960" cy="451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Type = "Job"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JobType = "Normal"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Executable = "/bin/bash"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StdOutput = “std.out"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StdError = “std.err"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InputSandbox = {“yourscript.sh"}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OutputSandbox = {“std.err",“std.out"}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Arguments = "yourscript.sh"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B0A62-5191-4162-BD64-65993008618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9640" y="2612880"/>
            <a:ext cx="8589960" cy="3841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Simple job submission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338f"/>
                </a:solidFill>
                <a:latin typeface="Courier New"/>
              </a:rPr>
              <a:t>cp hostname.jdl exercise1.jdl</a:t>
            </a:r>
            <a:endParaRPr b="0" lang="en-US" sz="2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338f"/>
                </a:solidFill>
                <a:latin typeface="Arial"/>
              </a:rPr>
              <a:t>Modify exercise1.jdl file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338f"/>
                </a:solidFill>
                <a:latin typeface="Arial"/>
              </a:rPr>
              <a:t>Instead of running </a:t>
            </a:r>
            <a:r>
              <a:rPr b="1" lang="it-IT" sz="1900" spc="-1" strike="noStrike" u="sng">
                <a:solidFill>
                  <a:srgbClr val="00338f"/>
                </a:solidFill>
                <a:uFillTx/>
                <a:latin typeface="Arial"/>
              </a:rPr>
              <a:t>hostname</a:t>
            </a:r>
            <a:r>
              <a:rPr b="1" lang="it-IT" sz="1900" spc="-1" strike="noStrike">
                <a:solidFill>
                  <a:srgbClr val="00338f"/>
                </a:solidFill>
                <a:latin typeface="Arial"/>
              </a:rPr>
              <a:t> command, run a bash script you have just created (yourscript.sh).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338f"/>
                </a:solidFill>
                <a:latin typeface="Arial"/>
              </a:rPr>
              <a:t>Submit the job, check its status and when done retrieve the outpu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1200" y="977760"/>
            <a:ext cx="8674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&gt;cd UIPnPcomb/example_JDL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Create a bash script which displays hostname and current date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Save the script as yourscript.sh 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8B174-CA43-431E-83D6-1E2226E6DD5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Job Requir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Requirement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Job requirements on the resources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Specified using GLUE attributes of resources published in the Information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Its value is a boolean express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8f"/>
                </a:solidFill>
                <a:latin typeface="Arial"/>
              </a:rPr>
              <a:t>Only one requirements can be specified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if there are more than one, only the last one is taken into accoun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If you need several Requirements, combine them through logical operators (&amp;&amp;, ||, !, .....).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If not specified, default value defined in UI configuration file is considered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Default: </a:t>
            </a:r>
            <a:r>
              <a:rPr b="0" i="1" lang="en-GB" sz="1900" spc="-1" strike="noStrike">
                <a:solidFill>
                  <a:srgbClr val="ff0000"/>
                </a:solidFill>
                <a:latin typeface="Arial"/>
              </a:rPr>
              <a:t>other.GlueCEStateStatus == "Production"</a:t>
            </a: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 (the resource has to be able to accept jobs and dispatch them on WNs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2EF4E-4AF7-4C54-95C6-6DEB69CDFA2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JDL – Requiremen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#</a:t>
            </a:r>
            <a:r>
              <a:rPr b="1" lang="it-IT" sz="2000" spc="-1" strike="noStrike">
                <a:solidFill>
                  <a:srgbClr val="904490"/>
                </a:solidFill>
                <a:latin typeface="Courier New"/>
              </a:rPr>
              <a:t>Insert a requirement to parse only the short queues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Requirements = (other.GlueCEPolicyMaxWallClockTime &gt; 720)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#</a:t>
            </a:r>
            <a:r>
              <a:rPr b="1" lang="it-IT" sz="2000" spc="-1" strike="noStrike">
                <a:solidFill>
                  <a:srgbClr val="904490"/>
                </a:solidFill>
                <a:latin typeface="Courier New"/>
              </a:rPr>
              <a:t>Insert a requirement to parse only the long queues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Requirements = (other.GlueCEPolicyMaxWallClockTime &gt; 1440)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#</a:t>
            </a:r>
            <a:r>
              <a:rPr b="1" lang="it-IT" sz="2000" spc="-1" strike="noStrike">
                <a:solidFill>
                  <a:srgbClr val="904490"/>
                </a:solidFill>
                <a:latin typeface="Courier New"/>
              </a:rPr>
              <a:t>Insert a requirement to parse only the infinite queues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Requirements = (other.GlueCEPolicyMaxWallClockTime &gt; 2880)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#</a:t>
            </a:r>
            <a:r>
              <a:rPr b="1" lang="it-IT" sz="2000" spc="-1" strike="noStrike">
                <a:solidFill>
                  <a:srgbClr val="904490"/>
                </a:solidFill>
                <a:latin typeface="Courier New"/>
              </a:rPr>
              <a:t>Insert a requirement to stear the execution on a particular CE Queue</a:t>
            </a: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Requirements = other.GlueCEUniqueID == "grid010.ct.infn.it:2119/jobmanager-lcgpbs-long"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587D0-7EFA-46C4-9326-19C0956D2BA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Job Submi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934320" y="1600200"/>
            <a:ext cx="2016000" cy="2206440"/>
            <a:chOff x="6934320" y="1600200"/>
            <a:chExt cx="2016000" cy="2206440"/>
          </a:xfrm>
        </p:grpSpPr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6934320" y="1600200"/>
              <a:ext cx="2016000" cy="22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7000560" y="3641760"/>
              <a:ext cx="1746360" cy="164880"/>
            </a:xfrm>
            <a:prstGeom prst="roundRect">
              <a:avLst>
                <a:gd name="adj" fmla="val 958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16000" y="3127320"/>
            <a:ext cx="66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5faf"/>
                </a:solidFill>
                <a:latin typeface="Arial"/>
              </a:rPr>
              <a:t>Usage: </a:t>
            </a:r>
            <a:r>
              <a:rPr b="1" lang="en-US" sz="2000" spc="-1" strike="noStrike">
                <a:solidFill>
                  <a:srgbClr val="d6290c"/>
                </a:solidFill>
                <a:latin typeface="Arial"/>
              </a:rPr>
              <a:t>glite-job-list-match</a:t>
            </a:r>
            <a:r>
              <a:rPr b="1" lang="en-US" sz="20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d2a500"/>
                </a:solidFill>
                <a:latin typeface="Arial"/>
              </a:rPr>
              <a:t>[options]</a:t>
            </a:r>
            <a:r>
              <a:rPr b="1" lang="en-US" sz="20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d6290c"/>
                </a:solidFill>
                <a:latin typeface="Arial"/>
              </a:rPr>
              <a:t>&lt;jdl file</a:t>
            </a:r>
            <a:r>
              <a:rPr b="0" lang="en-US" sz="1800" spc="-1" strike="noStrike">
                <a:solidFill>
                  <a:srgbClr val="d6290c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8520" y="1163520"/>
            <a:ext cx="613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3960" y="1163520"/>
            <a:ext cx="542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7720" y="1109520"/>
            <a:ext cx="59850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325faf"/>
                </a:solidFill>
                <a:latin typeface="Arial"/>
              </a:rPr>
              <a:t>glite-job-list-match</a:t>
            </a:r>
            <a:r>
              <a:rPr b="0" lang="it-IT" sz="2400" spc="-1" strike="noStrike">
                <a:solidFill>
                  <a:srgbClr val="325faf"/>
                </a:solidFill>
                <a:latin typeface="Arial"/>
              </a:rPr>
              <a:t> allows to check the suitable resources for execution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25faf"/>
                </a:solidFill>
                <a:latin typeface="Arial"/>
              </a:rPr>
              <a:t>No job submission is performed, just listmatch is performed 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85720" y="3959280"/>
            <a:ext cx="424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7760" y="3706920"/>
            <a:ext cx="8022960" cy="25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25faf"/>
                </a:solidFill>
                <a:uFillTx/>
                <a:latin typeface="Arial"/>
              </a:rPr>
              <a:t>Principal Options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 :  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--vo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  &lt;vo name&gt; : perform list-match with a different VO than the UI default one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--</a:t>
            </a: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rank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 show resources in order of ranking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--output, -o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  &lt;output file&gt; redirect output on a file, instead of STDIN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--debug 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show function calls and parameters 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DE218-722E-4A68-A50E-FA6EE74EF79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nstallation and configuration ste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4320" y="1677600"/>
            <a:ext cx="8589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Login into your account and from your hom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directory type following command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907320" y="973080"/>
            <a:ext cx="1968480" cy="2059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46240" y="3962520"/>
            <a:ext cx="8694720" cy="2534760"/>
          </a:xfrm>
          <a:prstGeom prst="rect">
            <a:avLst/>
          </a:prstGeom>
          <a:solidFill>
            <a:srgbClr val="f4c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2b519a"/>
                </a:solidFill>
                <a:uFillTx/>
                <a:latin typeface="Arial"/>
              </a:rPr>
              <a:t>NOTE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The main reference to the UI PnP “combined” is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u="sng">
                <a:solidFill>
                  <a:srgbClr val="0251c4"/>
                </a:solidFill>
                <a:uFillTx/>
                <a:latin typeface="Arial"/>
              </a:rPr>
              <a:t>https://gilda.ct.infn.it/UIPnPcomb/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(at this link you can find the short documentation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03440" y="103032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ac3b8b"/>
                </a:solidFill>
                <a:latin typeface="Arial"/>
              </a:rPr>
              <a:t>STEP 1</a:t>
            </a:r>
            <a:endParaRPr b="0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603520"/>
            <a:ext cx="79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d8a04"/>
                </a:solidFill>
                <a:latin typeface="Arial"/>
              </a:rPr>
              <a:t>tar zxvf </a:t>
            </a:r>
            <a:r>
              <a:rPr b="1" i="1" lang="it-IT" sz="2800" spc="-1" strike="noStrike">
                <a:solidFill>
                  <a:srgbClr val="3d8a04"/>
                </a:solidFill>
                <a:latin typeface="Arial"/>
              </a:rPr>
              <a:t>UIPnPcomb.tar.gz</a:t>
            </a:r>
            <a:endParaRPr b="0" lang="en-US" sz="2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79B8F-DA4B-42C4-82BC-3B46085F92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Simple job using Requirement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338f"/>
                </a:solidFill>
                <a:latin typeface="Arial"/>
              </a:rPr>
              <a:t>Modify exercise1.jdl file so that user with a even workstation number will submit their job on a “long” queue, and the other to an “infinite” on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338f"/>
                </a:solidFill>
                <a:latin typeface="Arial"/>
              </a:rPr>
              <a:t>Verify the list of CE suitable for this job execu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338f"/>
                </a:solidFill>
                <a:latin typeface="Arial"/>
              </a:rPr>
              <a:t>Submit the job, check its status and retrieve the outpu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6A5AA-F01E-4EA9-B7D2-8B71AE84D01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JDL -- Requir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Type = "Job"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JobType = "Normal"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Executable = "/bin/sh"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StdOutput = "povray_cubo.out"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StdError = "povray_cubo.err"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InputSandbox = {"start_povray_cubo.sh","cubo.pov"}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OutputSandbox = {"povray_cubo.out","povray_cubo.err","cubo.png"}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RetryCount = 7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Arguments = "start_povray_cubo.sh"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Requirements = Member("POVRAY-3.5",other.GlueHostApplicationSoftwareRunTimeEnvironment)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6C679-CC0B-48A8-8F85-5B69409AE50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Start_povray_cubo.s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#!/bin/bash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mv cubo.pov OBJECT.POV </a:t>
            </a:r>
            <a:r>
              <a:rPr b="1" lang="it-IT" sz="2400" spc="-1" strike="noStrike">
                <a:solidFill>
                  <a:srgbClr val="904490"/>
                </a:solidFill>
                <a:latin typeface="Courier New"/>
              </a:rPr>
              <a:t>#rename input fi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/usr/bin/povray /usr/share/povray-3.5/ini/res800.ini  </a:t>
            </a:r>
            <a:r>
              <a:rPr b="1" lang="it-IT" sz="2400" spc="-1" strike="noStrike">
                <a:solidFill>
                  <a:srgbClr val="904490"/>
                </a:solidFill>
                <a:latin typeface="Courier New"/>
              </a:rPr>
              <a:t>#run povray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mv OBJECT.png cubo.png </a:t>
            </a:r>
            <a:r>
              <a:rPr b="1" lang="it-IT" sz="2400" spc="-1" strike="noStrike">
                <a:solidFill>
                  <a:srgbClr val="904490"/>
                </a:solidFill>
                <a:latin typeface="Courier New"/>
              </a:rPr>
              <a:t>#rename output fi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E346-B92F-470A-8AC8-796963131BC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cd UIPnPcomb/example_JD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Modify povray_cubo.jdl, specifying the resource for execution into the jdl fi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Check job status and when done retrieve the output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Display .png file obtained as output, using ImageMagick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52D5C-919B-4D07-9D1E-39874F1E786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.BrokerInfo f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45600" y="898200"/>
            <a:ext cx="857412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It is a mechanism by which a job can access at some information about itself…at execution time!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The Resource Broker creates and attaches this file to the job when it i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      </a:t>
            </a: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ready to be transfered to the resource that best matches the request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Two ways for parsing elements from .BrokerInfo file: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1)Directly from the Worker Node at execution time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2)From User Interface, but only if you have inserted the name of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       “</a:t>
            </a: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.BrokerInfo” file in the JDL’s OutputSandbox, and you have just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       </a:t>
            </a: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retrieved job output, once that job has been Done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99880" y="4295880"/>
            <a:ext cx="8676000" cy="21938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739880" y="4140360"/>
            <a:ext cx="56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d8a04"/>
                </a:solidFill>
                <a:latin typeface="Arial"/>
              </a:rPr>
              <a:t>edg-brokerinfo</a:t>
            </a: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 [options] function param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0B0A1-68B2-4D99-99B2-F8776D3FC67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xample of .BrokerInfo f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7000" y="910800"/>
            <a:ext cx="4357800" cy="5581800"/>
          </a:xfrm>
          <a:prstGeom prst="rect">
            <a:avLst/>
          </a:prstGeom>
          <a:solidFill>
            <a:srgbClr val="96baee"/>
          </a:solidFill>
          <a:ln w="2232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[        ComputingElement =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[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CloseStorageElements =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{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[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      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GlueSAStateAvailableSpace = 14029724;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      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GlueCESEBindCEAccesspoint = "/flatfiles/SE00";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      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mount = GlueCESEBindCEAccessPoint;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      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name = "grid003.cecalc.ula.ve";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      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freespace = GlueSAStateAvailableSpace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  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]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};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name = "grid006.cecalc.ula.ve:2119/jobmanager-lcgpbs-infinite"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];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InputFNs =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{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};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StorageElements =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{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};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VirtualOrganisation = "gilda"    ]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977760"/>
            <a:ext cx="4419720" cy="4943880"/>
          </a:xfrm>
          <a:prstGeom prst="rect">
            <a:avLst/>
          </a:prstGeom>
          <a:solidFill>
            <a:srgbClr val="f4ce00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edg-brokerinfo get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edg-brokerinfo getDataAccessProtoco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edg-brokerinfo getInputDat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edg-brokerinfo getS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edg-brokerinfo getCloseS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edg-brokerinfo getSEMountPoint &lt;S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edg-brokerinfo getSEFreeSpace &lt;S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edg-brokerinfo getSEProtocols &lt;S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edg-brokerinfo getSEPort &lt;SE&gt; &lt;Protocol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edg-brokerinfo getVirtualOrganiz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edg-brokerinfo getAccessCos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C60C6-CC5F-4026-AD0D-7CC48D749E6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10600" y="1037880"/>
            <a:ext cx="8813880" cy="5327640"/>
          </a:xfrm>
          <a:prstGeom prst="rect">
            <a:avLst/>
          </a:prstGeom>
          <a:solidFill>
            <a:srgbClr val="a4e90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4490"/>
                </a:solidFill>
                <a:latin typeface="Arial"/>
              </a:rPr>
              <a:t>Exercise 1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reate a file called </a:t>
            </a:r>
            <a:r>
              <a:rPr b="1" lang="en-US" sz="2400" spc="-1" strike="noStrike">
                <a:solidFill>
                  <a:srgbClr val="904490"/>
                </a:solidFill>
                <a:latin typeface="Arial"/>
              </a:rPr>
              <a:t>startScriptBrokerInfo.sh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with this content: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#!/bin/sh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Y_NAME=“Your name"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WORKER_NODE_NAME=`hostname`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cho "Hello $MY_NAME, from $WORKER_NODE_NAME"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ls -a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cho "This job is running on this CE: "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/opt/edg/bin/edg-brokerinfo getC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CE299-1FE9-4179-8441-E669EA9C333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3560" y="1037880"/>
            <a:ext cx="8800920" cy="5327640"/>
          </a:xfrm>
          <a:prstGeom prst="rect">
            <a:avLst/>
          </a:prstGeom>
          <a:solidFill>
            <a:srgbClr val="a4e90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4490"/>
                </a:solidFill>
                <a:latin typeface="Arial"/>
              </a:rPr>
              <a:t>Exercise 2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reate a file called </a:t>
            </a:r>
            <a:r>
              <a:rPr b="1" lang="en-US" sz="2400" spc="-1" strike="noStrike">
                <a:solidFill>
                  <a:srgbClr val="904490"/>
                </a:solidFill>
                <a:latin typeface="Arial"/>
              </a:rPr>
              <a:t>scriptBrokerInfo.jdl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with this content: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[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Executable = "startScriptBrokerInfo.sh"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tdOutput = "std.out"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tdError = "std.err"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VirtualOrganisation = "gilda"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InputSandbox = {"startScriptBrokerInfo.sh"}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OutputSandbox = {"std.out","std.err",".BrokerInfo"}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RetryCount = 7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48E61-26E1-4393-BE70-AEC305A6283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02680" y="936360"/>
            <a:ext cx="8636040" cy="5111640"/>
          </a:xfrm>
          <a:prstGeom prst="rect">
            <a:avLst/>
          </a:prstGeom>
          <a:solidFill>
            <a:srgbClr val="96baee"/>
          </a:solidFill>
          <a:ln w="19080">
            <a:solidFill>
              <a:srgbClr val="2b519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220000"/>
              </a:lnSpc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167"/>
                </a:solidFill>
                <a:latin typeface="Arial"/>
              </a:rPr>
              <a:t>Replace your name in the file script</a:t>
            </a: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04490"/>
                </a:solidFill>
                <a:latin typeface="Arial"/>
              </a:rPr>
              <a:t>startScriptBrokerInfo.sh</a:t>
            </a:r>
            <a:r>
              <a:rPr b="1" lang="en-US" sz="2000" spc="-1" strike="noStrike">
                <a:solidFill>
                  <a:srgbClr val="325fa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220000"/>
              </a:lnSpc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167"/>
                </a:solidFill>
                <a:latin typeface="Arial"/>
              </a:rPr>
              <a:t>Submit / Query the status / Retrieve Output the JDL file</a:t>
            </a: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04490"/>
                </a:solidFill>
                <a:latin typeface="Arial"/>
              </a:rPr>
              <a:t>scriptBrokerInfo.jdl</a:t>
            </a:r>
            <a:r>
              <a:rPr b="1" lang="en-US" sz="2000" spc="-1" strike="noStrike">
                <a:solidFill>
                  <a:srgbClr val="325fa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220000"/>
              </a:lnSpc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67"/>
                </a:solidFill>
                <a:latin typeface="Arial"/>
              </a:rPr>
              <a:t>In JobOutput folder, go into directory of the job that you have just retrieved and inspect the .BrokerInfo file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220000"/>
              </a:lnSpc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67"/>
                </a:solidFill>
                <a:latin typeface="Arial"/>
              </a:rPr>
              <a:t>Take practice with the edg-brokerinfo command and its functions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2D3CE-4EBC-4E98-89B8-87033EF2F2A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94840" y="2206440"/>
            <a:ext cx="8589960" cy="40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60000"/>
              </a:lnSpc>
              <a:spcBef>
                <a:spcPts val="601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&gt;cd UIPnPcomb/example_JDL/Catania/JobSubmiss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spcBef>
                <a:spcPts val="601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&gt;l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spcBef>
                <a:spcPts val="601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&gt;cat source.c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spcBef>
                <a:spcPts val="601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In the script startExe.sh set variable MYNAM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spcBef>
                <a:spcPts val="601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&gt;cat c_exe.jd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spcBef>
                <a:spcPts val="601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Submit / Query the status / Retrieve Output of the job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4160" y="977760"/>
            <a:ext cx="8699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This exercise allows user to submit a job which compiles a C source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file and executes the binary obtained.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FC172-150B-407A-8A9E-C4963FD84AA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RB (LCG) Environment Setting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5520" y="1998360"/>
            <a:ext cx="8848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To point at 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LCG 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esource Broker </a:t>
            </a:r>
            <a:r>
              <a:rPr b="1" lang="it-IT" sz="2400" spc="-1" strike="noStrike">
                <a:solidFill>
                  <a:srgbClr val="62db07"/>
                </a:solidFill>
                <a:latin typeface="Arial"/>
              </a:rPr>
              <a:t>server3.gs.unina.i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from your UIPnPcomb, uncomment this value for th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attribute </a:t>
            </a:r>
            <a:r>
              <a:rPr b="1" i="1" lang="it-IT" sz="2400" spc="-1" strike="noStrike">
                <a:solidFill>
                  <a:srgbClr val="fb2dec"/>
                </a:solidFill>
                <a:latin typeface="Arial"/>
              </a:rPr>
              <a:t>NSAddresses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and </a:t>
            </a:r>
            <a:r>
              <a:rPr b="1" lang="it-IT" sz="2400" spc="-1" strike="noStrike">
                <a:solidFill>
                  <a:srgbClr val="fb2dec"/>
                </a:solidFill>
                <a:latin typeface="Arial"/>
              </a:rPr>
              <a:t>LBAddresses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in th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following fil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8a04"/>
                </a:solidFill>
                <a:latin typeface="Arial"/>
              </a:rPr>
              <a:t>&gt;vi UIPnPcomb/edg/etc/gilda/edg_wl_ui.conf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95720" y="101592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ac3b8b"/>
                </a:solidFill>
                <a:latin typeface="Arial"/>
              </a:rPr>
              <a:t>STEP 2</a:t>
            </a:r>
            <a:endParaRPr b="0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2360" y="4759200"/>
            <a:ext cx="8648640" cy="159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NSAddresses = "server3.gs.unina.it:7772";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BAddresses = "server3.gs.unina.it:9000";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331600">
            <a:off x="851400" y="1154880"/>
            <a:ext cx="1098360" cy="563760"/>
          </a:xfrm>
          <a:prstGeom prst="octagon">
            <a:avLst>
              <a:gd name="adj" fmla="val 29287"/>
            </a:avLst>
          </a:prstGeom>
          <a:solidFill>
            <a:srgbClr val="3d8a04"/>
          </a:solidFill>
          <a:ln w="25560">
            <a:solidFill>
              <a:srgbClr val="f4c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4ce00"/>
                </a:solidFill>
                <a:latin typeface="Arial"/>
              </a:rPr>
              <a:t>LCG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472BC-09D4-4100-9898-B0FE7F1F83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69640" y="3095640"/>
            <a:ext cx="8589960" cy="12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b519a"/>
                </a:solidFill>
                <a:latin typeface="Arial"/>
              </a:rPr>
              <a:t>Practicals on LFC and lcg-utils</a:t>
            </a:r>
            <a:endParaRPr b="1" lang="en-US" sz="4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73040" y="1096920"/>
            <a:ext cx="1747800" cy="16938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035160" y="4381560"/>
            <a:ext cx="3784680" cy="368280"/>
          </a:xfrm>
          <a:prstGeom prst="rect">
            <a:avLst/>
          </a:prstGeom>
          <a:solidFill>
            <a:srgbClr val="f4ce00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04490"/>
                </a:solidFill>
                <a:latin typeface="Arial"/>
              </a:rPr>
              <a:t>Tony Calanducci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3D03E-83BA-481C-9ED8-E424F222B31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t up your enviro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5600" y="1329840"/>
            <a:ext cx="858996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Set the 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llowing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nvironment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variables to specify the catalog type and its location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0000"/>
                </a:solidFill>
                <a:latin typeface="Arial"/>
              </a:rPr>
              <a:t>export LCG_CATALOG_TYPE=lfc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0000"/>
                </a:solidFill>
                <a:latin typeface="Arial"/>
              </a:rPr>
              <a:t>export LFC_HOST=lfc-gilda.ct.infn.i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Ensure you have created a proxy certificate and it is still valid. If not create it by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grid-proxy-init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Remember: The Passphrase is </a:t>
            </a:r>
            <a:r>
              <a:rPr b="0" lang="it-IT" sz="2100" spc="-1" strike="noStrike">
                <a:solidFill>
                  <a:srgbClr val="ff0000"/>
                </a:solidFill>
                <a:latin typeface="Arial"/>
              </a:rPr>
              <a:t>VICO-EQUENS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D268C-F1F6-489C-A088-7F9AB0BA760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sting the entries of a LFC director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lfc-ls  [-cdiLlRTu] [--comment] path…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i="1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pecifies the LFC pathname (mandatory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member that </a:t>
            </a:r>
            <a:r>
              <a:rPr b="1" lang="en-US" sz="2100" spc="-1" strike="noStrike">
                <a:solidFill>
                  <a:srgbClr val="2b519a"/>
                </a:solidFill>
                <a:latin typeface="Arial"/>
              </a:rPr>
              <a:t>LFC has a directory tree structu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/grid/&lt;VO_name&gt;/</a:t>
            </a:r>
            <a:r>
              <a:rPr b="0" lang="en-US" sz="2100" spc="-1" strike="noStrike">
                <a:solidFill>
                  <a:srgbClr val="0066ff"/>
                </a:solidFill>
                <a:latin typeface="Arial"/>
              </a:rPr>
              <a:t>&lt;you create it&gt;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b519a"/>
                </a:solidFill>
                <a:latin typeface="Arial"/>
              </a:rPr>
              <a:t>All members of a given VO have read-write permissions under their directory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-l</a:t>
            </a:r>
            <a:r>
              <a:rPr b="0" lang="en-US" sz="2100" spc="-1" strike="noStrike">
                <a:solidFill>
                  <a:srgbClr val="325faf"/>
                </a:solidFill>
                <a:latin typeface="Arial"/>
              </a:rPr>
              <a:t> (it is a lowercase “L”) outputs long listing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-R</a:t>
            </a:r>
            <a:r>
              <a:rPr b="0" lang="en-US" sz="2100" spc="-1" strike="noStrike">
                <a:solidFill>
                  <a:srgbClr val="325faf"/>
                </a:solidFill>
                <a:latin typeface="Arial"/>
              </a:rPr>
              <a:t> lists the contents of  directories recursively (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don’t use it so often!</a:t>
            </a:r>
            <a:r>
              <a:rPr b="0" lang="en-US" sz="2100" spc="-1" strike="noStrike">
                <a:solidFill>
                  <a:srgbClr val="2b519a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b519a"/>
                </a:solidFill>
                <a:latin typeface="Arial"/>
              </a:rPr>
              <a:t>You can set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LFC_HOME</a:t>
            </a:r>
            <a:r>
              <a:rPr b="0" lang="en-US" sz="2100" spc="-1" strike="noStrike">
                <a:solidFill>
                  <a:srgbClr val="2b519a"/>
                </a:solidFill>
                <a:latin typeface="Arial"/>
              </a:rPr>
              <a:t> to use relative paths</a:t>
            </a: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338f"/>
                </a:solidFill>
                <a:latin typeface="Arial"/>
              </a:rPr>
              <a:t>LFC_HOME=/grid/gilda/myDir</a:t>
            </a: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338f"/>
                </a:solidFill>
                <a:latin typeface="Wingdings"/>
                <a:ea typeface="Wingdings"/>
              </a:rPr>
              <a:t></a:t>
            </a: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338f"/>
                </a:solidFill>
                <a:latin typeface="Arial"/>
              </a:rPr>
              <a:t>/grid/gilda/myDir/myFile</a:t>
            </a: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 becomes </a:t>
            </a:r>
            <a:r>
              <a:rPr b="0" i="1" lang="en-US" sz="2100" spc="-1" strike="noStrike">
                <a:solidFill>
                  <a:srgbClr val="00338f"/>
                </a:solidFill>
                <a:latin typeface="Arial"/>
              </a:rPr>
              <a:t>myFile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FC Catalog comm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11640" y="3004200"/>
            <a:ext cx="2382840" cy="505440"/>
          </a:xfrm>
          <a:prstGeom prst="upArrowCallout">
            <a:avLst>
              <a:gd name="adj1" fmla="val 117870"/>
              <a:gd name="adj2" fmla="val 117860"/>
              <a:gd name="adj3" fmla="val 16667"/>
              <a:gd name="adj4" fmla="val 66660"/>
            </a:avLst>
          </a:prstGeom>
          <a:solidFill>
            <a:srgbClr val="ffffcc"/>
          </a:solidFill>
          <a:ln w="2844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5faf"/>
                </a:solidFill>
                <a:latin typeface="Arial"/>
              </a:rPr>
              <a:t>Defined by the us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05000" y="3015360"/>
            <a:ext cx="1922400" cy="505440"/>
          </a:xfrm>
          <a:prstGeom prst="upArrowCallout">
            <a:avLst>
              <a:gd name="adj1" fmla="val 95094"/>
              <a:gd name="adj2" fmla="val 95085"/>
              <a:gd name="adj3" fmla="val 16667"/>
              <a:gd name="adj4" fmla="val 66660"/>
            </a:avLst>
          </a:prstGeom>
          <a:solidFill>
            <a:srgbClr val="ffffcc"/>
          </a:solidFill>
          <a:ln w="2844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5faf"/>
                </a:solidFill>
                <a:latin typeface="Arial"/>
              </a:rPr>
              <a:t>LFC Namespa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E7612-2109-40CE-AC28-9CF8E92435F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fc-ls examp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66480" y="1015920"/>
            <a:ext cx="858996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$ lfc-ls –l /grid/gilda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0" y="2751120"/>
            <a:ext cx="45720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Examples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&gt;</a:t>
            </a: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lfc-ls /grid/gild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&gt; lfc-ls -l /grid/gild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&gt; lfc-ls -l -R /grid/gild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98600" y="1641600"/>
            <a:ext cx="8385120" cy="270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rw-rw-r--   1 4401     4400                      0 Jun 21 09:40 tutor02-rel-pippo-pluto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rw-rw-r--   1 4401     4400                      0 Jun 21 09:39 tutor14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rw-rw-r--   1 4401     4400                      0 Jun 21 09:40 tutor16-mytxt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rw-rw-r--   1 4401     4400                      0 Jun 21 09:32 unitprot-ibcp02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rw-rw-r--   1 4401     4400                      0 Jun 21 09:36 uploadfile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rw-rw-r--   1 4401     4400                      0 Jun 21 09:36 uploadfilelfn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rw-rw-r--   1 4401     4400                      0 Jun 21 09:38 user.example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rw-rw-r--   1 4401     4400                      0 Jun 21 09:38 user.example2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rw-rw-r--   1 4401     4400                      0 Jun 21 09:40 valencia15.ejemplo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rw-rw-r--   1 4401     4400                      0 Jun 21 09:40 valencia15.example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3080" y="4402080"/>
            <a:ext cx="85899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$ export LFC_HOME=/grid/gilda/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$ lfc-ls –l user.example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9760" y="5506920"/>
            <a:ext cx="847872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rw-rw-r--   1 4401     4400                      0 Jun 21 09:38 /grid/gilda/user.example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85FE7-5D4E-4AF6-A322-B8AB9C2F6A6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FC Catalog comm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eating a symbolic link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lfc-ln -s file linknam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lfc-ln -s directory linknam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reate a link to the specifie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i="1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r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irectory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with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linknam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8f"/>
                </a:solidFill>
                <a:latin typeface="Arial"/>
              </a:rPr>
              <a:t>Example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Arial"/>
              </a:rPr>
              <a:t>$ lfc-ln -s /grid/gilda/user.example  /grid/gilda/vico/linkToUser.ex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Let’s check the link using lfc-ls with long listing (-l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Arial"/>
              </a:rPr>
              <a:t>$ lfc-ls -l /grid/gilda/vico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rwxrwxrwx   1 4404     4400  0 Jul 17 12:06 linkToUser.ex -&gt; /grid/gilda/user.example</a:t>
            </a:r>
            <a:endParaRPr b="0" lang="en-US" sz="14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490400" y="3719160"/>
            <a:ext cx="1825560" cy="634320"/>
            <a:chOff x="1490400" y="3719160"/>
            <a:chExt cx="1825560" cy="634320"/>
          </a:xfrm>
        </p:grpSpPr>
        <p:sp>
          <p:nvSpPr>
            <p:cNvPr id="319" name=""/>
            <p:cNvSpPr/>
            <p:nvPr/>
          </p:nvSpPr>
          <p:spPr>
            <a:xfrm>
              <a:off x="1490400" y="3954600"/>
              <a:ext cx="1648440" cy="398880"/>
            </a:xfrm>
            <a:prstGeom prst="rect">
              <a:avLst/>
            </a:prstGeom>
            <a:noFill/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25faf"/>
                  </a:solidFill>
                  <a:latin typeface="Arial"/>
                </a:rPr>
                <a:t>Original File</a:t>
              </a:r>
              <a:endParaRPr b="0" lang="en-US" sz="20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307960" y="3719160"/>
              <a:ext cx="1008000" cy="237960"/>
            </a:xfrm>
            <a:prstGeom prst="line">
              <a:avLst/>
            </a:prstGeom>
            <a:ln w="28440">
              <a:solidFill>
                <a:srgbClr val="2b519a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478480" y="3692160"/>
            <a:ext cx="1841400" cy="686520"/>
            <a:chOff x="5478480" y="3692160"/>
            <a:chExt cx="1841400" cy="686520"/>
          </a:xfrm>
        </p:grpSpPr>
        <p:sp>
          <p:nvSpPr>
            <p:cNvPr id="322" name=""/>
            <p:cNvSpPr/>
            <p:nvPr/>
          </p:nvSpPr>
          <p:spPr>
            <a:xfrm>
              <a:off x="5478480" y="3979800"/>
              <a:ext cx="1841400" cy="398880"/>
            </a:xfrm>
            <a:prstGeom prst="rect">
              <a:avLst/>
            </a:prstGeom>
            <a:noFill/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25faf"/>
                  </a:solidFill>
                  <a:latin typeface="Arial"/>
                </a:rPr>
                <a:t>Symbolic link</a:t>
              </a:r>
              <a:endParaRPr b="0" lang="en-US" sz="20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756120" y="3692160"/>
              <a:ext cx="0" cy="310680"/>
            </a:xfrm>
            <a:prstGeom prst="line">
              <a:avLst/>
            </a:prstGeom>
            <a:ln w="28440">
              <a:solidFill>
                <a:srgbClr val="2b519a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295FC-E3F5-4274-A338-1BA272ADC21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FC Catalog comm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eating directories in the LFC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Arial"/>
              </a:rPr>
              <a:t>lfc-mkdir [-m mode] [-p] path...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b519a"/>
                </a:solidFill>
                <a:latin typeface="Arial"/>
              </a:rPr>
              <a:t>Where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i="1" lang="fr-FR" sz="20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b519a"/>
                </a:solidFill>
                <a:latin typeface="Arial"/>
              </a:rPr>
              <a:t>specifies the LFC pathnam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b519a"/>
                </a:solidFill>
                <a:latin typeface="Arial"/>
              </a:rPr>
              <a:t>Remember that while registering a new file (using lcg-cr, for example) the corresponding destination directory must be created in the catalog befo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b519a"/>
                </a:solidFill>
                <a:latin typeface="Arial"/>
              </a:rPr>
              <a:t>Examples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$ lfc-mkdir /grid/gilda/Exampl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You can just check the directory with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$ lfc-ls -l /grid/gilda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51E41-9A7C-4A44-B5C7-1DF7862E190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FC Catalog comm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ding/deleting metadata informa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lfc-setcomment path commen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lfc-delcomment path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lfc-setcomment adds/replaces a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associated with a file/directory in the LFC Catalog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lfc-delcomment deletes a comment previously added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lfc-setcomment /grid/gilda/user.example “Hello Vico”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Check your job with.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lfc-ls --comment /grid/gilda/user.exampl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fc-ls --comment /grid/gilda/user.example</a:t>
            </a:r>
            <a:endParaRPr b="0" lang="en-US" sz="14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grid/gilda/user.example Hello Vico</a:t>
            </a:r>
            <a:endParaRPr b="0" lang="en-US" sz="14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0843-238D-4877-B267-6543A87240D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lfc-delcomment /grid/gilda/user.example</a:t>
            </a:r>
            <a:endParaRPr b="1" lang="en-US" sz="21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Check your job with.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lfc-ls –l --comment /grid/gilda/user.example</a:t>
            </a:r>
            <a:endParaRPr b="1" lang="en-US" sz="21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rw-rw-r--   1 4401     4400         0 Jun 21 09:38 /grid/gilda/user.example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FC Catalog comm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E4377-76A0-4D24-B9A8-AA63EA5AF6E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nds-on Se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519a"/>
                </a:solidFill>
                <a:latin typeface="Arial"/>
              </a:rPr>
              <a:t>Exercise No.1:</a:t>
            </a: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Log onto an UI and initialize your proxy credentials if not already done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set up properly the environment variables to use lfc-gilda.ct.infn.it catalog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have a look inside the catalog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create a directory with your surname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put inside the just created dir a link to an existing file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add a comment to that file and verify it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1FF8C-9D56-4A20-A7AD-0D1081E3A51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FC Catalog comm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93760" y="1722600"/>
          <a:ext cx="8589960" cy="4470120"/>
        </p:xfrm>
        <a:graphic>
          <a:graphicData uri="http://schemas.openxmlformats.org/drawingml/2006/table">
            <a:tbl>
              <a:tblPr/>
              <a:tblGrid>
                <a:gridCol w="2116080"/>
                <a:gridCol w="647388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fc-chmod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access mode of the LFC file/directory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fc-chown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owner and group of the LFC file-directory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fc-delcomment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the comment associated with the file/directory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fc-getacl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file/directory access control lists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fc-ln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a symbolic link to a file/directory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fc-ls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file/directory entries in a directory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fc-mkdir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a directory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fc-rename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e a file/directory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fc-rm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 a file/directory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fc-setacl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file/directory access control lists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fc-setcomment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/replace a comment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62080" y="1084320"/>
            <a:ext cx="61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mmary of the LFC Catalog commands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D9062-B86D-4D1D-9B25-AEEC775668D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RB (gLite) Environment Setting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4200" y="1998360"/>
            <a:ext cx="8848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To point at 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gLite 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esource Broker </a:t>
            </a:r>
            <a:r>
              <a:rPr b="1" lang="it-IT" sz="2400" spc="-1" strike="noStrike">
                <a:solidFill>
                  <a:srgbClr val="62db07"/>
                </a:solidFill>
                <a:latin typeface="Arial"/>
              </a:rPr>
              <a:t>server2.gs.unina.i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from your UIPnPcomb, uncomment this value for th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attribute </a:t>
            </a:r>
            <a:r>
              <a:rPr b="1" i="1" lang="it-IT" sz="2400" spc="-1" strike="noStrike">
                <a:solidFill>
                  <a:srgbClr val="fb2dec"/>
                </a:solidFill>
                <a:latin typeface="Arial"/>
              </a:rPr>
              <a:t>NSAddresses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and </a:t>
            </a:r>
            <a:r>
              <a:rPr b="1" lang="it-IT" sz="2400" spc="-1" strike="noStrike">
                <a:solidFill>
                  <a:srgbClr val="fb2dec"/>
                </a:solidFill>
                <a:latin typeface="Arial"/>
              </a:rPr>
              <a:t>LBAddresses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in th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following file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8a04"/>
                </a:solidFill>
                <a:latin typeface="Arial"/>
              </a:rPr>
              <a:t>&gt;vi UIPnPcomb/glite/etc/gilda/glite_wmsui.conf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6480" y="90180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ac3b8b"/>
                </a:solidFill>
                <a:latin typeface="Arial"/>
              </a:rPr>
              <a:t>STEP 3</a:t>
            </a:r>
            <a:endParaRPr b="0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2360" y="4822920"/>
            <a:ext cx="8648640" cy="159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NSAddresses = "server2.gs.unina.it:7772";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BAddresses = "server2.gs.unina.it:9000";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178600">
            <a:off x="431640" y="1155960"/>
            <a:ext cx="1181160" cy="563760"/>
          </a:xfrm>
          <a:prstGeom prst="ellipse">
            <a:avLst/>
          </a:prstGeom>
          <a:solidFill>
            <a:srgbClr val="f4ce00"/>
          </a:solidFill>
          <a:ln w="25560">
            <a:solidFill>
              <a:srgbClr val="904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gLite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96311-0CA5-4399-B4A5-A01E254787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uti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45960" y="974520"/>
            <a:ext cx="81345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The LCG Data Management tools (usually called </a:t>
            </a:r>
            <a:r>
              <a:rPr b="1" i="1" lang="en-US" sz="2400" spc="-1" strike="noStrike">
                <a:solidFill>
                  <a:srgbClr val="2b519a"/>
                </a:solidFill>
                <a:latin typeface="Arial"/>
              </a:rPr>
              <a:t>lcg-utils</a:t>
            </a: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) allow users to copy files between UI, CE, WN and a SE, to register entries in the File Catalogs and replicate files between SEs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Check if LCG_GFAL_INFOSYS environment variable is correctly set to the local GILDA Information Index (BDII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port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CG_GFAL_INFOSYS=server3.gs.unina.it:2170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DEF02-C940-4CA1-9BF6-BC056326E09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utils: lcg-c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pload a file to a SE and register it into the catalog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g-cr -d dest_file | dest_host -l lfn [-g guid] [-l lfn]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v | --verbose] --vo vo src_fi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wher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st_hos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is the fully qualified hostname of the destination S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st_file</a:t>
            </a:r>
            <a:r>
              <a:rPr b="0" i="1" lang="en-US" sz="20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is a valid SURL (both sfn:// or srm:// format are valid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uid</a:t>
            </a:r>
            <a:r>
              <a:rPr b="1" i="1" lang="en-US" sz="20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specifies the Grid Unique IDentifier. If this option is not present, a GUID is generated internall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f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specifies the Logical File Name associated with the fil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o</a:t>
            </a:r>
            <a:r>
              <a:rPr b="1" i="1" lang="en-US" sz="20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specifies the Virtual Organization the user belongs to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src_file</a:t>
            </a:r>
            <a:r>
              <a:rPr b="1" i="1" lang="en-US" sz="1900" spc="-1" strike="noStrike">
                <a:solidFill>
                  <a:srgbClr val="00338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pecifies the source file name: the protocol can be </a:t>
            </a:r>
            <a:r>
              <a:rPr b="0" i="1" lang="en-US" sz="1900" spc="-1" strike="noStrike">
                <a:solidFill>
                  <a:srgbClr val="00338f"/>
                </a:solidFill>
                <a:latin typeface="Arial"/>
              </a:rPr>
              <a:t>file:///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 or </a:t>
            </a:r>
            <a:r>
              <a:rPr b="0" i="1" lang="en-US" sz="1900" spc="-1" strike="noStrike">
                <a:solidFill>
                  <a:srgbClr val="00338f"/>
                </a:solidFill>
                <a:latin typeface="Arial"/>
              </a:rPr>
              <a:t>gsiftp:///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EC55C-C371-45F2-B842-90BC9722A04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utils: lcg-c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To discover which SEs the user is allowed to use, remember you can use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cg-infosites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comm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lcg-infosites --vo gilda s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8f"/>
                </a:solidFill>
                <a:latin typeface="Arial"/>
              </a:rPr>
              <a:t>The output is a list of SEs and related information on available/used space</a:t>
            </a: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lcg-cr usage example: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64960" y="3346560"/>
            <a:ext cx="85899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4040" y="2563920"/>
            <a:ext cx="8410680" cy="348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$ lcg-cr -v -d grid-se.bio.dist.unige.it -l lfn:/grid/gilda/vico/note.txt --vo gilda file:///home/local/note.txt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Using grid catalog type: lfc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Source URL: file:///home/local/note.txt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File size: 51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Destination specified: grid-se.bio.dist.unige.it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Destination URL for copy: gsiftp://grid-se.bio.dist.unige.it/flatfiles/SE00/gilda/generated/2005-07-17/file1f0e73d8-7e3f-47d1-bc95-c03c92aae569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# streams: 1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Alias registered in Catalog: lfn:/grid/gilda/vico/note.txt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ransfer took 11320 ms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Destination URL registered in Catalog: sfn://grid-se.bio.dist.unige.it/flatfiles/SE00/gilda/generated/2005-07-17/file1f0e73d8-7e3f-47d1-bc95-c03c92aae569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guid:4c10a8e3-2244-4c38-bc98-ed98ae7cb94e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37A20-6670-42B9-8865-93B879C88D5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utils: lcg-aa and lcg-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ding an alias for a given GUI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279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cg-aa --vo vo guid lf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where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</a:t>
            </a: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pecifies the Virtual Organization the user belongs to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uid</a:t>
            </a: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pecifies the Grid Unique Identifier of the file you want to add the alias to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fn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pecifies the new alia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b519a"/>
                </a:solidFill>
                <a:latin typeface="Arial"/>
              </a:rPr>
              <a:t>Example:</a:t>
            </a:r>
            <a:endParaRPr b="1" lang="en-US" sz="2100" spc="-1" strike="noStrike">
              <a:solidFill>
                <a:srgbClr val="2b519a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 lcg-aa --vo gilda guid:4c10a8e3-2244-4c38-bc98-ed98ae7cb94e lfn:/grid/gilda/vico/aliasToNote.txt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b519a"/>
                </a:solidFill>
                <a:latin typeface="Arial"/>
              </a:rPr>
              <a:t>To check if the previous command was successful, you can us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cg-la </a:t>
            </a:r>
            <a:r>
              <a:rPr b="0" lang="en-US" sz="2100" spc="-1" strike="noStrike">
                <a:solidFill>
                  <a:srgbClr val="2b519a"/>
                </a:solidFill>
                <a:latin typeface="Arial"/>
              </a:rPr>
              <a:t>command to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list the aliases for a given LFN, GUID or SURL</a:t>
            </a:r>
            <a:endParaRPr b="1" lang="en-US" sz="2100" spc="-1" strike="noStrike">
              <a:solidFill>
                <a:srgbClr val="2b519a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$ lcg-la --vo gilda lfn:/grid/gilda/vico/aliasToNote.tx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fn:/grid/gilda/vico/note.tx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fn:/grid/gilda/vico/aliasToNote.tx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13313-01A5-4A6B-A90E-8F6D7479C70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nds-on se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519a"/>
                </a:solidFill>
                <a:latin typeface="Arial"/>
              </a:rPr>
              <a:t>Exercise No.2:</a:t>
            </a: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verify that you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CG_GFAL_INFOSYS </a:t>
            </a:r>
            <a:r>
              <a:rPr b="0" lang="en-US" sz="2500" spc="-1" strike="noStrike">
                <a:solidFill>
                  <a:srgbClr val="2b519a"/>
                </a:solidFill>
                <a:latin typeface="Arial"/>
              </a:rPr>
              <a:t>is correctly set up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b519a"/>
                </a:solidFill>
                <a:latin typeface="Arial"/>
              </a:rPr>
              <a:t>create a dummy file 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b519a"/>
                </a:solidFill>
                <a:latin typeface="Arial"/>
              </a:rPr>
              <a:t>check the available storage elements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b519a"/>
                </a:solidFill>
                <a:latin typeface="Arial"/>
              </a:rPr>
              <a:t>copy and register the previous created file into your previously created dir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b519a"/>
                </a:solidFill>
                <a:latin typeface="Arial"/>
              </a:rPr>
              <a:t>add an alias to the just uploaded file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b519a"/>
                </a:solidFill>
                <a:latin typeface="Arial"/>
              </a:rPr>
              <a:t>check if the alias was assigned correctly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4BFD8-439D-4686-A616-48D9CB56CB3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cg-utils commands for replicas (I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ing a file from one SE to another one and register it in the Catalog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lcg-rep -d dest_file | dest_host [-v | --verbose] --vo vo src_fil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where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_hos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is the fully qualified hostname of the destination S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_file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is a valid SURL (both sfn:// or srm:// are valid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</a:t>
            </a: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pecifies the Virtual Organization the user belongs to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_file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pecifies  the  source file name: the protocol can be LFN, GUID or SURL.  An SURL scheme can be sfn: for a classical SE or srm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7440" y="4334040"/>
            <a:ext cx="826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6960" y="3727440"/>
            <a:ext cx="8469360" cy="28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 lcg-rep -v -d grid009.ct.infn.it --vo gilda lfn:/grid/gilda/vico/note.txt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grid catalog type: lfc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 URL: lfn:/grid/gilda/vico/note.txt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ize: 51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tination specified: grid009.ct.infn.it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 URL for copy: gsiftp://grid-se.bio.dist.unige.it/flatfiles/SE00/gilda/generated/2005-07-17/file1f0e73d8-7e3f-47d1-bc95-c03c92aae569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tination URL for copy: gsiftp://grid009.ct.infn.it/flatfiles/SE00/gilda/generated/2005-07-17/file4f3b4cb2-b5fe-467e-9a3e-1ef602465a17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# streams: 1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er took 2410 ms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tination URL registered in LRC: sfn://grid009.ct.infn.it/flatfiles/SE00/gilda/generated/2005-07-17/file4f3b4cb2-b5fe-467e-9a3e-1ef602465a17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BF9E2-3612-4B2D-AFF3-234685137E4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cg-utils commands for replicas (II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sting of replicas for a given LFN, GUID or SURL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cg-lr  --vo vo fil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where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</a:t>
            </a: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pecifies the Virtual Organization the user belongs to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 specifies the Logical File Name, the Grid Unique IDentifier or the Site  URL.   An  SURL scheme can be sfn: for a classical SE or srm: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xample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 lcg-lr --vo gilda lfn:/grid/gilda/vico/note.tx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fn://grid-se.bio.dist.unige.it/flatfiles/SE00/gilda/generated/2005-07-17/file1f0e73d8-7e3f-47d1-bc95-c03c92aae569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fn://grid009.ct.infn.it/flatfiles/SE00/gilda/generated/2005-07-17/file4f3b4cb2-b5fe-467e-9a3e-1ef602465a17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or we got the same output using its GUI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 lcg-lr --vo gilda guid:4c10a8e3-2244-4c38-bc98-ed98ae7cb94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5CF22-B450-4A96-AC1A-1FF36D195F2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cg-utils commands for replicas (III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leting replica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lcg-del  [ -a ] [ -s se ] [ -v | --verbose ] --vo vo fil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here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is used</a:t>
            </a:r>
            <a:r>
              <a:rPr b="0" i="1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to delete all replicas of the given file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i="1" lang="en-US" sz="16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pecifies the SE from which you want to remove the replica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o</a:t>
            </a:r>
            <a:r>
              <a:rPr b="1" i="1" lang="en-US" sz="16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pecifies the Virtual Organization the user belongs to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pecifies  the  Logical  File Name, the Grid Unique IDentifier or the Site URL.  An SURL scheme can be sfn: for a classical SE or srm:.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Example: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lete one replica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$ lcg-del --vo gilda -s grid009.ct.infn.it lfn:/grid/gilda/vico/note.tx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lete all the replica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$ lcg-del -a --vo gilda lfn:/grid/gilda/vico/note.tx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let’s check if the previous command was successfu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$ lcg-lr --vo gilda lfn:/grid/gilda/vico/note.tx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g_lr: No such file or director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or by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lfs-ls /grid/gilda/vico </a:t>
            </a:r>
            <a:r>
              <a:rPr b="0" lang="en-US" sz="1700" spc="-1" strike="noStrike">
                <a:solidFill>
                  <a:srgbClr val="2b519a"/>
                </a:solidFill>
                <a:latin typeface="Arial"/>
              </a:rPr>
              <a:t>(you will not see anymore note.txt and its alias)</a:t>
            </a:r>
            <a:endParaRPr b="1" lang="en-US" sz="17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C5B86-190C-4FC5-8909-7BAD98B5D4D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utils: lcg-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wnloading a Grid file in a SE to a local destin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cg-cp [ -v |  --verbose ] --vo vo src_file dest_fil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here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o</a:t>
            </a:r>
            <a:r>
              <a:rPr b="1" i="1" lang="en-US" sz="16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pecifies the Virtual Organization the user belongs to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src_file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 specifies the source file name: the protocol can be LFN, GUID, SURL or  local  file.  An SURL scheme can be sfn: for a classical SE or srm: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dest_file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 specifies the destination. The protocol can be file:/// or gsiftp:///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Example: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$ lcg-cp --vo gilda lfn:/grid/gilda/vico/note2.txt file:/home/local/note2.tx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ource URL: lfn:/grid/gilda/vico/note2.txt</a:t>
            </a: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ile size: 51</a:t>
            </a: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ource URL for copy: </a:t>
            </a: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gsiftp://gilda-se-01.pd.infn.it/shared/gilda/generated/2005-07-17/file06c3b28c-465f-489c-be3c-b68728e1ca16</a:t>
            </a: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estination URL: file:/home/local/note2.txt</a:t>
            </a: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# streams: 1</a:t>
            </a: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ransfer took 1060 ms</a:t>
            </a: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51D5B-B7CD-46AD-B7F9-364EA832188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nds-on se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519a"/>
                </a:solidFill>
                <a:latin typeface="Arial"/>
              </a:rPr>
              <a:t>Exercise No.3:</a:t>
            </a: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Create two replicas of the file you previously uploaded (you could also use the alias to point it out)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Check if the operation was successful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Download the file back in your UI 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Delete just one replica and verify that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Delete all the replicas and verify that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Verify if the entry is still into the catalog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149C3-0E33-4E2A-B4B4-64A245561E6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BDII Environment Setting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3440" y="1591920"/>
            <a:ext cx="8848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To point at BDII (Berkeley Database Information Index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from your UIPnPcomb, edit </a:t>
            </a:r>
            <a:r>
              <a:rPr b="1" lang="it-IT" sz="2400" spc="-1" strike="noStrike">
                <a:solidFill>
                  <a:srgbClr val="62db07"/>
                </a:solidFill>
                <a:latin typeface="Arial"/>
              </a:rPr>
              <a:t>server3.gs.unina.it:2170 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a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value for variable </a:t>
            </a:r>
            <a:r>
              <a:rPr b="1" lang="it-IT" sz="2400" spc="-1" strike="noStrike">
                <a:solidFill>
                  <a:srgbClr val="fb2dec"/>
                </a:solidFill>
                <a:latin typeface="Arial"/>
              </a:rPr>
              <a:t>LCG_GFAL_INFOSYS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8a04"/>
                </a:solidFill>
                <a:latin typeface="Arial"/>
              </a:rPr>
              <a:t>&gt;vi UIPnPcomb/Environment.sh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6480" y="83808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ac3b8b"/>
                </a:solidFill>
                <a:latin typeface="Arial"/>
              </a:rPr>
              <a:t>STEP 4</a:t>
            </a:r>
            <a:endParaRPr b="0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4849920"/>
            <a:ext cx="8636040" cy="120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export LCG_GFAL_INFOSYS=server3.gs.unina.it:2170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FF64-A090-4211-BB82-F4014F345D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al exerci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AL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ubmit a job that does data management: it will  retrieve a file previously registered into the catalog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eps to follow up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reate a new file in your UI and put some data into i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hoose a SE to upload the file to (hint: use </a:t>
            </a: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lcg-infosites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nd use the appropriate command to accomplish at this operation </a:t>
            </a:r>
            <a:r>
              <a:rPr b="0" lang="en-US" sz="1900" spc="-1" strike="noStrike">
                <a:solidFill>
                  <a:srgbClr val="00338f"/>
                </a:solidFill>
                <a:latin typeface="Courier New"/>
              </a:rPr>
              <a:t>(</a:t>
            </a: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lcg-cr –v –vo gilda –l lfn:/grid/gilda/vico/&lt;choose an lfn&gt; -d &lt;an SE host&gt; file:`pwd`/&lt;your new file&gt;</a:t>
            </a:r>
            <a:r>
              <a:rPr b="1" lang="en-US" sz="1900" spc="-1" strike="noStrike">
                <a:solidFill>
                  <a:srgbClr val="2b519a"/>
                </a:solidFill>
                <a:latin typeface="Courier New"/>
              </a:rPr>
              <a:t>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reate a script.sh file with the following content: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3760" y="4068720"/>
            <a:ext cx="8395200" cy="159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#!/bin/sh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/bin/hostname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#Change the LFN_NAME to download from the Catalog.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cho "Start to download.."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lcg-cp --vo gilda lfn:/grid/gilda/vico/&lt;lfn you choose&gt; file:`pwd`/output.dat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cho "Done.."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59935-98C8-4BC5-8D7F-3D368888846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al exercise (I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reate the JobWithData.jdl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93760" y="1512720"/>
            <a:ext cx="8621640" cy="339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Type = "job"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JobType = "Normal"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xecutable = "/bin/sh"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rguments = "script.sh"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irtualOrganisation = "gilda"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dOutput = "std.out"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dError = "std.err"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putSandbox = {"script.sh"}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OutputSandbox = {"std.out","std.err","output.dat"}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36520" y="5033880"/>
            <a:ext cx="8589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ubmit it to the grid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Retrieve the output and verify the content of output.dat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28051-C2CC-4E87-9C4E-4A7083CD607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 of lcg-utils comm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21812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Replica Management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5760" y="1461960"/>
          <a:ext cx="8480160" cy="2151360"/>
        </p:xfrm>
        <a:graphic>
          <a:graphicData uri="http://schemas.openxmlformats.org/drawingml/2006/table">
            <a:tbl>
              <a:tblPr/>
              <a:tblGrid>
                <a:gridCol w="1466640"/>
                <a:gridCol w="7013520"/>
              </a:tblGrid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cp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ies a grid file to a local destination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cr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ies a file to a SE and registers the file in the catalog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del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one file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rep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lication between SEs and registration of the replica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gt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s the TURL for a given SURL and transfer protocol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sd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s file status to “Done” for a given SURL in a SRM request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>
            <a:off x="317880" y="367344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File Catalog Interac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46040" y="4046400"/>
          <a:ext cx="8489520" cy="2362320"/>
        </p:xfrm>
        <a:graphic>
          <a:graphicData uri="http://schemas.openxmlformats.org/drawingml/2006/table">
            <a:tbl>
              <a:tblPr/>
              <a:tblGrid>
                <a:gridCol w="1230120"/>
                <a:gridCol w="725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aa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an alias in LFC for a given GUID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ra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 an alias in LFC for a given GUID 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rf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s in LFC a file placed in a SE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uf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registers in LFC a file placed in a SE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la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s the alias for a given SURL, GUID or LFN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lg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the GUID for a given LFN or SURL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lr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s the replicas for a given GUID, SURL or LFN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2B7A7-0BA6-4F71-B507-89BF5A3C23B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bliograph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47320" y="1074600"/>
            <a:ext cx="8458200" cy="53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Information on the file catalog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857160" indent="-39996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LFC, gfal, lcg-utils: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8571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“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Evolution of LCG-2 Data Management (J-P Baud, J. Casey)”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2762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ac3b8b"/>
                </a:solidFill>
                <a:uFillTx/>
                <a:latin typeface="Arial"/>
                <a:hlinkClick r:id="rId1"/>
              </a:rPr>
              <a:t>http://indico.cern.ch/contributionDisplay.py?contribId=278&amp;sessionId=7&amp;confId=0</a:t>
            </a: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  <a:p>
            <a:pPr lvl="2" marL="1276200" indent="0"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857160" indent="-39996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LFC installation, administration, migration from RLS: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276200" indent="-3618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c3b8b"/>
                </a:solidFill>
                <a:latin typeface="Arial"/>
              </a:rPr>
              <a:t>Wiki entries indicated through the presentation: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3" marL="1714680" indent="-343080">
              <a:spcBef>
                <a:spcPts val="349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ac3b8b"/>
                </a:solidFill>
                <a:uFillTx/>
                <a:latin typeface="Arial"/>
                <a:hlinkClick r:id="rId2"/>
              </a:rPr>
              <a:t>http://goc.grid.sinica.edu.tw/gocwiki/How_to_set_up_an_LFC_service</a:t>
            </a:r>
            <a:r>
              <a:rPr b="0" i="1" lang="en-US" sz="14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i="1" lang="en-US" sz="1400" spc="-1" strike="noStrike">
              <a:solidFill>
                <a:srgbClr val="00338f"/>
              </a:solidFill>
              <a:latin typeface="Arial"/>
            </a:endParaRPr>
          </a:p>
          <a:p>
            <a:pPr lvl="3" marL="1714680" indent="-343080">
              <a:spcBef>
                <a:spcPts val="349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ac3b8b"/>
                </a:solidFill>
                <a:uFillTx/>
                <a:latin typeface="Arial"/>
                <a:hlinkClick r:id="rId3"/>
              </a:rPr>
              <a:t>http://goc.grid.sinica.edu.tw/gocwiki/How_to_migrate_the_RLS_entries_into_the_LCG_File_Catalog_%28LFC%29</a:t>
            </a:r>
            <a:endParaRPr b="0" i="1" lang="en-US" sz="1400" spc="-1" strike="noStrike">
              <a:solidFill>
                <a:srgbClr val="00338f"/>
              </a:solidFill>
              <a:latin typeface="Arial"/>
            </a:endParaRPr>
          </a:p>
          <a:p>
            <a:pPr lvl="2" marL="12762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  <a:p>
            <a:pPr lvl="1" marL="857160" indent="-39996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LFC contacts: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276200" indent="-3618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ac3b8b"/>
                </a:solidFill>
                <a:uFillTx/>
                <a:latin typeface="Arial"/>
                <a:hlinkClick r:id="rId4"/>
              </a:rPr>
              <a:t>Jean-</a:t>
            </a:r>
            <a:r>
              <a:rPr b="0" lang="en-US" sz="1900" spc="-1" strike="noStrike" u="sng">
                <a:solidFill>
                  <a:srgbClr val="ac3b8b"/>
                </a:solidFill>
                <a:uFillTx/>
                <a:latin typeface="Arial"/>
                <a:hlinkClick r:id="rId5"/>
              </a:rPr>
              <a:t>Philippe.Baud@cern.ch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276200" indent="-3618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ac3b8b"/>
                </a:solidFill>
                <a:uFillTx/>
                <a:latin typeface="Arial"/>
                <a:hlinkClick r:id="rId6"/>
              </a:rPr>
              <a:t>Sophie.Lemaitre@cern.ch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60A6D-96A7-49BA-8875-EEE81299B1C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31480" y="2498400"/>
            <a:ext cx="858996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2b519a"/>
                </a:solidFill>
                <a:latin typeface="Arial"/>
              </a:rPr>
              <a:t>FireMan Practical</a:t>
            </a:r>
            <a:endParaRPr b="1" lang="en-US" sz="4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184480" y="5842080"/>
            <a:ext cx="4521240" cy="368280"/>
          </a:xfrm>
          <a:prstGeom prst="rect">
            <a:avLst/>
          </a:prstGeom>
          <a:solidFill>
            <a:srgbClr val="2b519a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Emidio Giorgio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81B5-D473-4891-90A9-A8DBB8852C1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owsing the catalo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&gt; </a:t>
            </a:r>
            <a:r>
              <a:rPr b="1" lang="it-IT" sz="2400" spc="-1" strike="noStrike">
                <a:solidFill>
                  <a:srgbClr val="bb2c05"/>
                </a:solidFill>
                <a:latin typeface="Courier New"/>
              </a:rPr>
              <a:t>glite-catalog-ls &lt;file/directory to list&gt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b519a"/>
                </a:solidFill>
                <a:latin typeface="Arial"/>
              </a:rPr>
              <a:t>Main options :</a:t>
            </a: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-l  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long output (with permissions)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-s  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URL, specify the service endpoint (i.e. the catalog to use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-c </a:t>
            </a: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Display the creation time instead of the modification tim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-g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Also display GUID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Check all the options with –h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ACL :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for regular files,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 for directory,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l 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for symbolic links and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 for virtual directories.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 indicates the permission to change attribute, while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d 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rights to delete the entry. Successive 12 bits indicates, for user (u), group (g), other (o), permission to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ead,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rite,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ist contents or e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ecute the content. Last two are reserved for metadata use, and so are currently unused. They will show the right to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et or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et the metadata.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Courier New"/>
              </a:rPr>
              <a:t>&gt; glite-catalog-ls -l /test1103                                              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Courier New"/>
              </a:rPr>
              <a:t>-pdrwl-gs--r-l-g---------   30  2005-07-18 11:01:55 /test1103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1C509-D7E9-4F84-AA59-D5F3E3D3A0F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Upload and register a file : glite-pu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bb2c05"/>
                </a:solidFill>
                <a:latin typeface="Courier New"/>
              </a:rPr>
              <a:t>glite-put &lt;localfilename&gt; &lt;remotefilename&gt; [-m &lt;mode&gt;] [-c &lt;config&gt;]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glite-put copies a local file to a gLite I/O server, updating also the File Catalog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The file is copied in the IO server pointed by the UI’s IO cli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The catalog updated is the one associated with that IO serv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gt; </a:t>
            </a: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glite-put file2register lfn:///test1156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[glite_put] Total 0.00 MB |====================| 100.00 % [0.0 Mb/s]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Transfer Completed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LFN                     : /test1156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GUID                    : 0002bb56-7ce9-12db-bf0e-c0a70228beef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SURL                    : srm://glite-se.ct.infn.it:8443/srm/managerv1?SFN=/pnfs/ct.infn.it/data/gilda/test1156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Data Written [bytes]    : 30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Eff.Transfer Rate[Mb/s] : 0.000005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673F0-4091-4FC7-958C-4BA58048853F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heck FC entries : glite-catalog-sta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b2c05"/>
                </a:solidFill>
                <a:latin typeface="Courier New"/>
              </a:rPr>
              <a:t>glite-catalog-stat [options] URI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glite-catalog-stat 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gives all the informations on a catalog entries, including file/directory permissions, GUID, owner/group, SURL location…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It’s very useful to verify correct setting of permissions and ownership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AEAF2-957D-48C9-AB51-2459EF237E8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Download a file : glite-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6290c"/>
                </a:solidFill>
                <a:latin typeface="Courier New"/>
              </a:rPr>
              <a:t>glite-get &lt;remotefilename&gt; &lt;localfilename&gt; [-c &lt;config&gt;]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glite-get download locally a file from the IO server pointed by the UI’s clien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glite-get lfn:///emacs localcopy</a:t>
            </a: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                                         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[glite_get] Total 0.00 MB       |====================| 100.00 % [0.0 Mb/s]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Transfer Completed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LFN                     : /emacs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GUID                    : 0032f276-8402-12db-9124-c0a70219beef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SURL                    : srm://lxcde08.pd.infn.it:8443/srm/managerv1?SFN=/pnfs/pd.infn.it/data/gilda/emacs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Data Written [bytes]    : 237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Eff.Transfer Rate[Mb/s] : 0.000067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E9A0A-FE1B-4ADA-AF59-F69282FACC7C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Remove a f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bb2c05"/>
                </a:solidFill>
                <a:latin typeface="Courier New"/>
              </a:rPr>
              <a:t>glite-rm &lt;remotefilename&gt; </a:t>
            </a:r>
            <a:r>
              <a:rPr b="1" lang="it-IT" sz="2400" spc="-1" strike="noStrike">
                <a:solidFill>
                  <a:srgbClr val="d6290c"/>
                </a:solidFill>
                <a:latin typeface="Courier New"/>
              </a:rPr>
              <a:t>[-c &lt;config&gt;]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glite-rm removes a file from the IO server pointed by the UI, updating also the file catalog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ourier New"/>
              </a:rPr>
              <a:t>glite-rm lfn:///emacs                                                       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ourier New"/>
              </a:rPr>
              <a:t>Unlink Completed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2b519a"/>
                </a:solidFill>
                <a:latin typeface="Courier New"/>
              </a:rPr>
              <a:t>File          : lfn:///emacs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2b519a"/>
                </a:solidFill>
                <a:latin typeface="Courier New"/>
              </a:rPr>
              <a:t>Time [s]      : 4.255000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b2c05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7BFEC-AAB4-4516-824B-011C28DA9702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Default VO setting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31760" y="3324240"/>
            <a:ext cx="7701120" cy="30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oggingDestination = "server3.gs.unina.it:9002"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# Default NS logger level is set to 0 (null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# max value is 6 (very ugly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NSLoggerLevel = 0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efaultLogInfoLevel = 0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efaultStatusLevel = 0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efaultVo = "gilda"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3080" y="1714680"/>
            <a:ext cx="8445240" cy="156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You can edit the following file to set the default Virtual Organisation (VO):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8a04"/>
                </a:solidFill>
                <a:latin typeface="Arial"/>
              </a:rPr>
              <a:t>&gt;vi UIPnPcomb/edg/etc/edg_wl_ui_cmd_var.conf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6480" y="88884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ac3b8b"/>
                </a:solidFill>
                <a:latin typeface="Arial"/>
              </a:rPr>
              <a:t>STEP 5</a:t>
            </a:r>
            <a:endParaRPr b="0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5435640"/>
            <a:ext cx="622080" cy="495360"/>
          </a:xfrm>
          <a:prstGeom prst="rightArrow">
            <a:avLst>
              <a:gd name="adj1" fmla="val 50000"/>
              <a:gd name="adj2" fmla="val 31395"/>
            </a:avLst>
          </a:prstGeom>
          <a:solidFill>
            <a:srgbClr val="3d8a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407000">
            <a:off x="7569000" y="1065960"/>
            <a:ext cx="1098360" cy="563760"/>
          </a:xfrm>
          <a:prstGeom prst="octagon">
            <a:avLst>
              <a:gd name="adj" fmla="val 29287"/>
            </a:avLst>
          </a:prstGeom>
          <a:solidFill>
            <a:srgbClr val="3d8a04"/>
          </a:solidFill>
          <a:ln w="25560">
            <a:solidFill>
              <a:srgbClr val="f4c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4ce00"/>
                </a:solidFill>
                <a:latin typeface="Arial"/>
              </a:rPr>
              <a:t>LCG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02FC4-2854-4593-85DA-811DCC591F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7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2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7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2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7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2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7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2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7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2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700"/>
                            </p:stCondLst>
                            <p:childTnLst>
                              <p:par>
                                <p:cTn id="3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Create a text file containing your name, surname and your birthplac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Copy and register the file assigning as remote file name your usernam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Verify correct file creation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Download the file you’ve just created, changing its local file nam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Delete the file from the catalog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Verify the correct file deletion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95A76-42E5-4894-9700-FA30BA0C0E1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0400" y="2701800"/>
            <a:ext cx="858996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2b519a"/>
                </a:solidFill>
                <a:latin typeface="Arial"/>
              </a:rPr>
              <a:t>R-GMA Practical</a:t>
            </a:r>
            <a:endParaRPr b="1" lang="en-US" sz="4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00480" y="5613480"/>
            <a:ext cx="4520880" cy="368280"/>
          </a:xfrm>
          <a:prstGeom prst="rect">
            <a:avLst/>
          </a:prstGeom>
          <a:solidFill>
            <a:srgbClr val="96baee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c3b8b"/>
                </a:solidFill>
                <a:latin typeface="Arial"/>
              </a:rPr>
              <a:t>Valeria Ardizzon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721A2-DA01-48E2-86DB-78B37341518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45600" y="974880"/>
            <a:ext cx="8589960" cy="17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To Start the R-GMA command line tool run the following command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UIPnPcomb&gt;rgma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On startup you should receive the following message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GMA Command Line Tool (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61800" y="3195720"/>
            <a:ext cx="8259840" cy="222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6E48C-B82E-476D-90A0-42201CD72E7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Commands are entered by typing at the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rgma&gt;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prompt and hitting ‘enter’ to execute the command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history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of the commands executed can be accessed using the Up and Down arrow keys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o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search a command from history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use CTRL-R and type the first few letters of the command to  recall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Command autocompletion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is supported (use Tab when you have partly entered a command)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ntering Comma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A63D8-ED97-45CE-823F-6421CC554B4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General Comm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45600" y="784080"/>
            <a:ext cx="8589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13d3d"/>
                </a:solidFill>
                <a:uFillTx/>
                <a:latin typeface="Arial"/>
              </a:rPr>
              <a:t>General Command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help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Display general help information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help &lt;command&gt;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Display help for a specific command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help examples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Display list of example commands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exit or qui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Exit from R-GMA command line interface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Show tabl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Display the name of all tables existing in the Schema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Describe &lt;tablename&gt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Show all information about the structure of a tab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3F60E-9016-4514-9E66-A683F9D8EAA5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Querying Data (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Querying data uses the standard SQL SELECT statement, e.g.: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SELECT * FROM ServiceStat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he behaviour of SELECT varies according to the type of query being executed. In R-GMA there are three basic types of query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LATEST Queries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only the most recent tuple for each primary ke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HISTORY Queries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all historical tuples for each primary ke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CONTINUOUS Queries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returns tuples continuously as they are inserted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59886-F615-433D-8680-773CE46EE2B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he type of query can be changed using the SET QUERY command as follow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SET QUERY LATES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or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     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SET QUERY CONTINUO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he current query type can be displayed using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SHOW QUER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Querying Data (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FA53-4A3A-4887-8195-BFFF51FF7E4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6476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1.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Display all the table of the Schema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show tabl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2.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Display information about Site tab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describe Sit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3.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Basic select query on the table named 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Sit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set query lates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show query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select Name,Latitude,Longitude from Sit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478D8-5196-4C9E-AEDF-D2A2726E0719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Maximum AGE of tup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he maximum age of tuples to return can also be controlled. To limit the age of latest or historical tuples use the SET MAXAGE command. The following are equivalent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SET MAXAGE 2 minut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SET MAXAGE 120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he current maximum tuple age can be displayed using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SHOW MAXAG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o disable the maximum age, set it to none: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SET MAXAGE non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36C0E-7AF3-49B0-BB67-EDE7B16DB9FC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Query Timeou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he final property affecting queries is timeout.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1b03ad"/>
                </a:solidFill>
                <a:latin typeface="Arial"/>
              </a:rPr>
              <a:t>For a latest or history query the timeout exists to prevent a problem (e.g. network failure) from stopping the query from completing.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1b03ad"/>
                </a:solidFill>
                <a:latin typeface="Arial"/>
              </a:rPr>
              <a:t>For a continuous query, timeout indicates how long the query will continue to return new tuples. Default timeout is 1 minute and it can be changed using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   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SET TIMEOUT 3 minutes 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or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  SET TIMEOUT 180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he current timeout can be displayed using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     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SHOW TIMEOU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ED88B-7BDF-44A1-822E-6AD06FF2C9E8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15:19:35Z</dcterms:created>
  <dc:creator>Marc-Elian Bégin</dc:creator>
  <dc:description/>
  <dc:language>en-US</dc:language>
  <cp:lastModifiedBy>Rita</cp:lastModifiedBy>
  <dcterms:modified xsi:type="dcterms:W3CDTF">2005-07-19T10:51:01Z</dcterms:modified>
  <cp:revision>413</cp:revision>
  <dc:subject/>
  <dc:title>Slide 1</dc:title>
</cp:coreProperties>
</file>