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png" ContentType="image/png"/>
  <Override PartName="/ppt/media/image54.png" ContentType="image/png"/>
  <Override PartName="/ppt/media/image11.wmf" ContentType="image/x-wmf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4.jpeg" ContentType="image/jpeg"/>
  <Override PartName="/ppt/media/image43.png" ContentType="image/png"/>
  <Override PartName="/ppt/media/image55.jpeg" ContentType="image/jpeg"/>
  <Override PartName="/ppt/media/image41.png" ContentType="image/png"/>
  <Override PartName="/ppt/media/image50.png" ContentType="image/png"/>
  <Override PartName="/ppt/media/image5.jpeg" ContentType="image/jpeg"/>
  <Override PartName="/ppt/media/image42.png" ContentType="image/png"/>
  <Override PartName="/ppt/media/image26.jpeg" ContentType="image/jpe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20.jpeg" ContentType="image/jpeg"/>
  <Override PartName="/ppt/media/image22.wmf" ContentType="image/x-wmf"/>
  <Override PartName="/ppt/media/image65.png" ContentType="image/png"/>
  <Override PartName="/ppt/media/image27.jpeg" ContentType="image/jpeg"/>
  <Override PartName="/ppt/media/image73.png" ContentType="image/png"/>
  <Override PartName="/ppt/media/image67.jpeg" ContentType="image/jpeg"/>
  <Override PartName="/ppt/media/image71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31.png" ContentType="image/png"/>
  <Override PartName="/ppt/media/image18.png" ContentType="image/png"/>
  <Override PartName="/ppt/media/image6.png" ContentType="image/png"/>
  <Override PartName="/ppt/media/image66.png" ContentType="image/png"/>
  <Override PartName="/ppt/media/image64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3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38.jpeg" ContentType="image/jpeg"/>
  <Override PartName="/ppt/media/image52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0.wmf" ContentType="image/x-wmf"/>
  <Override PartName="/ppt/media/image2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5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EB78-13E2-4B8E-8390-EDD9D8041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8AEF-13D0-4481-9B75-A2A3101E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0402-195B-4D7F-ADF0-E4FC4854A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6E4D-EE9D-4929-B80B-4B70B6881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2851-9152-4BA8-A52C-1B05487F5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E5A0-8FA3-4B8F-A546-156F81F20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C9F6-75EF-4350-B4C3-84AD8A8C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191B-82F6-43FE-B5B6-AE2A83E92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0752-27CD-43A2-A44F-40587E216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A948-FA4F-4451-BD90-4161CBF63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BD46-DE41-4065-BA8E-FFC2AFE0D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BBD6-5FFB-4B20-BE73-FF677D858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BAD-9896-4FAC-B5B0-323E1FC578EE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-koeln.de/math-nat-fak/geomet/meteo/winfos/euisoTTPPWW18.gif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hyperlink" Target="http://www.geant2.net/server/show/nav.00d" TargetMode="External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jpeg"/><Relationship Id="rId6" Type="http://schemas.openxmlformats.org/officeDocument/2006/relationships/image" Target="../media/image73.pn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u-egee.org/" TargetMode="External"/><Relationship Id="rId2" Type="http://schemas.openxmlformats.org/officeDocument/2006/relationships/hyperlink" Target="http://public.eu-egee.org/join/" TargetMode="External"/><Relationship Id="rId3" Type="http://schemas.openxmlformats.org/officeDocument/2006/relationships/hyperlink" Target="mailto:project-eu-egee-po@cern.ch" TargetMode="External"/><Relationship Id="rId4" Type="http://schemas.openxmlformats.org/officeDocument/2006/relationships/hyperlink" Target="mailto:project-eu-egee-po@cern.ch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gee-na4.ct.infn.it/requirements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5320" y="1992240"/>
            <a:ext cx="65185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The EGEE project – Building a Global Production Grid 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b519a"/>
                </a:solidFill>
                <a:latin typeface="Arial"/>
              </a:rPr>
              <a:t>Fabrizio Gagliardi</a:t>
            </a:r>
            <a:endParaRPr b="1" i="1" lang="en-US" sz="24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Project Director EGEE</a:t>
            </a:r>
            <a:endParaRPr b="1" i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CERN, Switzerland</a:t>
            </a:r>
            <a:endParaRPr b="1" i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494172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5faf"/>
                </a:solidFill>
                <a:latin typeface="Arial"/>
              </a:rPr>
              <a:t>Vico Equense, Naples, 18 June 2005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Interoper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eroperability with other Grids mainly needed at resourc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ame physical resource should be exploitable in different Grid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pproa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duce requirements on sit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uting Element: globus gatekeepe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orage Element: SR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ose connection with other projec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SG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Use EGEE architecture and design documents as basis for their bluepri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Common members in design team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12F7-1299-42F4-8448-3A04AC7CC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lot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High-Energy Physics (HEP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Provides computing infrastructure (LCG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hallenging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ousands of processors world-wi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nerating terabytes of dat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‘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aotic’ use of grid with individual user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nalysis (thousands of users interactively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rating within experiment VO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Biomedical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milar computing and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ata storage require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ajor challenge: securit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8160" y="98100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2124000" cy="1787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1871640" cy="13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1863-BF2B-43D8-AEFB-196B57E13B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oMed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2.000 CP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21 TB disk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 12 coun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&gt;50 users in 7 countries working with 12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18 research lab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~80.000 jobs launched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ce 04/2004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~10 CPU year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40360" y="1125360"/>
            <a:ext cx="3816360" cy="1511280"/>
            <a:chOff x="4140360" y="1125360"/>
            <a:chExt cx="3816360" cy="1511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4140360" y="1125360"/>
              <a:ext cx="38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64680" y="220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6760" y="1595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30960" y="19126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3800" y="1768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6720" y="1552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1160" y="1703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960" y="1336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6400" y="1541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1811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2920" y="14698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6760" y="16966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43640" y="14079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4284720" y="4076640"/>
          <a:ext cx="4465440" cy="209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4076640"/>
                    <a:ext cx="44654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30072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3344400" y="47210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umber of jo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27D1-F755-43C9-BDA1-76D1B8081E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79804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EANT4 Application to Tomography Emiss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adiotherapy planning to improv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reatment of tumors computed from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e-treatment MR sca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ANT4-based software to model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hysics of nuclear medicin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onte Carlo simulation to improv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ccuracy of comput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itting the random number sequences needed for Monte Carlo simulations enables independent comput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rallelization reduces the total comput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utation time reduced BUT not sufficiently for clinical practi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urther optimizations are on-going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arge community of users is interested in GAT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210520" y="0"/>
          <a:ext cx="933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rcRect l="0" t="7498" r="0" b="0"/>
          <a:stretch/>
        </p:blipFill>
        <p:spPr>
          <a:xfrm>
            <a:off x="5904000" y="1455840"/>
            <a:ext cx="3060720" cy="26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7453-86D4-49B1-B0E4-88CFEC811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98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linical Decision Support Syste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xtract clinically relevant knowledge to guid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actitioners in their clinical practic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arting from trained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se classifier engin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are to annotated databases to classify dat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biquitous access to distributed databases and classifier engin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id information system to publish and discover data sources and engin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utomatic management of login and secur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2 classification engines availab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000 medical cases registere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ynamic discovery of all engines can be implemented on top of the grid information syste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ccounting will be provided by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1028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1800360" cy="1712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659640" y="2924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5faf"/>
                </a:solidFill>
                <a:latin typeface="Arial"/>
              </a:rPr>
              <a:t>Classification of </a:t>
            </a:r>
            <a:br>
              <a:rPr sz="1400"/>
            </a:br>
            <a:r>
              <a:rPr b="1" lang="en-US" sz="1400" spc="-1" strike="noStrike">
                <a:solidFill>
                  <a:srgbClr val="325faf"/>
                </a:solidFill>
                <a:latin typeface="Arial"/>
              </a:rPr>
              <a:t>tumours in soft tissues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D29F-51EA-4C26-A6C6-A1B95DCA3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rmacokine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7539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-registration of Medical Imag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ntrast Agent Diffusion to characterize tumour tissues without biops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-registration requires deformable registration method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mpute intensiv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cessing of compute intensive co-registration and generation of diffusion maps for the 3D MRI Studies.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arallel &amp; independent computations on different input data se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st clinical test: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12 patients with 13 MRI studies each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ach study comprises 24 512x512 12-bit sli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cessing of the registration algorithm takes around 12 hours per stud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Registration parameters tuned with four possible combin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ach combination of parameter took 2 hour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72 times faster than with a single comput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1028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028000" y="101772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028000" y="21351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028000" y="32529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8028000" y="43671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028000" y="5481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7FFF-4FC0-4343-BC6B-10BA789089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77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S@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5600" y="907920"/>
            <a:ext cx="8589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rid Protein Structure Analysi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grating up-to-date databases and relevant algorithms for bio-informatic analysis of data from genome sequencing proje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tein databases are stored on the grid as flat fil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tein sequence analysis tools run unchanged on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utput is analysed and displayed in graphic format through the web interfa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nvenient way to distribute and access international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databanks, and to store more and larger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mpute larger datasets with available algorithm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pen to a wider user commun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9 bioinformatic softwares gridified so far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rge number of rather short jobs (few minutes each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ptimizations on-going to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338f"/>
                </a:solidFill>
                <a:latin typeface="Arial"/>
              </a:rPr>
              <a:t>speed up access to databases</a:t>
            </a:r>
            <a:endParaRPr b="0" i="1" lang="en-US" sz="1500" spc="-1" strike="noStrike">
              <a:solidFill>
                <a:srgbClr val="00338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338f"/>
                </a:solidFill>
                <a:latin typeface="Arial"/>
              </a:rPr>
              <a:t>lower short jobs latencies</a:t>
            </a:r>
            <a:endParaRPr b="0" i="1" lang="en-US" sz="15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047080" y="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086600" y="3429000"/>
            <a:ext cx="20224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2CA3-CCE0-4225-925F-29FC31391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D Magnetic Resonance Image Simul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Better understand MR physics by studying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R sequences </a:t>
            </a: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in silico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nd MR artefa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alidate MR Image processing algorithms on synthetic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but realistic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eeds up the simul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nables simulation of high resolution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Offers an access to MPI-enabled cluste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anageable computation time for medium size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ment of a portal to ease access to the applic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mplementation of new artifa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253960" y="66240"/>
            <a:ext cx="49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RI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23040" y="162000"/>
            <a:ext cx="182880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380360" y="969840"/>
            <a:ext cx="1584360" cy="156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39880" y="3021120"/>
            <a:ext cx="1606680" cy="9064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2997360"/>
            <a:ext cx="1579320" cy="280800"/>
          </a:xfrm>
          <a:prstGeom prst="roundRect">
            <a:avLst>
              <a:gd name="adj" fmla="val 5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6720" y="3178080"/>
            <a:ext cx="1511280" cy="680760"/>
          </a:xfrm>
          <a:prstGeom prst="roundRect">
            <a:avLst>
              <a:gd name="adj" fmla="val 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77040" y="3254400"/>
            <a:ext cx="1110960" cy="462960"/>
          </a:xfrm>
          <a:prstGeom prst="roundRect">
            <a:avLst>
              <a:gd name="adj" fmla="val 2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948360" y="2924280"/>
            <a:ext cx="936720" cy="877680"/>
            <a:chOff x="6948360" y="2924280"/>
            <a:chExt cx="936720" cy="877680"/>
          </a:xfrm>
        </p:grpSpPr>
        <p:sp>
          <p:nvSpPr>
            <p:cNvPr id="242" name=""/>
            <p:cNvSpPr/>
            <p:nvPr/>
          </p:nvSpPr>
          <p:spPr>
            <a:xfrm>
              <a:off x="6948360" y="2924280"/>
              <a:ext cx="936720" cy="877680"/>
            </a:xfrm>
            <a:custGeom>
              <a:avLst/>
              <a:gdLst/>
              <a:ahLst/>
              <a:rect l="l" t="t" r="r" b="b"/>
              <a:pathLst>
                <a:path w="3141" h="3141">
                  <a:moveTo>
                    <a:pt x="785" y="0"/>
                  </a:moveTo>
                  <a:lnTo>
                    <a:pt x="0" y="785"/>
                  </a:lnTo>
                  <a:lnTo>
                    <a:pt x="0" y="3140"/>
                  </a:lnTo>
                  <a:lnTo>
                    <a:pt x="2355" y="3140"/>
                  </a:lnTo>
                  <a:lnTo>
                    <a:pt x="3140" y="2355"/>
                  </a:lnTo>
                  <a:lnTo>
                    <a:pt x="3140" y="0"/>
                  </a:lnTo>
                  <a:lnTo>
                    <a:pt x="78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8360" y="2924280"/>
              <a:ext cx="936720" cy="221400"/>
            </a:xfrm>
            <a:custGeom>
              <a:avLst/>
              <a:gdLst/>
              <a:ahLst/>
              <a:rect l="l" t="t" r="r" b="b"/>
              <a:pathLst>
                <a:path w="3141" h="793">
                  <a:moveTo>
                    <a:pt x="0" y="792"/>
                  </a:moveTo>
                  <a:lnTo>
                    <a:pt x="2355" y="792"/>
                  </a:lnTo>
                  <a:lnTo>
                    <a:pt x="314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50720" y="3144600"/>
              <a:ext cx="1080" cy="65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28280" y="3218760"/>
              <a:ext cx="574560" cy="464040"/>
              <a:chOff x="7028280" y="3218760"/>
              <a:chExt cx="574560" cy="464040"/>
            </a:xfrm>
          </p:grpSpPr>
          <p:sp>
            <p:nvSpPr>
              <p:cNvPr id="246" name=""/>
              <p:cNvSpPr/>
              <p:nvPr/>
            </p:nvSpPr>
            <p:spPr>
              <a:xfrm>
                <a:off x="7030800" y="3218760"/>
                <a:ext cx="570600" cy="44568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028280" y="3218760"/>
                <a:ext cx="574560" cy="464040"/>
                <a:chOff x="7028280" y="3218760"/>
                <a:chExt cx="574560" cy="464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030800" y="3218760"/>
                  <a:ext cx="567720" cy="44460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028280" y="3219840"/>
                  <a:ext cx="574560" cy="462960"/>
                  <a:chOff x="7028280" y="3219840"/>
                  <a:chExt cx="574560" cy="4629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7030800" y="3219840"/>
                    <a:ext cx="567720" cy="4435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028280" y="3219840"/>
                    <a:ext cx="574560" cy="46296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R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7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image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52" name=""/>
          <p:cNvGrpSpPr/>
          <p:nvPr/>
        </p:nvGrpSpPr>
        <p:grpSpPr>
          <a:xfrm>
            <a:off x="779400" y="2928960"/>
            <a:ext cx="912600" cy="931680"/>
            <a:chOff x="779400" y="2928960"/>
            <a:chExt cx="912600" cy="931680"/>
          </a:xfrm>
        </p:grpSpPr>
        <p:grpSp>
          <p:nvGrpSpPr>
            <p:cNvPr id="253" name=""/>
            <p:cNvGrpSpPr/>
            <p:nvPr/>
          </p:nvGrpSpPr>
          <p:grpSpPr>
            <a:xfrm>
              <a:off x="855360" y="3236760"/>
              <a:ext cx="719280" cy="574920"/>
              <a:chOff x="855360" y="3236760"/>
              <a:chExt cx="719280" cy="57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855360" y="3236760"/>
                <a:ext cx="71928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855360" y="3236760"/>
                <a:ext cx="717840" cy="573120"/>
                <a:chOff x="855360" y="3236760"/>
                <a:chExt cx="717840" cy="573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55360" y="3236760"/>
                  <a:ext cx="717840" cy="57312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855360" y="3236760"/>
                  <a:ext cx="717840" cy="573120"/>
                  <a:chOff x="855360" y="3236760"/>
                  <a:chExt cx="717840" cy="5731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855360" y="3236760"/>
                    <a:ext cx="717840" cy="5731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57520" y="3240000"/>
                    <a:ext cx="577440" cy="46296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Virtual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  <a:p>
                    <a:pPr>
                      <a:lnSpc>
                        <a:spcPct val="97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bject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0" name=""/>
            <p:cNvSpPr/>
            <p:nvPr/>
          </p:nvSpPr>
          <p:spPr>
            <a:xfrm>
              <a:off x="779400" y="3201840"/>
              <a:ext cx="901440" cy="658800"/>
            </a:xfrm>
            <a:prstGeom prst="roundRect">
              <a:avLst>
                <a:gd name="adj" fmla="val 2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831600" y="2928960"/>
              <a:ext cx="860400" cy="900000"/>
              <a:chOff x="831600" y="2928960"/>
              <a:chExt cx="860400" cy="90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831600" y="2928960"/>
                <a:ext cx="860400" cy="900000"/>
              </a:xfrm>
              <a:custGeom>
                <a:avLst/>
                <a:gdLst/>
                <a:ahLst/>
                <a:rect l="l" t="t" r="r" b="b"/>
                <a:pathLst>
                  <a:path w="3193" h="3109">
                    <a:moveTo>
                      <a:pt x="799" y="0"/>
                    </a:moveTo>
                    <a:lnTo>
                      <a:pt x="0" y="778"/>
                    </a:lnTo>
                    <a:lnTo>
                      <a:pt x="0" y="3108"/>
                    </a:lnTo>
                    <a:lnTo>
                      <a:pt x="2393" y="3108"/>
                    </a:lnTo>
                    <a:lnTo>
                      <a:pt x="3192" y="2330"/>
                    </a:lnTo>
                    <a:lnTo>
                      <a:pt x="3192" y="0"/>
                    </a:lnTo>
                    <a:lnTo>
                      <a:pt x="7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1600" y="2928960"/>
                <a:ext cx="860400" cy="227160"/>
              </a:xfrm>
              <a:custGeom>
                <a:avLst/>
                <a:gdLst/>
                <a:ahLst/>
                <a:rect l="l" t="t" r="r" b="b"/>
                <a:pathLst>
                  <a:path w="3193" h="784">
                    <a:moveTo>
                      <a:pt x="0" y="783"/>
                    </a:moveTo>
                    <a:lnTo>
                      <a:pt x="2393" y="783"/>
                    </a:lnTo>
                    <a:lnTo>
                      <a:pt x="319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75640" y="3156120"/>
                <a:ext cx="720" cy="672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635280" y="2925720"/>
            <a:ext cx="1584360" cy="934920"/>
            <a:chOff x="3635280" y="2925720"/>
            <a:chExt cx="1584360" cy="934920"/>
          </a:xfrm>
        </p:grpSpPr>
        <p:grpSp>
          <p:nvGrpSpPr>
            <p:cNvPr id="266" name=""/>
            <p:cNvGrpSpPr/>
            <p:nvPr/>
          </p:nvGrpSpPr>
          <p:grpSpPr>
            <a:xfrm>
              <a:off x="3635280" y="2925720"/>
              <a:ext cx="1584360" cy="934920"/>
              <a:chOff x="3635280" y="2925720"/>
              <a:chExt cx="1584360" cy="934920"/>
            </a:xfrm>
          </p:grpSpPr>
          <p:sp>
            <p:nvSpPr>
              <p:cNvPr id="267" name=""/>
              <p:cNvSpPr/>
              <p:nvPr/>
            </p:nvSpPr>
            <p:spPr>
              <a:xfrm>
                <a:off x="3635280" y="2925720"/>
                <a:ext cx="1584360" cy="934920"/>
              </a:xfrm>
              <a:custGeom>
                <a:avLst/>
                <a:gdLst/>
                <a:ahLst/>
                <a:rect l="l" t="t" r="r" b="b"/>
                <a:pathLst>
                  <a:path w="4406" h="3141">
                    <a:moveTo>
                      <a:pt x="1103" y="0"/>
                    </a:moveTo>
                    <a:lnTo>
                      <a:pt x="0" y="785"/>
                    </a:lnTo>
                    <a:lnTo>
                      <a:pt x="0" y="3140"/>
                    </a:lnTo>
                    <a:lnTo>
                      <a:pt x="3306" y="3140"/>
                    </a:lnTo>
                    <a:lnTo>
                      <a:pt x="4405" y="2355"/>
                    </a:lnTo>
                    <a:lnTo>
                      <a:pt x="4405" y="0"/>
                    </a:lnTo>
                    <a:lnTo>
                      <a:pt x="110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35280" y="2925720"/>
                <a:ext cx="1584360" cy="234720"/>
              </a:xfrm>
              <a:custGeom>
                <a:avLst/>
                <a:gdLst/>
                <a:ahLst/>
                <a:rect l="l" t="t" r="r" b="b"/>
                <a:pathLst>
                  <a:path w="4406" h="789">
                    <a:moveTo>
                      <a:pt x="0" y="788"/>
                    </a:moveTo>
                    <a:lnTo>
                      <a:pt x="3306" y="788"/>
                    </a:lnTo>
                    <a:lnTo>
                      <a:pt x="44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05640" y="3172320"/>
                <a:ext cx="10440" cy="665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635280" y="3254040"/>
              <a:ext cx="1152720" cy="46224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 spac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RF signals)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890720" y="3139920"/>
            <a:ext cx="1566720" cy="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42120" y="3139920"/>
            <a:ext cx="1290600" cy="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561440" y="483408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EC4D-FF76-4F6A-B241-35C314CA2C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98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TM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3D Medical Image Analysis Softwa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ractive volume reconstruction on large radiological dat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tarting from hand-made initialization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lgorithm segments each slice of a medical volu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3D reconstruction by triangulating contours from consecutive sli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ractive reconstruction time: less than 2mins and scalab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ermanent availability of resources for fast reconstruction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ccess to users at non grid-enabled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ites (e.g. hospital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Unmodified medically optimized interfa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uccessfully ported and demonstrated at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first EGEE review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treams to/from non EGEE-enabled sites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pecific protocol, CrossGrid glogin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will be considere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Resource access QoS: ongoing work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388360" y="10152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202600" y="814320"/>
            <a:ext cx="941400" cy="717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781680" y="838080"/>
            <a:ext cx="1393920" cy="752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796000" y="4221000"/>
            <a:ext cx="320364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7401-D8E0-44E7-919D-418B98150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34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xmipp_ML_ref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romolecules structure analysis from electron microscop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3D reconstruction of molecular structural information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rom cryo-electron microscop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ulti-reference refinement of electron microscopy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ructures through a maximum likelihood statistical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pproach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ery compute intensive analysis of multiple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2D: one to several weeks on a single CPU 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3D: even more costly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utation can be split in independent jobs that are executed in paralle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irst results on 2D analysis show significant time gain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wo months on a local cluster (20 CPUs) versus one month on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gorithm still being optimized and ported to 3D cas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PI implementation is currently being developed that should significantly improve the comput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704000" y="104760"/>
            <a:ext cx="1440000" cy="58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22572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57E0-C6D1-4D5B-9D5F-113BF1D6E8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SSG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 computing is emerging as one of the most cost effective computing paradigms for a large class of data and compute intensive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till a a stiff entry cost for computational scientis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ERN computing summer school initiated a Grid track back in 2002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xtraordinary succes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dea to start a dedicated summer school on Grid comput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llowing excellent response in 2003 and 2004, here we are with the third run in 2005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rom next year will continue with EU supported ICEAG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EAB8-9A83-4903-BAF9-80A9CD669C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41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xmipp_ML_CTF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lectron microscope images correc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lectron microscopy images impaired by electron sources and defocus of magnetic lenses used in experimental practi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mage aberrations are described by a Contrast Transfer Function (CTF) that need to be estimated to fix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TF estimation lead to drastic image enhancemen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uto regressive modelling is used to estimate parameters of the CTF and produce more reliable results than classical Fourier transform-based approach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ery compute intensive: complex functional,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low optimisation proces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rallelisation on different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2 months on a single CPU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2 days on a local 20-CPUs clust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4 hours on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704000" y="104760"/>
            <a:ext cx="1440000" cy="58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659640" y="3979800"/>
            <a:ext cx="22572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9033-9A5A-4E90-AD78-47D036599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49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 silico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Drug Discove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720" y="97452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ovide docking information to help in the search for new dru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opose new inhibitors (drug candidates) addressed to neglected dise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In silico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virtual screening of drug candidate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arge scale molecular docking on malaria to compute millions of potential drugs with different software and parameters sett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rug discovery usually takes up to 12 years to complet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ocking much faster, but large databases lead to heavy computa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it candidate drug input on different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imited size computation (105 candidate drugs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ested for 1 protein target) achievable in 2 days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sing the Grid compared to 6 months of CPU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ull data challenge planed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3x106 candidate drugs against 5 protein target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Total computing time will reach 80 years of CPU </a:t>
            </a:r>
            <a:br>
              <a:rPr sz="1600"/>
            </a:b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and 6 TB of storage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431200" y="0"/>
          <a:ext cx="71280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0" y="0"/>
                    <a:ext cx="7128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7151760" y="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84720" y="4508640"/>
            <a:ext cx="3051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2A53-95DE-46CE-BC4F-7CF65575D2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ATC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enome evolution modeling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udy human evolutionary genetics and answer questions such a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ographic origin of modern human population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netic signature of expanding population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netic contacts between modern humans and Neanderthal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imulate past demography of human populations in a geographically realistic landscap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nerate molecular diversity of samples of genes drawn from the current human’s range, and compare to observed contemporary molecular divers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ue to the Bayesian approach used, th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ATCHE application is very compute intensiv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ependent simulations can be executed in paralle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pplication prototype ported on the EGEE middlewar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ale tests on the full grid infrastructure underwa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093080" y="4402080"/>
            <a:ext cx="1834920" cy="18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C619-154F-4CE8-86C0-328F332D2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Generic Applications Advisory Panel (EGAAP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NIQUE entry point for “external” application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views proposals and make recommendations to EGEE manage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eals with “scientific” aspects, not with technical detai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neric Applications group in charge of introducing selected applications to the EGEE infra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6 applications selected so far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arth sciences (I and II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AGI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utational Chemistr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LANC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rug Discover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ACE (end Feb 2005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A136-EE4F-4FB0-8D52-131C44C3B9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 sciences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arth Observations by Satellit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ozone profil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olid Earth Physic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ast Determination of mechanisms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f important earthquak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ydrology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anagement of water resources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Mediterranean area (SWIMED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eolog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ocluster: R&amp;D initiative of the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agnie Générale de Géophysiq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 large variety of applications ported on EGEE which incites new us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teractive Collaboration of the teams around a project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3490920" cy="1008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760760" cy="1495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900760" y="3933720"/>
            <a:ext cx="1407960" cy="1289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7164360" y="2205000"/>
            <a:ext cx="1692360" cy="1263600"/>
          </a:xfrm>
          <a:prstGeom prst="rect">
            <a:avLst/>
          </a:prstGeom>
          <a:ln w="9360">
            <a:solidFill>
              <a:srgbClr val="2b519a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531120" y="3855960"/>
            <a:ext cx="1425600" cy="1017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164360" y="4440240"/>
            <a:ext cx="1444680" cy="81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9392-2FC6-421E-AA3C-FFA0FF900D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Ground based Air Cerenkov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elescope 17 m diamet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Physics Goals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Origin of VHE Gamma ray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Active Galactic Nucle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upernova Remna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Unidentified EGRET 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Gamma Ray Bur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b519a"/>
                </a:solidFill>
                <a:latin typeface="Arial"/>
              </a:rPr>
              <a:t>MAGIC II will come 2007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Grid added valu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“(e-)scientific“ collaboration between partner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the cooperation between different experi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the participation on Virtual Observato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19640" y="1096920"/>
            <a:ext cx="3635280" cy="254808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659640" y="3825720"/>
            <a:ext cx="1046160" cy="1043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7956720" y="50133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7812000" y="3933720"/>
            <a:ext cx="1187640" cy="874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4859280" y="3971880"/>
            <a:ext cx="1668600" cy="96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BC0A-7091-47E9-B589-C292B1813D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ational Chemi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Grid Enabled Molecular Simulator (GEM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tivation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odern computer simulations of biomolecular systems produce an abundance of data, which could be reused several times by different researchers.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data must be catalogued and searchab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MS database and toolkit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utonomous storage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tadata specific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utomatic storage allocation and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replication polici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face for distributed comput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384960" y="5194440"/>
            <a:ext cx="236376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711600" y="5192640"/>
            <a:ext cx="2300400" cy="1260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1042920" y="5194440"/>
            <a:ext cx="2332080" cy="1258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700680" y="3213000"/>
            <a:ext cx="226404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17FF-A408-4A3D-B3CA-AB4C15D919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56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On the Gri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&gt; 12 time fast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(but ~5% failu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data </a:t>
            </a:r>
            <a:br>
              <a:rPr sz="2000"/>
            </a:b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ata handling </a:t>
            </a:r>
            <a:br>
              <a:rPr sz="1800"/>
            </a:b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import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he Grid 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llaboration </a:t>
            </a:r>
            <a:br>
              <a:rPr sz="1800"/>
            </a:b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mon </a:t>
            </a:r>
            <a:br>
              <a:rPr sz="1800"/>
            </a:b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r-interfa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lexible enviro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ew approach to data and S/W shar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887A-DA1B-4204-8E8B-23BCDF0F7C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information &amp; 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ore than 140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events (including the GGF grid school) across many countr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&gt;1200  people train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duction; application developer; advanced; retrea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aterial archive coming online with ~200 present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blic and technical websites constantly evolving to expand information available and keep it up to dat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conference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organiz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 300 @ Cork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 400 @ Den Haag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450 @ Athe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Pisa: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4th project conference 24-28 October ’05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588000" y="4268880"/>
            <a:ext cx="2087640" cy="13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690E-1BD4-47BB-855A-77EA6E1935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Collabo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EGEE closely collaborates with other projects, e.g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1af00"/>
                </a:solidFill>
                <a:latin typeface="Arial"/>
              </a:rPr>
              <a:t>Flooding Crisis</a:t>
            </a: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 (CrossGrid) demonstrated at 3</a:t>
            </a:r>
            <a:r>
              <a:rPr b="1" lang="de-AT" sz="2400" spc="-1" strike="noStrike" baseline="30000">
                <a:solidFill>
                  <a:srgbClr val="2b519a"/>
                </a:solidFill>
                <a:latin typeface="Arial"/>
              </a:rPr>
              <a:t>rd</a:t>
            </a: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 EGEE conference in Athe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Simulation of </a:t>
            </a:r>
            <a:br>
              <a:rPr sz="2100"/>
            </a:b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flooding scenario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Display in Virtual Realit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ptimize data transpor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won prize for “best demo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28760" y="617364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2b519a"/>
                </a:solidFill>
                <a:latin typeface="Tahoma"/>
              </a:rPr>
              <a:t>Collaboration with Slowak Academy of Scienc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070680"/>
            <a:ext cx="1979640" cy="475920"/>
            <a:chOff x="0" y="6070680"/>
            <a:chExt cx="1979640" cy="475920"/>
          </a:xfrm>
        </p:grpSpPr>
        <p:sp>
          <p:nvSpPr>
            <p:cNvPr id="330" name=""/>
            <p:cNvSpPr/>
            <p:nvPr/>
          </p:nvSpPr>
          <p:spPr>
            <a:xfrm>
              <a:off x="0" y="6070680"/>
              <a:ext cx="19796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rcRect l="0" t="25189" r="0" b="44144"/>
            <a:stretch/>
          </p:blipFill>
          <p:spPr>
            <a:xfrm>
              <a:off x="74520" y="6138000"/>
              <a:ext cx="1905120" cy="29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50072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73CB-2B98-4EA2-86C2-DF18A0CC41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 intensive sc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cience is becoming increasingly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digital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and needs to deal with increasing amounts of dat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imulation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get ever more detail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notechnology –</a:t>
            </a:r>
            <a:r>
              <a:rPr b="0" lang="en-US" sz="21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sign of new materials from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molecular scal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delling and predicting complex systems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(weather forecasting, river floods, earthquake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coding the human geno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perimental Science uses ever more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phisticated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ensor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to make precise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eed high statistic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uge amounts of dat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rves user communities around the worl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924280"/>
            <a:ext cx="21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Geared molecules, from an image from NASA"/>
          <p:cNvPicPr/>
          <p:nvPr/>
        </p:nvPicPr>
        <p:blipFill>
          <a:blip r:embed="rId3"/>
          <a:stretch/>
        </p:blipFill>
        <p:spPr>
          <a:xfrm>
            <a:off x="6718320" y="1413000"/>
            <a:ext cx="2425680" cy="159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04000" y="5013360"/>
            <a:ext cx="190512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8124-4990-49FE-95CD-FC73E6ADD3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as part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Ongoing collaborat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non EU partners in EGEE: US, Israel, Russia, Korea, Taiwan…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other European projects, in particular: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GÉAN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DEISA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EE-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non-European projects: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SG: OpenScienceGrid (USA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NAREGI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GEE as incub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16 recently submitted EU proposals supported, among them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Baltic states (Baltic Grid proposal to EU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tin America (EELA consortium on ALIS/CLARA network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Mediterranean Area (EUMedConnect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hina: EUGridChin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GEE supports Euro-India ICT Co-operation Initiativ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451640" y="2852640"/>
            <a:ext cx="1225800" cy="1152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028960" cy="986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GEANT2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1773360"/>
            <a:ext cx="1536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4978-BBFD-47D2-A7AF-7B4990B797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5120" y="1319040"/>
            <a:ext cx="8745840" cy="1946520"/>
          </a:xfrm>
          <a:prstGeom prst="rect">
            <a:avLst/>
          </a:prstGeom>
          <a:solidFill>
            <a:srgbClr val="33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projects under negoti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9640" y="6267600"/>
            <a:ext cx="858996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Arial"/>
              </a:rPr>
              <a:t>Exact budget and partner roles to be confirmed during negoti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9280" y="957240"/>
          <a:ext cx="8785440" cy="5238720"/>
        </p:xfrm>
        <a:graphic>
          <a:graphicData uri="http://schemas.openxmlformats.org/drawingml/2006/table">
            <a:tbl>
              <a:tblPr/>
              <a:tblGrid>
                <a:gridCol w="1656000"/>
                <a:gridCol w="4201920"/>
                <a:gridCol w="2927520"/>
              </a:tblGrid>
              <a:tr h="361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Nam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Description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Common partners with EGE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</a:tr>
              <a:tr h="4773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altic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Estonia, Latvia, Lithuani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KTH – PSNC – CERN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EL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Brazil, Chile, Cuba, Mexico, Argentin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SIC – UPV – INFN – CERN – LIP – RED.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UChina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Chin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ERN – DANTE – GARR – GRNET – IHEP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UMed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Malta, Algeria, Morocco, Egypt, Syria, Tunisia, Turkey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ERN – DANTE – GARR – GRNET – RED.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SSe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ite security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CSSI – FZK – CCLRC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IRGSP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olici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GRNET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TIC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Repository, Testin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INFN – UWM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CEAG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Repository for Training &amp; Education, Schools on Grid Computin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UEDIN – CERN – KTH – SZTAKI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ELIEF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igital Library of Grid documentation, organisation of workshops, conference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UWM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INFO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medical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NR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Health-e-Chil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medical – Integration of heterogeneous biomedical information for improved healthcar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1038-88D6-492B-A846-A6B2B85C50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and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dustry a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partn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to increase know-how on Grid technolog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us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for R&amp;D applic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provid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of established Grid services,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ch as call centres, support centres and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mputing resource provider centr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dustry Foru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aise awareness of the project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mong indu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courage businesses to participa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bility to “experience” EGEE Grid in early stag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96000" y="3048120"/>
            <a:ext cx="3052800" cy="20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2B09-A166-43BD-93BE-70464A22C1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485040" y="5589720"/>
            <a:ext cx="1627200" cy="961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Phase I to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99308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rom 1st EGEE EU Review in February 2005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e reviewers found the overall performance of the project very good.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…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markable achievement to set up this consortium, to realize appropriate structures to provide the necessary leadership, and to cope with changing requirements.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GEE 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rge scale deployment of EGEE infrastructure to deliver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duction level Grid services with selected number of applica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GEE I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Natural continuation of the project’s first phas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mphasis on providing an infrastructure for e-Scien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support for application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multidisciplinary Grid infrastructur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more involvement from Industr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xtending the Grid infrastructure world-wid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international collaboration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413480" y="3500280"/>
            <a:ext cx="1730520" cy="1036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8085240" y="907920"/>
            <a:ext cx="1058760" cy="800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1203480" cy="10098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020000" y="2313000"/>
            <a:ext cx="944640" cy="75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8028000" y="1773360"/>
            <a:ext cx="1014480" cy="1150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7740720" y="4869000"/>
            <a:ext cx="1209600" cy="9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3C67-CFF3-4880-B584-9573707200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Conclusions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 deployment are creating a powerful new tool for science – as well as applications from other fiel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ral applications are already benefiting from Grid technolog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vestments in grid projects are growing world-wid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urope is strong in the development of Grids also thanks to the success of EGE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0E8D-E16A-4782-89BF-FD77C1F3EA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Conclusions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ollaboration across national and international programmes is very important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ids are above all about collaboration at a large sca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cience is international and therefore requires an international computing infra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SSGC is now inspiring other similar schools such as the regional EGEE school in Budapest, other schools in the US and elsewhe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ientists attending these schools promote adoption of Grid computing worldwid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mportant to receive feedback and inputs from the school participa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GEE will be presented in more details during the rest of this week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2AFC-3923-4CBC-932E-38C6B405D4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Web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eu-egee.or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How to joi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public.eu-egee.org/join/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Project Offi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3"/>
              </a:rPr>
              <a:t>project-</a:t>
            </a: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4"/>
              </a:rPr>
              <a:t>eu-egee-po@cern.ch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F1F1-2681-4A7E-991F-D80913D81A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lution: the Gr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tegrating computing power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and data storage capacities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at major computer centr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oviding users with seamless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ccess to computing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sources, 24/7, independent of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ographic loc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re effective and seamless collaboration of dispersed communities, both scientific and commerci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bility to run large-scale applications comprising thousands of computers, for wide range of applic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term “e-Science” has been coined to express these benefi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56240" y="1052640"/>
            <a:ext cx="3408480" cy="2830320"/>
            <a:chOff x="5556240" y="1052640"/>
            <a:chExt cx="3408480" cy="2830320"/>
          </a:xfrm>
        </p:grpSpPr>
        <p:grpSp>
          <p:nvGrpSpPr>
            <p:cNvPr id="115" name=""/>
            <p:cNvGrpSpPr/>
            <p:nvPr/>
          </p:nvGrpSpPr>
          <p:grpSpPr>
            <a:xfrm>
              <a:off x="5556240" y="1054080"/>
              <a:ext cx="3408480" cy="2828880"/>
              <a:chOff x="5556240" y="1054080"/>
              <a:chExt cx="3408480" cy="28288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7400" y="1063800"/>
                <a:ext cx="3395520" cy="28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97720" y="1136520"/>
                <a:ext cx="56520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56240" y="1054080"/>
                <a:ext cx="59832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88240" y="1054080"/>
                <a:ext cx="11764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88240" y="1076400"/>
                <a:ext cx="1176480" cy="26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5556240" y="10749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56240" y="1052640"/>
              <a:ext cx="3384360" cy="2830320"/>
            </a:xfrm>
            <a:prstGeom prst="rect">
              <a:avLst/>
            </a:prstGeom>
            <a:noFill/>
            <a:ln w="507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998E-7DD5-4EA4-9633-482622AD8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50594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sistent, robust and secure service grid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improving and maintaining the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middlewar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attracting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new resources and users</a:t>
            </a: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 from industry as well as scienc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70 leading institutions in 27 countries, federated in regional Grid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leveraging national and regional grid activities worldwid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funded by the EU with ~32 M Euros for first 2 years starting 1st April 2004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9040" y="1579680"/>
            <a:ext cx="3566880" cy="35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98DA-909F-4A1C-862E-82544FF8D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836640"/>
            <a:ext cx="9144000" cy="6275520"/>
            <a:chOff x="0" y="836640"/>
            <a:chExt cx="9144000" cy="62755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8360" y="1738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1882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675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6360" y="2314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2360" y="21891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95640" y="1882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3878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23878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7280" y="2098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41880" y="21114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7640" y="2243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6000" y="1954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1640" y="1882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0720" y="195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1640" y="20797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3280" y="2098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0720" y="1667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4720" y="15955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6360" y="1595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72360" y="26035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6720" y="3178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85080" y="2746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8000" y="2962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8360" y="253080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32000" y="2314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280" y="195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3640" y="3178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01080" y="2459160"/>
              <a:ext cx="712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84360" y="4043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6720" y="2603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0560" y="215136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1280" y="1882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5160" y="5051520"/>
            <a:ext cx="3521160" cy="1762200"/>
            <a:chOff x="65160" y="5051520"/>
            <a:chExt cx="3521160" cy="1762200"/>
          </a:xfrm>
        </p:grpSpPr>
        <p:sp>
          <p:nvSpPr>
            <p:cNvPr id="161" name=""/>
            <p:cNvSpPr/>
            <p:nvPr/>
          </p:nvSpPr>
          <p:spPr>
            <a:xfrm>
              <a:off x="65160" y="5051520"/>
              <a:ext cx="3521160" cy="1762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a5a5c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3320" y="5153400"/>
              <a:ext cx="10800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840" y="5112000"/>
              <a:ext cx="3080880" cy="16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519a"/>
                  </a:solidFill>
                  <a:latin typeface="Arial"/>
                </a:rPr>
                <a:t>Country providing resources</a:t>
              </a: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519a"/>
                  </a:solidFill>
                  <a:latin typeface="Arial"/>
                </a:rPr>
                <a:t>Country anticipating joining EGEE/LCG </a:t>
              </a: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In EGEE-0: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140 sit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14 000 CPU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5 PB storag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880" y="5351760"/>
              <a:ext cx="108000" cy="115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Infra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618800">
            <a:off x="1821240" y="2636640"/>
            <a:ext cx="6526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ce00"/>
                </a:solidFill>
                <a:latin typeface="Arial"/>
              </a:rPr>
              <a:t>We are already exceeding </a:t>
            </a:r>
            <a:endParaRPr b="0" lang="en-US" sz="40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ce00"/>
                </a:solidFill>
                <a:latin typeface="Arial"/>
              </a:rPr>
              <a:t>original project plans</a:t>
            </a:r>
            <a:endParaRPr b="0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6561-F47C-4596-B809-EDF51914DE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ddlewar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rid relies on advanced software, called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middleware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, which interfaces between resources and the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RID middlewar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inds convenient places for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application to be ru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ptimises use of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ganises efficient access to data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als with authentication to the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ifferent sites that are us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uns the job &amp; monitors progres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vers from problem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ransfers the result back to the scient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34332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2847-FD8F-4B8D-915F-3970FDA9B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76720" y="0"/>
            <a:ext cx="5867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EE Middleware - gLite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25080" y="6132600"/>
            <a:ext cx="65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pplication requirements </a:t>
            </a:r>
            <a:r>
              <a:rPr b="0" lang="en-US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egee-na4.ct.infn.it/requirements/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tended to replace present middleware with production quality service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veloped from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existing compon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ims to address present shortcomings and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advanced need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rom applicat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rototyping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short development cycl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or fast user feedback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itial web-services based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prototyp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being test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73" name="Bob-MWdepl2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953240" cy="1568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0" y="5591160"/>
            <a:ext cx="1713240" cy="337320"/>
          </a:xfrm>
          <a:prstGeom prst="rect">
            <a:avLst/>
          </a:prstGeom>
          <a:solidFill>
            <a:srgbClr val="c0c0c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Globus 2 ba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4960" y="5591160"/>
            <a:ext cx="25779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eb services ba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4653000"/>
            <a:ext cx="963720" cy="736560"/>
          </a:xfrm>
          <a:prstGeom prst="rightArrow">
            <a:avLst>
              <a:gd name="adj1" fmla="val 50000"/>
              <a:gd name="adj2" fmla="val 32710"/>
            </a:avLst>
          </a:prstGeom>
          <a:solidFill>
            <a:srgbClr val="325faf">
              <a:alpha val="80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te-2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1800" y="4653000"/>
            <a:ext cx="963360" cy="736560"/>
          </a:xfrm>
          <a:prstGeom prst="rightArrow">
            <a:avLst>
              <a:gd name="adj1" fmla="val 50000"/>
              <a:gd name="adj2" fmla="val 32698"/>
            </a:avLst>
          </a:prstGeom>
          <a:solidFill>
            <a:srgbClr val="325faf">
              <a:alpha val="80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te-1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7920" y="4653000"/>
            <a:ext cx="961920" cy="736560"/>
          </a:xfrm>
          <a:prstGeom prst="rightArrow">
            <a:avLst>
              <a:gd name="adj1" fmla="val 50000"/>
              <a:gd name="adj2" fmla="val 32649"/>
            </a:avLst>
          </a:prstGeom>
          <a:solidFill>
            <a:srgbClr val="c0c0c0">
              <a:alpha val="82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2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92440" y="4653000"/>
            <a:ext cx="961920" cy="736560"/>
          </a:xfrm>
          <a:prstGeom prst="rightArrow">
            <a:avLst>
              <a:gd name="adj1" fmla="val 50000"/>
              <a:gd name="adj2" fmla="val 32649"/>
            </a:avLst>
          </a:prstGeom>
          <a:solidFill>
            <a:srgbClr val="c0c0c0">
              <a:alpha val="82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1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334040"/>
            <a:ext cx="20016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6DEE-A252-4C19-8A90-EA2506EEAA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rst release of gLite end of March 2005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cus on providing users early access to prototyp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ghtweight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eroperability &amp; Co-existence with deployed 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obust: Performance &amp; Fault Toleran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rvice oriented approa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llow WSRF standard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utonom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pen source licen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43440" y="4214880"/>
            <a:ext cx="314172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DF80-14B5-4A13-A90F-06FB4F1733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9:39:44Z</dcterms:created>
  <dc:creator>hammerle</dc:creator>
  <dc:description/>
  <dc:language>en-US</dc:language>
  <cp:lastModifiedBy>fab</cp:lastModifiedBy>
  <dcterms:modified xsi:type="dcterms:W3CDTF">2005-07-18T08:46:18Z</dcterms:modified>
  <cp:revision>20</cp:revision>
  <dc:subject/>
  <dc:title>GRID Infrastructure:   PRESENT and FUTURE</dc:title>
</cp:coreProperties>
</file>