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3.wmf" ContentType="image/x-wmf"/>
  <Override PartName="/ppt/media/image11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95D0-730F-40E3-8442-F5EC7E04D0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34B8-D238-4F40-BB8C-FAB6E2A985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76279-0226-4CB0-8C9D-8F2BF17E9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F815-F3AD-4568-919C-017F7BF438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4ABA8-709C-40D8-B7AF-E1AEA6EFAC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92585-842E-4F25-B37B-140D0FA30D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8EB6-5DE9-4E2E-AC6F-F102A89AD6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2AA5-6B83-4ECC-99CE-EBAE11E416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D9160-E011-4069-AAEF-86E06A7E9C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1E6B7-3C38-476C-AFC9-B73F7D48B6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7A3B-81BD-4DF6-A7CD-339F2109BB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B1C57-FA99-44E7-8BAB-09464822CCD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CC9F6-4015-4242-8B8E-864AA0D0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3015D-6AB5-4137-A58E-61D154F4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F62B2-1899-434F-BF69-B2BE9D10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2CEB2-6C3E-471D-B46E-712C3909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8C767-2B96-4562-83A6-11032041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4DDF8-5883-4217-A8B7-2635B291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A0719-8F00-4DDD-9B94-C7620C5E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B911C-6B4E-4783-9189-D858A5AF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C368A-CFCC-4D24-B91D-29883243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65399-8CFF-4CB3-9F66-8505AEDB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73B96-D453-4A7F-8235-B652EB92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A08B0-0723-46F1-BCA1-E37F098A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7F317-BEA3-4584-B5DE-F5A728D8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D8B0D-7998-43FD-A58D-8C6CC981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133CD-EE1D-468C-9AA0-30CF3304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98F00-3736-4C57-AFE0-720463F4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D915F-3FDA-4E00-975D-85053B89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25360" y="18864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2B40A-A382-47F2-B808-03CB5ECB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A5C29-C33D-49A4-8A3C-29B7DBBB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23E33-DE25-426C-AA71-CBD1C282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F124E-8A13-415E-BC55-05CCDBCB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E7348-1930-476B-A1F6-1641116F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668B8-DD49-4E30-A7E6-C9DEBBF7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384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81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97CF1-5FF4-4F4A-B221-313CB036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1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84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1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3152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666880" y="662940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1200" spc="-1" strike="noStrike" baseline="30000">
                <a:solidFill>
                  <a:srgbClr val="ffcc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 International Summer School on Grid Computing, Vico Equense, 16 July 2005 - </a:t>
            </a:r>
            <a:fld id="{2DA8F465-8D2E-4B40-8F34-8D0F567D1190}" type="slidenum">
              <a:rPr b="1" lang="en-US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371600" cy="878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1960" y="3124080"/>
            <a:ext cx="6242040" cy="342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2819160" cy="1803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2844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Microsoft Sans Serif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Click to edit the outline text format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Second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2" marL="1143000" indent="-228600">
              <a:spcBef>
                <a:spcPts val="700"/>
              </a:spcBef>
              <a:buClr>
                <a:srgbClr val="20619e"/>
              </a:buClr>
              <a:buSzPct val="6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Third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3" marL="1600200" indent="-228600">
              <a:spcBef>
                <a:spcPts val="700"/>
              </a:spcBef>
              <a:buClr>
                <a:srgbClr val="20619e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Fourth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4" marL="2057400" indent="-228600">
              <a:spcBef>
                <a:spcPts val="700"/>
              </a:spcBef>
              <a:buClr>
                <a:srgbClr val="20619e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Fifth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Sixth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icrosoft Sans Serif"/>
              </a:rPr>
              <a:t>Seventh Outline Level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813720"/>
            <a:ext cx="9144000" cy="712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110360" y="6224760"/>
            <a:ext cx="925560" cy="479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>
            <a:off x="-360" y="6526080"/>
            <a:ext cx="971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72360" y="6526080"/>
            <a:ext cx="971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7765920" y="503280"/>
            <a:ext cx="1332000" cy="549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1258920" y="624996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1640" y="6237360"/>
            <a:ext cx="7200720" cy="504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4273560" y="6335640"/>
            <a:ext cx="1200240" cy="343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312760" y="65134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4113-C620-4C49-BB23-15428A387739}" type="slidenum">
              <a:rPr b="1" lang="en-GB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724640" cy="538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2"/>
          </p:nvPr>
        </p:nvSpPr>
        <p:spPr>
          <a:xfrm>
            <a:off x="45720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7138-ADA9-45A0-8860-EB1B80173998}" type="slidenum">
              <a:rPr b="0" lang="en-GB" sz="14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1981440" cy="5731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3"/>
          <p:cNvSpPr>
            <a:spLocks noGrp="1"/>
          </p:cNvSpPr>
          <p:nvPr>
            <p:ph type="body"/>
          </p:nvPr>
        </p:nvSpPr>
        <p:spPr>
          <a:xfrm>
            <a:off x="3805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34CC-E8F4-42DE-B77E-419368FC69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2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2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008C-929A-4D0D-B111-40F078DAE8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4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658332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EGEE is a project funded by the European Union under contract IST-2003-5088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286000"/>
            <a:ext cx="3276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9000" y="1523880"/>
            <a:ext cx="5486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87160" y="457200"/>
            <a:ext cx="55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ternational Summer School on Grid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Vico Equense, 16</a:t>
            </a:r>
            <a:r>
              <a:rPr b="1" i="1" lang="en-US" sz="18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July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5320" y="20574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ww.eu-egee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2590920"/>
            <a:ext cx="467352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Arial"/>
              </a:rPr>
              <a:t>Today’s Wealth of Data: Are we ready for its challenges? 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113453"/>
                </a:solidFill>
                <a:latin typeface="Arial"/>
              </a:rPr>
              <a:t>Malcolm Atkinson</a:t>
            </a:r>
            <a:br>
              <a:rPr sz="2800"/>
            </a:br>
            <a:r>
              <a:rPr b="1" lang="en-GB" sz="2800" spc="-1" strike="noStrike">
                <a:solidFill>
                  <a:srgbClr val="113453"/>
                </a:solidFill>
                <a:latin typeface="Arial"/>
              </a:rPr>
              <a:t>Director</a:t>
            </a:r>
            <a:br>
              <a:rPr sz="2800"/>
            </a:br>
            <a:r>
              <a:rPr b="1" lang="en-GB" sz="2800" spc="-1" strike="noStrike">
                <a:solidFill>
                  <a:srgbClr val="113453"/>
                </a:solidFill>
                <a:latin typeface="Arial"/>
              </a:rPr>
              <a:t>National e-Science Centre</a:t>
            </a:r>
            <a:br>
              <a:rPr sz="2800"/>
            </a:br>
            <a:r>
              <a:rPr b="1" lang="en-GB" sz="2800" spc="-1" strike="noStrike">
                <a:solidFill>
                  <a:srgbClr val="113453"/>
                </a:solidFill>
                <a:latin typeface="Arial"/>
              </a:rPr>
              <a:t>www.nesc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116680" y="1390680"/>
            <a:ext cx="357156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6602400" cy="464832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724640" cy="538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GSA-DAI Downloads R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72200" y="7213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61080" y="1989000"/>
            <a:ext cx="341928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90 downloads since Dec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tual user downloads not search engine craw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Does not include downloads as part of GT3.2 and GT4 rele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 of 1212 registered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1.0 (Jan 03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1.5 (Feb 03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2.0 (Apr 03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2.5 (Jun 03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3.0 (Jul 03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3.1 (Feb 04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4.0 (May 04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1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61640" y="587700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at 17/5/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60" y="515772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gnificant interest from 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members of staff starting May 22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1960" y="450720"/>
            <a:ext cx="75103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Goals for OGSA-DA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422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im to deliver application mechanisms that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et the data requirements of Grid application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12840" indent="-243000">
              <a:lnSpc>
                <a:spcPct val="10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unctionality, performance and reliability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12840" indent="-243000">
              <a:lnSpc>
                <a:spcPct val="10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Reduce development cost of data-centric Grid applicatio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1212840" indent="-243000">
              <a:lnSpc>
                <a:spcPct val="10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Provide consistent interfaces to data resourc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cceptable and supportable by database provide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A base for developing higher-level servic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Data feder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Distributed query process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 min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87320" indent="-30312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ata 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visualis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1960" y="458640"/>
            <a:ext cx="75103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re features of OGSA-DA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0100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9680" indent="-319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 framework for building applic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orts relational, xml and some fi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7040" indent="-2138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MySQL, Oracle, DB2, SQL Server, Postgres, XIndice, CSV, EMB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orts various delivery op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7040" indent="-2138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SOAP, FTP, GridFTP, HTTP, files, email, inter-servi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orts various transfor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7040" indent="-2138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XSLT, ZIP, GZi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ports message level security using X50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lient Toolkit library for application develo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mprehensive documentation and tutori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ighly extens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2640" indent="-266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trength is in customising out-of-box fea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OGSA-DAI Design Principles - 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fficient client-server commun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inimise number of messages exchang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ne request abstracts multiple intera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No unnecessary data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ove computation to the da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Utilise third-party deliv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pply transforms (e.g., compress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uild on existing standa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Filling-in gaps where necessa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OGSA-DAI Design Principles -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 not virtualise underlying data mod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Users must know where to target que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xtensible archite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odular and customis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.g., to accommodate stronger secur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xtensible activity frame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annot anticipate all desired function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ctivity = unit of function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llow users to add their ow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y Use OGSA-DA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s common access vie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ardless of underlying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verything looks like a database” metaph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ccess mechanism common to all cli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es well with other Grid softw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GSA, WSRF and OMII compli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xi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nsible activity frame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on’t tie you to storage infra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y You Might Not Want To Use OGSA-DA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GSA-DAI slower than direct connection metho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.g., compared to JDB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should improve with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alability iss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ly but not completely know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epend on type of use (e.g. delivery mechanism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ly planning to use one type of data resou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don’t care about interoperability with other Grid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GSA-DAI an overkill in that c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924360" y="3139920"/>
            <a:ext cx="3024000" cy="28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S (Mobi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08360" y="3429000"/>
            <a:ext cx="3024360" cy="28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S (DA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92360" y="3716280"/>
            <a:ext cx="3024360" cy="28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S (OGSA-D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20000" y="1700280"/>
            <a:ext cx="1728720" cy="22334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1125360"/>
            <a:ext cx="316872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62560" y="177336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nitiateDataService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9640" y="206280"/>
            <a:ext cx="180036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14440" y="681120"/>
            <a:ext cx="1249560" cy="87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282600"/>
            <a:ext cx="914400" cy="625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4000" y="3789360"/>
            <a:ext cx="223200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quest T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3280" y="21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35640" y="9079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8720" y="2133720"/>
            <a:ext cx="71928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24720" y="2421000"/>
            <a:ext cx="71928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59640" y="1700280"/>
            <a:ext cx="4334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6372360" y="3500280"/>
            <a:ext cx="792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63640" y="227664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nitiate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17800" y="2054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17800" y="277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07480" y="39337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d – U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erform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4724280"/>
            <a:ext cx="2735280" cy="165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ingle Service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1440" y="49338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d - U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48360" y="5300640"/>
            <a:ext cx="1222200" cy="1009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20720" y="558972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81440" y="5300640"/>
            <a:ext cx="1222200" cy="1009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4653000"/>
            <a:ext cx="223200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sponse T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56000" y="4221000"/>
            <a:ext cx="2592360" cy="144720"/>
          </a:xfrm>
          <a:custGeom>
            <a:avLst/>
            <a:gdLst/>
            <a:ahLst/>
            <a:rect l="l" t="t" r="r" b="b"/>
            <a:pathLst>
              <a:path w="1633" h="91">
                <a:moveTo>
                  <a:pt x="0" y="0"/>
                </a:moveTo>
                <a:lnTo>
                  <a:pt x="1633" y="0"/>
                </a:lnTo>
                <a:lnTo>
                  <a:pt x="1633" y="9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556000" y="443700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4360" y="4292640"/>
            <a:ext cx="1224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136" y="499"/>
                </a:moveTo>
                <a:lnTo>
                  <a:pt x="136" y="0"/>
                </a:lnTo>
                <a:lnTo>
                  <a:pt x="635" y="0"/>
                </a:lnTo>
                <a:lnTo>
                  <a:pt x="635" y="499"/>
                </a:lnTo>
                <a:lnTo>
                  <a:pt x="771" y="635"/>
                </a:lnTo>
                <a:lnTo>
                  <a:pt x="0" y="635"/>
                </a:lnTo>
                <a:lnTo>
                  <a:pt x="136" y="49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51640" y="4363920"/>
            <a:ext cx="6494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Compute</a:t>
            </a:r>
            <a:br>
              <a:rPr sz="1200"/>
            </a:b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&amp;</a:t>
            </a:r>
            <a:br>
              <a:rPr sz="1200"/>
            </a:b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storage</a:t>
            </a:r>
            <a:br>
              <a:rPr sz="1200"/>
            </a:br>
            <a:r>
              <a:rPr b="1" lang="en-GB" sz="1200" spc="-1" strike="noStrike">
                <a:solidFill>
                  <a:srgbClr val="8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516720" y="465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9640" y="1501920"/>
            <a:ext cx="180036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gistr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27400" y="1971720"/>
            <a:ext cx="1414440" cy="13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5516640"/>
            <a:ext cx="719280" cy="1079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72360" y="6093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24360" y="1341360"/>
            <a:ext cx="93528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35640" y="4005360"/>
            <a:ext cx="934920" cy="64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2682720"/>
            <a:ext cx="180036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gg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2344680" y="3166560"/>
            <a:ext cx="1201680" cy="44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357280" y="1933560"/>
            <a:ext cx="1214640" cy="80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536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Microsoft Sans Serif"/>
              </a:rPr>
              <a:t>Good Bye</a:t>
            </a:r>
            <a:endParaRPr b="1" lang="en-US" sz="3600" spc="-1" strike="noStrike">
              <a:solidFill>
                <a:srgbClr val="800000"/>
              </a:solidFill>
              <a:latin typeface="Microsoft Sans Serif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Microsoft Sans Serif"/>
              </a:rPr>
              <a:t>Thank you for coming to ISSGC’05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Microsoft Sans Serif"/>
              </a:rPr>
              <a:t>Tell your friends to come next year</a:t>
            </a:r>
            <a:endParaRPr b="1" lang="en-US" sz="2800" spc="-1" strike="noStrike">
              <a:solidFill>
                <a:srgbClr val="8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Verdana"/>
              </a:rPr>
              <a:t>What is e-Science?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6760" y="1125000"/>
            <a:ext cx="864864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Goal: to enable bette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Method: Invention and exploitation of advanced computation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to generate, curate and analyse researc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From experiments, observations and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Quality management, preservation and reliabl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to develop and explore models and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Computation and data at extrem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Trustworthy, economic, timely and relevan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to enable </a:t>
            </a:r>
            <a:r>
              <a:rPr b="0" i="1" lang="en-GB" sz="2000" spc="-1" strike="noStrike">
                <a:solidFill>
                  <a:srgbClr val="000066"/>
                </a:solidFill>
                <a:latin typeface="Verdana"/>
              </a:rPr>
              <a:t>dynamic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 distributed virtual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Facilitating collaboration with information and resourc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Verdana"/>
              </a:rPr>
              <a:t>Security, reliability, accountability, manageability and </a:t>
            </a:r>
            <a:r>
              <a:rPr b="0" i="1" lang="en-GB" sz="1800" spc="-1" strike="noStrike">
                <a:solidFill>
                  <a:srgbClr val="000066"/>
                </a:solidFill>
                <a:latin typeface="Verdana"/>
              </a:rPr>
              <a:t>ag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05920" y="5826240"/>
            <a:ext cx="8730360" cy="337320"/>
          </a:xfrm>
          <a:prstGeom prst="rect">
            <a:avLst/>
          </a:prstGeom>
          <a:solidFill>
            <a:srgbClr val="e4f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33"/>
                </a:solidFill>
                <a:latin typeface="Arial"/>
              </a:rPr>
              <a:t>Multiple, independently managed sources of data – each with own time-varying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9480" y="6216480"/>
            <a:ext cx="8645040" cy="337320"/>
          </a:xfrm>
          <a:prstGeom prst="rect">
            <a:avLst/>
          </a:prstGeom>
          <a:solidFill>
            <a:srgbClr val="e4f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660033"/>
                </a:solidFill>
                <a:latin typeface="Arial"/>
              </a:rPr>
              <a:t>Creative researchers discover new knowledge by combining data from multiple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143000"/>
            <a:ext cx="84582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AI: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is neede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3a90"/>
                </a:solidFill>
                <a:latin typeface="Arial"/>
              </a:rPr>
              <a:t>Data Access and Integration: motives</a:t>
            </a:r>
            <a:endParaRPr b="1" lang="en-US" sz="2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Key to Integration of Scientific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Verdana"/>
              </a:rPr>
              <a:t>Publication and sharing of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Primary data from observation, simulation &amp;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Encourages novel 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Allows validation of methods and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Enables discovery by combining data independently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Key to Large-scale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Economies: data production, publication &amp;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Sharing cost of storage, management and c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Many researchers contributing increme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Pooling annotation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</a:t>
            </a: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 rapid incremental pub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And critic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Accommodates glob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Data &amp; code travel faster and more chea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Accommodates tempor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Researchers assemb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Later (other) researchers acces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82160" y="304812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Verdana"/>
              </a:rPr>
              <a:t>and Deci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477120" y="3886200"/>
            <a:ext cx="2590560" cy="2684520"/>
            <a:chOff x="6477120" y="3886200"/>
            <a:chExt cx="2590560" cy="2684520"/>
          </a:xfrm>
        </p:grpSpPr>
        <p:sp>
          <p:nvSpPr>
            <p:cNvPr id="290" name=""/>
            <p:cNvSpPr/>
            <p:nvPr/>
          </p:nvSpPr>
          <p:spPr>
            <a:xfrm>
              <a:off x="7391520" y="3886200"/>
              <a:ext cx="75960" cy="10666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77120" y="4368600"/>
              <a:ext cx="1511280" cy="1625760"/>
            </a:xfrm>
            <a:custGeom>
              <a:avLst/>
              <a:gdLst/>
              <a:ahLst/>
              <a:rect l="l" t="t" r="r" b="b"/>
              <a:pathLst>
                <a:path w="952" h="1024">
                  <a:moveTo>
                    <a:pt x="600" y="32"/>
                  </a:moveTo>
                  <a:cubicBezTo>
                    <a:pt x="668" y="16"/>
                    <a:pt x="736" y="0"/>
                    <a:pt x="792" y="32"/>
                  </a:cubicBezTo>
                  <a:cubicBezTo>
                    <a:pt x="848" y="64"/>
                    <a:pt x="952" y="144"/>
                    <a:pt x="936" y="224"/>
                  </a:cubicBezTo>
                  <a:cubicBezTo>
                    <a:pt x="920" y="304"/>
                    <a:pt x="816" y="448"/>
                    <a:pt x="696" y="512"/>
                  </a:cubicBezTo>
                  <a:cubicBezTo>
                    <a:pt x="576" y="576"/>
                    <a:pt x="328" y="560"/>
                    <a:pt x="216" y="608"/>
                  </a:cubicBezTo>
                  <a:cubicBezTo>
                    <a:pt x="104" y="656"/>
                    <a:pt x="48" y="736"/>
                    <a:pt x="24" y="800"/>
                  </a:cubicBezTo>
                  <a:cubicBezTo>
                    <a:pt x="0" y="864"/>
                    <a:pt x="48" y="960"/>
                    <a:pt x="72" y="992"/>
                  </a:cubicBezTo>
                  <a:cubicBezTo>
                    <a:pt x="96" y="1024"/>
                    <a:pt x="152" y="992"/>
                    <a:pt x="168" y="992"/>
                  </a:cubicBezTo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92480" y="5365800"/>
              <a:ext cx="1787040" cy="1191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Verdana"/>
                </a:rPr>
                <a:t>Responsi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Verdana"/>
                </a:rPr>
                <a:t>Ownersh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Verdana"/>
                </a:rPr>
                <a:t>Cre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00"/>
                  </a:solidFill>
                  <a:latin typeface="Verdana"/>
                </a:rPr>
                <a:t>Ci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34520" y="5562360"/>
              <a:ext cx="533160" cy="1008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990000"/>
                  </a:solidFill>
                  <a:latin typeface="Verdana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3a90"/>
                </a:solidFill>
                <a:latin typeface="Arial"/>
              </a:rPr>
              <a:t>Data Access and Integration: challenges</a:t>
            </a:r>
            <a:endParaRPr b="1" lang="en-US" sz="2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Many sites, large collections, many 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Longe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Research requirements outlive technical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No “one size fits all” solutions wil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Primary Data, Data Products, Meta Data, Administrative dat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Many Data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Independently owned &amp; man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No common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No common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Work hard for agreements on foundation types and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Autonomous decisions change data, structure, polic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Geographically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29400" y="990720"/>
            <a:ext cx="2521080" cy="649080"/>
          </a:xfrm>
          <a:prstGeom prst="wedgeRectCallout">
            <a:avLst>
              <a:gd name="adj1" fmla="val -106736"/>
              <a:gd name="adj2" fmla="val 6687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tabyte of Digital Data / Hospital /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3a90"/>
                </a:solidFill>
                <a:latin typeface="Verdana"/>
              </a:rPr>
              <a:t>Data Access and Integration: </a:t>
            </a:r>
            <a:r>
              <a:rPr b="1" lang="en-GB" sz="2800" spc="-1" strike="noStrike">
                <a:solidFill>
                  <a:srgbClr val="000066"/>
                </a:solidFill>
                <a:latin typeface="Verdana"/>
              </a:rPr>
              <a:t>Scientific discovery</a:t>
            </a:r>
            <a:endParaRPr b="1" lang="en-US" sz="2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Choosing data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How do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you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find th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How do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they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describe and advertise th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Is the equivalent of Google possibl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Obtaining access to tha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Overcoming administrativ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Overcoming technical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Understanding tha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The parts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you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care about for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your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Extracting nuggets from multiple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Pieces of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your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jigsaw puzz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Combing them using sophisticated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The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picture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of reality in </a:t>
            </a:r>
            <a:r>
              <a:rPr b="1" i="1" lang="en-GB" sz="1600" spc="-1" strike="noStrike">
                <a:solidFill>
                  <a:srgbClr val="990000"/>
                </a:solidFill>
                <a:latin typeface="Verdana"/>
              </a:rPr>
              <a:t>your</a:t>
            </a: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 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Analysis on scales required by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Coupling data access with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Repeat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Examining variations, covering a set of candi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Monitoring the emerging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Verdana"/>
              </a:rPr>
              <a:t>Coupling with scientific work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1905120"/>
            <a:ext cx="3429000" cy="1477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You’re an innov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Your model </a:t>
            </a: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 their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Negotiation &amp; patience</a:t>
            </a:r>
            <a:br>
              <a:rPr sz="1800"/>
            </a:b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needed from </a:t>
            </a:r>
            <a:r>
              <a:rPr b="0" i="1" lang="en-GB" sz="1800" spc="-1" strike="noStrike">
                <a:solidFill>
                  <a:srgbClr val="990000"/>
                </a:solidFill>
                <a:latin typeface="Verdana"/>
              </a:rPr>
              <a:t>both</a:t>
            </a:r>
            <a:r>
              <a:rPr b="0" lang="en-GB" sz="1800" spc="-1" strike="noStrike">
                <a:solidFill>
                  <a:srgbClr val="990000"/>
                </a:solidFill>
                <a:latin typeface="Verdana"/>
              </a:rPr>
              <a:t>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Arial"/>
              </a:rPr>
              <a:t>Mohammed &amp; Mountains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920" y="1066680"/>
            <a:ext cx="8164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Petabytes of Data cannot be 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It stays where it is produced or cu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Hospitals, observatories, European Bioinformatics Institut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A </a:t>
            </a:r>
            <a:r>
              <a:rPr b="1" i="1" lang="en-GB" sz="2000" spc="-1" strike="noStrike">
                <a:solidFill>
                  <a:srgbClr val="000066"/>
                </a:solidFill>
                <a:latin typeface="Verdana"/>
              </a:rPr>
              <a:t>few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 caches and a </a:t>
            </a:r>
            <a:r>
              <a:rPr b="1" i="1" lang="en-GB" sz="2000" spc="-1" strike="noStrike">
                <a:solidFill>
                  <a:srgbClr val="000066"/>
                </a:solidFill>
                <a:latin typeface="Verdana"/>
              </a:rPr>
              <a:t>small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 proportion c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Distributed collaborating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Expertise in curation, simulation &amp;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Distributed &amp; diverse data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Discovery depends on ins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Unpredictable sophisticated application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Tested by combining data from many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Using </a:t>
            </a:r>
            <a:r>
              <a:rPr b="1" i="1" lang="en-GB" sz="2000" spc="-1" strike="noStrike">
                <a:solidFill>
                  <a:srgbClr val="000066"/>
                </a:solidFill>
                <a:latin typeface="Verdana"/>
              </a:rPr>
              <a:t>novel </a:t>
            </a: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sophisticated models &amp; 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Verdana"/>
              </a:rPr>
              <a:t>What can you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3a90"/>
                </a:solidFill>
                <a:latin typeface="Arial"/>
              </a:rPr>
              <a:t>Scientific Data:</a:t>
            </a:r>
            <a:br>
              <a:rPr sz="2800"/>
            </a:br>
            <a:r>
              <a:rPr b="1" lang="en-GB" sz="2800" spc="-1" strike="noStrike">
                <a:solidFill>
                  <a:srgbClr val="353a90"/>
                </a:solidFill>
                <a:latin typeface="Arial"/>
              </a:rPr>
              <a:t>Opportunities and Challenges</a:t>
            </a:r>
            <a:endParaRPr b="1" lang="en-US" sz="28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356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Global Production of </a:t>
            </a:r>
            <a:r>
              <a:rPr b="1" i="1" lang="en-GB" sz="1800" spc="-1" strike="noStrike">
                <a:solidFill>
                  <a:srgbClr val="000066"/>
                </a:solidFill>
                <a:latin typeface="Verdana"/>
              </a:rPr>
              <a:t>Published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Volume</a:t>
            </a:r>
            <a:r>
              <a:rPr b="1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 Diversity</a:t>
            </a:r>
            <a:r>
              <a:rPr b="1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Combination </a:t>
            </a:r>
            <a:r>
              <a:rPr b="1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 Analysis </a:t>
            </a:r>
            <a:r>
              <a:rPr b="1" lang="en-GB" sz="1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 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138560" y="1219320"/>
            <a:ext cx="4471920" cy="22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Data Hug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Meagre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Optimise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Depend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3429000"/>
            <a:ext cx="3886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Verdana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Specialised Ind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New Data 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New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Varied Re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Shared An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Intensive Data &amp; Comp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3429000"/>
            <a:ext cx="4476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Verdana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Fundamental Princ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Approximate Ma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Multi-scale optim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Autonomous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Legacy stru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Scale and Longe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Privacy and Mo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453"/>
                </a:solidFill>
                <a:latin typeface="Verdana"/>
              </a:rPr>
              <a:t>Sustained Support / F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00000" y="2421000"/>
            <a:ext cx="755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 Cornucopia of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search Challeng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3a90"/>
                </a:solidFill>
                <a:latin typeface="Arial"/>
              </a:rPr>
              <a:t>The Story so Far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Technology enables Grids, More Data &amp;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Distributed systems for shar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Essential, ubiquitous &amp; challe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Therefore share methods and technology as much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Collaboration is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Combining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Combin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Shar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(Structured) Data is the language of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Data Access &amp; Integration a Ubiquitous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Primary data, metadata, administrative &amp; system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Many hard technical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Scale, heterogeneity, distribution, dynamic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cae14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Verdana"/>
              </a:rPr>
              <a:t>Intimate combinations of data and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Verdana"/>
              </a:rPr>
              <a:t>With unpredictable (autonomous) development of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5880" y="2514600"/>
            <a:ext cx="2743200" cy="1447920"/>
          </a:xfrm>
          <a:prstGeom prst="wedgeRoundRectCallout">
            <a:avLst>
              <a:gd name="adj1" fmla="val -184953"/>
              <a:gd name="adj2" fmla="val 58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Verdana"/>
              </a:rPr>
              <a:t>Structure enables understanding, operations, management and interpre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13:09:39Z</dcterms:created>
  <dc:creator>Malcolm Atkinson</dc:creator>
  <dc:description/>
  <dc:language>en-US</dc:language>
  <cp:lastModifiedBy>Malcolm Atkinson</cp:lastModifiedBy>
  <dcterms:modified xsi:type="dcterms:W3CDTF">2005-07-16T06:49:53Z</dcterms:modified>
  <cp:revision>196</cp:revision>
  <dc:subject>Presentation at Vico Equense: Second Summer School on Grid Computing</dc:subject>
  <dc:title>Intro. to Data Access and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17395533</vt:r8>
  </property>
  <property fmtid="{D5CDD505-2E9C-101B-9397-08002B2CF9AE}" pid="3" name="_AuthorEmailDisplayName">
    <vt:lpwstr>Fabrizio Gagliardi</vt:lpwstr>
  </property>
  <property fmtid="{D5CDD505-2E9C-101B-9397-08002B2CF9AE}" pid="4" name="_EmailSubject">
    <vt:lpwstr>[Fwd: Updated version of agenda and abstract booklet for meeting on Mar	ch 18th - 19th]</vt:lpwstr>
  </property>
  <property fmtid="{D5CDD505-2E9C-101B-9397-08002B2CF9AE}" pid="5" name="_ReviewingToolsShownOnce">
    <vt:lpwstr/>
  </property>
</Properties>
</file>