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_rels/notesSlide9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316640" cy="960264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2640"/>
              <a:gd name="textAreaBottom" fmla="*/ 9602280 h 9602640"/>
            </a:gdLst>
            <a:ahLst/>
            <a:rect l="textAreaLeft" t="textAreaTop" r="textAreaRight" b="textAreaBottom"/>
            <a:pathLst>
              <a:path w="21600" h="28348">
                <a:moveTo>
                  <a:pt x="4" y="0"/>
                </a:moveTo>
                <a:arcTo wR="4" hR="4" stAng="16200000" swAng="-5400000"/>
                <a:lnTo>
                  <a:pt x="0" y="28344"/>
                </a:lnTo>
                <a:arcTo wR="4" hR="4" stAng="10800000" swAng="-5400000"/>
                <a:lnTo>
                  <a:pt x="21596" y="28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316640" cy="960264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2640"/>
              <a:gd name="textAreaBottom" fmla="*/ 9602280 h 9602640"/>
            </a:gdLst>
            <a:ahLst/>
            <a:rect l="textAreaLeft" t="textAreaTop" r="textAreaRight" b="textAreaBottom"/>
            <a:pathLst>
              <a:path w="21600" h="28348">
                <a:moveTo>
                  <a:pt x="4" y="0"/>
                </a:moveTo>
                <a:arcTo wR="4" hR="4" stAng="16200000" swAng="-5400000"/>
                <a:lnTo>
                  <a:pt x="0" y="28344"/>
                </a:lnTo>
                <a:arcTo wR="4" hR="4" stAng="10800000" swAng="-5400000"/>
                <a:lnTo>
                  <a:pt x="21596" y="28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316640" cy="960264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2640"/>
              <a:gd name="textAreaBottom" fmla="*/ 9602280 h 9602640"/>
            </a:gdLst>
            <a:ahLst/>
            <a:rect l="textAreaLeft" t="textAreaTop" r="textAreaRight" b="textAreaBottom"/>
            <a:pathLst>
              <a:path w="21600" h="28348">
                <a:moveTo>
                  <a:pt x="4" y="0"/>
                </a:moveTo>
                <a:arcTo wR="4" hR="4" stAng="16200000" swAng="-5400000"/>
                <a:lnTo>
                  <a:pt x="0" y="28344"/>
                </a:lnTo>
                <a:arcTo wR="4" hR="4" stAng="10800000" swAng="-5400000"/>
                <a:lnTo>
                  <a:pt x="21596" y="28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0" y="7293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simplest ca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AG is the best data structure to represent a workflow of jobs with depend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ldren may not run until their parents have finished – this is why the graph is a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directed graph …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’s a direction to the flow of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is example, called a “diamond” dag, job A must run first; when it finishes, jobs B and C can run together; when they are both finished, D can run; when D is finished the DAG is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ops, where two jobs are both descended from one another, are prohibited because they would lead to deadlock – in a loop, neither node could run until the other finished, and so neither would start – this restriction is what makes the graph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cyc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ll it takes to specify the example “diamond” d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st like any other Condor job, you get fault tolerance in case the machine crashes or reboots, or if there’s a network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you’re notified when it’s done, and whether it succeeded or f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% condor_q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-- Submitter: foo.bar.edu : &lt;128.105.175.133:1027&gt; : foo.bar.ed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ID      OWNER            SUBMITTED     RUN_TIME ST PRI SIZE CMD    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2456.0   user            3/8  19:22   0+00:00:02 R  0   3.2  condor_dagman -f -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, job A will be submitted alon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ce job A completes successfully, jobs B and C will be submitted at the same ti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job C fails, DAGMan will wait until job B completes, and then will exit, creating a rescue file.  Job D will not r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its log, DAGMan will provide additional details of which node failed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jobs A and B have already completed, DAGMan will start by re-submitting job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job C fails, DAGMan will wait until job B completes, and then will exit, creating a rescue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94840"/>
            <a:ext cx="82296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4840"/>
            <a:ext cx="82296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53280" y="6400800"/>
            <a:ext cx="99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BE9B1C69-9891-4388-B5CC-11D3B5F80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997440" y="6324480"/>
            <a:ext cx="2968920" cy="307800"/>
            <a:chOff x="3997440" y="6324480"/>
            <a:chExt cx="2968920" cy="307800"/>
          </a:xfrm>
        </p:grpSpPr>
        <p:sp>
          <p:nvSpPr>
            <p:cNvPr id="2" name=""/>
            <p:cNvSpPr/>
            <p:nvPr/>
          </p:nvSpPr>
          <p:spPr>
            <a:xfrm>
              <a:off x="4038480" y="6324480"/>
              <a:ext cx="2887920" cy="301680"/>
            </a:xfrm>
            <a:prstGeom prst="roundRect">
              <a:avLst>
                <a:gd name="adj" fmla="val 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3997440" y="6324480"/>
              <a:ext cx="2968920" cy="307800"/>
              <a:chOff x="3997440" y="6324480"/>
              <a:chExt cx="2968920" cy="307800"/>
            </a:xfrm>
          </p:grpSpPr>
          <p:sp>
            <p:nvSpPr>
              <p:cNvPr id="4" name=""/>
              <p:cNvSpPr/>
              <p:nvPr/>
            </p:nvSpPr>
            <p:spPr>
              <a:xfrm>
                <a:off x="4038480" y="6324480"/>
                <a:ext cx="2886480" cy="29988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997440" y="6324480"/>
                <a:ext cx="2968920" cy="30780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3333cc"/>
                    </a:solidFill>
                    <a:latin typeface="Comic Sans MS"/>
                  </a:rPr>
                  <a:t>http://www.cs.wisc.edu/cond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98520" y="5562720"/>
            <a:ext cx="8534520" cy="1238040"/>
            <a:chOff x="398520" y="5562720"/>
            <a:chExt cx="8534520" cy="1238040"/>
          </a:xfrm>
        </p:grpSpPr>
        <p:sp>
          <p:nvSpPr>
            <p:cNvPr id="9" name=""/>
            <p:cNvSpPr/>
            <p:nvPr/>
          </p:nvSpPr>
          <p:spPr>
            <a:xfrm>
              <a:off x="398520" y="6086160"/>
              <a:ext cx="6705720" cy="190080"/>
            </a:xfrm>
            <a:prstGeom prst="rect">
              <a:avLst/>
            </a:prstGeom>
            <a:gradFill rotWithShape="0">
              <a:gsLst>
                <a:gs pos="0">
                  <a:srgbClr val="363636"/>
                </a:gs>
                <a:gs pos="50000">
                  <a:srgbClr val="777777"/>
                </a:gs>
                <a:gs pos="100000">
                  <a:srgbClr val="363636"/>
                </a:gs>
              </a:gsLst>
              <a:lin ang="5400000"/>
            </a:gradFill>
            <a:ln w="1908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6951600" y="5562720"/>
              <a:ext cx="1981440" cy="1238040"/>
              <a:chOff x="6951600" y="5562720"/>
              <a:chExt cx="1981440" cy="1238040"/>
            </a:xfrm>
          </p:grpSpPr>
          <p:sp>
            <p:nvSpPr>
              <p:cNvPr id="11" name=""/>
              <p:cNvSpPr txBox="1"/>
              <p:nvPr/>
            </p:nvSpPr>
            <p:spPr>
              <a:xfrm>
                <a:off x="7408800" y="5867280"/>
                <a:ext cx="1524240" cy="551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ondor</a:t>
                </a:r>
                <a:endParaRPr b="1" lang="en-US" sz="4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" name=""/>
              <p:cNvSpPr txBox="1"/>
              <p:nvPr/>
            </p:nvSpPr>
            <p:spPr>
              <a:xfrm>
                <a:off x="6951600" y="5562720"/>
                <a:ext cx="895320" cy="12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C</a:t>
                </a:r>
                <a:endParaRPr b="1" lang="en-US" sz="8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151000" y="3733920"/>
            <a:ext cx="4853160" cy="1923480"/>
            <a:chOff x="2151000" y="3733920"/>
            <a:chExt cx="4853160" cy="1923480"/>
          </a:xfrm>
        </p:grpSpPr>
        <p:sp>
          <p:nvSpPr>
            <p:cNvPr id="50" name=""/>
            <p:cNvSpPr/>
            <p:nvPr/>
          </p:nvSpPr>
          <p:spPr>
            <a:xfrm>
              <a:off x="2151000" y="3733920"/>
              <a:ext cx="4853160" cy="1915920"/>
            </a:xfrm>
            <a:prstGeom prst="roundRect">
              <a:avLst>
                <a:gd name="adj" fmla="val 7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151000" y="3733920"/>
              <a:ext cx="4853160" cy="1923480"/>
              <a:chOff x="2151000" y="3733920"/>
              <a:chExt cx="4853160" cy="1923480"/>
            </a:xfrm>
          </p:grpSpPr>
          <p:sp>
            <p:nvSpPr>
              <p:cNvPr id="52" name=""/>
              <p:cNvSpPr/>
              <p:nvPr/>
            </p:nvSpPr>
            <p:spPr>
              <a:xfrm>
                <a:off x="2151000" y="3733920"/>
                <a:ext cx="4853160" cy="1915920"/>
              </a:xfrm>
              <a:prstGeom prst="roundRect">
                <a:avLst>
                  <a:gd name="adj" fmla="val 7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158920" y="3733920"/>
                <a:ext cx="4838760" cy="1923480"/>
              </a:xfrm>
              <a:prstGeom prst="roundRect">
                <a:avLst>
                  <a:gd name="adj" fmla="val 7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Condor Proje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Computer Sciences Depart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University of Wisconsin-Madis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condor-admin@cs.wisc.ed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http://www.cs.wisc.edu/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772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58920" y="5459400"/>
            <a:ext cx="8533440" cy="1238400"/>
            <a:chOff x="358920" y="5459400"/>
            <a:chExt cx="8533440" cy="1238400"/>
          </a:xfrm>
        </p:grpSpPr>
        <p:sp>
          <p:nvSpPr>
            <p:cNvPr id="57" name=""/>
            <p:cNvSpPr/>
            <p:nvPr/>
          </p:nvSpPr>
          <p:spPr>
            <a:xfrm>
              <a:off x="358920" y="5983200"/>
              <a:ext cx="6705360" cy="190440"/>
            </a:xfrm>
            <a:prstGeom prst="rect">
              <a:avLst/>
            </a:prstGeom>
            <a:gradFill rotWithShape="0">
              <a:gsLst>
                <a:gs pos="0">
                  <a:srgbClr val="363636"/>
                </a:gs>
                <a:gs pos="50000">
                  <a:srgbClr val="777777"/>
                </a:gs>
                <a:gs pos="100000">
                  <a:srgbClr val="363636"/>
                </a:gs>
              </a:gsLst>
              <a:lin ang="5400000"/>
            </a:gradFill>
            <a:ln w="1908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6911640" y="5459400"/>
              <a:ext cx="1980720" cy="1238400"/>
              <a:chOff x="6911640" y="5459400"/>
              <a:chExt cx="1980720" cy="1238400"/>
            </a:xfrm>
          </p:grpSpPr>
          <p:sp>
            <p:nvSpPr>
              <p:cNvPr id="59" name=""/>
              <p:cNvSpPr txBox="1"/>
              <p:nvPr/>
            </p:nvSpPr>
            <p:spPr>
              <a:xfrm>
                <a:off x="7368480" y="5764320"/>
                <a:ext cx="1523880" cy="552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ondor</a:t>
                </a:r>
                <a:endParaRPr b="1" lang="en-US" sz="4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6911640" y="5459400"/>
                <a:ext cx="894960" cy="123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C</a:t>
                </a:r>
                <a:endParaRPr b="1" lang="en-US" sz="8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360" y="507960"/>
            <a:ext cx="8380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An Introduction To Condor</a:t>
            </a:r>
            <a:br>
              <a:rPr sz="60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ternational Summer School on Grid Computing 2005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ystem Admin Pref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can jobs preempt other job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users have higher priorit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ursive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724040" y="1770120"/>
            <a:ext cx="1503360" cy="2099880"/>
            <a:chOff x="1724040" y="1770120"/>
            <a:chExt cx="1503360" cy="2099880"/>
          </a:xfrm>
        </p:grpSpPr>
        <p:grpSp>
          <p:nvGrpSpPr>
            <p:cNvPr id="941" name=""/>
            <p:cNvGrpSpPr/>
            <p:nvPr/>
          </p:nvGrpSpPr>
          <p:grpSpPr>
            <a:xfrm>
              <a:off x="2201760" y="1770120"/>
              <a:ext cx="492120" cy="493200"/>
              <a:chOff x="2201760" y="1770120"/>
              <a:chExt cx="492120" cy="493200"/>
            </a:xfrm>
          </p:grpSpPr>
          <p:sp>
            <p:nvSpPr>
              <p:cNvPr id="942" name=""/>
              <p:cNvSpPr/>
              <p:nvPr/>
            </p:nvSpPr>
            <p:spPr>
              <a:xfrm>
                <a:off x="2201760" y="177156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271960" y="1770120"/>
                <a:ext cx="343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1724040" y="2533680"/>
              <a:ext cx="492120" cy="493920"/>
              <a:chOff x="1724040" y="2533680"/>
              <a:chExt cx="492120" cy="493920"/>
            </a:xfrm>
          </p:grpSpPr>
          <p:sp>
            <p:nvSpPr>
              <p:cNvPr id="945" name=""/>
              <p:cNvSpPr/>
              <p:nvPr/>
            </p:nvSpPr>
            <p:spPr>
              <a:xfrm>
                <a:off x="1724040" y="25354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792800" y="2533680"/>
                <a:ext cx="3466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2735280" y="2533680"/>
              <a:ext cx="492120" cy="493920"/>
              <a:chOff x="2735280" y="2533680"/>
              <a:chExt cx="492120" cy="493920"/>
            </a:xfrm>
          </p:grpSpPr>
          <p:sp>
            <p:nvSpPr>
              <p:cNvPr id="948" name=""/>
              <p:cNvSpPr/>
              <p:nvPr/>
            </p:nvSpPr>
            <p:spPr>
              <a:xfrm>
                <a:off x="2735280" y="25354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805480" y="2533680"/>
                <a:ext cx="342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2232000" y="3376800"/>
              <a:ext cx="492120" cy="493200"/>
              <a:chOff x="2232000" y="3376800"/>
              <a:chExt cx="492120" cy="493200"/>
            </a:xfrm>
          </p:grpSpPr>
          <p:sp>
            <p:nvSpPr>
              <p:cNvPr id="951" name=""/>
              <p:cNvSpPr/>
              <p:nvPr/>
            </p:nvSpPr>
            <p:spPr>
              <a:xfrm>
                <a:off x="2232000" y="337824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290680" y="3376800"/>
                <a:ext cx="366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53" name=""/>
            <p:cNvCxnSpPr>
              <a:stCxn id="943" idx="2"/>
              <a:endCxn id="946" idx="0"/>
            </p:cNvCxnSpPr>
            <p:nvPr/>
          </p:nvCxnSpPr>
          <p:spPr>
            <a:xfrm flipH="1">
              <a:off x="1966320" y="2242800"/>
              <a:ext cx="478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3" idx="2"/>
              <a:endCxn id="949" idx="0"/>
            </p:cNvCxnSpPr>
            <p:nvPr/>
          </p:nvCxnSpPr>
          <p:spPr>
            <a:xfrm>
              <a:off x="2444400" y="2242800"/>
              <a:ext cx="532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6" idx="2"/>
              <a:endCxn id="952" idx="0"/>
            </p:cNvCxnSpPr>
            <p:nvPr/>
          </p:nvCxnSpPr>
          <p:spPr>
            <a:xfrm>
              <a:off x="1966680" y="3006720"/>
              <a:ext cx="508680" cy="370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6" name=""/>
            <p:cNvCxnSpPr>
              <a:stCxn id="948" idx="4"/>
              <a:endCxn id="952" idx="0"/>
            </p:cNvCxnSpPr>
            <p:nvPr/>
          </p:nvCxnSpPr>
          <p:spPr>
            <a:xfrm flipH="1">
              <a:off x="2474640" y="3027600"/>
              <a:ext cx="506880" cy="349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57" name=""/>
          <p:cNvSpPr/>
          <p:nvPr/>
        </p:nvSpPr>
        <p:spPr>
          <a:xfrm>
            <a:off x="3208320" y="2781360"/>
            <a:ext cx="1039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4235400" y="2541600"/>
            <a:ext cx="492120" cy="493200"/>
            <a:chOff x="4235400" y="2541600"/>
            <a:chExt cx="492120" cy="493200"/>
          </a:xfrm>
        </p:grpSpPr>
        <p:sp>
          <p:nvSpPr>
            <p:cNvPr id="959" name=""/>
            <p:cNvSpPr/>
            <p:nvPr/>
          </p:nvSpPr>
          <p:spPr>
            <a:xfrm>
              <a:off x="4235400" y="254304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309920" y="2541600"/>
              <a:ext cx="33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5246640" y="2541600"/>
            <a:ext cx="492120" cy="493200"/>
            <a:chOff x="5246640" y="2541600"/>
            <a:chExt cx="492120" cy="493200"/>
          </a:xfrm>
        </p:grpSpPr>
        <p:sp>
          <p:nvSpPr>
            <p:cNvPr id="962" name=""/>
            <p:cNvSpPr/>
            <p:nvPr/>
          </p:nvSpPr>
          <p:spPr>
            <a:xfrm>
              <a:off x="5246640" y="254304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279400" y="2541600"/>
              <a:ext cx="416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657760" y="3384720"/>
            <a:ext cx="492120" cy="493200"/>
            <a:chOff x="5657760" y="3384720"/>
            <a:chExt cx="492120" cy="493200"/>
          </a:xfrm>
        </p:grpSpPr>
        <p:sp>
          <p:nvSpPr>
            <p:cNvPr id="965" name=""/>
            <p:cNvSpPr/>
            <p:nvPr/>
          </p:nvSpPr>
          <p:spPr>
            <a:xfrm>
              <a:off x="5657760" y="338616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36240" y="3384720"/>
              <a:ext cx="326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7" name=""/>
          <p:cNvCxnSpPr>
            <a:stCxn id="960" idx="2"/>
            <a:endCxn id="966" idx="0"/>
          </p:cNvCxnSpPr>
          <p:nvPr/>
        </p:nvCxnSpPr>
        <p:spPr>
          <a:xfrm>
            <a:off x="4476600" y="3014640"/>
            <a:ext cx="1424880" cy="37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2" idx="4"/>
            <a:endCxn id="966" idx="0"/>
          </p:cNvCxnSpPr>
          <p:nvPr/>
        </p:nvCxnSpPr>
        <p:spPr>
          <a:xfrm>
            <a:off x="5492520" y="3034800"/>
            <a:ext cx="408600" cy="350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69" name=""/>
          <p:cNvGrpSpPr/>
          <p:nvPr/>
        </p:nvGrpSpPr>
        <p:grpSpPr>
          <a:xfrm>
            <a:off x="6161040" y="2550960"/>
            <a:ext cx="492120" cy="493920"/>
            <a:chOff x="6161040" y="2550960"/>
            <a:chExt cx="492120" cy="493920"/>
          </a:xfrm>
        </p:grpSpPr>
        <p:sp>
          <p:nvSpPr>
            <p:cNvPr id="970" name=""/>
            <p:cNvSpPr/>
            <p:nvPr/>
          </p:nvSpPr>
          <p:spPr>
            <a:xfrm>
              <a:off x="6161040" y="2552760"/>
              <a:ext cx="492120" cy="49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237360" y="2550960"/>
              <a:ext cx="330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6948360" y="2549520"/>
            <a:ext cx="492120" cy="493200"/>
            <a:chOff x="6948360" y="2549520"/>
            <a:chExt cx="492120" cy="493200"/>
          </a:xfrm>
        </p:grpSpPr>
        <p:sp>
          <p:nvSpPr>
            <p:cNvPr id="973" name=""/>
            <p:cNvSpPr/>
            <p:nvPr/>
          </p:nvSpPr>
          <p:spPr>
            <a:xfrm>
              <a:off x="6948360" y="255096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025400" y="2549520"/>
              <a:ext cx="325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5" name=""/>
          <p:cNvCxnSpPr>
            <a:stCxn id="971" idx="2"/>
            <a:endCxn id="966" idx="0"/>
          </p:cNvCxnSpPr>
          <p:nvPr/>
        </p:nvCxnSpPr>
        <p:spPr>
          <a:xfrm flipH="1">
            <a:off x="5900400" y="3024000"/>
            <a:ext cx="50184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6" name=""/>
          <p:cNvCxnSpPr>
            <a:stCxn id="974" idx="2"/>
            <a:endCxn id="966" idx="0"/>
          </p:cNvCxnSpPr>
          <p:nvPr/>
        </p:nvCxnSpPr>
        <p:spPr>
          <a:xfrm flipH="1">
            <a:off x="5900400" y="3022560"/>
            <a:ext cx="1288080" cy="36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AGMan script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58400" y="1447560"/>
            <a:ext cx="85964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1200" indent="-3312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GMan allows pre &amp; post scrip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-27540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have to be scripts: any execu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-27540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before (pre) or after (post)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-27540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on the same computer you submitted fr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-3312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B A a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RIPT PRE A before-script $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RIPT POST A after-script $JOB $RE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 What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014120"/>
            <a:ext cx="822960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 script can make deci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should my job run? (Particularly useful to make job run in same place as last job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I pass different arguments to the job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zy decision ma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t script can change return val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GMan decides job failed in non-zero return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-script can look at {error code, output files, etc} and return zero or non-zero based on deeper knowled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0" y="4976640"/>
            <a:ext cx="9144000" cy="18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35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Five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ster Worker Applications</a:t>
            </a:r>
            <a:br>
              <a:rPr sz="4000"/>
            </a:b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(Slides adapted from Condor Week 2005 presentation by Jeff Linderoth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3295800" y="3083040"/>
            <a:ext cx="28321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y Master Worker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10340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lternative to DAGM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GM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a bunch of Condor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them in parall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ter Worker (MW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a bunch of tasks in C+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W uses Condor to run your tas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worry about the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rewrite your application to fit M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ster Worker Basic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1544760" y="124128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2"/>
          <a:stretch/>
        </p:blipFill>
        <p:spPr>
          <a:xfrm>
            <a:off x="2701800" y="3873600"/>
            <a:ext cx="2032200" cy="152388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2711520" y="2668680"/>
            <a:ext cx="698400" cy="1211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2127240" y="2679840"/>
            <a:ext cx="689040" cy="1193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rot="3688800">
            <a:off x="2338560" y="2875680"/>
            <a:ext cx="1925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ndo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3788400">
            <a:off x="2175840" y="3022200"/>
            <a:ext cx="94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 S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848120" y="1292400"/>
            <a:ext cx="3949920" cy="42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ter assigns tasks to work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ers perform tasks and report res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ers do not communicate (except via mas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ult Tole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3"/>
          <a:stretch/>
        </p:blipFill>
        <p:spPr>
          <a:xfrm>
            <a:off x="7920" y="3879720"/>
            <a:ext cx="2063880" cy="168912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 flipH="1">
            <a:off x="722160" y="2473200"/>
            <a:ext cx="820800" cy="142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184400" y="2685960"/>
            <a:ext cx="579240" cy="118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18087000">
            <a:off x="115920" y="2933640"/>
            <a:ext cx="13982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x Condo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7713800">
            <a:off x="815040" y="3124800"/>
            <a:ext cx="94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 S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ster Worker Toolki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hree abstraction in the master-worker paradigm: Master, Worker, and Tas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 is a software package that encapsulates these abstra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I : C++ abstract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writes 10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Wized code will transparently adapt to the dynamic and heterogeneous computing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 also has abstract layer to resource management and communications packages (an Infrastructure Programming Interfac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/{PVM, Sockets, Files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process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2158920" y="1600200"/>
            <a:ext cx="50547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58920" y="4572000"/>
            <a:ext cx="5054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lying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133720" y="2666880"/>
            <a:ext cx="5110200" cy="19432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W’s Layered Architectur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5" name=""/>
          <p:cNvSpPr/>
          <p:nvPr/>
        </p:nvSpPr>
        <p:spPr>
          <a:xfrm>
            <a:off x="2171880" y="3657600"/>
            <a:ext cx="20620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 M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158920" y="2666880"/>
            <a:ext cx="505476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W abstra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229280" y="3657600"/>
            <a:ext cx="2992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io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228240" y="2666880"/>
            <a:ext cx="716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151920" y="36576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45240" y="214776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65040" y="32004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920" y="37688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frastructure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vider’s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391520" y="27432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1752480"/>
              <a:gd name="textAreaBottom" fmla="*/ 16948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5"/>
                  <a:pt x="10800" y="2270"/>
                </a:cubicBezTo>
                <a:lnTo>
                  <a:pt x="10800" y="8530"/>
                </a:lnTo>
                <a:cubicBezTo>
                  <a:pt x="10800" y="9665"/>
                  <a:pt x="16200" y="10800"/>
                  <a:pt x="21600" y="10800"/>
                </a:cubicBezTo>
                <a:cubicBezTo>
                  <a:pt x="16200" y="10800"/>
                  <a:pt x="10800" y="11935"/>
                  <a:pt x="10800" y="13070"/>
                </a:cubicBezTo>
                <a:lnTo>
                  <a:pt x="10800" y="19330"/>
                </a:lnTo>
                <a:cubicBezTo>
                  <a:pt x="10800" y="2046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676520"/>
            <a:ext cx="380880" cy="2819160"/>
          </a:xfrm>
          <a:custGeom>
            <a:avLst/>
            <a:gdLst>
              <a:gd name="textAreaLeft" fmla="*/ 0 w 380880"/>
              <a:gd name="textAreaRight" fmla="*/ 137520 w 380880"/>
              <a:gd name="textAreaTop" fmla="*/ 97200 h 2819160"/>
              <a:gd name="textAreaBottom" fmla="*/ 272196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0"/>
                  <a:pt x="10800" y="2380"/>
                </a:cubicBezTo>
                <a:lnTo>
                  <a:pt x="10800" y="8420"/>
                </a:lnTo>
                <a:cubicBezTo>
                  <a:pt x="10800" y="9610"/>
                  <a:pt x="16200" y="10800"/>
                  <a:pt x="21600" y="10800"/>
                </a:cubicBezTo>
                <a:cubicBezTo>
                  <a:pt x="16200" y="10800"/>
                  <a:pt x="10800" y="11990"/>
                  <a:pt x="10800" y="13180"/>
                </a:cubicBezTo>
                <a:lnTo>
                  <a:pt x="10800" y="19220"/>
                </a:lnTo>
                <a:cubicBezTo>
                  <a:pt x="10800" y="2041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62520" y="3249720"/>
            <a:ext cx="4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351280" y="2727360"/>
            <a:ext cx="7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W’s Runtime Structur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4142880"/>
            <a:ext cx="792504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code adds tasks to the master’s Todo lis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task is sent to a worker (Todo -&gt; Running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ask is executed by the worke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sult is sent back to the maste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code processes the result (can add/remove tasks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6200640" y="1339920"/>
            <a:ext cx="160020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200640" y="2254320"/>
            <a:ext cx="160020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200640" y="3397320"/>
            <a:ext cx="160020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16080" y="278748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171440" y="1295280"/>
            <a:ext cx="4038840" cy="27147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te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28640" y="27115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28640" y="29401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628640" y="31687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28640" y="33973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28640" y="36259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95880" y="27115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295880" y="29401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295880" y="31687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295880" y="33973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295880" y="36259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47960" y="27115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847960" y="29401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847960" y="31687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847960" y="33973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400400" y="203364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489760" y="203364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53800" y="202572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1" name=""/>
          <p:cNvCxnSpPr>
            <a:stCxn id="1034" idx="3"/>
            <a:endCxn id="1029" idx="1"/>
          </p:cNvCxnSpPr>
          <p:nvPr/>
        </p:nvCxnSpPr>
        <p:spPr>
          <a:xfrm>
            <a:off x="3247920" y="28252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2" name=""/>
          <p:cNvCxnSpPr>
            <a:stCxn id="1035" idx="3"/>
            <a:endCxn id="1030" idx="1"/>
          </p:cNvCxnSpPr>
          <p:nvPr/>
        </p:nvCxnSpPr>
        <p:spPr>
          <a:xfrm>
            <a:off x="3247920" y="30538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3" name=""/>
          <p:cNvCxnSpPr>
            <a:stCxn id="1036" idx="3"/>
            <a:endCxn id="1031" idx="1"/>
          </p:cNvCxnSpPr>
          <p:nvPr/>
        </p:nvCxnSpPr>
        <p:spPr>
          <a:xfrm>
            <a:off x="3247920" y="32824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4" name=""/>
          <p:cNvCxnSpPr>
            <a:stCxn id="1037" idx="3"/>
            <a:endCxn id="1032" idx="1"/>
          </p:cNvCxnSpPr>
          <p:nvPr/>
        </p:nvCxnSpPr>
        <p:spPr>
          <a:xfrm>
            <a:off x="3247920" y="35110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5" name=""/>
          <p:cNvSpPr/>
          <p:nvPr/>
        </p:nvSpPr>
        <p:spPr>
          <a:xfrm>
            <a:off x="1171440" y="19494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stCxn id="1029" idx="3"/>
            <a:endCxn id="1019" idx="1"/>
          </p:cNvCxnSpPr>
          <p:nvPr/>
        </p:nvCxnSpPr>
        <p:spPr>
          <a:xfrm flipV="1">
            <a:off x="4695480" y="1681920"/>
            <a:ext cx="1491480" cy="1143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7" name=""/>
          <p:cNvCxnSpPr>
            <a:stCxn id="1030" idx="3"/>
            <a:endCxn id="1020" idx="1"/>
          </p:cNvCxnSpPr>
          <p:nvPr/>
        </p:nvCxnSpPr>
        <p:spPr>
          <a:xfrm flipV="1">
            <a:off x="4695480" y="2596680"/>
            <a:ext cx="149148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8" name=""/>
          <p:cNvCxnSpPr>
            <a:stCxn id="1033" idx="3"/>
            <a:endCxn id="1021" idx="1"/>
          </p:cNvCxnSpPr>
          <p:nvPr/>
        </p:nvCxnSpPr>
        <p:spPr>
          <a:xfrm>
            <a:off x="4695480" y="3739680"/>
            <a:ext cx="1491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W API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Ma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_userinfo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up_intial_tasks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_worker_init_data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_on_completed_tas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Ta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_work(), unpack_wor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_result, unpack_result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Work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pack_worker_init_data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ecute_tas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4340160" y="3089160"/>
            <a:ext cx="4131720" cy="2319480"/>
            <a:chOff x="4340160" y="3089160"/>
            <a:chExt cx="4131720" cy="2319480"/>
          </a:xfrm>
        </p:grpSpPr>
        <p:sp>
          <p:nvSpPr>
            <p:cNvPr id="1052" name=""/>
            <p:cNvSpPr/>
            <p:nvPr/>
          </p:nvSpPr>
          <p:spPr>
            <a:xfrm>
              <a:off x="4340160" y="3098880"/>
              <a:ext cx="21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5394240"/>
              <a:ext cx="21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16720" y="3089160"/>
              <a:ext cx="0" cy="231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16720" y="4216320"/>
              <a:ext cx="5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977520" y="3944880"/>
              <a:ext cx="1494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in loo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282920" y="2050920"/>
            <a:ext cx="3701160" cy="3011760"/>
            <a:chOff x="4282920" y="2050920"/>
            <a:chExt cx="3701160" cy="3011760"/>
          </a:xfrm>
        </p:grpSpPr>
        <p:sp>
          <p:nvSpPr>
            <p:cNvPr id="1058" name=""/>
            <p:cNvSpPr/>
            <p:nvPr/>
          </p:nvSpPr>
          <p:spPr>
            <a:xfrm>
              <a:off x="4282920" y="2070000"/>
              <a:ext cx="221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82920" y="5041800"/>
              <a:ext cx="221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515280" y="2050920"/>
              <a:ext cx="0" cy="301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516720" y="2830680"/>
              <a:ext cx="566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114680" y="2608200"/>
              <a:ext cx="869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t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311720" y="2714760"/>
            <a:ext cx="4643280" cy="1385640"/>
            <a:chOff x="4311720" y="2714760"/>
            <a:chExt cx="4643280" cy="1385640"/>
          </a:xfrm>
        </p:grpSpPr>
        <p:sp>
          <p:nvSpPr>
            <p:cNvPr id="1064" name=""/>
            <p:cNvSpPr/>
            <p:nvPr/>
          </p:nvSpPr>
          <p:spPr>
            <a:xfrm flipH="1">
              <a:off x="4311720" y="2714760"/>
              <a:ext cx="1155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4320720" y="4086360"/>
              <a:ext cx="1155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7960" y="2714760"/>
              <a:ext cx="0" cy="138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457960" y="3446640"/>
              <a:ext cx="1625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10560" y="3003480"/>
              <a:ext cx="2044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ncode/de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state fa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job’s executable is analysis.ex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machine’s load average is 5.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state pre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require a computer with Linu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ther MW Utiliti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Wprint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rint progress, result, debug info, etc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WDriv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get information, set control policies, etc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MC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pecify resource requirements, prepare for communication, etc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al MW Application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20924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FATCOP (Chen, Ferris, Linder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branch and cut code for linear integer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MINLP (Goux, Leyffer, Noceda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branch and bound code for nonlinear integer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QPBB (Linder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(simplicial) branch and bound code for solving quadratically constrained quadratic progra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AND (Linderoth, She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nested decomposition based solver for multistage stochastic linear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ATR (Linderoth, Shapiro, Wrigh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trust-region-enhanced cutting plane code for linear stochastic programming and statistical verification of solution quality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QAP (Anstreicher, Brixius, Goux, Linder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branch and bound code for solving the quadratic assignment probl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: Nug30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g30 (a Quadratic Assignment Problem instance of size 30) had been the “holy grail” of computational QAP research for &gt; 30 yea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2000, Anstreicher, Brixius, Goux, &amp; Linderoth set out tosolve this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a mathematically sophisticated and well-engineered algorithm, they still estimated that we would requi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1 CPU ye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to solve the probl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ug 30 Computational Grid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542880" y="914400"/>
          <a:ext cx="4211640" cy="5029200"/>
        </p:xfrm>
        <a:graphic>
          <a:graphicData uri="http://schemas.openxmlformats.org/drawingml/2006/table">
            <a:tbl>
              <a:tblPr/>
              <a:tblGrid>
                <a:gridCol w="1344600"/>
                <a:gridCol w="1411200"/>
                <a:gridCol w="14558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/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on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GI/Iri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on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GI/Iri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GI/Iri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scons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scons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scons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Te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Te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 (INFN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Mex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thwester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umbia U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umbia 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930560" y="966960"/>
            <a:ext cx="371628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tricks to make it look like one Condor po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oc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lide-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510 CPUs tot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0" y="5478480"/>
            <a:ext cx="914400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orkers Over Tim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ug30 solved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1082" name=""/>
          <p:cNvGraphicFramePr/>
          <p:nvPr/>
        </p:nvGraphicFramePr>
        <p:xfrm>
          <a:off x="1523880" y="1397160"/>
          <a:ext cx="6096240" cy="4093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Clock 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day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:04:31 hou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g # Machi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U 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yea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llel Effici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ore on MW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cs.wisc.edu/condor/m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sion 0.2 is the lat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more stable than the version number suggest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ling list available for discu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e development by the Condor te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I could also tell you about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-G: Condor’s ability to talk to other Grid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us 2, 3,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duGr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k: Treating data placement like computational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st: File server with space alloc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CB: Living with firewalls &amp; private net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But I won’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ter lunch: Exerc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ask me questions, now or l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151600"/>
            <a:ext cx="9144000" cy="17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62440" y="1623960"/>
            <a:ext cx="5153040" cy="4044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055760" y="1231560"/>
            <a:ext cx="49323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Type       = "Job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Type   = "Machine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Id    = 137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wner        = "roy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d          = “analysis.exe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ments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rch == "INTEL"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(OpSys == "LINUX"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(Disk &gt;= DiskUsage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((Memory * 1024)&gt;=ImageSiz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68200" y="1169640"/>
            <a:ext cx="36086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assAds ar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mi-structu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-extens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ma-fr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 = Expr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279920" y="1630440"/>
            <a:ext cx="1333800" cy="474840"/>
            <a:chOff x="7279920" y="1630440"/>
            <a:chExt cx="1333800" cy="474840"/>
          </a:xfrm>
        </p:grpSpPr>
        <p:sp>
          <p:nvSpPr>
            <p:cNvPr id="156" name=""/>
            <p:cNvSpPr/>
            <p:nvPr/>
          </p:nvSpPr>
          <p:spPr>
            <a:xfrm>
              <a:off x="7716600" y="1630440"/>
              <a:ext cx="897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t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279920" y="1882800"/>
              <a:ext cx="484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279920" y="2340000"/>
            <a:ext cx="1572840" cy="474840"/>
            <a:chOff x="7279920" y="2340000"/>
            <a:chExt cx="1572840" cy="474840"/>
          </a:xfrm>
        </p:grpSpPr>
        <p:sp>
          <p:nvSpPr>
            <p:cNvPr id="159" name=""/>
            <p:cNvSpPr/>
            <p:nvPr/>
          </p:nvSpPr>
          <p:spPr>
            <a:xfrm>
              <a:off x="7678440" y="2340000"/>
              <a:ext cx="1174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279920" y="2581200"/>
              <a:ext cx="484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79920" y="3814920"/>
            <a:ext cx="1548360" cy="474840"/>
            <a:chOff x="7279920" y="3814920"/>
            <a:chExt cx="1548360" cy="474840"/>
          </a:xfrm>
        </p:grpSpPr>
        <p:sp>
          <p:nvSpPr>
            <p:cNvPr id="162" name=""/>
            <p:cNvSpPr/>
            <p:nvPr/>
          </p:nvSpPr>
          <p:spPr>
            <a:xfrm>
              <a:off x="7664400" y="3814920"/>
              <a:ext cx="1163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ool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279920" y="4067280"/>
              <a:ext cx="484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41520" y="2171880"/>
            <a:ext cx="5229360" cy="34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chema-free 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58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imposes some sch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wner is a string, ClusterID is a number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users can extend it however they like, for jobs or mach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alysisJobType = “simulatio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Java_1_4 =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eLength =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can use these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quirements = OpSys == "LINUX"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&amp; HasJava_1_4 ==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bmitting job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31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s submit jobs from a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bs described as a Class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ubmission computer has a 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ues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raliz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mission computer watches over 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have multiple submission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mission handled by condor_sched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1080" y="4381560"/>
            <a:ext cx="8028000" cy="1463760"/>
            <a:chOff x="181080" y="4381560"/>
            <a:chExt cx="8028000" cy="146376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81080" y="4419720"/>
              <a:ext cx="1044360" cy="1257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1590840" y="5056200"/>
                  <a:ext cx="220968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4057560" y="4518000"/>
              <a:ext cx="206712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0800" y="4654440"/>
              <a:ext cx="2040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sche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93840" y="4854600"/>
              <a:ext cx="2754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37280" y="4853160"/>
              <a:ext cx="1033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176960" y="4381560"/>
              <a:ext cx="1032120" cy="1235160"/>
              <a:chOff x="7176960" y="4381560"/>
              <a:chExt cx="1032120" cy="1235160"/>
            </a:xfrm>
          </p:grpSpPr>
          <p:sp>
            <p:nvSpPr>
              <p:cNvPr id="178" name=""/>
              <p:cNvSpPr/>
              <p:nvPr/>
            </p:nvSpPr>
            <p:spPr>
              <a:xfrm rot="16200000">
                <a:off x="7111800" y="4519440"/>
                <a:ext cx="1162080" cy="1032120"/>
              </a:xfrm>
              <a:prstGeom prst="flowChartMagneticDrum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94400" y="5045040"/>
                <a:ext cx="6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92960" y="515772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94400" y="5272200"/>
                <a:ext cx="6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94400" y="5386320"/>
                <a:ext cx="6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24120" y="4381560"/>
                <a:ext cx="9792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Que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5151600"/>
            <a:ext cx="9144000" cy="17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ertising computer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34880" y="91260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chine owners describe compu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guration file extends Class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Ad has dynamic fe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ad Ave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e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Ads are sent to Matchm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53880" y="4325760"/>
            <a:ext cx="7890120" cy="2156040"/>
            <a:chOff x="353880" y="4325760"/>
            <a:chExt cx="7890120" cy="21560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353880" y="4325760"/>
              <a:ext cx="2556000" cy="215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6176880" y="4508640"/>
              <a:ext cx="2067120" cy="1033200"/>
              <a:chOff x="6176880" y="4508640"/>
              <a:chExt cx="2067120" cy="1033200"/>
            </a:xfrm>
          </p:grpSpPr>
          <p:sp>
            <p:nvSpPr>
              <p:cNvPr id="190" name=""/>
              <p:cNvSpPr/>
              <p:nvPr/>
            </p:nvSpPr>
            <p:spPr>
              <a:xfrm>
                <a:off x="6176880" y="4508640"/>
                <a:ext cx="2067120" cy="103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42840" y="4546440"/>
                <a:ext cx="168948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Matchmak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(Collector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914560" y="4645080"/>
              <a:ext cx="3270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97160" y="4654440"/>
              <a:ext cx="29239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lass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ype = “Machin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equirements = “…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488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tchmakin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6040" y="1007640"/>
            <a:ext cx="8423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otiator collects list of comp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otiator contacts each sched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jobs do you have to ru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otiator compares each job to each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e requirements of job &amp;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e in context of both ClassA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both evaluate to true, there is a ma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on match, schedd contacts execution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4987800"/>
            <a:ext cx="9144000" cy="18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tchmaking diagram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13640" y="3281400"/>
            <a:ext cx="1790640" cy="1509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H="1" flipV="1">
            <a:off x="5680080" y="2192400"/>
            <a:ext cx="1117440" cy="1193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6600" y="3065400"/>
            <a:ext cx="2066760" cy="10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6800" y="3278160"/>
            <a:ext cx="200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ch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11120" y="4089240"/>
            <a:ext cx="0" cy="66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92000" y="4683240"/>
            <a:ext cx="1032120" cy="1234080"/>
            <a:chOff x="792000" y="4683240"/>
            <a:chExt cx="1032120" cy="1234080"/>
          </a:xfrm>
        </p:grpSpPr>
        <p:sp>
          <p:nvSpPr>
            <p:cNvPr id="204" name=""/>
            <p:cNvSpPr/>
            <p:nvPr/>
          </p:nvSpPr>
          <p:spPr>
            <a:xfrm rot="16200000">
              <a:off x="727200" y="4820400"/>
              <a:ext cx="1161720" cy="103212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9440" y="534636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08000" y="545904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09440" y="557352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9440" y="568764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9160" y="4683240"/>
              <a:ext cx="979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722680" y="1185840"/>
            <a:ext cx="3657600" cy="1050840"/>
            <a:chOff x="2722680" y="1185840"/>
            <a:chExt cx="3657600" cy="1050840"/>
          </a:xfrm>
        </p:grpSpPr>
        <p:sp>
          <p:nvSpPr>
            <p:cNvPr id="211" name=""/>
            <p:cNvSpPr/>
            <p:nvPr/>
          </p:nvSpPr>
          <p:spPr>
            <a:xfrm>
              <a:off x="2724120" y="1185840"/>
              <a:ext cx="364824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2680" y="1189080"/>
              <a:ext cx="3649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tchm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2680" y="1689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86320" y="167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6040" y="1695600"/>
              <a:ext cx="1877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ll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3840" y="1685880"/>
              <a:ext cx="1738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goti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 flipH="1">
            <a:off x="2010960" y="2184480"/>
            <a:ext cx="925560" cy="112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6800" y="3711600"/>
            <a:ext cx="4624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57960" y="2452680"/>
            <a:ext cx="366840" cy="366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66760" y="2327400"/>
            <a:ext cx="366840" cy="366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59240" y="3249720"/>
            <a:ext cx="366840" cy="366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119560"/>
            <a:ext cx="9144000" cy="17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diagram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680080" y="2192400"/>
            <a:ext cx="1117440" cy="1193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6600" y="3065400"/>
            <a:ext cx="2066760" cy="10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6800" y="3278160"/>
            <a:ext cx="200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ch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7880" y="4089240"/>
            <a:ext cx="0" cy="66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58760" y="4683240"/>
            <a:ext cx="1031760" cy="1234080"/>
            <a:chOff x="158760" y="4683240"/>
            <a:chExt cx="1031760" cy="1234080"/>
          </a:xfrm>
        </p:grpSpPr>
        <p:sp>
          <p:nvSpPr>
            <p:cNvPr id="229" name=""/>
            <p:cNvSpPr/>
            <p:nvPr/>
          </p:nvSpPr>
          <p:spPr>
            <a:xfrm rot="16200000">
              <a:off x="93600" y="4820400"/>
              <a:ext cx="1161720" cy="103176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840" y="534636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4400" y="5459040"/>
              <a:ext cx="6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5840" y="557352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840" y="568764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5200" y="4683240"/>
              <a:ext cx="979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289240" y="1185840"/>
            <a:ext cx="5208120" cy="1050840"/>
            <a:chOff x="2289240" y="1185840"/>
            <a:chExt cx="5208120" cy="1050840"/>
          </a:xfrm>
        </p:grpSpPr>
        <p:sp>
          <p:nvSpPr>
            <p:cNvPr id="236" name=""/>
            <p:cNvSpPr/>
            <p:nvPr/>
          </p:nvSpPr>
          <p:spPr>
            <a:xfrm>
              <a:off x="2291040" y="1185840"/>
              <a:ext cx="519480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89240" y="1189080"/>
              <a:ext cx="5196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tchm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9240" y="1689120"/>
              <a:ext cx="52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00600" y="167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14280" y="1695600"/>
              <a:ext cx="2673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coll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05080" y="1685880"/>
              <a:ext cx="2474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negoti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>
            <a:off x="2010960" y="2184480"/>
            <a:ext cx="925560" cy="112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6800" y="3711600"/>
            <a:ext cx="4624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81680" y="3089160"/>
            <a:ext cx="2067120" cy="10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8320" y="3363840"/>
            <a:ext cx="185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tar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9120" y="558720"/>
            <a:ext cx="1044720" cy="1257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25560" y="2141640"/>
            <a:ext cx="0" cy="923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0280" y="1730520"/>
            <a:ext cx="197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85160" y="3990960"/>
            <a:ext cx="7072920" cy="2357280"/>
            <a:chOff x="1685160" y="3990960"/>
            <a:chExt cx="7072920" cy="2357280"/>
          </a:xfrm>
        </p:grpSpPr>
        <p:sp>
          <p:nvSpPr>
            <p:cNvPr id="250" name=""/>
            <p:cNvSpPr/>
            <p:nvPr/>
          </p:nvSpPr>
          <p:spPr>
            <a:xfrm>
              <a:off x="1709640" y="4356000"/>
              <a:ext cx="2003400" cy="138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85160" y="4643280"/>
              <a:ext cx="207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shad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39960" y="4002120"/>
              <a:ext cx="601560" cy="6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54680" y="4389480"/>
              <a:ext cx="200340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97880" y="4676760"/>
              <a:ext cx="1944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st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41720" y="4592520"/>
              <a:ext cx="4108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24880" y="3990960"/>
              <a:ext cx="0" cy="666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24800" y="5477040"/>
              <a:ext cx="2003400" cy="87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3720" y="5173560"/>
              <a:ext cx="0" cy="625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proces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ter: Takes care of other proc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ctor: Stores ClassA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otiator: Performs matchma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edd: Manages job que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ow: Manages job (submit sid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d: Manages compu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er: Manages job (execution sid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irst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slides are available fro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ttp://www.cs.wisc.edu/~roy/italy-condor/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me not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ctly one negotiator/collector per p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have many schedds (submitt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have many startds (comput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chine can have any combin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dicated cluster: maybe just start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red workstations: schedd + start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onal Condor: everyt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ur Condor Pool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25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student machine h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dd (queu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d (with two virtual machin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erv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: Only a start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: Startd + collector/negotia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your leisur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_stat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5351400"/>
            <a:ext cx="9144000" cy="15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ur Condor Pool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2000" y="890640"/>
            <a:ext cx="88884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me          OpSys       Arch   State      Activity   LoadAv Mem   ActvtyTi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server4.g LINUX       INTEL  Unclaimed  Idle       0.000   501  0+03:45: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server4.g LINUX       INTEL  Unclaimed  Idle       0.000   501  0+03:45: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server5.g LINUX       INTEL  Unclaimed  Idle       0.000   501  0+03:40: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server5.g LINUX       INTEL  Unclaimed  Idle       0.000   501  0+03:40: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ws-01.gs. LINUX       INTEL  Unclaimed  Idle       0.000   501  0+00:02:4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ws-01.gs. LINUX       INTEL  Unclaimed  Idle       0.000   501  0+00:02: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ws-03.gs. LINUX       INTEL  Unclaimed  Idle       0.000   501  0+02:30:2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ws-03.gs. LINUX       INTEL  Unclaimed  Idle       0.000   501  0+02:30: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ws-04.gs. LINUX       INTEL  Unclaimed  Idle       0.080   501  0+03:30:0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ws-04.gs. LINUX       INTEL  Unclaimed  Idle       0.000   501  0+03:30: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chines Owner Claimed Unclaimed Matched Preempt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L/LINUX       66     0       0        66       0          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      66     0       0        66       0          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volution of 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are very power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ma-free, user-extensible,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could be fanci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li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nested ClassA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-hoc evaluation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47680" y="1447560"/>
            <a:ext cx="8470800" cy="36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versions of Condor will have new ClassAds to solve these probl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 Type = “Machine”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iends = {“alain”, “miron”, “peter”}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Averages = [ OneMinute = 3; FiveMinute=2.0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ments = member(other.name, Friends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ew 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788240" y="2773440"/>
            <a:ext cx="1029240" cy="474840"/>
            <a:chOff x="7788240" y="2773440"/>
            <a:chExt cx="1029240" cy="474840"/>
          </a:xfrm>
        </p:grpSpPr>
        <p:sp>
          <p:nvSpPr>
            <p:cNvPr id="273" name=""/>
            <p:cNvSpPr/>
            <p:nvPr/>
          </p:nvSpPr>
          <p:spPr>
            <a:xfrm>
              <a:off x="8292240" y="2773440"/>
              <a:ext cx="525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788240" y="3033720"/>
              <a:ext cx="517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162200" y="4108320"/>
            <a:ext cx="197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sted class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7424640" y="3648240"/>
            <a:ext cx="517680" cy="45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7200" y="4968720"/>
            <a:ext cx="208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uilt-i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67160" y="4089240"/>
            <a:ext cx="1440" cy="895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uses ClassAd to represent state of jobs and mach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chmaking operates on ClassAds to find mat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s and machine owners can specify their pre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Let’s take a break!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If I timed this correctly)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722600" y="1535040"/>
            <a:ext cx="5697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5284800"/>
            <a:ext cx="9144000" cy="15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948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Two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unning a Condor Job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738440" y="2633760"/>
            <a:ext cx="56671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etting Condo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vailable as a free download fr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ttp://www.cs.wisc.edu/con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wnload Condor for your operating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ailable for many UNIX platfor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nux, Solaris, HPUX, IRIX, Tru64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so for Window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Relea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892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aming scheme similar to the Linux Kernel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jor.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ino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rele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ble: Minor is even (a.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s: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3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8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ery stable, mostly bug fix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veloper: Minor is odd (a.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ew features, may have some bu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s: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5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5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’s releas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ble: 6.6.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velopment: 6.7.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861080"/>
            <a:ext cx="9144000" cy="19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This Morning’s Condor Topic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chmaking: Finding machines for jo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ning a 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ning a parameter sw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ing sets of dependent jo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ter-Worker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57560" y="3381480"/>
            <a:ext cx="46288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ry out Condor: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Use a Personal Condo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your own works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oot access requ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ystem administrator intervention nee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’ll try this during the exerc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20320"/>
            <a:ext cx="777240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Personal Condor?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’s the benefit of a Condor Pool with just one user and one machine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8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Your Personal Condor will ..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4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an eye on your jobs and will keep you posted on their prog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your policy on the execution order of the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a log of your job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fault tolerance to your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your policy on when the jobs can run on your works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fter Personal Condor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 Personal Condor pool works for you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ince your co-workers to add their computers to the p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dedicated hardware to the p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8840" y="76320"/>
            <a:ext cx="80391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our Steps to Run a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578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your job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your job batch-rea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ubmit descrip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1. Choose a Univers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many cho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nilla: any old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: checkpointing &amp; remote I/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: better for Java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I: Run parallel MPI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now, we’ll just consider vanil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2. Make your job batch-ready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be able to run in the background: no interactive input, windows, GUI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still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DER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the keyboard and the screen), but files are used for these instead of the actual dev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e data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3760" y="81000"/>
            <a:ext cx="73054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3. Create a Submit Description Fil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88960" y="1557360"/>
            <a:ext cx="855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plain ASCII text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 a Class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t condor_submit will make a ClassAd from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dor do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re about file exten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ls Condor about your job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ich executable, universe, input, output and error files to use, command-line arguments, environment variables, any special requirements or preferen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imple Submit Description Fil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8580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Simple condor_submit input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(Lines beginning with # are comm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NOTE: the words on the left side are n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      case sensitive, but filenames ar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xecutable =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0040" y="216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4. Run condor_submi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2860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giv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name of the submit file you have create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ondor_submit my_job.subm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ndor_submit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ses the submit file, checks for it errors, and creates a ClassAd that describes your jo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On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tchmaking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Finding Machines For Jobs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Finding Jobs for Machine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70040" y="216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he Job Queu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dor_submit sends your job’s ClassAd to the sched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ages the local job qu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ores the job in the job qu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operation, two-phase com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ke money in the bank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ew the queue with 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 example submission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4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submit my_job.subm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mitting job(s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 job(s) submitted to cluster 1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q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Submitter: perdita.cs.wisc.edu : &lt;128.105.165.34:1027&gt; 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D      OWNER        SUBMITTED     RUN_TIME ST PRI SIZE CMD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.0    roy          7/6 06:52   0+00:00:00 I  0   0.0  analys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 jobs; 1 idle, 0 running, 0 he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93720" y="759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me detail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09188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sends you email about ev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it off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ification = Ne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on error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ification =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creates a log file (user lo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The Life Story of a Job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ws all events in the life of a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have a log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ed with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 = file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99520"/>
            <a:ext cx="8234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ample Condor User Lo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1371600"/>
            <a:ext cx="838188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000 (0001.000.000) 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05/25 19:10:03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 Job submitted from host: &lt;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128.105.146.14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:1816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001 (0001.000.000) 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05/25 19:12:17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 Job executing on host: &lt;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128.105.146.14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:1026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005 (0001.000.000) 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05/25 19:13:06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 Job terminat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(1) Normal termination (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return value 0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37, Sys 0 00:00:00  -  Run Remote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00, Sys 0 00:00:05  -  Run Local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37, Sys 0 00:00:00  -  Total Remote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00, Sys 0 00:00:05  -  Total Local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9624  -  Run Bytes Sent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7146159  -  Run Bytes Received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9624  -  Total Bytes Sent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7146159  -  Total Bytes Received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60400" y="2846520"/>
            <a:ext cx="6045120" cy="15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ore Submit Featur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1333440"/>
            <a:ext cx="754380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Example condor_submit inpu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utable = /home/roy/condor/my_job.co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rguments  = -arg1 -ar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itialDir = /home/roy/condor/run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4400" y="20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Using condor_rm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44400" y="1231920"/>
            <a:ext cx="77724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f you want to remove a job from the Condor queue, you us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ndor_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 only remove jobs that you own (you can’t ru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someone else’s jobs unless you are roo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 give specific job ID’s (cluster or cluster.proc), or you can remove all of your jobs with the “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” op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dor_rm 21.1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  <a:ea typeface="Courier New"/>
              </a:rPr>
              <a:t>Removes a single j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dor_rm 21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Removes a whol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_statu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676520"/>
            <a:ext cx="83822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GB" sz="1200" spc="-1" strike="noStrike">
                <a:solidFill>
                  <a:srgbClr val="ff0000"/>
                </a:solidFill>
                <a:latin typeface="Courier New"/>
              </a:rPr>
              <a:t>condor_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Name          OpSys       Arch   State      Activity   LoadAv Mem   Actvty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haha.cs.wisc. IRIX65      SGI    Unclaimed  Idle       0.198   192  0+00:00: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antipholus.cs LINUX       INTEL  Unclaimed  Idle       0.020   511  0+02:28: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oral.cs.wisc LINUX       INTEL  Claimed    Busy       0.990   511  0+01:27: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oc.cs.wisc.e LINUX       INTEL  Unclaimed  Idle       0.260   511  0+00:20: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sonokwa.cs.w LINUX       INTEL  Claimed    Busy       0.810   511  0+00:01: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ferdinand.cs. LINUX       INTEL  Claimed    Suspended  1.130   511  0+00:0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vm1@pinguino. LINUX       INTEL  Unclaimed  Idle       0.000   255  0+01:03: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vm2@pinguino. LINUX       INTEL  Unclaimed  Idle       0.190   255  0+01:03: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8720" y="2300400"/>
            <a:ext cx="66690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How can my jobs access their data files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953400" y="96840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7880" y="154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ccess to Data in Condo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3720" y="12891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shared filesystem if avail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shared filesyste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Condor can transfer f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automatically send back changed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transfer of multiple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be encrypted over the w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mote I/O So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Universe can use 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mote system calls (more on this lat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1640" y="554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File Transfe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6600" y="866880"/>
            <a:ext cx="77724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houldTransferFiles = Y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ways transfer files to execution s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houldTransferFiles = 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ly on a shared file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ll automatically transfer the files if the submit and execute machine are not in the same FileSystemDom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41520" y="3589200"/>
            <a:ext cx="8412120" cy="2224080"/>
            <a:chOff x="641520" y="3589200"/>
            <a:chExt cx="8412120" cy="2224080"/>
          </a:xfrm>
        </p:grpSpPr>
        <p:sp>
          <p:nvSpPr>
            <p:cNvPr id="331" name=""/>
            <p:cNvSpPr/>
            <p:nvPr/>
          </p:nvSpPr>
          <p:spPr>
            <a:xfrm>
              <a:off x="641520" y="3589200"/>
              <a:ext cx="8259480" cy="2224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41520" y="3589200"/>
              <a:ext cx="8412120" cy="2224080"/>
              <a:chOff x="641520" y="3589200"/>
              <a:chExt cx="8412120" cy="2224080"/>
            </a:xfrm>
          </p:grpSpPr>
          <p:sp>
            <p:nvSpPr>
              <p:cNvPr id="333" name=""/>
              <p:cNvSpPr/>
              <p:nvPr/>
            </p:nvSpPr>
            <p:spPr>
              <a:xfrm>
                <a:off x="641520" y="3589200"/>
                <a:ext cx="8259480" cy="2224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2600" y="3589200"/>
                <a:ext cx="8411040" cy="221076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niverse   = van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xecutable = my_jo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og        = my_job.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ShouldTransferFiles   = IF_NEED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Transfer_input_files  = dataset$(Process), common.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Transfer_output_files = TheAnswer.d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Queue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338800"/>
            <a:ext cx="9144000" cy="15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840" y="3142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…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d matches th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Takes Computers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447920"/>
            <a:ext cx="4038480" cy="4413240"/>
            <a:chOff x="457200" y="1447920"/>
            <a:chExt cx="4038480" cy="44132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457200" y="1917720"/>
              <a:ext cx="403848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158840" y="1447920"/>
              <a:ext cx="2422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dicated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648320" y="1371600"/>
            <a:ext cx="4038480" cy="3057480"/>
            <a:chOff x="4648320" y="1371600"/>
            <a:chExt cx="4038480" cy="30574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4648320" y="1905120"/>
              <a:ext cx="403848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371920" y="1371600"/>
              <a:ext cx="2564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sktop Compu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57200" y="304920"/>
            <a:ext cx="82296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…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d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04720" y="973080"/>
            <a:ext cx="2971800" cy="2388960"/>
            <a:chOff x="504720" y="973080"/>
            <a:chExt cx="2971800" cy="238896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504720" y="1476360"/>
              <a:ext cx="2971800" cy="18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90200" y="973080"/>
              <a:ext cx="1771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 need a Mac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36680" y="3738600"/>
            <a:ext cx="2431800" cy="2724120"/>
            <a:chOff x="436680" y="3738600"/>
            <a:chExt cx="2431800" cy="272412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695160" y="4586400"/>
              <a:ext cx="180036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36680" y="3738600"/>
              <a:ext cx="24318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 need a Linux bo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th 2GB RAM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205080" y="2263680"/>
            <a:ext cx="2530440" cy="3348720"/>
            <a:chOff x="3205080" y="2263680"/>
            <a:chExt cx="2530440" cy="3348720"/>
          </a:xfrm>
        </p:grpSpPr>
        <p:sp>
          <p:nvSpPr>
            <p:cNvPr id="128" name=""/>
            <p:cNvSpPr/>
            <p:nvPr/>
          </p:nvSpPr>
          <p:spPr>
            <a:xfrm>
              <a:off x="3205080" y="2263680"/>
              <a:ext cx="2530440" cy="334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2080" y="3030840"/>
              <a:ext cx="1689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tchm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511360" y="2127240"/>
            <a:ext cx="5419800" cy="500040"/>
          </a:xfrm>
          <a:custGeom>
            <a:avLst/>
            <a:gdLst>
              <a:gd name="textAreaLeft" fmla="*/ 948240 w 5419800"/>
              <a:gd name="textAreaRight" fmla="*/ 3929400 w 54198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92480" y="1859040"/>
            <a:ext cx="4244760" cy="711000"/>
          </a:xfrm>
          <a:custGeom>
            <a:avLst/>
            <a:gdLst>
              <a:gd name="textAreaLeft" fmla="*/ 742680 w 4244760"/>
              <a:gd name="textAreaRight" fmla="*/ 3077640 w 4244760"/>
              <a:gd name="textAreaTop" fmla="*/ 95040 h 711000"/>
              <a:gd name="textAreaBottom" fmla="*/ 615960 h 71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73200" y="4863960"/>
            <a:ext cx="4359240" cy="846360"/>
          </a:xfrm>
          <a:custGeom>
            <a:avLst/>
            <a:gdLst>
              <a:gd name="textAreaLeft" fmla="*/ 762840 w 4359240"/>
              <a:gd name="textAreaRight" fmla="*/ 3160440 w 4359240"/>
              <a:gd name="textAreaTop" fmla="*/ 113400 h 846360"/>
              <a:gd name="textAreaBottom" fmla="*/ 73296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62891E-007 L 3.33333E-006 -0.16748 E">
                                      <p:cBhvr>
                                        <p:cTn id="1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76396E-007 L 0.47917 -6.76396E-007 E">
                                      <p:cBhvr>
                                        <p:cTn id="1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8720" y="1297080"/>
            <a:ext cx="6669000" cy="35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me of the machines in the Pool do not have enough memory or scratch disk space to run my job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953400" y="96840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pecify Requirements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32880" y="1639440"/>
            <a:ext cx="79995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xpression (syntax similar to C or Jav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evaluate to True for a match to be m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8680" y="3294000"/>
            <a:ext cx="6887520" cy="2878560"/>
            <a:chOff x="778680" y="3294000"/>
            <a:chExt cx="6887520" cy="2878560"/>
          </a:xfrm>
        </p:grpSpPr>
        <p:sp>
          <p:nvSpPr>
            <p:cNvPr id="340" name=""/>
            <p:cNvSpPr/>
            <p:nvPr/>
          </p:nvSpPr>
          <p:spPr>
            <a:xfrm>
              <a:off x="779400" y="3294000"/>
              <a:ext cx="6886800" cy="277668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8680" y="3294000"/>
              <a:ext cx="6887160" cy="2878560"/>
              <a:chOff x="778680" y="3294000"/>
              <a:chExt cx="6887160" cy="2878560"/>
            </a:xfrm>
          </p:grpSpPr>
          <p:sp>
            <p:nvSpPr>
              <p:cNvPr id="342" name=""/>
              <p:cNvSpPr/>
              <p:nvPr/>
            </p:nvSpPr>
            <p:spPr>
              <a:xfrm>
                <a:off x="779400" y="3294000"/>
                <a:ext cx="6885360" cy="2775240"/>
              </a:xfrm>
              <a:prstGeom prst="roundRect">
                <a:avLst>
                  <a:gd name="adj" fmla="val 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78680" y="3294000"/>
                <a:ext cx="6887160" cy="2878560"/>
              </a:xfrm>
              <a:prstGeom prst="roundRect">
                <a:avLst>
                  <a:gd name="adj" fmla="val 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Universe   = van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Executable = my_jo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Log        = my_job.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InitialDir = run_$(Proces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</a:rPr>
                  <a:t>Requirements = Memory &gt;= 256 &amp;&amp; Disk &gt; 1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Queue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342720"/>
            <a:ext cx="823428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pecify Rank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7360" y="1378080"/>
            <a:ext cx="77724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matches which meet the requirements can be sorted by preference with a Rank express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the Rank, the better the mat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78680" y="3149640"/>
            <a:ext cx="6887520" cy="3500640"/>
            <a:chOff x="778680" y="3149640"/>
            <a:chExt cx="6887520" cy="3500640"/>
          </a:xfrm>
        </p:grpSpPr>
        <p:sp>
          <p:nvSpPr>
            <p:cNvPr id="347" name=""/>
            <p:cNvSpPr/>
            <p:nvPr/>
          </p:nvSpPr>
          <p:spPr>
            <a:xfrm>
              <a:off x="779400" y="3149640"/>
              <a:ext cx="6886800" cy="3386160"/>
            </a:xfrm>
            <a:prstGeom prst="roundRect">
              <a:avLst>
                <a:gd name="adj" fmla="val 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778680" y="3149640"/>
              <a:ext cx="6887160" cy="3500640"/>
              <a:chOff x="778680" y="3149640"/>
              <a:chExt cx="6887160" cy="3500640"/>
            </a:xfrm>
          </p:grpSpPr>
          <p:sp>
            <p:nvSpPr>
              <p:cNvPr id="349" name=""/>
              <p:cNvSpPr/>
              <p:nvPr/>
            </p:nvSpPr>
            <p:spPr>
              <a:xfrm>
                <a:off x="779400" y="3149640"/>
                <a:ext cx="6885360" cy="3384720"/>
              </a:xfrm>
              <a:prstGeom prst="roundRect">
                <a:avLst>
                  <a:gd name="adj" fmla="val 4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78680" y="3149640"/>
                <a:ext cx="6887160" cy="3500640"/>
              </a:xfrm>
              <a:prstGeom prst="roundRect">
                <a:avLst>
                  <a:gd name="adj" fmla="val 4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Universe   = van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Executable = my_jo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Log        = my_job.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Arguments  = -arg1 –arg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InitialDir = run_$(Proces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</a:rPr>
                  <a:t>Requirements = Memory &gt;= 256 &amp;&amp; Disk &gt; 1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</a:rPr>
                  <a:t>Rank = (KFLOPS*10000) + Mem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Queue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8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e’ve seen how Condor can: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22040" y="1752120"/>
            <a:ext cx="76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s an eye on your jobs and will keep you posted on their prog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s your policy on the execution order of the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s a log of your job activ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391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y jobs run for 20 days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086600" y="1066680"/>
            <a:ext cx="1622520" cy="3934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670572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happens when they get pre-empte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can I add fault tolerance to my job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4480" y="468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’s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tandard Universe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to the rescue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22440"/>
            <a:ext cx="823428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can support various combinations of features/environments in different “Universe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Universes provide different functionality for your job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nilla – Run any Serial 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eduler – Plug in a schedu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andard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– Support for transparent process checkpoint and rest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Process Checkpointin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58520" y="1638000"/>
            <a:ext cx="74977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dor’s Process Checkpointing mechanism saves the entire state of a process into a checkpoint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ory, CPU, I/O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ocess can then be restarted 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from right where it left o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ypically no changes to your job’s source code need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however,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your job must be 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relinked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with Condor’s Standard Universe support libr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9960"/>
            <a:ext cx="777240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Relinking Your Job for Standard Univers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43040"/>
            <a:ext cx="823428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do this, just place “</a:t>
            </a: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condor_compi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 in front of the command you normally use to link your jo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006560" y="3759120"/>
            <a:ext cx="71118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compile gcc -o myjob myjob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- OR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compile f77 -o myjob filea.f fileb.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- OR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compile make –f MyMake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1640" y="9216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Limitations of the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andard Univers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1640" y="1590480"/>
            <a:ext cx="777240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dor’s checkpointing is not at the kernel level.  Thus in the Standard Universe the job may no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k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kernel threa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some forms of IPC, such as pipes and shared mem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typical scientific jobs are 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en will Condor checkpoint your job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755720"/>
            <a:ext cx="823428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iodically, if des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fault toler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your job is preempted by a higher priority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your job is vacated because the execution machine becomes bu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you explicitly run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checkpoint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vacat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off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restart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Quick Terminolog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A dedicated set of computers not for interactive 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oo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A collection of computers used by Con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be dedic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be interac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ote I/O Socke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0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ob can request that the condor_starter process on the execute machine create a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Remote I/O So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d for online access of file on submit machine –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without Standard Univer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se in Vanilla, Java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braries provided for Java and for C, e.g.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va: FileInputStream -&gt; ChirpInputStre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: open()  -&gt;  chirp_open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5478480"/>
            <a:ext cx="914400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46840" y="2586960"/>
            <a:ext cx="2690640" cy="2654280"/>
            <a:chOff x="5046840" y="2586960"/>
            <a:chExt cx="2690640" cy="2654280"/>
          </a:xfrm>
        </p:grpSpPr>
        <p:sp>
          <p:nvSpPr>
            <p:cNvPr id="371" name=""/>
            <p:cNvSpPr/>
            <p:nvPr/>
          </p:nvSpPr>
          <p:spPr>
            <a:xfrm>
              <a:off x="5046840" y="3108240"/>
              <a:ext cx="2690640" cy="16113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444640" y="2586960"/>
              <a:ext cx="1891440" cy="2654280"/>
              <a:chOff x="5444640" y="2586960"/>
              <a:chExt cx="1891440" cy="2654280"/>
            </a:xfrm>
          </p:grpSpPr>
          <p:sp>
            <p:nvSpPr>
              <p:cNvPr id="373" name=""/>
              <p:cNvSpPr/>
              <p:nvPr/>
            </p:nvSpPr>
            <p:spPr>
              <a:xfrm>
                <a:off x="5444640" y="3347280"/>
                <a:ext cx="1891440" cy="113256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444640" y="2586960"/>
                <a:ext cx="1891440" cy="26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75" name=""/>
          <p:cNvCxnSpPr/>
          <p:nvPr/>
        </p:nvCxnSpPr>
        <p:spPr>
          <a:xfrm>
            <a:off x="6393960" y="2433600"/>
            <a:ext cx="2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76" name=""/>
          <p:cNvGrpSpPr/>
          <p:nvPr/>
        </p:nvGrpSpPr>
        <p:grpSpPr>
          <a:xfrm>
            <a:off x="5538960" y="2490840"/>
            <a:ext cx="757440" cy="434520"/>
            <a:chOff x="5538960" y="2490840"/>
            <a:chExt cx="757440" cy="434520"/>
          </a:xfrm>
        </p:grpSpPr>
        <p:sp>
          <p:nvSpPr>
            <p:cNvPr id="377" name=""/>
            <p:cNvSpPr/>
            <p:nvPr/>
          </p:nvSpPr>
          <p:spPr>
            <a:xfrm>
              <a:off x="5556240" y="2490840"/>
              <a:ext cx="723960" cy="3398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5538960" y="2490840"/>
              <a:ext cx="757440" cy="434520"/>
              <a:chOff x="5538960" y="2490840"/>
              <a:chExt cx="757440" cy="434520"/>
            </a:xfrm>
          </p:grpSpPr>
          <p:sp>
            <p:nvSpPr>
              <p:cNvPr id="379" name=""/>
              <p:cNvSpPr/>
              <p:nvPr/>
            </p:nvSpPr>
            <p:spPr>
              <a:xfrm>
                <a:off x="5556240" y="2490840"/>
                <a:ext cx="722520" cy="3384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38960" y="2490840"/>
                <a:ext cx="757440" cy="43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5265720" y="609480"/>
            <a:ext cx="2254320" cy="1819440"/>
            <a:chOff x="5265720" y="609480"/>
            <a:chExt cx="2254320" cy="1819440"/>
          </a:xfrm>
        </p:grpSpPr>
        <p:sp>
          <p:nvSpPr>
            <p:cNvPr id="382" name=""/>
            <p:cNvSpPr/>
            <p:nvPr/>
          </p:nvSpPr>
          <p:spPr>
            <a:xfrm>
              <a:off x="5265720" y="609480"/>
              <a:ext cx="2254320" cy="18194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5598720" y="752760"/>
              <a:ext cx="1583280" cy="1531080"/>
              <a:chOff x="5598720" y="752760"/>
              <a:chExt cx="1583280" cy="153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5598720" y="878760"/>
                <a:ext cx="1583280" cy="1276560"/>
              </a:xfrm>
              <a:prstGeom prst="roundRect">
                <a:avLst>
                  <a:gd name="adj" fmla="val 12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98720" y="752760"/>
                <a:ext cx="1581840" cy="15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ar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57200" y="609480"/>
            <a:ext cx="2254320" cy="1819440"/>
            <a:chOff x="457200" y="609480"/>
            <a:chExt cx="2254320" cy="1819440"/>
          </a:xfrm>
        </p:grpSpPr>
        <p:sp>
          <p:nvSpPr>
            <p:cNvPr id="387" name=""/>
            <p:cNvSpPr/>
            <p:nvPr/>
          </p:nvSpPr>
          <p:spPr>
            <a:xfrm>
              <a:off x="457200" y="609480"/>
              <a:ext cx="2254320" cy="18194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1170720" y="902880"/>
              <a:ext cx="932760" cy="340920"/>
              <a:chOff x="1170720" y="902880"/>
              <a:chExt cx="932760" cy="340920"/>
            </a:xfrm>
          </p:grpSpPr>
          <p:sp>
            <p:nvSpPr>
              <p:cNvPr id="389" name=""/>
              <p:cNvSpPr/>
              <p:nvPr/>
            </p:nvSpPr>
            <p:spPr>
              <a:xfrm>
                <a:off x="1180440" y="902880"/>
                <a:ext cx="915120" cy="33624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70720" y="902880"/>
                <a:ext cx="932760" cy="34092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d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676440" y="3060720"/>
            <a:ext cx="1815840" cy="1933560"/>
            <a:chOff x="676440" y="3060720"/>
            <a:chExt cx="1815840" cy="1933560"/>
          </a:xfrm>
        </p:grpSpPr>
        <p:grpSp>
          <p:nvGrpSpPr>
            <p:cNvPr id="392" name=""/>
            <p:cNvGrpSpPr/>
            <p:nvPr/>
          </p:nvGrpSpPr>
          <p:grpSpPr>
            <a:xfrm>
              <a:off x="676440" y="3060720"/>
              <a:ext cx="1814400" cy="1933560"/>
              <a:chOff x="676440" y="3060720"/>
              <a:chExt cx="1814400" cy="1933560"/>
            </a:xfrm>
          </p:grpSpPr>
          <p:sp>
            <p:nvSpPr>
              <p:cNvPr id="393" name=""/>
              <p:cNvSpPr/>
              <p:nvPr/>
            </p:nvSpPr>
            <p:spPr>
              <a:xfrm>
                <a:off x="676440" y="3060720"/>
                <a:ext cx="1814400" cy="1933560"/>
              </a:xfrm>
              <a:custGeom>
                <a:avLst/>
                <a:gdLst/>
                <a:ahLst/>
                <a:rect l="l" t="t" r="r" b="b"/>
                <a:pathLst>
                  <a:path w="5045" h="5376">
                    <a:moveTo>
                      <a:pt x="2521" y="0"/>
                    </a:moveTo>
                    <a:cubicBezTo>
                      <a:pt x="1144" y="0"/>
                      <a:pt x="0" y="305"/>
                      <a:pt x="0" y="671"/>
                    </a:cubicBezTo>
                    <a:lnTo>
                      <a:pt x="0" y="4703"/>
                    </a:lnTo>
                    <a:cubicBezTo>
                      <a:pt x="0" y="5070"/>
                      <a:pt x="1144" y="5375"/>
                      <a:pt x="2521" y="5375"/>
                    </a:cubicBezTo>
                    <a:cubicBezTo>
                      <a:pt x="3897" y="5375"/>
                      <a:pt x="5044" y="5070"/>
                      <a:pt x="5044" y="4703"/>
                    </a:cubicBezTo>
                    <a:lnTo>
                      <a:pt x="5044" y="671"/>
                    </a:lnTo>
                    <a:cubicBezTo>
                      <a:pt x="5044" y="305"/>
                      <a:pt x="3897" y="0"/>
                      <a:pt x="2521" y="0"/>
                    </a:cubicBezTo>
                  </a:path>
                </a:pathLst>
              </a:custGeom>
              <a:solidFill>
                <a:srgbClr val="66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6440" y="3060720"/>
                <a:ext cx="1814400" cy="483480"/>
              </a:xfrm>
              <a:custGeom>
                <a:avLst/>
                <a:gdLst/>
                <a:ahLst/>
                <a:rect l="l" t="t" r="r" b="b"/>
                <a:pathLst>
                  <a:path w="5045" h="1344">
                    <a:moveTo>
                      <a:pt x="2521" y="0"/>
                    </a:moveTo>
                    <a:cubicBezTo>
                      <a:pt x="1144" y="0"/>
                      <a:pt x="0" y="305"/>
                      <a:pt x="0" y="671"/>
                    </a:cubicBezTo>
                    <a:cubicBezTo>
                      <a:pt x="0" y="1037"/>
                      <a:pt x="1144" y="1343"/>
                      <a:pt x="2521" y="1343"/>
                    </a:cubicBezTo>
                    <a:cubicBezTo>
                      <a:pt x="3897" y="1343"/>
                      <a:pt x="5044" y="1037"/>
                      <a:pt x="5044" y="671"/>
                    </a:cubicBezTo>
                    <a:cubicBezTo>
                      <a:pt x="5044" y="305"/>
                      <a:pt x="3897" y="0"/>
                      <a:pt x="2521" y="0"/>
                    </a:cubicBezTo>
                  </a:path>
                </a:pathLst>
              </a:custGeom>
              <a:solidFill>
                <a:srgbClr val="6fd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76440" y="3544920"/>
              <a:ext cx="1815840" cy="1208160"/>
              <a:chOff x="676440" y="3544920"/>
              <a:chExt cx="1815840" cy="1208160"/>
            </a:xfrm>
          </p:grpSpPr>
          <p:sp>
            <p:nvSpPr>
              <p:cNvPr id="396" name=""/>
              <p:cNvSpPr/>
              <p:nvPr/>
            </p:nvSpPr>
            <p:spPr>
              <a:xfrm>
                <a:off x="676440" y="3544920"/>
                <a:ext cx="1815840" cy="12081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6440" y="3566160"/>
                <a:ext cx="181584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o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yste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5483160" y="3813120"/>
            <a:ext cx="1816200" cy="433800"/>
            <a:chOff x="5483160" y="3813120"/>
            <a:chExt cx="1816200" cy="433800"/>
          </a:xfrm>
        </p:grpSpPr>
        <p:sp>
          <p:nvSpPr>
            <p:cNvPr id="399" name=""/>
            <p:cNvSpPr/>
            <p:nvPr/>
          </p:nvSpPr>
          <p:spPr>
            <a:xfrm>
              <a:off x="5483160" y="3895560"/>
              <a:ext cx="1816200" cy="271800"/>
            </a:xfrm>
            <a:prstGeom prst="roundRect">
              <a:avLst>
                <a:gd name="adj" fmla="val 28231"/>
              </a:avLst>
            </a:prstGeom>
            <a:solidFill>
              <a:srgbClr val="66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508360" y="3813120"/>
              <a:ext cx="1765440" cy="433800"/>
              <a:chOff x="5508360" y="3813120"/>
              <a:chExt cx="1765440" cy="433800"/>
            </a:xfrm>
          </p:grpSpPr>
          <p:sp>
            <p:nvSpPr>
              <p:cNvPr id="401" name=""/>
              <p:cNvSpPr/>
              <p:nvPr/>
            </p:nvSpPr>
            <p:spPr>
              <a:xfrm>
                <a:off x="5508360" y="3909600"/>
                <a:ext cx="1765440" cy="23868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508360" y="3813120"/>
                <a:ext cx="17654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/O Libra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676440" y="1476000"/>
            <a:ext cx="1815840" cy="433800"/>
            <a:chOff x="676440" y="1476000"/>
            <a:chExt cx="1815840" cy="433800"/>
          </a:xfrm>
        </p:grpSpPr>
        <p:sp>
          <p:nvSpPr>
            <p:cNvPr id="404" name=""/>
            <p:cNvSpPr/>
            <p:nvPr/>
          </p:nvSpPr>
          <p:spPr>
            <a:xfrm>
              <a:off x="676440" y="1558800"/>
              <a:ext cx="1815840" cy="271440"/>
            </a:xfrm>
            <a:prstGeom prst="roundRect">
              <a:avLst>
                <a:gd name="adj" fmla="val 28231"/>
              </a:avLst>
            </a:prstGeom>
            <a:solidFill>
              <a:srgbClr val="66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99840" y="1476000"/>
              <a:ext cx="1765080" cy="433800"/>
              <a:chOff x="699840" y="1476000"/>
              <a:chExt cx="1765080" cy="433800"/>
            </a:xfrm>
          </p:grpSpPr>
          <p:sp>
            <p:nvSpPr>
              <p:cNvPr id="406" name=""/>
              <p:cNvSpPr/>
              <p:nvPr/>
            </p:nvSpPr>
            <p:spPr>
              <a:xfrm>
                <a:off x="699840" y="1572480"/>
                <a:ext cx="1765080" cy="23868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840" y="1476000"/>
                <a:ext cx="17650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/O 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5483160" y="1476000"/>
            <a:ext cx="1816200" cy="433800"/>
            <a:chOff x="5483160" y="1476000"/>
            <a:chExt cx="1816200" cy="433800"/>
          </a:xfrm>
        </p:grpSpPr>
        <p:sp>
          <p:nvSpPr>
            <p:cNvPr id="409" name=""/>
            <p:cNvSpPr/>
            <p:nvPr/>
          </p:nvSpPr>
          <p:spPr>
            <a:xfrm>
              <a:off x="5483160" y="1558800"/>
              <a:ext cx="1816200" cy="271440"/>
            </a:xfrm>
            <a:prstGeom prst="roundRect">
              <a:avLst>
                <a:gd name="adj" fmla="val 28231"/>
              </a:avLst>
            </a:prstGeom>
            <a:solidFill>
              <a:srgbClr val="66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5508360" y="1476000"/>
              <a:ext cx="1765440" cy="433800"/>
              <a:chOff x="5508360" y="1476000"/>
              <a:chExt cx="1765440" cy="433800"/>
            </a:xfrm>
          </p:grpSpPr>
          <p:sp>
            <p:nvSpPr>
              <p:cNvPr id="411" name=""/>
              <p:cNvSpPr/>
              <p:nvPr/>
            </p:nvSpPr>
            <p:spPr>
              <a:xfrm>
                <a:off x="5508360" y="1572480"/>
                <a:ext cx="1765440" cy="23868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08360" y="1476000"/>
                <a:ext cx="17654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/O 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13" name=""/>
          <p:cNvCxnSpPr>
            <a:stCxn id="404" idx="2"/>
          </p:cNvCxnSpPr>
          <p:nvPr/>
        </p:nvCxnSpPr>
        <p:spPr>
          <a:xfrm>
            <a:off x="1584000" y="1830240"/>
            <a:ext cx="3960" cy="1232280"/>
          </a:xfrm>
          <a:prstGeom prst="straightConnector1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14" name=""/>
          <p:cNvCxnSpPr>
            <a:stCxn id="409" idx="1"/>
            <a:endCxn id="404" idx="3"/>
          </p:cNvCxnSpPr>
          <p:nvPr/>
        </p:nvCxnSpPr>
        <p:spPr>
          <a:xfrm flipH="1">
            <a:off x="2493360" y="1693440"/>
            <a:ext cx="2989800" cy="2520"/>
          </a:xfrm>
          <a:prstGeom prst="straightConnector1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415" name=""/>
          <p:cNvGrpSpPr/>
          <p:nvPr/>
        </p:nvGrpSpPr>
        <p:grpSpPr>
          <a:xfrm>
            <a:off x="2728440" y="1179360"/>
            <a:ext cx="2520720" cy="434520"/>
            <a:chOff x="2728440" y="1179360"/>
            <a:chExt cx="2520720" cy="434520"/>
          </a:xfrm>
        </p:grpSpPr>
        <p:sp>
          <p:nvSpPr>
            <p:cNvPr id="416" name=""/>
            <p:cNvSpPr/>
            <p:nvPr/>
          </p:nvSpPr>
          <p:spPr>
            <a:xfrm>
              <a:off x="2787480" y="1179360"/>
              <a:ext cx="2403720" cy="3398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728440" y="1179360"/>
              <a:ext cx="2520720" cy="434520"/>
              <a:chOff x="2728440" y="1179360"/>
              <a:chExt cx="2520720" cy="434520"/>
            </a:xfrm>
          </p:grpSpPr>
          <p:sp>
            <p:nvSpPr>
              <p:cNvPr id="418" name=""/>
              <p:cNvSpPr/>
              <p:nvPr/>
            </p:nvSpPr>
            <p:spPr>
              <a:xfrm>
                <a:off x="2787480" y="1179360"/>
                <a:ext cx="2402280" cy="33804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28440" y="1179360"/>
                <a:ext cx="2520720" cy="43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cure Remote I/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1707840" y="2548080"/>
            <a:ext cx="2556000" cy="434520"/>
            <a:chOff x="1707840" y="2548080"/>
            <a:chExt cx="2556000" cy="434520"/>
          </a:xfrm>
        </p:grpSpPr>
        <p:sp>
          <p:nvSpPr>
            <p:cNvPr id="421" name=""/>
            <p:cNvSpPr/>
            <p:nvPr/>
          </p:nvSpPr>
          <p:spPr>
            <a:xfrm>
              <a:off x="1768320" y="2548080"/>
              <a:ext cx="2436840" cy="33948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1707840" y="2548080"/>
              <a:ext cx="2556000" cy="434520"/>
              <a:chOff x="1707840" y="2548080"/>
              <a:chExt cx="2556000" cy="434520"/>
            </a:xfrm>
          </p:grpSpPr>
          <p:sp>
            <p:nvSpPr>
              <p:cNvPr id="423" name=""/>
              <p:cNvSpPr/>
              <p:nvPr/>
            </p:nvSpPr>
            <p:spPr>
              <a:xfrm>
                <a:off x="1768320" y="2548080"/>
                <a:ext cx="2435040" cy="337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707840" y="2548080"/>
                <a:ext cx="2556000" cy="43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cal System Cal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25" name=""/>
          <p:cNvCxnSpPr/>
          <p:nvPr/>
        </p:nvCxnSpPr>
        <p:spPr>
          <a:xfrm flipV="1">
            <a:off x="7305840" y="1692000"/>
            <a:ext cx="2160" cy="2280240"/>
          </a:xfrm>
          <a:prstGeom prst="curvedConnector5">
            <a:avLst>
              <a:gd name="adj1" fmla="val 40000"/>
              <a:gd name="adj2" fmla="val 49992"/>
              <a:gd name="adj3" fmla="val 40000"/>
            </a:avLst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426" name=""/>
          <p:cNvGrpSpPr/>
          <p:nvPr/>
        </p:nvGrpSpPr>
        <p:grpSpPr>
          <a:xfrm>
            <a:off x="721080" y="5251320"/>
            <a:ext cx="2078640" cy="340920"/>
            <a:chOff x="721080" y="5251320"/>
            <a:chExt cx="2078640" cy="340920"/>
          </a:xfrm>
        </p:grpSpPr>
        <p:sp>
          <p:nvSpPr>
            <p:cNvPr id="427" name=""/>
            <p:cNvSpPr/>
            <p:nvPr/>
          </p:nvSpPr>
          <p:spPr>
            <a:xfrm>
              <a:off x="741240" y="5251320"/>
              <a:ext cx="203832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1080" y="5251320"/>
              <a:ext cx="2078640" cy="3409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ssion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435640" y="5056200"/>
            <a:ext cx="1891080" cy="340920"/>
            <a:chOff x="5435640" y="5056200"/>
            <a:chExt cx="1891080" cy="340920"/>
          </a:xfrm>
        </p:grpSpPr>
        <p:sp>
          <p:nvSpPr>
            <p:cNvPr id="430" name=""/>
            <p:cNvSpPr/>
            <p:nvPr/>
          </p:nvSpPr>
          <p:spPr>
            <a:xfrm>
              <a:off x="5454720" y="5056200"/>
              <a:ext cx="185256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5640" y="5056200"/>
              <a:ext cx="1891080" cy="3409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ecution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664400" y="1108080"/>
            <a:ext cx="1179360" cy="706680"/>
            <a:chOff x="7664400" y="1108080"/>
            <a:chExt cx="1179360" cy="706680"/>
          </a:xfrm>
        </p:grpSpPr>
        <p:sp>
          <p:nvSpPr>
            <p:cNvPr id="433" name=""/>
            <p:cNvSpPr/>
            <p:nvPr/>
          </p:nvSpPr>
          <p:spPr>
            <a:xfrm>
              <a:off x="7677000" y="1108080"/>
              <a:ext cx="1154160" cy="70020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64400" y="1108080"/>
              <a:ext cx="1179360" cy="70668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al I/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hi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99520"/>
            <a:ext cx="8234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ote System Call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1960" y="119700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/O System calls are trapped and sent back to submit mach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Transparent Migration Across Administrative Doma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point on machine A, restart on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ource Code changes requ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guage Independ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portunities for Application Stee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Condor tells customer process “how” to open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5478480"/>
            <a:ext cx="914400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1219320"/>
            <a:ext cx="3733560" cy="4419360"/>
          </a:xfrm>
          <a:custGeom>
            <a:avLst/>
            <a:gdLst>
              <a:gd name="textAreaLeft" fmla="*/ 360 w 3733560"/>
              <a:gd name="textAreaRight" fmla="*/ 3733200 w 3733560"/>
              <a:gd name="textAreaTop" fmla="*/ 360 h 4419360"/>
              <a:gd name="textAreaBottom" fmla="*/ 4419000 h 4419360"/>
            </a:gdLst>
            <a:ahLst/>
            <a:rect l="textAreaLeft" t="textAreaTop" r="textAreaRight" b="textAreaBottom"/>
            <a:pathLst>
              <a:path w="21600" h="25567">
                <a:moveTo>
                  <a:pt x="9" y="0"/>
                </a:moveTo>
                <a:arcTo wR="9" hR="9" stAng="16200000" swAng="-5400000"/>
                <a:lnTo>
                  <a:pt x="0" y="25558"/>
                </a:lnTo>
                <a:arcTo wR="9" hR="9" stAng="10800000" swAng="-5400000"/>
                <a:lnTo>
                  <a:pt x="21591" y="25567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952880" y="2971800"/>
            <a:ext cx="1824120" cy="2509920"/>
            <a:chOff x="4952880" y="2971800"/>
            <a:chExt cx="1824120" cy="2509920"/>
          </a:xfrm>
        </p:grpSpPr>
        <p:sp>
          <p:nvSpPr>
            <p:cNvPr id="440" name=""/>
            <p:cNvSpPr/>
            <p:nvPr/>
          </p:nvSpPr>
          <p:spPr>
            <a:xfrm>
              <a:off x="4952880" y="2971800"/>
              <a:ext cx="1824120" cy="2509920"/>
            </a:xfrm>
            <a:custGeom>
              <a:avLst/>
              <a:gdLst>
                <a:gd name="textAreaLeft" fmla="*/ 360 w 1824120"/>
                <a:gd name="textAreaRight" fmla="*/ 1823760 w 1824120"/>
                <a:gd name="textAreaTop" fmla="*/ 360 h 2509920"/>
                <a:gd name="textAreaBottom" fmla="*/ 2509560 h 2509920"/>
              </a:gdLst>
              <a:ahLst/>
              <a:rect l="textAreaLeft" t="textAreaTop" r="textAreaRight" b="textAreaBottom"/>
              <a:pathLst>
                <a:path w="21600" h="29719">
                  <a:moveTo>
                    <a:pt x="18" y="0"/>
                  </a:moveTo>
                  <a:arcTo wR="18" hR="18" stAng="16200000" swAng="-5400000"/>
                  <a:lnTo>
                    <a:pt x="0" y="29701"/>
                  </a:lnTo>
                  <a:arcTo wR="18" hR="18" stAng="10800000" swAng="-5400000"/>
                  <a:lnTo>
                    <a:pt x="21582" y="29719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952880" y="2971800"/>
              <a:ext cx="1822320" cy="2506680"/>
              <a:chOff x="4952880" y="2971800"/>
              <a:chExt cx="1822320" cy="2506680"/>
            </a:xfrm>
          </p:grpSpPr>
          <p:sp>
            <p:nvSpPr>
              <p:cNvPr id="442" name=""/>
              <p:cNvSpPr/>
              <p:nvPr/>
            </p:nvSpPr>
            <p:spPr>
              <a:xfrm>
                <a:off x="4952880" y="2971800"/>
                <a:ext cx="1822320" cy="2506680"/>
              </a:xfrm>
              <a:custGeom>
                <a:avLst/>
                <a:gdLst>
                  <a:gd name="textAreaLeft" fmla="*/ 360 w 1822320"/>
                  <a:gd name="textAreaRight" fmla="*/ 1821960 w 1822320"/>
                  <a:gd name="textAreaTop" fmla="*/ 360 h 2506680"/>
                  <a:gd name="textAreaBottom" fmla="*/ 2506320 h 2506680"/>
                </a:gdLst>
                <a:ahLst/>
                <a:rect l="textAreaLeft" t="textAreaTop" r="textAreaRight" b="textAreaBottom"/>
                <a:pathLst>
                  <a:path w="21600" h="29710">
                    <a:moveTo>
                      <a:pt x="18" y="0"/>
                    </a:moveTo>
                    <a:arcTo wR="18" hR="18" stAng="16200000" swAng="-5400000"/>
                    <a:lnTo>
                      <a:pt x="0" y="29692"/>
                    </a:lnTo>
                    <a:arcTo wR="18" hR="18" stAng="10800000" swAng="-5400000"/>
                    <a:lnTo>
                      <a:pt x="21582" y="29710"/>
                    </a:lnTo>
                    <a:arcTo wR="18" hR="18" stAng="5400000" swAng="-5400000"/>
                    <a:lnTo>
                      <a:pt x="21600" y="18"/>
                    </a:lnTo>
                    <a:arcTo wR="18" hR="18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52880" y="3838320"/>
                <a:ext cx="1822320" cy="7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ustomer 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"/>
          <p:cNvSpPr/>
          <p:nvPr/>
        </p:nvSpPr>
        <p:spPr>
          <a:xfrm>
            <a:off x="304920" y="1219320"/>
            <a:ext cx="3733560" cy="4419360"/>
          </a:xfrm>
          <a:custGeom>
            <a:avLst/>
            <a:gdLst>
              <a:gd name="textAreaLeft" fmla="*/ 360 w 3733560"/>
              <a:gd name="textAreaRight" fmla="*/ 3733200 w 3733560"/>
              <a:gd name="textAreaTop" fmla="*/ 360 h 4419360"/>
              <a:gd name="textAreaBottom" fmla="*/ 4419000 h 4419360"/>
            </a:gdLst>
            <a:ahLst/>
            <a:rect l="textAreaLeft" t="textAreaTop" r="textAreaRight" b="textAreaBottom"/>
            <a:pathLst>
              <a:path w="21600" h="25567">
                <a:moveTo>
                  <a:pt x="9" y="0"/>
                </a:moveTo>
                <a:arcTo wR="9" hR="9" stAng="16200000" swAng="-5400000"/>
                <a:lnTo>
                  <a:pt x="0" y="25558"/>
                </a:lnTo>
                <a:arcTo wR="9" hR="9" stAng="10800000" swAng="-5400000"/>
                <a:lnTo>
                  <a:pt x="21591" y="25567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Job Startup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80880" y="4648320"/>
            <a:ext cx="1443240" cy="833400"/>
            <a:chOff x="380880" y="4648320"/>
            <a:chExt cx="1443240" cy="833400"/>
          </a:xfrm>
        </p:grpSpPr>
        <p:sp>
          <p:nvSpPr>
            <p:cNvPr id="447" name=""/>
            <p:cNvSpPr/>
            <p:nvPr/>
          </p:nvSpPr>
          <p:spPr>
            <a:xfrm>
              <a:off x="380880" y="4648320"/>
              <a:ext cx="1443240" cy="833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595080" y="4679640"/>
              <a:ext cx="1013040" cy="768600"/>
              <a:chOff x="595080" y="4679640"/>
              <a:chExt cx="1013040" cy="768600"/>
            </a:xfrm>
          </p:grpSpPr>
          <p:sp>
            <p:nvSpPr>
              <p:cNvPr id="449" name=""/>
              <p:cNvSpPr/>
              <p:nvPr/>
            </p:nvSpPr>
            <p:spPr>
              <a:xfrm>
                <a:off x="595080" y="4771440"/>
                <a:ext cx="1013040" cy="58644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95080" y="4679640"/>
                <a:ext cx="1011240" cy="7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ubm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1600200" y="1371600"/>
            <a:ext cx="1444680" cy="1368360"/>
            <a:chOff x="1600200" y="1371600"/>
            <a:chExt cx="1444680" cy="1368360"/>
          </a:xfrm>
        </p:grpSpPr>
        <p:sp>
          <p:nvSpPr>
            <p:cNvPr id="452" name=""/>
            <p:cNvSpPr/>
            <p:nvPr/>
          </p:nvSpPr>
          <p:spPr>
            <a:xfrm>
              <a:off x="1600200" y="1371600"/>
              <a:ext cx="1444680" cy="1368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814400" y="1574640"/>
              <a:ext cx="1017720" cy="963720"/>
              <a:chOff x="1814400" y="1574640"/>
              <a:chExt cx="1017720" cy="963720"/>
            </a:xfrm>
          </p:grpSpPr>
          <p:sp>
            <p:nvSpPr>
              <p:cNvPr id="454" name=""/>
              <p:cNvSpPr/>
              <p:nvPr/>
            </p:nvSpPr>
            <p:spPr>
              <a:xfrm>
                <a:off x="1814400" y="1574640"/>
                <a:ext cx="1017720" cy="963720"/>
              </a:xfrm>
              <a:prstGeom prst="roundRect">
                <a:avLst>
                  <a:gd name="adj" fmla="val 16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814400" y="1670040"/>
                <a:ext cx="101628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ched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1752480" y="3429000"/>
            <a:ext cx="1292400" cy="1062000"/>
            <a:chOff x="1752480" y="3429000"/>
            <a:chExt cx="1292400" cy="1062000"/>
          </a:xfrm>
        </p:grpSpPr>
        <p:sp>
          <p:nvSpPr>
            <p:cNvPr id="457" name=""/>
            <p:cNvSpPr/>
            <p:nvPr/>
          </p:nvSpPr>
          <p:spPr>
            <a:xfrm>
              <a:off x="1752480" y="3429000"/>
              <a:ext cx="1292400" cy="1062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1944360" y="3576240"/>
              <a:ext cx="906840" cy="768600"/>
              <a:chOff x="1944360" y="3576240"/>
              <a:chExt cx="906840" cy="768600"/>
            </a:xfrm>
          </p:grpSpPr>
          <p:sp>
            <p:nvSpPr>
              <p:cNvPr id="459" name=""/>
              <p:cNvSpPr/>
              <p:nvPr/>
            </p:nvSpPr>
            <p:spPr>
              <a:xfrm>
                <a:off x="1944360" y="3587040"/>
                <a:ext cx="906840" cy="74628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944360" y="3576240"/>
                <a:ext cx="906840" cy="7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d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5029200" y="4602240"/>
            <a:ext cx="1676520" cy="807840"/>
          </a:xfrm>
          <a:prstGeom prst="roundRect">
            <a:avLst>
              <a:gd name="adj" fmla="val 1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181480" y="1295280"/>
            <a:ext cx="1443240" cy="1366920"/>
            <a:chOff x="5181480" y="1295280"/>
            <a:chExt cx="1443240" cy="1366920"/>
          </a:xfrm>
        </p:grpSpPr>
        <p:sp>
          <p:nvSpPr>
            <p:cNvPr id="463" name=""/>
            <p:cNvSpPr/>
            <p:nvPr/>
          </p:nvSpPr>
          <p:spPr>
            <a:xfrm>
              <a:off x="5181480" y="1295280"/>
              <a:ext cx="1443240" cy="136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395680" y="1498320"/>
              <a:ext cx="1013040" cy="960480"/>
              <a:chOff x="5395680" y="1498320"/>
              <a:chExt cx="1013040" cy="960480"/>
            </a:xfrm>
          </p:grpSpPr>
          <p:sp>
            <p:nvSpPr>
              <p:cNvPr id="465" name=""/>
              <p:cNvSpPr/>
              <p:nvPr/>
            </p:nvSpPr>
            <p:spPr>
              <a:xfrm>
                <a:off x="5395680" y="1498320"/>
                <a:ext cx="1013040" cy="960480"/>
              </a:xfrm>
              <a:prstGeom prst="roundRect">
                <a:avLst>
                  <a:gd name="adj" fmla="val 16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95680" y="1760040"/>
                <a:ext cx="10112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tart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6629400" y="2209680"/>
            <a:ext cx="1442880" cy="835200"/>
            <a:chOff x="6629400" y="2209680"/>
            <a:chExt cx="1442880" cy="835200"/>
          </a:xfrm>
        </p:grpSpPr>
        <p:sp>
          <p:nvSpPr>
            <p:cNvPr id="468" name=""/>
            <p:cNvSpPr/>
            <p:nvPr/>
          </p:nvSpPr>
          <p:spPr>
            <a:xfrm>
              <a:off x="6629400" y="2209680"/>
              <a:ext cx="1442880" cy="835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6843240" y="2241360"/>
              <a:ext cx="1014840" cy="768240"/>
              <a:chOff x="6843240" y="2241360"/>
              <a:chExt cx="1014840" cy="768240"/>
            </a:xfrm>
          </p:grpSpPr>
          <p:sp>
            <p:nvSpPr>
              <p:cNvPr id="470" name=""/>
              <p:cNvSpPr/>
              <p:nvPr/>
            </p:nvSpPr>
            <p:spPr>
              <a:xfrm>
                <a:off x="6843240" y="2332440"/>
                <a:ext cx="1014840" cy="58644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843240" y="2241360"/>
                <a:ext cx="1013400" cy="76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ar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 flipV="1">
            <a:off x="838080" y="2509560"/>
            <a:ext cx="914400" cy="2143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1981080"/>
            <a:ext cx="2057400" cy="1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29400" y="1752480"/>
            <a:ext cx="8380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777000" y="3048120"/>
            <a:ext cx="619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2320" y="2743200"/>
            <a:ext cx="7596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4191120"/>
            <a:ext cx="2209680" cy="838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971800" y="2662200"/>
            <a:ext cx="3657600" cy="1000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178600" y="4572000"/>
            <a:ext cx="1563840" cy="819000"/>
            <a:chOff x="5178600" y="4572000"/>
            <a:chExt cx="1563840" cy="819000"/>
          </a:xfrm>
        </p:grpSpPr>
        <p:sp>
          <p:nvSpPr>
            <p:cNvPr id="480" name=""/>
            <p:cNvSpPr/>
            <p:nvPr/>
          </p:nvSpPr>
          <p:spPr>
            <a:xfrm>
              <a:off x="5181480" y="4572000"/>
              <a:ext cx="1559160" cy="819000"/>
            </a:xfrm>
            <a:prstGeom prst="roundRect">
              <a:avLst>
                <a:gd name="adj" fmla="val 19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178600" y="4572000"/>
              <a:ext cx="1563840" cy="817200"/>
              <a:chOff x="5178600" y="4572000"/>
              <a:chExt cx="1563840" cy="817200"/>
            </a:xfrm>
          </p:grpSpPr>
          <p:sp>
            <p:nvSpPr>
              <p:cNvPr id="482" name=""/>
              <p:cNvSpPr/>
              <p:nvPr/>
            </p:nvSpPr>
            <p:spPr>
              <a:xfrm>
                <a:off x="5181480" y="4572000"/>
                <a:ext cx="1557720" cy="81720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178600" y="4572000"/>
                <a:ext cx="1563840" cy="80028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Syscall Li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condor_q -io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1676520"/>
            <a:ext cx="83822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01(69)% condor_q -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-- Submitter: c01.cs.wisc.edu : &lt;128.105.146.101:2996&gt; : c01.cs.wisc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ID       OWNER        READ    WRITE     SEEK       XPUT  BUFSIZE  BLK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2.3   edayton           [ no i/o data collected ye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2.5   edayton    6.8 MB   0.0 B         0 104.0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0   edayton    6.4 MB   0.0 B         0 140.3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2   edayton    6.8 MB   0.0 B         0 112.4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4   edayton    6.8 MB   0.0 B         0 139.3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5   edayton    6.8 MB   0.0 B         0 139.3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7   edayton           [ no i/o data collected ye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0 jobs; 0 idle, 0 running, 0 h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Job Univer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493640"/>
            <a:ext cx="82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ial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nilla Uni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Uni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eduler Unive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llel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I Universe (soon the Parallel Univer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VM Uni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va Unive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Java Universe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681000" y="1523520"/>
            <a:ext cx="5157720" cy="3886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universe    =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executable  = Main.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jar_files   = MyLibrary.j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put       = in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utput      = out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rguments   = Main 1 2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99520" y="3581280"/>
            <a:ext cx="2629080" cy="576360"/>
            <a:chOff x="299520" y="3581280"/>
            <a:chExt cx="2629080" cy="576360"/>
          </a:xfrm>
        </p:grpSpPr>
        <p:sp>
          <p:nvSpPr>
            <p:cNvPr id="491" name=""/>
            <p:cNvSpPr/>
            <p:nvPr/>
          </p:nvSpPr>
          <p:spPr>
            <a:xfrm>
              <a:off x="304920" y="3581280"/>
              <a:ext cx="261936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299520" y="3581280"/>
              <a:ext cx="2629080" cy="574920"/>
              <a:chOff x="299520" y="3581280"/>
              <a:chExt cx="2629080" cy="574920"/>
            </a:xfrm>
          </p:grpSpPr>
          <p:sp>
            <p:nvSpPr>
              <p:cNvPr id="493" name=""/>
              <p:cNvSpPr/>
              <p:nvPr/>
            </p:nvSpPr>
            <p:spPr>
              <a:xfrm>
                <a:off x="304920" y="3581280"/>
                <a:ext cx="2617920" cy="57492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9520" y="3581280"/>
                <a:ext cx="2629080" cy="54792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condor_submi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2971800" y="3886200"/>
            <a:ext cx="674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y not use Vanilla Universe for Java jobs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3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Universe provides more than just inserting “java” at the start of the execut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s which machines have a JVM install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s the location, version, and performance of JVM on each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more information about Java job completion than just JVM exit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runs in a Java wrapper, allowing Condor to report Java exception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Java support, cont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condor_status -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ame          JavaVendor  Ver    State      Activity LoadAv Mem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ish.cs.wisc. Sun Microsy 1.2.2  Owner      Idle    0.000   24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from.cs.wis Sun Microsy 1.2.2  Owner      Idle    0.030   249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abe.cs.wisc. Sun Microsy 1.2.2  Claimed    Busy    1.120   12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1592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_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_stat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can ru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old program (vanill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jobs with checkpointing &amp; remote I/O (standar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 jobs with better understan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es can be accessed v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file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I/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39680" y="2782800"/>
            <a:ext cx="4503960" cy="38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9680" y="3687840"/>
            <a:ext cx="2148120" cy="38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is fundamental to Con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is two-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b describes what it requi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need Linux &amp;&amp; 2 GB of 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ine describes what it requi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need a Ma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allows pre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inux, and 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ef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chines with more memory but will run on any machine you provide 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tchmakin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5121360"/>
            <a:ext cx="9144000" cy="17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1282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Thre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unning a parameter sweep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2006640" y="2306520"/>
            <a:ext cx="2444760" cy="18352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5075280" y="4329000"/>
            <a:ext cx="1897200" cy="25290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2332080" y="4202280"/>
            <a:ext cx="1992240" cy="2655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4713120" y="2284560"/>
            <a:ext cx="25228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93720" y="2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usters and Proces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1560" y="739800"/>
            <a:ext cx="82900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r submit file describes multiple jobs, we call this a “cluster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cluster has a unique “cluster number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job in a cluster is called a “proces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7480" indent="-23868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 numbers always start at ze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ndor “Job ID” is the cluster number, a period, and the process number (“20.1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luster is allowed to have one or more process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27480" indent="-23868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always a cluster for every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331920"/>
            <a:ext cx="823428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xample Submit Description File for a Cluster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380880" y="1700280"/>
            <a:ext cx="835344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Example submit description file that defin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cluster of 2 jobs with separate working dir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rguments  = -arg1 -ar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InitialDir = run_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Becomes job 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InitialDir = run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Becomes job 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447840" y="1476360"/>
            <a:ext cx="83818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submit my_job.submit-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mitting job(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 job(s) submitted to cluster 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Submitter: perdita.cs.wisc.edu : &lt;128.105.165.34:1027&gt;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D      OWNER          SUBMITTED     RUN_TIME ST PRI SIZ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.0    frieda         4/15 06:52  0+00:02:11 R  0   0.0  my_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.0    frieda         4/15 06:56  0+00:00:00 I  0   0.0  my_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.1    frieda         4/15 06:56  0+00:00:00 I  0   0.0  my_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 jobs; 2 idle, 1 running, 0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bmitting The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8840" y="5724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ubmit Description File for a </a:t>
            </a:r>
            <a:r>
              <a:rPr b="1" i="1" lang="en-US" sz="4000" spc="-1" strike="noStrike">
                <a:solidFill>
                  <a:srgbClr val="3333cc"/>
                </a:solidFill>
                <a:latin typeface="Comic Sans MS"/>
              </a:rPr>
              <a:t>BIG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luster of Job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2200" y="1581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itial directory for each job can be specified as run_$(Process), and instead of submitting a single job, we use “Queue 600” to submit 600 jobs at on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$(Process) macro will be expanded to the process number for each job in the cluster (0 - 599), so we’ll have “run_0”, “run_1”, … “run_599” directo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the input/output files will be in different directori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331920"/>
            <a:ext cx="823428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ubmit Description File for a </a:t>
            </a:r>
            <a:r>
              <a:rPr b="1" i="1" lang="en-US" sz="4000" spc="-1" strike="noStrike">
                <a:solidFill>
                  <a:srgbClr val="3333cc"/>
                </a:solidFill>
                <a:latin typeface="Comic Sans MS"/>
              </a:rPr>
              <a:t>BIG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luster of Job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793880"/>
            <a:ext cx="823428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# Example condor_submit input file that defi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# a cluster of 600 jobs with different directo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arg1 –arg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InitialDir = run_$(Process)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run_0 … run_5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Queue 60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Becomes job 3.0 … 3.5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ore $(Process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can use $(Process) anyw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101680"/>
            <a:ext cx="82342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g        = my_job.$(Process).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randomseed 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ialDir = run_$(Process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·run_0 … run_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eue 60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·Becomes job 3.0 … 3.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haring a directo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82512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on’t have to use separate direc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(Cluster) will help distinguish ru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" y="2508120"/>
            <a:ext cx="82342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g        = my_job.$(Cluster).$(Process).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randomseed 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put      = my_job.input.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     = my_job.stdout.$(Cluster).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rror      = my_job.stderr.$(Cluster).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eue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ifficulties with $(Process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people want to pass their program $(Process) + 10 (or another numb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’t do this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do things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is pre-pended to each $(Process) Arg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3540240"/>
            <a:ext cx="823428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randomseed 10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eue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Job Prioriti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34720" y="1447560"/>
            <a:ext cx="869292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some of the jobs in your sweep more interesting than other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ndor_pri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ets you set the job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ority relative to your jobs, not other peo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6.6: priority can be -20 to +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6.7: priority can be any inte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set in submit fi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ority =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y Two-way Matching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conceptually divides people into three grou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b submit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chine own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ol (cluster) administra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ree of these groups have pre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772600" y="2651040"/>
            <a:ext cx="2526840" cy="1492200"/>
            <a:chOff x="5772600" y="2651040"/>
            <a:chExt cx="2526840" cy="1492200"/>
          </a:xfrm>
        </p:grpSpPr>
        <p:sp>
          <p:nvSpPr>
            <p:cNvPr id="142" name=""/>
            <p:cNvSpPr/>
            <p:nvPr/>
          </p:nvSpPr>
          <p:spPr>
            <a:xfrm>
              <a:off x="5772600" y="2651040"/>
              <a:ext cx="528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7080" y="2906640"/>
              <a:ext cx="205236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y or may n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e the s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860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hat if you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OTS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of jobs?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0600" y="7567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 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job requires a shadow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hadow requires file descriptors and so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hadow requires ports/so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system limits for these to be la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condor_schedd limits max number of jobs r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 is 2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gu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multiple submit h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submit jobs from multiple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mediate increase in scalability &amp; complex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anced Tricke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submit 10 parameter swee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have five classes of parameters swee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l them A, B, C, D, 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you look at the status of jobs that are part of Type B parameter sweep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anced Trickery cont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your job fi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SweepType = “B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see this in your job Class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dor_q –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show jobs of a certain typ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dor_q –constraint ‘SweepType == “B”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y useful when you have a complex variety of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y this during the exercis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careful with the quoting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917960"/>
            <a:ext cx="9144000" cy="19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1282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Four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naging Job Dependencie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708200" y="2527200"/>
            <a:ext cx="572616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506160"/>
            <a:ext cx="82342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3333cc"/>
                </a:solidFill>
                <a:latin typeface="Comic Sans MS"/>
              </a:rPr>
              <a:t>DAGMan</a:t>
            </a:r>
            <a:endParaRPr b="1" lang="en-US" sz="5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2216160"/>
            <a:ext cx="8234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GMan allows you to specify the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ependenci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tween your Condor jobs, so it can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anag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m automatically for y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“Don’t run job B until job A has completed successfully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3252960" y="1135080"/>
            <a:ext cx="12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719600" y="1135080"/>
            <a:ext cx="12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1640" y="1146240"/>
            <a:ext cx="954000" cy="638280"/>
          </a:xfrm>
          <a:custGeom>
            <a:avLst/>
            <a:gdLst/>
            <a:ahLst/>
            <a:rect l="l" t="t" r="r" b="b"/>
            <a:pathLst>
              <a:path w="601" h="402">
                <a:moveTo>
                  <a:pt x="515" y="0"/>
                </a:moveTo>
                <a:cubicBezTo>
                  <a:pt x="558" y="144"/>
                  <a:pt x="601" y="288"/>
                  <a:pt x="515" y="345"/>
                </a:cubicBezTo>
                <a:cubicBezTo>
                  <a:pt x="429" y="402"/>
                  <a:pt x="87" y="339"/>
                  <a:pt x="0" y="33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49200" y="1143000"/>
            <a:ext cx="210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yclic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165640" y="1163520"/>
            <a:ext cx="954000" cy="638280"/>
          </a:xfrm>
          <a:custGeom>
            <a:avLst/>
            <a:gdLst/>
            <a:ahLst/>
            <a:rect l="l" t="t" r="r" b="b"/>
            <a:pathLst>
              <a:path w="601" h="402">
                <a:moveTo>
                  <a:pt x="515" y="0"/>
                </a:moveTo>
                <a:cubicBezTo>
                  <a:pt x="558" y="144"/>
                  <a:pt x="601" y="288"/>
                  <a:pt x="515" y="345"/>
                </a:cubicBezTo>
                <a:cubicBezTo>
                  <a:pt x="429" y="402"/>
                  <a:pt x="87" y="339"/>
                  <a:pt x="0" y="33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9120" y="1440000"/>
            <a:ext cx="1382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hat is a DAG?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440" y="1337760"/>
            <a:ext cx="53769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AG is the data structure used by DAGMan to represent these dependenc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job is a node in the DA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n have any number of “parent” or “children” nodes – as long as there are no loop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937200" y="1057320"/>
            <a:ext cx="1503360" cy="2099880"/>
            <a:chOff x="6937200" y="1057320"/>
            <a:chExt cx="1503360" cy="2099880"/>
          </a:xfrm>
        </p:grpSpPr>
        <p:grpSp>
          <p:nvGrpSpPr>
            <p:cNvPr id="549" name=""/>
            <p:cNvGrpSpPr/>
            <p:nvPr/>
          </p:nvGrpSpPr>
          <p:grpSpPr>
            <a:xfrm>
              <a:off x="7414920" y="1057320"/>
              <a:ext cx="492120" cy="493200"/>
              <a:chOff x="7414920" y="1057320"/>
              <a:chExt cx="492120" cy="493200"/>
            </a:xfrm>
          </p:grpSpPr>
          <p:sp>
            <p:nvSpPr>
              <p:cNvPr id="550" name=""/>
              <p:cNvSpPr/>
              <p:nvPr/>
            </p:nvSpPr>
            <p:spPr>
              <a:xfrm>
                <a:off x="7414920" y="105876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485120" y="1057320"/>
                <a:ext cx="343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6937200" y="1820880"/>
              <a:ext cx="492120" cy="493920"/>
              <a:chOff x="6937200" y="1820880"/>
              <a:chExt cx="492120" cy="493920"/>
            </a:xfrm>
          </p:grpSpPr>
          <p:sp>
            <p:nvSpPr>
              <p:cNvPr id="553" name=""/>
              <p:cNvSpPr/>
              <p:nvPr/>
            </p:nvSpPr>
            <p:spPr>
              <a:xfrm>
                <a:off x="6937200" y="18226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05960" y="1820880"/>
                <a:ext cx="3466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7948440" y="1820880"/>
              <a:ext cx="492120" cy="493920"/>
              <a:chOff x="7948440" y="1820880"/>
              <a:chExt cx="492120" cy="493920"/>
            </a:xfrm>
          </p:grpSpPr>
          <p:sp>
            <p:nvSpPr>
              <p:cNvPr id="556" name=""/>
              <p:cNvSpPr/>
              <p:nvPr/>
            </p:nvSpPr>
            <p:spPr>
              <a:xfrm>
                <a:off x="7948440" y="18226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018640" y="1820880"/>
                <a:ext cx="342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7445160" y="2664000"/>
              <a:ext cx="492120" cy="493200"/>
              <a:chOff x="7445160" y="2664000"/>
              <a:chExt cx="492120" cy="493200"/>
            </a:xfrm>
          </p:grpSpPr>
          <p:sp>
            <p:nvSpPr>
              <p:cNvPr id="559" name=""/>
              <p:cNvSpPr/>
              <p:nvPr/>
            </p:nvSpPr>
            <p:spPr>
              <a:xfrm>
                <a:off x="7445160" y="266544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503840" y="2664000"/>
                <a:ext cx="366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61" name=""/>
            <p:cNvCxnSpPr>
              <a:stCxn id="551" idx="2"/>
              <a:endCxn id="554" idx="0"/>
            </p:cNvCxnSpPr>
            <p:nvPr/>
          </p:nvCxnSpPr>
          <p:spPr>
            <a:xfrm flipH="1">
              <a:off x="7179480" y="1530000"/>
              <a:ext cx="478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>
              <a:stCxn id="551" idx="2"/>
              <a:endCxn id="557" idx="0"/>
            </p:cNvCxnSpPr>
            <p:nvPr/>
          </p:nvCxnSpPr>
          <p:spPr>
            <a:xfrm>
              <a:off x="7657560" y="1530000"/>
              <a:ext cx="532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3" name=""/>
            <p:cNvCxnSpPr>
              <a:stCxn id="554" idx="2"/>
              <a:endCxn id="560" idx="0"/>
            </p:cNvCxnSpPr>
            <p:nvPr/>
          </p:nvCxnSpPr>
          <p:spPr>
            <a:xfrm>
              <a:off x="7179840" y="2293920"/>
              <a:ext cx="508680" cy="370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4" name=""/>
            <p:cNvCxnSpPr>
              <a:stCxn id="556" idx="4"/>
              <a:endCxn id="560" idx="0"/>
            </p:cNvCxnSpPr>
            <p:nvPr/>
          </p:nvCxnSpPr>
          <p:spPr>
            <a:xfrm flipH="1">
              <a:off x="7687800" y="2314800"/>
              <a:ext cx="506880" cy="349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65" name=""/>
          <p:cNvSpPr/>
          <p:nvPr/>
        </p:nvSpPr>
        <p:spPr>
          <a:xfrm>
            <a:off x="6117480" y="1827360"/>
            <a:ext cx="60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851520" y="3276000"/>
            <a:ext cx="1731960" cy="1486080"/>
            <a:chOff x="6851520" y="3276000"/>
            <a:chExt cx="1731960" cy="1486080"/>
          </a:xfrm>
        </p:grpSpPr>
        <p:grpSp>
          <p:nvGrpSpPr>
            <p:cNvPr id="567" name=""/>
            <p:cNvGrpSpPr/>
            <p:nvPr/>
          </p:nvGrpSpPr>
          <p:grpSpPr>
            <a:xfrm>
              <a:off x="7557840" y="3505320"/>
              <a:ext cx="492120" cy="493200"/>
              <a:chOff x="7557840" y="3505320"/>
              <a:chExt cx="492120" cy="493200"/>
            </a:xfrm>
          </p:grpSpPr>
          <p:sp>
            <p:nvSpPr>
              <p:cNvPr id="568" name=""/>
              <p:cNvSpPr/>
              <p:nvPr/>
            </p:nvSpPr>
            <p:spPr>
              <a:xfrm>
                <a:off x="7557840" y="350676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628040" y="3505320"/>
                <a:ext cx="343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7080120" y="4268880"/>
              <a:ext cx="492120" cy="493200"/>
              <a:chOff x="7080120" y="4268880"/>
              <a:chExt cx="492120" cy="493200"/>
            </a:xfrm>
          </p:grpSpPr>
          <p:sp>
            <p:nvSpPr>
              <p:cNvPr id="571" name=""/>
              <p:cNvSpPr/>
              <p:nvPr/>
            </p:nvSpPr>
            <p:spPr>
              <a:xfrm>
                <a:off x="7080120" y="427032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148880" y="4268880"/>
                <a:ext cx="3466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8091360" y="4268880"/>
              <a:ext cx="492120" cy="493200"/>
              <a:chOff x="8091360" y="4268880"/>
              <a:chExt cx="492120" cy="493200"/>
            </a:xfrm>
          </p:grpSpPr>
          <p:sp>
            <p:nvSpPr>
              <p:cNvPr id="574" name=""/>
              <p:cNvSpPr/>
              <p:nvPr/>
            </p:nvSpPr>
            <p:spPr>
              <a:xfrm>
                <a:off x="8091360" y="427032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161560" y="4268880"/>
                <a:ext cx="342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6" name=""/>
            <p:cNvCxnSpPr>
              <a:stCxn id="569" idx="2"/>
              <a:endCxn id="572" idx="0"/>
            </p:cNvCxnSpPr>
            <p:nvPr/>
          </p:nvCxnSpPr>
          <p:spPr>
            <a:xfrm flipH="1">
              <a:off x="7322400" y="3978000"/>
              <a:ext cx="478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7" name=""/>
            <p:cNvCxnSpPr>
              <a:stCxn id="569" idx="2"/>
              <a:endCxn id="575" idx="0"/>
            </p:cNvCxnSpPr>
            <p:nvPr/>
          </p:nvCxnSpPr>
          <p:spPr>
            <a:xfrm>
              <a:off x="7800480" y="3978000"/>
              <a:ext cx="532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8" name=""/>
            <p:cNvCxnSpPr>
              <a:stCxn id="571" idx="2"/>
              <a:endCxn id="569" idx="0"/>
            </p:cNvCxnSpPr>
            <p:nvPr/>
          </p:nvCxnSpPr>
          <p:spPr>
            <a:xfrm flipH="1" rot="10800000">
              <a:off x="7079760" y="3504600"/>
              <a:ext cx="721440" cy="1011960"/>
            </a:xfrm>
            <a:prstGeom prst="curvedConnector5">
              <a:avLst>
                <a:gd name="adj1" fmla="val -31702"/>
                <a:gd name="adj2" fmla="val 61281"/>
                <a:gd name="adj3" fmla="val -3170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79" name=""/>
          <p:cNvSpPr/>
          <p:nvPr/>
        </p:nvSpPr>
        <p:spPr>
          <a:xfrm>
            <a:off x="5599440" y="360828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efin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DAG is defined by 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.dag f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isting each of its nodes and their dependenc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A a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B b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C c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D d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A Child B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B C Child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562720" y="2540160"/>
            <a:ext cx="2665440" cy="2131560"/>
            <a:chOff x="5562720" y="2540160"/>
            <a:chExt cx="2665440" cy="2131560"/>
          </a:xfrm>
        </p:grpSpPr>
        <p:grpSp>
          <p:nvGrpSpPr>
            <p:cNvPr id="583" name=""/>
            <p:cNvGrpSpPr/>
            <p:nvPr/>
          </p:nvGrpSpPr>
          <p:grpSpPr>
            <a:xfrm>
              <a:off x="6545160" y="2540160"/>
              <a:ext cx="700200" cy="425160"/>
              <a:chOff x="6545160" y="2540160"/>
              <a:chExt cx="700200" cy="425160"/>
            </a:xfrm>
          </p:grpSpPr>
          <p:sp>
            <p:nvSpPr>
              <p:cNvPr id="584" name=""/>
              <p:cNvSpPr/>
              <p:nvPr/>
            </p:nvSpPr>
            <p:spPr>
              <a:xfrm>
                <a:off x="6545160" y="2540160"/>
                <a:ext cx="70020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648120" y="2603520"/>
                <a:ext cx="492480" cy="29988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562720" y="3394080"/>
              <a:ext cx="699840" cy="425160"/>
              <a:chOff x="5562720" y="3394080"/>
              <a:chExt cx="699840" cy="425160"/>
            </a:xfrm>
          </p:grpSpPr>
          <p:sp>
            <p:nvSpPr>
              <p:cNvPr id="587" name=""/>
              <p:cNvSpPr/>
              <p:nvPr/>
            </p:nvSpPr>
            <p:spPr>
              <a:xfrm>
                <a:off x="5562720" y="3394080"/>
                <a:ext cx="69984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665320" y="3455640"/>
                <a:ext cx="493920" cy="30024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89" name=""/>
            <p:cNvCxnSpPr>
              <a:stCxn id="584" idx="2"/>
              <a:endCxn id="587" idx="3"/>
            </p:cNvCxnSpPr>
            <p:nvPr/>
          </p:nvCxnSpPr>
          <p:spPr>
            <a:xfrm flipH="1">
              <a:off x="6160320" y="2966760"/>
              <a:ext cx="7340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90" name=""/>
            <p:cNvGrpSpPr/>
            <p:nvPr/>
          </p:nvGrpSpPr>
          <p:grpSpPr>
            <a:xfrm>
              <a:off x="7526160" y="3394080"/>
              <a:ext cx="702000" cy="425160"/>
              <a:chOff x="7526160" y="3394080"/>
              <a:chExt cx="702000" cy="425160"/>
            </a:xfrm>
          </p:grpSpPr>
          <p:sp>
            <p:nvSpPr>
              <p:cNvPr id="591" name=""/>
              <p:cNvSpPr/>
              <p:nvPr/>
            </p:nvSpPr>
            <p:spPr>
              <a:xfrm>
                <a:off x="7526160" y="3394080"/>
                <a:ext cx="70200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29120" y="3455640"/>
                <a:ext cx="493920" cy="30024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6545160" y="4246560"/>
              <a:ext cx="700200" cy="425160"/>
              <a:chOff x="6545160" y="4246560"/>
              <a:chExt cx="700200" cy="425160"/>
            </a:xfrm>
          </p:grpSpPr>
          <p:sp>
            <p:nvSpPr>
              <p:cNvPr id="594" name=""/>
              <p:cNvSpPr/>
              <p:nvPr/>
            </p:nvSpPr>
            <p:spPr>
              <a:xfrm>
                <a:off x="6545160" y="4246560"/>
                <a:ext cx="70020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48120" y="4309560"/>
                <a:ext cx="492480" cy="30024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6" name=""/>
            <p:cNvCxnSpPr>
              <a:stCxn id="584" idx="2"/>
              <a:endCxn id="591" idx="1"/>
            </p:cNvCxnSpPr>
            <p:nvPr/>
          </p:nvCxnSpPr>
          <p:spPr>
            <a:xfrm>
              <a:off x="6895800" y="2966760"/>
              <a:ext cx="7340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91" idx="2"/>
              <a:endCxn id="594" idx="3"/>
            </p:cNvCxnSpPr>
            <p:nvPr/>
          </p:nvCxnSpPr>
          <p:spPr>
            <a:xfrm flipH="1">
              <a:off x="7143120" y="3819240"/>
              <a:ext cx="7340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8" name=""/>
            <p:cNvCxnSpPr>
              <a:stCxn id="587" idx="2"/>
              <a:endCxn id="594" idx="1"/>
            </p:cNvCxnSpPr>
            <p:nvPr/>
          </p:nvCxnSpPr>
          <p:spPr>
            <a:xfrm>
              <a:off x="5913360" y="3819240"/>
              <a:ext cx="7358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AG Files…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mplete DAG is five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446760" y="2571840"/>
            <a:ext cx="39297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A a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B b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C c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D d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A Child B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B C Child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77960" y="2000160"/>
            <a:ext cx="18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DAG F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21760" y="2000160"/>
            <a:ext cx="230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Submit Fi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741320" y="2652840"/>
            <a:ext cx="2868840" cy="414360"/>
            <a:chOff x="1741320" y="2652840"/>
            <a:chExt cx="2868840" cy="414360"/>
          </a:xfrm>
        </p:grpSpPr>
        <p:sp>
          <p:nvSpPr>
            <p:cNvPr id="605" name=""/>
            <p:cNvSpPr/>
            <p:nvPr/>
          </p:nvSpPr>
          <p:spPr>
            <a:xfrm>
              <a:off x="1741320" y="265284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16360" y="285912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762440" y="2563920"/>
            <a:ext cx="42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analys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741320" y="3119400"/>
            <a:ext cx="2868840" cy="414360"/>
            <a:chOff x="1741320" y="3119400"/>
            <a:chExt cx="2868840" cy="414360"/>
          </a:xfrm>
        </p:grpSpPr>
        <p:sp>
          <p:nvSpPr>
            <p:cNvPr id="609" name=""/>
            <p:cNvSpPr/>
            <p:nvPr/>
          </p:nvSpPr>
          <p:spPr>
            <a:xfrm>
              <a:off x="1741320" y="311940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16360" y="332568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741320" y="3595680"/>
            <a:ext cx="2868840" cy="414360"/>
            <a:chOff x="1741320" y="3595680"/>
            <a:chExt cx="2868840" cy="414360"/>
          </a:xfrm>
        </p:grpSpPr>
        <p:sp>
          <p:nvSpPr>
            <p:cNvPr id="612" name=""/>
            <p:cNvSpPr/>
            <p:nvPr/>
          </p:nvSpPr>
          <p:spPr>
            <a:xfrm>
              <a:off x="1741320" y="359568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16360" y="380196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741320" y="4062240"/>
            <a:ext cx="2868840" cy="414360"/>
            <a:chOff x="1741320" y="4062240"/>
            <a:chExt cx="2868840" cy="414360"/>
          </a:xfrm>
        </p:grpSpPr>
        <p:sp>
          <p:nvSpPr>
            <p:cNvPr id="615" name=""/>
            <p:cNvSpPr/>
            <p:nvPr/>
          </p:nvSpPr>
          <p:spPr>
            <a:xfrm>
              <a:off x="1741320" y="406224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16360" y="426852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bmitt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start your DAG, just ru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dor_submit_da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with your .dag file, and Condor will start a pers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 DAGMan process which to begin running your job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submit_dag diamond.da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dor_submit_dag  submits a Scheduler Universe job with DAGMan as the execut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the DAGMan daemon itself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runs as a Condor jo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so you don’t have to baby-sit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3733920" y="3276720"/>
            <a:ext cx="3120840" cy="2130480"/>
            <a:chOff x="3733920" y="3276720"/>
            <a:chExt cx="3120840" cy="2130480"/>
          </a:xfrm>
        </p:grpSpPr>
        <p:sp>
          <p:nvSpPr>
            <p:cNvPr id="620" name=""/>
            <p:cNvSpPr/>
            <p:nvPr/>
          </p:nvSpPr>
          <p:spPr>
            <a:xfrm>
              <a:off x="3733920" y="3276720"/>
              <a:ext cx="3120840" cy="21304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3733920" y="3276720"/>
              <a:ext cx="3119400" cy="2128680"/>
              <a:chOff x="3733920" y="3276720"/>
              <a:chExt cx="3119400" cy="2128680"/>
            </a:xfrm>
          </p:grpSpPr>
          <p:sp>
            <p:nvSpPr>
              <p:cNvPr id="622" name=""/>
              <p:cNvSpPr/>
              <p:nvPr/>
            </p:nvSpPr>
            <p:spPr>
              <a:xfrm>
                <a:off x="3733920" y="3276720"/>
                <a:ext cx="3119400" cy="212868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733920" y="4971600"/>
                <a:ext cx="3119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unn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acts as a scheduler, managing the submission of your jobs to Condor based on the DAG dependenc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627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628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632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4419720" y="4189320"/>
            <a:ext cx="366480" cy="433800"/>
            <a:chOff x="4419720" y="4189320"/>
            <a:chExt cx="366480" cy="433800"/>
          </a:xfrm>
        </p:grpSpPr>
        <p:sp>
          <p:nvSpPr>
            <p:cNvPr id="635" name=""/>
            <p:cNvSpPr/>
            <p:nvPr/>
          </p:nvSpPr>
          <p:spPr>
            <a:xfrm>
              <a:off x="4419720" y="4260960"/>
              <a:ext cx="36648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4474800" y="4189320"/>
              <a:ext cx="257400" cy="433800"/>
              <a:chOff x="4474800" y="4189320"/>
              <a:chExt cx="257400" cy="433800"/>
            </a:xfrm>
          </p:grpSpPr>
          <p:sp>
            <p:nvSpPr>
              <p:cNvPr id="637" name=""/>
              <p:cNvSpPr/>
              <p:nvPr/>
            </p:nvSpPr>
            <p:spPr>
              <a:xfrm>
                <a:off x="4474800" y="430308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474800" y="4189320"/>
                <a:ext cx="254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39" name=""/>
          <p:cNvCxnSpPr>
            <a:stCxn id="640" idx="3"/>
            <a:endCxn id="635" idx="1"/>
          </p:cNvCxnSpPr>
          <p:nvPr/>
        </p:nvCxnSpPr>
        <p:spPr>
          <a:xfrm flipH="1">
            <a:off x="4473000" y="3736440"/>
            <a:ext cx="764280" cy="56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1" name=""/>
          <p:cNvGrpSpPr/>
          <p:nvPr/>
        </p:nvGrpSpPr>
        <p:grpSpPr>
          <a:xfrm>
            <a:off x="5943600" y="4151160"/>
            <a:ext cx="366840" cy="433800"/>
            <a:chOff x="5943600" y="4151160"/>
            <a:chExt cx="366840" cy="433800"/>
          </a:xfrm>
        </p:grpSpPr>
        <p:sp>
          <p:nvSpPr>
            <p:cNvPr id="642" name=""/>
            <p:cNvSpPr/>
            <p:nvPr/>
          </p:nvSpPr>
          <p:spPr>
            <a:xfrm>
              <a:off x="5943600" y="4222800"/>
              <a:ext cx="36684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5998680" y="4151160"/>
              <a:ext cx="257760" cy="433800"/>
              <a:chOff x="5998680" y="4151160"/>
              <a:chExt cx="257760" cy="433800"/>
            </a:xfrm>
          </p:grpSpPr>
          <p:sp>
            <p:nvSpPr>
              <p:cNvPr id="644" name=""/>
              <p:cNvSpPr/>
              <p:nvPr/>
            </p:nvSpPr>
            <p:spPr>
              <a:xfrm>
                <a:off x="5998680" y="4264920"/>
                <a:ext cx="25776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998680" y="415116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5181480" y="4875120"/>
            <a:ext cx="366840" cy="433800"/>
            <a:chOff x="5181480" y="4875120"/>
            <a:chExt cx="366840" cy="433800"/>
          </a:xfrm>
        </p:grpSpPr>
        <p:sp>
          <p:nvSpPr>
            <p:cNvPr id="647" name=""/>
            <p:cNvSpPr/>
            <p:nvPr/>
          </p:nvSpPr>
          <p:spPr>
            <a:xfrm>
              <a:off x="5181480" y="494496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5236920" y="4875120"/>
              <a:ext cx="257400" cy="433800"/>
              <a:chOff x="5236920" y="4875120"/>
              <a:chExt cx="257400" cy="433800"/>
            </a:xfrm>
          </p:grpSpPr>
          <p:sp>
            <p:nvSpPr>
              <p:cNvPr id="649" name=""/>
              <p:cNvSpPr/>
              <p:nvPr/>
            </p:nvSpPr>
            <p:spPr>
              <a:xfrm>
                <a:off x="5236920" y="498888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236920" y="487512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51" name=""/>
          <p:cNvCxnSpPr>
            <a:stCxn id="640" idx="5"/>
            <a:endCxn id="642" idx="1"/>
          </p:cNvCxnSpPr>
          <p:nvPr/>
        </p:nvCxnSpPr>
        <p:spPr>
          <a:xfrm>
            <a:off x="5505120" y="3736440"/>
            <a:ext cx="49284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42" idx="5"/>
            <a:endCxn id="647" idx="7"/>
          </p:cNvCxnSpPr>
          <p:nvPr/>
        </p:nvCxnSpPr>
        <p:spPr>
          <a:xfrm flipH="1">
            <a:off x="5495040" y="4471560"/>
            <a:ext cx="762840" cy="51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35" idx="3"/>
            <a:endCxn id="647" idx="1"/>
          </p:cNvCxnSpPr>
          <p:nvPr/>
        </p:nvCxnSpPr>
        <p:spPr>
          <a:xfrm>
            <a:off x="4473720" y="4509720"/>
            <a:ext cx="76248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0" idx="1"/>
            <a:endCxn id="655" idx="1"/>
          </p:cNvCxnSpPr>
          <p:nvPr/>
        </p:nvCxnSpPr>
        <p:spPr>
          <a:xfrm flipH="1">
            <a:off x="2567880" y="3500280"/>
            <a:ext cx="2669400" cy="68796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656" name=""/>
          <p:cNvGrpSpPr/>
          <p:nvPr/>
        </p:nvGrpSpPr>
        <p:grpSpPr>
          <a:xfrm>
            <a:off x="2514600" y="4074840"/>
            <a:ext cx="366840" cy="433800"/>
            <a:chOff x="2514600" y="4074840"/>
            <a:chExt cx="366840" cy="433800"/>
          </a:xfrm>
        </p:grpSpPr>
        <p:sp>
          <p:nvSpPr>
            <p:cNvPr id="655" name=""/>
            <p:cNvSpPr/>
            <p:nvPr/>
          </p:nvSpPr>
          <p:spPr>
            <a:xfrm>
              <a:off x="2514600" y="41450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2569680" y="4074840"/>
              <a:ext cx="257760" cy="433800"/>
              <a:chOff x="2569680" y="4074840"/>
              <a:chExt cx="257760" cy="433800"/>
            </a:xfrm>
          </p:grpSpPr>
          <p:sp>
            <p:nvSpPr>
              <p:cNvPr id="658" name=""/>
              <p:cNvSpPr/>
              <p:nvPr/>
            </p:nvSpPr>
            <p:spPr>
              <a:xfrm>
                <a:off x="2569680" y="41871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69680" y="40748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640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662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7238880" y="3733920"/>
            <a:ext cx="1290600" cy="1023840"/>
            <a:chOff x="7238880" y="3733920"/>
            <a:chExt cx="1290600" cy="1023840"/>
          </a:xfrm>
        </p:grpSpPr>
        <p:grpSp>
          <p:nvGrpSpPr>
            <p:cNvPr id="665" name=""/>
            <p:cNvGrpSpPr/>
            <p:nvPr/>
          </p:nvGrpSpPr>
          <p:grpSpPr>
            <a:xfrm>
              <a:off x="7238880" y="3733920"/>
              <a:ext cx="1290600" cy="1023840"/>
              <a:chOff x="7238880" y="3733920"/>
              <a:chExt cx="1290600" cy="1023840"/>
            </a:xfrm>
          </p:grpSpPr>
          <p:sp>
            <p:nvSpPr>
              <p:cNvPr id="666" name=""/>
              <p:cNvSpPr/>
              <p:nvPr/>
            </p:nvSpPr>
            <p:spPr>
              <a:xfrm>
                <a:off x="7238880" y="3733920"/>
                <a:ext cx="1290600" cy="1023840"/>
              </a:xfrm>
              <a:custGeom>
                <a:avLst/>
                <a:gdLst/>
                <a:ahLst/>
                <a:rect l="l" t="t" r="r" b="b"/>
                <a:pathLst>
                  <a:path w="3591" h="2849">
                    <a:moveTo>
                      <a:pt x="178" y="2848"/>
                    </a:moveTo>
                    <a:cubicBezTo>
                      <a:pt x="89" y="2848"/>
                      <a:pt x="0" y="2759"/>
                      <a:pt x="0" y="2670"/>
                    </a:cubicBezTo>
                    <a:cubicBezTo>
                      <a:pt x="0" y="2580"/>
                      <a:pt x="89" y="2492"/>
                      <a:pt x="178" y="2492"/>
                    </a:cubicBezTo>
                    <a:lnTo>
                      <a:pt x="357" y="2492"/>
                    </a:lnTo>
                    <a:lnTo>
                      <a:pt x="357" y="178"/>
                    </a:lnTo>
                    <a:cubicBezTo>
                      <a:pt x="357" y="89"/>
                      <a:pt x="445" y="0"/>
                      <a:pt x="533" y="0"/>
                    </a:cubicBezTo>
                    <a:lnTo>
                      <a:pt x="3412" y="0"/>
                    </a:lnTo>
                    <a:cubicBezTo>
                      <a:pt x="3501" y="0"/>
                      <a:pt x="3590" y="89"/>
                      <a:pt x="3590" y="178"/>
                    </a:cubicBezTo>
                    <a:cubicBezTo>
                      <a:pt x="3590" y="267"/>
                      <a:pt x="3501" y="356"/>
                      <a:pt x="3412" y="356"/>
                    </a:cubicBezTo>
                    <a:lnTo>
                      <a:pt x="3233" y="356"/>
                    </a:lnTo>
                    <a:lnTo>
                      <a:pt x="3233" y="2670"/>
                    </a:lnTo>
                    <a:cubicBezTo>
                      <a:pt x="3233" y="2759"/>
                      <a:pt x="3145" y="2848"/>
                      <a:pt x="3057" y="2848"/>
                    </a:cubicBezTo>
                    <a:lnTo>
                      <a:pt x="178" y="2848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399080" y="3796920"/>
                <a:ext cx="96480" cy="64800"/>
              </a:xfrm>
              <a:custGeom>
                <a:avLst/>
                <a:gdLst/>
                <a:ahLst/>
                <a:rect l="l" t="t" r="r" b="b"/>
                <a:pathLst>
                  <a:path w="268" h="180">
                    <a:moveTo>
                      <a:pt x="267" y="0"/>
                    </a:moveTo>
                    <a:cubicBezTo>
                      <a:pt x="267" y="89"/>
                      <a:pt x="177" y="179"/>
                      <a:pt x="88" y="179"/>
                    </a:cubicBezTo>
                    <a:cubicBezTo>
                      <a:pt x="43" y="179"/>
                      <a:pt x="0" y="134"/>
                      <a:pt x="0" y="89"/>
                    </a:cubicBezTo>
                    <a:cubicBezTo>
                      <a:pt x="0" y="44"/>
                      <a:pt x="43" y="0"/>
                      <a:pt x="88" y="0"/>
                    </a:cubicBezTo>
                    <a:lnTo>
                      <a:pt x="267" y="0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238880" y="4629240"/>
                <a:ext cx="128520" cy="128160"/>
              </a:xfrm>
              <a:custGeom>
                <a:avLst/>
                <a:gdLst/>
                <a:ahLst/>
                <a:rect l="l" t="t" r="r" b="b"/>
                <a:pathLst>
                  <a:path w="358" h="357">
                    <a:moveTo>
                      <a:pt x="357" y="178"/>
                    </a:moveTo>
                    <a:cubicBezTo>
                      <a:pt x="357" y="267"/>
                      <a:pt x="267" y="356"/>
                      <a:pt x="178" y="356"/>
                    </a:cubicBezTo>
                    <a:cubicBezTo>
                      <a:pt x="89" y="356"/>
                      <a:pt x="0" y="267"/>
                      <a:pt x="0" y="178"/>
                    </a:cubicBezTo>
                    <a:cubicBezTo>
                      <a:pt x="0" y="88"/>
                      <a:pt x="89" y="0"/>
                      <a:pt x="178" y="0"/>
                    </a:cubicBezTo>
                    <a:cubicBezTo>
                      <a:pt x="222" y="0"/>
                      <a:pt x="267" y="45"/>
                      <a:pt x="267" y="89"/>
                    </a:cubicBezTo>
                    <a:cubicBezTo>
                      <a:pt x="267" y="133"/>
                      <a:pt x="222" y="178"/>
                      <a:pt x="178" y="178"/>
                    </a:cubicBezTo>
                    <a:lnTo>
                      <a:pt x="357" y="178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430760" y="3733920"/>
                <a:ext cx="64800" cy="6444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0" y="0"/>
                    </a:moveTo>
                    <a:cubicBezTo>
                      <a:pt x="89" y="0"/>
                      <a:pt x="180" y="89"/>
                      <a:pt x="180" y="17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67400" y="4629240"/>
                <a:ext cx="108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430760" y="3862080"/>
                <a:ext cx="103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367760" y="3848400"/>
              <a:ext cx="1035000" cy="799560"/>
              <a:chOff x="7367760" y="3848400"/>
              <a:chExt cx="1035000" cy="799560"/>
            </a:xfrm>
          </p:grpSpPr>
          <p:sp>
            <p:nvSpPr>
              <p:cNvPr id="673" name=""/>
              <p:cNvSpPr/>
              <p:nvPr/>
            </p:nvSpPr>
            <p:spPr>
              <a:xfrm>
                <a:off x="7367760" y="3862080"/>
                <a:ext cx="1035000" cy="768600"/>
              </a:xfrm>
              <a:prstGeom prst="roundRect">
                <a:avLst>
                  <a:gd name="adj" fmla="val 2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67760" y="3848400"/>
                <a:ext cx="103500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.da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5" name=""/>
          <p:cNvCxnSpPr>
            <a:endCxn id="620" idx="3"/>
          </p:cNvCxnSpPr>
          <p:nvPr/>
        </p:nvCxnSpPr>
        <p:spPr>
          <a:xfrm flipH="1">
            <a:off x="6854040" y="4247640"/>
            <a:ext cx="384840" cy="946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chine owner preferenc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refer jobs from the physics gro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only run jobs between 8pm and 4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only run certain types of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bs can be preempted if something better comes along (or no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677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679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unning a DAG (cont’d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holds &amp; submits jobs to the Condor queue at the appropriate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684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685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689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91" name=""/>
          <p:cNvCxnSpPr>
            <a:endCxn id="692" idx="1"/>
          </p:cNvCxnSpPr>
          <p:nvPr/>
        </p:nvCxnSpPr>
        <p:spPr>
          <a:xfrm flipH="1">
            <a:off x="4473360" y="3784680"/>
            <a:ext cx="89424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93" name=""/>
          <p:cNvGrpSpPr/>
          <p:nvPr/>
        </p:nvGrpSpPr>
        <p:grpSpPr>
          <a:xfrm>
            <a:off x="5943600" y="4151160"/>
            <a:ext cx="366840" cy="433800"/>
            <a:chOff x="5943600" y="4151160"/>
            <a:chExt cx="366840" cy="433800"/>
          </a:xfrm>
        </p:grpSpPr>
        <p:sp>
          <p:nvSpPr>
            <p:cNvPr id="694" name=""/>
            <p:cNvSpPr/>
            <p:nvPr/>
          </p:nvSpPr>
          <p:spPr>
            <a:xfrm>
              <a:off x="5943600" y="4222800"/>
              <a:ext cx="36684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5998680" y="4151160"/>
              <a:ext cx="257760" cy="433800"/>
              <a:chOff x="5998680" y="4151160"/>
              <a:chExt cx="257760" cy="433800"/>
            </a:xfrm>
          </p:grpSpPr>
          <p:sp>
            <p:nvSpPr>
              <p:cNvPr id="696" name=""/>
              <p:cNvSpPr/>
              <p:nvPr/>
            </p:nvSpPr>
            <p:spPr>
              <a:xfrm>
                <a:off x="5998680" y="4264920"/>
                <a:ext cx="25776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98680" y="415116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8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699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701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03" name=""/>
          <p:cNvCxnSpPr>
            <a:endCxn id="694" idx="1"/>
          </p:cNvCxnSpPr>
          <p:nvPr/>
        </p:nvCxnSpPr>
        <p:spPr>
          <a:xfrm>
            <a:off x="5366880" y="3784680"/>
            <a:ext cx="63108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94" idx="1"/>
            <a:endCxn id="699" idx="1"/>
          </p:cNvCxnSpPr>
          <p:nvPr/>
        </p:nvCxnSpPr>
        <p:spPr>
          <a:xfrm flipH="1">
            <a:off x="5233320" y="4265640"/>
            <a:ext cx="76284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92" idx="1"/>
            <a:endCxn id="699" idx="1"/>
          </p:cNvCxnSpPr>
          <p:nvPr/>
        </p:nvCxnSpPr>
        <p:spPr>
          <a:xfrm>
            <a:off x="4473720" y="4265640"/>
            <a:ext cx="76248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92" idx="1"/>
            <a:endCxn id="707" idx="1"/>
          </p:cNvCxnSpPr>
          <p:nvPr/>
        </p:nvCxnSpPr>
        <p:spPr>
          <a:xfrm flipH="1" flipV="1">
            <a:off x="2568240" y="4187520"/>
            <a:ext cx="1905840" cy="784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708" name=""/>
          <p:cNvGrpSpPr/>
          <p:nvPr/>
        </p:nvGrpSpPr>
        <p:grpSpPr>
          <a:xfrm>
            <a:off x="2514600" y="4074840"/>
            <a:ext cx="366840" cy="433800"/>
            <a:chOff x="2514600" y="4074840"/>
            <a:chExt cx="366840" cy="433800"/>
          </a:xfrm>
        </p:grpSpPr>
        <p:sp>
          <p:nvSpPr>
            <p:cNvPr id="707" name=""/>
            <p:cNvSpPr/>
            <p:nvPr/>
          </p:nvSpPr>
          <p:spPr>
            <a:xfrm>
              <a:off x="2514600" y="41450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2569680" y="4074840"/>
              <a:ext cx="257760" cy="433800"/>
              <a:chOff x="2569680" y="4074840"/>
              <a:chExt cx="257760" cy="433800"/>
            </a:xfrm>
          </p:grpSpPr>
          <p:sp>
            <p:nvSpPr>
              <p:cNvPr id="710" name=""/>
              <p:cNvSpPr/>
              <p:nvPr/>
            </p:nvSpPr>
            <p:spPr>
              <a:xfrm>
                <a:off x="2569680" y="41871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569680" y="40748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2514600" y="4760640"/>
            <a:ext cx="366840" cy="433800"/>
            <a:chOff x="2514600" y="4760640"/>
            <a:chExt cx="366840" cy="433800"/>
          </a:xfrm>
        </p:grpSpPr>
        <p:sp>
          <p:nvSpPr>
            <p:cNvPr id="713" name=""/>
            <p:cNvSpPr/>
            <p:nvPr/>
          </p:nvSpPr>
          <p:spPr>
            <a:xfrm>
              <a:off x="2514600" y="48308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2569680" y="4760640"/>
              <a:ext cx="257760" cy="433800"/>
              <a:chOff x="2569680" y="4760640"/>
              <a:chExt cx="257760" cy="433800"/>
            </a:xfrm>
          </p:grpSpPr>
          <p:sp>
            <p:nvSpPr>
              <p:cNvPr id="715" name=""/>
              <p:cNvSpPr/>
              <p:nvPr/>
            </p:nvSpPr>
            <p:spPr>
              <a:xfrm>
                <a:off x="2569680" y="48729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569680" y="47606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17" name=""/>
          <p:cNvCxnSpPr>
            <a:stCxn id="694" idx="1"/>
            <a:endCxn id="713" idx="1"/>
          </p:cNvCxnSpPr>
          <p:nvPr/>
        </p:nvCxnSpPr>
        <p:spPr>
          <a:xfrm flipH="1">
            <a:off x="2567880" y="4265280"/>
            <a:ext cx="3429720" cy="60876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718" name=""/>
          <p:cNvGrpSpPr/>
          <p:nvPr/>
        </p:nvGrpSpPr>
        <p:grpSpPr>
          <a:xfrm>
            <a:off x="4419720" y="4151160"/>
            <a:ext cx="366480" cy="433800"/>
            <a:chOff x="4419720" y="4151160"/>
            <a:chExt cx="366480" cy="433800"/>
          </a:xfrm>
        </p:grpSpPr>
        <p:sp>
          <p:nvSpPr>
            <p:cNvPr id="692" name=""/>
            <p:cNvSpPr/>
            <p:nvPr/>
          </p:nvSpPr>
          <p:spPr>
            <a:xfrm>
              <a:off x="4419720" y="4222800"/>
              <a:ext cx="36648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474800" y="4151160"/>
              <a:ext cx="257400" cy="433800"/>
              <a:chOff x="4474800" y="4151160"/>
              <a:chExt cx="257400" cy="433800"/>
            </a:xfrm>
          </p:grpSpPr>
          <p:sp>
            <p:nvSpPr>
              <p:cNvPr id="720" name=""/>
              <p:cNvSpPr/>
              <p:nvPr/>
            </p:nvSpPr>
            <p:spPr>
              <a:xfrm>
                <a:off x="4474800" y="426492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474800" y="4151160"/>
                <a:ext cx="254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723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725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728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730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unning a DAG (cont’d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ase of a job failure, DAGMan continues until it can no longer make progress, and then creates 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“rescue” f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the current state of the DA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735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736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740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42" name=""/>
          <p:cNvCxnSpPr>
            <a:endCxn id="743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44" name=""/>
          <p:cNvGrpSpPr/>
          <p:nvPr/>
        </p:nvGrpSpPr>
        <p:grpSpPr>
          <a:xfrm>
            <a:off x="5943600" y="4178520"/>
            <a:ext cx="366840" cy="377280"/>
            <a:chOff x="5943600" y="4178520"/>
            <a:chExt cx="366840" cy="377280"/>
          </a:xfrm>
        </p:grpSpPr>
        <p:sp>
          <p:nvSpPr>
            <p:cNvPr id="745" name=""/>
            <p:cNvSpPr/>
            <p:nvPr/>
          </p:nvSpPr>
          <p:spPr>
            <a:xfrm>
              <a:off x="5943600" y="4200480"/>
              <a:ext cx="366840" cy="3333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5998680" y="4178520"/>
              <a:ext cx="257760" cy="377280"/>
              <a:chOff x="5998680" y="4178520"/>
              <a:chExt cx="257760" cy="377280"/>
            </a:xfrm>
          </p:grpSpPr>
          <p:sp>
            <p:nvSpPr>
              <p:cNvPr id="747" name=""/>
              <p:cNvSpPr/>
              <p:nvPr/>
            </p:nvSpPr>
            <p:spPr>
              <a:xfrm>
                <a:off x="5998680" y="4249440"/>
                <a:ext cx="25776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998680" y="4178520"/>
                <a:ext cx="255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750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752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54" name=""/>
          <p:cNvCxnSpPr>
            <a:endCxn id="745" idx="1"/>
          </p:cNvCxnSpPr>
          <p:nvPr/>
        </p:nvCxnSpPr>
        <p:spPr>
          <a:xfrm>
            <a:off x="5366880" y="3784680"/>
            <a:ext cx="6310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5" name=""/>
          <p:cNvCxnSpPr>
            <a:stCxn id="745" idx="1"/>
            <a:endCxn id="750" idx="7"/>
          </p:cNvCxnSpPr>
          <p:nvPr/>
        </p:nvCxnSpPr>
        <p:spPr>
          <a:xfrm flipH="1">
            <a:off x="5495400" y="4249800"/>
            <a:ext cx="50256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6" name=""/>
          <p:cNvCxnSpPr>
            <a:stCxn id="743" idx="1"/>
            <a:endCxn id="750" idx="1"/>
          </p:cNvCxnSpPr>
          <p:nvPr/>
        </p:nvCxnSpPr>
        <p:spPr>
          <a:xfrm>
            <a:off x="4473720" y="4249800"/>
            <a:ext cx="7624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57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758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760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743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764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6" name=""/>
          <p:cNvGrpSpPr/>
          <p:nvPr/>
        </p:nvGrpSpPr>
        <p:grpSpPr>
          <a:xfrm>
            <a:off x="7238880" y="3781440"/>
            <a:ext cx="1290600" cy="925200"/>
            <a:chOff x="7238880" y="3781440"/>
            <a:chExt cx="1290600" cy="925200"/>
          </a:xfrm>
        </p:grpSpPr>
        <p:grpSp>
          <p:nvGrpSpPr>
            <p:cNvPr id="767" name=""/>
            <p:cNvGrpSpPr/>
            <p:nvPr/>
          </p:nvGrpSpPr>
          <p:grpSpPr>
            <a:xfrm>
              <a:off x="7238880" y="3781440"/>
              <a:ext cx="1290600" cy="925200"/>
              <a:chOff x="7238880" y="3781440"/>
              <a:chExt cx="1290600" cy="925200"/>
            </a:xfrm>
          </p:grpSpPr>
          <p:sp>
            <p:nvSpPr>
              <p:cNvPr id="768" name=""/>
              <p:cNvSpPr/>
              <p:nvPr/>
            </p:nvSpPr>
            <p:spPr>
              <a:xfrm>
                <a:off x="7238880" y="3781440"/>
                <a:ext cx="1290600" cy="923760"/>
              </a:xfrm>
              <a:custGeom>
                <a:avLst/>
                <a:gdLst/>
                <a:ahLst/>
                <a:rect l="l" t="t" r="r" b="b"/>
                <a:pathLst>
                  <a:path w="3591" h="2576">
                    <a:moveTo>
                      <a:pt x="178" y="2575"/>
                    </a:moveTo>
                    <a:cubicBezTo>
                      <a:pt x="89" y="2575"/>
                      <a:pt x="0" y="2495"/>
                      <a:pt x="0" y="2415"/>
                    </a:cubicBezTo>
                    <a:cubicBezTo>
                      <a:pt x="0" y="2334"/>
                      <a:pt x="89" y="2254"/>
                      <a:pt x="178" y="2254"/>
                    </a:cubicBezTo>
                    <a:lnTo>
                      <a:pt x="357" y="2254"/>
                    </a:lnTo>
                    <a:lnTo>
                      <a:pt x="357" y="160"/>
                    </a:lnTo>
                    <a:cubicBezTo>
                      <a:pt x="357" y="81"/>
                      <a:pt x="445" y="0"/>
                      <a:pt x="533" y="0"/>
                    </a:cubicBezTo>
                    <a:lnTo>
                      <a:pt x="3412" y="0"/>
                    </a:lnTo>
                    <a:cubicBezTo>
                      <a:pt x="3501" y="0"/>
                      <a:pt x="3590" y="81"/>
                      <a:pt x="3590" y="160"/>
                    </a:cubicBezTo>
                    <a:cubicBezTo>
                      <a:pt x="3590" y="241"/>
                      <a:pt x="3501" y="322"/>
                      <a:pt x="3412" y="322"/>
                    </a:cubicBezTo>
                    <a:lnTo>
                      <a:pt x="3233" y="322"/>
                    </a:lnTo>
                    <a:lnTo>
                      <a:pt x="3233" y="2415"/>
                    </a:lnTo>
                    <a:cubicBezTo>
                      <a:pt x="3233" y="2495"/>
                      <a:pt x="3145" y="2575"/>
                      <a:pt x="3057" y="2575"/>
                    </a:cubicBezTo>
                    <a:lnTo>
                      <a:pt x="178" y="2575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399080" y="3838320"/>
                <a:ext cx="96480" cy="58320"/>
              </a:xfrm>
              <a:custGeom>
                <a:avLst/>
                <a:gdLst/>
                <a:ahLst/>
                <a:rect l="l" t="t" r="r" b="b"/>
                <a:pathLst>
                  <a:path w="268" h="164">
                    <a:moveTo>
                      <a:pt x="267" y="0"/>
                    </a:moveTo>
                    <a:cubicBezTo>
                      <a:pt x="267" y="81"/>
                      <a:pt x="177" y="163"/>
                      <a:pt x="88" y="163"/>
                    </a:cubicBezTo>
                    <a:cubicBezTo>
                      <a:pt x="43" y="163"/>
                      <a:pt x="0" y="123"/>
                      <a:pt x="0" y="81"/>
                    </a:cubicBezTo>
                    <a:cubicBezTo>
                      <a:pt x="0" y="40"/>
                      <a:pt x="43" y="0"/>
                      <a:pt x="88" y="0"/>
                    </a:cubicBezTo>
                    <a:lnTo>
                      <a:pt x="267" y="0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8880" y="4591440"/>
                <a:ext cx="128520" cy="115200"/>
              </a:xfrm>
              <a:custGeom>
                <a:avLst/>
                <a:gdLst/>
                <a:ahLst/>
                <a:rect l="l" t="t" r="r" b="b"/>
                <a:pathLst>
                  <a:path w="358" h="322">
                    <a:moveTo>
                      <a:pt x="357" y="161"/>
                    </a:moveTo>
                    <a:cubicBezTo>
                      <a:pt x="357" y="241"/>
                      <a:pt x="267" y="321"/>
                      <a:pt x="178" y="321"/>
                    </a:cubicBezTo>
                    <a:cubicBezTo>
                      <a:pt x="89" y="321"/>
                      <a:pt x="0" y="241"/>
                      <a:pt x="0" y="161"/>
                    </a:cubicBezTo>
                    <a:cubicBezTo>
                      <a:pt x="0" y="80"/>
                      <a:pt x="89" y="0"/>
                      <a:pt x="178" y="0"/>
                    </a:cubicBezTo>
                    <a:cubicBezTo>
                      <a:pt x="222" y="0"/>
                      <a:pt x="267" y="40"/>
                      <a:pt x="267" y="81"/>
                    </a:cubicBezTo>
                    <a:cubicBezTo>
                      <a:pt x="267" y="121"/>
                      <a:pt x="222" y="161"/>
                      <a:pt x="178" y="161"/>
                    </a:cubicBezTo>
                    <a:lnTo>
                      <a:pt x="357" y="161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430760" y="3781440"/>
                <a:ext cx="64800" cy="58320"/>
              </a:xfrm>
              <a:custGeom>
                <a:avLst/>
                <a:gdLst/>
                <a:ahLst/>
                <a:rect l="l" t="t" r="r" b="b"/>
                <a:pathLst>
                  <a:path w="181" h="162">
                    <a:moveTo>
                      <a:pt x="0" y="0"/>
                    </a:moveTo>
                    <a:cubicBezTo>
                      <a:pt x="89" y="0"/>
                      <a:pt x="180" y="81"/>
                      <a:pt x="180" y="16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367400" y="4591440"/>
                <a:ext cx="10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430760" y="3896640"/>
                <a:ext cx="103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7367760" y="3897360"/>
              <a:ext cx="1036440" cy="696960"/>
              <a:chOff x="7367760" y="3897360"/>
              <a:chExt cx="1036440" cy="696960"/>
            </a:xfrm>
          </p:grpSpPr>
          <p:sp>
            <p:nvSpPr>
              <p:cNvPr id="775" name=""/>
              <p:cNvSpPr/>
              <p:nvPr/>
            </p:nvSpPr>
            <p:spPr>
              <a:xfrm>
                <a:off x="7367760" y="3897360"/>
                <a:ext cx="1036440" cy="69696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367760" y="3906360"/>
                <a:ext cx="103644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c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77" name=""/>
          <p:cNvCxnSpPr>
            <a:stCxn id="728" idx="3"/>
          </p:cNvCxnSpPr>
          <p:nvPr/>
        </p:nvCxnSpPr>
        <p:spPr>
          <a:xfrm flipV="1">
            <a:off x="6854400" y="4247280"/>
            <a:ext cx="384840" cy="946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779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781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over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e failed job is ready to be re-run, the rescue file can be used to restore the prior state of the DA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786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787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791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93" name=""/>
          <p:cNvCxnSpPr>
            <a:endCxn id="794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95" name=""/>
          <p:cNvGrpSpPr/>
          <p:nvPr/>
        </p:nvGrpSpPr>
        <p:grpSpPr>
          <a:xfrm>
            <a:off x="5943600" y="4151160"/>
            <a:ext cx="366840" cy="433800"/>
            <a:chOff x="5943600" y="4151160"/>
            <a:chExt cx="366840" cy="433800"/>
          </a:xfrm>
        </p:grpSpPr>
        <p:sp>
          <p:nvSpPr>
            <p:cNvPr id="796" name=""/>
            <p:cNvSpPr/>
            <p:nvPr/>
          </p:nvSpPr>
          <p:spPr>
            <a:xfrm>
              <a:off x="5943600" y="4222800"/>
              <a:ext cx="36684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5998680" y="4151160"/>
              <a:ext cx="257760" cy="433800"/>
              <a:chOff x="5998680" y="4151160"/>
              <a:chExt cx="257760" cy="433800"/>
            </a:xfrm>
          </p:grpSpPr>
          <p:sp>
            <p:nvSpPr>
              <p:cNvPr id="798" name=""/>
              <p:cNvSpPr/>
              <p:nvPr/>
            </p:nvSpPr>
            <p:spPr>
              <a:xfrm>
                <a:off x="5998680" y="4264920"/>
                <a:ext cx="25776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998680" y="415116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0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801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803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05" name=""/>
          <p:cNvCxnSpPr>
            <a:endCxn id="796" idx="1"/>
          </p:cNvCxnSpPr>
          <p:nvPr/>
        </p:nvCxnSpPr>
        <p:spPr>
          <a:xfrm>
            <a:off x="5366880" y="3784680"/>
            <a:ext cx="63108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6" name=""/>
          <p:cNvCxnSpPr>
            <a:stCxn id="796" idx="1"/>
            <a:endCxn id="801" idx="1"/>
          </p:cNvCxnSpPr>
          <p:nvPr/>
        </p:nvCxnSpPr>
        <p:spPr>
          <a:xfrm flipH="1">
            <a:off x="5233320" y="4265640"/>
            <a:ext cx="76284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794" idx="1"/>
            <a:endCxn id="801" idx="1"/>
          </p:cNvCxnSpPr>
          <p:nvPr/>
        </p:nvCxnSpPr>
        <p:spPr>
          <a:xfrm>
            <a:off x="4473720" y="4249800"/>
            <a:ext cx="7624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08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809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811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794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815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7238880" y="3781440"/>
            <a:ext cx="1290600" cy="925200"/>
            <a:chOff x="7238880" y="3781440"/>
            <a:chExt cx="1290600" cy="925200"/>
          </a:xfrm>
        </p:grpSpPr>
        <p:grpSp>
          <p:nvGrpSpPr>
            <p:cNvPr id="818" name=""/>
            <p:cNvGrpSpPr/>
            <p:nvPr/>
          </p:nvGrpSpPr>
          <p:grpSpPr>
            <a:xfrm>
              <a:off x="7238880" y="3781440"/>
              <a:ext cx="1290600" cy="925200"/>
              <a:chOff x="7238880" y="3781440"/>
              <a:chExt cx="1290600" cy="925200"/>
            </a:xfrm>
          </p:grpSpPr>
          <p:sp>
            <p:nvSpPr>
              <p:cNvPr id="819" name=""/>
              <p:cNvSpPr/>
              <p:nvPr/>
            </p:nvSpPr>
            <p:spPr>
              <a:xfrm>
                <a:off x="7238880" y="3781440"/>
                <a:ext cx="1290600" cy="923760"/>
              </a:xfrm>
              <a:custGeom>
                <a:avLst/>
                <a:gdLst/>
                <a:ahLst/>
                <a:rect l="l" t="t" r="r" b="b"/>
                <a:pathLst>
                  <a:path w="3591" h="2576">
                    <a:moveTo>
                      <a:pt x="178" y="2575"/>
                    </a:moveTo>
                    <a:cubicBezTo>
                      <a:pt x="89" y="2575"/>
                      <a:pt x="0" y="2495"/>
                      <a:pt x="0" y="2415"/>
                    </a:cubicBezTo>
                    <a:cubicBezTo>
                      <a:pt x="0" y="2334"/>
                      <a:pt x="89" y="2254"/>
                      <a:pt x="178" y="2254"/>
                    </a:cubicBezTo>
                    <a:lnTo>
                      <a:pt x="357" y="2254"/>
                    </a:lnTo>
                    <a:lnTo>
                      <a:pt x="357" y="160"/>
                    </a:lnTo>
                    <a:cubicBezTo>
                      <a:pt x="357" y="81"/>
                      <a:pt x="445" y="0"/>
                      <a:pt x="533" y="0"/>
                    </a:cubicBezTo>
                    <a:lnTo>
                      <a:pt x="3412" y="0"/>
                    </a:lnTo>
                    <a:cubicBezTo>
                      <a:pt x="3501" y="0"/>
                      <a:pt x="3590" y="81"/>
                      <a:pt x="3590" y="160"/>
                    </a:cubicBezTo>
                    <a:cubicBezTo>
                      <a:pt x="3590" y="241"/>
                      <a:pt x="3501" y="322"/>
                      <a:pt x="3412" y="322"/>
                    </a:cubicBezTo>
                    <a:lnTo>
                      <a:pt x="3233" y="322"/>
                    </a:lnTo>
                    <a:lnTo>
                      <a:pt x="3233" y="2415"/>
                    </a:lnTo>
                    <a:cubicBezTo>
                      <a:pt x="3233" y="2495"/>
                      <a:pt x="3145" y="2575"/>
                      <a:pt x="3057" y="2575"/>
                    </a:cubicBezTo>
                    <a:lnTo>
                      <a:pt x="178" y="2575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399080" y="3838320"/>
                <a:ext cx="96480" cy="58320"/>
              </a:xfrm>
              <a:custGeom>
                <a:avLst/>
                <a:gdLst/>
                <a:ahLst/>
                <a:rect l="l" t="t" r="r" b="b"/>
                <a:pathLst>
                  <a:path w="268" h="164">
                    <a:moveTo>
                      <a:pt x="267" y="0"/>
                    </a:moveTo>
                    <a:cubicBezTo>
                      <a:pt x="267" y="81"/>
                      <a:pt x="177" y="163"/>
                      <a:pt x="88" y="163"/>
                    </a:cubicBezTo>
                    <a:cubicBezTo>
                      <a:pt x="43" y="163"/>
                      <a:pt x="0" y="123"/>
                      <a:pt x="0" y="81"/>
                    </a:cubicBezTo>
                    <a:cubicBezTo>
                      <a:pt x="0" y="40"/>
                      <a:pt x="43" y="0"/>
                      <a:pt x="88" y="0"/>
                    </a:cubicBezTo>
                    <a:lnTo>
                      <a:pt x="267" y="0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38880" y="4591440"/>
                <a:ext cx="128520" cy="115200"/>
              </a:xfrm>
              <a:custGeom>
                <a:avLst/>
                <a:gdLst/>
                <a:ahLst/>
                <a:rect l="l" t="t" r="r" b="b"/>
                <a:pathLst>
                  <a:path w="358" h="322">
                    <a:moveTo>
                      <a:pt x="357" y="161"/>
                    </a:moveTo>
                    <a:cubicBezTo>
                      <a:pt x="357" y="241"/>
                      <a:pt x="267" y="321"/>
                      <a:pt x="178" y="321"/>
                    </a:cubicBezTo>
                    <a:cubicBezTo>
                      <a:pt x="89" y="321"/>
                      <a:pt x="0" y="241"/>
                      <a:pt x="0" y="161"/>
                    </a:cubicBezTo>
                    <a:cubicBezTo>
                      <a:pt x="0" y="80"/>
                      <a:pt x="89" y="0"/>
                      <a:pt x="178" y="0"/>
                    </a:cubicBezTo>
                    <a:cubicBezTo>
                      <a:pt x="222" y="0"/>
                      <a:pt x="267" y="40"/>
                      <a:pt x="267" y="81"/>
                    </a:cubicBezTo>
                    <a:cubicBezTo>
                      <a:pt x="267" y="121"/>
                      <a:pt x="222" y="161"/>
                      <a:pt x="178" y="161"/>
                    </a:cubicBezTo>
                    <a:lnTo>
                      <a:pt x="357" y="161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430760" y="3781440"/>
                <a:ext cx="64800" cy="58320"/>
              </a:xfrm>
              <a:custGeom>
                <a:avLst/>
                <a:gdLst/>
                <a:ahLst/>
                <a:rect l="l" t="t" r="r" b="b"/>
                <a:pathLst>
                  <a:path w="181" h="162">
                    <a:moveTo>
                      <a:pt x="0" y="0"/>
                    </a:moveTo>
                    <a:cubicBezTo>
                      <a:pt x="89" y="0"/>
                      <a:pt x="180" y="81"/>
                      <a:pt x="180" y="16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367400" y="4591440"/>
                <a:ext cx="10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430760" y="3896640"/>
                <a:ext cx="103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7367760" y="3877200"/>
              <a:ext cx="1036440" cy="740520"/>
              <a:chOff x="7367760" y="3877200"/>
              <a:chExt cx="1036440" cy="740520"/>
            </a:xfrm>
          </p:grpSpPr>
          <p:sp>
            <p:nvSpPr>
              <p:cNvPr id="826" name=""/>
              <p:cNvSpPr/>
              <p:nvPr/>
            </p:nvSpPr>
            <p:spPr>
              <a:xfrm>
                <a:off x="7367760" y="3897360"/>
                <a:ext cx="1036440" cy="69696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367760" y="3877200"/>
                <a:ext cx="1036440" cy="74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Rescu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28" name=""/>
          <p:cNvCxnSpPr>
            <a:endCxn id="779" idx="3"/>
          </p:cNvCxnSpPr>
          <p:nvPr/>
        </p:nvCxnSpPr>
        <p:spPr>
          <a:xfrm flipH="1">
            <a:off x="6854040" y="4247640"/>
            <a:ext cx="384840" cy="946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cxnSp>
        <p:nvCxnSpPr>
          <p:cNvPr id="829" name=""/>
          <p:cNvCxnSpPr>
            <a:stCxn id="796" idx="1"/>
            <a:endCxn id="830" idx="1"/>
          </p:cNvCxnSpPr>
          <p:nvPr/>
        </p:nvCxnSpPr>
        <p:spPr>
          <a:xfrm flipH="1">
            <a:off x="2567880" y="4265280"/>
            <a:ext cx="3429720" cy="60876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831" name=""/>
          <p:cNvGrpSpPr/>
          <p:nvPr/>
        </p:nvGrpSpPr>
        <p:grpSpPr>
          <a:xfrm>
            <a:off x="2514600" y="4760640"/>
            <a:ext cx="366840" cy="433800"/>
            <a:chOff x="2514600" y="4760640"/>
            <a:chExt cx="366840" cy="433800"/>
          </a:xfrm>
        </p:grpSpPr>
        <p:sp>
          <p:nvSpPr>
            <p:cNvPr id="830" name=""/>
            <p:cNvSpPr/>
            <p:nvPr/>
          </p:nvSpPr>
          <p:spPr>
            <a:xfrm>
              <a:off x="2514600" y="48308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2569680" y="4760640"/>
              <a:ext cx="257760" cy="433800"/>
              <a:chOff x="2569680" y="4760640"/>
              <a:chExt cx="257760" cy="433800"/>
            </a:xfrm>
          </p:grpSpPr>
          <p:sp>
            <p:nvSpPr>
              <p:cNvPr id="833" name=""/>
              <p:cNvSpPr/>
              <p:nvPr/>
            </p:nvSpPr>
            <p:spPr>
              <a:xfrm>
                <a:off x="2569680" y="48729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569680" y="47606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836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838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overing a DAG (cont’d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at job completes, DAGMan will continue the DAG as if the failure never happen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843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848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50" name=""/>
          <p:cNvCxnSpPr>
            <a:endCxn id="851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52" name=""/>
          <p:cNvGrpSpPr/>
          <p:nvPr/>
        </p:nvGrpSpPr>
        <p:grpSpPr>
          <a:xfrm>
            <a:off x="5943600" y="4178520"/>
            <a:ext cx="366840" cy="377280"/>
            <a:chOff x="5943600" y="4178520"/>
            <a:chExt cx="366840" cy="377280"/>
          </a:xfrm>
        </p:grpSpPr>
        <p:sp>
          <p:nvSpPr>
            <p:cNvPr id="853" name=""/>
            <p:cNvSpPr/>
            <p:nvPr/>
          </p:nvSpPr>
          <p:spPr>
            <a:xfrm>
              <a:off x="5943600" y="4200480"/>
              <a:ext cx="36684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5998680" y="4178520"/>
              <a:ext cx="257760" cy="377280"/>
              <a:chOff x="5998680" y="4178520"/>
              <a:chExt cx="257760" cy="377280"/>
            </a:xfrm>
          </p:grpSpPr>
          <p:sp>
            <p:nvSpPr>
              <p:cNvPr id="855" name=""/>
              <p:cNvSpPr/>
              <p:nvPr/>
            </p:nvSpPr>
            <p:spPr>
              <a:xfrm>
                <a:off x="5998680" y="4249440"/>
                <a:ext cx="25776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998680" y="4178520"/>
                <a:ext cx="255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858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860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62" name=""/>
          <p:cNvCxnSpPr>
            <a:endCxn id="853" idx="1"/>
          </p:cNvCxnSpPr>
          <p:nvPr/>
        </p:nvCxnSpPr>
        <p:spPr>
          <a:xfrm>
            <a:off x="5366880" y="3784680"/>
            <a:ext cx="6310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"/>
          <p:cNvCxnSpPr>
            <a:stCxn id="853" idx="1"/>
            <a:endCxn id="858" idx="1"/>
          </p:cNvCxnSpPr>
          <p:nvPr/>
        </p:nvCxnSpPr>
        <p:spPr>
          <a:xfrm flipH="1">
            <a:off x="5233320" y="4249800"/>
            <a:ext cx="76284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4" name=""/>
          <p:cNvCxnSpPr>
            <a:stCxn id="851" idx="1"/>
            <a:endCxn id="858" idx="1"/>
          </p:cNvCxnSpPr>
          <p:nvPr/>
        </p:nvCxnSpPr>
        <p:spPr>
          <a:xfrm>
            <a:off x="4473720" y="4249800"/>
            <a:ext cx="7624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65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866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868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0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851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872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74" name=""/>
          <p:cNvCxnSpPr>
            <a:stCxn id="858" idx="1"/>
            <a:endCxn id="875" idx="1"/>
          </p:cNvCxnSpPr>
          <p:nvPr/>
        </p:nvCxnSpPr>
        <p:spPr>
          <a:xfrm flipH="1" flipV="1">
            <a:off x="2568240" y="4872960"/>
            <a:ext cx="2666160" cy="15300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876" name=""/>
          <p:cNvGrpSpPr/>
          <p:nvPr/>
        </p:nvGrpSpPr>
        <p:grpSpPr>
          <a:xfrm>
            <a:off x="2514600" y="4760640"/>
            <a:ext cx="366840" cy="433800"/>
            <a:chOff x="2514600" y="4760640"/>
            <a:chExt cx="366840" cy="433800"/>
          </a:xfrm>
        </p:grpSpPr>
        <p:sp>
          <p:nvSpPr>
            <p:cNvPr id="875" name=""/>
            <p:cNvSpPr/>
            <p:nvPr/>
          </p:nvSpPr>
          <p:spPr>
            <a:xfrm>
              <a:off x="2514600" y="48308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2569680" y="4760640"/>
              <a:ext cx="257760" cy="433800"/>
              <a:chOff x="2569680" y="4760640"/>
              <a:chExt cx="257760" cy="433800"/>
            </a:xfrm>
          </p:grpSpPr>
          <p:sp>
            <p:nvSpPr>
              <p:cNvPr id="878" name=""/>
              <p:cNvSpPr/>
              <p:nvPr/>
            </p:nvSpPr>
            <p:spPr>
              <a:xfrm>
                <a:off x="2569680" y="48729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69680" y="47606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881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883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inish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e DAG is complete, the DAGMan job itself is finished, and exi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888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889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893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95" name=""/>
          <p:cNvCxnSpPr>
            <a:endCxn id="896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97" name=""/>
          <p:cNvGrpSpPr/>
          <p:nvPr/>
        </p:nvGrpSpPr>
        <p:grpSpPr>
          <a:xfrm>
            <a:off x="5943600" y="4178520"/>
            <a:ext cx="366840" cy="377280"/>
            <a:chOff x="5943600" y="4178520"/>
            <a:chExt cx="366840" cy="377280"/>
          </a:xfrm>
        </p:grpSpPr>
        <p:sp>
          <p:nvSpPr>
            <p:cNvPr id="898" name=""/>
            <p:cNvSpPr/>
            <p:nvPr/>
          </p:nvSpPr>
          <p:spPr>
            <a:xfrm>
              <a:off x="5943600" y="4200480"/>
              <a:ext cx="36684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5998680" y="4178520"/>
              <a:ext cx="257760" cy="377280"/>
              <a:chOff x="5998680" y="4178520"/>
              <a:chExt cx="257760" cy="377280"/>
            </a:xfrm>
          </p:grpSpPr>
          <p:sp>
            <p:nvSpPr>
              <p:cNvPr id="900" name=""/>
              <p:cNvSpPr/>
              <p:nvPr/>
            </p:nvSpPr>
            <p:spPr>
              <a:xfrm>
                <a:off x="5998680" y="4249440"/>
                <a:ext cx="25776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998680" y="4178520"/>
                <a:ext cx="255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2" name=""/>
          <p:cNvGrpSpPr/>
          <p:nvPr/>
        </p:nvGrpSpPr>
        <p:grpSpPr>
          <a:xfrm>
            <a:off x="5181480" y="4940640"/>
            <a:ext cx="366840" cy="377280"/>
            <a:chOff x="5181480" y="4940640"/>
            <a:chExt cx="366840" cy="377280"/>
          </a:xfrm>
        </p:grpSpPr>
        <p:sp>
          <p:nvSpPr>
            <p:cNvPr id="903" name=""/>
            <p:cNvSpPr/>
            <p:nvPr/>
          </p:nvSpPr>
          <p:spPr>
            <a:xfrm>
              <a:off x="5181480" y="4962600"/>
              <a:ext cx="366840" cy="3366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5236920" y="4940640"/>
              <a:ext cx="257400" cy="377280"/>
              <a:chOff x="5236920" y="4940640"/>
              <a:chExt cx="257400" cy="377280"/>
            </a:xfrm>
          </p:grpSpPr>
          <p:sp>
            <p:nvSpPr>
              <p:cNvPr id="905" name=""/>
              <p:cNvSpPr/>
              <p:nvPr/>
            </p:nvSpPr>
            <p:spPr>
              <a:xfrm>
                <a:off x="5236920" y="5011200"/>
                <a:ext cx="257400" cy="23544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236920" y="4940640"/>
                <a:ext cx="2556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907" name=""/>
          <p:cNvCxnSpPr>
            <a:endCxn id="898" idx="1"/>
          </p:cNvCxnSpPr>
          <p:nvPr/>
        </p:nvCxnSpPr>
        <p:spPr>
          <a:xfrm>
            <a:off x="5366880" y="3784680"/>
            <a:ext cx="6310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8" name=""/>
          <p:cNvCxnSpPr>
            <a:stCxn id="898" idx="1"/>
            <a:endCxn id="903" idx="1"/>
          </p:cNvCxnSpPr>
          <p:nvPr/>
        </p:nvCxnSpPr>
        <p:spPr>
          <a:xfrm flipH="1">
            <a:off x="5233320" y="4249800"/>
            <a:ext cx="762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"/>
          <p:cNvCxnSpPr>
            <a:stCxn id="896" idx="1"/>
            <a:endCxn id="903" idx="1"/>
          </p:cNvCxnSpPr>
          <p:nvPr/>
        </p:nvCxnSpPr>
        <p:spPr>
          <a:xfrm>
            <a:off x="4473720" y="4249800"/>
            <a:ext cx="7624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10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911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913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896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917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AGMan &amp; Log Fil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job, Condor generates a log 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GMan reads this log to see what has happe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DAGMan dies (crash, power failure, etc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will restart DAGM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re-reads log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knows everything it needs to kn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anced DAGMan Trick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ttles and degenerative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ursive DAGs: Loops and m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 and Post scripts: editing your DA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hrottl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047600"/>
            <a:ext cx="823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iled nodes can be automatically re-tried a configurable number of ti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try N ti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try N times, unless a node returns specific exit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ttles to control job submi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 jobs submit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 scripts r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mit DAG wit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,000 no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dependen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DAGMan to throttle the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is scalable, but it will have problems if you submit 200,000 jobs simultaneous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can help you get scalability even if you don’t have dependen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egenerative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234040" y="1893960"/>
            <a:ext cx="492120" cy="527040"/>
            <a:chOff x="5234040" y="1893960"/>
            <a:chExt cx="492120" cy="527040"/>
          </a:xfrm>
        </p:grpSpPr>
        <p:sp>
          <p:nvSpPr>
            <p:cNvPr id="928" name=""/>
            <p:cNvSpPr/>
            <p:nvPr/>
          </p:nvSpPr>
          <p:spPr>
            <a:xfrm>
              <a:off x="5234040" y="189540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261400" y="1893960"/>
              <a:ext cx="427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5910120" y="1893960"/>
            <a:ext cx="492120" cy="527040"/>
            <a:chOff x="5910120" y="1893960"/>
            <a:chExt cx="492120" cy="527040"/>
          </a:xfrm>
        </p:grpSpPr>
        <p:sp>
          <p:nvSpPr>
            <p:cNvPr id="931" name=""/>
            <p:cNvSpPr/>
            <p:nvPr/>
          </p:nvSpPr>
          <p:spPr>
            <a:xfrm>
              <a:off x="5910120" y="189540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37480" y="1893960"/>
              <a:ext cx="427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6568920" y="1901880"/>
            <a:ext cx="492120" cy="527040"/>
            <a:chOff x="6568920" y="1901880"/>
            <a:chExt cx="492120" cy="527040"/>
          </a:xfrm>
        </p:grpSpPr>
        <p:sp>
          <p:nvSpPr>
            <p:cNvPr id="934" name=""/>
            <p:cNvSpPr/>
            <p:nvPr/>
          </p:nvSpPr>
          <p:spPr>
            <a:xfrm>
              <a:off x="6568920" y="190332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96280" y="1901880"/>
              <a:ext cx="427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7174800" y="1819440"/>
            <a:ext cx="39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ursive DAG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08252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: any given DAG node can be a script that do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dec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DAG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condor_submit_d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 for DAG to ex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 node will not complete until recursive DAG finish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 a fixed-length 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y behavior on the f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in Roy</cp:lastModifiedBy>
  <dcterms:modified xsi:type="dcterms:W3CDTF">2005-07-14T12:31:21Z</dcterms:modified>
  <cp:revision>73</cp:revision>
  <dc:subject/>
  <dc:title>Using Condor  An Introduction  Condor Week 2004</dc:title>
</cp:coreProperties>
</file>