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818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4C7B8-F2F0-43EC-9E4D-AE4517C6F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94820-0B18-4038-B397-D700EB797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6C794-3F12-49ED-B028-94F88D17E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C244-EE9F-4498-B738-B8D901958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397D1-625A-4C0B-B903-5DD297F5E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647C4-4006-4869-A70E-B9E75B8D0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569C-946F-4200-954F-FB7F984A6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93A4-CBE4-4B0A-9775-D90760678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D57CB-57A3-43E2-B4B5-9ADF28693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4E517-E0B6-403C-ACB2-A95F6C30C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2F519-F92F-4D23-BE1F-499CC4833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381B4-87D3-495D-8000-17907A04C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b519a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C9E9-D03B-4FE0-B9A9-7639EC63C5C3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Arial"/>
              </a:rPr>
              <a:t>Student‘s present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b519a"/>
                </a:solidFill>
                <a:latin typeface="Arial"/>
              </a:rPr>
              <a:t>Overall seem to well reflect the tasks we have asked you to do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338f"/>
                </a:solidFill>
                <a:latin typeface="Arial"/>
              </a:rPr>
              <a:t>Overall, 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explain better how far you’ve been able to go with the pillar search and how you would contin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b519a"/>
                </a:solidFill>
                <a:latin typeface="Arial"/>
              </a:rPr>
              <a:t>Some presentations have some room for improvemen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b519a"/>
                </a:solidFill>
                <a:latin typeface="Arial"/>
              </a:rPr>
              <a:t>We will be available during coffee and lunch breaks to discuss how to improve the presentat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b519a"/>
                </a:solidFill>
                <a:latin typeface="Arial"/>
              </a:rPr>
              <a:t>All groups should be able to finish their presentations today AND enjoy the lectures of toda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C0869-685B-4540-B4C3-141AC03162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dent’s presentation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45960" y="974880"/>
          <a:ext cx="8589960" cy="5329080"/>
        </p:xfrm>
        <a:graphic>
          <a:graphicData uri="http://schemas.openxmlformats.org/drawingml/2006/table">
            <a:tbl>
              <a:tblPr/>
              <a:tblGrid>
                <a:gridCol w="2605320"/>
                <a:gridCol w="5984640"/>
              </a:tblGrid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3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4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5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6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7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xplain better your problem and how the chosen technologies could help 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8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xplain better your problem and how the chosen technologies could help (do NOT compare all technologies)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9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C7287-2332-4CFC-9DE3-FB166D4E70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3:02:51Z</dcterms:created>
  <dc:creator>Fab, Hannelore</dc:creator>
  <dc:description/>
  <cp:keywords>EGEE Grid Naregi</cp:keywords>
  <dc:language>en-US</dc:language>
  <cp:lastModifiedBy>Erwin Laure</cp:lastModifiedBy>
  <dcterms:modified xsi:type="dcterms:W3CDTF">2005-07-20T17:51:59Z</dcterms:modified>
  <cp:revision>75</cp:revision>
  <dc:subject>EGEE and Grid infrastructure in Europe</dc:subject>
  <dc:title>e-Infrastructure in Europe</dc:title>
</cp:coreProperties>
</file>