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818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7FF96-EF66-4B62-9D36-6923B623D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C2BD-5141-4658-9308-C9445E46FE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17C93-2E9D-49C3-B22B-CDC43896E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74A24-9B47-4DD7-83B1-C5D2F0B4C6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3385F-5540-4A8F-91FC-0FD42E5950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5008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154560" y="97452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34560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5008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154560" y="3810240"/>
            <a:ext cx="27658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D07F7-11BF-4681-89A4-BAACB46D4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A91E6-8594-4493-BB2F-2EB3F81A7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EC7A-5886-4B6E-A6C0-D3DEA0096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54320" y="66240"/>
            <a:ext cx="67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i="1" lang="en-US" sz="20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17B76-3AA5-454D-A8F7-E095C57E46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51A3-E2C4-453B-BA7D-B2DA99BB2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7320" y="381024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790B0-A157-4D6F-9FA8-2770B5DCC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7320" y="974520"/>
            <a:ext cx="419184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5600" y="3810240"/>
            <a:ext cx="858996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5B78D-1B14-4E97-9C87-69E66E7A7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736640" y="6559200"/>
            <a:ext cx="670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b519a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8521560" y="6562440"/>
            <a:ext cx="4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2b51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AB4D-AC03-45C5-9FEC-81196D04003E}" type="slidenum">
              <a:rPr b="1" lang="en-GB" sz="1200" spc="-1" strike="noStrike">
                <a:solidFill>
                  <a:srgbClr val="2b519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825560" y="0"/>
            <a:ext cx="7315200" cy="838080"/>
          </a:xfrm>
          <a:prstGeom prst="rect">
            <a:avLst/>
          </a:prstGeom>
          <a:solidFill>
            <a:srgbClr val="32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1a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1af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2b519a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19a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74800" y="687240"/>
            <a:ext cx="7369200" cy="1461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98600" y="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55600" y="644400"/>
            <a:ext cx="3652920" cy="326880"/>
            <a:chOff x="255600" y="644400"/>
            <a:chExt cx="3652920" cy="326880"/>
          </a:xfrm>
        </p:grpSpPr>
        <p:sp>
          <p:nvSpPr>
            <p:cNvPr id="8" name=""/>
            <p:cNvSpPr/>
            <p:nvPr/>
          </p:nvSpPr>
          <p:spPr>
            <a:xfrm>
              <a:off x="255600" y="644400"/>
              <a:ext cx="365292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Enabling Grids for E-sciencE</a:t>
              </a:r>
              <a:endParaRPr b="0" lang="en-US" sz="9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55600" y="64440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5600" y="971280"/>
              <a:ext cx="3652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5560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908520" y="644400"/>
              <a:ext cx="0" cy="3268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519a"/>
                </a:solidFill>
                <a:latin typeface="Arial"/>
              </a:endParaRPr>
            </a:p>
          </p:txBody>
        </p:sp>
      </p:grpSp>
      <p:sp>
        <p:nvSpPr>
          <p:cNvPr id="13" name="PlaceHolder 4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114480" y="184320"/>
            <a:ext cx="2009520" cy="495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21276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1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55320" y="2493720"/>
            <a:ext cx="6518520" cy="107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b519a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36640"/>
            <a:ext cx="9144000" cy="86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1960" y="209520"/>
            <a:ext cx="4802040" cy="852480"/>
          </a:xfrm>
          <a:prstGeom prst="rect">
            <a:avLst/>
          </a:prstGeom>
          <a:solidFill>
            <a:srgbClr val="2b51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84760" y="208080"/>
            <a:ext cx="887400" cy="860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54560" y="5738760"/>
            <a:ext cx="1219320" cy="536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870680" y="5694480"/>
            <a:ext cx="809640" cy="571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6491160"/>
            <a:ext cx="22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519a"/>
                </a:solidFill>
                <a:latin typeface="Verdana"/>
              </a:rPr>
              <a:t>INFSO-RI-508833</a:t>
            </a:r>
            <a:r>
              <a:rPr b="0" lang="en-US" sz="1800" spc="-1" strike="noStrike">
                <a:solidFill>
                  <a:srgbClr val="2b519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2168640" y="344520"/>
            <a:ext cx="2390760" cy="59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03920" y="696960"/>
            <a:ext cx="402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abling Grids for E-sciencE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212760"/>
            <a:ext cx="1798560" cy="5400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480" y="58611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5faf"/>
                </a:solidFill>
                <a:latin typeface="Arial"/>
              </a:rPr>
              <a:t>www.eu-egee.org</a:t>
            </a:r>
            <a:endParaRPr b="0" lang="en-US" sz="1600" spc="-1" strike="noStrike">
              <a:solidFill>
                <a:srgbClr val="2b519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Arial"/>
              </a:rPr>
              <a:t>Student‘s present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5600" y="974520"/>
            <a:ext cx="8589960" cy="54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Overall seem to well reflect the tasks we have asked you to do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f1a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100" spc="-1" strike="noStrike">
                <a:solidFill>
                  <a:srgbClr val="00338f"/>
                </a:solidFill>
                <a:latin typeface="Arial"/>
              </a:rPr>
              <a:t>Overall, </a:t>
            </a:r>
            <a:r>
              <a:rPr b="0" lang="en-US" sz="1900" spc="-1" strike="noStrike">
                <a:solidFill>
                  <a:srgbClr val="00338f"/>
                </a:solidFill>
                <a:latin typeface="Arial"/>
              </a:rPr>
              <a:t>explain better how far you’ve been able to go with the pillar search and how you would continue</a:t>
            </a:r>
            <a:endParaRPr b="0" lang="en-US" sz="1900" spc="-1" strike="noStrike">
              <a:solidFill>
                <a:srgbClr val="00338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Some presentations have some room for improvement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We will be available during coffee and lunch breaks to discuss how to improve the presentations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1a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2b519a"/>
                </a:solidFill>
                <a:latin typeface="Arial"/>
              </a:rPr>
              <a:t>All groups should be able to finish their presentations today AND enjoy the lectures of today</a:t>
            </a:r>
            <a:endParaRPr b="1" lang="en-US" sz="2400" spc="-1" strike="noStrike">
              <a:solidFill>
                <a:srgbClr val="2b519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39872-7124-485C-A967-40CFC1A233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54320" y="66240"/>
            <a:ext cx="67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dent’s presentation I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45960" y="974880"/>
          <a:ext cx="8589960" cy="5329080"/>
        </p:xfrm>
        <a:graphic>
          <a:graphicData uri="http://schemas.openxmlformats.org/drawingml/2006/table">
            <a:tbl>
              <a:tblPr/>
              <a:tblGrid>
                <a:gridCol w="2605320"/>
                <a:gridCol w="5984640"/>
              </a:tblGrid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1368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3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4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5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6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7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xplain better your problem and how the chosen technologies could help 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8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Explain better your problem and how the chosen technologies could help (do NOT compare all technologies)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5760">
                      <a:solidFill>
                        <a:srgbClr val="2b519a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Group 9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b519a"/>
                      </a:solidFill>
                    </a:lnL>
                    <a:lnR w="576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519a"/>
                          </a:solidFill>
                          <a:latin typeface="Arial"/>
                        </a:rPr>
                        <a:t>pillar search</a:t>
                      </a:r>
                      <a:endParaRPr b="0" lang="en-US" sz="1800" spc="-1" strike="noStrike">
                        <a:solidFill>
                          <a:srgbClr val="2b519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b519a"/>
                      </a:solidFill>
                    </a:lnL>
                    <a:lnR w="13680">
                      <a:solidFill>
                        <a:srgbClr val="2b519a"/>
                      </a:solidFill>
                    </a:lnR>
                    <a:lnT w="5760">
                      <a:solidFill>
                        <a:srgbClr val="2b519a"/>
                      </a:solidFill>
                    </a:lnT>
                    <a:lnB w="13680">
                      <a:solidFill>
                        <a:srgbClr val="2b519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28E38-1B5A-40A9-B8C7-447D820FA9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3:02:51Z</dcterms:created>
  <dc:creator>Fab, Hannelore</dc:creator>
  <dc:description/>
  <cp:keywords>EGEE Grid Naregi</cp:keywords>
  <dc:language>en-US</dc:language>
  <cp:lastModifiedBy>Erwin Laure</cp:lastModifiedBy>
  <dcterms:modified xsi:type="dcterms:W3CDTF">2005-07-20T17:51:59Z</dcterms:modified>
  <cp:revision>75</cp:revision>
  <dc:subject>EGEE and Grid infrastructure in Europe</dc:subject>
  <dc:title>e-Infrastructure in Europe</dc:title>
</cp:coreProperties>
</file>