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42AF4-7992-4F89-9919-70ACB62F00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B4ACD-0B26-4035-AFC6-5EEDD83CBD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0F933-93A9-4BAB-A396-BC79E4F626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8BC9F-0E93-4FD8-A2CA-65644E0F2D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B399B-6AD8-46B2-BF0F-130F44AA45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A8D0DE-67A2-4162-B88C-C0DDE0BF498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97A34A-8BDC-4C48-9A63-B7C8652ADF7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FA2426-1BFC-451E-94DA-662F8E4A906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6CF302-7272-4262-92AF-45D007AF388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0EC363-8B11-4EE7-BB7F-F623808F91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9AC9A-1FF3-4C67-A671-2BA233AFB88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B60382-6C9E-48F2-9CF7-FBAF3F8B077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959BE8-6420-47B6-BCFD-FDF31F92558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995458-2B83-488E-B0E7-550D4DA79A1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9AA125-8F80-4408-98C2-2727705226C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D37D88-C23F-4A51-B695-297EF28B09D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ECFD9F-82E2-4301-8ADE-22732F718E7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4C387D-9A69-4AEF-9281-D19B49DCACA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2C93F-6F0A-4C59-85A4-E0F95F7F7F8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F377B-A134-4604-ABE9-0E3C489047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04477-1317-469C-A169-02D3589F00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DC00E-4E71-4F9F-9DA5-65855BE101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698DA-1DDD-4A47-8002-0680779720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441A1-20CB-435B-970D-EA840C37F8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1736640" y="6559200"/>
            <a:ext cx="670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852156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8DE97-958C-4416-BA95-07A858CDA99B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255600" y="644400"/>
            <a:ext cx="3652920" cy="326880"/>
            <a:chOff x="255600" y="644400"/>
            <a:chExt cx="3652920" cy="326880"/>
          </a:xfrm>
        </p:grpSpPr>
        <p:sp>
          <p:nvSpPr>
            <p:cNvPr id="8" name=""/>
            <p:cNvSpPr/>
            <p:nvPr/>
          </p:nvSpPr>
          <p:spPr>
            <a:xfrm>
              <a:off x="255600" y="644400"/>
              <a:ext cx="36529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55600" y="64440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55600" y="97128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5560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90852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13" name="PlaceHolder 4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0" y="649116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519a"/>
                </a:solidFill>
                <a:latin typeface="Verdana"/>
              </a:rPr>
              <a:t>INFSO-RI-508833</a:t>
            </a: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2127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55320" y="2493720"/>
            <a:ext cx="651852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19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836640"/>
            <a:ext cx="9144000" cy="8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41960" y="209520"/>
            <a:ext cx="4802040" cy="85248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84760" y="208080"/>
            <a:ext cx="887400" cy="860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54560" y="5738760"/>
            <a:ext cx="1219320" cy="536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7870680" y="5694480"/>
            <a:ext cx="809640" cy="571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649116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2168640" y="344520"/>
            <a:ext cx="2390760" cy="590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903920" y="696960"/>
            <a:ext cx="40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abling Grids for E-scien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0" y="212760"/>
            <a:ext cx="1798560" cy="5400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480" y="586116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Arial"/>
              </a:rPr>
              <a:t>www.eu-egee.org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ftr" idx="3"/>
          </p:nvPr>
        </p:nvSpPr>
        <p:spPr>
          <a:xfrm>
            <a:off x="1736640" y="6559200"/>
            <a:ext cx="670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&lt;footer&gt;</a:t>
            </a:r>
            <a:r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Web Services Too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ldNum" idx="4"/>
          </p:nvPr>
        </p:nvSpPr>
        <p:spPr>
          <a:xfrm>
            <a:off x="852156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77EE6-7B20-47C5-9A87-B866717BACDC}" type="slidenum"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55600" y="644400"/>
            <a:ext cx="3652920" cy="326880"/>
            <a:chOff x="255600" y="644400"/>
            <a:chExt cx="3652920" cy="326880"/>
          </a:xfrm>
        </p:grpSpPr>
        <p:sp>
          <p:nvSpPr>
            <p:cNvPr id="109" name=""/>
            <p:cNvSpPr/>
            <p:nvPr/>
          </p:nvSpPr>
          <p:spPr>
            <a:xfrm>
              <a:off x="255600" y="644400"/>
              <a:ext cx="36529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5600" y="64440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55600" y="97128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560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90852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114" name="PlaceHolder 4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3200" y="6576840"/>
            <a:ext cx="22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519a"/>
                </a:solidFill>
                <a:latin typeface="Arial"/>
              </a:rPr>
              <a:t>ISSGC 05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9144000" cy="2127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55320" y="2493720"/>
            <a:ext cx="651852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19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836640"/>
            <a:ext cx="9144000" cy="8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341960" y="209520"/>
            <a:ext cx="4802040" cy="85248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84760" y="208080"/>
            <a:ext cx="887400" cy="860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154560" y="5738760"/>
            <a:ext cx="1219320" cy="5367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7870680" y="5694480"/>
            <a:ext cx="809640" cy="5713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0" y="649116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2168640" y="344520"/>
            <a:ext cx="2390760" cy="5904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903920" y="696960"/>
            <a:ext cx="40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abling Grids for E-scien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0" y="212760"/>
            <a:ext cx="1798560" cy="54007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480" y="586116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Arial"/>
              </a:rPr>
              <a:t>www.eu-egee.org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6"/>
          <a:stretch/>
        </p:blipFill>
        <p:spPr>
          <a:xfrm>
            <a:off x="4108320" y="5703840"/>
            <a:ext cx="1332000" cy="5493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457200" indent="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914400" algn="ctr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Fourth Outline Level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1af00"/>
              </a:buClr>
              <a:buFont typeface="Arial"/>
              <a:buChar char="o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55320" y="2493720"/>
            <a:ext cx="651852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2b519a"/>
                </a:solidFill>
                <a:latin typeface="Arial"/>
              </a:rPr>
              <a:t>ISSGC 05</a:t>
            </a:r>
            <a:br>
              <a:rPr sz="3200"/>
            </a:br>
            <a:r>
              <a:rPr b="1" lang="en-US" sz="3200" spc="-1" strike="noStrike">
                <a:solidFill>
                  <a:srgbClr val="2b519a"/>
                </a:solidFill>
                <a:latin typeface="Arial"/>
              </a:rPr>
              <a:t>Web Service Tools </a:t>
            </a:r>
            <a:endParaRPr b="1" lang="en-US" sz="32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2160720" y="3676680"/>
            <a:ext cx="6983280" cy="22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NeSC Training Team</a:t>
            </a: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ent operation mod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JAX-RPC allows two modes of operation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Synchronous – two-way RPC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This involves blocking the client until it receives a respons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Is similar to a traditional java method call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Even if no actual return value – Public void request (…)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Have wait for a success/exception respons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One-way RPC - Asynchronou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No client blocking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Service performs a operation without replying.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Not analogous to traditional method calls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Cannot throw an exception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7B11F6-1F0C-43F7-9681-F336DEA7D00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2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2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rface method defini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240" y="1177920"/>
            <a:ext cx="874548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A java web service end point interface must obey the following rules: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The interface must extend </a:t>
            </a:r>
            <a:r>
              <a:rPr b="1" lang="en-GB" sz="2000" spc="-1" strike="noStrike">
                <a:solidFill>
                  <a:srgbClr val="2b519a"/>
                </a:solidFill>
                <a:latin typeface="Courier New"/>
              </a:rPr>
              <a:t>java.rmi.remot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Service endpoint interfaces may be extensions of other interfaces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Interface methods must declare that it throws </a:t>
            </a:r>
            <a:r>
              <a:rPr b="1" lang="en-GB" sz="2000" spc="-1" strike="noStrike">
                <a:solidFill>
                  <a:srgbClr val="2b519a"/>
                </a:solidFill>
                <a:latin typeface="Courier New"/>
              </a:rPr>
              <a:t>java.rmi.RemoteException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Service dependent exceptions can be thrown if they are checked exceptions derived from </a:t>
            </a:r>
            <a:r>
              <a:rPr b="1" lang="en-GB" sz="2000" spc="-1" strike="noStrike">
                <a:solidFill>
                  <a:srgbClr val="2b519a"/>
                </a:solidFill>
                <a:latin typeface="Courier New"/>
              </a:rPr>
              <a:t>java.lang.Exception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B63698-1F39-49D1-850D-D540EADBA01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yp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56960" y="931680"/>
            <a:ext cx="8986680" cy="54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Types That can be in the interfac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Java primitives (eg. 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bool, int, float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, etc)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Primitive wrappers (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Boolean, Integer, Float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, etc)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Standard java classes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java.lang.String,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java.util.Calendar, 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java.util.Date,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java.math.BigDecimal, 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java.math.BigInteger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Holder classe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“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Value types”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Class has a public no-argument constructor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May be extended from any other class, may have static and instance methods, may implement any interface (except </a:t>
            </a:r>
            <a:r>
              <a:rPr b="0" lang="en-GB" sz="1800" spc="-1" strike="noStrike">
                <a:solidFill>
                  <a:srgbClr val="00338f"/>
                </a:solidFill>
                <a:latin typeface="Courier New"/>
              </a:rPr>
              <a:t>java.rmi.Remote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 and any derived)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May have static fields, instance fields that are public, protected, package private or private but these must be supported types.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Arrays (where all elements are supported types)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21920" y="5948280"/>
            <a:ext cx="462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bject by reference is not supported</a:t>
            </a:r>
            <a:endParaRPr b="0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7E5FCC-7545-4177-AAF1-5E667BA3F7F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de-) serialis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1789200"/>
            <a:ext cx="91440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451"/>
              </a:spcAft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Java web services (also C based ones) allow a developer to treat service classes as if they are local  - i.e. stubs are created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Aft>
                <a:spcPts val="451"/>
              </a:spcAft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All web services messages are XML (SOAP)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Aft>
                <a:spcPts val="451"/>
              </a:spcAft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This means that objects sent across web services must be translated to XML and back – (de-)serialisation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Aft>
                <a:spcPts val="451"/>
              </a:spcAft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What is serialised is the “accessible state”;  either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Aft>
                <a:spcPts val="451"/>
              </a:spcAft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directly accessible field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Aft>
                <a:spcPts val="451"/>
              </a:spcAft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Fields with mutator/accessor method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Aft>
                <a:spcPts val="451"/>
              </a:spcAft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The values returned by service methods are in fact local classes created by JAX-RPC from the XML serialisation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Aft>
                <a:spcPts val="451"/>
              </a:spcAft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Classes seen by either side may not be identical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Aft>
                <a:spcPts val="451"/>
              </a:spcAft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So avoid comparisons using </a:t>
            </a:r>
            <a:r>
              <a:rPr b="0" lang="en-GB" sz="1800" spc="-1" strike="noStrike">
                <a:solidFill>
                  <a:srgbClr val="00338f"/>
                </a:solidFill>
                <a:latin typeface="Courier New"/>
              </a:rPr>
              <a:t>==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 ; </a:t>
            </a:r>
            <a:r>
              <a:rPr b="0" lang="en-GB" sz="1800" spc="-1" strike="noStrike">
                <a:solidFill>
                  <a:srgbClr val="00338f"/>
                </a:solidFill>
                <a:latin typeface="Courier New"/>
              </a:rPr>
              <a:t>equals()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 should be used instead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Aft>
                <a:spcPts val="451"/>
              </a:spcAft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If you want to pass an un-supported java class you have to create your own serialiser / de-serialiser to translate to and from XML.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Aft>
                <a:spcPts val="451"/>
              </a:spcAft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This not a trivial task as there is no JAX-RPC framework.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47800" y="1008000"/>
            <a:ext cx="779400" cy="631800"/>
          </a:xfrm>
          <a:prstGeom prst="rect">
            <a:avLst/>
          </a:prstGeom>
          <a:solidFill>
            <a:srgbClr val="ccecff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86240" y="993600"/>
            <a:ext cx="779400" cy="632160"/>
          </a:xfrm>
          <a:prstGeom prst="rect">
            <a:avLst/>
          </a:prstGeom>
          <a:solidFill>
            <a:srgbClr val="ccecff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110280" y="952560"/>
            <a:ext cx="779400" cy="631800"/>
          </a:xfrm>
          <a:prstGeom prst="rect">
            <a:avLst/>
          </a:prstGeom>
          <a:solidFill>
            <a:srgbClr val="ccecff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046880" y="1135080"/>
            <a:ext cx="43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519a"/>
                </a:solidFill>
                <a:latin typeface="Arial"/>
              </a:rPr>
              <a:t>Java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684240" y="1155600"/>
            <a:ext cx="41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519a"/>
                </a:solidFill>
                <a:latin typeface="Arial"/>
              </a:rPr>
              <a:t>XML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214320" y="1077840"/>
            <a:ext cx="43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519a"/>
                </a:solidFill>
                <a:latin typeface="Arial"/>
              </a:rPr>
              <a:t>Java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139480" y="974880"/>
            <a:ext cx="780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519a"/>
                </a:solidFill>
                <a:latin typeface="Arial"/>
              </a:rPr>
              <a:t>Serialis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11320" y="1398600"/>
            <a:ext cx="1107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519a"/>
                </a:solidFill>
                <a:latin typeface="Arial"/>
              </a:rPr>
              <a:t>De-Serialis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3811680"/>
            <a:ext cx="9144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643040" y="1228680"/>
            <a:ext cx="1855800" cy="0"/>
          </a:xfrm>
          <a:prstGeom prst="line">
            <a:avLst/>
          </a:prstGeom>
          <a:ln w="9360">
            <a:solidFill>
              <a:srgbClr val="2b519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264200" y="1228680"/>
            <a:ext cx="1855440" cy="0"/>
          </a:xfrm>
          <a:prstGeom prst="line">
            <a:avLst/>
          </a:prstGeom>
          <a:ln w="9360">
            <a:solidFill>
              <a:srgbClr val="2b519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1642680" y="1393920"/>
            <a:ext cx="1855800" cy="0"/>
          </a:xfrm>
          <a:prstGeom prst="line">
            <a:avLst/>
          </a:prstGeom>
          <a:ln w="9360">
            <a:solidFill>
              <a:srgbClr val="2b519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4286160" y="1393920"/>
            <a:ext cx="1835280" cy="0"/>
          </a:xfrm>
          <a:prstGeom prst="line">
            <a:avLst/>
          </a:prstGeom>
          <a:ln w="9360">
            <a:solidFill>
              <a:srgbClr val="2b519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711320" y="968400"/>
            <a:ext cx="1107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519a"/>
                </a:solidFill>
                <a:latin typeface="Arial"/>
              </a:rPr>
              <a:t>De-Serialis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893840" y="1415880"/>
            <a:ext cx="780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519a"/>
                </a:solidFill>
                <a:latin typeface="Arial"/>
              </a:rPr>
              <a:t>Serialis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6D30D0-B2EB-49AE-A3E5-8FEF2FD384C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2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Wscompil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602320" y="1050480"/>
            <a:ext cx="313056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Model” –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Partially compiled interfac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Usage Modes –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Interface 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  Model, WSDL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WSDL 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  Model, Interfac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Model 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  Interface, Interfac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893960" y="2265480"/>
            <a:ext cx="1256760" cy="337320"/>
          </a:xfrm>
          <a:prstGeom prst="rect">
            <a:avLst/>
          </a:prstGeom>
          <a:solidFill>
            <a:srgbClr val="ccec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Verdana"/>
              </a:rPr>
              <a:t>wscompil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025520" y="1263600"/>
            <a:ext cx="73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WSDL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822840" y="1158840"/>
            <a:ext cx="1143000" cy="533520"/>
          </a:xfrm>
          <a:prstGeom prst="verticalScroll">
            <a:avLst>
              <a:gd name="adj" fmla="val 125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152440" y="1063800"/>
            <a:ext cx="1119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JAVA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Model fil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960560" y="958680"/>
            <a:ext cx="1506600" cy="754200"/>
          </a:xfrm>
          <a:prstGeom prst="verticalScroll">
            <a:avLst>
              <a:gd name="adj" fmla="val 125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86000" y="1063800"/>
            <a:ext cx="1024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JAVA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interfac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87280" y="958680"/>
            <a:ext cx="1408320" cy="765360"/>
          </a:xfrm>
          <a:prstGeom prst="verticalScroll">
            <a:avLst>
              <a:gd name="adj" fmla="val 125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552680" y="1730520"/>
            <a:ext cx="276120" cy="539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99880" y="2421000"/>
            <a:ext cx="1166760" cy="631440"/>
          </a:xfrm>
          <a:prstGeom prst="rect">
            <a:avLst/>
          </a:prstGeom>
          <a:noFill/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Client sid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Stub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999960" y="2519280"/>
            <a:ext cx="1299240" cy="631440"/>
          </a:xfrm>
          <a:prstGeom prst="rect">
            <a:avLst/>
          </a:prstGeom>
          <a:noFill/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Service sid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Tie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596960" y="1444680"/>
            <a:ext cx="385920" cy="8143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2487600" y="1741320"/>
            <a:ext cx="1440" cy="508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2687400" y="1743120"/>
            <a:ext cx="11160" cy="550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3160440" y="1446120"/>
            <a:ext cx="716040" cy="8143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3228840" y="1674720"/>
            <a:ext cx="658800" cy="749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1496880" y="2522520"/>
            <a:ext cx="331920" cy="176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240000" y="2544840"/>
            <a:ext cx="682560" cy="220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13A3E7-1E44-4899-A7F9-0165C414E48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wscompile – usage pattern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-339120" y="1171440"/>
            <a:ext cx="272916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Local 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Client and Server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same organisation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661200" y="113976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interfac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495600" y="1157400"/>
            <a:ext cx="1408320" cy="312480"/>
          </a:xfrm>
          <a:prstGeom prst="verticalScroll">
            <a:avLst>
              <a:gd name="adj" fmla="val 125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592800" y="1758960"/>
            <a:ext cx="1256760" cy="337320"/>
          </a:xfrm>
          <a:prstGeom prst="rect">
            <a:avLst/>
          </a:prstGeom>
          <a:solidFill>
            <a:srgbClr val="ccec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Verdana"/>
              </a:rPr>
              <a:t>wscompil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243840" y="1779480"/>
            <a:ext cx="83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Model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202440" y="1774800"/>
            <a:ext cx="834840" cy="345960"/>
          </a:xfrm>
          <a:prstGeom prst="verticalScroll">
            <a:avLst>
              <a:gd name="adj" fmla="val 125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668320" y="1793880"/>
            <a:ext cx="557280" cy="337320"/>
          </a:xfrm>
          <a:prstGeom prst="rect">
            <a:avLst/>
          </a:prstGeom>
          <a:noFill/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Tie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412400" y="1758960"/>
            <a:ext cx="1256760" cy="337320"/>
          </a:xfrm>
          <a:prstGeom prst="rect">
            <a:avLst/>
          </a:prstGeom>
          <a:solidFill>
            <a:srgbClr val="ccec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Verdana"/>
              </a:rPr>
              <a:t>wscompil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4161960" y="1488960"/>
            <a:ext cx="180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996800" y="1892160"/>
            <a:ext cx="1212840" cy="6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024680" y="1897200"/>
            <a:ext cx="28728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3235320" y="1897200"/>
            <a:ext cx="28728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-339120" y="3186000"/>
            <a:ext cx="29959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Remote  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Client and Server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different organisation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744720" y="2955960"/>
            <a:ext cx="73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WSDL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75160" y="2962440"/>
            <a:ext cx="1407960" cy="312480"/>
          </a:xfrm>
          <a:prstGeom prst="verticalScroll">
            <a:avLst>
              <a:gd name="adj" fmla="val 125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72000" y="3564000"/>
            <a:ext cx="1256760" cy="337320"/>
          </a:xfrm>
          <a:prstGeom prst="rect">
            <a:avLst/>
          </a:prstGeom>
          <a:solidFill>
            <a:srgbClr val="ccec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Verdana"/>
              </a:rPr>
              <a:t>wscompil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49400" y="358452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WSDL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380280" y="3579840"/>
            <a:ext cx="834840" cy="345960"/>
          </a:xfrm>
          <a:prstGeom prst="verticalScroll">
            <a:avLst>
              <a:gd name="adj" fmla="val 125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747880" y="3598920"/>
            <a:ext cx="557280" cy="337320"/>
          </a:xfrm>
          <a:prstGeom prst="rect">
            <a:avLst/>
          </a:prstGeom>
          <a:noFill/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Tie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589880" y="3564000"/>
            <a:ext cx="1256760" cy="337320"/>
          </a:xfrm>
          <a:prstGeom prst="rect">
            <a:avLst/>
          </a:prstGeom>
          <a:solidFill>
            <a:srgbClr val="ccec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Verdana"/>
              </a:rPr>
              <a:t>wscompil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4241880" y="3294000"/>
            <a:ext cx="144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202520" y="3701880"/>
            <a:ext cx="28728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3314880" y="3701880"/>
            <a:ext cx="28728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989600" y="3129120"/>
            <a:ext cx="1419120" cy="585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817960" y="269388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publish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-340200" y="5014800"/>
            <a:ext cx="278244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Remote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Starting from Java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Rather than WSD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715200" y="4784760"/>
            <a:ext cx="104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Interfac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543480" y="4791240"/>
            <a:ext cx="1407960" cy="312480"/>
          </a:xfrm>
          <a:prstGeom prst="verticalScroll">
            <a:avLst>
              <a:gd name="adj" fmla="val 125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640320" y="5392800"/>
            <a:ext cx="1256760" cy="337320"/>
          </a:xfrm>
          <a:prstGeom prst="rect">
            <a:avLst/>
          </a:prstGeom>
          <a:solidFill>
            <a:srgbClr val="ccec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Verdana"/>
              </a:rPr>
              <a:t>wscompil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438240" y="541332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WSDL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369120" y="5408640"/>
            <a:ext cx="834840" cy="345960"/>
          </a:xfrm>
          <a:prstGeom prst="verticalScroll">
            <a:avLst>
              <a:gd name="adj" fmla="val 125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716200" y="5427720"/>
            <a:ext cx="557280" cy="337320"/>
          </a:xfrm>
          <a:prstGeom prst="rect">
            <a:avLst/>
          </a:prstGeom>
          <a:noFill/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Tie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579080" y="5392800"/>
            <a:ext cx="1256760" cy="337320"/>
          </a:xfrm>
          <a:prstGeom prst="rect">
            <a:avLst/>
          </a:prstGeom>
          <a:solidFill>
            <a:srgbClr val="ccec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Verdana"/>
              </a:rPr>
              <a:t>wscompil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4210200" y="5122800"/>
            <a:ext cx="144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191360" y="5530680"/>
            <a:ext cx="28728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3282840" y="5530680"/>
            <a:ext cx="28728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991040" y="5530680"/>
            <a:ext cx="28728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809840" y="1100160"/>
            <a:ext cx="712440" cy="337320"/>
          </a:xfrm>
          <a:prstGeom prst="rect">
            <a:avLst/>
          </a:prstGeom>
          <a:noFill/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Stub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 flipV="1">
            <a:off x="8128080" y="1488960"/>
            <a:ext cx="144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809840" y="2873520"/>
            <a:ext cx="712440" cy="337320"/>
          </a:xfrm>
          <a:prstGeom prst="rect">
            <a:avLst/>
          </a:prstGeom>
          <a:noFill/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Stub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H="1" flipV="1">
            <a:off x="8305920" y="3262320"/>
            <a:ext cx="144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249880" y="5408640"/>
            <a:ext cx="834840" cy="345960"/>
          </a:xfrm>
          <a:prstGeom prst="verticalScroll">
            <a:avLst>
              <a:gd name="adj" fmla="val 125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274720" y="541332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WSDL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060960" y="5530680"/>
            <a:ext cx="35424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809840" y="4726080"/>
            <a:ext cx="712440" cy="337320"/>
          </a:xfrm>
          <a:prstGeom prst="rect">
            <a:avLst/>
          </a:prstGeom>
          <a:noFill/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Stub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 flipV="1">
            <a:off x="8128080" y="5114880"/>
            <a:ext cx="144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6246720" y="3038400"/>
            <a:ext cx="0" cy="2789280"/>
          </a:xfrm>
          <a:prstGeom prst="line">
            <a:avLst/>
          </a:prstGeom>
          <a:ln w="25560">
            <a:solidFill>
              <a:srgbClr val="325fa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7B5939-0354-47BB-8BF7-8239A627606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me Detai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Goal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To Understand the context and basic workings of the JAVA Web Services Development Pack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tructur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General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JWSDP (JAX-RPC)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ome Detail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156120" y="4262400"/>
            <a:ext cx="5987880" cy="328680"/>
          </a:xfrm>
          <a:prstGeom prst="leftArrow">
            <a:avLst>
              <a:gd name="adj1" fmla="val 50000"/>
              <a:gd name="adj2" fmla="val 455449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7E4695-4100-4635-8F3A-E5F1D97FD9A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taining  the WSD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WSDL can be downloaded from a UDDI registry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If the service uses </a:t>
            </a:r>
            <a:r>
              <a:rPr b="1" lang="en-GB" sz="2000" spc="-1" strike="noStrike">
                <a:solidFill>
                  <a:srgbClr val="2b519a"/>
                </a:solidFill>
                <a:latin typeface="Courier New"/>
              </a:rPr>
              <a:t>JAXRPCServlet</a:t>
            </a: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 you can attach </a:t>
            </a:r>
            <a:r>
              <a:rPr b="1" lang="en-GB" sz="2000" spc="-1" strike="noStrike">
                <a:solidFill>
                  <a:srgbClr val="2b519a"/>
                </a:solidFill>
                <a:latin typeface="Courier New"/>
              </a:rPr>
              <a:t>?WSDL</a:t>
            </a: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 (or </a:t>
            </a:r>
            <a:r>
              <a:rPr b="1" lang="en-GB" sz="2000" spc="-1" strike="noStrike">
                <a:solidFill>
                  <a:srgbClr val="2b519a"/>
                </a:solidFill>
                <a:latin typeface="Courier New"/>
              </a:rPr>
              <a:t>?model</a:t>
            </a: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) to the URL request to get the WSDL (or model file).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E.g. </a:t>
            </a:r>
            <a:r>
              <a:rPr b="0" lang="en-GB" sz="2000" spc="-1" strike="noStrike">
                <a:solidFill>
                  <a:srgbClr val="00338f"/>
                </a:solidFill>
                <a:latin typeface="Courier New"/>
              </a:rPr>
              <a:t>http://localhost:8080/Service/Servicename?WSDL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639534-53FD-441D-B772-231A0CF3440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wscompi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08400" y="915840"/>
            <a:ext cx="7845840" cy="699840"/>
          </a:xfrm>
          <a:prstGeom prst="rect">
            <a:avLst/>
          </a:prstGeom>
          <a:solidFill>
            <a:srgbClr val="ccecff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0000"/>
                </a:solidFill>
                <a:latin typeface="Verdana"/>
              </a:rPr>
              <a:t>wscompile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2b0000"/>
                </a:solidFill>
                <a:latin typeface="Verdana"/>
              </a:rPr>
              <a:t>–</a:t>
            </a:r>
            <a:r>
              <a:rPr b="0" lang="en-GB" sz="1800" spc="-1" strike="noStrike">
                <a:solidFill>
                  <a:srgbClr val="2b0000"/>
                </a:solidFill>
                <a:latin typeface="Verdana"/>
              </a:rPr>
              <a:t>gen:client  –d </a:t>
            </a:r>
            <a:r>
              <a:rPr b="0" i="1" lang="en-GB" sz="1800" spc="-1" strike="noStrike">
                <a:solidFill>
                  <a:srgbClr val="2b0000"/>
                </a:solidFill>
                <a:latin typeface="Verdana"/>
              </a:rPr>
              <a:t>outputdir</a:t>
            </a:r>
            <a:r>
              <a:rPr b="0" lang="en-GB" sz="1800" spc="-1" strike="noStrike">
                <a:solidFill>
                  <a:srgbClr val="2b0000"/>
                </a:solidFill>
                <a:latin typeface="Verdana"/>
              </a:rPr>
              <a:t> –classpath </a:t>
            </a:r>
            <a:r>
              <a:rPr b="0" i="1" lang="en-GB" sz="1800" spc="-1" strike="noStrike">
                <a:solidFill>
                  <a:srgbClr val="2b0000"/>
                </a:solidFill>
                <a:latin typeface="Verdana"/>
              </a:rPr>
              <a:t>dir1</a:t>
            </a:r>
            <a:r>
              <a:rPr b="0" lang="en-GB" sz="1800" spc="-1" strike="noStrike">
                <a:solidFill>
                  <a:srgbClr val="2b0000"/>
                </a:solidFill>
                <a:latin typeface="Verdana"/>
              </a:rPr>
              <a:t> –keep –s </a:t>
            </a:r>
            <a:r>
              <a:rPr b="0" i="1" lang="en-GB" sz="1800" spc="-1" strike="noStrike">
                <a:solidFill>
                  <a:srgbClr val="2b0000"/>
                </a:solidFill>
                <a:latin typeface="Verdana"/>
              </a:rPr>
              <a:t>dir2</a:t>
            </a:r>
            <a:r>
              <a:rPr b="0" lang="en-GB" sz="1800" spc="-1" strike="noStrike">
                <a:solidFill>
                  <a:srgbClr val="2b0000"/>
                </a:solidFill>
                <a:latin typeface="Verdana"/>
              </a:rPr>
              <a:t> </a:t>
            </a:r>
            <a:r>
              <a:rPr b="0" i="1" lang="en-GB" sz="1800" spc="-1" strike="noStrike">
                <a:solidFill>
                  <a:srgbClr val="2b0000"/>
                </a:solidFill>
                <a:latin typeface="Verdana"/>
              </a:rPr>
              <a:t>config.xml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086120" y="4782960"/>
            <a:ext cx="6847560" cy="1031400"/>
          </a:xfrm>
          <a:prstGeom prst="rect">
            <a:avLst/>
          </a:prstGeom>
          <a:solidFill>
            <a:srgbClr val="ccecff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0000"/>
                </a:solidFill>
                <a:latin typeface="Verdana"/>
              </a:rPr>
              <a:t>wscompile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0000"/>
                </a:solidFill>
                <a:latin typeface="Verdana"/>
              </a:rPr>
              <a:t>           –</a:t>
            </a:r>
            <a:r>
              <a:rPr b="0" lang="en-GB" sz="1800" spc="-1" strike="noStrike">
                <a:solidFill>
                  <a:srgbClr val="2b0000"/>
                </a:solidFill>
                <a:latin typeface="Verdana"/>
              </a:rPr>
              <a:t>gen:server –d </a:t>
            </a:r>
            <a:r>
              <a:rPr b="0" i="1" lang="en-GB" sz="1800" spc="-1" strike="noStrike">
                <a:solidFill>
                  <a:srgbClr val="2b0000"/>
                </a:solidFill>
                <a:latin typeface="Verdana"/>
              </a:rPr>
              <a:t>outputdir</a:t>
            </a:r>
            <a:r>
              <a:rPr b="0" lang="en-GB" sz="1800" spc="-1" strike="noStrike">
                <a:solidFill>
                  <a:srgbClr val="2b0000"/>
                </a:solidFill>
                <a:latin typeface="Verdana"/>
              </a:rPr>
              <a:t> –classpath </a:t>
            </a:r>
            <a:r>
              <a:rPr b="0" i="1" lang="en-GB" sz="1800" spc="-1" strike="noStrike">
                <a:solidFill>
                  <a:srgbClr val="2b0000"/>
                </a:solidFill>
                <a:latin typeface="Verdana"/>
              </a:rPr>
              <a:t>dir1</a:t>
            </a:r>
            <a:r>
              <a:rPr b="0" lang="en-GB" sz="1800" spc="-1" strike="noStrike">
                <a:solidFill>
                  <a:srgbClr val="2b0000"/>
                </a:solidFill>
                <a:latin typeface="Verdana"/>
              </a:rPr>
              <a:t> –keep –s </a:t>
            </a:r>
            <a:r>
              <a:rPr b="0" i="1" lang="en-GB" sz="1800" spc="-1" strike="noStrike">
                <a:solidFill>
                  <a:srgbClr val="2b0000"/>
                </a:solidFill>
                <a:latin typeface="Verdana"/>
              </a:rPr>
              <a:t>dir2</a:t>
            </a:r>
            <a:r>
              <a:rPr b="0" lang="en-GB" sz="1800" spc="-1" strike="noStrike">
                <a:solidFill>
                  <a:srgbClr val="2b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0000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2b0000"/>
                </a:solidFill>
                <a:latin typeface="Verdana"/>
              </a:rPr>
              <a:t>- model </a:t>
            </a:r>
            <a:r>
              <a:rPr b="0" i="1" lang="en-GB" sz="1800" spc="-1" strike="noStrike">
                <a:solidFill>
                  <a:srgbClr val="2b0000"/>
                </a:solidFill>
                <a:latin typeface="Verdana"/>
              </a:rPr>
              <a:t>mfile.z </a:t>
            </a:r>
            <a:r>
              <a:rPr b="0" lang="en-GB" sz="1800" spc="-1" strike="noStrike">
                <a:solidFill>
                  <a:srgbClr val="2b0000"/>
                </a:solidFill>
                <a:latin typeface="Verdana"/>
              </a:rPr>
              <a:t>                                                         </a:t>
            </a:r>
            <a:r>
              <a:rPr b="0" i="1" lang="en-GB" sz="1800" spc="-1" strike="noStrike">
                <a:solidFill>
                  <a:srgbClr val="2b0000"/>
                </a:solidFill>
                <a:latin typeface="Verdana"/>
              </a:rPr>
              <a:t>config.xml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46960" y="1920960"/>
            <a:ext cx="17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25faf"/>
                </a:solidFill>
                <a:uFillTx/>
                <a:latin typeface="Verdana"/>
              </a:rPr>
              <a:t>Client-side us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1658880" y="1829880"/>
            <a:ext cx="0" cy="220680"/>
          </a:xfrm>
          <a:prstGeom prst="line">
            <a:avLst/>
          </a:prstGeom>
          <a:ln w="25560">
            <a:solidFill>
              <a:srgbClr val="325fa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rot="16200000">
            <a:off x="1581120" y="1176120"/>
            <a:ext cx="164880" cy="1133640"/>
          </a:xfrm>
          <a:custGeom>
            <a:avLst/>
            <a:gdLst>
              <a:gd name="textAreaLeft" fmla="*/ 105480 w 164880"/>
              <a:gd name="textAreaRight" fmla="*/ 165240 w 164880"/>
              <a:gd name="textAreaTop" fmla="*/ 29520 h 1133640"/>
              <a:gd name="textAreaBottom" fmla="*/ 1104120 h 113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325fa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rot="16200000">
            <a:off x="3213720" y="1065600"/>
            <a:ext cx="128520" cy="1365120"/>
          </a:xfrm>
          <a:custGeom>
            <a:avLst/>
            <a:gdLst>
              <a:gd name="textAreaLeft" fmla="*/ 82080 w 128520"/>
              <a:gd name="textAreaRight" fmla="*/ 128880 w 128520"/>
              <a:gd name="textAreaTop" fmla="*/ 35280 h 1365120"/>
              <a:gd name="textAreaBottom" fmla="*/ 1329840 h 136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325fa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3268800" y="1830240"/>
            <a:ext cx="0" cy="1038240"/>
          </a:xfrm>
          <a:prstGeom prst="line">
            <a:avLst/>
          </a:prstGeom>
          <a:ln w="25560">
            <a:solidFill>
              <a:srgbClr val="325faf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433960" y="2871720"/>
            <a:ext cx="159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Where to pu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generated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artefact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340520" y="2859120"/>
            <a:ext cx="140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5faf"/>
                </a:solidFill>
                <a:latin typeface="Verdana"/>
              </a:rPr>
              <a:t>To overrid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5faf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5faf"/>
                </a:solidFill>
                <a:latin typeface="Verdana"/>
              </a:rPr>
              <a:t>classpath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 flipV="1">
            <a:off x="4903920" y="1805040"/>
            <a:ext cx="25200" cy="1149120"/>
          </a:xfrm>
          <a:prstGeom prst="line">
            <a:avLst/>
          </a:prstGeom>
          <a:ln w="25560">
            <a:solidFill>
              <a:srgbClr val="325fa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rot="16200000">
            <a:off x="4785480" y="983160"/>
            <a:ext cx="230040" cy="1584360"/>
          </a:xfrm>
          <a:custGeom>
            <a:avLst/>
            <a:gdLst>
              <a:gd name="textAreaLeft" fmla="*/ 146880 w 230040"/>
              <a:gd name="textAreaRight" fmla="*/ 230400 w 23004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325fa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rot="16200000">
            <a:off x="6546960" y="905040"/>
            <a:ext cx="155520" cy="1666800"/>
          </a:xfrm>
          <a:custGeom>
            <a:avLst/>
            <a:gdLst>
              <a:gd name="textAreaLeft" fmla="*/ 99360 w 155520"/>
              <a:gd name="textAreaRight" fmla="*/ 155520 w 155520"/>
              <a:gd name="textAreaTop" fmla="*/ 43200 h 1666800"/>
              <a:gd name="textAreaBottom" fmla="*/ 1623600 h 1666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325fa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998320" y="2176560"/>
            <a:ext cx="1477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To retain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Java sour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For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generated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Output; and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where to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put i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6608880" y="1830240"/>
            <a:ext cx="0" cy="465120"/>
          </a:xfrm>
          <a:prstGeom prst="line">
            <a:avLst/>
          </a:prstGeom>
          <a:ln w="25560">
            <a:solidFill>
              <a:srgbClr val="325faf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rot="16200000">
            <a:off x="8089920" y="1166760"/>
            <a:ext cx="166680" cy="1153800"/>
          </a:xfrm>
          <a:custGeom>
            <a:avLst/>
            <a:gdLst>
              <a:gd name="textAreaLeft" fmla="*/ 106560 w 166680"/>
              <a:gd name="textAreaRight" fmla="*/ 166680 w 166680"/>
              <a:gd name="textAreaTop" fmla="*/ 29880 h 1153800"/>
              <a:gd name="textAreaBottom" fmla="*/ 1123920 h 1153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325fa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8182080" y="1830240"/>
            <a:ext cx="0" cy="465120"/>
          </a:xfrm>
          <a:prstGeom prst="line">
            <a:avLst/>
          </a:prstGeom>
          <a:ln w="25560">
            <a:solidFill>
              <a:srgbClr val="325faf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640280" y="2176560"/>
            <a:ext cx="1238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Definition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of the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Service –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Mode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or WSD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Interfa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45760" y="6221520"/>
            <a:ext cx="72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5faf"/>
                </a:solidFill>
                <a:latin typeface="Verdana"/>
              </a:rPr>
              <a:t>To generate a model file and where to put it – for use by wsdeploy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rot="16200000">
            <a:off x="1944720" y="5025600"/>
            <a:ext cx="166680" cy="1811160"/>
          </a:xfrm>
          <a:custGeom>
            <a:avLst/>
            <a:gdLst>
              <a:gd name="textAreaLeft" fmla="*/ 106560 w 166680"/>
              <a:gd name="textAreaRight" fmla="*/ 166680 w 166680"/>
              <a:gd name="textAreaTop" fmla="*/ 47160 h 1811160"/>
              <a:gd name="textAreaBottom" fmla="*/ 1764000 h 1811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325fa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2023920" y="5994360"/>
            <a:ext cx="0" cy="308160"/>
          </a:xfrm>
          <a:prstGeom prst="line">
            <a:avLst/>
          </a:prstGeom>
          <a:ln w="25560">
            <a:solidFill>
              <a:srgbClr val="325faf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249120" y="4068720"/>
            <a:ext cx="18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25faf"/>
                </a:solidFill>
                <a:uFillTx/>
                <a:latin typeface="Verdana"/>
              </a:rPr>
              <a:t>server-side us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658880" y="4368960"/>
            <a:ext cx="0" cy="220680"/>
          </a:xfrm>
          <a:prstGeom prst="line">
            <a:avLst/>
          </a:prstGeom>
          <a:ln w="25560">
            <a:solidFill>
              <a:srgbClr val="325fa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 rot="5400000">
            <a:off x="1581120" y="4109760"/>
            <a:ext cx="164880" cy="1133640"/>
          </a:xfrm>
          <a:custGeom>
            <a:avLst/>
            <a:gdLst>
              <a:gd name="textAreaLeft" fmla="*/ 105480 w 164880"/>
              <a:gd name="textAreaRight" fmla="*/ 165240 w 164880"/>
              <a:gd name="textAreaTop" fmla="*/ 29520 h 1133640"/>
              <a:gd name="textAreaBottom" fmla="*/ 1104120 h 113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325fa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V="1" rot="5400000">
            <a:off x="3213720" y="3987360"/>
            <a:ext cx="128520" cy="1365120"/>
          </a:xfrm>
          <a:custGeom>
            <a:avLst/>
            <a:gdLst>
              <a:gd name="textAreaLeft" fmla="*/ 82080 w 128520"/>
              <a:gd name="textAreaRight" fmla="*/ 128880 w 128520"/>
              <a:gd name="textAreaTop" fmla="*/ 35280 h 1365120"/>
              <a:gd name="textAreaBottom" fmla="*/ 1329840 h 136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325fa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268800" y="3708360"/>
            <a:ext cx="0" cy="881280"/>
          </a:xfrm>
          <a:prstGeom prst="line">
            <a:avLst/>
          </a:prstGeom>
          <a:ln w="25560">
            <a:solidFill>
              <a:srgbClr val="325faf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4903920" y="3795840"/>
            <a:ext cx="17280" cy="819000"/>
          </a:xfrm>
          <a:prstGeom prst="line">
            <a:avLst/>
          </a:prstGeom>
          <a:ln w="25560">
            <a:solidFill>
              <a:srgbClr val="325fa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 rot="5400000">
            <a:off x="4785480" y="3850920"/>
            <a:ext cx="230040" cy="1584360"/>
          </a:xfrm>
          <a:custGeom>
            <a:avLst/>
            <a:gdLst>
              <a:gd name="textAreaLeft" fmla="*/ 146880 w 230040"/>
              <a:gd name="textAreaRight" fmla="*/ 230400 w 23004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325fa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V="1" rot="5400000">
            <a:off x="6546960" y="3848040"/>
            <a:ext cx="155520" cy="1666800"/>
          </a:xfrm>
          <a:custGeom>
            <a:avLst/>
            <a:gdLst>
              <a:gd name="textAreaLeft" fmla="*/ 99360 w 155520"/>
              <a:gd name="textAreaRight" fmla="*/ 155520 w 155520"/>
              <a:gd name="textAreaTop" fmla="*/ 43200 h 1666800"/>
              <a:gd name="textAreaBottom" fmla="*/ 1623600 h 1666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325fa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608880" y="4124160"/>
            <a:ext cx="0" cy="465480"/>
          </a:xfrm>
          <a:prstGeom prst="line">
            <a:avLst/>
          </a:prstGeom>
          <a:ln w="25560">
            <a:solidFill>
              <a:srgbClr val="325faf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V="1" rot="5400000">
            <a:off x="8089920" y="4097880"/>
            <a:ext cx="166680" cy="1153800"/>
          </a:xfrm>
          <a:custGeom>
            <a:avLst/>
            <a:gdLst>
              <a:gd name="textAreaLeft" fmla="*/ 106560 w 166680"/>
              <a:gd name="textAreaRight" fmla="*/ 166680 w 166680"/>
              <a:gd name="textAreaTop" fmla="*/ 29880 h 1153800"/>
              <a:gd name="textAreaBottom" fmla="*/ 1123920 h 1153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325fa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8182080" y="4123800"/>
            <a:ext cx="0" cy="465480"/>
          </a:xfrm>
          <a:prstGeom prst="line">
            <a:avLst/>
          </a:prstGeom>
          <a:ln w="25560">
            <a:solidFill>
              <a:srgbClr val="325faf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36240" y="232740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artefact=stub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71160" y="3753000"/>
            <a:ext cx="15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artefact=tie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 flipV="1">
            <a:off x="1422360" y="2662200"/>
            <a:ext cx="998640" cy="946080"/>
          </a:xfrm>
          <a:prstGeom prst="line">
            <a:avLst/>
          </a:prstGeom>
          <a:ln w="25560">
            <a:solidFill>
              <a:srgbClr val="325fa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1600200" y="3656160"/>
            <a:ext cx="835200" cy="169560"/>
          </a:xfrm>
          <a:prstGeom prst="line">
            <a:avLst/>
          </a:prstGeom>
          <a:ln w="25560">
            <a:solidFill>
              <a:srgbClr val="325fa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065186-DC16-41EA-B877-977F019E21B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figuration File – from interface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55160" y="1243080"/>
            <a:ext cx="4575240" cy="299880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&lt;?xml version=“1.0” encoding=“UTF-8” ?&gt;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&lt;configuration 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            </a:t>
            </a: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xmlns=“http://java.sun.com/.../config”&gt;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service</a:t>
            </a: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 name=“……..”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          </a:t>
            </a: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targetNamespace=“ …// …/…/wsdl”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          </a:t>
            </a: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typeNamespace=“…// …/…/types”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          </a:t>
            </a: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packageName=“…”&gt;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     </a:t>
            </a: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&lt;interface name=“…”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servantName=“…”/&gt;&lt;/&gt;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&lt;/configuration&gt;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87560" y="4268880"/>
            <a:ext cx="7546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service name 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= name of service for WSDL definition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targetNamespace = namespace of WSDL for names associated with the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service e.g. port typ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typeNamespace 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= namespace of WSDL for data type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packageName 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= name of java packag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interface name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= name of the java interfa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servantName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= the name of the class that implements the interfa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36160" y="9097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Verdana"/>
              </a:rPr>
              <a:t>config.xm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569280" y="113976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interfac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404040" y="1157400"/>
            <a:ext cx="1407960" cy="312480"/>
          </a:xfrm>
          <a:prstGeom prst="verticalScroll">
            <a:avLst>
              <a:gd name="adj" fmla="val 125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500880" y="1758960"/>
            <a:ext cx="1256760" cy="337320"/>
          </a:xfrm>
          <a:prstGeom prst="rect">
            <a:avLst/>
          </a:prstGeom>
          <a:solidFill>
            <a:srgbClr val="ccec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Verdana"/>
              </a:rPr>
              <a:t>wscompil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217000" y="1779480"/>
            <a:ext cx="83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Model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8201160" y="1774800"/>
            <a:ext cx="834840" cy="345960"/>
          </a:xfrm>
          <a:prstGeom prst="verticalScroll">
            <a:avLst>
              <a:gd name="adj" fmla="val 125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987440" y="1332000"/>
            <a:ext cx="1034280" cy="1219680"/>
          </a:xfrm>
          <a:prstGeom prst="rect">
            <a:avLst/>
          </a:prstGeom>
          <a:noFill/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Artefact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Tie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Or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Stubs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7070760" y="1488960"/>
            <a:ext cx="144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7905600" y="1884240"/>
            <a:ext cx="316080" cy="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6102000" y="1897200"/>
            <a:ext cx="237960" cy="14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7070760" y="2141640"/>
            <a:ext cx="144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404040" y="2403360"/>
            <a:ext cx="1407960" cy="312840"/>
          </a:xfrm>
          <a:prstGeom prst="verticalScroll">
            <a:avLst>
              <a:gd name="adj" fmla="val 125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573600" y="2414520"/>
            <a:ext cx="73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WSDL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696CF0-B813-458D-9CF1-711A0AFDB34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Goal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To Understand the context and basic workings of the JAVA Web Services Development Pack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tructur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General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JWSDP (JAX-RPC)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ome Detail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89160" y="3468600"/>
            <a:ext cx="6954840" cy="328680"/>
          </a:xfrm>
          <a:prstGeom prst="leftArrow">
            <a:avLst>
              <a:gd name="adj1" fmla="val 50000"/>
              <a:gd name="adj2" fmla="val 528998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4DAEF7-EDF5-4A99-BC8A-CB7D45CE50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figuration File – from  WSDL / Mod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55160" y="1243080"/>
            <a:ext cx="4575240" cy="211752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&lt;?xml version=“1.0” encoding=“UTF-8” ?&gt;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&lt;configuration 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            </a:t>
            </a: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xmlns=“http://java.sun.com/.../config”&gt;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wsdl 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           </a:t>
            </a: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location-”..//…/serviceDef .wsdl”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packageName=“….”/&gt;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&lt;/configuration&gt;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17000" y="3321000"/>
            <a:ext cx="609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Location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= URL for the WSD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packageName 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= name of java package to be generated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36160" y="9097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Verdana"/>
              </a:rPr>
              <a:t>config.xm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573600" y="1139760"/>
            <a:ext cx="73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WSDL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404040" y="1157400"/>
            <a:ext cx="1407960" cy="312480"/>
          </a:xfrm>
          <a:prstGeom prst="verticalScroll">
            <a:avLst>
              <a:gd name="adj" fmla="val 125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500880" y="1758960"/>
            <a:ext cx="1256760" cy="337320"/>
          </a:xfrm>
          <a:prstGeom prst="rect">
            <a:avLst/>
          </a:prstGeom>
          <a:solidFill>
            <a:srgbClr val="ccec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Verdana"/>
              </a:rPr>
              <a:t>wscompil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8217000" y="1779480"/>
            <a:ext cx="83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Model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201160" y="1774800"/>
            <a:ext cx="834840" cy="345960"/>
          </a:xfrm>
          <a:prstGeom prst="verticalScroll">
            <a:avLst>
              <a:gd name="adj" fmla="val 125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987440" y="1332000"/>
            <a:ext cx="1034280" cy="1219680"/>
          </a:xfrm>
          <a:prstGeom prst="rect">
            <a:avLst/>
          </a:prstGeom>
          <a:noFill/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Artefact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Tie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Or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Stubs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7070760" y="1488960"/>
            <a:ext cx="144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7905600" y="1884240"/>
            <a:ext cx="316080" cy="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6102000" y="1897200"/>
            <a:ext cx="237960" cy="14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575760" y="2389320"/>
            <a:ext cx="104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Interfac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418440" y="2394000"/>
            <a:ext cx="1407960" cy="312840"/>
          </a:xfrm>
          <a:prstGeom prst="verticalScroll">
            <a:avLst>
              <a:gd name="adj" fmla="val 125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7070760" y="2125800"/>
            <a:ext cx="144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396120" y="6021360"/>
            <a:ext cx="83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Model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354720" y="6016680"/>
            <a:ext cx="835200" cy="345960"/>
          </a:xfrm>
          <a:prstGeom prst="verticalScroll">
            <a:avLst>
              <a:gd name="adj" fmla="val 125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564680" y="6000840"/>
            <a:ext cx="1256760" cy="337320"/>
          </a:xfrm>
          <a:prstGeom prst="rect">
            <a:avLst/>
          </a:prstGeom>
          <a:solidFill>
            <a:srgbClr val="ccec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Verdana"/>
              </a:rPr>
              <a:t>wscompil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176240" y="6138720"/>
            <a:ext cx="28764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8280000" y="5730840"/>
            <a:ext cx="180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791120" y="4491000"/>
            <a:ext cx="1034280" cy="1219680"/>
          </a:xfrm>
          <a:prstGeom prst="rect">
            <a:avLst/>
          </a:prstGeom>
          <a:noFill/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Artefact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Tie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Or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Stubs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-165240" y="4697280"/>
            <a:ext cx="5217120" cy="151380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&lt;?xml version=“1.0” encoding=“UTF-8” ?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&lt;configuration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            </a:t>
            </a: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xmlns=“http://java.sun.com/.../config”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model </a:t>
            </a: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location-”myModel.z”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&lt;/configuration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680" y="6176880"/>
            <a:ext cx="54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Location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 = file name of previously generated mode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69FB1C-64CA-4902-BE3D-8FA762F2EB8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0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5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500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500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500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ated fil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21640" y="922320"/>
            <a:ext cx="411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Some of the client side generated files: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345960" y="1400040"/>
          <a:ext cx="6643800" cy="4191120"/>
        </p:xfrm>
        <a:graphic>
          <a:graphicData uri="http://schemas.openxmlformats.org/drawingml/2006/table">
            <a:tbl>
              <a:tblPr/>
              <a:tblGrid>
                <a:gridCol w="1473480"/>
                <a:gridCol w="517032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Service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1368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Service.java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1368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ervice_Impl.java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Service_SerializerRegistry.java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Exception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ServiceException_SOAPSerializer.java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ServiceException_SOAPBuilder.java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Value type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Info_SOAPSerializer.java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46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Info_SOAPBuilder.java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Interface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Interface_Stub.java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1368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method.java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13680">
                      <a:solidFill>
                        <a:srgbClr val="2b519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982C40-B3FA-43F2-AF7D-63ED48777DC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essing the Servi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8589960" cy="81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The 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Service.java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 file corresponds to the definition of the interface for the web service,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45960" y="3621240"/>
            <a:ext cx="858996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An object implementing the interface is like a “service factory” –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getServicePort returns an instance of (the stub for) the actual servi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2b519a"/>
                </a:solidFill>
                <a:latin typeface="Arial"/>
              </a:rPr>
              <a:t>The required service factory is Service_Impl </a:t>
            </a:r>
            <a:endParaRPr b="0" lang="en-US" sz="19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(Unfortunately this name is only recommended)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-56520" y="2035080"/>
            <a:ext cx="8187120" cy="136296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package </a:t>
            </a:r>
            <a:r>
              <a:rPr b="1" i="1" lang="en-GB" sz="1800" spc="-1" strike="noStrike">
                <a:solidFill>
                  <a:srgbClr val="2b519a"/>
                </a:solidFill>
                <a:latin typeface="Courier New"/>
              </a:rPr>
              <a:t>servicePackage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import javax.xml.rpc.*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Public interface Service extends javax.aml.rpc.Servi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{  </a:t>
            </a:r>
            <a:r>
              <a:rPr b="1" lang="en-GB" sz="1800" spc="-1" strike="noStrike">
                <a:solidFill>
                  <a:srgbClr val="ac3b8b"/>
                </a:solidFill>
                <a:latin typeface="Courier New"/>
              </a:rPr>
              <a:t>public </a:t>
            </a:r>
            <a:r>
              <a:rPr b="1" i="1" lang="en-GB" sz="1800" spc="-1" strike="noStrike">
                <a:solidFill>
                  <a:srgbClr val="ac3b8b"/>
                </a:solidFill>
                <a:latin typeface="Courier New"/>
              </a:rPr>
              <a:t>servicePackage</a:t>
            </a:r>
            <a:r>
              <a:rPr b="1" lang="en-GB" sz="1800" spc="-1" strike="noStrike">
                <a:solidFill>
                  <a:srgbClr val="ac3b8b"/>
                </a:solidFill>
                <a:latin typeface="Courier New"/>
              </a:rPr>
              <a:t> getServicePort(); 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-24120" y="5226120"/>
            <a:ext cx="7227000" cy="69984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Service_Impl service = new Service_Impl ()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2b519a"/>
                </a:solidFill>
                <a:latin typeface="Courier New"/>
              </a:rPr>
              <a:t>value*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 </a:t>
            </a:r>
            <a:r>
              <a:rPr b="1" i="1" lang="en-GB" sz="1800" spc="-1" strike="noStrike">
                <a:solidFill>
                  <a:srgbClr val="2b519a"/>
                </a:solidFill>
                <a:latin typeface="Courier New"/>
              </a:rPr>
              <a:t>name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 = (</a:t>
            </a:r>
            <a:r>
              <a:rPr b="1" i="1" lang="en-GB" sz="1800" spc="-1" strike="noStrike">
                <a:solidFill>
                  <a:srgbClr val="2b519a"/>
                </a:solidFill>
                <a:latin typeface="Courier New"/>
              </a:rPr>
              <a:t>value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)service.getServicePort ()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45960" y="6083280"/>
            <a:ext cx="85899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With this reference you can call the methods of the service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6DFDE2-2397-4313-B524-401D91E7E6D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ploying to a web contain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Create a WAR fil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338f"/>
                </a:solidFill>
                <a:latin typeface="Arial"/>
              </a:rPr>
              <a:t>Java class file for service endpoint interfac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338f"/>
                </a:solidFill>
                <a:latin typeface="Arial"/>
              </a:rPr>
              <a:t>Java class files for service implementation and resource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338f"/>
                </a:solidFill>
                <a:latin typeface="Courier New"/>
              </a:rPr>
              <a:t>web.xml</a:t>
            </a:r>
            <a:r>
              <a:rPr b="0" lang="en-GB" sz="2100" spc="-1" strike="noStrike">
                <a:solidFill>
                  <a:srgbClr val="00338f"/>
                </a:solidFill>
                <a:latin typeface="Arial"/>
              </a:rPr>
              <a:t> file containing deployment information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338f"/>
                </a:solidFill>
                <a:latin typeface="Arial"/>
              </a:rPr>
              <a:t>Class files for JAX-RPC tie classe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JAX-RPC tie classes are implementation specific.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BC04A8-4BF1-4E9D-8457-4D253340577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ditional WAR files required for JWSD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345960" y="2144880"/>
          <a:ext cx="8589960" cy="4259160"/>
        </p:xfrm>
        <a:graphic>
          <a:graphicData uri="http://schemas.openxmlformats.org/drawingml/2006/table">
            <a:tbl>
              <a:tblPr/>
              <a:tblGrid>
                <a:gridCol w="4294800"/>
                <a:gridCol w="4295160"/>
              </a:tblGrid>
              <a:tr h="114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2b519a"/>
                          </a:solidFill>
                          <a:latin typeface="Courier New"/>
                        </a:rPr>
                        <a:t>WEB-INF/web.xml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1368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Web application deployment descriptor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1368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155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2b519a"/>
                          </a:solidFill>
                          <a:latin typeface="Courier New"/>
                        </a:rPr>
                        <a:t>WEB-INF/jaxrpc-ri.xml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JWSDP-specific deployment information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15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519a"/>
                          </a:solidFill>
                          <a:latin typeface="Courier New"/>
                        </a:rPr>
                        <a:t>WEB-INF/model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1368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Model file generated by </a:t>
                      </a:r>
                      <a:r>
                        <a:rPr b="1" lang="en-GB" sz="2000" spc="-1" strike="noStrike">
                          <a:solidFill>
                            <a:srgbClr val="2b519a"/>
                          </a:solidFill>
                          <a:latin typeface="Courier New"/>
                        </a:rPr>
                        <a:t>wscompile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13680">
                      <a:solidFill>
                        <a:srgbClr val="2b519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F2E1CA-60F6-4E1E-A7D9-0AC81AA5CEA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web.xml fi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Courier New"/>
              </a:rPr>
              <a:t>&lt;?xml version=“1.0” encoding=“UTF-8” ?&gt;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Courier New"/>
              </a:rPr>
              <a:t>&lt;!DOCTYPE web-app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2b519a"/>
                </a:solidFill>
                <a:latin typeface="Courier New"/>
              </a:rPr>
              <a:t>PUBLIC “-//Sun Microsystems, Inc.//DTD Web Application 2.3//EN”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2b519a"/>
                </a:solidFill>
                <a:latin typeface="Courier New"/>
              </a:rPr>
              <a:t>“</a:t>
            </a:r>
            <a:r>
              <a:rPr b="1" lang="en-US" sz="1800" spc="-1" strike="noStrike">
                <a:solidFill>
                  <a:srgbClr val="2b519a"/>
                </a:solidFill>
                <a:latin typeface="Courier New"/>
              </a:rPr>
              <a:t>http://java.sun.com/j2ee/dtds/web-app_2_3.dtd”&gt;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Courier New"/>
              </a:rPr>
              <a:t>&lt;web-app&gt;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2b519a"/>
                </a:solidFill>
                <a:latin typeface="Courier New"/>
              </a:rPr>
              <a:t>&lt;display-name&gt;Service Name&lt;/display-name&gt;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2b519a"/>
                </a:solidFill>
                <a:latin typeface="Courier New"/>
              </a:rPr>
              <a:t>&lt;description&gt;A web service application&lt;/description&gt;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Courier New"/>
              </a:rPr>
              <a:t>&lt;/web-app&gt;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DD1EF3-40A1-45A8-8775-0883F425809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eating a deployable WAR fi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wsdeploy –o </a:t>
            </a:r>
            <a:r>
              <a:rPr b="1" i="1" lang="en-GB" sz="1800" spc="-1" strike="noStrike">
                <a:solidFill>
                  <a:srgbClr val="2b519a"/>
                </a:solidFill>
                <a:latin typeface="Courier New"/>
              </a:rPr>
              <a:t>targetFileName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 </a:t>
            </a:r>
            <a:r>
              <a:rPr b="1" i="1" lang="en-GB" sz="1800" spc="-1" strike="noStrike">
                <a:solidFill>
                  <a:srgbClr val="2b519a"/>
                </a:solidFill>
                <a:latin typeface="Courier New"/>
              </a:rPr>
              <a:t>portableWarFileNam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 Unicode MS"/>
              </a:rPr>
              <a:t>The process is informed by the content of the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 jaxrpc-ri.xml </a:t>
            </a:r>
            <a:r>
              <a:rPr b="1" lang="en-GB" sz="1800" spc="-1" strike="noStrike">
                <a:solidFill>
                  <a:srgbClr val="2b519a"/>
                </a:solidFill>
                <a:latin typeface="Arial Unicode MS"/>
              </a:rPr>
              <a:t>file.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 Unicode MS"/>
              </a:rPr>
              <a:t>The archive contains: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 Unicode MS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 Unicode MS"/>
              </a:rPr>
              <a:t>class files and resource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 Unicode MS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 Unicode MS"/>
              </a:rPr>
              <a:t>compiled class files for the tie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 Unicode MS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 Unicode MS"/>
              </a:rPr>
              <a:t>compiled class files for serializer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 Unicode MS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 Unicode MS"/>
              </a:rPr>
              <a:t>WSDL (in WEB-INF directory)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 Unicode MS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 Unicode MS"/>
              </a:rPr>
              <a:t>model file for the service ( in WEB-INF)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 Unicode MS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 Unicode MS"/>
              </a:rPr>
              <a:t>modified 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web.xml</a:t>
            </a:r>
            <a:r>
              <a:rPr b="1" lang="en-GB" sz="1800" spc="-1" strike="noStrike">
                <a:solidFill>
                  <a:srgbClr val="2b519a"/>
                </a:solidFill>
                <a:latin typeface="Arial Unicode MS"/>
              </a:rPr>
              <a:t> fil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 Unicode MS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jaxrpc-ri-runtime.xml</a:t>
            </a:r>
            <a:r>
              <a:rPr b="1" lang="en-GB" sz="1800" spc="-1" strike="noStrike">
                <a:solidFill>
                  <a:srgbClr val="2b519a"/>
                </a:solidFill>
                <a:latin typeface="Arial Unicode MS"/>
              </a:rPr>
              <a:t> (based on 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jaxrpc-ri.xml</a:t>
            </a:r>
            <a:r>
              <a:rPr b="1" lang="en-GB" sz="1800" spc="-1" strike="noStrike">
                <a:solidFill>
                  <a:srgbClr val="2b519a"/>
                </a:solidFill>
                <a:latin typeface="Arial Unicode MS"/>
              </a:rPr>
              <a:t>)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329EDD-87D8-449D-8BB1-FCCE62046C5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ckage Structure for JAX-RPC Service Endpoint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8686800" cy="516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CB2849-41D2-46C8-B0F7-B46686F7F93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les required in the JA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345960" y="1058760"/>
          <a:ext cx="8589960" cy="5098680"/>
        </p:xfrm>
        <a:graphic>
          <a:graphicData uri="http://schemas.openxmlformats.org/drawingml/2006/table">
            <a:tbl>
              <a:tblPr/>
              <a:tblGrid>
                <a:gridCol w="4294800"/>
                <a:gridCol w="4295160"/>
              </a:tblGrid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File type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1368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solidFill>
                      <a:srgbClr val="ac3b8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Filename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1368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solidFill>
                      <a:srgbClr val="ac3b8b">
                        <a:alpha val="50000"/>
                      </a:srgbClr>
                    </a:solidFill>
                  </a:tcPr>
                </a:tc>
              </a:tr>
              <a:tr h="4082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Service end point interface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Classpath.service.name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408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Classpath.service.Info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408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Classpath.service.Exception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40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Service interface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Classpath.service.Service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Application implementation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Classpath.client.ServiceAppClient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WSDL file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Service.wsdl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4089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Deployment descriptors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META-INF/application-client.xml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722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META-INF/mapping.xml or META-INF/model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408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META-INF/webservicesclient.xml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Manifest file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1368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META-INF/MANIFEST.MF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13680">
                      <a:solidFill>
                        <a:srgbClr val="2b519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9D872C-1EE2-43FF-AAFD-346AF0468879}" type="slidenum">
              <a:t>28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L / C-bas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PERL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SOAP::LITE   - Collection of Perl modules which provides a simple and lightweight interface to SOAP on both client and server side.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C-Based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gSOAP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C and C++ toolkit which provides C/C++ - XML bindings for web services developmen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Comments from developers suggest that this implementation is fragile and can be buggy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.NET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Microsoft web services implementation based on C# super-set of C.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Comments form developers – easy entry but lacks flexibility in more complex situation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4F9AC4-5C76-460E-8887-46FF900CA3F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Xerces (originally Java, also C++ now)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Used in JWSDP modules, Axi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DOM (Document Object Model)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Creates representation of document structure in memory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SAX (Simple API for XML)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Simpler but less powerful parsing model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D3DDDD-AD03-452C-A33B-AA7B97EA18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AVA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b519a"/>
                </a:solidFill>
                <a:latin typeface="Arial"/>
              </a:rPr>
              <a:t>Build Tool – </a:t>
            </a: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ANT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b519a"/>
                </a:solidFill>
                <a:latin typeface="Arial"/>
              </a:rPr>
              <a:t>Containers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add functionality to web servers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Tomcat</a:t>
            </a: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 originally designed to add servlets to web servers – became used to support web services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Axis</a:t>
            </a: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 new development to specifically support web services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Axis also includes a web services development environment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b519a"/>
                </a:solidFill>
                <a:latin typeface="Arial"/>
              </a:rPr>
              <a:t>Development environments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Java 2 Enterprise Edition (J2EE)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Java Beans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338f"/>
                </a:solidFill>
                <a:uFillTx/>
                <a:latin typeface="Arial"/>
              </a:rPr>
              <a:t>Java Web Services Development Package (JWSDP)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8B3465-ED8D-4334-8BF2-4E547C51BCD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JWSD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Goal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To Understand the context and basic workings of the JAVA Web Services Development Pack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tructur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General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JWSDP (JAX-RPC)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ome Detail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687840" y="3843360"/>
            <a:ext cx="5456160" cy="328680"/>
          </a:xfrm>
          <a:prstGeom prst="leftArrow">
            <a:avLst>
              <a:gd name="adj1" fmla="val 50000"/>
              <a:gd name="adj2" fmla="val 41500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2605D5-A355-453E-916F-BB833EC8151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WSDP packag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JWSDP Package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saaj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338f"/>
                </a:solidFill>
                <a:latin typeface="Arial"/>
              </a:rPr>
              <a:t>soap with attachments API for java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jaxp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338f"/>
                </a:solidFill>
                <a:latin typeface="Arial"/>
              </a:rPr>
              <a:t>jax parsing (XML)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jaxb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338f"/>
                </a:solidFill>
                <a:latin typeface="Arial"/>
              </a:rPr>
              <a:t>XML </a:t>
            </a:r>
            <a:r>
              <a:rPr b="1" lang="en-GB" sz="2100" spc="-1" strike="noStrike">
                <a:solidFill>
                  <a:srgbClr val="00338f"/>
                </a:solidFill>
                <a:latin typeface="Arial"/>
                <a:ea typeface="Arial"/>
              </a:rPr>
              <a:t>→</a:t>
            </a:r>
            <a:r>
              <a:rPr b="1" lang="en-GB" sz="21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GB" sz="2100" spc="-1" strike="noStrike">
                <a:solidFill>
                  <a:srgbClr val="00338f"/>
                </a:solidFill>
                <a:latin typeface="Arial"/>
              </a:rPr>
              <a:t>Java “bindings” = de-serialisation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jaxr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338f"/>
                </a:solidFill>
                <a:latin typeface="Arial"/>
              </a:rPr>
              <a:t>Jax for registrie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jax-rpc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 u="sng">
                <a:solidFill>
                  <a:srgbClr val="00338f"/>
                </a:solidFill>
                <a:uFillTx/>
                <a:latin typeface="Arial"/>
              </a:rPr>
              <a:t>Jax remote procedure call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0E7BF0-63F2-4991-B9C5-903B29F319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does JAX-RPC d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8160" y="974520"/>
            <a:ext cx="901548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The jax-rpc provides packages which: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Given WSDL or Java Interface definitions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generate ‘stub’ classes for web service providers or consumers.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Handle Java 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  <a:ea typeface="Arial"/>
              </a:rPr>
              <a:t>↔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XML serialisations / de-serialisation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Handle the generation of SOAP message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API Package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javax.xml.rpc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Core classes for the client side programming mod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javax.xml.rpc.encoding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Java objects &lt;-&gt; XML SOAP message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javax.xml.rpc.handler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processing XML message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javax.xml.rpc.handler.soap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javax.xml.rpc.holders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support the use of holder lasses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javax.xml.rpc.server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minimal API for web service implementation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Javax.xml.rpc.soap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specific SOAP binding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AA7F64-6A10-4469-9DEA-7042FACEC9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2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AX-RPC Architectu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062720" y="1243080"/>
            <a:ext cx="1758600" cy="337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Client Application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102200" y="1243080"/>
            <a:ext cx="649080" cy="337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WSDL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057360" y="1243080"/>
            <a:ext cx="2262960" cy="337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Web Services Endpoint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07880" y="2071800"/>
            <a:ext cx="626040" cy="337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Stub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092960" y="2871720"/>
            <a:ext cx="1212840" cy="337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JAX-RPC API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055520" y="3673440"/>
            <a:ext cx="1328760" cy="6314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Client Side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RPC Runtim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795680" y="4778280"/>
            <a:ext cx="615600" cy="337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SOAP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25560" y="5589720"/>
            <a:ext cx="592560" cy="337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HTTP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3424320" y="5381640"/>
            <a:ext cx="1704600" cy="892080"/>
            <a:chOff x="3424320" y="5381640"/>
            <a:chExt cx="1704600" cy="892080"/>
          </a:xfrm>
        </p:grpSpPr>
        <p:sp>
          <p:nvSpPr>
            <p:cNvPr id="232" name="Cloud"/>
            <p:cNvSpPr/>
            <p:nvPr/>
          </p:nvSpPr>
          <p:spPr>
            <a:xfrm>
              <a:off x="3424320" y="5381640"/>
              <a:ext cx="1704600" cy="892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805200" y="561636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312600" y="2871720"/>
            <a:ext cx="1212840" cy="337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JAX-RPC API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986800" y="2071800"/>
            <a:ext cx="470880" cy="337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Tie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275160" y="3673440"/>
            <a:ext cx="1328760" cy="6314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Server Side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RPC Runtim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248520" y="4778280"/>
            <a:ext cx="615600" cy="337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SOAP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241680" y="5589720"/>
            <a:ext cx="592560" cy="337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HTTP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90680" y="1622520"/>
            <a:ext cx="0" cy="426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90680" y="2433600"/>
            <a:ext cx="0" cy="426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419120" y="1622520"/>
            <a:ext cx="0" cy="12538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90680" y="3233880"/>
            <a:ext cx="0" cy="426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290680" y="4348080"/>
            <a:ext cx="0" cy="426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290680" y="5149800"/>
            <a:ext cx="0" cy="426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6330960" y="1622520"/>
            <a:ext cx="0" cy="426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6330960" y="2433600"/>
            <a:ext cx="0" cy="426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6330960" y="3233880"/>
            <a:ext cx="0" cy="426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6330960" y="4348080"/>
            <a:ext cx="0" cy="426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6330960" y="5149800"/>
            <a:ext cx="0" cy="426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7385040" y="1622160"/>
            <a:ext cx="0" cy="12538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304040" y="1897200"/>
            <a:ext cx="55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909520" y="1612800"/>
            <a:ext cx="1314360" cy="480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633920" y="1612800"/>
            <a:ext cx="1314360" cy="480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4809960" y="1405080"/>
            <a:ext cx="11224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211720" y="5791320"/>
            <a:ext cx="966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477520" y="5791320"/>
            <a:ext cx="966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ED25FB-CB59-458B-8472-52C502A6B1D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1:59:54Z</dcterms:created>
  <dc:creator>Richard Hopkins</dc:creator>
  <dc:description/>
  <dc:language>en-US</dc:language>
  <cp:lastModifiedBy>dfmac</cp:lastModifiedBy>
  <dcterms:modified xsi:type="dcterms:W3CDTF">2005-07-12T06:46:51Z</dcterms:modified>
  <cp:revision>95</cp:revision>
  <dc:subject/>
  <dc:title>XML</dc:title>
</cp:coreProperties>
</file>