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B066-F1BA-4678-9BEC-D71447B613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N means FileNmae; D means directory name – one per stu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gProbe has count within maxSample size of Surface, but for Explorer this can be bigger; so it organises multiple calls of BigP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e method in ServiceWrapper has to be done by students – p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each student their BigProbe has built-in a constant which is the directory name for their files in the shared filest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t is passed as parameter to the Wrapper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next stage the role of that directory becomes taken over by the FileStore URL, which is agaiin built-in to the client – but it is not passed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ey have one method of ServiceWrapper to change – probe seems appropriate, cos that is the only one where parameters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E8AC-2A62-47C3-949A-9CACAC90F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97C8-CEE0-418D-803D-669989A7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1AC6-3173-4546-8858-FC63BD11E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8816-01E4-436D-851D-DAEE975FA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DE41-3C7D-4755-8E53-DB8BB448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0033-0B01-4A0F-93F5-41D950B9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6D5A-31B6-4FE9-83E1-9A667CA1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3C6B-8E6C-491D-8ECC-154E6ECE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5FD5-F8DE-41BA-9E11-6D766BD7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7345-2D3A-49CD-B57B-BD352E4B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5AF5-67F8-4ED5-9B36-04911E7E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6915-F6DF-4307-9291-E39B3F5A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DEA1-679B-4438-A22B-C026AD74E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066680" y="2147760"/>
            <a:ext cx="4800600" cy="2819160"/>
            <a:chOff x="1066680" y="2147760"/>
            <a:chExt cx="4800600" cy="2819160"/>
          </a:xfrm>
        </p:grpSpPr>
        <p:sp>
          <p:nvSpPr>
            <p:cNvPr id="49" name=""/>
            <p:cNvSpPr/>
            <p:nvPr/>
          </p:nvSpPr>
          <p:spPr>
            <a:xfrm>
              <a:off x="1066680" y="2147760"/>
              <a:ext cx="4800600" cy="2819160"/>
            </a:xfrm>
            <a:prstGeom prst="parallelogram">
              <a:avLst>
                <a:gd name="adj" fmla="val 4257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209680" y="2376360"/>
              <a:ext cx="3505320" cy="15228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981080" y="2680920"/>
              <a:ext cx="3505320" cy="30492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28800" y="2985840"/>
              <a:ext cx="3505320" cy="45720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76520" y="3366720"/>
              <a:ext cx="3504960" cy="30492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600200" y="3747960"/>
              <a:ext cx="3505320" cy="15228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71600" y="4128840"/>
              <a:ext cx="3505320" cy="15228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95280" y="4357440"/>
              <a:ext cx="3505320" cy="30492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657600" y="29862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743200" y="3290760"/>
            <a:ext cx="914400" cy="25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295280" y="329076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 rot="5400000">
            <a:off x="1328760" y="4704120"/>
            <a:ext cx="314280" cy="2514600"/>
          </a:xfrm>
          <a:custGeom>
            <a:avLst/>
            <a:gdLst>
              <a:gd name="textAreaLeft" fmla="*/ 0 w 314280"/>
              <a:gd name="textAreaRight" fmla="*/ 113400 w 31428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 rot="1347000">
            <a:off x="445680" y="3178800"/>
            <a:ext cx="298440" cy="2682720"/>
          </a:xfrm>
          <a:custGeom>
            <a:avLst/>
            <a:gdLst>
              <a:gd name="textAreaLeft" fmla="*/ 0 w 298440"/>
              <a:gd name="textAreaRight" fmla="*/ 107640 w 298440"/>
              <a:gd name="textAreaTop" fmla="*/ 69840 h 2682720"/>
              <a:gd name="textAreaBottom" fmla="*/ 2612880 h 26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97440" y="6033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3200" y="4067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733920" y="2681280"/>
            <a:ext cx="23619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7320" y="2452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28600" y="1614240"/>
            <a:ext cx="175248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580536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3976560"/>
            <a:ext cx="304560" cy="4572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11592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domain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ing features on surfaces and determining their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84240" y="5029200"/>
            <a:ext cx="16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x-low, y-l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86400" y="1752480"/>
            <a:ext cx="18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x-high, y-hig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257800" y="3200400"/>
            <a:ext cx="23623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09560" y="2819520"/>
            <a:ext cx="16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unding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38480" y="41148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191120" y="3809520"/>
            <a:ext cx="2438280" cy="2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31920" y="35812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78200" y="214776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962520" y="2300400"/>
            <a:ext cx="25146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440" y="6491160"/>
            <a:ext cx="55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s many types of e-science applic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438280" y="2604960"/>
            <a:ext cx="193680" cy="304920"/>
            <a:chOff x="2438280" y="2604960"/>
            <a:chExt cx="193680" cy="304920"/>
          </a:xfrm>
        </p:grpSpPr>
        <p:sp>
          <p:nvSpPr>
            <p:cNvPr id="81" name=""/>
            <p:cNvSpPr/>
            <p:nvPr/>
          </p:nvSpPr>
          <p:spPr>
            <a:xfrm>
              <a:off x="2438280" y="2604960"/>
              <a:ext cx="193680" cy="304920"/>
            </a:xfrm>
            <a:prstGeom prst="can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66000" y="2632320"/>
              <a:ext cx="110520" cy="110880"/>
            </a:xfrm>
            <a:custGeom>
              <a:avLst/>
              <a:gdLst>
                <a:gd name="textAreaLeft" fmla="*/ 25920 w 110520"/>
                <a:gd name="textAreaRight" fmla="*/ 84600 w 110520"/>
                <a:gd name="textAreaTop" fmla="*/ 12960 h 110880"/>
                <a:gd name="textAreaBottom" fmla="*/ 69480 h 1108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1066680" y="1371600"/>
            <a:ext cx="4800600" cy="2819160"/>
            <a:chOff x="1066680" y="1371600"/>
            <a:chExt cx="4800600" cy="2819160"/>
          </a:xfrm>
        </p:grpSpPr>
        <p:sp>
          <p:nvSpPr>
            <p:cNvPr id="84" name=""/>
            <p:cNvSpPr/>
            <p:nvPr/>
          </p:nvSpPr>
          <p:spPr>
            <a:xfrm>
              <a:off x="1066680" y="1371600"/>
              <a:ext cx="4800600" cy="2819160"/>
            </a:xfrm>
            <a:prstGeom prst="parallelogram">
              <a:avLst>
                <a:gd name="adj" fmla="val 4257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09680" y="1600200"/>
              <a:ext cx="3505320" cy="15228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981080" y="1904760"/>
              <a:ext cx="3505320" cy="30492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828800" y="2209680"/>
              <a:ext cx="3505320" cy="45720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76520" y="2590560"/>
              <a:ext cx="3504960" cy="30492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00200" y="2971800"/>
              <a:ext cx="3505320" cy="15228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71600" y="3352680"/>
              <a:ext cx="3505320" cy="15228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95280" y="3581280"/>
              <a:ext cx="3505320" cy="30492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3962520" y="3200400"/>
            <a:ext cx="304560" cy="4572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333864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438280" y="1828800"/>
            <a:ext cx="193680" cy="304920"/>
            <a:chOff x="2438280" y="1828800"/>
            <a:chExt cx="193680" cy="304920"/>
          </a:xfrm>
        </p:grpSpPr>
        <p:sp>
          <p:nvSpPr>
            <p:cNvPr id="95" name=""/>
            <p:cNvSpPr/>
            <p:nvPr/>
          </p:nvSpPr>
          <p:spPr>
            <a:xfrm>
              <a:off x="2438280" y="1828800"/>
              <a:ext cx="193680" cy="304920"/>
            </a:xfrm>
            <a:prstGeom prst="can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66000" y="1856160"/>
              <a:ext cx="110520" cy="110880"/>
            </a:xfrm>
            <a:custGeom>
              <a:avLst/>
              <a:gdLst>
                <a:gd name="textAreaLeft" fmla="*/ 25920 w 110520"/>
                <a:gd name="textAreaRight" fmla="*/ 84600 w 110520"/>
                <a:gd name="textAreaTop" fmla="*/ 12960 h 110880"/>
                <a:gd name="textAreaBottom" fmla="*/ 69480 h 1108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 flipV="1">
            <a:off x="1295280" y="1371600"/>
            <a:ext cx="11430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3840" y="5105520"/>
            <a:ext cx="713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rface –represented by a service with a probe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ive it a list of x-y points – it yields h at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mitation on how many on each p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 you have to organise multiple probes to explore the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523880" y="1371600"/>
            <a:ext cx="11430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752480" y="1371600"/>
            <a:ext cx="11430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981080" y="1371600"/>
            <a:ext cx="11430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286000" y="1371600"/>
            <a:ext cx="11430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514600" y="1371600"/>
            <a:ext cx="11430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743200" y="1371600"/>
            <a:ext cx="11430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971800" y="1371600"/>
            <a:ext cx="11430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200400" y="1371600"/>
            <a:ext cx="11430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429000" y="1371600"/>
            <a:ext cx="11430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581280" y="1447560"/>
            <a:ext cx="114300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809880" y="1447560"/>
            <a:ext cx="114300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038480" y="1447560"/>
            <a:ext cx="114300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267080" y="1447560"/>
            <a:ext cx="114300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495680" y="1447560"/>
            <a:ext cx="114300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143000" y="1523880"/>
            <a:ext cx="1142640" cy="2627280"/>
            <a:chOff x="1143000" y="1523880"/>
            <a:chExt cx="1142640" cy="2627280"/>
          </a:xfrm>
        </p:grpSpPr>
        <p:grpSp>
          <p:nvGrpSpPr>
            <p:cNvPr id="114" name=""/>
            <p:cNvGrpSpPr/>
            <p:nvPr/>
          </p:nvGrpSpPr>
          <p:grpSpPr>
            <a:xfrm>
              <a:off x="1143000" y="3352680"/>
              <a:ext cx="380880" cy="798480"/>
              <a:chOff x="1143000" y="3352680"/>
              <a:chExt cx="380880" cy="79848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1143000" y="3962160"/>
                <a:ext cx="112680" cy="189000"/>
                <a:chOff x="1143000" y="3962160"/>
                <a:chExt cx="112680" cy="1890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1143000" y="411444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218960" y="396216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1295280" y="3657240"/>
                <a:ext cx="112680" cy="189000"/>
                <a:chOff x="1295280" y="3657240"/>
                <a:chExt cx="112680" cy="1890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1295280" y="380952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371240" y="365724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1411200" y="3352680"/>
                <a:ext cx="112680" cy="188280"/>
                <a:chOff x="1411200" y="3352680"/>
                <a:chExt cx="112680" cy="1882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1411200" y="350460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487160" y="335268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1523880" y="2438280"/>
              <a:ext cx="380880" cy="798480"/>
              <a:chOff x="1523880" y="2438280"/>
              <a:chExt cx="380880" cy="79848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1523880" y="3047760"/>
                <a:ext cx="112680" cy="189000"/>
                <a:chOff x="1523880" y="3047760"/>
                <a:chExt cx="112680" cy="1890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1523880" y="320004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599840" y="304776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1676160" y="2742840"/>
                <a:ext cx="112680" cy="189000"/>
                <a:chOff x="1676160" y="2742840"/>
                <a:chExt cx="112680" cy="1890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1676160" y="289512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752120" y="274284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792080" y="2438280"/>
                <a:ext cx="112680" cy="188280"/>
                <a:chOff x="1792080" y="2438280"/>
                <a:chExt cx="112680" cy="1882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1792080" y="259020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68040" y="243828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"/>
            <p:cNvGrpSpPr/>
            <p:nvPr/>
          </p:nvGrpSpPr>
          <p:grpSpPr>
            <a:xfrm>
              <a:off x="1904760" y="1523880"/>
              <a:ext cx="380880" cy="798480"/>
              <a:chOff x="1904760" y="1523880"/>
              <a:chExt cx="380880" cy="79848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1904760" y="2133360"/>
                <a:ext cx="112680" cy="189000"/>
                <a:chOff x="1904760" y="2133360"/>
                <a:chExt cx="112680" cy="1890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1904760" y="228564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980720" y="213336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2057040" y="1828440"/>
                <a:ext cx="112680" cy="189000"/>
                <a:chOff x="2057040" y="1828440"/>
                <a:chExt cx="112680" cy="18900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2057040" y="198072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133000" y="182844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2172960" y="1523880"/>
                <a:ext cx="112680" cy="188280"/>
                <a:chOff x="2172960" y="1523880"/>
                <a:chExt cx="112680" cy="1882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2172960" y="167580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248920" y="152388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" name=""/>
          <p:cNvGrpSpPr/>
          <p:nvPr/>
        </p:nvGrpSpPr>
        <p:grpSpPr>
          <a:xfrm>
            <a:off x="1371600" y="1447920"/>
            <a:ext cx="1142640" cy="2627280"/>
            <a:chOff x="1371600" y="1447920"/>
            <a:chExt cx="1142640" cy="2627280"/>
          </a:xfrm>
        </p:grpSpPr>
        <p:grpSp>
          <p:nvGrpSpPr>
            <p:cNvPr id="145" name=""/>
            <p:cNvGrpSpPr/>
            <p:nvPr/>
          </p:nvGrpSpPr>
          <p:grpSpPr>
            <a:xfrm>
              <a:off x="1371600" y="3276720"/>
              <a:ext cx="380880" cy="798480"/>
              <a:chOff x="1371600" y="3276720"/>
              <a:chExt cx="380880" cy="79848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1371600" y="3886200"/>
                <a:ext cx="112680" cy="189000"/>
                <a:chOff x="1371600" y="3886200"/>
                <a:chExt cx="112680" cy="18900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1371600" y="40384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447560" y="38862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1523880" y="3581280"/>
                <a:ext cx="112680" cy="189000"/>
                <a:chOff x="1523880" y="3581280"/>
                <a:chExt cx="112680" cy="18900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1523880" y="37335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599840" y="35812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1639800" y="3276720"/>
                <a:ext cx="112680" cy="188280"/>
                <a:chOff x="1639800" y="3276720"/>
                <a:chExt cx="112680" cy="18828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1639800" y="34286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715760" y="32767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"/>
            <p:cNvGrpSpPr/>
            <p:nvPr/>
          </p:nvGrpSpPr>
          <p:grpSpPr>
            <a:xfrm>
              <a:off x="1752480" y="2362320"/>
              <a:ext cx="380880" cy="798480"/>
              <a:chOff x="1752480" y="2362320"/>
              <a:chExt cx="380880" cy="79848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1752480" y="2971800"/>
                <a:ext cx="112680" cy="189000"/>
                <a:chOff x="1752480" y="2971800"/>
                <a:chExt cx="112680" cy="1890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1752480" y="31240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828440" y="29718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1904760" y="2666880"/>
                <a:ext cx="112680" cy="189000"/>
                <a:chOff x="1904760" y="2666880"/>
                <a:chExt cx="112680" cy="189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1904760" y="28191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980720" y="26668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020680" y="2362320"/>
                <a:ext cx="112680" cy="188280"/>
                <a:chOff x="2020680" y="2362320"/>
                <a:chExt cx="112680" cy="1882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020680" y="25142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096640" y="23623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2133360" y="1447920"/>
              <a:ext cx="380880" cy="798480"/>
              <a:chOff x="2133360" y="1447920"/>
              <a:chExt cx="380880" cy="79848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2133360" y="2057400"/>
                <a:ext cx="112680" cy="189000"/>
                <a:chOff x="2133360" y="2057400"/>
                <a:chExt cx="112680" cy="18900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2133360" y="22096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209320" y="20574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2285640" y="1752480"/>
                <a:ext cx="112680" cy="189000"/>
                <a:chOff x="2285640" y="1752480"/>
                <a:chExt cx="112680" cy="18900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2285640" y="19047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361600" y="17524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2401560" y="1447920"/>
                <a:ext cx="112680" cy="188280"/>
                <a:chOff x="2401560" y="1447920"/>
                <a:chExt cx="112680" cy="1882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2401560" y="15998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477520" y="14479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5" name=""/>
          <p:cNvGrpSpPr/>
          <p:nvPr/>
        </p:nvGrpSpPr>
        <p:grpSpPr>
          <a:xfrm>
            <a:off x="1600200" y="1447920"/>
            <a:ext cx="1142640" cy="2627280"/>
            <a:chOff x="1600200" y="1447920"/>
            <a:chExt cx="1142640" cy="2627280"/>
          </a:xfrm>
        </p:grpSpPr>
        <p:grpSp>
          <p:nvGrpSpPr>
            <p:cNvPr id="176" name=""/>
            <p:cNvGrpSpPr/>
            <p:nvPr/>
          </p:nvGrpSpPr>
          <p:grpSpPr>
            <a:xfrm>
              <a:off x="1600200" y="3276720"/>
              <a:ext cx="380880" cy="798480"/>
              <a:chOff x="1600200" y="3276720"/>
              <a:chExt cx="380880" cy="79848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1600200" y="3886200"/>
                <a:ext cx="112680" cy="189000"/>
                <a:chOff x="1600200" y="3886200"/>
                <a:chExt cx="112680" cy="18900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1600200" y="40384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676160" y="38862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1752480" y="3581280"/>
                <a:ext cx="112680" cy="189000"/>
                <a:chOff x="1752480" y="3581280"/>
                <a:chExt cx="112680" cy="1890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752480" y="37335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828440" y="35812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1868400" y="3276720"/>
                <a:ext cx="112680" cy="188280"/>
                <a:chOff x="1868400" y="3276720"/>
                <a:chExt cx="112680" cy="1882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1868400" y="34286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944360" y="32767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6" name=""/>
            <p:cNvGrpSpPr/>
            <p:nvPr/>
          </p:nvGrpSpPr>
          <p:grpSpPr>
            <a:xfrm>
              <a:off x="1981080" y="2362320"/>
              <a:ext cx="380880" cy="798480"/>
              <a:chOff x="1981080" y="2362320"/>
              <a:chExt cx="380880" cy="79848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1981080" y="2971800"/>
                <a:ext cx="112680" cy="189000"/>
                <a:chOff x="1981080" y="2971800"/>
                <a:chExt cx="112680" cy="18900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1981080" y="31240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057040" y="29718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2133360" y="2666880"/>
                <a:ext cx="112680" cy="189000"/>
                <a:chOff x="2133360" y="2666880"/>
                <a:chExt cx="112680" cy="18900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2133360" y="28191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209320" y="26668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2249280" y="2362320"/>
                <a:ext cx="112680" cy="188280"/>
                <a:chOff x="2249280" y="2362320"/>
                <a:chExt cx="112680" cy="1882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2249280" y="25142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325240" y="23623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6" name=""/>
            <p:cNvGrpSpPr/>
            <p:nvPr/>
          </p:nvGrpSpPr>
          <p:grpSpPr>
            <a:xfrm>
              <a:off x="2361960" y="1447920"/>
              <a:ext cx="380880" cy="798480"/>
              <a:chOff x="2361960" y="1447920"/>
              <a:chExt cx="380880" cy="79848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2361960" y="2057400"/>
                <a:ext cx="112680" cy="189000"/>
                <a:chOff x="2361960" y="2057400"/>
                <a:chExt cx="112680" cy="1890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361960" y="22096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437920" y="20574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2514240" y="1752480"/>
                <a:ext cx="112680" cy="189000"/>
                <a:chOff x="2514240" y="1752480"/>
                <a:chExt cx="112680" cy="1890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2514240" y="19047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590200" y="17524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2630160" y="1447920"/>
                <a:ext cx="112680" cy="188280"/>
                <a:chOff x="2630160" y="1447920"/>
                <a:chExt cx="112680" cy="1882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2630160" y="15998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2706120" y="14479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6" name=""/>
          <p:cNvGrpSpPr/>
          <p:nvPr/>
        </p:nvGrpSpPr>
        <p:grpSpPr>
          <a:xfrm>
            <a:off x="1828800" y="1447920"/>
            <a:ext cx="1142640" cy="2627280"/>
            <a:chOff x="1828800" y="1447920"/>
            <a:chExt cx="1142640" cy="2627280"/>
          </a:xfrm>
        </p:grpSpPr>
        <p:grpSp>
          <p:nvGrpSpPr>
            <p:cNvPr id="207" name=""/>
            <p:cNvGrpSpPr/>
            <p:nvPr/>
          </p:nvGrpSpPr>
          <p:grpSpPr>
            <a:xfrm>
              <a:off x="1828800" y="3276720"/>
              <a:ext cx="380880" cy="798480"/>
              <a:chOff x="1828800" y="3276720"/>
              <a:chExt cx="380880" cy="79848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1828800" y="3886200"/>
                <a:ext cx="112680" cy="189000"/>
                <a:chOff x="1828800" y="3886200"/>
                <a:chExt cx="112680" cy="18900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1828800" y="40384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904760" y="38862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1981080" y="3581280"/>
                <a:ext cx="112680" cy="189000"/>
                <a:chOff x="1981080" y="3581280"/>
                <a:chExt cx="112680" cy="18900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1981080" y="37335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057040" y="35812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2097000" y="3276720"/>
                <a:ext cx="112680" cy="188280"/>
                <a:chOff x="2097000" y="3276720"/>
                <a:chExt cx="112680" cy="18828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2097000" y="34286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172960" y="32767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2209680" y="2362320"/>
              <a:ext cx="380880" cy="798480"/>
              <a:chOff x="2209680" y="2362320"/>
              <a:chExt cx="380880" cy="79848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2209680" y="2971800"/>
                <a:ext cx="112680" cy="189000"/>
                <a:chOff x="2209680" y="2971800"/>
                <a:chExt cx="112680" cy="1890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209680" y="31240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285640" y="29718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2361960" y="2666880"/>
                <a:ext cx="112680" cy="189000"/>
                <a:chOff x="2361960" y="2666880"/>
                <a:chExt cx="112680" cy="1890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2361960" y="28191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437920" y="26668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2477880" y="2362320"/>
                <a:ext cx="112680" cy="188280"/>
                <a:chOff x="2477880" y="2362320"/>
                <a:chExt cx="112680" cy="18828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2477880" y="25142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553840" y="23623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7" name=""/>
            <p:cNvGrpSpPr/>
            <p:nvPr/>
          </p:nvGrpSpPr>
          <p:grpSpPr>
            <a:xfrm>
              <a:off x="2590560" y="1447920"/>
              <a:ext cx="380880" cy="798480"/>
              <a:chOff x="2590560" y="1447920"/>
              <a:chExt cx="380880" cy="798480"/>
            </a:xfrm>
          </p:grpSpPr>
          <p:grpSp>
            <p:nvGrpSpPr>
              <p:cNvPr id="228" name=""/>
              <p:cNvGrpSpPr/>
              <p:nvPr/>
            </p:nvGrpSpPr>
            <p:grpSpPr>
              <a:xfrm>
                <a:off x="2590560" y="2057400"/>
                <a:ext cx="112680" cy="189000"/>
                <a:chOff x="2590560" y="2057400"/>
                <a:chExt cx="112680" cy="18900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590560" y="22096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666520" y="20574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2742840" y="1752480"/>
                <a:ext cx="112680" cy="189000"/>
                <a:chOff x="2742840" y="1752480"/>
                <a:chExt cx="112680" cy="18900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742840" y="19047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818800" y="17524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2858760" y="1447920"/>
                <a:ext cx="112680" cy="188280"/>
                <a:chOff x="2858760" y="1447920"/>
                <a:chExt cx="112680" cy="18828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2858760" y="15998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2934720" y="14479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7" name=""/>
          <p:cNvGrpSpPr/>
          <p:nvPr/>
        </p:nvGrpSpPr>
        <p:grpSpPr>
          <a:xfrm>
            <a:off x="2133720" y="1447920"/>
            <a:ext cx="1142640" cy="2627280"/>
            <a:chOff x="2133720" y="1447920"/>
            <a:chExt cx="1142640" cy="2627280"/>
          </a:xfrm>
        </p:grpSpPr>
        <p:grpSp>
          <p:nvGrpSpPr>
            <p:cNvPr id="238" name=""/>
            <p:cNvGrpSpPr/>
            <p:nvPr/>
          </p:nvGrpSpPr>
          <p:grpSpPr>
            <a:xfrm>
              <a:off x="2133720" y="3276720"/>
              <a:ext cx="380880" cy="798480"/>
              <a:chOff x="2133720" y="3276720"/>
              <a:chExt cx="380880" cy="79848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2133720" y="3886200"/>
                <a:ext cx="112680" cy="189000"/>
                <a:chOff x="2133720" y="3886200"/>
                <a:chExt cx="112680" cy="18900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2133720" y="40384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209680" y="38862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2286000" y="3581280"/>
                <a:ext cx="112680" cy="189000"/>
                <a:chOff x="2286000" y="3581280"/>
                <a:chExt cx="112680" cy="18900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2286000" y="37335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361960" y="35812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2401920" y="3276720"/>
                <a:ext cx="112680" cy="188280"/>
                <a:chOff x="2401920" y="3276720"/>
                <a:chExt cx="112680" cy="18828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2401920" y="34286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477880" y="32767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8" name=""/>
            <p:cNvGrpSpPr/>
            <p:nvPr/>
          </p:nvGrpSpPr>
          <p:grpSpPr>
            <a:xfrm>
              <a:off x="2514600" y="2362320"/>
              <a:ext cx="380880" cy="798480"/>
              <a:chOff x="2514600" y="2362320"/>
              <a:chExt cx="380880" cy="79848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2514600" y="2971800"/>
                <a:ext cx="112680" cy="189000"/>
                <a:chOff x="2514600" y="2971800"/>
                <a:chExt cx="112680" cy="1890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514600" y="31240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590560" y="29718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2666880" y="2666880"/>
                <a:ext cx="112680" cy="189000"/>
                <a:chOff x="2666880" y="2666880"/>
                <a:chExt cx="112680" cy="18900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2666880" y="28191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2742840" y="26668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2782800" y="2362320"/>
                <a:ext cx="112680" cy="188280"/>
                <a:chOff x="2782800" y="2362320"/>
                <a:chExt cx="112680" cy="1882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2782800" y="25142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858760" y="23623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8" name=""/>
            <p:cNvGrpSpPr/>
            <p:nvPr/>
          </p:nvGrpSpPr>
          <p:grpSpPr>
            <a:xfrm>
              <a:off x="2895480" y="1447920"/>
              <a:ext cx="380880" cy="798480"/>
              <a:chOff x="2895480" y="1447920"/>
              <a:chExt cx="380880" cy="798480"/>
            </a:xfrm>
          </p:grpSpPr>
          <p:grpSp>
            <p:nvGrpSpPr>
              <p:cNvPr id="259" name=""/>
              <p:cNvGrpSpPr/>
              <p:nvPr/>
            </p:nvGrpSpPr>
            <p:grpSpPr>
              <a:xfrm>
                <a:off x="2895480" y="2057400"/>
                <a:ext cx="112680" cy="189000"/>
                <a:chOff x="2895480" y="2057400"/>
                <a:chExt cx="112680" cy="18900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2895480" y="22096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2971440" y="20574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3047760" y="1752480"/>
                <a:ext cx="112680" cy="189000"/>
                <a:chOff x="3047760" y="1752480"/>
                <a:chExt cx="112680" cy="1890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3047760" y="19047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123720" y="17524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3163680" y="1447920"/>
                <a:ext cx="112680" cy="188280"/>
                <a:chOff x="3163680" y="1447920"/>
                <a:chExt cx="112680" cy="18828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3163680" y="15998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239640" y="14479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8" name=""/>
          <p:cNvGrpSpPr/>
          <p:nvPr/>
        </p:nvGrpSpPr>
        <p:grpSpPr>
          <a:xfrm>
            <a:off x="2362320" y="1447920"/>
            <a:ext cx="1142640" cy="2627280"/>
            <a:chOff x="2362320" y="1447920"/>
            <a:chExt cx="1142640" cy="2627280"/>
          </a:xfrm>
        </p:grpSpPr>
        <p:grpSp>
          <p:nvGrpSpPr>
            <p:cNvPr id="269" name=""/>
            <p:cNvGrpSpPr/>
            <p:nvPr/>
          </p:nvGrpSpPr>
          <p:grpSpPr>
            <a:xfrm>
              <a:off x="2362320" y="3276720"/>
              <a:ext cx="380880" cy="798480"/>
              <a:chOff x="2362320" y="3276720"/>
              <a:chExt cx="380880" cy="798480"/>
            </a:xfrm>
          </p:grpSpPr>
          <p:grpSp>
            <p:nvGrpSpPr>
              <p:cNvPr id="270" name=""/>
              <p:cNvGrpSpPr/>
              <p:nvPr/>
            </p:nvGrpSpPr>
            <p:grpSpPr>
              <a:xfrm>
                <a:off x="2362320" y="3886200"/>
                <a:ext cx="112680" cy="189000"/>
                <a:chOff x="2362320" y="3886200"/>
                <a:chExt cx="112680" cy="18900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2362320" y="40384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438280" y="38862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2514600" y="3581280"/>
                <a:ext cx="112680" cy="189000"/>
                <a:chOff x="2514600" y="3581280"/>
                <a:chExt cx="112680" cy="1890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2514600" y="37335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590560" y="35812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630520" y="3276720"/>
                <a:ext cx="112680" cy="188280"/>
                <a:chOff x="2630520" y="3276720"/>
                <a:chExt cx="112680" cy="1882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630520" y="34286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706480" y="32767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9" name=""/>
            <p:cNvGrpSpPr/>
            <p:nvPr/>
          </p:nvGrpSpPr>
          <p:grpSpPr>
            <a:xfrm>
              <a:off x="2743200" y="2362320"/>
              <a:ext cx="380880" cy="798480"/>
              <a:chOff x="2743200" y="2362320"/>
              <a:chExt cx="380880" cy="798480"/>
            </a:xfrm>
          </p:grpSpPr>
          <p:grpSp>
            <p:nvGrpSpPr>
              <p:cNvPr id="280" name=""/>
              <p:cNvGrpSpPr/>
              <p:nvPr/>
            </p:nvGrpSpPr>
            <p:grpSpPr>
              <a:xfrm>
                <a:off x="2743200" y="2971800"/>
                <a:ext cx="112680" cy="189000"/>
                <a:chOff x="2743200" y="2971800"/>
                <a:chExt cx="112680" cy="18900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2743200" y="31240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819160" y="29718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2895480" y="2666880"/>
                <a:ext cx="112680" cy="189000"/>
                <a:chOff x="2895480" y="2666880"/>
                <a:chExt cx="112680" cy="18900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2895480" y="28191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971440" y="26668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3011400" y="2362320"/>
                <a:ext cx="112680" cy="188280"/>
                <a:chOff x="3011400" y="2362320"/>
                <a:chExt cx="112680" cy="1882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3011400" y="25142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087360" y="23623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"/>
            <p:cNvGrpSpPr/>
            <p:nvPr/>
          </p:nvGrpSpPr>
          <p:grpSpPr>
            <a:xfrm>
              <a:off x="3124080" y="1447920"/>
              <a:ext cx="380880" cy="798480"/>
              <a:chOff x="3124080" y="1447920"/>
              <a:chExt cx="380880" cy="79848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3124080" y="2057400"/>
                <a:ext cx="112680" cy="189000"/>
                <a:chOff x="3124080" y="2057400"/>
                <a:chExt cx="112680" cy="189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124080" y="22096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200040" y="20574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3276360" y="1752480"/>
                <a:ext cx="112680" cy="189000"/>
                <a:chOff x="3276360" y="1752480"/>
                <a:chExt cx="112680" cy="189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3276360" y="19047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352320" y="17524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3392280" y="1447920"/>
                <a:ext cx="112680" cy="188280"/>
                <a:chOff x="3392280" y="1447920"/>
                <a:chExt cx="112680" cy="18828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3392280" y="15998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468240" y="14479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9" name=""/>
          <p:cNvSpPr/>
          <p:nvPr/>
        </p:nvSpPr>
        <p:spPr>
          <a:xfrm>
            <a:off x="914400" y="1295280"/>
            <a:ext cx="2895480" cy="2971800"/>
          </a:xfrm>
          <a:prstGeom prst="parallelogram">
            <a:avLst>
              <a:gd name="adj" fmla="val 4015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120040" y="8748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of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715000" y="1752480"/>
            <a:ext cx="1142640" cy="2627280"/>
            <a:chOff x="5715000" y="1752480"/>
            <a:chExt cx="1142640" cy="2627280"/>
          </a:xfrm>
        </p:grpSpPr>
        <p:grpSp>
          <p:nvGrpSpPr>
            <p:cNvPr id="302" name=""/>
            <p:cNvGrpSpPr/>
            <p:nvPr/>
          </p:nvGrpSpPr>
          <p:grpSpPr>
            <a:xfrm>
              <a:off x="5715000" y="3581280"/>
              <a:ext cx="380880" cy="798480"/>
              <a:chOff x="5715000" y="3581280"/>
              <a:chExt cx="380880" cy="798480"/>
            </a:xfrm>
          </p:grpSpPr>
          <p:grpSp>
            <p:nvGrpSpPr>
              <p:cNvPr id="303" name=""/>
              <p:cNvGrpSpPr/>
              <p:nvPr/>
            </p:nvGrpSpPr>
            <p:grpSpPr>
              <a:xfrm>
                <a:off x="5715000" y="4190760"/>
                <a:ext cx="112680" cy="189000"/>
                <a:chOff x="5715000" y="4190760"/>
                <a:chExt cx="112680" cy="18900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5715000" y="434304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5790960" y="419076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5867280" y="3885840"/>
                <a:ext cx="112680" cy="189000"/>
                <a:chOff x="5867280" y="3885840"/>
                <a:chExt cx="112680" cy="18900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5867280" y="403812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943240" y="388584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5983200" y="3581280"/>
                <a:ext cx="112680" cy="188280"/>
                <a:chOff x="5983200" y="3581280"/>
                <a:chExt cx="112680" cy="18828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983200" y="373320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6059160" y="358128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"/>
            <p:cNvGrpSpPr/>
            <p:nvPr/>
          </p:nvGrpSpPr>
          <p:grpSpPr>
            <a:xfrm>
              <a:off x="6095880" y="2666880"/>
              <a:ext cx="380880" cy="798480"/>
              <a:chOff x="6095880" y="2666880"/>
              <a:chExt cx="380880" cy="79848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6095880" y="3276360"/>
                <a:ext cx="112680" cy="189000"/>
                <a:chOff x="6095880" y="3276360"/>
                <a:chExt cx="112680" cy="18900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6095880" y="342864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171840" y="327636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6248160" y="2971440"/>
                <a:ext cx="112680" cy="189000"/>
                <a:chOff x="6248160" y="2971440"/>
                <a:chExt cx="112680" cy="18900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6248160" y="312372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324120" y="297144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6364080" y="2666880"/>
                <a:ext cx="112680" cy="188280"/>
                <a:chOff x="6364080" y="2666880"/>
                <a:chExt cx="112680" cy="18828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6364080" y="281880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440040" y="266688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2" name=""/>
            <p:cNvGrpSpPr/>
            <p:nvPr/>
          </p:nvGrpSpPr>
          <p:grpSpPr>
            <a:xfrm>
              <a:off x="6476760" y="1752480"/>
              <a:ext cx="380880" cy="798480"/>
              <a:chOff x="6476760" y="1752480"/>
              <a:chExt cx="380880" cy="798480"/>
            </a:xfrm>
          </p:grpSpPr>
          <p:grpSp>
            <p:nvGrpSpPr>
              <p:cNvPr id="323" name=""/>
              <p:cNvGrpSpPr/>
              <p:nvPr/>
            </p:nvGrpSpPr>
            <p:grpSpPr>
              <a:xfrm>
                <a:off x="6476760" y="2361960"/>
                <a:ext cx="112680" cy="189000"/>
                <a:chOff x="6476760" y="2361960"/>
                <a:chExt cx="112680" cy="18900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6476760" y="251424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552720" y="236196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6629040" y="2057040"/>
                <a:ext cx="112680" cy="189000"/>
                <a:chOff x="6629040" y="2057040"/>
                <a:chExt cx="112680" cy="18900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6629040" y="220932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705000" y="205704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6744960" y="1752480"/>
                <a:ext cx="112680" cy="188280"/>
                <a:chOff x="6744960" y="1752480"/>
                <a:chExt cx="112680" cy="1882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6744960" y="190440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820920" y="175248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2" name=""/>
          <p:cNvSpPr/>
          <p:nvPr/>
        </p:nvSpPr>
        <p:spPr>
          <a:xfrm flipV="1">
            <a:off x="5867280" y="1600200"/>
            <a:ext cx="11430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638680" y="1600200"/>
            <a:ext cx="11430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479640" y="914400"/>
            <a:ext cx="16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pro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to 20 poi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80880" y="4114800"/>
            <a:ext cx="79250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2000" y="4191120"/>
            <a:ext cx="534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essive exerc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surfaces; more sophisticated explo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0880" y="2133720"/>
            <a:ext cx="5562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947200" y="1981080"/>
            <a:ext cx="27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 technology Tal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80880" y="3124080"/>
            <a:ext cx="5562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796000" y="2895480"/>
            <a:ext cx="31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chnology-orientedTuto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8080" y="213372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666880" y="213372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724280" y="213372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00200" y="32004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76720" y="3200400"/>
            <a:ext cx="304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794560" y="358128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exerc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18840" y="5486400"/>
            <a:ext cx="787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exercises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ing the new technology to the progressive exercise application doma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299520" y="2184480"/>
            <a:ext cx="276228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# Su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ss with method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## SurfaceFunction(x,y):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rfaceFunction inti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= x – y – x^2 + y^2 + x^3 – y^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t might experiment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73920" y="5943600"/>
            <a:ext cx="313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# entirely the  students own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students can edit provided skele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wise entirely provi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581280" y="888840"/>
            <a:ext cx="42674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ointEvaluator1 - C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s Command line interface (CLI) whi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puts x,y and outputs 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40480" y="16002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219320" y="166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880" y="39600"/>
            <a:ext cx="62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 2 – Step 1.1 – Java – basic explo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2437920" y="1219320"/>
            <a:ext cx="11430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575160" y="2209680"/>
            <a:ext cx="296496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# PointEvaluator2- C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w uses input file and output file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single point, using plai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enames given on C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047760" y="2362320"/>
            <a:ext cx="53316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6386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622920" y="5918040"/>
            <a:ext cx="22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- internal method c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638680" y="6400800"/>
            <a:ext cx="10670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698520" y="6299280"/>
            <a:ext cx="204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olves into / produc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step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640480" y="32004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495240" y="3809880"/>
            <a:ext cx="4036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 BatchOfPointsEvaluator1 - C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and output files now contain multiple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713200" y="1676520"/>
            <a:ext cx="9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p 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990720" y="99072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143000" y="914400"/>
            <a:ext cx="2209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064880" y="990720"/>
            <a:ext cx="9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p 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713200" y="3200400"/>
            <a:ext cx="9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p 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03520" y="4952880"/>
            <a:ext cx="30229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# BatchOfPointsEvaluator2 - C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es are now in XML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640480" y="43434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713200" y="4419720"/>
            <a:ext cx="9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p 1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3048120" y="29718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3048120" y="396216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450440" y="5105520"/>
            <a:ext cx="14364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## use gnu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895480" y="4114440"/>
            <a:ext cx="6098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04920" y="52578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79080" y="4876920"/>
            <a:ext cx="9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p 1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45800" y="5099040"/>
            <a:ext cx="286272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rface1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ss with method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be(FN1, FN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= x – y – x^2 + y^2 + x^3 – y^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combines SurfaceFunction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tchOfPointsEvaluator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240" y="39600"/>
            <a:ext cx="68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 2 – Step 1.2 - Java – multi-probe expl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46880" y="3048120"/>
            <a:ext cx="26463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qGe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ss with method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enerate(start, step, limit, F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51920" y="3733920"/>
            <a:ext cx="26694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XProdGe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ss with method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enerate(FN1, FN2, FN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51920" y="4419720"/>
            <a:ext cx="25887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andGe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ss with method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enerate(box, count, F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49760" y="990720"/>
            <a:ext cx="26434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isualiser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ss with method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nder(F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914400"/>
            <a:ext cx="2971800" cy="5638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3760" y="45720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37000" y="990720"/>
            <a:ext cx="280044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# ServiceWrappe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ss with methods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nder(N, 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qGen(start, step, limit, N, 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ProdGen(N1, D, N2, D, N3, 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ndGen(box, count, N, 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## probe(N1, D, N2, 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0120" y="1600200"/>
            <a:ext cx="265284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ileStore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ss with methods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ore* (data, F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etch* (FN):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cat*(FN[*], F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lete*(F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st(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884760" y="4114800"/>
            <a:ext cx="212688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## BigPro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ss with methods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ndom(box, count, 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gular(box, count, 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catenate3D(N[*],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isualise(N,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503880" y="5791320"/>
            <a:ext cx="21268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## Explorer - C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le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ndom(box, count, 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gular(box, count, 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4419720" y="5486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021360" y="447840"/>
            <a:ext cx="1361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tscript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2743200" y="53352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085880" y="2133720"/>
            <a:ext cx="19195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un your explorer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 surfa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d then ghostview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e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102440" y="1182600"/>
            <a:ext cx="1849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ce Explorer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768080" y="8380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.2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691760" y="17524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400800" y="762120"/>
            <a:ext cx="685800" cy="13716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638680" y="2971800"/>
            <a:ext cx="144792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6920" y="3809880"/>
            <a:ext cx="220896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 permitting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eriment with diffe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lorer enhance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691760" y="34290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512120" y="62625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61280" y="626256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504240" y="2743200"/>
            <a:ext cx="186444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ileStoreWrappe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ss with methods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t*(N[*], D[*], N, 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lete*(N, 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st(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5791320" y="259056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4495680" y="3885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281916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 flipV="1">
            <a:off x="2819520" y="144756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3200040" y="2133720"/>
            <a:ext cx="304920" cy="25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505320" y="1752480"/>
            <a:ext cx="152280" cy="762120"/>
          </a:xfrm>
          <a:custGeom>
            <a:avLst/>
            <a:gdLst>
              <a:gd name="textAreaLeft" fmla="*/ 97200 w 152280"/>
              <a:gd name="textAreaRight" fmla="*/ 152640 w 1522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3047400" y="3048120"/>
            <a:ext cx="152280" cy="3429000"/>
          </a:xfrm>
          <a:custGeom>
            <a:avLst/>
            <a:gdLst>
              <a:gd name="textAreaLeft" fmla="*/ 96840 w 152280"/>
              <a:gd name="textAreaRight" fmla="*/ 152280 w 15228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90480" y="3124080"/>
            <a:ext cx="9334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rfac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6320" y="39600"/>
            <a:ext cx="68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Y 2 – Step 1.3 – porting to WebServices (W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1200" y="1905120"/>
            <a:ext cx="852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q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1200" y="2286000"/>
            <a:ext cx="1050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XProd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91200" y="2666880"/>
            <a:ext cx="9702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and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89040" y="1066680"/>
            <a:ext cx="1024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isuali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6320" y="990720"/>
            <a:ext cx="175248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38240" y="64620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889360" y="1066680"/>
            <a:ext cx="359568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# ServiceWrappe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nder(N, D,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FileSt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qGen(start, step, limit, N, D,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FileSt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ProdGen(N1, D, N2, D, N3, D,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FileSt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ndGen(box, count, N, D,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FileSt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## probe(N1, D, N2, D,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FileSt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89760" y="1447920"/>
            <a:ext cx="944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ile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1828800" y="18288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276720" y="3886200"/>
            <a:ext cx="2819160" cy="122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## BigProb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ndom(box,count, N,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gular(Box, count, N,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catenate3D(N[*],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isualise(N,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5943600" y="2438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43440" y="5410080"/>
            <a:ext cx="2842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## Explorer2 – C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le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ndom(box, count, N,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gular(box, count, N,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334120" y="5105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21360" y="533520"/>
            <a:ext cx="1361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tscript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1676520" y="533160"/>
            <a:ext cx="4419360" cy="5331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084800" y="2828880"/>
            <a:ext cx="202176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un your explorer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 surfa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d then ghostview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e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OA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cover coefficients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rface gen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119720" y="1182600"/>
            <a:ext cx="19486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ce Explorer2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WS 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768080" y="8380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.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088400" y="244800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A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.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934320" y="838080"/>
            <a:ext cx="152280" cy="19814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5866920" y="4419720"/>
            <a:ext cx="12193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5400000">
            <a:off x="-894240" y="202500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e functionalities 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Services of previous 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59840" y="4572000"/>
            <a:ext cx="1600920" cy="36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55880" y="5105520"/>
            <a:ext cx="1637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Wrappe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90480" y="3733920"/>
            <a:ext cx="9334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rface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295280" y="35053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52760" y="5934240"/>
            <a:ext cx="1070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gProb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52040" y="6391440"/>
            <a:ext cx="1003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lore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685800" y="4191120"/>
            <a:ext cx="0" cy="380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1828800" y="2437920"/>
            <a:ext cx="1143000" cy="2667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1905120" y="3581280"/>
            <a:ext cx="1218960" cy="1905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1752480" y="6019560"/>
            <a:ext cx="129564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819520" y="990720"/>
            <a:ext cx="4114800" cy="5486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650120" y="649116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 Cli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7283520" y="611028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362000" y="618660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 invo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196800" y="2666880"/>
            <a:ext cx="26280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ileStoreWrappe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t*(N[*], D[*], N, D,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FileSt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lete*(N, D,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FileSt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st(D,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FileSt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4876920" y="3580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55160" y="5486400"/>
            <a:ext cx="17658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leStoreWrappe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1828800" y="4571640"/>
            <a:ext cx="1447920" cy="1523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ichard Hopkins</cp:lastModifiedBy>
  <dcterms:modified xsi:type="dcterms:W3CDTF">2005-07-11T15:15:10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