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233F-DBEC-4C3A-B5C9-F1D8D054F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C39E-2145-49E0-A34F-D9ABEC14A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E3DA-7666-4FBF-A9FD-EC47CBBF9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7CED-F0A4-42E6-B859-E604CC4A7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23A0-C613-46EB-9A76-5EAF7C9A5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1E64D-92B2-4ABD-A1B8-C53EDD4D6B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3EDC6-FEC1-4E65-8184-BCD2EAE7E6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84D5B-0014-44EE-A36F-B80EE5E293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9B50D-4BFD-40BF-87D1-E77557738F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6697D-662D-4761-80F8-86D9CEB3C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CFF8-48AC-43DA-9F5F-0D35075E45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F5F7F-967D-4990-8DC7-B994424AD6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A118C-C53C-4B78-BC47-D92FA89C84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87192-04AC-428B-93F7-25651FD0C2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EFC4E-AC2B-4021-943A-F08E7AC8D9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83313-1C26-4C13-874A-30A5E1A2E8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E587D-36C0-4591-AA46-8AA60F61A7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50656-0A44-42B1-9C36-781B3D9A04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AE04-B68E-40C9-AF2D-9ABBBBE772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8E04-1941-4EFA-99F9-1AC20709E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562F-1359-4FB6-B759-0673B3381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4FFE-0275-4139-BCC6-09AFD439E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8A85-1054-4C6E-8F7D-76B686BDB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88D0-5708-4943-B4D5-146B74350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F386-249C-4240-9AF0-3DE9835EA77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Schema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DF0C-64BA-4DBA-8EEE-05D141212D06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Schemas (XSD)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–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5600" y="4313160"/>
            <a:ext cx="858996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Model –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each component matched in this order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one and only one component is matched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any order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Each component must match one or zero elements – maxOccurs=“1”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20" y="1289160"/>
            <a:ext cx="4248000" cy="151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date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Sdate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Kdate“ … 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240" y="1279440"/>
            <a:ext cx="0" cy="1522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3840" y="1474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3520" y="145728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774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6720" y="178920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4120" y="2081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3280" y="2106720"/>
            <a:ext cx="0" cy="54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2040" y="2384280"/>
            <a:ext cx="0" cy="138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5880" y="23860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5880" y="266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08640" y="1289160"/>
            <a:ext cx="357660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US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08640" y="2589120"/>
            <a:ext cx="357660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UK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24/10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29120" y="1957320"/>
            <a:ext cx="500040" cy="809640"/>
          </a:xfrm>
          <a:custGeom>
            <a:avLst/>
            <a:gdLst>
              <a:gd name="textAreaLeft" fmla="*/ 0 w 500040"/>
              <a:gd name="textAreaRight" fmla="*/ 180360 w 50004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92800" y="1931760"/>
            <a:ext cx="933120" cy="4237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473800" y="1650960"/>
            <a:ext cx="247680" cy="477720"/>
          </a:xfrm>
          <a:custGeom>
            <a:avLst/>
            <a:gdLst>
              <a:gd name="textAreaLeft" fmla="*/ 0 w 247680"/>
              <a:gd name="textAreaRight" fmla="*/ 89280 w 247680"/>
              <a:gd name="textAreaTop" fmla="*/ 12240 h 477720"/>
              <a:gd name="textAreaBottom" fmla="*/ 46548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85680" y="2989440"/>
            <a:ext cx="235080" cy="439560"/>
          </a:xfrm>
          <a:custGeom>
            <a:avLst/>
            <a:gdLst>
              <a:gd name="textAreaLeft" fmla="*/ -360 w 235080"/>
              <a:gd name="textAreaRight" fmla="*/ 84600 w 235080"/>
              <a:gd name="textAreaTop" fmla="*/ 11160 h 439560"/>
              <a:gd name="textAreaBottom" fmla="*/ 42840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05400" y="2341440"/>
            <a:ext cx="966600" cy="9018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C3CAE-E1C4-456C-A71E-7920C3BDC9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Elements –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5600" y="4313160"/>
            <a:ext cx="858996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Model –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each component matched in this order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one and only one component is matched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any order – use for “Struct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Each component must match one or zero elements – maxOccurs=“1”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520" y="1289160"/>
            <a:ext cx="4165920" cy="151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customer“ …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deliver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bill“ … 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1520" y="1292400"/>
            <a:ext cx="0" cy="1522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4480" y="1487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4160" y="146988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1200" y="17874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7360" y="180180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4760" y="2093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560" y="2119320"/>
            <a:ext cx="0" cy="54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2320" y="2397240"/>
            <a:ext cx="0" cy="137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6520" y="2398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6520" y="2676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9960" y="1182600"/>
            <a:ext cx="4000680" cy="14130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bi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terms&gt; 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eliv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79960" y="2798640"/>
            <a:ext cx="4000680" cy="14130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eliv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bi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terms&gt; 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22560" y="1917720"/>
            <a:ext cx="459000" cy="809640"/>
          </a:xfrm>
          <a:custGeom>
            <a:avLst/>
            <a:gdLst>
              <a:gd name="textAreaLeft" fmla="*/ 0 w 459000"/>
              <a:gd name="textAreaRight" fmla="*/ 165600 w 45900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39"/>
                </a:lnTo>
                <a:cubicBezTo>
                  <a:pt x="10800" y="10239"/>
                  <a:pt x="16200" y="11139"/>
                  <a:pt x="21600" y="11139"/>
                </a:cubicBezTo>
                <a:cubicBezTo>
                  <a:pt x="16200" y="11139"/>
                  <a:pt x="10800" y="12039"/>
                  <a:pt x="10800" y="129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413240" y="1931760"/>
            <a:ext cx="806400" cy="384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172120" y="1558800"/>
            <a:ext cx="208080" cy="730440"/>
          </a:xfrm>
          <a:custGeom>
            <a:avLst/>
            <a:gdLst>
              <a:gd name="textAreaLeft" fmla="*/ 360 w 208080"/>
              <a:gd name="textAreaRight" fmla="*/ 75600 w 208080"/>
              <a:gd name="textAreaTop" fmla="*/ 18720 h 730440"/>
              <a:gd name="textAreaBottom" fmla="*/ 7117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72120" y="3174840"/>
            <a:ext cx="208080" cy="730440"/>
          </a:xfrm>
          <a:custGeom>
            <a:avLst/>
            <a:gdLst>
              <a:gd name="textAreaLeft" fmla="*/ 360 w 208080"/>
              <a:gd name="textAreaRight" fmla="*/ 75600 w 208080"/>
              <a:gd name="textAreaTop" fmla="*/ 18720 h 730440"/>
              <a:gd name="textAreaBottom" fmla="*/ 7117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13240" y="2367000"/>
            <a:ext cx="806400" cy="1154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6AAED-8D39-4FDF-B916-FEDD101574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-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0240" y="4894200"/>
            <a:ext cx="85899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entryT inherits the components of entryT - extend the sequen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800" y="939960"/>
            <a:ext cx="5200560" cy="386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entryT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“not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prodCod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quant”&gt; 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X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xtension bas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notify" type="xs:string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rgency" type="xs:string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1520" y="927000"/>
            <a:ext cx="0" cy="3595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4480" y="11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160" y="1104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200" y="1422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7360" y="1436760"/>
            <a:ext cx="0" cy="86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4760" y="172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83360" y="987480"/>
            <a:ext cx="180720" cy="1393920"/>
          </a:xfrm>
          <a:custGeom>
            <a:avLst/>
            <a:gdLst>
              <a:gd name="textAreaLeft" fmla="*/ 0 w 180720"/>
              <a:gd name="textAreaRight" fmla="*/ 65160 w 180720"/>
              <a:gd name="textAreaTop" fmla="*/ 36360 h 1393920"/>
              <a:gd name="textAreaBottom" fmla="*/ 1357560 h 13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786"/>
                </a:lnTo>
                <a:cubicBezTo>
                  <a:pt x="10800" y="7686"/>
                  <a:pt x="16200" y="8586"/>
                  <a:pt x="21600" y="8586"/>
                </a:cubicBezTo>
                <a:cubicBezTo>
                  <a:pt x="16200" y="8586"/>
                  <a:pt x="10800" y="9486"/>
                  <a:pt x="10800" y="103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480" y="2889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200" y="3191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2960" y="34783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4160" y="288936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7360" y="31957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0560" y="37638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7040" y="34909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2960" y="406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9440" y="3778200"/>
            <a:ext cx="0" cy="59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2960" y="4365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27400" y="1246320"/>
            <a:ext cx="1292040" cy="2109600"/>
          </a:xfrm>
          <a:custGeom>
            <a:avLst/>
            <a:gdLst/>
            <a:ahLst/>
            <a:rect l="l" t="t" r="r" b="b"/>
            <a:pathLst>
              <a:path w="814" h="1329">
                <a:moveTo>
                  <a:pt x="0" y="1329"/>
                </a:moveTo>
                <a:lnTo>
                  <a:pt x="781" y="1212"/>
                </a:lnTo>
                <a:lnTo>
                  <a:pt x="814" y="236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29240" y="927000"/>
            <a:ext cx="208728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…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28520" y="3095640"/>
            <a:ext cx="228240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X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…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ify&gt;caretaker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rgency&gt;very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83360" y="2868480"/>
            <a:ext cx="241200" cy="1855800"/>
          </a:xfrm>
          <a:custGeom>
            <a:avLst/>
            <a:gdLst>
              <a:gd name="textAreaLeft" fmla="*/ 0 w 241200"/>
              <a:gd name="textAreaRight" fmla="*/ 87120 w 241200"/>
              <a:gd name="textAreaTop" fmla="*/ 48240 h 1855800"/>
              <a:gd name="textAreaBottom" fmla="*/ 18075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786"/>
                </a:lnTo>
                <a:cubicBezTo>
                  <a:pt x="10800" y="7686"/>
                  <a:pt x="16200" y="8586"/>
                  <a:pt x="21600" y="8586"/>
                </a:cubicBezTo>
                <a:cubicBezTo>
                  <a:pt x="16200" y="8586"/>
                  <a:pt x="10800" y="9486"/>
                  <a:pt x="10800" y="103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99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4760" y="22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657B3-931F-4EEA-8EF7-5494ED3E5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-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0240" y="4082760"/>
            <a:ext cx="8589960" cy="3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tension which adds no content – used to denote a  special cas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920" y="939960"/>
            <a:ext cx="4141440" cy="298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entryT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“not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prodCod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quant”&gt; 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Urgent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xtension bas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    &lt;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1520" y="927000"/>
            <a:ext cx="0" cy="3003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480" y="11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160" y="1104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1200" y="1422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7360" y="1436760"/>
            <a:ext cx="0" cy="86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4760" y="172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" y="2889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1200" y="3191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2960" y="34783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160" y="288936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7360" y="31957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0560" y="37638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7040" y="34909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4760" y="199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4760" y="22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12920" y="3613320"/>
            <a:ext cx="223920" cy="291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029AE-151D-4C9D-8480-9B8D915898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Elements/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720" y="1036800"/>
            <a:ext cx="4570920" cy="533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 name="accNo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… 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optional restrictions ….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accNoT"/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note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… 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optional restrictions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24520" y="907920"/>
            <a:ext cx="306072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 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to collect &lt;/&gt;  …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3578040" y="1298160"/>
            <a:ext cx="371160" cy="2148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901960" y="4016520"/>
            <a:ext cx="133200" cy="66168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520" y="1014480"/>
            <a:ext cx="0" cy="506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480" y="122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4160" y="1244520"/>
            <a:ext cx="0" cy="325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1200" y="1549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7360" y="1536840"/>
            <a:ext cx="0" cy="29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1200" y="2701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960" y="2994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7360" y="2690640"/>
            <a:ext cx="0" cy="284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480" y="2405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4160" y="2411280"/>
            <a:ext cx="0" cy="2858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8720" y="3008160"/>
            <a:ext cx="0" cy="1160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4280" y="3298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4280" y="3908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4480" y="47498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1200" y="50468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4160" y="4756320"/>
            <a:ext cx="0" cy="285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9960" y="5367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7360" y="5064120"/>
            <a:ext cx="0" cy="284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200" y="5392800"/>
            <a:ext cx="0" cy="29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51360" y="2232000"/>
            <a:ext cx="4292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featur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ccurrences (local elem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fault / Fixed valu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illabl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ype featur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Restri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ase simple 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ultimately a primitive xsd: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Restriction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atterns, enumerations,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Un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Lis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A46C2-E255-4474-9C9A-031EE6940D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09520" y="3565080"/>
            <a:ext cx="718488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an associate attributes with a 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in-lin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naming a globally declared attribute - see lat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ttribute has featur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ome simple 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ault/fix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 – optional (default), prohibited, requir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f it has an attribute, it must be a complex 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or a naturally complex type, just add it in at the first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or an actually simple type -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60" y="984240"/>
            <a:ext cx="5398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prodCode" type="prodCodeT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…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attribute name="collect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xs:boolean" use="optional" default="false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46600" y="907920"/>
            <a:ext cx="333864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collect=“true”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15-75-87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1520" y="1014480"/>
            <a:ext cx="0" cy="20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480" y="1163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4160" y="1174680"/>
            <a:ext cx="0" cy="1152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145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720" y="1467000"/>
            <a:ext cx="0" cy="612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9960" y="176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2343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680160" y="1467000"/>
            <a:ext cx="1238400" cy="3254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6640" y="2232000"/>
            <a:ext cx="4816440" cy="560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3236E-E7C0-4ED8-8C4A-73A806AE88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indefinite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indefinite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ng attributes to simple typ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5680" y="4599000"/>
            <a:ext cx="3478320" cy="15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as attribute - is complex typ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But it is simple conten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xtends a simple typ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with an attribute -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could be several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4920" y="939960"/>
            <a:ext cx="5006880" cy="298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ttribute name="units" default="metric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numeration value="imperial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numeration value="metric"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 entryT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“ type=“xs:decimal”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29160" y="907920"/>
            <a:ext cx="355608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collect=“true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15-75-87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 units=“metric”&gt;17.3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4040" y="950760"/>
            <a:ext cx="0" cy="2997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7000" y="1116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6680" y="1127160"/>
            <a:ext cx="0" cy="255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3440" y="1406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600" y="14191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2480" y="17193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9280" y="1741320"/>
            <a:ext cx="0" cy="552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0080" y="20145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0080" y="229392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289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6120" y="4529160"/>
            <a:ext cx="5130360" cy="1807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xtension base="xs:decimal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ttribute name="units" use="require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 &lt;/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36680" y="2921040"/>
            <a:ext cx="0" cy="255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3440" y="3182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600" y="31957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2480" y="34956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2480" y="47181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7200" y="47401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0080" y="502272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66880" y="5035680"/>
            <a:ext cx="0" cy="2649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0120" y="53006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96840" y="5305320"/>
            <a:ext cx="0" cy="273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00080" y="5592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28600" y="5618160"/>
            <a:ext cx="0" cy="272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20680" y="5897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0920" y="3330720"/>
            <a:ext cx="4294440" cy="307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4600440"/>
            <a:ext cx="4529160" cy="1694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24440" y="3654360"/>
            <a:ext cx="11160" cy="97164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57957-F43B-4D0C-AA56-64499F4993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indefinite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indefinite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-SCHEMA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49800" y="3122640"/>
            <a:ext cx="4894200" cy="328680"/>
          </a:xfrm>
          <a:prstGeom prst="leftArrow">
            <a:avLst>
              <a:gd name="adj1" fmla="val 50000"/>
              <a:gd name="adj2" fmla="val 37226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4F04D-9A64-4FD7-ABE6-6E432A4E63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 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55320" y="2908080"/>
            <a:ext cx="85899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ttp://company.org/forms/namespa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e name of the language for which this schema defines the syntax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chema will only match an instance if its namespace matches -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3120" y="1042920"/>
            <a:ext cx="8653680" cy="12765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chema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argetNameSpace= “http://company.org/forms/namespace”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“PO”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3120" y="4335480"/>
            <a:ext cx="8653680" cy="67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?xml version="1.0" encoding="UTF-8"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:PO   xmlns:it=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ttp://company.org/forms/namespace  i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1=“…”&gt;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5680" y="5578560"/>
            <a:ext cx="858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f schema has no targetNameSpace – it can only match un-qualified nam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DFD02-2C65-4A4D-9492-6F4A9E8D98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2680" y="3243240"/>
            <a:ext cx="414504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ll must be same targe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ms one logical schema as the combination of physically distinct schem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.e. referencing main as the schema allows document to be an PO or an SE (stock enquir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llows individual document definitions to share type defini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54800" y="1163520"/>
            <a:ext cx="3538440" cy="15631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…/Forms/Types.xsd"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26800" y="7905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PO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19880" y="3098880"/>
            <a:ext cx="3554280" cy="139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impleType    nam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other types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35080" y="272556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Types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64080" y="5073480"/>
            <a:ext cx="3565800" cy="161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…/Forms/Types.xsd"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8640" y="47005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Inv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7240" y="1230480"/>
            <a:ext cx="4273560" cy="1892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ww…/Forms/PO.xsd"/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ww…/Forms/Inv.xs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8280" y="84780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main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348080" y="1191960"/>
            <a:ext cx="1165320" cy="89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48080" y="2671920"/>
            <a:ext cx="1101960" cy="23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8945640" y="2536920"/>
            <a:ext cx="9360" cy="51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8945640" y="4545000"/>
            <a:ext cx="9360" cy="51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0800000">
            <a:off x="3033360" y="144432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0800000">
            <a:off x="8359920" y="1404720"/>
            <a:ext cx="490320" cy="88920"/>
          </a:xfrm>
          <a:prstGeom prst="rightArrow">
            <a:avLst>
              <a:gd name="adj1" fmla="val 50000"/>
              <a:gd name="adj2" fmla="val 13785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8451360" y="33652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0800000">
            <a:off x="8346600" y="53128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4939A-4BEE-4B3E-B61E-9B4FC1426D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and Schema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11400" y="317808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7D749-CAB4-4FB2-9474-7CD034C826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clude is to distribute the definition of this namespace (language) over multiple Schema defini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mport is to allow use of other namespaces (languages) in the definition for this languag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19880" y="2631960"/>
            <a:ext cx="3554280" cy="139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“…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www. …/Standards/ns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impleType    nam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USdat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other types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24200" y="226368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ww… /Standards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9120" y="2884320"/>
            <a:ext cx="5113440" cy="2884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NameSpace= “…www. …/forms/ns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xmlns:st =“…www…/Standards/ns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“…www…/Standards/ns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maLoc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“…www… /Standards.xsd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PO“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name=“USdate” type=“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USdat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”\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0400" y="251604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ww… /Forms/PO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5960" y="5851440"/>
            <a:ext cx="8589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ust have namespace definition for import’s namesp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21440" y="4065480"/>
            <a:ext cx="485640" cy="59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0800000">
            <a:off x="4146120" y="36046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0800000">
            <a:off x="4451400" y="4320720"/>
            <a:ext cx="490320" cy="88920"/>
          </a:xfrm>
          <a:prstGeom prst="rightArrow">
            <a:avLst>
              <a:gd name="adj1" fmla="val 50000"/>
              <a:gd name="adj2" fmla="val 13785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8652960" y="295560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266D7-B9B2-4443-A034-FAC3CAF859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8760" y="3138480"/>
            <a:ext cx="88027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eb Services needs to accommodate extensibi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PO can be “extended” with client’s own information about an order item – e.g. how the user allocates the cost -This is just reflected back in the Invo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element will be from the client’s namespace – unknown when writing the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vered by an Any element (“wildcard”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Any element can define the allowed namespa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tensibility covers two kinds of language enhancement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alisation – namespace=“##other” anything but this names space – could view user-PO as a specialisation of P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Versioning – namespace=“##local” this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600" y="909720"/>
            <a:ext cx="548028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 nam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:element ref="note" minOccurs="0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prodCode"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ny namespace="##other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Occurs="0" maxOccurs="unbounded"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1120" y="900000"/>
            <a:ext cx="0" cy="21193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4080" y="110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3760" y="1130400"/>
            <a:ext cx="0" cy="233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160" y="1397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6960" y="1422360"/>
            <a:ext cx="0" cy="1160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4360" y="1703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4360" y="199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4360" y="22845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4360" y="25750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61080" y="907920"/>
            <a:ext cx="331164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xmlns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ser=“www. …”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&gt; 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.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&lt;user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hargeto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…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95680" y="2557440"/>
            <a:ext cx="27288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4280" y="2295360"/>
            <a:ext cx="0" cy="154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06800" y="2252520"/>
            <a:ext cx="230364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73400" y="1974960"/>
            <a:ext cx="221004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97480" y="1684440"/>
            <a:ext cx="180000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06061-802E-4949-8C84-4F23564F20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0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LITY CHE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4905360"/>
            <a:ext cx="6019920" cy="328680"/>
          </a:xfrm>
          <a:prstGeom prst="leftArrow">
            <a:avLst>
              <a:gd name="adj1" fmla="val 50000"/>
              <a:gd name="adj2" fmla="val 45788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180D4-80B7-47AA-B941-3056EDB14F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hema  Gener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chemas are a moderately sophisticated typ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hoice; all; an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on; pattern;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ore sophisticated than e.g. Java type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sage of the Schema generality depends on inter-operability issu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Low interoperability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configuration table for your particular applic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only for human consump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User does not write programs that use the tabl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uld use full generality of schema definition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High Interoperability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SDL for your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used to define the structure of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must be usable by any web services toolk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ype structure must be translatable into any programming language type sche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owest common denominator –   WS-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D100D-C25C-4D0D-86D6-23C4C81603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hemas within WSD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mplex Ele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equence for distinctly-named component fiel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tandard type for Arra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imple Ele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A collection of standard typ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xclud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xtension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ho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l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Repitition / optionality (maxoccurrs, minoccurrs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ixed cont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.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766E2-4FAB-4B56-B034-8F35BCC44A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SCH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Schema defines the syntax for an XML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XML document can have an associated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t is valid if it meets the syntax rules of that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is can import syntax for (parts of) other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uch like programming language type declarations, But some peculiariti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as declaration of attributes - needed to define XML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ree ways to define the “type” of a valu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iving the sub-structure directly – anonymous 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ferring to a Typ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ferring to an Element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ows extension poi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uite a complex structure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s itself an XML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asier to read than to wri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xample – Purchase Order document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338f"/>
                </a:solidFill>
                <a:uFillTx/>
                <a:latin typeface="Arial"/>
              </a:rPr>
              <a:t>http://www.gs.unina.it/repository/tuesday-12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D9C51-A865-441E-B6DD-3F9D00E2F9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idation / Gene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2577960"/>
            <a:ext cx="85899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chema is a typ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fines a range of possible instan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8f"/>
                </a:solidFill>
                <a:latin typeface="Arial"/>
              </a:rPr>
              <a:t>The set of all instances which are “validated by the schema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stance is validated by the schema” – it satisfies the  schema defini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ternative terminology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 matches the instance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instance matches the schema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24520" y="1263600"/>
            <a:ext cx="3060720" cy="87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9320" y="1236600"/>
            <a:ext cx="1989360" cy="9255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chema ….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51120" y="2273400"/>
            <a:ext cx="311724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Schema –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59560" y="2273400"/>
            <a:ext cx="318096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stance –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32080" y="1457280"/>
            <a:ext cx="351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56360" y="11397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Validat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332080" y="1893960"/>
            <a:ext cx="351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34760" y="15667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Is Validated B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9200" y="1139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atch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9200" y="15508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atch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FDFB5-C4FF-48F6-A818-849E914B8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EMENTS etc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94280" y="2757600"/>
            <a:ext cx="4149720" cy="328680"/>
          </a:xfrm>
          <a:prstGeom prst="leftArrow">
            <a:avLst>
              <a:gd name="adj1" fmla="val 50000"/>
              <a:gd name="adj2" fmla="val 31563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61B06-98C6-40F8-9826-7FDAC213FE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24520" y="958680"/>
            <a:ext cx="3060720" cy="4102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Sdate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bill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addr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terms&gt;7-day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delive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00" y="958680"/>
            <a:ext cx="5313240" cy="533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chema ….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xmlns:xs="http://www.w3.org/2001/XMLSchema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 nam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axOccurs="unbounde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3680" y="1162080"/>
            <a:ext cx="0" cy="4940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3680" y="203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9160" y="114156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3680" y="2336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2200" y="2333520"/>
            <a:ext cx="0" cy="11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3680" y="2593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2200" y="2619360"/>
            <a:ext cx="0" cy="293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2200" y="2048040"/>
            <a:ext cx="0" cy="11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2200" y="29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1600" y="2933640"/>
            <a:ext cx="0" cy="277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5120" y="3222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560" y="3247920"/>
            <a:ext cx="0" cy="2005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3522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2160" y="3540240"/>
            <a:ext cx="0" cy="11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3680" y="5851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040" y="38052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040" y="4078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160" y="4078440"/>
            <a:ext cx="0" cy="306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8640" y="437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4394160"/>
            <a:ext cx="0" cy="11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040" y="4684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8040" y="5257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32600" y="5130720"/>
            <a:ext cx="287316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1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schema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“envelope”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xs” =  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namespace. Or “xsd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20080" y="5191200"/>
            <a:ext cx="3909600" cy="125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2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P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- global complex element -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 sequence of child elements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Date, accno, customer, note,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Entry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n anonymous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92360" y="5254560"/>
            <a:ext cx="242208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3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Da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see lat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83080" y="5332320"/>
            <a:ext cx="389592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4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AccN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57160" y="5392800"/>
            <a:ext cx="309564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5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customer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info –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sted complex ele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50760" y="5454720"/>
            <a:ext cx="371160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6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no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reference to a globa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ement – same name and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0 – 3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2680" y="5494320"/>
            <a:ext cx="379548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7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entr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1 or more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95A7C-C794-423D-8AEA-4750BB4D57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indefinite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indefinite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indefinite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T VISIBLE COMMENTS OF PREVIOUS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2080" y="1006560"/>
            <a:ext cx="287316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1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schema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“envelope”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xs” =  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namespace. Or “xsd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9960" y="1927080"/>
            <a:ext cx="3909600" cy="125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2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P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- global complex element -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 sequence of child elements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Date, accno, customer, note,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Entry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n anonymous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4080" y="3324240"/>
            <a:ext cx="242208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3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Da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see lat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840" y="3736800"/>
            <a:ext cx="389592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4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AccN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5280" y="4206960"/>
            <a:ext cx="309564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5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customer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info –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sted complex ele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0720" y="4883040"/>
            <a:ext cx="371160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6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no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reference to a globa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ement – same name and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0 – 3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800" y="5811840"/>
            <a:ext cx="379548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7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entr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1 or more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2B35A-D59B-4CF6-B544-F43332DAB5F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obal I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95800" y="947880"/>
            <a:ext cx="3867120" cy="12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nnotation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Documentation  (also appinfo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Can also go deeper in 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o annotate parts of structur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4320" y="958680"/>
            <a:ext cx="4740120" cy="3020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468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chema 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annotation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documentation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Here is a Schema&lt;/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impleType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"PO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760" y="1162080"/>
            <a:ext cx="0" cy="2727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760" y="1808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6240" y="114156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760" y="281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760" y="3165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280" y="1830240"/>
            <a:ext cx="0" cy="351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280" y="2174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760" y="3479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280" y="2822400"/>
            <a:ext cx="0" cy="152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280" y="3165480"/>
            <a:ext cx="0" cy="112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280" y="3495600"/>
            <a:ext cx="0" cy="112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760" y="3797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280" y="3827520"/>
            <a:ext cx="0" cy="98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7080" y="1693800"/>
            <a:ext cx="3605040" cy="901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9160" y="6078600"/>
            <a:ext cx="458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der of global items is not significa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7080" y="2649600"/>
            <a:ext cx="4730760" cy="663480"/>
          </a:xfrm>
          <a:prstGeom prst="rect">
            <a:avLst/>
          </a:pr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8400" y="2436840"/>
            <a:ext cx="3829320" cy="97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lobal (named) Types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imple or complex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in giving type of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7080" y="3343320"/>
            <a:ext cx="4730760" cy="609480"/>
          </a:xfrm>
          <a:prstGeom prst="rect">
            <a:avLst/>
          </a:pr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040" y="4229280"/>
            <a:ext cx="8569440" cy="1579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lements - two rol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 instance document can have an instance of this as its root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O  or Note – not what’s intended !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be referenced from elsewhere as another way of giving “type”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ut must use same 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8720" y="6097680"/>
            <a:ext cx="39531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ther things e.g. attributes, group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DD7FD-C9E4-4E32-9758-771AC065CD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indefinit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indefinite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Complex 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" y="4157640"/>
            <a:ext cx="8985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Nillable – can match element with attribu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si:nil = “true”,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and no 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Occurrences – minOccurs , maxOccurs. Default is 1..1. max can be “unbounded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is schema item can match N occurrences of the element, Min&lt;=N&lt;=Max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Model (feature of type)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this 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f there are any notes – after customer and before first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24520" y="907920"/>
            <a:ext cx="3060720" cy="3026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Sdate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xsi:nil=“true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40" y="907920"/>
            <a:ext cx="5514840" cy="3278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“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nillable=“1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axOccurs="unbounded"/&gt;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240" y="898560"/>
            <a:ext cx="0" cy="3284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3840" y="1093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3520" y="107640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3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720" y="140796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120" y="1700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" y="1725480"/>
            <a:ext cx="0" cy="2468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0680" y="1992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2040" y="2003400"/>
            <a:ext cx="0" cy="244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0680" y="2854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0680" y="344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43120" y="1825560"/>
            <a:ext cx="4160520" cy="874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03800" y="2050920"/>
            <a:ext cx="2649600" cy="516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43120" y="2752560"/>
            <a:ext cx="4160520" cy="544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64200" y="2608200"/>
            <a:ext cx="1616040" cy="544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560" y="1547640"/>
            <a:ext cx="4691160" cy="29232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73640" y="1855800"/>
            <a:ext cx="0" cy="1854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9360" y="1974960"/>
            <a:ext cx="149868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60720" y="2887560"/>
            <a:ext cx="222732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92640" y="3471840"/>
            <a:ext cx="189540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00640" y="1974960"/>
            <a:ext cx="876240" cy="198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248440" y="2689200"/>
            <a:ext cx="982440" cy="200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75440" y="2887560"/>
            <a:ext cx="903240" cy="93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248440" y="3259080"/>
            <a:ext cx="982440" cy="200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00640" y="3486240"/>
            <a:ext cx="890640" cy="39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E71DD-55B6-42F4-969A-59A04CCDB9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21:33:27Z</dcterms:modified>
  <cp:revision>100</cp:revision>
  <dc:subject/>
  <dc:title>XML</dc:title>
</cp:coreProperties>
</file>