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5"/>
          </p:nvPr>
        </p:nvSpPr>
        <p:spPr>
          <a:xfrm>
            <a:off x="38271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7859-C7AE-41AD-A7E2-9C67DA6034AC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91080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74280" y="4687560"/>
            <a:ext cx="5405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7"/>
          </p:nvPr>
        </p:nvSpPr>
        <p:spPr>
          <a:xfrm>
            <a:off x="38271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27F2-1FF1-427A-973B-3D2EF64177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0972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03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– this is very artificial example, e.g. there is a standard for date representation which should be used  rather than a US date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DE5F7-9D11-4DB7-B8B8-1738A65C8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B0E8-B30B-48FC-B734-CE5E201AA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B9D3B-3953-4C03-A120-B9DD4F0AD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56082-DA29-41BA-ACD1-83F9EDD67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4CB0F-3D5B-45D0-9938-CD2FF6547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9D8EA-E138-437E-80CA-F2E1B05E94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0B352-FA46-4F60-9088-F236905CA0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529BC-D63B-47EE-BC44-BCDA158817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82328-FCF0-4B15-8895-678D80E264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49C50-77F9-40A1-AE61-949E0CC2C2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80D6D-E0D7-4767-A397-09B9062AF8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6BAC8-63CD-481B-BB32-6C12AE5042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5D150-8220-40E4-A30C-2E2FAB057A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F644D-7379-4460-AFC0-8439F966B7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0EB49-5831-4814-A179-66E9722A29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B8DD6-F8EF-43DB-9177-5D5EDAEA69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CE1BC-C5A8-4B35-AABC-7E7FF1521E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877B5-0987-4E06-B5CC-493DFFF4E3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2D813-46A8-4B3C-9C57-5086CABD44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467DA-06F5-4A8E-B2A3-EF9821B5D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2F75D-033B-4097-AA2C-82DD1D50A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9B43E-2D23-497B-B6AF-45DBB7EFF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13548-D9E1-4A16-8F07-2C855BD1D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A0D8A-4CAC-48E4-BF60-C2F83260A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A415-4848-46B1-8F9E-A0701FF9426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XM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A7F3-9E4E-4A6F-8E0F-B01FDF69FD75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" y="657684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ISSGC’05 – June 20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w3.org/TR/REC-xml-names" TargetMode="External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55680" y="2493720"/>
            <a:ext cx="69883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’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XML documents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Richard Hopkins, 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ational e-Science Centre, Edinburgh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June 2005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cument 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600" y="955440"/>
            <a:ext cx="85899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ain structure of document i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rolog – like headers; usualy standard and un-interest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lement – the actual document – recursively has nested elemen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mmediately following the prolo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iscellaneou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white space and “supplementals” allowed throughout with some restric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Supplemental –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Com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4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Processing Instruction (PI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1680" y="4373640"/>
            <a:ext cx="6165720" cy="2026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 version=“1.0”  encoding=“UTF-8” 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- - This is an example XML document - -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-stylesheet  type=“text/ccs”  href=“greet.ccs”  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voice&gt; … 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45400" y="4460760"/>
            <a:ext cx="212760" cy="1009800"/>
          </a:xfrm>
          <a:custGeom>
            <a:avLst/>
            <a:gdLst>
              <a:gd name="textAreaLeft" fmla="*/ 0 w 212760"/>
              <a:gd name="textAreaRight" fmla="*/ 76680 w 2127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713720" y="5732640"/>
            <a:ext cx="285840" cy="539640"/>
          </a:xfrm>
          <a:custGeom>
            <a:avLst/>
            <a:gdLst>
              <a:gd name="textAreaLeft" fmla="*/ 0 w 285840"/>
              <a:gd name="textAreaRight" fmla="*/ 103320 w 285840"/>
              <a:gd name="textAreaTop" fmla="*/ 14040 h 539640"/>
              <a:gd name="textAreaBottom" fmla="*/ 5256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36640" y="47829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prolo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59680" y="5668920"/>
            <a:ext cx="1066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Roo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7800" y="444024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PI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3080" y="4568760"/>
            <a:ext cx="44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69840" y="4732200"/>
            <a:ext cx="44136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273640"/>
            <a:ext cx="13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Com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44480" y="4928760"/>
            <a:ext cx="63828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AEE27-2EB6-4C16-B3D2-3FAB6BD32A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45600" y="2914560"/>
            <a:ext cx="8589960" cy="27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incipal element structure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tart Tag – &lt;…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ame of ele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Zero or more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ach a name-value pair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Uniquely named; 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Order insignificant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ntent – possibly nested </a:t>
            </a:r>
            <a:r>
              <a:rPr b="0" lang="en-US" sz="1800" spc="-1" strike="noStrike" u="sng">
                <a:solidFill>
                  <a:srgbClr val="00338f"/>
                </a:solidFill>
                <a:uFillTx/>
                <a:latin typeface="Arial"/>
              </a:rPr>
              <a:t>element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, and other thing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nd Tag - &lt;/ … 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ame – MUST be same name as in matching Start Ta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Like HTML – but stricter – must have end ta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5760" y="1471680"/>
            <a:ext cx="6611760" cy="12776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      customerType=“trade”           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66000" y="1598760"/>
            <a:ext cx="88920" cy="27756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560"/>
              <a:gd name="textAreaBottom" fmla="*/ 27036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66000" y="240192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66000" y="2001960"/>
            <a:ext cx="88920" cy="27756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560"/>
              <a:gd name="textAreaBottom" fmla="*/ 27036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000920" y="1541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Start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01640" y="23320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End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01640" y="19540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835560" y="939960"/>
            <a:ext cx="142920" cy="789120"/>
          </a:xfrm>
          <a:custGeom>
            <a:avLst/>
            <a:gdLst>
              <a:gd name="textAreaLeft" fmla="*/ 0 w 142920"/>
              <a:gd name="textAreaRight" fmla="*/ 51480 w 142920"/>
              <a:gd name="textAreaTop" fmla="*/ 20520 h 789120"/>
              <a:gd name="textAreaBottom" fmla="*/ 768600 h 7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7600" y="8334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2603520" y="171000"/>
            <a:ext cx="142920" cy="2327400"/>
          </a:xfrm>
          <a:custGeom>
            <a:avLst/>
            <a:gdLst>
              <a:gd name="textAreaLeft" fmla="*/ 0 w 142920"/>
              <a:gd name="textAreaRight" fmla="*/ 51480 w 142920"/>
              <a:gd name="textAreaTop" fmla="*/ 60480 h 2327400"/>
              <a:gd name="textAreaBottom" fmla="*/ 226692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5244120" y="563760"/>
            <a:ext cx="150840" cy="1549440"/>
          </a:xfrm>
          <a:custGeom>
            <a:avLst/>
            <a:gdLst>
              <a:gd name="textAreaLeft" fmla="*/ 0 w 150840"/>
              <a:gd name="textAreaRight" fmla="*/ 54360 w 150840"/>
              <a:gd name="textAreaTop" fmla="*/ 40320 h 1549440"/>
              <a:gd name="textAreaBottom" fmla="*/ 1509120 h 15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26400" y="8334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54880" y="8334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ttribute: name-value pai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A78A9-D488-4ECA-909E-FFBC93AA61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45600" y="1661760"/>
            <a:ext cx="8589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name-value pair that is included in the start tag of an ele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ame is part of specific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Value may also be part of a specific language – QName – qualified nam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ore properly the above might b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 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oice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Type =“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de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Style=“USnot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”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is starts to get convoluted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ecessary for designing for multi-lingual documents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5760" y="1047600"/>
            <a:ext cx="8737560" cy="450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      customerType=“trade”            dateStyle=“US”&gt; ….   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12826-9BE0-48CD-BDB3-920E37C2D6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ty El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5600" y="3486240"/>
            <a:ext cx="858996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mpty Element Tag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 accNo=“17-36-2”  terms=“days31”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horthand for element with no cont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just attributes perhap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indicated by    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&gt;     not     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ame a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 accNo=“17-36-2”  terms=“days31”&gt;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account 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76640" y="1312920"/>
            <a:ext cx="5505120" cy="20566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accNo=“17-36-2” terms=“days31”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6920" y="134460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61320" y="291132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00840" y="1724040"/>
            <a:ext cx="192240" cy="1069920"/>
          </a:xfrm>
          <a:custGeom>
            <a:avLst/>
            <a:gdLst>
              <a:gd name="textAreaLeft" fmla="*/ 0 w 192240"/>
              <a:gd name="textAreaRight" fmla="*/ 69480 w 192240"/>
              <a:gd name="textAreaTop" fmla="*/ 27720 h 1069920"/>
              <a:gd name="textAreaBottom" fmla="*/ 104220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81840" y="128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Start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25400" y="28987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End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54280" y="20844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1800" y="2013120"/>
            <a:ext cx="1831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mpty 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085120" y="2100240"/>
            <a:ext cx="196920" cy="263520"/>
          </a:xfrm>
          <a:custGeom>
            <a:avLst/>
            <a:gdLst>
              <a:gd name="textAreaLeft" fmla="*/ 0 w 196920"/>
              <a:gd name="textAreaRight" fmla="*/ 70920 w 196920"/>
              <a:gd name="textAreaTop" fmla="*/ 6840 h 263520"/>
              <a:gd name="textAreaBottom" fmla="*/ 2566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4871A-A737-452B-8FBB-492BF8DC02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sted El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5600" y="3968640"/>
            <a:ext cx="85899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ccount and Items are child element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Non-unique nam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ually order is significa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is is not a usual programming language configu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est if each compound item is eith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tructure (Struct) – uniquely named compon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rray – multiple same-named compon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8920" y="1103400"/>
            <a:ext cx="5227560" cy="210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ustomerType=“trade” dateStyle=“US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No=“17-36-2” terms=“days31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ddr&gt;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&lt;/addr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45840" y="1112760"/>
            <a:ext cx="2831040" cy="26902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…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ccoun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tems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ddr&gt;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&lt;/addr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94200" y="1298520"/>
            <a:ext cx="0" cy="2059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88080" y="15922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88080" y="19000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88080" y="33544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43880" y="2023920"/>
            <a:ext cx="0" cy="760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54680" y="276372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54680" y="247320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754680" y="218268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86166-2F0A-42DA-8665-047ACB7E87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rect Character  (Simple)  Cont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45600" y="3195720"/>
            <a:ext cx="8589960" cy="32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0000"/>
                </a:solidFill>
                <a:latin typeface="Arial"/>
              </a:rPr>
              <a:t>&lt;price&gt; 17.35 &lt;/price&gt;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is an element with just character data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A simple valu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ll simple values are text strings, but may have particular syntax and interpretation as decimal, integer, date, …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3240" y="1128600"/>
            <a:ext cx="8074080" cy="1923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ccount accNo=“17-36-2” terms=“days31”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7.35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&lt;/item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0/29/04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2173.35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pri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&lt;/item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56886-0808-4AFE-8919-E6490E326B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4175280"/>
            <a:ext cx="8888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ill use XML a lot  - Schemas, Soap messages, WSDL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o use clearer/briefer nota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extual – direct translation to actual XM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Generally will use indentation to indicate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bbreviate End Tags to just &lt;/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lways have to actually put name in end tag !!!!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ree diagram – to emphasise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6840" y="907920"/>
            <a:ext cx="7935840" cy="3111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ice currency=“Euro”&gt;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3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oductCode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-23-57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quantity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1000" y="1119240"/>
            <a:ext cx="0" cy="2168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4840" y="1098720"/>
            <a:ext cx="23652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6600" y="13651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6600" y="2765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6600" y="3294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3560" y="2776680"/>
            <a:ext cx="0" cy="168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" y="1362240"/>
            <a:ext cx="0" cy="1082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3560" y="165096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3560" y="192240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3560" y="220824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3560" y="246528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3560" y="3305160"/>
            <a:ext cx="0" cy="468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3560" y="357984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7E4C3-B68A-4A91-AA33-66036AC352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- NAMESP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32080" y="2475000"/>
            <a:ext cx="5911920" cy="328680"/>
          </a:xfrm>
          <a:prstGeom prst="leftArrow">
            <a:avLst>
              <a:gd name="adj1" fmla="val 50000"/>
              <a:gd name="adj2" fmla="val 44967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63BAE-FF4D-4F6A-95F9-0F93D2386A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5600" y="2948040"/>
            <a:ext cx="858996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namespace (= “language”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Defines a collection of names (a vocabulary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or UK : {address, county, postCode, ….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ually has an associated syntax (e.g. Schema definition)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ddress = … county, postCode, …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yntax may be available to S/W processing i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mplies a semantics – the (programmer writing) S/W processing a UK:address knows what it mea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rovides a unique prefix for disambiguating names from different originator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K vs. US vs. I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7080" y="923760"/>
            <a:ext cx="8889840" cy="18698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voice&gt;                                                 &lt;!-- INT = International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--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deliveryAddres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&lt;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INT</a:t>
            </a:r>
            <a:r>
              <a:rPr b="1" lang="en-GB" sz="1800" spc="-1" strike="noStrike">
                <a:solidFill>
                  <a:srgbClr val="305ba9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count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postCo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billingAddres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&lt;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INT</a:t>
            </a:r>
            <a:r>
              <a:rPr b="1" lang="en-GB" sz="1800" spc="-1" strike="noStrike">
                <a:solidFill>
                  <a:srgbClr val="305ba9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sta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    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zi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01354-3272-4868-B829-D34F9ED691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Nam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To get uniqueness of namespace name, use a URI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UK: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postCode is really 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HTTP://www.UKstandards.org/Web/XMLForms:postCode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       (mythical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The URI </a:t>
            </a:r>
            <a:r>
              <a:rPr b="0" lang="en-GB" sz="2000" spc="-1" strike="noStrike" u="sng">
                <a:solidFill>
                  <a:srgbClr val="00338f"/>
                </a:solidFill>
                <a:uFillTx/>
                <a:latin typeface="Arial"/>
              </a:rPr>
              <a:t>might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be a real URL, for accessing the syntax definition, documentation, ….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But it may be just an identifier within the internet domain owned by the namespace owner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B63E5-22E0-41CC-8C03-9867FD8952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General appreciation of XML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ufficient detail to understand WSDLs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tructure –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11400" y="2835360"/>
            <a:ext cx="6132600" cy="328680"/>
          </a:xfrm>
          <a:prstGeom prst="leftArrow">
            <a:avLst>
              <a:gd name="adj1" fmla="val 50000"/>
              <a:gd name="adj2" fmla="val 46645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11B7A-0733-4B0A-8B84-B7B37DA755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Prefix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UK</a:t>
            </a:r>
            <a:r>
              <a:rPr b="0" lang="en-GB" sz="1900" spc="-1" strike="noStrike">
                <a:solidFill>
                  <a:srgbClr val="2b519a"/>
                </a:solidFill>
                <a:latin typeface="Arial"/>
              </a:rPr>
              <a:t>:postCode is really </a:t>
            </a: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www.UKstandards.org/Web/XMLForms</a:t>
            </a:r>
            <a:r>
              <a:rPr b="0" lang="en-GB" sz="1900" spc="-1" strike="noStrike">
                <a:solidFill>
                  <a:srgbClr val="2b519a"/>
                </a:solidFill>
                <a:latin typeface="Arial"/>
              </a:rPr>
              <a:t>:postCode</a:t>
            </a: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  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ut HTTP://www.UKstandards.org/Web/XML/Forms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ostCode i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ediously long to use throughout the docu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Outside XML name syntax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Namespaces are not part of XM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 supplementary standard </a:t>
            </a:r>
            <a:r>
              <a:rPr b="0" lang="en-GB" sz="1800" spc="-1" strike="noStrike" u="sng">
                <a:solidFill>
                  <a:srgbClr val="ac3b8b"/>
                </a:solidFill>
                <a:uFillTx/>
                <a:latin typeface="Arial"/>
                <a:hlinkClick r:id="rId1"/>
              </a:rPr>
              <a:t>http://www.w3.org/TR/REC-xml-names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 W3C recommend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In an XML docu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declare a namespace prefix, as an attribute of an ele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xmlns: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UK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=“HTTP://www.UKstandards.org/Web/XML/Forms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hen use that for names in that namespace - UK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UK: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ost code is called a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QName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(qualified name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7D6B2-2382-44F1-8B27-451CB08BC8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Prefix Declar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5600" y="3703680"/>
            <a:ext cx="8589960" cy="30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amespace declaration occurs as an attribute of an ele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.e. within a start ta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cope is from beginning of  that start tag to matching end ta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Excluding scope of nested re-declarations of same prefix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an declare a default namesp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xlmns=“www/3”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– this is the name space for all un-qualified names in the scope of this declaration, eg. Stree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But no defaulting for attributes – if no prefix, no namespa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4120" y="1158840"/>
            <a:ext cx="7926480" cy="26067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: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xlmns:BF=“www/1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xlmns:UK=“www/2”  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xmlns=“www/3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                                        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:delivery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ress&gt; …&lt;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unty&gt;…&lt;/&gt; &lt;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tCode&gt;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: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billing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xlmns:US=“www. …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 …&lt;street&gt;…&lt;/&gt; …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sta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    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zi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…. &lt;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:invoi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000" y="939960"/>
            <a:ext cx="78120" cy="204480"/>
          </a:xfrm>
          <a:custGeom>
            <a:avLst/>
            <a:gdLst/>
            <a:ahLst/>
            <a:rect l="l" t="t" r="r" b="b"/>
            <a:pathLst>
              <a:path w="49" h="129">
                <a:moveTo>
                  <a:pt x="49" y="0"/>
                </a:moveTo>
                <a:lnTo>
                  <a:pt x="0" y="129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9360" y="949320"/>
            <a:ext cx="2286000" cy="2689200"/>
          </a:xfrm>
          <a:custGeom>
            <a:avLst/>
            <a:gdLst/>
            <a:ahLst/>
            <a:rect l="l" t="t" r="r" b="b"/>
            <a:pathLst>
              <a:path w="1446" h="1541">
                <a:moveTo>
                  <a:pt x="1446" y="117"/>
                </a:moveTo>
                <a:lnTo>
                  <a:pt x="1422" y="0"/>
                </a:lnTo>
                <a:lnTo>
                  <a:pt x="0" y="0"/>
                </a:lnTo>
                <a:lnTo>
                  <a:pt x="6" y="1507"/>
                </a:lnTo>
                <a:lnTo>
                  <a:pt x="919" y="1541"/>
                </a:lnTo>
                <a:lnTo>
                  <a:pt x="919" y="1412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8680" y="1795320"/>
            <a:ext cx="554040" cy="146160"/>
          </a:xfrm>
          <a:custGeom>
            <a:avLst/>
            <a:gdLst/>
            <a:ahLst/>
            <a:rect l="l" t="t" r="r" b="b"/>
            <a:pathLst>
              <a:path w="349" h="92">
                <a:moveTo>
                  <a:pt x="0" y="92"/>
                </a:moveTo>
                <a:lnTo>
                  <a:pt x="349" y="86"/>
                </a:lnTo>
                <a:lnTo>
                  <a:pt x="343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332000" y="2481120"/>
            <a:ext cx="2023920" cy="41940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55920" y="2509920"/>
            <a:ext cx="922320" cy="39996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4320" y="2479680"/>
            <a:ext cx="2527200" cy="41112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94200" y="1469880"/>
            <a:ext cx="3530520" cy="487440"/>
          </a:xfrm>
          <a:custGeom>
            <a:avLst/>
            <a:gdLst/>
            <a:ahLst/>
            <a:rect l="l" t="t" r="r" b="b"/>
            <a:pathLst>
              <a:path w="2224" h="307">
                <a:moveTo>
                  <a:pt x="2224" y="0"/>
                </a:moveTo>
                <a:lnTo>
                  <a:pt x="110" y="152"/>
                </a:lnTo>
                <a:lnTo>
                  <a:pt x="0" y="307"/>
                </a:lnTo>
              </a:path>
            </a:pathLst>
          </a:custGeom>
          <a:noFill/>
          <a:ln w="255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8680" y="2448000"/>
            <a:ext cx="554040" cy="145800"/>
          </a:xfrm>
          <a:custGeom>
            <a:avLst/>
            <a:gdLst/>
            <a:ahLst/>
            <a:rect l="l" t="t" r="r" b="b"/>
            <a:pathLst>
              <a:path w="349" h="92">
                <a:moveTo>
                  <a:pt x="0" y="92"/>
                </a:moveTo>
                <a:lnTo>
                  <a:pt x="349" y="86"/>
                </a:lnTo>
                <a:lnTo>
                  <a:pt x="343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DAF8D-16E3-4970-8954-F09B727D7B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ll-formed and Vali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b519a"/>
                </a:solidFill>
                <a:uFillTx/>
                <a:latin typeface="Arial"/>
              </a:rPr>
              <a:t>Well-formed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means it conforms to the XML syntax, e.g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rt and end tags nest properly with matching nam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b519a"/>
                </a:solidFill>
                <a:uFillTx/>
                <a:latin typeface="Arial"/>
              </a:rPr>
              <a:t>Valid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means it conforms to the syntax defined by the namespaces used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an’t check this without a definition of that syntax –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ormally a Schema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DTD (document Type Definitions) – deprecate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Others type definition system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some more sophisticated than Schemas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7FAC6-D9E6-429A-9303-B13AB6E7CC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 EN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DFA37-EACA-4448-852A-EDD8A5EB65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Markup Languag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XML = e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X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tensible 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M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rkup 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L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nguag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Markup” means document is an intermixing of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Content – the actual information to be conveyed - payload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Markup – information about the conten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etaData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gt;22/10/1946&lt;/date&gt;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gt; … &lt;/date&gt;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is  markup – says that the content is a dat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elf-describing docu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is part of a markup vocabulary –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a collection of keywords used to identify syntax and semantics of constructs in an XML docu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9A549-C5E1-49FC-968B-E134002953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ML = e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X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ensible 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M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rkup 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L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xtensible” means the markup vocabulary is not fix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ompare with similar NON-extensible language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HTML (Hypertext Markup Language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ixed markup vocabulary  e.g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This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is a paragraph. I like it.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This is 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another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paragraph &lt;/p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presentation </a:t>
            </a:r>
            <a:r>
              <a:rPr b="1" lang="en-GB" sz="1800" spc="-1" strike="noStrike" u="sng">
                <a:solidFill>
                  <a:srgbClr val="00338f"/>
                </a:solidFill>
                <a:uFillTx/>
                <a:latin typeface="Arial"/>
              </a:rPr>
              <a:t>language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for describing how a document should be presented for human consumption –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is a paragraph. I like it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nothe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paragraph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or HTML the language is fixed and implicit in the fact that this is an HTML document – single-language docu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ML requires explicit definition of the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ne document can combine multiple langu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DC40F-2F2B-41C5-B568-7A2BEE602E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-lingual 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9680" y="3494160"/>
            <a:ext cx="900432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sinessForms:Invoice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n Invoice construct within the businessForms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usinessForms (mythical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language defining structure of business docum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or business interoperabi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Doesn’t prescribe the language of individual items such as da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aken from separate languages -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notations:dat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Language names are actually universally unique URIs – www.DesperatelyTryingToStandardise.org/BusinessForms -  see lat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1040" y="895320"/>
            <a:ext cx="8666280" cy="25628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businessForms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product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Code&gt;123-768-25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quantity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los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7EB60-40F9-4E95-B9DF-7806894418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lingual  Pros  &amp; C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600" y="2914560"/>
            <a:ext cx="858996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paration of concerns – Design Factor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Desig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urchase order structure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date format etc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re independent concer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Re-use of language definitions, e.g. date formats in many langu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xtensibility – Purchase order accommodates new product identification schemes (e.g. ISBN for book stores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f course, only works if both ends “understand” all languages us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akes things more complex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Creating and identifying the langu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1040" y="895320"/>
            <a:ext cx="8666280" cy="19306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businessForms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product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Code&gt;123-768-25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quantity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los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8F568-BFC3-4096-B880-2B4C674FCC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XML Langu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5600" y="907560"/>
            <a:ext cx="8798040" cy="57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Fundamental Standard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.g. SOAP - the language for soap mess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ap-envelope:head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oap-envelope:bod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soap message is an XML document and its parts are identified using this vocabular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Goal is a factoring that gives pick-and-mix of combinable standar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ssociated with any WS standard will be a Schema definition of its XML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ommunity conven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Perhaps, our BusinessForms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pecialised Data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Java configuration tabl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pecific Application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yProgram:parameter1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he language used in invoking particular operations of a web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B6DCC-C6A0-4392-ABC8-19A6304B08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man &amp; Machine Oriented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94080" y="987120"/>
            <a:ext cx="4641840" cy="57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Human readabl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Sort of - OK with decent editor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Is de-buggabl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Important for meta-data documents,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E.g. WSD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Machine processabl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Self description enabl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General tools for producing and consuming XML documen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Verbos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OK except for large data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Messages may have attachments not in XM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1040" y="895320"/>
            <a:ext cx="3929040" cy="55152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ow it really look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: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: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USnotations: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oduct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:barCod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3-768-252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businessForms:barCod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product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quantit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:kilo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metricMeasures:kilo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quantit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 businessForms:Invoice</a:t>
            </a:r>
            <a:r>
              <a:rPr b="0" lang="en-GB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54898-60B3-44E1-BAE6-8EECE20D47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– DETAILED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35320" y="2109960"/>
            <a:ext cx="5008680" cy="328320"/>
          </a:xfrm>
          <a:prstGeom prst="leftArrow">
            <a:avLst>
              <a:gd name="adj1" fmla="val 50000"/>
              <a:gd name="adj2" fmla="val 38138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F06C3-81CA-42D2-84D9-6808B1AF30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Richard Hopkins</cp:lastModifiedBy>
  <dcterms:modified xsi:type="dcterms:W3CDTF">2005-07-11T09:39:16Z</dcterms:modified>
  <cp:revision>100</cp:revision>
  <dc:subject/>
  <dc:title>XML</dc:title>
</cp:coreProperties>
</file>