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E315-68C9-4A50-9DC6-15E7A657B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3D62-BDAD-4C61-B4F5-15C2BCAC1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A745-5EC9-4287-BA35-BCBD37935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C452-5B8F-46F9-BB3E-C00A43769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124B-74F5-412D-8E27-25E33E861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56235-C8A0-421C-9B22-8D66423D22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89E2D-AE05-4175-A765-4C714C0123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3568D-D3F8-407A-B632-5491E69C28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D961B-3434-44FF-BFC7-4889FB0F00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6FB3A-D5DE-4A61-8A27-73F1A5A884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8782-0A4D-4BDB-82C0-19DAE2D281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E2AF1-F535-401B-9589-47A4B5EF45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664CA-EE94-4FFF-A2E1-FEE1DF30E7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C8A8C-C620-4207-874C-CF7621ADBF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66C9E-655D-4CC8-8FA9-20B70E8895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2BF70-6BCD-4B1A-8A5C-46138017EB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8B261-8CFF-43D1-B3C3-D89BC4A43C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28BDE-C8E5-4C1D-9DF8-6D67533E39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B2D3-C4DE-4EB2-A90A-8C251113CE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3186-8F0A-43DA-96B6-7ADDED856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9226-D21D-4B08-B7B5-58E224EB5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4654-5B82-4D0E-9BF2-BBDD951C5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8729-86AD-4E86-ADB8-5D1464385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CFBD-6D9D-4C22-BB2E-B9AA44F96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3C35-F8ED-4133-AD20-FB0C4083C02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Web Services Too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E023-C8AF-49EC-A261-A518363A745E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 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 05</a:t>
            </a: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Web Service Tools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eSC Training Team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ent operation m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JAX-RPC allows two modes of ope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ynchronous – two-way RP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nvolves blocking the client until it receives a respon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Is similar to a traditional java method cal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ven if no actual return value – Public void request (…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ve wait for a success/exception respon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ne-way RPC - Asynchronou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 client block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rvice performs a operation without replying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t analogous to traditional method calls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annot throw an excep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497C8-1CFD-4D93-8338-7FEAA2FB67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 method defini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177920"/>
            <a:ext cx="87454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 java web service end point interface must obey the following rul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he interface must extend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rmi.remo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ervice endpoint interfaces may be extensions of other interfac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terface methods must declare that it throws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rmi.RemoteExcep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ervice dependent exceptions can be thrown if they are checked exceptions derived from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lang.Excep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C6225-8D5D-4D8B-966F-0CCC3F7C63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6960" y="931680"/>
            <a:ext cx="898668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ypes That can be in th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ava primitives (eg.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bool, int, float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imitive wrappers (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Boolean, Integer, Float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tandard java class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lang.String,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util.Calendar,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util.Date,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math.BigDecimal,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math.BigInteg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lder class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types”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lass has a public no-argument constructo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be extended from any other class, may have static and instance methods, may implement any interface (except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java.rmi.Remot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and any derived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have static fields, instance fields that are public, protected, package private or private but these must be supported types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rays (where all elements are supported type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1920" y="594828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ject by reference is not supported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D17BA-1987-4C10-809D-DBDDABBFE0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-) serial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789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 web services (also C based ones) allow a developer to treat service classes as if they are local  - i.e. stubs are creat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ll web services messages are XML (SOAP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is means that objects sent across web services must be translated to XML and back – (de-)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What is serialised is the “accessible state”; 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irectly accessible fiel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ields with mutator/accessor metho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e values returned by service methods are in fact local classes created by JAX-RPC from the XML 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lasses seen by either side may not be identic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avoid comparisons using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==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;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equals()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should be used inst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If you want to pass an un-supported java class you have to create your own serialiser / de-serialiser to translate to and from XML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is not a trivial task as there is no JAX-RPC framework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7800" y="1008000"/>
            <a:ext cx="779400" cy="63180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86240" y="993600"/>
            <a:ext cx="779400" cy="63216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0280" y="952560"/>
            <a:ext cx="779400" cy="63180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6880" y="113508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84240" y="115560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14320" y="107784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39480" y="9748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11320" y="1398600"/>
            <a:ext cx="110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De-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811680"/>
            <a:ext cx="914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43040" y="1228680"/>
            <a:ext cx="185580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4200" y="1228680"/>
            <a:ext cx="185544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642680" y="1393920"/>
            <a:ext cx="185580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286160" y="1393920"/>
            <a:ext cx="183528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1320" y="968400"/>
            <a:ext cx="110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De-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93840" y="14158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93EFA-E3DD-49AE-BDA1-D462598755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02320" y="1050480"/>
            <a:ext cx="31305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odel”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artially compiled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sage Modes –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face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Model, WSD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SDL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Model,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odel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Interface,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226548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25520" y="126360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22840" y="1158840"/>
            <a:ext cx="1143000" cy="53352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52440" y="1063800"/>
            <a:ext cx="1119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V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f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60560" y="958680"/>
            <a:ext cx="1506600" cy="75420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6000" y="1063800"/>
            <a:ext cx="102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7280" y="958680"/>
            <a:ext cx="1408320" cy="7653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52680" y="1730520"/>
            <a:ext cx="276120" cy="53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9880" y="2421000"/>
            <a:ext cx="1166760" cy="63144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sid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9960" y="2519280"/>
            <a:ext cx="1299240" cy="63144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sid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96960" y="1444680"/>
            <a:ext cx="385920" cy="814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487600" y="1741320"/>
            <a:ext cx="1440" cy="50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687400" y="1743120"/>
            <a:ext cx="11160" cy="55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160440" y="1446120"/>
            <a:ext cx="716040" cy="814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228840" y="1674720"/>
            <a:ext cx="658800" cy="74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496880" y="2522520"/>
            <a:ext cx="33192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0" y="2544840"/>
            <a:ext cx="682560" cy="2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B0C73-6344-463C-944D-6A5DE2E23A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 – usage pattern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339120" y="1171440"/>
            <a:ext cx="2729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ocal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lient and Serv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ame organ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61200" y="1139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5600" y="1157400"/>
            <a:ext cx="140832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9280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384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0244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8320" y="179388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1240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161960" y="1488960"/>
            <a:ext cx="18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6800" y="1892160"/>
            <a:ext cx="121284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4680" y="1897200"/>
            <a:ext cx="287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235320" y="1897200"/>
            <a:ext cx="287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339120" y="3186000"/>
            <a:ext cx="2995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emote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lient and Serv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ifferent organ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44720" y="295596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5160" y="296244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72000" y="35640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9400" y="35845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80280" y="35798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7880" y="359892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89880" y="35640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241880" y="32940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02520" y="37018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14880" y="37018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89600" y="3129120"/>
            <a:ext cx="141912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7960" y="26938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ublish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40200" y="5014800"/>
            <a:ext cx="2782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emot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ing from Jav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Rather than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15200" y="478476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43480" y="479124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40320" y="53928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38240" y="541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69120" y="54086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16200" y="542772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79080" y="53928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210200" y="51228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19136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28284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9104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09840" y="110016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812808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09840" y="287352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8305920" y="326232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49880" y="54086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74720" y="541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60960" y="5530680"/>
            <a:ext cx="3542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09840" y="472608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8128080" y="511488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6720" y="3038400"/>
            <a:ext cx="0" cy="2789280"/>
          </a:xfrm>
          <a:prstGeom prst="line">
            <a:avLst/>
          </a:prstGeom>
          <a:ln w="25560">
            <a:solidFill>
              <a:srgbClr val="325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F144A-2358-4090-80B2-E9EC249AFC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Deta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56120" y="4262400"/>
            <a:ext cx="5987880" cy="328680"/>
          </a:xfrm>
          <a:prstGeom prst="leftArrow">
            <a:avLst>
              <a:gd name="adj1" fmla="val 50000"/>
              <a:gd name="adj2" fmla="val 45544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7AA9A-DF7F-4864-B7B6-1F8906ABEF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aining  the WS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WSDL can be downloaded from a UDDI registr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f the service uses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XRPCServlet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 you can attach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?WSD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 (or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?mode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) to the URL request to get the WSDL (or model file)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00338f"/>
                </a:solidFill>
                <a:latin typeface="Courier New"/>
              </a:rPr>
              <a:t>http://localhost:8080/Service/Servicename?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2A706-C2F5-4705-ACD5-BF631F0C8E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8400" y="915840"/>
            <a:ext cx="7845840" cy="69984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wscompil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–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gen:client  –d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outputdir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classpath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1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keep –s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2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config.xm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86120" y="4782960"/>
            <a:ext cx="6847560" cy="103140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wscompil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–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gen:server –d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outputdir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classpath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1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keep –s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2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- model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mfile.z 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                                             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config.xm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6960" y="19209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5faf"/>
                </a:solidFill>
                <a:uFillTx/>
                <a:latin typeface="Verdana"/>
              </a:rPr>
              <a:t>Client-side u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658880" y="1829880"/>
            <a:ext cx="0" cy="2206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581120" y="1176120"/>
            <a:ext cx="164880" cy="1133640"/>
          </a:xfrm>
          <a:custGeom>
            <a:avLst/>
            <a:gdLst>
              <a:gd name="textAreaLeft" fmla="*/ 105480 w 164880"/>
              <a:gd name="textAreaRight" fmla="*/ 165240 w 16488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213720" y="1065600"/>
            <a:ext cx="128520" cy="1365120"/>
          </a:xfrm>
          <a:custGeom>
            <a:avLst/>
            <a:gdLst>
              <a:gd name="textAreaLeft" fmla="*/ 82080 w 128520"/>
              <a:gd name="textAreaRight" fmla="*/ 128880 w 128520"/>
              <a:gd name="textAreaTop" fmla="*/ 35280 h 1365120"/>
              <a:gd name="textAreaBottom" fmla="*/ 1329840 h 13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68800" y="1830240"/>
            <a:ext cx="0" cy="103824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3960" y="287172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here to p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40520" y="2859120"/>
            <a:ext cx="140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To overri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classpat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4903920" y="1805040"/>
            <a:ext cx="25200" cy="1149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4785480" y="983160"/>
            <a:ext cx="230040" cy="1584360"/>
          </a:xfrm>
          <a:custGeom>
            <a:avLst/>
            <a:gdLst>
              <a:gd name="textAreaLeft" fmla="*/ 146880 w 230040"/>
              <a:gd name="textAreaRight" fmla="*/ 230400 w 2300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6546960" y="905040"/>
            <a:ext cx="155520" cy="1666800"/>
          </a:xfrm>
          <a:custGeom>
            <a:avLst/>
            <a:gdLst>
              <a:gd name="textAreaLeft" fmla="*/ 99360 w 155520"/>
              <a:gd name="textAreaRight" fmla="*/ 155520 w 155520"/>
              <a:gd name="textAreaTop" fmla="*/ 43200 h 1666800"/>
              <a:gd name="textAreaBottom" fmla="*/ 1623600 h 16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98320" y="2176560"/>
            <a:ext cx="147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To retai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Java sour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o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utput; an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here t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ut i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08880" y="1830240"/>
            <a:ext cx="0" cy="465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8089920" y="1166760"/>
            <a:ext cx="166680" cy="1153800"/>
          </a:xfrm>
          <a:custGeom>
            <a:avLst/>
            <a:gdLst>
              <a:gd name="textAreaLeft" fmla="*/ 106560 w 166680"/>
              <a:gd name="textAreaRight" fmla="*/ 166680 w 166680"/>
              <a:gd name="textAreaTop" fmla="*/ 29880 h 1153800"/>
              <a:gd name="textAreaBottom" fmla="*/ 1123920 h 115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182080" y="1830240"/>
            <a:ext cx="0" cy="465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40280" y="2176560"/>
            <a:ext cx="123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f th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rvice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od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r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5760" y="6221520"/>
            <a:ext cx="72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To generate a model file and where to put it – for use by ws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1944720" y="5025600"/>
            <a:ext cx="166680" cy="1811160"/>
          </a:xfrm>
          <a:custGeom>
            <a:avLst/>
            <a:gdLst>
              <a:gd name="textAreaLeft" fmla="*/ 106560 w 166680"/>
              <a:gd name="textAreaRight" fmla="*/ 166680 w 166680"/>
              <a:gd name="textAreaTop" fmla="*/ 47160 h 1811160"/>
              <a:gd name="textAreaBottom" fmla="*/ 1764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023920" y="5994360"/>
            <a:ext cx="0" cy="30816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49120" y="40687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5faf"/>
                </a:solidFill>
                <a:uFillTx/>
                <a:latin typeface="Verdana"/>
              </a:rPr>
              <a:t>server-side u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58880" y="4368960"/>
            <a:ext cx="0" cy="2206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 rot="5400000">
            <a:off x="1581120" y="4109760"/>
            <a:ext cx="164880" cy="1133640"/>
          </a:xfrm>
          <a:custGeom>
            <a:avLst/>
            <a:gdLst>
              <a:gd name="textAreaLeft" fmla="*/ 105480 w 164880"/>
              <a:gd name="textAreaRight" fmla="*/ 165240 w 16488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 rot="5400000">
            <a:off x="3213720" y="3987360"/>
            <a:ext cx="128520" cy="1365120"/>
          </a:xfrm>
          <a:custGeom>
            <a:avLst/>
            <a:gdLst>
              <a:gd name="textAreaLeft" fmla="*/ 82080 w 128520"/>
              <a:gd name="textAreaRight" fmla="*/ 128880 w 128520"/>
              <a:gd name="textAreaTop" fmla="*/ 35280 h 1365120"/>
              <a:gd name="textAreaBottom" fmla="*/ 1329840 h 13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68800" y="3708360"/>
            <a:ext cx="0" cy="8812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903920" y="3795840"/>
            <a:ext cx="17280" cy="81900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 rot="5400000">
            <a:off x="4785480" y="3850920"/>
            <a:ext cx="230040" cy="1584360"/>
          </a:xfrm>
          <a:custGeom>
            <a:avLst/>
            <a:gdLst>
              <a:gd name="textAreaLeft" fmla="*/ 146880 w 230040"/>
              <a:gd name="textAreaRight" fmla="*/ 230400 w 2300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 rot="5400000">
            <a:off x="6546960" y="3848040"/>
            <a:ext cx="155520" cy="1666800"/>
          </a:xfrm>
          <a:custGeom>
            <a:avLst/>
            <a:gdLst>
              <a:gd name="textAreaLeft" fmla="*/ 99360 w 155520"/>
              <a:gd name="textAreaRight" fmla="*/ 155520 w 155520"/>
              <a:gd name="textAreaTop" fmla="*/ 43200 h 1666800"/>
              <a:gd name="textAreaBottom" fmla="*/ 1623600 h 16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08880" y="4124160"/>
            <a:ext cx="0" cy="4654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 rot="5400000">
            <a:off x="8089920" y="4097880"/>
            <a:ext cx="166680" cy="1153800"/>
          </a:xfrm>
          <a:custGeom>
            <a:avLst/>
            <a:gdLst>
              <a:gd name="textAreaLeft" fmla="*/ 106560 w 166680"/>
              <a:gd name="textAreaRight" fmla="*/ 166680 w 166680"/>
              <a:gd name="textAreaTop" fmla="*/ 29880 h 1153800"/>
              <a:gd name="textAreaBottom" fmla="*/ 1123920 h 115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182080" y="4123800"/>
            <a:ext cx="0" cy="4654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6240" y="2327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=stub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1160" y="3753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=ti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1422360" y="2662200"/>
            <a:ext cx="998640" cy="9460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600200" y="3656160"/>
            <a:ext cx="835200" cy="16956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E30C1-6906-476F-ACED-BD646CFAE3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tion File – from interfa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5160" y="1243080"/>
            <a:ext cx="4575240" cy="29988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name=“……..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targetNamespace=“ …// …/…/wsdl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typeNamespace=“…// …/…/types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packageName=“…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interface name=“…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servantName=“…”/&gt;&lt;/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7560" y="4268880"/>
            <a:ext cx="7546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ice 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service for WSDL 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argetNamespace = namespace of WSDL for names associated with th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ice e.g. port 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ypeNamespac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space of WSDL for data typ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ackage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java pack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interface name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the java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antName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the name of the class that implements the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6160" y="909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Verdana"/>
              </a:rPr>
              <a:t>config.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69280" y="1139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04040" y="115740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0088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1700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0116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87440" y="1332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07076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905600" y="1884240"/>
            <a:ext cx="31608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02000" y="1897200"/>
            <a:ext cx="237960" cy="14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070760" y="214164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04040" y="2403360"/>
            <a:ext cx="1407960" cy="31284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73600" y="24145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5264A-2649-46BD-BB12-7F7F7AE987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89160" y="3468600"/>
            <a:ext cx="6954840" cy="328680"/>
          </a:xfrm>
          <a:prstGeom prst="leftArrow">
            <a:avLst>
              <a:gd name="adj1" fmla="val 50000"/>
              <a:gd name="adj2" fmla="val 52899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A9808-319E-4F12-A1A2-8628BDA2F9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tion File – from  WSDL /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5160" y="1243080"/>
            <a:ext cx="4575240" cy="21175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wsdl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location-”..//…/serviceDef .wsdl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packageName=“….”/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7000" y="3321000"/>
            <a:ext cx="60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Location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URL for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ackage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java package to be 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160" y="909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Verdana"/>
              </a:rPr>
              <a:t>config.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73600" y="113976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04040" y="115740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0088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1700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0116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87440" y="1332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07076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905600" y="1884240"/>
            <a:ext cx="31608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102000" y="1897200"/>
            <a:ext cx="237960" cy="14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75760" y="238932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18440" y="2394000"/>
            <a:ext cx="1407960" cy="31284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070760" y="21258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96120" y="60213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54720" y="6016680"/>
            <a:ext cx="83520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64680" y="600084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176240" y="6138720"/>
            <a:ext cx="2876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8280000" y="5730840"/>
            <a:ext cx="18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91120" y="4491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-165240" y="4697280"/>
            <a:ext cx="5217120" cy="15138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odel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location-”myModel.z”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0" y="6176880"/>
            <a:ext cx="54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= file name of previously generated mod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00528-0AC2-4A6A-BE76-58FEFA83B9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ted 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1640" y="92232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ome of the client side generated fil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45960" y="1400040"/>
          <a:ext cx="6643800" cy="4191120"/>
        </p:xfrm>
        <a:graphic>
          <a:graphicData uri="http://schemas.openxmlformats.org/drawingml/2006/table">
            <a:tbl>
              <a:tblPr/>
              <a:tblGrid>
                <a:gridCol w="1473480"/>
                <a:gridCol w="517032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rvice_Impl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_SerializerRegistry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cep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Exception_SOAPSerializ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Exception_SOAPBuild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Value typ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o_SOAPSerializ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o_SOAPBuild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terface_Stub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hod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B01D1-0625-460E-8560-8B8FB2657A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ng the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Service.java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file corresponds to the definition of the interface for the web service,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5960" y="3621240"/>
            <a:ext cx="8589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 object implementing the interface is like a “service factory”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tServicePort returns an instance of (the stub for) the actual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The required service factory is Service_Impl </a:t>
            </a:r>
            <a:endParaRPr b="0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(Unfortunately this name is only recommended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56520" y="2035080"/>
            <a:ext cx="8187120" cy="13629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package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servicePackag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import javax.xml.rpc.*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Public interface Service extends javax.aml.rpc.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{  </a:t>
            </a:r>
            <a:r>
              <a:rPr b="1" lang="en-GB" sz="1800" spc="-1" strike="noStrike">
                <a:solidFill>
                  <a:srgbClr val="ac3b8b"/>
                </a:solidFill>
                <a:latin typeface="Courier New"/>
              </a:rPr>
              <a:t>public </a:t>
            </a:r>
            <a:r>
              <a:rPr b="1" i="1" lang="en-GB" sz="1800" spc="-1" strike="noStrike">
                <a:solidFill>
                  <a:srgbClr val="ac3b8b"/>
                </a:solidFill>
                <a:latin typeface="Courier New"/>
              </a:rPr>
              <a:t>servicePackage</a:t>
            </a:r>
            <a:r>
              <a:rPr b="1" lang="en-GB" sz="1800" spc="-1" strike="noStrike">
                <a:solidFill>
                  <a:srgbClr val="ac3b8b"/>
                </a:solidFill>
                <a:latin typeface="Courier New"/>
              </a:rPr>
              <a:t> getServicePort();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24120" y="5226120"/>
            <a:ext cx="7227000" cy="6998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Service_Impl service = new Service_Impl ()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value*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nam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= (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valu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)service.getServicePort ()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960" y="6083280"/>
            <a:ext cx="8589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ith this reference you can call the methods of the service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28D57-B271-40B1-B73E-AD096AE57F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loying to a web contai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Create a WAR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class file for service endpoint interfa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class files for service implementation and re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Courier New"/>
              </a:rPr>
              <a:t>web.xml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 file containing deployment inform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Class files for JAX-RPC tie class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-RPC tie classes are implementation specific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77D4E-950F-42BA-962D-00B7CB7F4C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WAR files required for JWSD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45960" y="2144880"/>
          <a:ext cx="8589960" cy="4259160"/>
        </p:xfrm>
        <a:graphic>
          <a:graphicData uri="http://schemas.openxmlformats.org/drawingml/2006/table">
            <a:tbl>
              <a:tblPr/>
              <a:tblGrid>
                <a:gridCol w="4294800"/>
                <a:gridCol w="4295160"/>
              </a:tblGrid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web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Web application deployment descriptor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5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jaxrpc-ri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JWSDP-specific deployment inform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mode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odel file generated by </a:t>
                      </a: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scomp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B3384-EA40-42A8-8CD1-75CE9E2FEE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eb.xml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?xml version=“1.0” encoding=“UTF-8” ?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!DOCTYPE web-app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PUBLIC “-//Sun Microsystems, Inc.//DTD Web Application 2.3//EN”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http://java.sun.com/j2ee/dtds/web-app_2_3.dtd”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web-app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display-name&gt;Service Name&lt;/display-name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description&gt;A web service application&lt;/description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/web-app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5F666-D6D0-4FFF-B03D-9DEF6E332F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ng a deployable WAR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wsdeploy –o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targetFileNam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portableWarFile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The process is informed by the content of th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jaxrpc-ri.xml 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fil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The archive contains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lass files and resour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ompiled class files for the ti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ompiled class files for serializer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WSDL (in WEB-INF director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model file for the service ( in WEB-INF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modified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web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 fil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xrpc-ri-runtime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 (based on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xrpc-ri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5A389-8813-4C76-AF9C-A129E3391D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kage Structure for JAX-RPC Service Endpoi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686800" cy="51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E776B-B217-4CBF-B465-C95DA33F56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les required in the J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45960" y="1058760"/>
          <a:ext cx="8589960" cy="5098680"/>
        </p:xfrm>
        <a:graphic>
          <a:graphicData uri="http://schemas.openxmlformats.org/drawingml/2006/table">
            <a:tbl>
              <a:tblPr/>
              <a:tblGrid>
                <a:gridCol w="4294800"/>
                <a:gridCol w="429516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File typ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ac3b8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Filena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ac3b8b">
                        <a:alpha val="50000"/>
                      </a:srgbClr>
                    </a:solidFill>
                  </a:tcPr>
                </a:tc>
              </a:tr>
              <a:tr h="408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 end point 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na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Info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Excep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 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Servi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Application implement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client.ServiceAppClient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WSDL f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.wsd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Deployment descriptor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application-client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mapping.xml or META-INF/mode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webservicesclient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anifest f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MANIFEST.MF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1C426-BE4D-43E8-8447-3D7712998503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L / C-ba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ER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OAP::LITE   - Collection of Perl modules which provides a simple and lightweight interface to SOAP on both client and server sid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-Ba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SOAP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 and C++ toolkit which provides C/C++ - XML bindings for web services develop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mments from developers suggest that this implementation is fragile and can be bugg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NE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icrosoft web services implementation based on C# super-set of C.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mments form developers – easy entry but lacks flexibility in more complex situ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5E711-2105-4809-9C6A-A892F585E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erces (originally Java, also C++ now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ed in JWSDP modules, Axi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OM (Document Object Mode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reates representation of document structure in memo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X (Simple API for XM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impler but less powerful parsing mod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72898-4B7E-4DE7-A128-60E372667C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Build Tool –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Container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add functionality to web server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Tomca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originally designed to add servlets to web servers – became used to support web servi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xis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new development to specifically support web servi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Axis also includes a web services development environ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Development environ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Java 2 Enterprise Edition (J2EE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Java Bean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Java Web Services Development Package (JWSDP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CDF5F-09A5-47C9-8473-5D27C631C8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WSD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87840" y="3843360"/>
            <a:ext cx="5456160" cy="328680"/>
          </a:xfrm>
          <a:prstGeom prst="leftArrow">
            <a:avLst>
              <a:gd name="adj1" fmla="val 50000"/>
              <a:gd name="adj2" fmla="val 41500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11C34-C65B-4A44-B217-2535898B27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WSDP pack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WSDP Packag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aaj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soap with attachments API for java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p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x parsing (XML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b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XML </a:t>
            </a:r>
            <a:r>
              <a:rPr b="1" lang="en-GB" sz="2100" spc="-1" strike="noStrike">
                <a:solidFill>
                  <a:srgbClr val="00338f"/>
                </a:solidFill>
                <a:latin typeface="Arial"/>
                <a:ea typeface="Arial"/>
              </a:rPr>
              <a:t>→</a:t>
            </a:r>
            <a:r>
              <a:rPr b="1" lang="en-GB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“bindings” = de-serialis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x for regist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-rp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338f"/>
                </a:solidFill>
                <a:uFillTx/>
                <a:latin typeface="Arial"/>
              </a:rPr>
              <a:t>Jax remote procedure c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A2E26-D580-4F8B-B6B5-5B2149EB6A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es JAX-RPC 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60" y="974520"/>
            <a:ext cx="90154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e jax-rpc provides packages which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Given WSDL or Java Interface defini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generate ‘stub’ classes for web service providers or consumers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Handle Java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  <a:ea typeface="Arial"/>
              </a:rPr>
              <a:t>↔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XML serialisations / de-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Handle the generation of SOAP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PI Pack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Core classes for the client side programming mod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encoding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 objects &lt;-&gt; XML SOAP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andler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rocessing XML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andler.soap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older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upport the use of holder lass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server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minimal API for web service implement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soap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pecific SOAP bind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562E6-BF49-45AF-AF1F-6958BB7B69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X-RPC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2720" y="1243080"/>
            <a:ext cx="1758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Applic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2200" y="1243080"/>
            <a:ext cx="64908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7360" y="1243080"/>
            <a:ext cx="22629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eb Services Endpoi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7880" y="2071800"/>
            <a:ext cx="6260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92960" y="2871720"/>
            <a:ext cx="12128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X-RPC API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55520" y="3673440"/>
            <a:ext cx="1328760" cy="6314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Si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PC Runtim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95680" y="4778280"/>
            <a:ext cx="615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5560" y="5589720"/>
            <a:ext cx="5925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24320" y="5381640"/>
            <a:ext cx="1704600" cy="892080"/>
            <a:chOff x="3424320" y="5381640"/>
            <a:chExt cx="1704600" cy="892080"/>
          </a:xfrm>
        </p:grpSpPr>
        <p:sp>
          <p:nvSpPr>
            <p:cNvPr id="232" name="Cloud"/>
            <p:cNvSpPr/>
            <p:nvPr/>
          </p:nvSpPr>
          <p:spPr>
            <a:xfrm>
              <a:off x="3424320" y="5381640"/>
              <a:ext cx="1704600" cy="89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5200" y="56163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312600" y="2871720"/>
            <a:ext cx="12128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X-RPC API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6800" y="2071800"/>
            <a:ext cx="47088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75160" y="3673440"/>
            <a:ext cx="1328760" cy="6314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er Si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PC Runtim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778280"/>
            <a:ext cx="615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41680" y="5589720"/>
            <a:ext cx="5925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90680" y="16225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90680" y="24336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19120" y="162252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90680" y="32338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90680" y="43480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90680" y="51498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330960" y="16225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330960" y="24336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330960" y="32338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30960" y="43480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330960" y="51498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385040" y="16221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4040" y="1897200"/>
            <a:ext cx="55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09520" y="1612800"/>
            <a:ext cx="131436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33920" y="1612800"/>
            <a:ext cx="131436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809960" y="1405080"/>
            <a:ext cx="1122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1720" y="5791320"/>
            <a:ext cx="966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77520" y="5791320"/>
            <a:ext cx="966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81DD7-E6B7-46A9-ABA1-67F6B86FCB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dfmac</cp:lastModifiedBy>
  <dcterms:modified xsi:type="dcterms:W3CDTF">2005-07-12T06:46:51Z</dcterms:modified>
  <cp:revision>95</cp:revision>
  <dc:subject/>
  <dc:title>XML</dc:title>
</cp:coreProperties>
</file>