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8FA-5D56-49A3-9FB0-38988B6577C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5B6-7077-4712-9CC0-AD72351E5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eans rep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Mean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= “doument” | “rp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848C-07D5-45EA-956B-71A507B51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09EE-688A-4104-A63C-0E9480D44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297F-55AD-472A-AF3F-7BA27D85B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1704-5F7D-4B55-92D5-DFC443EF7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8B40-899E-47CF-BE27-249252F2F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C46BF-9BA9-4944-AF58-F91B0CE1E8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E07B3-0853-4794-BEDD-11A1175C3C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13EC4-DA8E-48CB-AD46-3BED809096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AEBF6-F9E6-42E8-B87D-1D1A28B9CA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019ED-6183-4316-BC1D-F4D1D668E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2274-DFF9-44CE-91D4-F67E54D75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103AF-0345-422A-884C-A09E2D0C1A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7CDF8-4D5E-48EA-A748-6389009823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80CD9-0731-4AFC-87E3-407DBE8E35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5011C-4FD8-47A0-9B3D-BD1A006E5E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9CB22-06E0-45C3-959B-12E0A1F788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34194-A1B7-4694-ACDF-8D221C3F09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48D7E-4CB9-4C15-A1B1-585F9BAE70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F5DF-0F10-4D87-BEF0-1CEABCD9FC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9B57-ED26-442E-A94C-8E02362CC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A8D2-E7CC-4E36-ADD8-5E61FF396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44B8-611D-4E6F-8B7F-9C48B819F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E0BF-C983-49E8-8918-ADCA09336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7150-13CC-439A-B1E3-2DB17D8DC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64F-672F-4F60-991C-4DA25476608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SDL and 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7FA3-C261-4396-9279-1F6E769A544F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58332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TR/soap12-part0" TargetMode="External"/><Relationship Id="rId2" Type="http://schemas.openxmlformats.org/officeDocument/2006/relationships/hyperlink" Target="http://www.w3.org/TR/NOTE-SOAP-20000508" TargetMode="External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s Descriptions and SOAP message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ndard Fault C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VersionMisma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Un-recognised namespace for the env:Envelop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MustUnderstan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 mandatory header entry was not understoo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Cli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your fault (e.g. wrong info. In body); re-send won’t work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ust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Serv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our fault (e.g an upstream processing node not responding)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ight succeed if sent later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an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220FA-2B8F-46DA-8C40-6E66670CCE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73720" y="3506760"/>
            <a:ext cx="4670280" cy="328680"/>
          </a:xfrm>
          <a:prstGeom prst="leftArrow">
            <a:avLst>
              <a:gd name="adj1" fmla="val 50000"/>
              <a:gd name="adj2" fmla="val 35523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85DB-5699-4747-9484-FF696F771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WSDL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n XML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scribing network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perates either 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cedure cal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scrib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posed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hat the consumer sees of the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stitutes a contract with the cli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vides a specification of what is offered by the service provider which can be relied on by the service consum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pports Separation of  concer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bstract structure – operations and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to a specific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ition of a particular deployed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o allow common definition and re-combin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ere using WSDL 1.1 – a W3C submission (March 2001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2.0 – is a last call working draft (Aug 2004) – many differen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9C89-B26C-469A-A88C-D6B3FFA3B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Structur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pany Provides two types of Service (PortType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general information (GenInfo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pen an Account (OpenAcc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stomers Service (being a “Customer” = having an account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urchase Order (PurchOrder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voice (In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ayment Advice (PayAd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Statement (GetStmt)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tify overdue payment (Overdu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Both over two kinds of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 -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mail - SM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3B352-147F-4A1A-9C82-75C0FF8F9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Definition - 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080" y="808200"/>
            <a:ext cx="8262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PortType =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et of ope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each operation, a number of messages – input; output; faul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essage is defined separatel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s a number of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part has a type (using schema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3960" y="2029680"/>
            <a:ext cx="261792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Error1,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90720" y="2857680"/>
            <a:ext cx="2057400" cy="11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23402-CDF1-44DA-9B54-D23951602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Definition -  Bi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" y="83016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inding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of a portType to a communication protocol for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underlying protocol(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ow the logical structure is represented using the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two bindings for each PortType – web, e-mai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178A2-210D-4DA5-9815-252CE4E8D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Definition -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" y="91908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– defines one or more ports, each wit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Location – URL – here sharing of locations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and thus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The interface provided by the port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how it is realised over a particular protoco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one service for each portType – there are alternatives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999C2-F6F1-4E32-BBEA-7A5FBB4B6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39144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668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tioning of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2400" y="6113520"/>
            <a:ext cx="41734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36960" y="6113520"/>
            <a:ext cx="4173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080" y="863640"/>
            <a:ext cx="90979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uld put all definitions in one WSDL file – that’s what is produced by J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hand-crafted WSDL, could spread over multiple files, e.g. -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ne WSDL file per servi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Gives control over publication use – CustomerService not in public regist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ifferent services may have semi-independent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mmon message and type definitions – may be shared between interf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44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5600" y="3063960"/>
            <a:ext cx="3065400" cy="136512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5768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46320" y="2971800"/>
            <a:ext cx="1581120" cy="133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894280" y="2970360"/>
            <a:ext cx="1570320" cy="66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5560" y="2860560"/>
            <a:ext cx="2841840" cy="169884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440" y="2863800"/>
            <a:ext cx="2546640" cy="168588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CD2A0-E180-4AFD-A1C6-1A461B1022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 flipV="1">
            <a:off x="7775640" y="229716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773840" y="2625120"/>
            <a:ext cx="700200" cy="2041560"/>
          </a:xfrm>
          <a:custGeom>
            <a:avLst/>
            <a:gdLst>
              <a:gd name="textAreaLeft" fmla="*/ 93600 w 700200"/>
              <a:gd name="textAreaRight" fmla="*/ 606600 w 700200"/>
              <a:gd name="textAreaTop" fmla="*/ 419760 h 2041560"/>
              <a:gd name="textAreaBottom" fmla="*/ 1416960 h 20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69880" y="1057320"/>
            <a:ext cx="7118280" cy="423360"/>
            <a:chOff x="569880" y="1057320"/>
            <a:chExt cx="7118280" cy="423360"/>
          </a:xfrm>
        </p:grpSpPr>
        <p:sp>
          <p:nvSpPr>
            <p:cNvPr id="433" name=""/>
            <p:cNvSpPr/>
            <p:nvPr/>
          </p:nvSpPr>
          <p:spPr>
            <a:xfrm>
              <a:off x="782640" y="1057320"/>
              <a:ext cx="69055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import&gt; incorporate external defini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9880" y="1170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69880" y="5105520"/>
            <a:ext cx="7112160" cy="312120"/>
            <a:chOff x="569880" y="5105520"/>
            <a:chExt cx="7112160" cy="312120"/>
          </a:xfrm>
        </p:grpSpPr>
        <p:sp>
          <p:nvSpPr>
            <p:cNvPr id="436" name=""/>
            <p:cNvSpPr/>
            <p:nvPr/>
          </p:nvSpPr>
          <p:spPr>
            <a:xfrm>
              <a:off x="790560" y="510696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binding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messages will be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9880" y="510552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69880" y="2706840"/>
            <a:ext cx="7112160" cy="785160"/>
            <a:chOff x="569880" y="2706840"/>
            <a:chExt cx="7112160" cy="785160"/>
          </a:xfrm>
        </p:grpSpPr>
        <p:sp>
          <p:nvSpPr>
            <p:cNvPr id="439" name=""/>
            <p:cNvSpPr/>
            <p:nvPr/>
          </p:nvSpPr>
          <p:spPr>
            <a:xfrm>
              <a:off x="790560" y="270684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messag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transmittable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880" y="276876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84560" y="3154320"/>
              <a:ext cx="4464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art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44720" y="318132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9880" y="5653080"/>
            <a:ext cx="7112160" cy="786960"/>
            <a:chOff x="569880" y="5653080"/>
            <a:chExt cx="7112160" cy="786960"/>
          </a:xfrm>
        </p:grpSpPr>
        <p:sp>
          <p:nvSpPr>
            <p:cNvPr id="444" name=""/>
            <p:cNvSpPr/>
            <p:nvPr/>
          </p:nvSpPr>
          <p:spPr>
            <a:xfrm>
              <a:off x="790560" y="565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servic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a service is access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9880" y="568008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4560" y="6129360"/>
              <a:ext cx="4491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ort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web-address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ref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4720" y="61088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69880" y="3583080"/>
            <a:ext cx="7112160" cy="1209240"/>
            <a:chOff x="569880" y="3583080"/>
            <a:chExt cx="7112160" cy="1209240"/>
          </a:xfrm>
        </p:grpSpPr>
        <p:sp>
          <p:nvSpPr>
            <p:cNvPr id="449" name=""/>
            <p:cNvSpPr/>
            <p:nvPr/>
          </p:nvSpPr>
          <p:spPr>
            <a:xfrm>
              <a:off x="790560" y="358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portTyp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interface – operations and assoc.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9880" y="3645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4560" y="4035600"/>
              <a:ext cx="44654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operation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4720" y="40622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7080" y="4481640"/>
              <a:ext cx="30956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MESSAGE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446076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31920" y="919080"/>
            <a:ext cx="7448400" cy="562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775640" y="3382200"/>
            <a:ext cx="706320" cy="1925640"/>
          </a:xfrm>
          <a:custGeom>
            <a:avLst/>
            <a:gdLst>
              <a:gd name="textAreaLeft" fmla="*/ 94320 w 706320"/>
              <a:gd name="textAreaRight" fmla="*/ 612000 w 706320"/>
              <a:gd name="textAreaTop" fmla="*/ 414000 h 1925640"/>
              <a:gd name="textAreaBottom" fmla="*/ 13183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3219375"/>
                <a:lnTo>
                  <a:pt x="6523" y="21166"/>
                </a:lnTo>
                <a:lnTo>
                  <a:pt x="0" y="19020"/>
                </a:lnTo>
                <a:lnTo>
                  <a:pt x="6523" y="16006"/>
                </a:lnTo>
                <a:lnTo>
                  <a:pt x="6523" y="18166"/>
                </a:lnTo>
                <a:arcTo wR="21600" hR="9300" stAng="3219375" swAng="-3152470"/>
                <a:lnTo>
                  <a:pt x="21578" y="9720"/>
                </a:lnTo>
                <a:arcTo wR="21600" hR="9300" stAng="-66905" swAng="-5333095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-66905"/>
                <a:lnTo>
                  <a:pt x="21578" y="9720"/>
                </a:lnTo>
                <a:arcTo wR="21600" hR="9300" stAng="-66905" swAng="-5333095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67360" y="1471680"/>
            <a:ext cx="7114680" cy="1126440"/>
            <a:chOff x="567360" y="1471680"/>
            <a:chExt cx="7114680" cy="1126440"/>
          </a:xfrm>
        </p:grpSpPr>
        <p:sp>
          <p:nvSpPr>
            <p:cNvPr id="458" name=""/>
            <p:cNvSpPr/>
            <p:nvPr/>
          </p:nvSpPr>
          <p:spPr>
            <a:xfrm>
              <a:off x="790560" y="14716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types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logic structure of data being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7360" y="1552680"/>
              <a:ext cx="1465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4560" y="1895400"/>
              <a:ext cx="44197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schema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44720" y="192240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8240" y="2287440"/>
              <a:ext cx="30560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271600"/>
              <a:ext cx="2840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52280" y="4951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1414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8646840" y="2656440"/>
            <a:ext cx="454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bstrac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8689680" y="5031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775640" y="528804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F26D0-AAF6-453F-9BB8-E8E47C9FDC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reaucrac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840" y="888840"/>
            <a:ext cx="6040440" cy="561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definitions  name=“CustServWSDL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dl:targetNamespace 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wsdl=“…xmlsoap.org/wsdl/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soap =“…xmlsoap.org/wsdl/soap/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y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 …   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import namespac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location=“Yloc”&gt;   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chema targetNameSpace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 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message&gt; …. &lt;/&gt;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Type&gt; …. &lt;/&gt;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&gt; …. 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&gt; ….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60120" y="1674720"/>
            <a:ext cx="2747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 – optional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ightweight document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4644720" y="1477440"/>
            <a:ext cx="1703160" cy="2113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5468400" y="1904760"/>
            <a:ext cx="878040" cy="556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57960" y="3452760"/>
            <a:ext cx="26380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se definitions for: wsdl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SOAP extension;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58680" y="4176720"/>
            <a:ext cx="25984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mported schemas/wsdl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58320" y="4902120"/>
            <a:ext cx="262440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ocal 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57960" y="887400"/>
            <a:ext cx="191412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 XML 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49480" y="1012680"/>
            <a:ext cx="1616040" cy="38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730400" y="1379160"/>
            <a:ext cx="1639800" cy="9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56880" y="1281240"/>
            <a:ext cx="217044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Root  –  WSDL Defn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385960" y="2599920"/>
            <a:ext cx="981000" cy="91764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00280" y="3029040"/>
            <a:ext cx="3702240" cy="1190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00760" y="3718080"/>
            <a:ext cx="1344600" cy="868320"/>
          </a:xfrm>
          <a:custGeom>
            <a:avLst/>
            <a:gdLst/>
            <a:ahLst/>
            <a:rect l="l" t="t" r="r" b="b"/>
            <a:pathLst>
              <a:path w="639" h="619">
                <a:moveTo>
                  <a:pt x="639" y="619"/>
                </a:moveTo>
                <a:lnTo>
                  <a:pt x="36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44720" y="3402000"/>
            <a:ext cx="3463920" cy="1595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5386320" y="4383000"/>
            <a:ext cx="944640" cy="7416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7560" y="4861080"/>
            <a:ext cx="226800" cy="1319040"/>
          </a:xfrm>
          <a:custGeom>
            <a:avLst/>
            <a:gdLst>
              <a:gd name="textAreaLeft" fmla="*/ 0 w 226800"/>
              <a:gd name="textAreaRight" fmla="*/ 81720 w 226800"/>
              <a:gd name="textAreaTop" fmla="*/ 34200 h 1319040"/>
              <a:gd name="textAreaBottom" fmla="*/ 1284840 h 13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57240" y="5662440"/>
            <a:ext cx="2639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claration of multiple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messages, portType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3754440" y="5487840"/>
            <a:ext cx="2581200" cy="254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58320" y="2398680"/>
            <a:ext cx="2002680" cy="973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targetNameSpace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internal nam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fine  prefi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14960" y="2333520"/>
            <a:ext cx="203040" cy="498600"/>
          </a:xfrm>
          <a:custGeom>
            <a:avLst/>
            <a:gdLst>
              <a:gd name="textAreaLeft" fmla="*/ 0 w 203040"/>
              <a:gd name="textAreaRight" fmla="*/ 73440 w 203040"/>
              <a:gd name="textAreaTop" fmla="*/ 12960 h 498600"/>
              <a:gd name="textAreaBottom" fmla="*/ 4856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51480" y="2084400"/>
            <a:ext cx="1760400" cy="1035000"/>
          </a:xfrm>
          <a:custGeom>
            <a:avLst/>
            <a:gdLst/>
            <a:ahLst/>
            <a:rect l="l" t="t" r="r" b="b"/>
            <a:pathLst>
              <a:path w="2457" h="695">
                <a:moveTo>
                  <a:pt x="2457" y="695"/>
                </a:moveTo>
                <a:lnTo>
                  <a:pt x="2045" y="15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6520" y="1405080"/>
            <a:ext cx="0" cy="459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6520" y="3689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9960" y="4008600"/>
            <a:ext cx="0" cy="3315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9160" y="1398600"/>
            <a:ext cx="2793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6520" y="5343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520" y="4008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1120" y="433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520" y="60069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6520" y="503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6520" y="5661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C794A-FA27-4C82-9D9D-352D92BE02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7480" y="3156120"/>
            <a:ext cx="5816520" cy="328320"/>
          </a:xfrm>
          <a:prstGeom prst="leftArrow">
            <a:avLst>
              <a:gd name="adj1" fmla="val 50000"/>
              <a:gd name="adj2" fmla="val 4429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890D3-8015-4B0B-B061-A912635A6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72080" y="3911760"/>
            <a:ext cx="3571920" cy="328320"/>
          </a:xfrm>
          <a:prstGeom prst="leftArrow">
            <a:avLst>
              <a:gd name="adj1" fmla="val 50000"/>
              <a:gd name="adj2" fmla="val 2719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9CF96-BBCD-4C00-A681-289B4353CB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3440" y="2454120"/>
            <a:ext cx="5810400" cy="394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"1.0" encoding="UTF-8"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definitions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xmlns:m 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d: schema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argetNamespace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sequence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Account“ type=“xs:string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Date" type="xs:date"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entrie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 ….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03800" y="959760"/>
            <a:ext cx="289584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T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08560" y="33321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918720"/>
            <a:ext cx="5568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YPE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ach type is for one or more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 a target namespace, as for any Schem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prefix  for use in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73920" y="3762360"/>
            <a:ext cx="2935080" cy="2646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relud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entri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relu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97720" y="1722600"/>
            <a:ext cx="1087560" cy="355104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91400" y="2771640"/>
            <a:ext cx="604800" cy="183852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145120" y="1719360"/>
            <a:ext cx="595440" cy="2279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787920" y="2093760"/>
            <a:ext cx="365040" cy="99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9080" y="2919240"/>
            <a:ext cx="0" cy="331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240" y="2919240"/>
            <a:ext cx="1839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2920" y="3546360"/>
            <a:ext cx="0" cy="2629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3720" y="3851280"/>
            <a:ext cx="1954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6520" y="3857760"/>
            <a:ext cx="0" cy="219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4720" y="595800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8560" y="4471920"/>
            <a:ext cx="0" cy="27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4720" y="445788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8280" y="4756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9640" y="4759200"/>
            <a:ext cx="0" cy="574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8480" y="5043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8480" y="53420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DB94B-277B-4A88-A40C-D8BA0185D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452920" y="4724280"/>
            <a:ext cx="3576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Defined type – the namespace of the in-line schema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3480" y="932040"/>
            <a:ext cx="87980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a name – so message can be referenced by a portType defini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ists of one or more parts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part is a logical unit, e.g. a parame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parts in WSDL 2.0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name so that it can be referenced by a Binding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 to put one part in a header and the other part in the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typ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chema type definition or a Schema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type – from an impor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2400" y="4367160"/>
            <a:ext cx="517680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message name=“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excuse” type=“xs:string”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51680" y="4121280"/>
            <a:ext cx="299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message for the purchase order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530520" y="4521240"/>
            <a:ext cx="2689200" cy="9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61120" y="4807080"/>
            <a:ext cx="142920" cy="450720"/>
          </a:xfrm>
          <a:custGeom>
            <a:avLst/>
            <a:gdLst>
              <a:gd name="textAreaLeft" fmla="*/ 0 w 142920"/>
              <a:gd name="textAreaRight" fmla="*/ 51480 w 142920"/>
              <a:gd name="textAreaTop" fmla="*/ 11520 h 450720"/>
              <a:gd name="textAreaBottom" fmla="*/ 439200 h 45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743360" y="585000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56160" y="5518080"/>
            <a:ext cx="3687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(response) message for the Overdue Payment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4830480" y="6176880"/>
            <a:ext cx="685800" cy="20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6213600"/>
            <a:ext cx="3467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standard ty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CE1B0-CD8E-40CE-9E2D-912D4B9A9F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7760" y="929880"/>
            <a:ext cx="64882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RTTYPE – an interface comprising a set of op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ganisation of functionality into portTypes and operations is similar to O-O desig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 portType is a coherent unit of exposed functionality – operations make sense toge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. Currency conversion might be a service used in processing customer trans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would not expect a convertCurrency operation for this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… larger granularity than O-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ment consid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lit between General and Customer may be that say General has a wider range of available bindings/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operation declares a number of messages which can be communicated as the interface to the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se messages conform to one of four message exchange patterns – input/output sequencing …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23160" y="947880"/>
            <a:ext cx="2135160" cy="3641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13520" y="4739400"/>
            <a:ext cx="200016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9B5F8-F2B0-46D1-BD40-BD6C4C84F4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68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8720" y="2361240"/>
            <a:ext cx="2617920" cy="1983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06560" y="2666880"/>
            <a:ext cx="320220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POout, Err1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iceOut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ODueOut, ODueResp, Err2,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87480" y="290664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25563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rot="16200000">
            <a:off x="615564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1440" y="912960"/>
            <a:ext cx="5210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ur  pattern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 then 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quest/Response – most usu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Notif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ne-wa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 then 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Solicit/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21280" y="919080"/>
            <a:ext cx="2487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versed rol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Provider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active = cli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active = serv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08200" y="511956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28600" y="524664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06400" y="4892760"/>
            <a:ext cx="63180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9760" y="539100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90120" y="5408640"/>
            <a:ext cx="75528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92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17840" y="511956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2228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8200" y="6134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28600" y="626112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7840" y="6134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05720" y="5907240"/>
            <a:ext cx="10508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848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03800" y="58356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24560" y="596268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04880" y="5608800"/>
            <a:ext cx="128412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35360" y="610704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74040" y="6124680"/>
            <a:ext cx="18723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13800" y="58356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1824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03800" y="5099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13800" y="5099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02760" y="4871880"/>
            <a:ext cx="11516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Invoic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521496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rot="16200000">
            <a:off x="2552400" y="284724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39960" y="145728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4360" y="194328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70600" y="4784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388280" y="55339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64400" y="6151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58783-B63C-4069-8AF2-AA15842702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indefinite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indefinite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indefinite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indefinite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indefinite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indefinite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indefinite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indefinite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indefinite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indefinite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indefinite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indefinite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indefinite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indefinite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indefinite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indefinite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indefinite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indefinite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48103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exchange pattern is determined by sequence of message decla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Reques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lici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ify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ne-way (Request)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ingle message patterns can’t have fault 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in WSDL 2.0 this is explicit and more general – named pattern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40440" y="947880"/>
            <a:ext cx="3017880" cy="4304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Fault: ErrorThrea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ayAd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3800E-F7DD-4557-8CF9-6814DFF1FB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es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0680" y="5408640"/>
            <a:ext cx="508644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0240" y="853920"/>
            <a:ext cx="88311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Message to service provider; reply to service consumer; possible fault message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logical pattern, Binding might be e.g. An HTTP request/response or two  HTTP request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880" y="2015640"/>
            <a:ext cx="5165280" cy="3294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160800"/>
            <a:ext cx="2198880" cy="2433600"/>
          </a:xfrm>
          <a:custGeom>
            <a:avLst/>
            <a:gdLst/>
            <a:ahLst/>
            <a:rect l="l" t="t" r="r" b="b"/>
            <a:pathLst>
              <a:path w="1385" h="1533">
                <a:moveTo>
                  <a:pt x="421" y="0"/>
                </a:moveTo>
                <a:lnTo>
                  <a:pt x="1385" y="84"/>
                </a:lnTo>
                <a:lnTo>
                  <a:pt x="1379" y="1508"/>
                </a:lnTo>
                <a:lnTo>
                  <a:pt x="0" y="1533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10200" y="2500200"/>
            <a:ext cx="3086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name for that message in this context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ault message nam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eration + request/respon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948200" y="2641680"/>
            <a:ext cx="1152720" cy="1080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6360" y="2720880"/>
            <a:ext cx="1384560" cy="681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45240" y="4351320"/>
            <a:ext cx="3351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fer to a message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ing the WSDL’s target namespac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.xmlns=“…/wsdl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ereas messages use schema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.xlmns=“…/types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3600" y="3848040"/>
            <a:ext cx="1098720" cy="2486160"/>
          </a:xfrm>
          <a:custGeom>
            <a:avLst/>
            <a:gdLst/>
            <a:ahLst/>
            <a:rect l="l" t="t" r="r" b="b"/>
            <a:pathLst>
              <a:path w="692" h="1566">
                <a:moveTo>
                  <a:pt x="0" y="0"/>
                </a:moveTo>
                <a:lnTo>
                  <a:pt x="692" y="74"/>
                </a:lnTo>
                <a:lnTo>
                  <a:pt x="691" y="1540"/>
                </a:lnTo>
                <a:lnTo>
                  <a:pt x="569" y="1566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1771560"/>
            <a:ext cx="30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Port/OP.  names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208400" y="1974960"/>
            <a:ext cx="1419120" cy="1699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8000" y="1986120"/>
            <a:ext cx="0" cy="3301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8000" y="21528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1200" y="2155680"/>
            <a:ext cx="0" cy="312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2960" y="2495520"/>
            <a:ext cx="0" cy="236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0920" y="24955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4120" y="2828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4120" y="3495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4120" y="4143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51624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300560" y="2021040"/>
            <a:ext cx="1373040" cy="4284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EC220-4B76-4446-A90A-BB7A00FF0E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ici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from service provider to consumer; reply from consumer to provider; possible fault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02960" y="5589720"/>
            <a:ext cx="30747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operation + solicit/respons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5000" y="2746440"/>
            <a:ext cx="8161200" cy="263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Overdue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Solici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Overdue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w: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Threat” message=“w:ErrorThrea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C7D6B-F17B-4D89-9434-F083590B26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tif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provider to consumer, with no rep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Invo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nd an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-  Request with no repl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consumer to provid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payment adv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mpany gets notification from customer that a payment has been ma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25360" y="3713040"/>
            <a:ext cx="7243920" cy="2300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InvOut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w:PayAd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yAd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PayAdvIn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97440" y="6134040"/>
            <a:ext cx="492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 operation nam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10440" y="4541760"/>
            <a:ext cx="299880" cy="449280"/>
          </a:xfrm>
          <a:custGeom>
            <a:avLst/>
            <a:gdLst>
              <a:gd name="textAreaLeft" fmla="*/ 0 w 299880"/>
              <a:gd name="textAreaRight" fmla="*/ 108360 w 299880"/>
              <a:gd name="textAreaTop" fmla="*/ 11520 h 449280"/>
              <a:gd name="textAreaBottom" fmla="*/ 43776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92480" y="1768320"/>
            <a:ext cx="5802120" cy="3013200"/>
          </a:xfrm>
          <a:custGeom>
            <a:avLst/>
            <a:gdLst/>
            <a:ahLst/>
            <a:rect l="l" t="t" r="r" b="b"/>
            <a:pathLst>
              <a:path w="3655" h="1898">
                <a:moveTo>
                  <a:pt x="2758" y="1898"/>
                </a:moveTo>
                <a:lnTo>
                  <a:pt x="3655" y="1873"/>
                </a:lnTo>
                <a:lnTo>
                  <a:pt x="3655" y="2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8320" y="5095800"/>
            <a:ext cx="330120" cy="569880"/>
          </a:xfrm>
          <a:custGeom>
            <a:avLst/>
            <a:gdLst>
              <a:gd name="textAreaLeft" fmla="*/ 0 w 330120"/>
              <a:gd name="textAreaRight" fmla="*/ 119160 w 330120"/>
              <a:gd name="textAreaTop" fmla="*/ 14760 h 569880"/>
              <a:gd name="textAreaBottom" fmla="*/ 55512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55600" y="3014640"/>
            <a:ext cx="606240" cy="2382840"/>
          </a:xfrm>
          <a:custGeom>
            <a:avLst/>
            <a:gdLst/>
            <a:ahLst/>
            <a:rect l="l" t="t" r="r" b="b"/>
            <a:pathLst>
              <a:path w="1274" h="2200">
                <a:moveTo>
                  <a:pt x="340" y="2200"/>
                </a:moveTo>
                <a:lnTo>
                  <a:pt x="1237" y="2172"/>
                </a:lnTo>
                <a:lnTo>
                  <a:pt x="1274" y="0"/>
                </a:lnTo>
                <a:lnTo>
                  <a:pt x="0" y="38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AA50F-F8F2-4BDB-A51D-F66ADC6986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5560" y="4346640"/>
            <a:ext cx="2638440" cy="328680"/>
          </a:xfrm>
          <a:prstGeom prst="leftArrow">
            <a:avLst>
              <a:gd name="adj1" fmla="val 50000"/>
              <a:gd name="adj2" fmla="val 2006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844D-89FF-4239-8629-9E6A29A8BD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” what it i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iginally – Simple Object Access Protoco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emporarily – Service Oriented Architecture Protocol ?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w (SOAP 1.2) – Not an acrony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extensible protocol to enable the exchange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d and typed informat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etween peers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 a decentralised, distributed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1.2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www.w3.org/TR/soap12-part0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recommendation, June 2003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8f"/>
                </a:solidFill>
                <a:latin typeface="Arial"/>
              </a:rPr>
              <a:t>SOAP 1.1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www.w3.org/TR/NOTE-SOAP-20000508</a:t>
            </a:r>
            <a:r>
              <a:rPr b="0" lang="en-US" sz="2100" spc="-1" strike="noStrike" u="sng">
                <a:solidFill>
                  <a:srgbClr val="00338f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submission May 2000 – but that’s what people use currentl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46725-8065-45F3-A8FD-B7C684042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-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5600" y="851040"/>
            <a:ext cx="858996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Binding defin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articular PortType – named as its “typ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articular message format and communication protocol detai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extensibility po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extension is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name, for use in servic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7254E-366F-41CF-934A-B1D1499772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 of Binding El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280" y="1071720"/>
            <a:ext cx="3990600" cy="528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port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quest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sponse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Other faul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969440" y="1425600"/>
            <a:ext cx="4002480" cy="4952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=“Error1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…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208400" y="906120"/>
            <a:ext cx="3905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inding follows structure of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0080" y="1398600"/>
            <a:ext cx="3824280" cy="530280"/>
          </a:xfrm>
          <a:custGeom>
            <a:avLst/>
            <a:gdLst/>
            <a:ahLst/>
            <a:rect l="l" t="t" r="r" b="b"/>
            <a:pathLst>
              <a:path w="2409" h="334">
                <a:moveTo>
                  <a:pt x="2409" y="334"/>
                </a:moveTo>
                <a:lnTo>
                  <a:pt x="1568" y="1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76480" y="2093760"/>
            <a:ext cx="2965320" cy="473400"/>
          </a:xfrm>
          <a:custGeom>
            <a:avLst/>
            <a:gdLst/>
            <a:ahLst/>
            <a:rect l="l" t="t" r="r" b="b"/>
            <a:pathLst>
              <a:path w="1868" h="298">
                <a:moveTo>
                  <a:pt x="1868" y="298"/>
                </a:moveTo>
                <a:lnTo>
                  <a:pt x="1429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01800" y="2698920"/>
            <a:ext cx="3522600" cy="46512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12960" y="3722760"/>
            <a:ext cx="3551040" cy="1569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812960" y="4575960"/>
            <a:ext cx="3513240" cy="1731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571840" y="5258520"/>
            <a:ext cx="319860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755880" y="5917320"/>
            <a:ext cx="130968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99240" y="4183200"/>
            <a:ext cx="955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Multipl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faults so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eed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ame -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079880" y="1459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08240" y="18590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8000" y="1081080"/>
            <a:ext cx="0" cy="527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4480" y="12286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9080" y="1241280"/>
            <a:ext cx="0" cy="504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9560" y="1924200"/>
            <a:ext cx="0" cy="3654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5200" y="1905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7840" y="2562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4784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47840" y="45435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5200" y="61912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0805C-42ED-46D6-956D-B4EB8DE374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col Specific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600" y="2165400"/>
            <a:ext cx="612756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name=“Error1”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ther operations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64480" y="14860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be referenced by port def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36800" y="1893960"/>
            <a:ext cx="1800" cy="320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319640" y="14558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ef’s Port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809600" y="1833480"/>
            <a:ext cx="274680" cy="408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225760" y="1368360"/>
            <a:ext cx="3739320" cy="1351080"/>
            <a:chOff x="5225760" y="1368360"/>
            <a:chExt cx="3739320" cy="1351080"/>
          </a:xfrm>
        </p:grpSpPr>
        <p:sp>
          <p:nvSpPr>
            <p:cNvPr id="681" name=""/>
            <p:cNvSpPr/>
            <p:nvPr/>
          </p:nvSpPr>
          <p:spPr>
            <a:xfrm flipH="1">
              <a:off x="5225760" y="2262240"/>
              <a:ext cx="128916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87640" y="1368360"/>
              <a:ext cx="2377440" cy="97380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all opera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275440" y="2705040"/>
            <a:ext cx="3689640" cy="1305360"/>
            <a:chOff x="5275440" y="2705040"/>
            <a:chExt cx="3689640" cy="1305360"/>
          </a:xfrm>
        </p:grpSpPr>
        <p:sp>
          <p:nvSpPr>
            <p:cNvPr id="684" name=""/>
            <p:cNvSpPr/>
            <p:nvPr/>
          </p:nvSpPr>
          <p:spPr>
            <a:xfrm>
              <a:off x="6587640" y="2705040"/>
              <a:ext cx="2377440" cy="13053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both input and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output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275440" y="3292560"/>
              <a:ext cx="1271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116320" y="3760560"/>
            <a:ext cx="3956400" cy="2179440"/>
            <a:chOff x="5116320" y="3760560"/>
            <a:chExt cx="3956400" cy="2179440"/>
          </a:xfrm>
        </p:grpSpPr>
        <p:sp>
          <p:nvSpPr>
            <p:cNvPr id="687" name=""/>
            <p:cNvSpPr/>
            <p:nvPr/>
          </p:nvSpPr>
          <p:spPr>
            <a:xfrm>
              <a:off x="6578640" y="4200480"/>
              <a:ext cx="2494080" cy="173952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1. Protocol specific information applying to particular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2. How message parts map into protocol and data formats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5327640" y="3760560"/>
              <a:ext cx="1208160" cy="601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5206680" y="4088880"/>
              <a:ext cx="129852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116320" y="4540320"/>
              <a:ext cx="1401480" cy="44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154080" y="863640"/>
            <a:ext cx="89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Binding definition is framework for extension points – a bit intangi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8000" y="2147760"/>
            <a:ext cx="0" cy="432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4480" y="23241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2338560"/>
            <a:ext cx="0" cy="3921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7680" y="3000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200" y="3014640"/>
            <a:ext cx="0" cy="1930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9680" y="3648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680" y="39909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9680" y="4295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7680" y="5629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DF18A-23DB-49F2-9096-02EE782B13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45600" y="789120"/>
            <a:ext cx="85899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multiple services in one WSDL definition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Service can have multiple ports, each bound to a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WSDL 2.0 – all ports of a service must have the same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different portTypes in WSDL 1.1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233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umer may need all functionalities for the service to be useful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wo ports having the same portType means same semantic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ives the location, a URL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SOAP extension of WSDL, not WSDL co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2920" y="4848120"/>
            <a:ext cx="8861400" cy="1636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 name=“CustomerService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WebSP” binding=“w:CustWeb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 “http://www.ex.org/W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EmailSP” binding=“w:CustEmail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“mailto:WS-EM@www.ex.org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6160" y="3413160"/>
            <a:ext cx="871524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Email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52720" y="4259160"/>
            <a:ext cx="3057840" cy="1123920"/>
          </a:xfrm>
          <a:custGeom>
            <a:avLst/>
            <a:gdLst/>
            <a:ahLst/>
            <a:rect l="l" t="t" r="r" b="b"/>
            <a:pathLst>
              <a:path w="1926" h="708">
                <a:moveTo>
                  <a:pt x="1709" y="704"/>
                </a:moveTo>
                <a:lnTo>
                  <a:pt x="1926" y="708"/>
                </a:lnTo>
                <a:lnTo>
                  <a:pt x="1926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33800" y="3584520"/>
            <a:ext cx="4630680" cy="2443320"/>
          </a:xfrm>
          <a:custGeom>
            <a:avLst/>
            <a:gdLst/>
            <a:ahLst/>
            <a:rect l="l" t="t" r="r" b="b"/>
            <a:pathLst>
              <a:path w="2917" h="1539">
                <a:moveTo>
                  <a:pt x="1840" y="1539"/>
                </a:moveTo>
                <a:lnTo>
                  <a:pt x="2917" y="1501"/>
                </a:lnTo>
                <a:lnTo>
                  <a:pt x="2917" y="10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8CAEC-ACEF-47F6-967C-61122B199B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STANDARD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97600" y="4724280"/>
            <a:ext cx="3146400" cy="328680"/>
          </a:xfrm>
          <a:prstGeom prst="leftArrow">
            <a:avLst>
              <a:gd name="adj1" fmla="val 50000"/>
              <a:gd name="adj2" fmla="val 23932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BA868-9E3F-4036-A79A-30C7E3E19C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re are a number of defined bindings to be used in the extension poi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identifying the SOAP 1.1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SM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RPC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Docume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Litera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Encoded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OAP over HTTP is most commonly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ll we will deal with he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FE040-F501-44ED-8EAF-931D49F3F5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640" y="903240"/>
            <a:ext cx="610128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292560" y="3220920"/>
            <a:ext cx="2816280" cy="2186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=…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- Default for all operations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rpc” – body is parameters/retur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document” – body is one documen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default = “document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54640" y="3156120"/>
            <a:ext cx="283536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Transport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 to identify some protoco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3000" y="3298680"/>
            <a:ext cx="2793960" cy="16995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:binding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element mean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sing SOAP standards. Message structure i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envelo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heade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body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15120" y="114948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1287360"/>
            <a:ext cx="171720" cy="614520"/>
          </a:xfrm>
          <a:custGeom>
            <a:avLst/>
            <a:gdLst>
              <a:gd name="textAreaLeft" fmla="*/ 0 w 171720"/>
              <a:gd name="textAreaRight" fmla="*/ 61920 w 17172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7520" y="1563840"/>
            <a:ext cx="138744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41720" y="1563840"/>
            <a:ext cx="15714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15840" y="1922400"/>
            <a:ext cx="48690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760" y="925560"/>
            <a:ext cx="0" cy="1958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20680" y="1116000"/>
            <a:ext cx="0" cy="158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39760" y="144144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9760" y="207792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9760" y="240660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04BD6-4303-44DF-885A-21259A830E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2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4105440"/>
            <a:ext cx="2895480" cy="5230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ver-rides port-level 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6000" y="4076640"/>
            <a:ext cx="5172120" cy="12531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Action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, the value for the HTTP header “SOAPac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andatory for SOAP/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“document” style gives the oper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JAX-RPC – empty, “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920" y="903240"/>
            <a:ext cx="6037200" cy="2963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… 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15120" y="153360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05000" y="2868480"/>
            <a:ext cx="2959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8200" y="1287360"/>
            <a:ext cx="192240" cy="614520"/>
          </a:xfrm>
          <a:custGeom>
            <a:avLst/>
            <a:gdLst>
              <a:gd name="textAreaLeft" fmla="*/ 0 w 192240"/>
              <a:gd name="textAreaRight" fmla="*/ 69480 w 19224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65360" y="3197160"/>
            <a:ext cx="125388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760" y="925560"/>
            <a:ext cx="0" cy="293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0680" y="1116000"/>
            <a:ext cx="0" cy="2666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0040" y="144144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0680" y="3722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040" y="2071800"/>
            <a:ext cx="0" cy="146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7960" y="2411280"/>
            <a:ext cx="0" cy="109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0004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14E81-0CF6-45D2-9D7D-D1B5C9E090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280" y="903240"/>
            <a:ext cx="610128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 use=“enco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codingStyle="http://.../encoding/"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=“http://ex.org/wsdl/Cust" 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15120" y="153360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08840" y="1287360"/>
            <a:ext cx="201600" cy="614520"/>
          </a:xfrm>
          <a:custGeom>
            <a:avLst/>
            <a:gdLst>
              <a:gd name="textAreaLeft" fmla="*/ 0 w 201600"/>
              <a:gd name="textAreaRight" fmla="*/ 72720 w 20160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99280" y="1839960"/>
            <a:ext cx="0" cy="56664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15120" y="25192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ESSAGE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87960" y="3548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99280" y="2806560"/>
            <a:ext cx="0" cy="90648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414520" y="3855960"/>
            <a:ext cx="1438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71440" y="4195800"/>
            <a:ext cx="341172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71440" y="4524480"/>
            <a:ext cx="388476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302520" y="4216320"/>
            <a:ext cx="2833560" cy="22773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Encoded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erences a type – an abstract type encoded using the scheme(s) identified by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 = “literal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’s a type or element which gives the concrete forma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43560" y="2905200"/>
            <a:ext cx="2793960" cy="11908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namespace to be used for validating the outermost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320" y="5654520"/>
            <a:ext cx="5814720" cy="57384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..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a URI list to identify encoding scheme(s)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oap-encoding is http://schemas.xmlsoap.org/soap/encodin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04760" y="925560"/>
            <a:ext cx="0" cy="4279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0680" y="1116000"/>
            <a:ext cx="0" cy="3992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0040" y="14130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0680" y="5027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5040" y="2071800"/>
            <a:ext cx="0" cy="2717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712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1480" y="3417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1480" y="37353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F6421-1DAA-4BED-95CC-F597663F4B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0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6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5600" y="3749760"/>
            <a:ext cx="8589960" cy="29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int that this is best dealt with as a procedure call (/return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parts are parameters which are wrapped as one component of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s in the SOAP RPC standar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document to be processed – message parts are directly in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rapped convention – single message part – looks like RPC 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002400" y="1074600"/>
            <a:ext cx="5215680" cy="2848320"/>
            <a:chOff x="3002400" y="1074600"/>
            <a:chExt cx="5215680" cy="2848320"/>
          </a:xfrm>
        </p:grpSpPr>
        <p:grpSp>
          <p:nvGrpSpPr>
            <p:cNvPr id="778" name=""/>
            <p:cNvGrpSpPr/>
            <p:nvPr/>
          </p:nvGrpSpPr>
          <p:grpSpPr>
            <a:xfrm>
              <a:off x="3009960" y="2963520"/>
              <a:ext cx="740880" cy="959400"/>
              <a:chOff x="3009960" y="2963520"/>
              <a:chExt cx="740880" cy="9594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3009960" y="2963520"/>
                <a:ext cx="740880" cy="897840"/>
                <a:chOff x="3009960" y="2963520"/>
                <a:chExt cx="740880" cy="897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00996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00996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304740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1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943080" y="2963520"/>
              <a:ext cx="741240" cy="959400"/>
              <a:chOff x="3943080" y="2963520"/>
              <a:chExt cx="741240" cy="9594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3943080" y="2963520"/>
                <a:ext cx="741240" cy="897840"/>
                <a:chOff x="3943080" y="2963520"/>
                <a:chExt cx="741240" cy="8978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4308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4308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>
                <a:off x="398052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543720" y="2963520"/>
              <a:ext cx="740880" cy="959400"/>
              <a:chOff x="6543720" y="2963520"/>
              <a:chExt cx="740880" cy="9594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6543720" y="2963520"/>
                <a:ext cx="740880" cy="897840"/>
                <a:chOff x="6543720" y="2963520"/>
                <a:chExt cx="740880" cy="8978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654372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54372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658116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2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477200" y="2963520"/>
              <a:ext cx="740880" cy="959400"/>
              <a:chOff x="7477200" y="2963520"/>
              <a:chExt cx="740880" cy="95940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7477200" y="2963520"/>
                <a:ext cx="740880" cy="897840"/>
                <a:chOff x="7477200" y="2963520"/>
                <a:chExt cx="740880" cy="8978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47720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477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7514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686200" y="2963520"/>
              <a:ext cx="741240" cy="959400"/>
              <a:chOff x="5686200" y="2963520"/>
              <a:chExt cx="741240" cy="9594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5686200" y="2963520"/>
                <a:ext cx="741240" cy="897840"/>
                <a:chOff x="5686200" y="2963520"/>
                <a:chExt cx="741240" cy="8978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68620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686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5723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4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002400" y="1074600"/>
              <a:ext cx="3512160" cy="3682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.P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↓p1::t1, ↑p2::t2, ↕p3::t3):: t4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54520" y="2462040"/>
              <a:ext cx="8856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47472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9815000">
              <a:off x="3475080" y="244836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785000">
              <a:off x="4116960" y="24724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89412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641760" y="2068200"/>
              <a:ext cx="17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1136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4340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22532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51680" y="155844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invocation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2560" y="15584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espons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2160" y="2555640"/>
              <a:ext cx="37656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99080" y="246204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1964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9815000">
              <a:off x="7118640" y="26632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rot="2603400">
              <a:off x="7534080" y="270432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43904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628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883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708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191280" y="2496960"/>
              <a:ext cx="117936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91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0478600">
              <a:off x="6248520" y="2489040"/>
              <a:ext cx="791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ed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240" y="1558440"/>
              <a:ext cx="1035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PC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176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8B521-ECD8-4795-820E-7BF5432333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3" dur="indefinite" restart="never" nodeType="tmRoot">
          <p:childTnLst>
            <p:seq>
              <p:cTn id="2324" dur="indefinite" nodeType="mainSeq">
                <p:childTnLst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Architectural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XML ba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igher order Protocol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uilt on some underlying protocol - bind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tensibility – can define binding for any underlying protoco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ually HTTP – a specific standard extens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ngle Message Protoco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fines standard for a single message communic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ulti-message conversations require a means to associate one message with another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underlying protocol (e.g. use of same connectio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the application (specific message-id information as part of the soap messag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ulti-stage message processing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soap Processing mod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F55F0-C4A6-49F6-A2C4-5B4388FB2A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7040" y="1066680"/>
            <a:ext cx="399600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relude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Oentries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3920" y="2492280"/>
            <a:ext cx="826272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59320" y="1066680"/>
            <a:ext cx="448632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Result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delivSched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9000" y="3733920"/>
            <a:ext cx="31082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ques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4440" y="5405400"/>
            <a:ext cx="302436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52960" y="3733920"/>
            <a:ext cx="32576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sponse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41520" y="4302000"/>
            <a:ext cx="597240" cy="131760"/>
          </a:xfrm>
          <a:prstGeom prst="rightArrow">
            <a:avLst>
              <a:gd name="adj1" fmla="val 50000"/>
              <a:gd name="adj2" fmla="val 11332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311640" y="5710320"/>
            <a:ext cx="627120" cy="100080"/>
          </a:xfrm>
          <a:prstGeom prst="rightArrow">
            <a:avLst>
              <a:gd name="adj1" fmla="val 50000"/>
              <a:gd name="adj2" fmla="val 1566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52960" y="5421240"/>
            <a:ext cx="326844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081320" y="1523520"/>
            <a:ext cx="2113200" cy="1328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129080" y="2393640"/>
            <a:ext cx="103320" cy="83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5680" y="3591000"/>
            <a:ext cx="8991720" cy="15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8000" y="5346720"/>
            <a:ext cx="8969400" cy="11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746120" y="3666960"/>
            <a:ext cx="1250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P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38560" y="5400720"/>
            <a:ext cx="1305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311E-9E5B-47C6-9D8D-0DFD46F8A7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SDL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abstract structure of service interac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cluding  logical content of messages exchang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binding – how the messages are carried and represent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 binding is for SOAP over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essage is an XML document, with a particular 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ing particular types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Service as a number of ports, each being address and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te where you can obtain WSDL definitions of services and  see what SOAPmessages are produced -http://xmethods.com/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3F59E-80AB-4002-887C-4272CA854A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DF312-BD5D-4A0C-82D3-BAD6692DBE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49960" y="1843200"/>
            <a:ext cx="3382920" cy="43671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2313000"/>
            <a:ext cx="289584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219320"/>
            <a:ext cx="4838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ach SOAP message will have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uter layer(s) for underlying protocol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nly consider HTTP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nvelope (XML root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ultiple header blocks/entr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urposes – factor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rocessing stag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Acto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ody (mandatory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ayloa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Zero or more XML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 a Faul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pecific fault reporting 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97320" y="1092240"/>
            <a:ext cx="3657600" cy="53672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4520" y="4235400"/>
            <a:ext cx="2895840" cy="186552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24480" y="18828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59440" y="470700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73640" y="1473120"/>
            <a:ext cx="3505320" cy="48751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22800" y="2797200"/>
            <a:ext cx="217044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2960" y="10526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2600" y="1509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32520" y="3352680"/>
            <a:ext cx="217008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0240" y="367524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80240" y="563868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59440" y="523224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92B99-5BC1-40DB-B4A9-B343CAF0B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Message Represent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440" y="857160"/>
            <a:ext cx="4688640" cy="56732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HTTP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Envelop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xmlsoap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=“http://ex.org/customer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Header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entic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...ex.org…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username&gt;Fred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assword&gt;yhjik154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oris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…ex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ccountNumber&gt;17-365-37a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urchaseOrder&gt; ….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200" y="1755720"/>
            <a:ext cx="0" cy="4299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200" y="3040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4640" y="3059280"/>
            <a:ext cx="0" cy="165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4640" y="337500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560" y="3394080"/>
            <a:ext cx="0" cy="960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640" y="4724280"/>
            <a:ext cx="0" cy="662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03280" y="408132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840" y="173844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04720" y="4370400"/>
            <a:ext cx="2635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4640" y="471492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03280" y="537516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200" y="604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640" y="6064200"/>
            <a:ext cx="0" cy="3081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4640" y="637056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8200" y="876240"/>
            <a:ext cx="4071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er protocol – HTTP header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61160" y="1292400"/>
            <a:ext cx="33724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 message is an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1160" y="1708200"/>
            <a:ext cx="33616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XML root element is SOAP envelo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63320" y="2106720"/>
            <a:ext cx="410688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schemas.xmlsoap.org/soap/envelope/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ies SOAP namespac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and the SOAP version being u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0720" y="3208320"/>
            <a:ext cx="29473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y application namespac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49600" y="1015920"/>
            <a:ext cx="2216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3280" y="1405080"/>
            <a:ext cx="202248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30400" y="1747800"/>
            <a:ext cx="28353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22480" y="2098800"/>
            <a:ext cx="10429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84600" y="2382840"/>
            <a:ext cx="1201680" cy="86364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2724120"/>
            <a:ext cx="674640" cy="58752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4160" y="3641760"/>
            <a:ext cx="12265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wo heade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35640" y="2927520"/>
            <a:ext cx="336240" cy="2788920"/>
          </a:xfrm>
          <a:custGeom>
            <a:avLst/>
            <a:gdLst>
              <a:gd name="textAreaLeft" fmla="*/ 0 w 336240"/>
              <a:gd name="textAreaRight" fmla="*/ 121320 w 336240"/>
              <a:gd name="textAreaTop" fmla="*/ 72720 h 2788920"/>
              <a:gd name="textAreaBottom" fmla="*/ 271620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716"/>
                </a:lnTo>
                <a:cubicBezTo>
                  <a:pt x="10800" y="5616"/>
                  <a:pt x="16200" y="6516"/>
                  <a:pt x="21600" y="6516"/>
                </a:cubicBezTo>
                <a:cubicBezTo>
                  <a:pt x="16200" y="6516"/>
                  <a:pt x="10800" y="7416"/>
                  <a:pt x="10800" y="83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391644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s for application-specific actor names –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entic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oris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406680" y="3713040"/>
            <a:ext cx="1495440" cy="8049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33680" y="4799160"/>
            <a:ext cx="1486080" cy="2365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4160" y="5950080"/>
            <a:ext cx="9568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he body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35640" y="5770440"/>
            <a:ext cx="336240" cy="679680"/>
          </a:xfrm>
          <a:custGeom>
            <a:avLst/>
            <a:gdLst>
              <a:gd name="textAreaLeft" fmla="*/ 0 w 336240"/>
              <a:gd name="textAreaRight" fmla="*/ 121320 w 336240"/>
              <a:gd name="textAreaTop" fmla="*/ 17640 h 679680"/>
              <a:gd name="textAreaBottom" fmla="*/ 662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49"/>
                </a:lnTo>
                <a:cubicBezTo>
                  <a:pt x="10800" y="10449"/>
                  <a:pt x="16200" y="11349"/>
                  <a:pt x="21600" y="11349"/>
                </a:cubicBezTo>
                <a:cubicBezTo>
                  <a:pt x="16200" y="11349"/>
                  <a:pt x="10800" y="12249"/>
                  <a:pt x="10800" y="1314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4422-8C6B-448A-88DB-4B9F3F851C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920" y="905040"/>
            <a:ext cx="869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value in a SOAP message will have a type as in Schemas standard, which defines their lexical for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ap provides two compound typ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Struct – components are uniquely nam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Array – components are identified by pos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rray is of type SEnc:Array or some derivative there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specify shape and component type using attribute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Enc:arrayType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7680" y="3906720"/>
            <a:ext cx="557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 SEnc:arrayType=“xsd:integer [2,3] [2]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2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2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120" y="3322800"/>
            <a:ext cx="7407360" cy="368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lement name=“A” type=“SEnc:Array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23080" y="4460760"/>
            <a:ext cx="30384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] - An array of 2 elements 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,3] Each is a 2 x 3 array 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Xsd:integer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 schema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0960" y="3295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1160" y="39196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5772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676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57440" y="4280040"/>
            <a:ext cx="10209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3160" y="3916440"/>
            <a:ext cx="5041800" cy="257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FFA88-E133-402E-98C7-16002676FD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Fault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10960" y="1063440"/>
            <a:ext cx="563256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 reported in the body – single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Zero or more header entr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tail error information pertaining to original  header entri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79960" y="1539720"/>
            <a:ext cx="2982960" cy="34545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1943280"/>
            <a:ext cx="255420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45320" y="895320"/>
            <a:ext cx="3225600" cy="42260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3854520"/>
            <a:ext cx="2554200" cy="98244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15746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4246560"/>
            <a:ext cx="2033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11920" y="1222200"/>
            <a:ext cx="3092400" cy="383256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73960" y="2359080"/>
            <a:ext cx="191268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36840" y="8618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36480" y="12002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73960" y="2894040"/>
            <a:ext cx="1912680" cy="42696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40680" y="3355920"/>
            <a:ext cx="5079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120" y="2584440"/>
            <a:ext cx="24033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co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tr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act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tail ?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819440" y="2859120"/>
            <a:ext cx="1280880" cy="54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91320" y="2548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 Qname, e.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v:mustUnderstand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0560" y="35463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Human readable tex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949400" y="3740040"/>
            <a:ext cx="1408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85480" y="4105080"/>
            <a:ext cx="1287720" cy="24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58080" y="4037040"/>
            <a:ext cx="2221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ctor that wa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erating (URI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(default =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ltimate destination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608120" y="4425840"/>
            <a:ext cx="1419120" cy="145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5796000"/>
            <a:ext cx="5965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y structure of further application-specific inform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presence means body was process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6835-02B1-4BBD-AF5E-25A4FE874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ult Messag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640" y="961920"/>
            <a:ext cx="5020920" cy="4015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Envelope …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Body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v: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string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rver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detai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lmns:f=“http://ex.org/faults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:encodingStyle=“…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excuse&gt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my fault re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2&gt; …. &lt;/&gt;&lt;/&gt;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1920" y="1935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andard 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8360" y="3638520"/>
            <a:ext cx="201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pplication-specific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23400" y="22716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3520" y="199548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3520" y="231624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3520" y="3871800"/>
            <a:ext cx="99720" cy="250920"/>
          </a:xfrm>
          <a:custGeom>
            <a:avLst/>
            <a:gdLst>
              <a:gd name="textAreaLeft" fmla="*/ 0 w 99720"/>
              <a:gd name="textAreaRight" fmla="*/ 36000 w 99720"/>
              <a:gd name="textAreaTop" fmla="*/ 6480 h 250920"/>
              <a:gd name="textAreaBottom" fmla="*/ 2444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3520" y="427212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23400" y="4194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4200" y="968400"/>
            <a:ext cx="15840" cy="4005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120" y="1152360"/>
            <a:ext cx="0" cy="34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760" y="115740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1000" y="15019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7120" y="21607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560" y="1506600"/>
            <a:ext cx="0" cy="320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8600" y="18381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1800" y="1849320"/>
            <a:ext cx="0" cy="95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240" y="2852640"/>
            <a:ext cx="0" cy="1971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7120" y="24843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7120" y="282888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5000" y="381168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25560" y="3835440"/>
            <a:ext cx="0" cy="606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3760" y="413532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23760" y="444960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5000" y="480384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8592-A918-4856-9EBE-049973CDE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0:57:32Z</dcterms:modified>
  <cp:revision>71</cp:revision>
  <dc:subject/>
  <dc:title>XML</dc:title>
</cp:coreProperties>
</file>