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04E6-425A-41D7-B89C-CEE6E19FC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3A115-2D09-4A76-867F-D020DE40C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1E364-B47A-48DA-AD37-AE24A06FB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3CA46-07ED-45DE-A158-F07898D34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446ED-1C55-4A5B-9728-4FA47645F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F149C-C80D-4AAA-8916-E40FB6182D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85D7E-CAA8-49CF-8D3A-6610965C74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73EA8-A9BC-4385-AB35-575C6E0ECD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DD5BD-F4BA-4E65-B35C-A37AFE738D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EBFF0-8F6E-4088-81FC-6DD1858EBF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F4977-E731-4815-8055-26799DDC7F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0EBF5-E9E7-4C0E-90B1-C999D7F8BF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F38C5-5FCA-4CA4-AA86-25DE2EA46B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08C39-557F-4295-A08A-A4E2A62AE1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27552-5CE2-4A7C-AC2E-CD09E81C30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549A6-1147-4119-8013-51A6FC2791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77D2F-4170-4958-B495-2F8A6052DF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FAD45-F904-4B6B-8E56-251B2F1024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53AD8-8BB9-4983-8B0A-866E2A6B39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645DB-999B-4832-B9DC-3124C6A8E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BAFFD-2B5C-478D-BD06-71454AFCC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24D16-DB9F-43AC-8457-952B0A971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E223-AC0C-4BD4-88DD-E55FD68F8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201FA-0A8D-49B3-B339-E5978F85F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2D32-F0DF-4768-B2BC-960D7B00D01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Schema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329A-3675-4E4A-999A-7C9F71304090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’05 – June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55680" y="2493720"/>
            <a:ext cx="69883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XML Schemas (XSD)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Richard Hopkins, 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ational e-Science Centre, Edinburgh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June 2005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 Types – Mode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45600" y="4313160"/>
            <a:ext cx="8589960" cy="20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519a"/>
                </a:solidFill>
                <a:latin typeface="Arial"/>
              </a:rPr>
              <a:t>Model –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f"/>
                </a:solidFill>
                <a:latin typeface="Arial"/>
              </a:rPr>
              <a:t>Sequence</a:t>
            </a: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 – each component matched in this order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f"/>
                </a:solidFill>
                <a:latin typeface="Arial"/>
              </a:rPr>
              <a:t>Choice</a:t>
            </a: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 – one and only one component is matched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But each component may actually match no elements or multiple elements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ll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each component matched in any order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Each component must match one or zero elements – maxOccurs=“1”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520" y="1289160"/>
            <a:ext cx="4248000" cy="151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date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hoic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USdate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UKdate“ … 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1240" y="1279440"/>
            <a:ext cx="0" cy="1522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3840" y="1474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3520" y="145728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17748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6720" y="178920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4120" y="20811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3280" y="2106720"/>
            <a:ext cx="0" cy="546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2040" y="2384280"/>
            <a:ext cx="0" cy="138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5880" y="23860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5880" y="2664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408640" y="1289160"/>
            <a:ext cx="3576600" cy="114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US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10/24/04 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08640" y="2589120"/>
            <a:ext cx="3576600" cy="114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UK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24/10/04 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029120" y="1957320"/>
            <a:ext cx="500040" cy="809640"/>
          </a:xfrm>
          <a:custGeom>
            <a:avLst/>
            <a:gdLst>
              <a:gd name="textAreaLeft" fmla="*/ 0 w 500040"/>
              <a:gd name="textAreaRight" fmla="*/ 180360 w 500040"/>
              <a:gd name="textAreaTop" fmla="*/ 20880 h 809640"/>
              <a:gd name="textAreaBottom" fmla="*/ 78876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492800" y="1931760"/>
            <a:ext cx="933120" cy="4237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5473800" y="1650960"/>
            <a:ext cx="247680" cy="477720"/>
          </a:xfrm>
          <a:custGeom>
            <a:avLst/>
            <a:gdLst>
              <a:gd name="textAreaLeft" fmla="*/ 0 w 247680"/>
              <a:gd name="textAreaRight" fmla="*/ 89280 w 247680"/>
              <a:gd name="textAreaTop" fmla="*/ 12240 h 477720"/>
              <a:gd name="textAreaBottom" fmla="*/ 465480 h 47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485680" y="2989440"/>
            <a:ext cx="235080" cy="439560"/>
          </a:xfrm>
          <a:custGeom>
            <a:avLst/>
            <a:gdLst>
              <a:gd name="textAreaLeft" fmla="*/ -360 w 235080"/>
              <a:gd name="textAreaRight" fmla="*/ 84600 w 235080"/>
              <a:gd name="textAreaTop" fmla="*/ 11160 h 439560"/>
              <a:gd name="textAreaBottom" fmla="*/ 428400 h 43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05400" y="2341440"/>
            <a:ext cx="966600" cy="9018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FBD29-6E4E-4D5C-924F-A344C74851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 Elements – Mode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45600" y="4313160"/>
            <a:ext cx="8589960" cy="20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519a"/>
                </a:solidFill>
                <a:latin typeface="Arial"/>
              </a:rPr>
              <a:t>Model –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f"/>
                </a:solidFill>
                <a:latin typeface="Arial"/>
              </a:rPr>
              <a:t>Sequence</a:t>
            </a: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 – each component matched in this order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f"/>
                </a:solidFill>
                <a:latin typeface="Arial"/>
              </a:rPr>
              <a:t>Choice</a:t>
            </a: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 – one and only one component is matched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But each component may actually match no elements or multiple elements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ll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each component matched in any order – use for “Struct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Each component must match one or zero elements – maxOccurs=“1”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520" y="1289160"/>
            <a:ext cx="4165920" cy="151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customer“ …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ll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deliver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bill“ … 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1520" y="1292400"/>
            <a:ext cx="0" cy="1522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4480" y="1487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4160" y="146988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41200" y="17874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7360" y="180180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4760" y="2093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3560" y="2119320"/>
            <a:ext cx="0" cy="546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2320" y="2397240"/>
            <a:ext cx="0" cy="137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6520" y="23986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6520" y="26766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79960" y="1182600"/>
            <a:ext cx="4000680" cy="14130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bill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&lt;addr&gt;…&lt;/&gt; &lt;terms&gt; …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eliv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&lt;addr&gt;…&lt;/&gt; &lt;/&gt;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79960" y="2798640"/>
            <a:ext cx="4000680" cy="14130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eliv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&lt;addr&gt;…&lt;/&gt; &lt;/&gt;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bill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&lt;addr&gt;…&lt;/&gt; &lt;terms&gt; …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22560" y="1917720"/>
            <a:ext cx="459000" cy="809640"/>
          </a:xfrm>
          <a:custGeom>
            <a:avLst/>
            <a:gdLst>
              <a:gd name="textAreaLeft" fmla="*/ 0 w 459000"/>
              <a:gd name="textAreaRight" fmla="*/ 165600 w 459000"/>
              <a:gd name="textAreaTop" fmla="*/ 20880 h 809640"/>
              <a:gd name="textAreaBottom" fmla="*/ 78876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39"/>
                </a:lnTo>
                <a:cubicBezTo>
                  <a:pt x="10800" y="10239"/>
                  <a:pt x="16200" y="11139"/>
                  <a:pt x="21600" y="11139"/>
                </a:cubicBezTo>
                <a:cubicBezTo>
                  <a:pt x="16200" y="11139"/>
                  <a:pt x="10800" y="12039"/>
                  <a:pt x="10800" y="129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413240" y="1931760"/>
            <a:ext cx="806400" cy="3841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172120" y="1558800"/>
            <a:ext cx="208080" cy="730440"/>
          </a:xfrm>
          <a:custGeom>
            <a:avLst/>
            <a:gdLst>
              <a:gd name="textAreaLeft" fmla="*/ 360 w 208080"/>
              <a:gd name="textAreaRight" fmla="*/ 75600 w 208080"/>
              <a:gd name="textAreaTop" fmla="*/ 18720 h 730440"/>
              <a:gd name="textAreaBottom" fmla="*/ 711720 h 73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172120" y="3174840"/>
            <a:ext cx="208080" cy="730440"/>
          </a:xfrm>
          <a:custGeom>
            <a:avLst/>
            <a:gdLst>
              <a:gd name="textAreaLeft" fmla="*/ 360 w 208080"/>
              <a:gd name="textAreaRight" fmla="*/ 75600 w 208080"/>
              <a:gd name="textAreaTop" fmla="*/ 18720 h 730440"/>
              <a:gd name="textAreaBottom" fmla="*/ 711720 h 73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13240" y="2367000"/>
            <a:ext cx="806400" cy="11541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DC060-763A-421E-AE5E-C2CF7DB9D5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 Types -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0240" y="4894200"/>
            <a:ext cx="858996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entryT inherits the components of entryT - extend the sequen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800" y="939960"/>
            <a:ext cx="5200560" cy="38667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“entryT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“note”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prodCode”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quant”&gt; 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"X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Content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xtension base="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notify" type="xs:string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urgency" type="xs:string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&lt;/&gt;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1520" y="927000"/>
            <a:ext cx="0" cy="35956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4480" y="1122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4160" y="110484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1200" y="14223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7360" y="1436760"/>
            <a:ext cx="0" cy="86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4760" y="1728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83360" y="987480"/>
            <a:ext cx="180720" cy="1393920"/>
          </a:xfrm>
          <a:custGeom>
            <a:avLst/>
            <a:gdLst>
              <a:gd name="textAreaLeft" fmla="*/ 0 w 180720"/>
              <a:gd name="textAreaRight" fmla="*/ 65160 w 180720"/>
              <a:gd name="textAreaTop" fmla="*/ 36360 h 1393920"/>
              <a:gd name="textAreaBottom" fmla="*/ 1357560 h 13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6786"/>
                </a:lnTo>
                <a:cubicBezTo>
                  <a:pt x="10800" y="7686"/>
                  <a:pt x="16200" y="8586"/>
                  <a:pt x="21600" y="8586"/>
                </a:cubicBezTo>
                <a:cubicBezTo>
                  <a:pt x="16200" y="8586"/>
                  <a:pt x="10800" y="9486"/>
                  <a:pt x="10800" y="1038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480" y="28893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41200" y="3191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2960" y="34783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4160" y="2889360"/>
            <a:ext cx="0" cy="32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7360" y="319572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0560" y="376380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27040" y="349092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2960" y="4068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9440" y="3778200"/>
            <a:ext cx="0" cy="59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42960" y="4365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27400" y="1246320"/>
            <a:ext cx="1292040" cy="2109600"/>
          </a:xfrm>
          <a:custGeom>
            <a:avLst/>
            <a:gdLst/>
            <a:ahLst/>
            <a:rect l="l" t="t" r="r" b="b"/>
            <a:pathLst>
              <a:path w="814" h="1329">
                <a:moveTo>
                  <a:pt x="0" y="1329"/>
                </a:moveTo>
                <a:lnTo>
                  <a:pt x="781" y="1212"/>
                </a:lnTo>
                <a:lnTo>
                  <a:pt x="814" y="236"/>
                </a:lnTo>
                <a:lnTo>
                  <a:pt x="63" y="0"/>
                </a:ln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29240" y="927000"/>
            <a:ext cx="2087280" cy="114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note&gt;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 …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quant&gt;…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28520" y="3095640"/>
            <a:ext cx="2282400" cy="1681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X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note&gt;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 …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quant&gt;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notify&gt;caretaker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urgency&gt;very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83360" y="2868480"/>
            <a:ext cx="241200" cy="1855800"/>
          </a:xfrm>
          <a:custGeom>
            <a:avLst/>
            <a:gdLst>
              <a:gd name="textAreaLeft" fmla="*/ 0 w 241200"/>
              <a:gd name="textAreaRight" fmla="*/ 87120 w 241200"/>
              <a:gd name="textAreaTop" fmla="*/ 48240 h 1855800"/>
              <a:gd name="textAreaBottom" fmla="*/ 18075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6786"/>
                </a:lnTo>
                <a:cubicBezTo>
                  <a:pt x="10800" y="7686"/>
                  <a:pt x="16200" y="8586"/>
                  <a:pt x="21600" y="8586"/>
                </a:cubicBezTo>
                <a:cubicBezTo>
                  <a:pt x="16200" y="8586"/>
                  <a:pt x="10800" y="9486"/>
                  <a:pt x="10800" y="1038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996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4760" y="2293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A63E1-CE04-4DC7-8259-851CB1AB42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 Types -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0240" y="4082760"/>
            <a:ext cx="8589960" cy="3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xtension which adds no content – used to denote a  special cas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920" y="939960"/>
            <a:ext cx="4141440" cy="298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“entryT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“note”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prodCode”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quant”&gt; 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“Urgent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Content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xtension base="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     &lt;/&gt;&lt;/&gt;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1520" y="927000"/>
            <a:ext cx="0" cy="30034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4480" y="1122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160" y="110484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1200" y="14223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7360" y="1436760"/>
            <a:ext cx="0" cy="86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4760" y="1728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" y="28893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1200" y="3191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72960" y="34783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4160" y="2889360"/>
            <a:ext cx="0" cy="32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7360" y="319572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0560" y="376380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7040" y="349092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4760" y="1996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74760" y="2293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12920" y="3613320"/>
            <a:ext cx="223920" cy="29196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5F387-F713-4098-A92C-041113466D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ple Elements/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720" y="1036800"/>
            <a:ext cx="4570920" cy="533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impleType name="accNo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restriction base="xs:string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… 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optional restrictions ….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 …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   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type="accNoT"/&gt; …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"</a:t>
            </a:r>
            <a:r>
              <a:rPr b="1" i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inOccurs="0" maxOccurs="3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note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imple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restriction base="xs:string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… 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optional restrictions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24520" y="907920"/>
            <a:ext cx="3060720" cy="114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  …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Z135-ACE&lt;/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to collect &lt;/&gt;  ….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3578040" y="1298160"/>
            <a:ext cx="371160" cy="21481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2901960" y="4016520"/>
            <a:ext cx="133200" cy="66168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1520" y="1014480"/>
            <a:ext cx="0" cy="5060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480" y="1224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4160" y="1244520"/>
            <a:ext cx="0" cy="325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41200" y="15494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7360" y="1536840"/>
            <a:ext cx="0" cy="298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1200" y="27018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9960" y="29941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7360" y="2690640"/>
            <a:ext cx="0" cy="2844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4480" y="24051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4160" y="2411280"/>
            <a:ext cx="0" cy="2858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8720" y="3008160"/>
            <a:ext cx="0" cy="1160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4280" y="32986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84280" y="3908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4480" y="47498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1200" y="50468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54160" y="4756320"/>
            <a:ext cx="0" cy="2854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9960" y="53672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7360" y="5064120"/>
            <a:ext cx="0" cy="2840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200" y="5392800"/>
            <a:ext cx="0" cy="298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51360" y="2232000"/>
            <a:ext cx="4292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lement featur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ccurrences (local element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efault / Fixed valu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illabl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ype featur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erivation as Restric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ase simple typ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ultimately a primitive xsd:typ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Restrictions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patterns, enumerations,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erivation as Un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erivation as Lis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1EF26-DB35-4920-AF37-F38B2427EC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09520" y="3565080"/>
            <a:ext cx="7184880" cy="29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an associate attributes with a typ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y in-line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y naming a globally declared attribute - see late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ttribute has feature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ome simple typ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fault/fix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se – optional (default), prohibited, requir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f it has an attribute, it must be a complex typ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For a naturally complex type, just add it in at the first lev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For an actually simple type -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960" y="984240"/>
            <a:ext cx="539856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"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prodCode" type="prodCodeT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…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attribute name="collect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type="xs:boolean" use="optional" default="false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46600" y="907920"/>
            <a:ext cx="3338640" cy="1681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collect=“true”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15-75-87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01520" y="1014480"/>
            <a:ext cx="0" cy="2090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480" y="1163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4160" y="1174680"/>
            <a:ext cx="0" cy="11527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0920" y="1454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6720" y="1467000"/>
            <a:ext cx="0" cy="6127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9960" y="17668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0920" y="23432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680160" y="1467000"/>
            <a:ext cx="1238400" cy="32544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6640" y="2232000"/>
            <a:ext cx="4816440" cy="56052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47E45-BFB2-451C-969E-F6E4FC785C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indefinite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indefinite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ng attributes to simple typ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65680" y="4599000"/>
            <a:ext cx="3478320" cy="15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as attribute - is complex type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But it is simple conten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Extends a simple type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with an attribute -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could be several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14920" y="939960"/>
            <a:ext cx="5006880" cy="298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attribute name="units" default="metric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imple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restriction base="xs:string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numeration value="imperial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numeration value="metric"/&gt;&lt;/&gt;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complexType entryT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equence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quant“ type=“xs:decimal”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29160" y="907920"/>
            <a:ext cx="3556080" cy="1681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collect=“true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15-75-87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quant units=“metric”&gt;17.3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4040" y="950760"/>
            <a:ext cx="0" cy="2997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97000" y="1116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6680" y="1127160"/>
            <a:ext cx="0" cy="2556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33440" y="1406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9600" y="1419120"/>
            <a:ext cx="0" cy="290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82480" y="171936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19280" y="1741320"/>
            <a:ext cx="0" cy="5526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0080" y="201456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0080" y="229392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97000" y="2894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6120" y="4529160"/>
            <a:ext cx="5130360" cy="1807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quan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impleContent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xtension base="xs:decimal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attribute name="units" use="required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&gt; &lt;/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36680" y="2921040"/>
            <a:ext cx="0" cy="2556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33440" y="3182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79600" y="3195720"/>
            <a:ext cx="0" cy="290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82480" y="349560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82480" y="471816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7200" y="4740120"/>
            <a:ext cx="0" cy="290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0080" y="502272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66880" y="5035680"/>
            <a:ext cx="0" cy="2649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0120" y="53006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96840" y="5305320"/>
            <a:ext cx="0" cy="273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00080" y="55926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128600" y="5618160"/>
            <a:ext cx="0" cy="272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20680" y="5897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80920" y="3330720"/>
            <a:ext cx="4294440" cy="3078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8080" y="4600440"/>
            <a:ext cx="4529160" cy="169416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024440" y="3654360"/>
            <a:ext cx="11160" cy="97164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A93AC-444D-4F94-9411-E2A498AA1B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0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indefinite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indefinite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-SCHEMA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Schemas (XSD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lements, types and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ter-schema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ality check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49800" y="3122640"/>
            <a:ext cx="4894200" cy="328680"/>
          </a:xfrm>
          <a:prstGeom prst="leftArrow">
            <a:avLst>
              <a:gd name="adj1" fmla="val 50000"/>
              <a:gd name="adj2" fmla="val 372262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572DC-B86B-44E1-B4BC-94FA67F068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  Namesp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55320" y="2908080"/>
            <a:ext cx="858996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ttp://company.org/forms/namespace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e name of the language for which this schema defines the syntax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schema will only match an instance if its namespace matches -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3120" y="1042920"/>
            <a:ext cx="8653680" cy="12765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schema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       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argetNameSpace= “http://company.org/forms/namespace”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element name=“PO”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03120" y="4335480"/>
            <a:ext cx="8653680" cy="671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?xml version="1.0" encoding="UTF-8"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:PO   xmlns:it=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ttp://company.org/forms/namespace  it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1=“…”&gt;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55680" y="5578560"/>
            <a:ext cx="858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f schema has no targetNameSpace – it can only match un-qualified nam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683C0-D82C-4FBC-AC13-9856114F12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2680" y="3243240"/>
            <a:ext cx="414504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ll must be same target namesp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orms one logical schema as the combination of physically distinct schema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.e. referencing main as the schema allows document to be an PO or an SE (stock enquiry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llows individual document definitions to share type defini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554800" y="1163520"/>
            <a:ext cx="3538440" cy="15631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. …/forms/ns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chemaLocation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…/Forms/Types.xsd"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element    name=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&gt; ….&lt;/&gt;&lt;/&gt;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626800" y="7905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…</a:t>
            </a: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www… /Forms/PO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19880" y="3098880"/>
            <a:ext cx="3554280" cy="1391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. …/forms/ns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impleType    nam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No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&gt; 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other types 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35080" y="272556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…</a:t>
            </a: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www… /Forms/Types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464080" y="5073480"/>
            <a:ext cx="3565800" cy="16102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. …/forms/ns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chemaLocation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…/Forms/Types.xsd"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element    name=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&gt; ….&lt;/&gt;&lt;/&gt;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88640" y="470052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…</a:t>
            </a: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www… /Forms/Inv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7240" y="1230480"/>
            <a:ext cx="4273560" cy="1892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. …/forms/ns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include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schemaLocation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ww…/Forms/PO.xsd"/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include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schemaLocation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ww…/Forms/Inv.xsd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98280" y="84780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…</a:t>
            </a: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www… /Forms/main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348080" y="1191960"/>
            <a:ext cx="1165320" cy="896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348080" y="2671920"/>
            <a:ext cx="1101960" cy="237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8945640" y="2536920"/>
            <a:ext cx="9360" cy="511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8945640" y="4545000"/>
            <a:ext cx="9360" cy="511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10800000">
            <a:off x="3033360" y="144432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10800000">
            <a:off x="8359920" y="1404720"/>
            <a:ext cx="490320" cy="88920"/>
          </a:xfrm>
          <a:prstGeom prst="rightArrow">
            <a:avLst>
              <a:gd name="adj1" fmla="val 50000"/>
              <a:gd name="adj2" fmla="val 137854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0800000">
            <a:off x="8451360" y="336528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0800000">
            <a:off x="8346600" y="531288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72D0B-D2FC-42D7-9D2B-FEC0FD8249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General appreciation of XML and Schemas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ufficient detail to understand WSDLs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chemas (XSD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lements, types and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nter-schema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Reality check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11400" y="3178080"/>
            <a:ext cx="6132600" cy="328680"/>
          </a:xfrm>
          <a:prstGeom prst="leftArrow">
            <a:avLst>
              <a:gd name="adj1" fmla="val 50000"/>
              <a:gd name="adj2" fmla="val 46645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4B989-0D88-481C-B91A-E1A9504B10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clude is to distribute the definition of this namespace (language) over multiple Schema defini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mport is to allow use of other namespaces (languages) in the definition for this language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19880" y="2631960"/>
            <a:ext cx="3554280" cy="1391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“…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www. …/Standards/ns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impleType    nam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0" lang="en-GB" sz="1600" spc="-1" strike="noStrike">
                <a:solidFill>
                  <a:srgbClr val="2b519a"/>
                </a:solidFill>
                <a:latin typeface="Arial"/>
              </a:rPr>
              <a:t>USdat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&gt; 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other types 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24200" y="226368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www… /Standards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9120" y="2884320"/>
            <a:ext cx="5113440" cy="2884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rgetNameSpace= “…www. …/forms/ns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xmlns:st =“…www…/Standards/ns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“…www…/Standards/ns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hemaLoca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“…www… /Standards.xsd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element    name=“PO“&gt; …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name=“USdate” type=“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2b519a"/>
                </a:solidFill>
                <a:latin typeface="Arial"/>
              </a:rPr>
              <a:t>USdat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”\&gt;…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&gt;&lt;/&gt;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60400" y="251604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www… /Forms/PO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45960" y="5851440"/>
            <a:ext cx="8589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ust have namespace definition for import’s namesp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221440" y="4065480"/>
            <a:ext cx="485640" cy="59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0800000">
            <a:off x="4146120" y="360468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10800000">
            <a:off x="4451400" y="4320720"/>
            <a:ext cx="490320" cy="88920"/>
          </a:xfrm>
          <a:prstGeom prst="rightArrow">
            <a:avLst>
              <a:gd name="adj1" fmla="val 50000"/>
              <a:gd name="adj2" fmla="val 137854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0800000">
            <a:off x="8652960" y="295560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A6C71-2EB6-48DB-9967-735928ECA5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on po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8760" y="3138480"/>
            <a:ext cx="880272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eb Services needs to accommodate extensibilit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PO can be “extended” with client’s own information about an order item – e.g. how the user allocates the cost -This is just reflected back in the Invo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is element will be from the client’s namespace – unknown when writing the schem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vered by an Any element (“wildcard”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e Any element can define the allowed namespac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xtensibility covers two kinds of language enhancement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ecialisation – namespace=“##other” anything but this names space – could view user-PO as a specialisation of PO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Versioning – namespace=“##local” this namesp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6600" y="909720"/>
            <a:ext cx="548028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complexType name="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:element ref="note" minOccurs="0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prodCode"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quant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any namespace="##other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nOccurs="0" maxOccurs="unbounded"/&gt;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1120" y="900000"/>
            <a:ext cx="0" cy="21193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54080" y="1109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93760" y="1130400"/>
            <a:ext cx="0" cy="2332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1160" y="13971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26960" y="1422360"/>
            <a:ext cx="0" cy="1160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14360" y="1703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14360" y="1994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14360" y="22845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14360" y="25750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761080" y="907920"/>
            <a:ext cx="331164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xmlns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ser=“www. …”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&gt; 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note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 .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quant&gt;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&lt;user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hargeto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…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595680" y="2557440"/>
            <a:ext cx="2728800" cy="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84280" y="2295360"/>
            <a:ext cx="0" cy="154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06800" y="2252520"/>
            <a:ext cx="2303640" cy="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73400" y="1974960"/>
            <a:ext cx="2210040" cy="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97480" y="1684440"/>
            <a:ext cx="1800000" cy="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F8524-A254-4CEA-B413-7AA3A21A9D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0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LITY CHE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Schemas (XSD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lements, types and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ter-schema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ality check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4905360"/>
            <a:ext cx="6019920" cy="328680"/>
          </a:xfrm>
          <a:prstGeom prst="leftArrow">
            <a:avLst>
              <a:gd name="adj1" fmla="val 50000"/>
              <a:gd name="adj2" fmla="val 457886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C9E55-1E52-437E-87F8-FAACF28E57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hema  Gener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chemas are a moderately sophisticated type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hoice; all; an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nion; pattern; 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ore sophisticated than e.g. Java type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Usage of the Schema generality depends on inter-operability issu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519a"/>
                </a:solidFill>
                <a:latin typeface="Arial"/>
              </a:rPr>
              <a:t>Low interoperability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configuration table for your particular applic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chema only for human consump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User does not write programs that use the table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uld use full generality of schema definition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519a"/>
                </a:solidFill>
                <a:latin typeface="Arial"/>
              </a:rPr>
              <a:t>High Interoperability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WSDL for your web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chema used to define the structure of SOAP mess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chema must be usable by any web services toolk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ype structure must be translatable into any programming language type schem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Lowest common denominator –   WS-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E269F-74A6-49BB-887D-758EC2E9A9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chemas within WSD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Complex Elemen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Sequence for distinctly-named component field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Standard type for Arra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imple Elemen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A collection of standard typ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Exclud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n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Extension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Choic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ll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Repitition / optionality (maxoccurrs, minoccurrs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ixed conte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.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91342-6FA1-4ACA-9F42-590C66AFA4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SCHE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Schema defines the syntax for an XML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n XML document can have an associated Schem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t is valid if it meets the syntax rules of that schem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his can import syntax for (parts of) other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uch like programming language type declarations, But some peculiariti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Has declaration of attributes - needed to define XML 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hree ways to define the “type” of a valu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Giving the sub-structure directly – anonymous typ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Referring to a Type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Referring to an Element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llows extension poi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Quite a complex structure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s itself an XML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asier to read than to writ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xample – Purchase Order document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00338f"/>
                </a:solidFill>
                <a:uFillTx/>
                <a:latin typeface="Arial"/>
              </a:rPr>
              <a:t>http://www.gs.unina.it/repository/tuesday-12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5FD84-7882-4C40-8AC1-E30A73F012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idation / Gene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600" y="2577960"/>
            <a:ext cx="858996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chema is a type –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fines a range of possible instan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8f"/>
                </a:solidFill>
                <a:latin typeface="Arial"/>
              </a:rPr>
              <a:t>The set of all instances which are “validated by the schema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nstance is validated by the schema” – it satisfies the  schema definitio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lternative terminology –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schema matches the instance”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instance matches the schema”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24520" y="1263600"/>
            <a:ext cx="3060720" cy="875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9320" y="1236600"/>
            <a:ext cx="1989360" cy="9255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chema ….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51120" y="2273400"/>
            <a:ext cx="311724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Schema – XML docu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59560" y="2273400"/>
            <a:ext cx="318096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Instance – XML docu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32080" y="1457280"/>
            <a:ext cx="3511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56360" y="11397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Validat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332080" y="1893960"/>
            <a:ext cx="3511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34760" y="156672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Is Validated B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9200" y="11397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atch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9200" y="15508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atch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89C51-AEDE-4C11-8A66-5C7A24B0EE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EMENTS etc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Schemas (XSD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lements, types and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ter-schema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ality check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94280" y="2757600"/>
            <a:ext cx="4149720" cy="328680"/>
          </a:xfrm>
          <a:prstGeom prst="leftArrow">
            <a:avLst>
              <a:gd name="adj1" fmla="val 50000"/>
              <a:gd name="adj2" fmla="val 31563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4EB93-8653-4E15-BA54-CFD82C2056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24520" y="958680"/>
            <a:ext cx="3060720" cy="41022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USdate&gt; 10/24/04 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Z135-ACE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bill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addr&gt;…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terms&gt;7-day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delive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addr&gt;…&lt;/&gt; &lt;/&gt;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800" y="958680"/>
            <a:ext cx="5313240" cy="533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chema ….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xmlns:xs="http://www.w3.org/2001/XMLSchema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impleType nam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accNo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entry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typ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accNo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"</a:t>
            </a:r>
            <a:r>
              <a:rPr b="1" i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inOccurs="0" maxOccurs="3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typ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entry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axOccurs="unbounded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i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3680" y="1162080"/>
            <a:ext cx="0" cy="49402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3680" y="20368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9160" y="1141560"/>
            <a:ext cx="23652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3680" y="2336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2200" y="2333520"/>
            <a:ext cx="0" cy="111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3680" y="25938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2200" y="2619360"/>
            <a:ext cx="0" cy="2937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2200" y="2048040"/>
            <a:ext cx="0" cy="110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2200" y="2922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1600" y="2933640"/>
            <a:ext cx="0" cy="2779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5120" y="3222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560" y="3247920"/>
            <a:ext cx="0" cy="2005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35226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2160" y="3540240"/>
            <a:ext cx="0" cy="110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3680" y="58514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8040" y="38052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8040" y="40784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2160" y="4078440"/>
            <a:ext cx="0" cy="306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28640" y="43768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4394160"/>
            <a:ext cx="0" cy="111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040" y="46846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8040" y="52578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32600" y="5130720"/>
            <a:ext cx="2873160" cy="76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1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schema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“envelope” -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xs” =  schema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namespace. Or “xsd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20080" y="5191200"/>
            <a:ext cx="3909600" cy="125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2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PO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- global complex element -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a sequence of child elements -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Date, accno, customer, note,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Entry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An anonymous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92360" y="5254560"/>
            <a:ext cx="242208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3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Date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see lat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83080" y="5332320"/>
            <a:ext cx="389592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4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AccNo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– element of global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57160" y="5392800"/>
            <a:ext cx="3095640" cy="52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5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customer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info –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Nested complex ele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50760" y="5454720"/>
            <a:ext cx="3711600" cy="76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6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note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reference to a globa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ement – same name and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Repeated 0 – 3 tim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2680" y="5494320"/>
            <a:ext cx="3795480" cy="52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7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entry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element of global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Repeated 1 or more tim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2040B-B1E7-4CE3-AE3F-5C9849F8C9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indefinite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indefinite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indefinite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indefinite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indefinite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indefinite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indefinite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indefinite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indefinite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indefinite"/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indefinite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indefinite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indefinite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T VISIBLE COMMENTS OF PREVIOUS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2080" y="1006560"/>
            <a:ext cx="2873160" cy="76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1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schema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“envelope” -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xs” =  schema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namespace. Or “xsd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9960" y="1927080"/>
            <a:ext cx="3909600" cy="125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2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PO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- global complex element -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a sequence of child elements -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Date, accno, customer, note,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Entry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An anonymous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4080" y="3324240"/>
            <a:ext cx="242208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3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Date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see lat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5840" y="3736800"/>
            <a:ext cx="389592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4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AccNo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– element of global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5280" y="4206960"/>
            <a:ext cx="3095640" cy="52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5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customer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info –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Nested complex ele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0720" y="4883040"/>
            <a:ext cx="3711600" cy="76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6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note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reference to a globa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ement – same name and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Repeated 0 – 3 tim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800" y="5811840"/>
            <a:ext cx="3795480" cy="52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7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entry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element of global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Repeated 1 or more tim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426C1-A70C-4480-82E7-D57CE734AC3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obal I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95800" y="947880"/>
            <a:ext cx="3867120" cy="12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46800" rIns="468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Annotation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Documentation  (also appinfo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Can also go deeper in 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o annotate parts of structur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4320" y="958680"/>
            <a:ext cx="4740120" cy="30207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468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schema 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annotation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documentation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    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Here is a Schema&lt;/&gt;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simpleType name="</a:t>
            </a:r>
            <a:r>
              <a:rPr b="0" i="1" lang="en-GB" sz="1800" spc="-1" strike="noStrike">
                <a:solidFill>
                  <a:srgbClr val="2b0000"/>
                </a:solidFill>
                <a:latin typeface="Arial"/>
              </a:rPr>
              <a:t>accNoT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complexType name="</a:t>
            </a:r>
            <a:r>
              <a:rPr b="0" i="1" lang="en-GB" sz="1800" spc="-1" strike="noStrike">
                <a:solidFill>
                  <a:srgbClr val="2b0000"/>
                </a:solidFill>
                <a:latin typeface="Arial"/>
              </a:rPr>
              <a:t>entryT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element name="PO"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0" i="1" lang="en-GB" sz="18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760" y="1162080"/>
            <a:ext cx="0" cy="2727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760" y="18082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6240" y="1141560"/>
            <a:ext cx="23652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0760" y="2819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0760" y="3165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9280" y="1830240"/>
            <a:ext cx="0" cy="351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280" y="2174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760" y="3479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9280" y="2822400"/>
            <a:ext cx="0" cy="152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280" y="3165480"/>
            <a:ext cx="0" cy="1126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9280" y="3495600"/>
            <a:ext cx="0" cy="1126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0760" y="37972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9280" y="3827520"/>
            <a:ext cx="0" cy="982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7080" y="1693800"/>
            <a:ext cx="3605040" cy="9018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49160" y="6078600"/>
            <a:ext cx="458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Order of global items is not significa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7080" y="2649600"/>
            <a:ext cx="4730760" cy="663480"/>
          </a:xfrm>
          <a:prstGeom prst="rect">
            <a:avLst/>
          </a:pr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08400" y="2436840"/>
            <a:ext cx="3829320" cy="973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Global (named) Types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imple or complex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Use in giving type of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7080" y="3343320"/>
            <a:ext cx="4730760" cy="609480"/>
          </a:xfrm>
          <a:prstGeom prst="rect">
            <a:avLst/>
          </a:pr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4040" y="4229280"/>
            <a:ext cx="8569440" cy="1579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lements - two rol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he instance document can have an instance of this as its root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PO  or Note – not what’s intended !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be referenced from elsewhere as another way of giving “type” 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ut must use same nam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8720" y="6097680"/>
            <a:ext cx="39531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Other things e.g. attributes, group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EBFA7-4D9E-4041-9AF6-68390E4ACF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indefinite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indefinite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indefinite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 of Complex 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8760" y="4157640"/>
            <a:ext cx="89852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Nillable – can match element with attribut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si:nil = “true”,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and no 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Occurrences – minOccurs , maxOccurs. Default is 1..1. max can be “unbounded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is schema item can match N occurrences of the element, Min&lt;=N&lt;=Max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Model (feature of type)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Sequence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each component matched in this 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But each component may actually match no elements or multiple elemen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f there are any notes – after customer and before first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24520" y="907920"/>
            <a:ext cx="3060720" cy="3026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USdate&gt; 10/24/04 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Z135-ACE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xsi:nil=“true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240" y="907920"/>
            <a:ext cx="5514840" cy="3278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“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nillable=“1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"</a:t>
            </a:r>
            <a:r>
              <a:rPr b="1" i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inOccurs="0" maxOccurs="3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typ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entry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axOccurs="unbounded"/&gt;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1240" y="898560"/>
            <a:ext cx="0" cy="3284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3840" y="10936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63520" y="1076400"/>
            <a:ext cx="0" cy="32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1393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6720" y="140796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120" y="17002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3280" y="1725480"/>
            <a:ext cx="0" cy="2468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0680" y="19922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2040" y="2003400"/>
            <a:ext cx="0" cy="244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0680" y="28544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0680" y="3449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43120" y="1825560"/>
            <a:ext cx="4160520" cy="8748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03800" y="2050920"/>
            <a:ext cx="2649600" cy="516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43120" y="2752560"/>
            <a:ext cx="4160520" cy="544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64200" y="2608200"/>
            <a:ext cx="1616040" cy="544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560" y="1547640"/>
            <a:ext cx="4691160" cy="29232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73640" y="1855800"/>
            <a:ext cx="0" cy="18543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9360" y="1974960"/>
            <a:ext cx="1498680" cy="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60720" y="2887560"/>
            <a:ext cx="2227320" cy="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92640" y="3471840"/>
            <a:ext cx="1895400" cy="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00640" y="1974960"/>
            <a:ext cx="876240" cy="1983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248440" y="2689200"/>
            <a:ext cx="982440" cy="2001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75440" y="2887560"/>
            <a:ext cx="903240" cy="936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248440" y="3259080"/>
            <a:ext cx="982440" cy="2001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00640" y="3486240"/>
            <a:ext cx="890640" cy="396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CFC6D-17B6-49C3-AACD-FC8D4B4C19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indefinite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indefinite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indefinite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Richard Hopkins</cp:lastModifiedBy>
  <dcterms:modified xsi:type="dcterms:W3CDTF">2005-07-11T21:33:27Z</dcterms:modified>
  <cp:revision>100</cp:revision>
  <dc:subject/>
  <dc:title>XML</dc:title>
</cp:coreProperties>
</file>