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5"/>
          </p:nvPr>
        </p:nvSpPr>
        <p:spPr>
          <a:xfrm>
            <a:off x="38271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8C8F-4DB5-45AF-98E7-6BF50774B4EA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7"/>
          </p:nvPr>
        </p:nvSpPr>
        <p:spPr>
          <a:xfrm>
            <a:off x="38271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9956-1624-4935-95E2-97F3141F84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3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– this is very artificial example, e.g. there is a standard for date representation which should be used  rather than a US date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46AE-1917-4F3F-8373-A473302D7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4240-0AF1-4A60-8A09-C8AA8817B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942A-8695-43E3-960C-31FDE8CE1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7DCF-EFEE-4CE9-AB3B-0A4E47920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E326-B5DF-41AC-888D-2F2E274B0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F89C8-BB65-408D-9E6F-C5F2A841A2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99BF3-BCCE-4AB9-B232-90D7E6F5EE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097C6-D0C6-41C1-B953-8CB4538D90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C1A86-7E73-4EFB-8EB0-0FC2BC5C43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7FC6A-FDE2-4170-A63F-4175403246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3866E-3CFC-4C0C-BAE2-DA6A3906B6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2B90B-B631-4830-ABAD-A57FE6BC2F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1A8C9-33B6-4E60-ADEA-26B81F16D4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06E00-CF1F-4E69-B23E-18F95A7FCF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2D4E7-0089-42FF-9F72-CA4B08DEA6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56341-862D-4FF3-B797-6BFE8B2FFC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8EC59-5959-4473-ABD1-0944A09441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09AA4-E4AD-4D9A-BBA3-05A60CB03A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D526-1A9A-46D4-8CFE-6EE98C35FF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DC5A-F4AC-4326-9672-6FA29A35F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263D-AF24-4973-B3C1-B628C0547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BD88-A730-4D0C-8D7E-63A10E2C7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C87E-CAEF-442F-BA8F-50889FFF1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8229-3F91-4C52-9113-AF504B408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A520-F983-4D8A-ADC6-3BE2477F2C1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XM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1DB1-6BB3-48B5-9021-ECAA191ACBDD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3.org/TR/REC-xml-names" TargetMode="External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5680" y="2493720"/>
            <a:ext cx="69883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XML documents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June 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600" y="955440"/>
            <a:ext cx="8589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ain structure of document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olog – like headers; usualy standard and un-interest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lement – the actual document – recursively has nested elemen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mmediately following the prolo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iscellaneou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white space and “supplementals” allowed throughout with some restric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Supplemental –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Com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ocessing Instruction (PI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1680" y="4373640"/>
            <a:ext cx="6165720" cy="2026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“1.0”  encoding=“UTF-8”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- - This is an example XML document - -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-stylesheet  type=“text/ccs”  href=“greet.ccs” 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voice&gt; …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45400" y="4460760"/>
            <a:ext cx="212760" cy="1009800"/>
          </a:xfrm>
          <a:custGeom>
            <a:avLst/>
            <a:gdLst>
              <a:gd name="textAreaLeft" fmla="*/ 0 w 212760"/>
              <a:gd name="textAreaRight" fmla="*/ 76680 w 2127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13720" y="5732640"/>
            <a:ext cx="285840" cy="539640"/>
          </a:xfrm>
          <a:custGeom>
            <a:avLst/>
            <a:gdLst>
              <a:gd name="textAreaLeft" fmla="*/ 0 w 285840"/>
              <a:gd name="textAreaRight" fmla="*/ 103320 w 285840"/>
              <a:gd name="textAreaTop" fmla="*/ 14040 h 539640"/>
              <a:gd name="textAreaBottom" fmla="*/ 5256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36640" y="4782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prolo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59680" y="5668920"/>
            <a:ext cx="106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oo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7800" y="44402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I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3080" y="4568760"/>
            <a:ext cx="44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69840" y="4732200"/>
            <a:ext cx="44136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273640"/>
            <a:ext cx="13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44480" y="4928760"/>
            <a:ext cx="63828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863BE-3A1F-4EC2-92F0-18D13C20A1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incipal element structur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tart Tag – &lt;…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of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Zero or more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ach a name-value pair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niquely named; 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rder insignifica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ntent – possibly nested </a:t>
            </a:r>
            <a:r>
              <a:rPr b="0" lang="en-US" sz="1800" spc="-1" strike="noStrike" u="sng">
                <a:solidFill>
                  <a:srgbClr val="00338f"/>
                </a:solidFill>
                <a:uFillTx/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, and other thing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nd Tag - &lt;/ … 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– MUST be same name as in matching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ike HTML – but stricter – must have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5760" y="1471680"/>
            <a:ext cx="6611760" cy="1277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6000" y="15987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66000" y="24019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66000" y="20019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00920" y="1541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01640" y="2332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01640" y="1954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835560" y="939960"/>
            <a:ext cx="142920" cy="78912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789120"/>
              <a:gd name="textAreaBottom" fmla="*/ 76860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7600" y="833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603520" y="171000"/>
            <a:ext cx="142920" cy="2327400"/>
          </a:xfrm>
          <a:custGeom>
            <a:avLst/>
            <a:gdLst>
              <a:gd name="textAreaLeft" fmla="*/ 0 w 142920"/>
              <a:gd name="textAreaRight" fmla="*/ 51480 w 142920"/>
              <a:gd name="textAreaTop" fmla="*/ 60480 h 2327400"/>
              <a:gd name="textAreaBottom" fmla="*/ 22669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5244120" y="563760"/>
            <a:ext cx="150840" cy="1549440"/>
          </a:xfrm>
          <a:custGeom>
            <a:avLst/>
            <a:gdLst>
              <a:gd name="textAreaLeft" fmla="*/ 0 w 150840"/>
              <a:gd name="textAreaRight" fmla="*/ 54360 w 150840"/>
              <a:gd name="textAreaTop" fmla="*/ 40320 h 1549440"/>
              <a:gd name="textAreaBottom" fmla="*/ 1509120 h 15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26400" y="8334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4880" y="8334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: name-value pai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4CB45-89EF-463C-B8DE-E3649809C6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1661760"/>
            <a:ext cx="8589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-value pair that is included in the start tag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 is part of specific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Value may also be part of a specific language – QName – qualified nam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ore properly the above might b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Type =“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d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Style=“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”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starts to get convoluted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ecessary for designing for multi-lingual documents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5760" y="1047600"/>
            <a:ext cx="8737560" cy="450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 ….  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47BDB-43B5-4E46-979F-CD72AF2D8A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ty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3486240"/>
            <a:ext cx="858996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mpty Element Tag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orthand for element with no cont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just attributes perhap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dicated by    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&gt;     not    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ame a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&gt;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account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6640" y="1312920"/>
            <a:ext cx="5505120" cy="2056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6920" y="134460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61320" y="29113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00840" y="1724040"/>
            <a:ext cx="192240" cy="1069920"/>
          </a:xfrm>
          <a:custGeom>
            <a:avLst/>
            <a:gdLst>
              <a:gd name="textAreaLeft" fmla="*/ 0 w 192240"/>
              <a:gd name="textAreaRight" fmla="*/ 69480 w 192240"/>
              <a:gd name="textAreaTop" fmla="*/ 27720 h 1069920"/>
              <a:gd name="textAreaBottom" fmla="*/ 10422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1840" y="128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5400" y="28987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54280" y="20844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1800" y="2013120"/>
            <a:ext cx="1831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mpty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085120" y="2100240"/>
            <a:ext cx="196920" cy="263520"/>
          </a:xfrm>
          <a:custGeom>
            <a:avLst/>
            <a:gdLst>
              <a:gd name="textAreaLeft" fmla="*/ 0 w 196920"/>
              <a:gd name="textAreaRight" fmla="*/ 70920 w 196920"/>
              <a:gd name="textAreaTop" fmla="*/ 6840 h 263520"/>
              <a:gd name="textAreaBottom" fmla="*/ 2566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675E8-9337-41D1-AB25-583E52AC9A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sted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5600" y="3968640"/>
            <a:ext cx="85899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ccount and Items are child element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on-unique nam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order is significa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is not a usual programming language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est if each compound item is ei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tructure (Struct) – uniquely 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rray – multiple same-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8920" y="1103400"/>
            <a:ext cx="522756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ustomerType=“trade” dateStyle=“US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No=“17-36-2” terms=“days3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5840" y="1112760"/>
            <a:ext cx="2831040" cy="2690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tems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4200" y="1298520"/>
            <a:ext cx="0" cy="2059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88080" y="15922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8080" y="19000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88080" y="33544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43880" y="2023920"/>
            <a:ext cx="0" cy="760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54680" y="276372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54680" y="247320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54680" y="218268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3FBBC-25D8-414E-B1D4-AC11553D66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Character  (Simple) 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5600" y="3195720"/>
            <a:ext cx="858996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0000"/>
                </a:solidFill>
                <a:latin typeface="Arial"/>
              </a:rPr>
              <a:t>&lt;price&gt; 17.35 &lt;/price&gt;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is an element with just character dat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A simple valu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ll simple values are text strings, but may have particular syntax and interpretation as decimal, integer, date, …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3240" y="1128600"/>
            <a:ext cx="8074080" cy="1923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7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0/29/0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173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7E2C4-5E66-4591-BF27-29BE8FDB8D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4175280"/>
            <a:ext cx="8888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ill use XML a lot  - Schemas, Soap messages, WSDL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o use clearer/briefer not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xtual – direct translation to actual XM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enerally will use indentation to indicat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bbreviate End Tags to just &lt;/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lways have to actually put name in end tag !!!!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ree diagram – to emphasis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840" y="907920"/>
            <a:ext cx="7935840" cy="3111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ice currency=“Euro”&gt;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3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Cod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-23-57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1000" y="1119240"/>
            <a:ext cx="0" cy="2168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4840" y="109872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6600" y="1365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6600" y="2765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6600" y="329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3560" y="2776680"/>
            <a:ext cx="0" cy="168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" y="1362240"/>
            <a:ext cx="0" cy="1082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560" y="165096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560" y="192240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560" y="22082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3560" y="246528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560" y="3305160"/>
            <a:ext cx="0" cy="468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3560" y="35798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59DB9-44DC-4AF4-A114-196E98D64C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- NAME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32080" y="2475000"/>
            <a:ext cx="5911920" cy="328680"/>
          </a:xfrm>
          <a:prstGeom prst="leftArrow">
            <a:avLst>
              <a:gd name="adj1" fmla="val 50000"/>
              <a:gd name="adj2" fmla="val 44967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156F4-E66C-4EFA-AD78-580D2A8111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2948040"/>
            <a:ext cx="858996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space (= “language”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fines a collection of names (a vocabulary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UK : {address, county, postCode, ….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has an associated syntax (e.g. Schema definition)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ddress = … county, postCode, 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yntax may be available to S/W proces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mplies a semantics – the (programmer writing) S/W processing a UK:address knows what it mea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rovides a unique prefix for disambiguating names from different originator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K vs. US vs. I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7080" y="923760"/>
            <a:ext cx="8889840" cy="1869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voice&gt;                                                 &lt;!-- INT = International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-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livery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un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postC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billing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B1F05-5D64-4995-A928-641497624D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Na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o get uniqueness of namespace name, use a URI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postCode is really 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HTTP://www.UKstandards.org/Web/XMLForms:postCode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       (mythical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The URI </a:t>
            </a:r>
            <a:r>
              <a:rPr b="0" lang="en-GB" sz="2000" spc="-1" strike="noStrike" u="sng">
                <a:solidFill>
                  <a:srgbClr val="00338f"/>
                </a:solidFill>
                <a:uFillTx/>
                <a:latin typeface="Arial"/>
              </a:rPr>
              <a:t>might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be a real URL, for accessing the syntax definition, documentation, ….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But it may be just an identifier within the internet domain owned by the namespace owner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5E6D9-200C-473B-8B51-EF09C46FE8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General appreciation of XML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ufficient detail to understand WSDL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1400" y="2835360"/>
            <a:ext cx="6132600" cy="328680"/>
          </a:xfrm>
          <a:prstGeom prst="leftArrow">
            <a:avLst>
              <a:gd name="adj1" fmla="val 50000"/>
              <a:gd name="adj2" fmla="val 46645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F860F-51DB-402A-9E4B-4FE1A65B55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UK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 is really 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www.UKstandards.org/Web/XMLForms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t HTTP://www.UKstandards.org/Web/XML/Form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ostCode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ediously long to use throughout th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Outside XML name syntax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amespaces are not part of XM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supplementary standard </a:t>
            </a:r>
            <a:r>
              <a:rPr b="0" lang="en-GB" sz="18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ww.w3.org/TR/REC-xml-names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W3C recommend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 an XML 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clare a namespace prefix, as an attribute of an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xmlns: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=“HTTP://www.UKstandards.org/Web/XML/Forms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n use that for names in that namespace - UK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 code is called a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Nam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(qualified nam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EEC38-EDC1-4A1C-B240-C774154A67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 Decla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3703680"/>
            <a:ext cx="858996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space declaration occurs as an attribute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.e. within a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cope is from beginning of  that start tag to matching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Excluding scope of nested re-declarations of same prefix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an declare a default namesp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xlmns=“www/3”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this is the name space for all un-qualified names in the scope of this declaration, eg. Stree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no defaulting for attributes – if no prefix, no namesp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4120" y="1158840"/>
            <a:ext cx="7926480" cy="2606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xlmns:BF=“www/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xlmns:UK=“www/2” 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xmlns=“www/3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                                        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delivery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ress&gt; …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unty&gt;…&lt;/&gt; &lt;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Code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billing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xlmns:US=“www. …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 …&lt;street&gt;…&lt;/&gt; …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invo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000" y="939960"/>
            <a:ext cx="78120" cy="204480"/>
          </a:xfrm>
          <a:custGeom>
            <a:avLst/>
            <a:gdLst/>
            <a:ahLst/>
            <a:rect l="l" t="t" r="r" b="b"/>
            <a:pathLst>
              <a:path w="49" h="129">
                <a:moveTo>
                  <a:pt x="49" y="0"/>
                </a:moveTo>
                <a:lnTo>
                  <a:pt x="0" y="129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9360" y="949320"/>
            <a:ext cx="2286000" cy="2689200"/>
          </a:xfrm>
          <a:custGeom>
            <a:avLst/>
            <a:gdLst/>
            <a:ahLst/>
            <a:rect l="l" t="t" r="r" b="b"/>
            <a:pathLst>
              <a:path w="1446" h="1541">
                <a:moveTo>
                  <a:pt x="1446" y="117"/>
                </a:moveTo>
                <a:lnTo>
                  <a:pt x="1422" y="0"/>
                </a:lnTo>
                <a:lnTo>
                  <a:pt x="0" y="0"/>
                </a:lnTo>
                <a:lnTo>
                  <a:pt x="6" y="1507"/>
                </a:lnTo>
                <a:lnTo>
                  <a:pt x="919" y="1541"/>
                </a:lnTo>
                <a:lnTo>
                  <a:pt x="919" y="1412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8680" y="1795320"/>
            <a:ext cx="554040" cy="14616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332000" y="2481120"/>
            <a:ext cx="2023920" cy="41940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55920" y="2509920"/>
            <a:ext cx="922320" cy="39996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4320" y="2479680"/>
            <a:ext cx="2527200" cy="41112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94200" y="1469880"/>
            <a:ext cx="3530520" cy="487440"/>
          </a:xfrm>
          <a:custGeom>
            <a:avLst/>
            <a:gdLst/>
            <a:ahLst/>
            <a:rect l="l" t="t" r="r" b="b"/>
            <a:pathLst>
              <a:path w="2224" h="307">
                <a:moveTo>
                  <a:pt x="2224" y="0"/>
                </a:moveTo>
                <a:lnTo>
                  <a:pt x="110" y="152"/>
                </a:lnTo>
                <a:lnTo>
                  <a:pt x="0" y="307"/>
                </a:lnTo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8680" y="2448000"/>
            <a:ext cx="554040" cy="14580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B7A91-AFB8-41F1-BCC3-B636262CE1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ll-formed and Val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Well-forme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XML syntax, e.g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rt and end tags nest properly with matching nam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Vali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syntax defined by the namespaces used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an’t check this without a definition of that syntax –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rmally a Schem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TD (document Type Definitions) – deprecat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thers type definition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some more sophisticated than Schemas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A5470-6EDF-4DF4-84BB-B1B6E84A36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EN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15613-A94F-40D9-ADE8-51C2224389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Markup Languag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rkup” means document is an intermixing of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Content – the actual information to be conveyed - payload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Markup – information about the conten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22/10/1946&lt;/date&gt;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 … &lt;/date&gt;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 markup – says that the content is a dat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elf-describing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part of a markup vocabulary –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a collection of keywords used to identify syntax and semantics of constructs in an XML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947A1-2455-423E-869C-FB681832A2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xtensible” means the markup vocabulary is not fix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pare with similar NON-extensible languag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HTML (Hypertext Markup Languag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ixed markup vocabulary  e.g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is a paragraph. I like it.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is 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another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paragraph &lt;/p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esentation </a:t>
            </a:r>
            <a:r>
              <a:rPr b="1" lang="en-GB" sz="1800" spc="-1" strike="noStrike" u="sng">
                <a:solidFill>
                  <a:srgbClr val="00338f"/>
                </a:solidFill>
                <a:uFillTx/>
                <a:latin typeface="Arial"/>
              </a:rPr>
              <a:t>language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for describing how a document should be presented for human consumption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is a paragraph. I like it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noth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paragraph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HTML the language is fixed and implicit in the fact that this is an HTML document – single-languag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requires explicit definition of the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ne document can combine multiple langu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C03C5-6660-402F-9FA5-11ABAE0F5D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-lingual 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9680" y="3494160"/>
            <a:ext cx="900432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Forms:Invoice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n Invoice construct within the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sinessForms (mythica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language defining structure of business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business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oesn’t prescribe the language of individual items such as da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aken from separate languages 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notations:dat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Language names are actually universally unique URIs – www.DesperatelyTryingToStandardise.org/BusinessForms -  see lat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1040" y="895320"/>
            <a:ext cx="8666280" cy="2562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C689D-BE12-4065-9EBD-BBECCA2F65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lingual  Pros  &amp; C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paration of concerns – Design Factor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esig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chase order structure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date format etc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re independent concer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-use of language definitions, e.g. date formats in many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xtensibility – Purchase order accommodates new product identification schemes (e.g. ISBN for book stor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f course, only works if both ends “understand” all languages u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akes things more complex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reating and identifying the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1040" y="895320"/>
            <a:ext cx="8666280" cy="1930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791E4-9BD9-4941-80C8-31D33A81C6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XML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5600" y="907560"/>
            <a:ext cx="879804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Fundamental Standard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.g. SOAP - the language for soap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ap-envelope:head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ap-envelope: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soap message is an XML document and its parts are identified using this vocabula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oal is a factoring that gives pick-and-mix of combinable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ssociated with any WS standard will be a Schema definition of its XML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munity conven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Perhaps, our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alised Data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Java configuration tabl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fic Application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yProgram:parameter1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e language used in invoking particular operations of a web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600D6-3253-4F17-A65F-DEE908DC41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&amp; Machine Oriente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94080" y="987120"/>
            <a:ext cx="46418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Human read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ort of - OK with decent editor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s de-buggabl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mportant for meta-data documents,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E.g. WSD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chine process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elf description enabl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General tools for producing and consuming XML docum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Verbos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OK except for large data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Messages may have attachments not in XM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1040" y="895320"/>
            <a:ext cx="3929040" cy="5515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ow it really look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3-768-252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 businessForms:Invoice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0310A-4DF6-49D9-8AA3-C756AF3A8C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– DETAILED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35320" y="2109960"/>
            <a:ext cx="5008680" cy="328320"/>
          </a:xfrm>
          <a:prstGeom prst="leftArrow">
            <a:avLst>
              <a:gd name="adj1" fmla="val 50000"/>
              <a:gd name="adj2" fmla="val 38138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8A24C-C4BF-4319-A684-1DB47A38E8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09:39:16Z</dcterms:modified>
  <cp:revision>100</cp:revision>
  <dc:subject/>
  <dc:title>XML</dc:title>
</cp:coreProperties>
</file>