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2AA0-3A7B-4D45-9626-CC3A0EF0AC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C1E5-6A11-4FCA-AB32-4C2D20C8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199E-59FA-4842-9D8A-9713689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EC3A-8B97-497D-9BDB-49AADDFC71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45E0-BD26-497D-AE03-B7F63FFE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97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364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DAE0-D6EE-4AFA-93A8-92756B58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7B10-1BC1-4D2C-A21B-B808C99C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8D75-69F0-4E43-9965-452A098F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A8F4-5B4A-4AEB-A9D5-92F7F2CE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7F4F-F013-47E2-8043-34077C55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DC6D-4EA4-4E95-9B93-F3BAC59E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9A80-C8D7-41AA-ABA1-59620EF7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47B5-7EC3-42BA-99AF-34E073CE26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1905120" y="6553080"/>
            <a:ext cx="5715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jitsu Laboratories of Europe ©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6"/>
          <a:srcRect l="0" t="20844" r="0" b="32329"/>
          <a:stretch/>
        </p:blipFill>
        <p:spPr>
          <a:xfrm>
            <a:off x="7924680" y="38160"/>
            <a:ext cx="1219320" cy="571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152280" y="6095880"/>
            <a:ext cx="251460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280" y="0"/>
            <a:ext cx="5415120" cy="1173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0477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jitsu Laboratories of Europe ©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685440" y="228564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486400" y="228600"/>
            <a:ext cx="3397320" cy="82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 Black"/>
              </a:rPr>
              <a:t>OGSA, WSRF, and the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Arial Black"/>
              </a:rPr>
              <a:t>Foundations of Grid</a:t>
            </a:r>
            <a:endParaRPr b="1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84520"/>
            <a:ext cx="6400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r. David Snelling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ujitsu Laboratories of Europ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avid.Snelling@ UK.Fujitsu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redit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ost of the material is the result of collaborative effort from: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teve Graham, Jeff Frey, Jay Unger, Steve Tuecke and Tom Maguire.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tate: A Grid Fundamental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teful Entities Exis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a purchas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for a data base or structured dat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usage agreement for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associated with work load on a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itherto: No WS Standards for State Manage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ystem does it in an “idiosyncratic w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imped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GSA Needs to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ize a mechanism to represent “st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 specifications provid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conciling State and SOA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eb Servic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execution available at an endpoin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defined in terms of the operations it imp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eration is defined in terms of a message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L, SOAP, and all tha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  using WS-Addressing Endpoint Re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cycle of a Web service is described in terms of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re or it isn’t. No factory pattern, only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Web Service itself is typically Stateles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ids Need Access to Stateful Resourc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Factory Patter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hen you need a Resource you need i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 Job to do th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result data set combining thes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me management interface for this experimen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SA provides for dynamic creation of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nd it or Create it?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is mo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MeAThing (Description) -&gt; HandleT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MeAThing (Description) -&gt; HandleT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The Web Servic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204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192320" y="4483080"/>
            <a:ext cx="909360" cy="53676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427560" y="4197240"/>
            <a:ext cx="993600" cy="576000"/>
            <a:chOff x="3427560" y="4197240"/>
            <a:chExt cx="993600" cy="576000"/>
          </a:xfrm>
        </p:grpSpPr>
        <p:sp>
          <p:nvSpPr>
            <p:cNvPr id="209" name=""/>
            <p:cNvSpPr/>
            <p:nvPr/>
          </p:nvSpPr>
          <p:spPr>
            <a:xfrm>
              <a:off x="347040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756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01920" y="2430360"/>
            <a:ext cx="13464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293220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indefinit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12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377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377"/>
                            </p:stCondLst>
                            <p:childTnLst>
                              <p:par>
                                <p:cTn id="1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2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16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377"/>
                            </p:stCondLst>
                            <p:childTnLst>
                              <p:par>
                                <p:cTn id="1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877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377"/>
                            </p:stCondLst>
                            <p:childTnLst>
                              <p:par>
                                <p:cTn id="19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877"/>
                            </p:stCondLst>
                            <p:childTnLst>
                              <p:par>
                                <p:cTn id="196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1789E-006 L 0.00035 -0.05445 L 0.02275 -0.0848 L 0.0665 -0.0848 E">
                                      <p:cBhvr>
                                        <p:cTn id="19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Stateful Resourc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Resource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fic set of state data expressible as an XML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typically all of the resource’s st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well-defined identity and life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to, and acted upon, by one or more Web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ny Possible Instanc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, Database tables, EJB Entities, XML documents, Compositions of multiple data sources, Virtualized executions of applica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WS-Resource ha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: Can be uniquely identified/refer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: Often created &amp; destroyed by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: Part of the state can be projected as 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Its Web servic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Resource Access 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4120" y="3279600"/>
            <a:ext cx="2857320" cy="1575360"/>
            <a:chOff x="5334120" y="3279600"/>
            <a:chExt cx="2857320" cy="1575360"/>
          </a:xfrm>
        </p:grpSpPr>
        <p:sp>
          <p:nvSpPr>
            <p:cNvPr id="219" name=""/>
            <p:cNvSpPr/>
            <p:nvPr/>
          </p:nvSpPr>
          <p:spPr>
            <a:xfrm>
              <a:off x="5334120" y="3279600"/>
              <a:ext cx="2857320" cy="1333800"/>
            </a:xfrm>
            <a:prstGeom prst="roundRect">
              <a:avLst>
                <a:gd name="adj" fmla="val 4542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0" y="4489560"/>
              <a:ext cx="7113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Condensed Bold"/>
                </a:rPr>
                <a:t>con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27280" y="4632480"/>
            <a:ext cx="798480" cy="385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63600" y="3022560"/>
            <a:ext cx="798480" cy="385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231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204920" y="4494240"/>
            <a:ext cx="909720" cy="53640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429000" y="4197240"/>
            <a:ext cx="993600" cy="576000"/>
            <a:chOff x="3429000" y="4197240"/>
            <a:chExt cx="993600" cy="576000"/>
          </a:xfrm>
        </p:grpSpPr>
        <p:sp>
          <p:nvSpPr>
            <p:cNvPr id="236" name=""/>
            <p:cNvSpPr/>
            <p:nvPr/>
          </p:nvSpPr>
          <p:spPr>
            <a:xfrm>
              <a:off x="347184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91480" y="3490920"/>
            <a:ext cx="939600" cy="92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07080" y="3448080"/>
            <a:ext cx="1224000" cy="322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88760" y="2417760"/>
            <a:ext cx="66600" cy="682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41360" y="2430360"/>
            <a:ext cx="29520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12960" y="291924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8fe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223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24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242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877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377"/>
                            </p:stCondLst>
                            <p:childTnLst>
                              <p:par>
                                <p:cTn id="2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90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377"/>
                            </p:stCondLst>
                            <p:childTnLst>
                              <p:par>
                                <p:cTn id="29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877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377"/>
                            </p:stCondLst>
                            <p:childTnLst>
                              <p:par>
                                <p:cTn id="32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1427E-007 L 0.0033 -0.15779 L 0.18073 -0.20273 E">
                                      <p:cBhvr>
                                        <p:cTn id="33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1789E-006 L 0.00035 -0.05445 L 0.02275 -0.0848 L 0.0665 -0.0848 E">
                                      <p:cBhvr>
                                        <p:cTn id="341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Multiple Resourc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297400" y="4516560"/>
            <a:ext cx="2857320" cy="1543680"/>
            <a:chOff x="5297400" y="4516560"/>
            <a:chExt cx="2857320" cy="1543680"/>
          </a:xfrm>
        </p:grpSpPr>
        <p:sp>
          <p:nvSpPr>
            <p:cNvPr id="247" name=""/>
            <p:cNvSpPr/>
            <p:nvPr/>
          </p:nvSpPr>
          <p:spPr>
            <a:xfrm>
              <a:off x="5297400" y="4516560"/>
              <a:ext cx="2857320" cy="1333800"/>
            </a:xfrm>
            <a:prstGeom prst="roundRect">
              <a:avLst>
                <a:gd name="adj" fmla="val 4542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5280" y="5753160"/>
              <a:ext cx="807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Condensed Bold"/>
                </a:rPr>
                <a:t>con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27280" y="4632480"/>
            <a:ext cx="798480" cy="385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63600" y="3022560"/>
            <a:ext cx="798480" cy="385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259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204920" y="4494240"/>
            <a:ext cx="909720" cy="53640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429000" y="4197240"/>
            <a:ext cx="993600" cy="576000"/>
            <a:chOff x="3429000" y="4197240"/>
            <a:chExt cx="993600" cy="576000"/>
          </a:xfrm>
        </p:grpSpPr>
        <p:sp>
          <p:nvSpPr>
            <p:cNvPr id="264" name=""/>
            <p:cNvSpPr/>
            <p:nvPr/>
          </p:nvSpPr>
          <p:spPr>
            <a:xfrm>
              <a:off x="347184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3490920"/>
            <a:ext cx="939600" cy="92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670720" y="5325840"/>
            <a:ext cx="1234800" cy="369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689120" y="2468520"/>
            <a:ext cx="117360" cy="63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41360" y="2467080"/>
            <a:ext cx="295200" cy="213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21360" y="4805280"/>
            <a:ext cx="939960" cy="927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8fe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25360" y="2025720"/>
            <a:ext cx="962280" cy="480960"/>
          </a:xfrm>
          <a:prstGeom prst="roundRect">
            <a:avLst>
              <a:gd name="adj" fmla="val 16667"/>
            </a:avLst>
          </a:prstGeom>
          <a:solidFill>
            <a:srgbClr val="fc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00360" y="293220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indefinite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383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400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402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877"/>
                            </p:stCondLst>
                            <p:childTnLst>
                              <p:par>
                                <p:cTn id="4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877"/>
                            </p:stCondLst>
                            <p:childTnLst>
                              <p:par>
                                <p:cTn id="4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450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877"/>
                            </p:stCondLst>
                            <p:childTnLst>
                              <p:par>
                                <p:cTn id="45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8377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877"/>
                            </p:stCondLst>
                            <p:childTnLst>
                              <p:par>
                                <p:cTn id="48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-0.00104 -0.11597 L 0.12465 -0.11597 L 0.16927 0.13264 E">
                                      <p:cBhvr>
                                        <p:cTn id="490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0.00035 -0.0544 L 0.02275 -0.08473 L 0.07049 -0.08727 L 0.09618 0.09282 E">
                                      <p:cBhvr>
                                        <p:cTn id="501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Factory Patter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204920" y="418320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62520" y="3905280"/>
            <a:ext cx="384120" cy="685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43400" y="3908520"/>
            <a:ext cx="1225800" cy="684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97000" y="4181400"/>
            <a:ext cx="907920" cy="83520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168560" y="4167360"/>
            <a:ext cx="993600" cy="575640"/>
            <a:chOff x="1168560" y="4167360"/>
            <a:chExt cx="993600" cy="575640"/>
          </a:xfrm>
        </p:grpSpPr>
        <p:sp>
          <p:nvSpPr>
            <p:cNvPr id="285" name=""/>
            <p:cNvSpPr/>
            <p:nvPr/>
          </p:nvSpPr>
          <p:spPr>
            <a:xfrm>
              <a:off x="1211400" y="4488480"/>
              <a:ext cx="906840" cy="25452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68560" y="416736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192320" y="4483080"/>
            <a:ext cx="909360" cy="53676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01920" y="2430360"/>
            <a:ext cx="13464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91480" y="3490920"/>
            <a:ext cx="939600" cy="92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4400" y="3448080"/>
            <a:ext cx="874800" cy="480960"/>
          </a:xfrm>
          <a:prstGeom prst="roundRect">
            <a:avLst>
              <a:gd name="adj" fmla="val 16667"/>
            </a:avLst>
          </a:prstGeom>
          <a:solidFill>
            <a:srgbClr val="8fe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362400" y="3902040"/>
            <a:ext cx="1517040" cy="233640"/>
            <a:chOff x="3362400" y="3902040"/>
            <a:chExt cx="1517040" cy="233640"/>
          </a:xfrm>
        </p:grpSpPr>
        <p:sp>
          <p:nvSpPr>
            <p:cNvPr id="294" name=""/>
            <p:cNvSpPr/>
            <p:nvPr/>
          </p:nvSpPr>
          <p:spPr>
            <a:xfrm>
              <a:off x="3362400" y="3902040"/>
              <a:ext cx="1517040" cy="166680"/>
            </a:xfrm>
            <a:custGeom>
              <a:avLst/>
              <a:gdLst/>
              <a:ahLst/>
              <a:rect l="l" t="t" r="r" b="b"/>
              <a:pathLst>
                <a:path w="836" h="105">
                  <a:moveTo>
                    <a:pt x="836" y="102"/>
                  </a:moveTo>
                  <a:cubicBezTo>
                    <a:pt x="836" y="102"/>
                    <a:pt x="463" y="102"/>
                    <a:pt x="90" y="102"/>
                  </a:cubicBezTo>
                  <a:cubicBezTo>
                    <a:pt x="0" y="105"/>
                    <a:pt x="13" y="0"/>
                    <a:pt x="13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26600" y="3952800"/>
              <a:ext cx="6026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Condensed Bold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140360" y="3486240"/>
            <a:ext cx="2814480" cy="242640"/>
            <a:chOff x="4140360" y="3486240"/>
            <a:chExt cx="2814480" cy="242640"/>
          </a:xfrm>
        </p:grpSpPr>
        <p:sp>
          <p:nvSpPr>
            <p:cNvPr id="297" name=""/>
            <p:cNvSpPr/>
            <p:nvPr/>
          </p:nvSpPr>
          <p:spPr>
            <a:xfrm>
              <a:off x="4140360" y="3597120"/>
              <a:ext cx="2814480" cy="131760"/>
            </a:xfrm>
            <a:custGeom>
              <a:avLst/>
              <a:gdLst/>
              <a:ahLst/>
              <a:rect l="l" t="t" r="r" b="b"/>
              <a:pathLst>
                <a:path w="1773" h="83">
                  <a:moveTo>
                    <a:pt x="1773" y="83"/>
                  </a:moveTo>
                  <a:cubicBezTo>
                    <a:pt x="1773" y="83"/>
                    <a:pt x="1715" y="0"/>
                    <a:pt x="1584" y="3"/>
                  </a:cubicBezTo>
                  <a:cubicBezTo>
                    <a:pt x="792" y="3"/>
                    <a:pt x="0" y="3"/>
                    <a:pt x="0" y="3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9680" y="3486240"/>
              <a:ext cx="217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Condensed Bold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448080" y="4191120"/>
            <a:ext cx="993600" cy="575640"/>
            <a:chOff x="3448080" y="4191120"/>
            <a:chExt cx="993600" cy="575640"/>
          </a:xfrm>
        </p:grpSpPr>
        <p:sp>
          <p:nvSpPr>
            <p:cNvPr id="300" name=""/>
            <p:cNvSpPr/>
            <p:nvPr/>
          </p:nvSpPr>
          <p:spPr>
            <a:xfrm>
              <a:off x="3490920" y="4512240"/>
              <a:ext cx="906840" cy="25452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48080" y="419112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9720" y="295416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53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377"/>
                            </p:stCondLst>
                            <p:childTnLst>
                              <p:par>
                                <p:cTn id="5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377"/>
                            </p:stCondLst>
                            <p:childTnLst>
                              <p:par>
                                <p:cTn id="5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575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7377"/>
                            </p:stCondLst>
                            <p:childTnLst>
                              <p:par>
                                <p:cTn id="57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877"/>
                            </p:stCondLst>
                            <p:childTnLst>
                              <p:par>
                                <p:cTn id="5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377"/>
                            </p:stCondLst>
                            <p:childTnLst>
                              <p:par>
                                <p:cTn id="606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0.00035 -0.0544 L 0.01042 -0.06899 L 0.07257 -0.06852 L 0.10799 -0.04908 E">
                                      <p:cBhvr>
                                        <p:cTn id="607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377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C 4.16667E-006 0.00023 0.02118 0.03148 0.02552 0.04398 C 0.02968 0.05718 0.02656 0.13658 0.02586 0.15625 E">
                                      <p:cBhvr>
                                        <p:cTn id="63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8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38 0.15509 L -0.22362 0.15625 E">
                                      <p:cBhvr>
                                        <p:cTn id="650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223 0.15686 L -0.10782 -0.21803 E">
                                      <p:cBhvr>
                                        <p:cTn id="661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dvert!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39116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dvert!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is is UniGrid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ased on Unicor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Grid environment started in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nicore has been a major contributor to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mponents: BES, ByteIO, Naming, RSS, JSD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i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Specification Defines How to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XML to model elements of resourc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state with a WSDL port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ndard operations for getting, setting, query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ndard mechanisms to subscribe to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standard resource inspection, monitoring, and stat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uition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Resource Properties as an XML projection of the actual state of the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odeling State in XML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WS-Resource’s “Resource Properties Document”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state are modeled as child elements of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job:JobPropertie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job:JobName&gt;Daves Job&lt;job:Job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job:executionState&gt;Submitted&lt;/job:executionSt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job:handle&gt; 2824 &lt;/job:handl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wsrl:CurrentTime&gt; 23 Apr 2004 19:45:29 GMT &lt;/ … 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wsrl:TerminationTime xsi:nil=“true” 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job:JobProperti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rtType Attribute Declares the RPD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wsdl:portType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wsrf-rp:ResourceProperties=”xsd:QName”? ... 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SD:ref is used to “combine” Resource Properties from various definition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references by Q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y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etResourceProper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single resource property element g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turn multiple instances of the named 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wsrf-rp:GetResourceProperty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job:hand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wsrf-rp:GetResourceProper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wsrf-rp:GetResourcePropertyRespons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job:handle&gt; 1577 &lt;/job:handl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wsrf-rp:GetResourceProperty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y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tMultipleResourcePropert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phisticated multiple property value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wsrf-rp:GetMultipleResourceProperties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wsrf-rp:ResourceProperty&gt;job:handle &lt;/job:handl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wsrf-rp:ResourceProperty&gt;job:executionState &lt;/ …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wsrf-rp:ResourceProperty&gt;job:JobName &lt;/job:Job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wsrf-rp:GetMultipleResourcePropertie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wsrf-rp:GetMultipleResourcePropertiesRespons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job:handle&gt; 2824 &lt;/job:handl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job:executionState&gt; Submitted &lt;/job:executionStat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job:JobName&gt; xclock &lt;/job:Job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wsrf-rp:GetMultipleResourcePropertiesResponse&gt;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y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QueryResourcePropert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an expression against the resource properties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wsrf-rp:QueryResourcePropertie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wsrf-rp:QueryExpression Dialect=”URI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xsd: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/wsrf-rp:QueryExpress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wsrf-rp:QueryResourceProperties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QueryExpression defines dialect by URI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Path 1.0,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t Resource Properti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ree modes can be applied many times in any order in a single message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: Add a new resourc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: Replace all properties with a given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: Remove all properties with a given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owever they must appear to happen in order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final version of the RPD must validate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ault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partial completion, final state of RPD is implementation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validate final R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re are also individual Insert, Update, and Delete operation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ole Document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tResourcePropertyDocu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entire resource property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utResourcePropertyDocu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the entire RPD with a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mantics are service specific, and very lo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resulting document is different than the provided document, the resulting document is retu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irtually Identical Semantics to WS-Transfer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cument type in WS-Transfer less restri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Lifetim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fin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, synchronous destructio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based, scheduled destructio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-state” or “leased” lifetim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on time not required to increase monotonic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source properti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Time: Can be used to determine clock sk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onTime: Current scheduled termin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fication of resource termin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lear means by which resources can be destr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the Grid to “Garbage Collect” itself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Lifetime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mmediate Destruc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wsrf-rl:Destroy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cheduled Termin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wsrf-rl:SetTerminationTime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[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wsrf-rl:RequestedTerminationTime xsi:nil=”xsd:boolean”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xsd:dateTim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/wsrf-rl:RequestedTerminationTi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] | [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wsrf-rl:RequestedLifetimeDuration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xsd:du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/wsrf-rl:RequestedLifetimeDuration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wsrf-rl:SetTermination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otificatio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S-Notific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s publish and subscribe messaging to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sely coupled, asynchronous messaging in W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 Notification composes with WSRF and other W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rokered notific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intermediates, queuing, aggregation, distribution, filter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opics and Topic Spac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mechanism to advertise topics for subscri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se of WS-Notification in WS-RF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notification changes to the Resourc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at do Grids do?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source Sharing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llabor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CO Reduction for throughput system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612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re Categor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ase Notificatio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efines direct notific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ree primary rol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deals directly wit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 which se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to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sub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Subscrip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208640" y="3111480"/>
            <a:ext cx="1443240" cy="1030320"/>
            <a:chOff x="7208640" y="3111480"/>
            <a:chExt cx="1443240" cy="1030320"/>
          </a:xfrm>
        </p:grpSpPr>
        <p:sp>
          <p:nvSpPr>
            <p:cNvPr id="329" name=""/>
            <p:cNvSpPr/>
            <p:nvPr/>
          </p:nvSpPr>
          <p:spPr>
            <a:xfrm flipH="1">
              <a:off x="7208280" y="3111480"/>
              <a:ext cx="1204920" cy="1028880"/>
            </a:xfrm>
            <a:prstGeom prst="rect">
              <a:avLst/>
            </a:prstGeom>
            <a:solidFill>
              <a:srgbClr val="00bc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8f8f8"/>
                  </a:solidFill>
                  <a:latin typeface="Arial Condensed Bold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409240" y="3111480"/>
              <a:ext cx="24264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280120" y="5343480"/>
            <a:ext cx="420480" cy="390600"/>
          </a:xfrm>
          <a:custGeom>
            <a:avLst/>
            <a:gdLst>
              <a:gd name="textAreaLeft" fmla="*/ 95760 w 420480"/>
              <a:gd name="textAreaRight" fmla="*/ 324720 w 420480"/>
              <a:gd name="textAreaTop" fmla="*/ 88920 h 390600"/>
              <a:gd name="textAreaBottom" fmla="*/ 301680 h 390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019840" y="4246560"/>
            <a:ext cx="1635120" cy="1033200"/>
            <a:chOff x="5019840" y="4246560"/>
            <a:chExt cx="1635120" cy="1033200"/>
          </a:xfrm>
        </p:grpSpPr>
        <p:sp>
          <p:nvSpPr>
            <p:cNvPr id="333" name=""/>
            <p:cNvSpPr/>
            <p:nvPr/>
          </p:nvSpPr>
          <p:spPr>
            <a:xfrm>
              <a:off x="5019840" y="4249440"/>
              <a:ext cx="24300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7800" y="4249440"/>
              <a:ext cx="1204920" cy="1028880"/>
            </a:xfrm>
            <a:prstGeom prst="rect">
              <a:avLst/>
            </a:prstGeom>
            <a:solidFill>
              <a:srgbClr val="00bc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8f8f8"/>
                  </a:solidFill>
                  <a:latin typeface="Arial Condensed Bold"/>
                </a:rPr>
                <a:t>Produ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1960" y="4246560"/>
              <a:ext cx="24300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919560" y="1284120"/>
            <a:ext cx="1443240" cy="1030320"/>
            <a:chOff x="6919560" y="1284120"/>
            <a:chExt cx="1443240" cy="1030320"/>
          </a:xfrm>
        </p:grpSpPr>
        <p:sp>
          <p:nvSpPr>
            <p:cNvPr id="337" name=""/>
            <p:cNvSpPr/>
            <p:nvPr/>
          </p:nvSpPr>
          <p:spPr>
            <a:xfrm flipH="1">
              <a:off x="6919200" y="1284120"/>
              <a:ext cx="1204920" cy="1028880"/>
            </a:xfrm>
            <a:prstGeom prst="rect">
              <a:avLst/>
            </a:prstGeom>
            <a:solidFill>
              <a:srgbClr val="00bc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8f8f8"/>
                  </a:solidFill>
                  <a:latin typeface="Arial Condensed Bold"/>
                </a:rPr>
                <a:t>Subscri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120160" y="1284120"/>
              <a:ext cx="24264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950240" y="5705640"/>
            <a:ext cx="577800" cy="520560"/>
          </a:xfrm>
          <a:prstGeom prst="can">
            <a:avLst>
              <a:gd name="adj" fmla="val 33842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10240" y="1739880"/>
            <a:ext cx="550800" cy="50796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36000" y="1655640"/>
            <a:ext cx="452160" cy="2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Condensed Bold"/>
              </a:rPr>
              <a:t>subscri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2040" y="1927080"/>
            <a:ext cx="552240" cy="327240"/>
          </a:xfrm>
          <a:custGeom>
            <a:avLst/>
            <a:gdLst/>
            <a:ahLst/>
            <a:rect l="l" t="t" r="r" b="b"/>
            <a:pathLst>
              <a:path w="572" h="340">
                <a:moveTo>
                  <a:pt x="0" y="340"/>
                </a:moveTo>
                <a:lnTo>
                  <a:pt x="0" y="6"/>
                </a:lnTo>
                <a:lnTo>
                  <a:pt x="293" y="161"/>
                </a:lnTo>
                <a:lnTo>
                  <a:pt x="572" y="0"/>
                </a:lnTo>
                <a:lnTo>
                  <a:pt x="567" y="340"/>
                </a:lnTo>
                <a:lnTo>
                  <a:pt x="0" y="3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89480" y="4557600"/>
            <a:ext cx="550800" cy="49716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35560" y="4776840"/>
            <a:ext cx="452520" cy="2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Condensed Bold"/>
              </a:rPr>
              <a:t>subscri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513480" y="1930320"/>
            <a:ext cx="553680" cy="320400"/>
            <a:chOff x="6513480" y="1930320"/>
            <a:chExt cx="553680" cy="320400"/>
          </a:xfrm>
        </p:grpSpPr>
        <p:sp>
          <p:nvSpPr>
            <p:cNvPr id="346" name=""/>
            <p:cNvSpPr/>
            <p:nvPr/>
          </p:nvSpPr>
          <p:spPr>
            <a:xfrm>
              <a:off x="6515280" y="1930320"/>
              <a:ext cx="548640" cy="32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3480" y="1933560"/>
              <a:ext cx="553680" cy="145080"/>
            </a:xfrm>
            <a:custGeom>
              <a:avLst/>
              <a:gdLst/>
              <a:ahLst/>
              <a:rect l="l" t="t" r="r" b="b"/>
              <a:pathLst>
                <a:path w="346" h="90">
                  <a:moveTo>
                    <a:pt x="346" y="0"/>
                  </a:moveTo>
                  <a:lnTo>
                    <a:pt x="173" y="9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361120" y="5421240"/>
            <a:ext cx="242640" cy="2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194520" y="5224320"/>
            <a:ext cx="1758960" cy="779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261120" y="4408560"/>
            <a:ext cx="550800" cy="50796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43440" y="4976640"/>
            <a:ext cx="452520" cy="2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Condensed Bold"/>
              </a:rPr>
              <a:t>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84520" y="5199120"/>
            <a:ext cx="446400" cy="26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Condensed Bold"/>
              </a:rPr>
              <a:t>E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4935600" y="5397480"/>
            <a:ext cx="450720" cy="138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02080" y="4745160"/>
            <a:ext cx="552600" cy="312480"/>
          </a:xfrm>
          <a:custGeom>
            <a:avLst/>
            <a:gdLst/>
            <a:ahLst/>
            <a:rect l="l" t="t" r="r" b="b"/>
            <a:pathLst>
              <a:path w="572" h="340">
                <a:moveTo>
                  <a:pt x="0" y="340"/>
                </a:moveTo>
                <a:lnTo>
                  <a:pt x="0" y="6"/>
                </a:lnTo>
                <a:lnTo>
                  <a:pt x="293" y="161"/>
                </a:lnTo>
                <a:lnTo>
                  <a:pt x="572" y="0"/>
                </a:lnTo>
                <a:lnTo>
                  <a:pt x="567" y="340"/>
                </a:lnTo>
                <a:lnTo>
                  <a:pt x="0" y="3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387680" y="4735440"/>
            <a:ext cx="553680" cy="320400"/>
            <a:chOff x="4387680" y="4735440"/>
            <a:chExt cx="553680" cy="320400"/>
          </a:xfrm>
        </p:grpSpPr>
        <p:sp>
          <p:nvSpPr>
            <p:cNvPr id="356" name=""/>
            <p:cNvSpPr/>
            <p:nvPr/>
          </p:nvSpPr>
          <p:spPr>
            <a:xfrm>
              <a:off x="4389480" y="4735440"/>
              <a:ext cx="548640" cy="32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7680" y="4738680"/>
              <a:ext cx="553680" cy="145080"/>
            </a:xfrm>
            <a:custGeom>
              <a:avLst/>
              <a:gdLst/>
              <a:ahLst/>
              <a:rect l="l" t="t" r="r" b="b"/>
              <a:pathLst>
                <a:path w="346" h="90">
                  <a:moveTo>
                    <a:pt x="346" y="0"/>
                  </a:moveTo>
                  <a:lnTo>
                    <a:pt x="173" y="9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261120" y="4584600"/>
            <a:ext cx="552600" cy="327240"/>
          </a:xfrm>
          <a:custGeom>
            <a:avLst/>
            <a:gdLst/>
            <a:ahLst/>
            <a:rect l="l" t="t" r="r" b="b"/>
            <a:pathLst>
              <a:path w="572" h="340">
                <a:moveTo>
                  <a:pt x="0" y="340"/>
                </a:moveTo>
                <a:lnTo>
                  <a:pt x="0" y="6"/>
                </a:lnTo>
                <a:lnTo>
                  <a:pt x="293" y="161"/>
                </a:lnTo>
                <a:lnTo>
                  <a:pt x="572" y="0"/>
                </a:lnTo>
                <a:lnTo>
                  <a:pt x="567" y="340"/>
                </a:lnTo>
                <a:lnTo>
                  <a:pt x="0" y="3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257880" y="4600440"/>
            <a:ext cx="553680" cy="320400"/>
            <a:chOff x="6257880" y="4600440"/>
            <a:chExt cx="553680" cy="320400"/>
          </a:xfrm>
        </p:grpSpPr>
        <p:sp>
          <p:nvSpPr>
            <p:cNvPr id="360" name=""/>
            <p:cNvSpPr/>
            <p:nvPr/>
          </p:nvSpPr>
          <p:spPr>
            <a:xfrm>
              <a:off x="6259680" y="4600440"/>
              <a:ext cx="548640" cy="32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57880" y="4603680"/>
              <a:ext cx="553680" cy="145080"/>
            </a:xfrm>
            <a:custGeom>
              <a:avLst/>
              <a:gdLst/>
              <a:ahLst/>
              <a:rect l="l" t="t" r="r" b="b"/>
              <a:pathLst>
                <a:path w="346" h="90">
                  <a:moveTo>
                    <a:pt x="346" y="0"/>
                  </a:moveTo>
                  <a:lnTo>
                    <a:pt x="173" y="9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-0.04757 -0.0331 L -0.07344 -0.03403 L -0.07344 0.04375 E">
                                      <p:cBhvr>
                                        <p:cTn id="707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208 L -0.07656 0.00579 L -0.23003 0.33912 L -0.23177 0.40741 E">
                                      <p:cBhvr>
                                        <p:cTn id="72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-0.06227 L 0.07101 -0.04213 E">
                                      <p:cBhvr>
                                        <p:cTn id="73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75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500"/>
                            </p:stCondLst>
                            <p:childTnLst>
                              <p:par>
                                <p:cTn id="7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52178E-006 L 0.06475 -0.06672 L 0.06441 -0.10982 L -0.00139 -0.18118 L -0.00278 -0.06047 E">
                                      <p:cBhvr>
                                        <p:cTn id="758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0.00017 -0.06389 L 0.15694 -0.4037 L 0.22934 -0.41088 E">
                                      <p:cBhvr>
                                        <p:cTn id="779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6111 L -0.00348 -0.12708 L 0.15295 -0.46898 L 0.22587 -0.47338 E">
                                      <p:cBhvr>
                                        <p:cTn id="781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3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4" dur="1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7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800"/>
                            </p:stCondLst>
                            <p:childTnLst>
                              <p:par>
                                <p:cTn id="799" nodeType="afterEffect" fill="hold" presetClass="exit" presetID="1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620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72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250" autoRev="1" fill="hold"/>
                                        <p:tgtEl>
                                          <p:spTgt spid="3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209 L -0.00278 -0.10533 L 0.05903 -0.15695 L 0.06198 -0.05232 E">
                                      <p:cBhvr>
                                        <p:cTn id="820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045E-016 L 0.00018 -0.06389 L 0.04583 -0.15139 L 0.11979 -0.15139 E">
                                      <p:cBhvr>
                                        <p:cTn id="83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dvanced Topic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dvanced Resource Properti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ce issues and relationship to servic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rvice Group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ase Fault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ynamic Resource Properti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call that Resource Properties ar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XML representation of a resource’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thought of as a projection of actu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ynamic Propert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ot actually exist until their value is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 Length on a Batch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Time on any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Ps’ XMP representations can be created on the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is has interesting implications for the Query Operations and for the Resource Property Docu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oherency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992400" y="1731960"/>
            <a:ext cx="4313520" cy="3643200"/>
          </a:xfrm>
          <a:prstGeom prst="roundRect">
            <a:avLst>
              <a:gd name="adj" fmla="val 4542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99240" y="5294160"/>
            <a:ext cx="10731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Condensed Bold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9800" y="2367000"/>
            <a:ext cx="406080" cy="3195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30680" y="2370240"/>
            <a:ext cx="1298520" cy="3192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3429000"/>
            <a:ext cx="185400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1371600"/>
            <a:ext cx="7238880" cy="472428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3657600"/>
            <a:ext cx="762120" cy="380880"/>
          </a:xfrm>
          <a:prstGeom prst="hexagon">
            <a:avLst>
              <a:gd name="adj" fmla="val 50024"/>
              <a:gd name="vf" fmla="val 115470"/>
            </a:avLst>
          </a:prstGeom>
          <a:solidFill>
            <a:srgbClr val="b500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0" y="4648320"/>
            <a:ext cx="762120" cy="380880"/>
          </a:xfrm>
          <a:prstGeom prst="hexagon">
            <a:avLst>
              <a:gd name="adj" fmla="val 50024"/>
              <a:gd name="vf" fmla="val 115470"/>
            </a:avLst>
          </a:prstGeom>
          <a:solidFill>
            <a:srgbClr val="b500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209680"/>
            <a:ext cx="1295280" cy="381240"/>
          </a:xfrm>
          <a:prstGeom prst="hexagon">
            <a:avLst>
              <a:gd name="adj" fmla="val 84939"/>
              <a:gd name="vf" fmla="val 115470"/>
            </a:avLst>
          </a:prstGeom>
          <a:solidFill>
            <a:srgbClr val="ff64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bar-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2666880"/>
            <a:ext cx="1295280" cy="381240"/>
          </a:xfrm>
          <a:prstGeom prst="hexagon">
            <a:avLst>
              <a:gd name="adj" fmla="val 84939"/>
              <a:gd name="vf" fmla="val 115470"/>
            </a:avLst>
          </a:prstGeom>
          <a:solidFill>
            <a:srgbClr val="ff64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-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3124080"/>
            <a:ext cx="1295280" cy="381240"/>
          </a:xfrm>
          <a:prstGeom prst="hexagon">
            <a:avLst>
              <a:gd name="adj" fmla="val 84939"/>
              <a:gd name="vf" fmla="val 115470"/>
            </a:avLst>
          </a:prstGeom>
          <a:solidFill>
            <a:srgbClr val="ff64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-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3" idx="0"/>
            <a:endCxn id="376" idx="3"/>
          </p:cNvCxnSpPr>
          <p:nvPr/>
        </p:nvCxnSpPr>
        <p:spPr>
          <a:xfrm flipV="1" rot="16200000">
            <a:off x="6533640" y="2952360"/>
            <a:ext cx="80064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4" idx="1"/>
            <a:endCxn id="377" idx="2"/>
          </p:cNvCxnSpPr>
          <p:nvPr/>
        </p:nvCxnSpPr>
        <p:spPr>
          <a:xfrm rot="10800000">
            <a:off x="5981040" y="3504600"/>
            <a:ext cx="876960" cy="13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0" name=""/>
          <p:cNvCxnSpPr>
            <a:stCxn id="373" idx="3"/>
            <a:endCxn id="375" idx="3"/>
          </p:cNvCxnSpPr>
          <p:nvPr/>
        </p:nvCxnSpPr>
        <p:spPr>
          <a:xfrm flipH="1" flipV="1">
            <a:off x="6629040" y="2399760"/>
            <a:ext cx="991440" cy="1448280"/>
          </a:xfrm>
          <a:prstGeom prst="curvedConnector5">
            <a:avLst>
              <a:gd name="adj1" fmla="val -23065"/>
              <a:gd name="adj2" fmla="val 50000"/>
              <a:gd name="adj3" fmla="val -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4" idx="3"/>
            <a:endCxn id="375" idx="3"/>
          </p:cNvCxnSpPr>
          <p:nvPr/>
        </p:nvCxnSpPr>
        <p:spPr>
          <a:xfrm flipH="1" flipV="1">
            <a:off x="6629040" y="2399760"/>
            <a:ext cx="991440" cy="2439000"/>
          </a:xfrm>
          <a:prstGeom prst="curvedConnector5">
            <a:avLst>
              <a:gd name="adj1" fmla="val -57355"/>
              <a:gd name="adj2" fmla="val 50000"/>
              <a:gd name="adj3" fmla="val -573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2362320" y="2590920"/>
            <a:ext cx="1218960" cy="304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62320" y="3124080"/>
            <a:ext cx="121896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4572000"/>
            <a:ext cx="121896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indefinite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rvice Grou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fin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 interfaces for representing collections of Web services or WS-Resources, referenced by E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G entry includes member EPR + associate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-RP used for representing th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may be homogenous or heter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rules constraining membership an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registration interface for adding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-RL used for removing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riad of reasons for groups: E.g. Registries, collective operations, federated servic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rvice Group Model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01760" y="1809720"/>
            <a:ext cx="81946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odel Continued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rviceGroup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Web services and the information that pertains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is application domain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rviceGroupEntry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S-Resource that models the membership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associate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rviceGroupRegistr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exchange for adding new members to s 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may occur in other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ember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, WS-Resource, Something identified by an E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rvice Group Characteristic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rviceGroup Destruc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GroupEntries should also be destroyed, i.e. the membership relationship id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members are not aff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mbership Largely Unrestricted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ber may belong to several Service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ber may belong to the same ServiceGroup more then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 of a ServiceGroup may implement message exchanges from various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ies Relationship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mbershipContentRul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lements specify the constraints on membership of the servic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e support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s the presence of specified Resource Properties in the Entry’s Resource Property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ntry Resource Properti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lements may represent a projection of the Resource Properties of Member WS-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ntent is also per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ase Fault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fin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“common” properties of a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 for specializing “common”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“common” fault type is used in 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?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that service requestors to automatically (without human intervention) understand and/or adapt to faults requires interface designers to define rich, structured faul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ault messages encourage tooling that can assist interface designers, service implementers, and client implem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at do Grids do?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urity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irtual Organizations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rvice Composition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scovery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37280" y="5872320"/>
            <a:ext cx="35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Is OGSA up t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ach Group Takes a Topic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sign How to Implement the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operation you can add is a ‘create’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s must be from WS-Addressing, WSRF, or WS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e how sophisticated you can make the service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mment on your desig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really such a good id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possible problems with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onstraints could you add to the environment to make it be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standards play and further role in this process? 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et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1: Job Submit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JSDL Document for a job, execute the job on a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a reference (EPR) to the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ll the job facility and Maximum runtime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a message when the job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output from the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2: Registry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supporting a number of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have standard properties for load and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are public or “members only”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references to th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the availability of the services (directly and indirec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mechanisms for keeping the registry up to 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3: Data Streaming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cility that allow a service to provide a continuous supply of data to a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hould not be provided more than o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information should b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about the stream should b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data be made available to clients behind the fire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4: A VO Manager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d remove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join for a set time and extend their membership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ust be advertised and enforced membership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5: Virtualized Data Sour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ccess to the data from an experiment or the results of some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ma/format of the data source must be discov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s always available once created, until the service is no longer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6: Identity Mapping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users have an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also have several other identities in various formats. The service maps to one of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cility to advertise what mapping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cility to add a new mapping for a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security implications, if this is a remote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7: Third Party File Transfer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URI’s for two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vice that will transfer the source to the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nformation on the status of th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ice should have an option to tell the user when it is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 the transfer or give it longer to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8: Application Steering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an application is running and supports WS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expose a steering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 few simple steering contr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a facility to obtain data from the application and provide for a feedback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roup 9: Authorization Servic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user identity (X509 cert), the EPR for a service, and maximum comput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service to authorize users for particula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and removal of authorized users is also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security implications, if this is a remot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Extra Credit: Include accounting based authorization, e.g. “No you can’t run it. You spent all your money already.”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at is OGSA?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pen Grid Services Architectur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ndard for building Grids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some things about what a Gri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s a process for making Grids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“Service” in OGSA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SA is based on Service Oriented Architecture manifested in Web Ser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“Open” in OGSA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by which the architecture is defined is open to all and trans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Standards Developmen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F, OASIS, W3C, IETF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 101: The Web Servic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107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92320" y="4483080"/>
            <a:ext cx="909360" cy="53676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427560" y="4197240"/>
            <a:ext cx="993600" cy="576000"/>
            <a:chOff x="3427560" y="4197240"/>
            <a:chExt cx="993600" cy="576000"/>
          </a:xfrm>
        </p:grpSpPr>
        <p:sp>
          <p:nvSpPr>
            <p:cNvPr id="112" name=""/>
            <p:cNvSpPr/>
            <p:nvPr/>
          </p:nvSpPr>
          <p:spPr>
            <a:xfrm>
              <a:off x="347040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756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01920" y="2430360"/>
            <a:ext cx="13464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293220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377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377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377"/>
                            </p:stCondLst>
                            <p:childTnLst>
                              <p:par>
                                <p:cTn id="6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877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377"/>
                            </p:stCondLst>
                            <p:childTnLst>
                              <p:par>
                                <p:cTn id="8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877"/>
                            </p:stCondLst>
                            <p:childTnLst>
                              <p:par>
                                <p:cTn id="93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1789E-006 L 0.00035 -0.05445 L 0.02275 -0.0848 L 0.0665 -0.0848 E">
                                      <p:cBhvr>
                                        <p:cTn id="9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629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OGSA Evolutio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47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nomy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648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ology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1447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SA V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2096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SA Glo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1447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2096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29718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733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4648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648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54100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1143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19810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1752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17524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752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752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1752480"/>
            <a:ext cx="990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1752480"/>
            <a:ext cx="9907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4952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9528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OGSA Specifications Landscap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1523880"/>
            <a:ext cx="5638680" cy="4572000"/>
          </a:xfrm>
          <a:custGeom>
            <a:avLst/>
            <a:gdLst/>
            <a:ahLst/>
            <a:rect l="l" t="t" r="r" b="b"/>
            <a:pathLst>
              <a:path w="3552" h="2880">
                <a:moveTo>
                  <a:pt x="0" y="2880"/>
                </a:moveTo>
                <a:lnTo>
                  <a:pt x="1152" y="0"/>
                </a:lnTo>
                <a:lnTo>
                  <a:pt x="2352" y="0"/>
                </a:lnTo>
                <a:lnTo>
                  <a:pt x="3552" y="2880"/>
                </a:lnTo>
                <a:lnTo>
                  <a:pt x="0" y="288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513880" y="1523880"/>
            <a:ext cx="6172200" cy="4557960"/>
          </a:xfrm>
          <a:custGeom>
            <a:avLst/>
            <a:gdLst/>
            <a:ahLst/>
            <a:rect l="l" t="t" r="r" b="b"/>
            <a:pathLst>
              <a:path w="3120" h="2304">
                <a:moveTo>
                  <a:pt x="0" y="0"/>
                </a:moveTo>
                <a:lnTo>
                  <a:pt x="816" y="0"/>
                </a:lnTo>
                <a:lnTo>
                  <a:pt x="3120" y="2304"/>
                </a:lnTo>
                <a:lnTo>
                  <a:pt x="0" y="2304"/>
                </a:lnTo>
                <a:lnTo>
                  <a:pt x="0" y="0"/>
                </a:lnTo>
                <a:close/>
              </a:path>
            </a:pathLst>
          </a:custGeom>
          <a:solidFill>
            <a:srgbClr val="ffdd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1523880"/>
            <a:ext cx="6172200" cy="4557960"/>
          </a:xfrm>
          <a:custGeom>
            <a:avLst/>
            <a:gdLst/>
            <a:ahLst/>
            <a:rect l="l" t="t" r="r" b="b"/>
            <a:pathLst>
              <a:path w="3120" h="2304">
                <a:moveTo>
                  <a:pt x="0" y="0"/>
                </a:moveTo>
                <a:lnTo>
                  <a:pt x="816" y="0"/>
                </a:lnTo>
                <a:lnTo>
                  <a:pt x="3120" y="2304"/>
                </a:lnTo>
                <a:lnTo>
                  <a:pt x="0" y="2304"/>
                </a:lnTo>
                <a:lnTo>
                  <a:pt x="0" y="0"/>
                </a:lnTo>
                <a:close/>
              </a:path>
            </a:pathLst>
          </a:custGeom>
          <a:solidFill>
            <a:srgbClr val="ff066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70720" y="1496880"/>
            <a:ext cx="196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01920" y="1496880"/>
            <a:ext cx="17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08200" y="1496880"/>
            <a:ext cx="17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916360"/>
            <a:ext cx="86868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1920" y="4419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876920"/>
            <a:ext cx="86868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600" y="563580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Basic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095880"/>
            <a:ext cx="86868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79132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72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Priv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541008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RF-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8098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54100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19112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N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429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OGSA-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429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OGSA Self Mg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457200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Others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1911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GGF-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41911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57913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HTTP(S)/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380988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54100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SAML/XAC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7913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79132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RF-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4572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342900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D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30481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VO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8098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67840" y="22291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Distributed query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6520" y="26103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13240" y="2229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Data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3800" y="213372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Use Case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67920" y="26103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17600" y="26103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Multi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0080" y="261036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Persistent Arch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57913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RF-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541008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X.5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0292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50292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Servic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502920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I 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asic WSRF/WSN Concept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tate as a Grid Fundamenta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SRF 101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asic Properti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ifetim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otific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2:40:41Z</dcterms:created>
  <dc:creator>David Snelling</dc:creator>
  <dc:description/>
  <dc:language>en-US</dc:language>
  <cp:lastModifiedBy>David Snelling</cp:lastModifiedBy>
  <cp:lastPrinted>2005-07-18T17:49:21Z</cp:lastPrinted>
  <dcterms:modified xsi:type="dcterms:W3CDTF">2005-07-19T10:39:20Z</dcterms:modified>
  <cp:revision>37</cp:revision>
  <dc:subject/>
  <dc:title>OGSA, WSRF, and the  Foundations of Grid</dc:title>
</cp:coreProperties>
</file>